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A6CCEBA-B13F-4BA5-AE89-D8038C96130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saving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pointers to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61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ll Chai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27734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97760" y="1676520"/>
            <a:ext cx="1498320" cy="35812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1960" y="19051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11960" y="25909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26556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11960" y="39625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1960" y="472428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16880" y="22096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16880" y="28954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16880" y="35812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6880" y="43434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160" y="114300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2520" indent="-208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m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urs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78680" y="326556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895480"/>
            <a:ext cx="53640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4928760" y="4548240"/>
            <a:ext cx="1445040" cy="911880"/>
            <a:chOff x="4928760" y="4548240"/>
            <a:chExt cx="1445040" cy="911880"/>
          </a:xfrm>
        </p:grpSpPr>
        <p:sp>
          <p:nvSpPr>
            <p:cNvPr id="257" name=""/>
            <p:cNvSpPr/>
            <p:nvPr/>
          </p:nvSpPr>
          <p:spPr>
            <a:xfrm>
              <a:off x="5865840" y="48290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760" y="45482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343400" y="10429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1576440"/>
            <a:ext cx="129204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43560" y="4038480"/>
            <a:ext cx="1292400" cy="9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o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85920" y="3505320"/>
            <a:ext cx="1445040" cy="911880"/>
            <a:chOff x="4885920" y="3505320"/>
            <a:chExt cx="1445040" cy="911880"/>
          </a:xfrm>
        </p:grpSpPr>
        <p:sp>
          <p:nvSpPr>
            <p:cNvPr id="263" name=""/>
            <p:cNvSpPr/>
            <p:nvPr/>
          </p:nvSpPr>
          <p:spPr>
            <a:xfrm>
              <a:off x="5823000" y="41670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85920" y="3505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H="1" flipV="1">
            <a:off x="7451640" y="49525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61920" y="502920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02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Fra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5043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mpora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 allocated when enter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-up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located when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ish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point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ck t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me poin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rt of current fr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42120" y="210996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271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276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284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290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0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0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19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26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293800" y="5411880"/>
            <a:ext cx="1445040" cy="911880"/>
            <a:chOff x="5293800" y="5411880"/>
            <a:chExt cx="1445040" cy="911880"/>
          </a:xfrm>
        </p:grpSpPr>
        <p:sp>
          <p:nvSpPr>
            <p:cNvPr id="341" name=""/>
            <p:cNvSpPr/>
            <p:nvPr/>
          </p:nvSpPr>
          <p:spPr>
            <a:xfrm>
              <a:off x="6230880" y="5692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3800" y="54118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0960" y="4368960"/>
            <a:ext cx="1445040" cy="911880"/>
            <a:chOff x="5250960" y="4368960"/>
            <a:chExt cx="1445040" cy="911880"/>
          </a:xfrm>
        </p:grpSpPr>
        <p:sp>
          <p:nvSpPr>
            <p:cNvPr id="348" name=""/>
            <p:cNvSpPr/>
            <p:nvPr/>
          </p:nvSpPr>
          <p:spPr>
            <a:xfrm>
              <a:off x="6188040" y="5030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0960" y="43689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48769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66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73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31240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9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9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30481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13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19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274320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44607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managed with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lowest  stack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84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90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435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442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498680"/>
            <a:ext cx="1600200" cy="200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23623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92440" y="40384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92440" y="480060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97360" y="36576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7360" y="441972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60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66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152388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485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490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Stack Fra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ck Frame (“Top” to Bottom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ameters for function about to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 build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an’t keep i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register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ld frame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sh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for this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44880" y="969840"/>
            <a:ext cx="36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_sw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863640"/>
            <a:ext cx="20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19920" y="1822320"/>
            <a:ext cx="2377440" cy="2990880"/>
            <a:chOff x="6019920" y="1822320"/>
            <a:chExt cx="2377440" cy="2990880"/>
          </a:xfrm>
        </p:grpSpPr>
        <p:sp>
          <p:nvSpPr>
            <p:cNvPr id="554" name=""/>
            <p:cNvSpPr/>
            <p:nvPr/>
          </p:nvSpPr>
          <p:spPr>
            <a:xfrm>
              <a:off x="601992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3657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920" y="4038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41972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74000" y="19940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8000" y="1822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19920" y="1828800"/>
              <a:ext cx="1066680" cy="14479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1981080"/>
              <a:ext cx="1003320" cy="251460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064280" y="4616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8640" y="44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000" y="8380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53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21000" y="91440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1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85120" y="2590920"/>
            <a:ext cx="20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relative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5335560"/>
            <a:ext cx="487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 # get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  # get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52880" y="541188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562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us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operand 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03800" y="500544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0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 flipV="1">
            <a:off x="6543720" y="5504040"/>
            <a:ext cx="6350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2760" y="596124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5181480"/>
            <a:ext cx="1292400" cy="304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90400" y="4573440"/>
            <a:ext cx="1521000" cy="911880"/>
            <a:chOff x="4190400" y="4573440"/>
            <a:chExt cx="1521000" cy="911880"/>
          </a:xfrm>
        </p:grpSpPr>
        <p:sp>
          <p:nvSpPr>
            <p:cNvPr id="113" name=""/>
            <p:cNvSpPr/>
            <p:nvPr/>
          </p:nvSpPr>
          <p:spPr>
            <a:xfrm>
              <a:off x="5203440" y="53118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0400" y="45734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45640" y="5021280"/>
            <a:ext cx="272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50292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8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78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dn’t do so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ents of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verwritt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2840040"/>
            <a:ext cx="3781440" cy="20091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2840040"/>
            <a:ext cx="3781440" cy="1734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r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saves temporary in its frame before ca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e saves temporary in its frame before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61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Register Us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69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have special u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e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ld values saved on stack prior to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r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 what you please, but expect any callee to do so, as we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stores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7772400" y="29718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91520" y="3733920"/>
            <a:ext cx="6094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34320" y="48006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2133720"/>
            <a:ext cx="60948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486400" y="1828800"/>
            <a:ext cx="2971800" cy="3886200"/>
            <a:chOff x="5486400" y="1828800"/>
            <a:chExt cx="2971800" cy="3886200"/>
          </a:xfrm>
        </p:grpSpPr>
        <p:sp>
          <p:nvSpPr>
            <p:cNvPr id="798" name=""/>
            <p:cNvSpPr/>
            <p:nvPr/>
          </p:nvSpPr>
          <p:spPr>
            <a:xfrm>
              <a:off x="5486400" y="541008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86400" y="182880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ursive Factoria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 without first sav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, but save at beginning &amp; restor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58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Stack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87640" y="12952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495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4876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34440" y="4876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34440" y="4495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676160" y="5257800"/>
            <a:ext cx="9903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5120" y="487692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35812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50080" y="396252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733920" y="5238720"/>
            <a:ext cx="1323360" cy="368280"/>
            <a:chOff x="3733920" y="5238720"/>
            <a:chExt cx="1323360" cy="368280"/>
          </a:xfrm>
        </p:grpSpPr>
        <p:sp>
          <p:nvSpPr>
            <p:cNvPr id="817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134440" y="5257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666880" y="5638680"/>
            <a:ext cx="2406240" cy="381240"/>
            <a:chOff x="2666880" y="5638680"/>
            <a:chExt cx="2406240" cy="381240"/>
          </a:xfrm>
        </p:grpSpPr>
        <p:sp>
          <p:nvSpPr>
            <p:cNvPr id="821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134440" y="5638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50080" y="541008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827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70720" y="9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914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276720" y="11001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1295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666880" y="3733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66880" y="4114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666880" y="3886200"/>
            <a:ext cx="1917720" cy="1752480"/>
            <a:chOff x="2666880" y="3886200"/>
            <a:chExt cx="1917720" cy="1752480"/>
          </a:xfrm>
        </p:grpSpPr>
        <p:sp>
          <p:nvSpPr>
            <p:cNvPr id="841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81280" y="38862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312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Bod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038480" y="4038120"/>
            <a:ext cx="48895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value of 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ry value of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x-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rfact(x-1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 this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val *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o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190400" y="3962520"/>
            <a:ext cx="1521000" cy="911880"/>
            <a:chOff x="4190400" y="3962520"/>
            <a:chExt cx="1521000" cy="911880"/>
          </a:xfrm>
        </p:grpSpPr>
        <p:sp>
          <p:nvSpPr>
            <p:cNvPr id="120" name=""/>
            <p:cNvSpPr/>
            <p:nvPr/>
          </p:nvSpPr>
          <p:spPr>
            <a:xfrm>
              <a:off x="5203440" y="47005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0400" y="3962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26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02920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5040" y="4716360"/>
            <a:ext cx="323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34120" y="472392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876920"/>
            <a:ext cx="129240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543720" y="4876560"/>
            <a:ext cx="54288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4400" y="39625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65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cu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384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510552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1844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38480" y="32004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657600" y="1523880"/>
            <a:ext cx="2590200" cy="2482920"/>
            <a:chOff x="3657600" y="1523880"/>
            <a:chExt cx="2590200" cy="2482920"/>
          </a:xfrm>
        </p:grpSpPr>
        <p:sp>
          <p:nvSpPr>
            <p:cNvPr id="859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105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1844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38480" y="3581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65760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46483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0292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52680" y="50292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371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14400" y="1752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133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81080" y="2286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54480" y="212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2514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996920" y="2685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70680" y="25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1337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39625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4400" y="43434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8600" y="4343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52280" y="838080"/>
            <a:ext cx="2667240" cy="3505320"/>
            <a:chOff x="152280" y="838080"/>
            <a:chExt cx="2667240" cy="3505320"/>
          </a:xfrm>
        </p:grpSpPr>
        <p:sp>
          <p:nvSpPr>
            <p:cNvPr id="881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781680" y="2971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81680" y="3352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1680" y="37339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7848720" y="3886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261640" y="3714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1148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81680" y="44956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77120" y="37339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55627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95880" y="55627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81680" y="59436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95880" y="5943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400800" y="2438280"/>
            <a:ext cx="2590200" cy="2819520"/>
            <a:chOff x="6400800" y="2438280"/>
            <a:chExt cx="2590200" cy="2819520"/>
          </a:xfrm>
        </p:grpSpPr>
        <p:sp>
          <p:nvSpPr>
            <p:cNvPr id="896" name=""/>
            <p:cNvSpPr/>
            <p:nvPr/>
          </p:nvSpPr>
          <p:spPr>
            <a:xfrm flipH="1">
              <a:off x="784872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61640" y="4857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81680" y="48769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08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515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s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4864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864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864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5530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663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864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5530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663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055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952880" y="1523880"/>
            <a:ext cx="2362320" cy="3505320"/>
            <a:chOff x="4952880" y="1523880"/>
            <a:chExt cx="2362320" cy="3505320"/>
          </a:xfrm>
        </p:grpSpPr>
        <p:sp>
          <p:nvSpPr>
            <p:cNvPr id="914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8006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864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006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4382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515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4382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515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907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38080" y="15238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rom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" y="556272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turn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regis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Comple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18288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85800" y="2209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25909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752480" y="2743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4080" y="257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3000" y="259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3000" y="2209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3000" y="1828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9718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768320" y="35244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4992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3000" y="297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41148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4114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44956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3526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3000" y="3352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066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14479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219320"/>
            <a:ext cx="1003320" cy="144756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971800" y="2133720"/>
            <a:ext cx="2879280" cy="3276360"/>
            <a:chOff x="2971800" y="2133720"/>
            <a:chExt cx="2879280" cy="3276360"/>
          </a:xfrm>
        </p:grpSpPr>
        <p:sp>
          <p:nvSpPr>
            <p:cNvPr id="961" name=""/>
            <p:cNvSpPr/>
            <p:nvPr/>
          </p:nvSpPr>
          <p:spPr>
            <a:xfrm>
              <a:off x="3657600" y="2895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5760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57600" y="36576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88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2480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2480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2480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4692600" y="3962520"/>
              <a:ext cx="504720" cy="185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21720" y="3976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7600" y="46483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71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57600" y="50292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71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57600" y="2133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57600" y="2514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2000" y="22860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959440" y="2590920"/>
            <a:ext cx="2879280" cy="3276360"/>
            <a:chOff x="5959440" y="2590920"/>
            <a:chExt cx="2879280" cy="3276360"/>
          </a:xfrm>
        </p:grpSpPr>
        <p:sp>
          <p:nvSpPr>
            <p:cNvPr id="981" name=""/>
            <p:cNvSpPr/>
            <p:nvPr/>
          </p:nvSpPr>
          <p:spPr>
            <a:xfrm>
              <a:off x="6645240" y="33526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45240" y="3733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7711920" y="2762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93520" y="2590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109360" y="374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45240" y="51055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59440" y="5105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45240" y="54864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59440" y="5486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45240" y="2590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5240" y="29718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7696080" y="3886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220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90520" y="4920840"/>
            <a:ext cx="8307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pointer to updat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6553080" y="2819520"/>
            <a:ext cx="2406240" cy="1523880"/>
            <a:chOff x="6553080" y="2819520"/>
            <a:chExt cx="2406240" cy="1523880"/>
          </a:xfrm>
        </p:grpSpPr>
        <p:sp>
          <p:nvSpPr>
            <p:cNvPr id="1000" name=""/>
            <p:cNvSpPr/>
            <p:nvPr/>
          </p:nvSpPr>
          <p:spPr>
            <a:xfrm>
              <a:off x="6553080" y="2819520"/>
              <a:ext cx="1067040" cy="1523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635960" y="4133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29960" y="3962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28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&amp; Initializ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28240" y="335268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stored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create pointer to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pointer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4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on stack as second 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620120" y="2419200"/>
            <a:ext cx="1323360" cy="368280"/>
            <a:chOff x="7620120" y="2419200"/>
            <a:chExt cx="1323360" cy="368280"/>
          </a:xfrm>
        </p:grpSpPr>
        <p:sp>
          <p:nvSpPr>
            <p:cNvPr id="1012" name=""/>
            <p:cNvSpPr/>
            <p:nvPr/>
          </p:nvSpPr>
          <p:spPr>
            <a:xfrm flipH="1">
              <a:off x="7620120" y="2590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14120" y="241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6553080" y="2819520"/>
            <a:ext cx="1067040" cy="1523880"/>
            <a:chOff x="6553080" y="2819520"/>
            <a:chExt cx="1067040" cy="1523880"/>
          </a:xfrm>
        </p:grpSpPr>
        <p:sp>
          <p:nvSpPr>
            <p:cNvPr id="1019" name=""/>
            <p:cNvSpPr/>
            <p:nvPr/>
          </p:nvSpPr>
          <p:spPr>
            <a:xfrm>
              <a:off x="6553080" y="28195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al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3080" y="3200400"/>
              <a:ext cx="1067040" cy="1143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us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subl $16,%es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$1,-4(%ebp)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0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s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-4(%ebp),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553080" y="4724280"/>
            <a:ext cx="2390400" cy="425520"/>
            <a:chOff x="6553080" y="4724280"/>
            <a:chExt cx="2390400" cy="425520"/>
          </a:xfrm>
        </p:grpSpPr>
        <p:sp>
          <p:nvSpPr>
            <p:cNvPr id="1046" name=""/>
            <p:cNvSpPr/>
            <p:nvPr/>
          </p:nvSpPr>
          <p:spPr>
            <a:xfrm flipH="1">
              <a:off x="7620120" y="4952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14120" y="4781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553080" y="4724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553080" y="2935440"/>
            <a:ext cx="1944720" cy="1788840"/>
            <a:chOff x="6553080" y="2935440"/>
            <a:chExt cx="1944720" cy="1788840"/>
          </a:xfrm>
        </p:grpSpPr>
        <p:sp>
          <p:nvSpPr>
            <p:cNvPr id="1050" name=""/>
            <p:cNvSpPr/>
            <p:nvPr/>
          </p:nvSpPr>
          <p:spPr>
            <a:xfrm>
              <a:off x="6553080" y="43434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v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67480" y="2935440"/>
              <a:ext cx="1030320" cy="1592280"/>
            </a:xfrm>
            <a:custGeom>
              <a:avLst/>
              <a:gdLst/>
              <a:ahLst/>
              <a:rect l="l" t="t" r="r" b="b"/>
              <a:pathLst>
                <a:path w="649" h="1003">
                  <a:moveTo>
                    <a:pt x="0" y="983"/>
                  </a:moveTo>
                  <a:cubicBezTo>
                    <a:pt x="120" y="1003"/>
                    <a:pt x="243" y="983"/>
                    <a:pt x="336" y="935"/>
                  </a:cubicBezTo>
                  <a:cubicBezTo>
                    <a:pt x="429" y="887"/>
                    <a:pt x="512" y="789"/>
                    <a:pt x="560" y="695"/>
                  </a:cubicBezTo>
                  <a:cubicBezTo>
                    <a:pt x="608" y="601"/>
                    <a:pt x="649" y="474"/>
                    <a:pt x="624" y="367"/>
                  </a:cubicBezTo>
                  <a:cubicBezTo>
                    <a:pt x="599" y="260"/>
                    <a:pt x="495" y="110"/>
                    <a:pt x="408" y="55"/>
                  </a:cubicBezTo>
                  <a:cubicBezTo>
                    <a:pt x="321" y="0"/>
                    <a:pt x="167" y="42"/>
                    <a:pt x="104" y="39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d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all s_helper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359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acces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%edx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ferenc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77120" y="1600200"/>
            <a:ext cx="2390040" cy="380880"/>
            <a:chOff x="6477120" y="1600200"/>
            <a:chExt cx="2390040" cy="380880"/>
          </a:xfrm>
        </p:grpSpPr>
        <p:sp>
          <p:nvSpPr>
            <p:cNvPr id="1061" name=""/>
            <p:cNvSpPr/>
            <p:nvPr/>
          </p:nvSpPr>
          <p:spPr>
            <a:xfrm flipH="1">
              <a:off x="7543800" y="17715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37800" y="1600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7120" y="16002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cc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477120" y="25909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639040" y="2209680"/>
            <a:ext cx="1904760" cy="381240"/>
            <a:chOff x="5639040" y="2209680"/>
            <a:chExt cx="1904760" cy="381240"/>
          </a:xfrm>
        </p:grpSpPr>
        <p:sp>
          <p:nvSpPr>
            <p:cNvPr id="1066" name=""/>
            <p:cNvSpPr/>
            <p:nvPr/>
          </p:nvSpPr>
          <p:spPr>
            <a:xfrm>
              <a:off x="6477120" y="2209680"/>
              <a:ext cx="1066680" cy="3812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39040" y="220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639040" y="260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2209680"/>
            <a:ext cx="106668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1600200"/>
            <a:ext cx="106668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storage for eac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procedure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tiations don’t clobber each 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ing of locals + arguments can be relative to stack pos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managed by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 return in inverse order of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/ Ret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usage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/ Callee sa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frame organization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756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3526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678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9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support procedure call and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return address on stack; Jump to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instruction bey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from dis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2056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804855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address from stack; Jump to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a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640" y="99072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9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-Based Langu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, Pasca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must be “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simultaneous instantiations of single proced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some place to store state of each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given procedure needed for limited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when called to when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returns before caller do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single procedure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5:34Z</dcterms:modified>
  <cp:revision>82</cp:revision>
  <dc:subject/>
  <dc:title>Machine Level Programming III</dc:title>
</cp:coreProperties>
</file>