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6827B77-40BA-4886-8861-29E770DF0E2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Topic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Layo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21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 Worm attacks thousands of Internet ho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launches MSN Messenger (instant messaging system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enger clients can access popular AOL Instant Messaging Service (AIM)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65080" y="482796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920" y="382140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12880" y="587880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9360" y="4827960"/>
            <a:ext cx="1099800" cy="90828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83800" y="482796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4800" y="527364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7640" y="527364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572000"/>
            <a:ext cx="304920" cy="3808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172200" y="5638680"/>
            <a:ext cx="380880" cy="3049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1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ysteriously, Messenger clients can no longer access AIM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and AOL begin the IM wa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OL changes server to disallow Messenger cli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crosoft makes changes to clients to defeat AOL chan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least 13 such skirmish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Unix functions do not check argument siz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target buffers to overflow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ing Librar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 of Unix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way to specify limit on number of characters to r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problems with other Unix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cp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Copies string of arbitrary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when giv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nversion spec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1905120"/>
            <a:ext cx="5410080" cy="3380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Get string from stdi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gets(char *dest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int 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p =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while (c != EOF &amp;&amp; c != '\n'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++ =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 = '\0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return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ulnerable Buff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733920"/>
            <a:ext cx="4495680" cy="17348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1219320"/>
            <a:ext cx="541008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092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ecu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5238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74320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40384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8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29000"/>
            <a:ext cx="69343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990720"/>
            <a:ext cx="2652120" cy="3124080"/>
            <a:chOff x="304920" y="990720"/>
            <a:chExt cx="2652120" cy="3124080"/>
          </a:xfrm>
        </p:grpSpPr>
        <p:sp>
          <p:nvSpPr>
            <p:cNvPr id="291" name=""/>
            <p:cNvSpPr/>
            <p:nvPr/>
          </p:nvSpPr>
          <p:spPr>
            <a:xfrm>
              <a:off x="304920" y="21337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20" y="24386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616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704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792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3132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829160" y="25909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8520" y="243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20" y="9907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30481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9907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72520" y="29718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3840" y="152280"/>
            <a:ext cx="4813560" cy="2284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143000" y="2590920"/>
            <a:ext cx="2652120" cy="3124080"/>
            <a:chOff x="1143000" y="2590920"/>
            <a:chExt cx="2652120" cy="3124080"/>
          </a:xfrm>
        </p:grpSpPr>
        <p:sp>
          <p:nvSpPr>
            <p:cNvPr id="308" name=""/>
            <p:cNvSpPr/>
            <p:nvPr/>
          </p:nvSpPr>
          <p:spPr>
            <a:xfrm>
              <a:off x="1143000" y="37339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43000" y="40388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300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424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940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667240" y="41911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6600" y="403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300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191120" y="2590920"/>
            <a:ext cx="3689280" cy="3124080"/>
            <a:chOff x="4191120" y="2590920"/>
            <a:chExt cx="3689280" cy="3124080"/>
          </a:xfrm>
        </p:grpSpPr>
        <p:sp>
          <p:nvSpPr>
            <p:cNvPr id="321" name=""/>
            <p:cNvSpPr/>
            <p:nvPr/>
          </p:nvSpPr>
          <p:spPr>
            <a:xfrm>
              <a:off x="6480360" y="40384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267660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3733920"/>
              <a:ext cx="152424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52880" y="403848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4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928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288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952880" y="3733920"/>
              <a:ext cx="1524240" cy="914400"/>
              <a:chOff x="4952880" y="3733920"/>
              <a:chExt cx="1524240" cy="9144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952880" y="4038480"/>
                <a:ext cx="1524240" cy="304560"/>
                <a:chOff x="4952880" y="4038480"/>
                <a:chExt cx="1524240" cy="304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952880" y="403848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334120" y="403848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5000" y="403848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95880" y="403848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952880" y="3733920"/>
                <a:ext cx="1524240" cy="304560"/>
                <a:chOff x="4952880" y="3733920"/>
                <a:chExt cx="1524240" cy="304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952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3412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71500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5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4952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3412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95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95288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81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60520" y="16765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47280" y="17524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06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460760" y="2209680"/>
            <a:ext cx="3689280" cy="3124440"/>
            <a:chOff x="4460760" y="2209680"/>
            <a:chExt cx="3689280" cy="3124440"/>
          </a:xfrm>
        </p:grpSpPr>
        <p:sp>
          <p:nvSpPr>
            <p:cNvPr id="353" name=""/>
            <p:cNvSpPr/>
            <p:nvPr/>
          </p:nvSpPr>
          <p:spPr>
            <a:xfrm>
              <a:off x="6750000" y="36576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0760" y="229536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2520" y="3352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2520" y="365760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2252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376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8464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6552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4892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2520" y="2209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22520" y="4267080"/>
              <a:ext cx="152424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222520" y="3352680"/>
              <a:ext cx="1524240" cy="914400"/>
              <a:chOff x="5222520" y="3352680"/>
              <a:chExt cx="1524240" cy="9144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5222520" y="3657240"/>
                <a:ext cx="1524240" cy="304560"/>
                <a:chOff x="5222520" y="3657240"/>
                <a:chExt cx="1524240" cy="3045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22520" y="365724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603760" y="36572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84640" y="36572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65520" y="365724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222520" y="3352680"/>
                <a:ext cx="1524240" cy="304560"/>
                <a:chOff x="5222520" y="3352680"/>
                <a:chExt cx="1524240" cy="304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222520" y="335268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603760" y="33526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984640" y="33526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5520" y="335268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222520" y="396216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03760" y="39621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84640" y="39621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65520" y="396216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222520" y="2209680"/>
              <a:ext cx="152424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536840" y="2209680"/>
            <a:ext cx="2652120" cy="3124080"/>
            <a:chOff x="1536840" y="2209680"/>
            <a:chExt cx="2652120" cy="3124080"/>
          </a:xfrm>
        </p:grpSpPr>
        <p:sp>
          <p:nvSpPr>
            <p:cNvPr id="381" name=""/>
            <p:cNvSpPr/>
            <p:nvPr/>
          </p:nvSpPr>
          <p:spPr>
            <a:xfrm>
              <a:off x="1536840" y="3352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36840" y="365760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6840" y="3962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18080" y="3962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8960" y="3962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79840" y="3962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6324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061080" y="380988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0440" y="3657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6840" y="2209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36840" y="426708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6840" y="220968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1066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  80483e4 &lt;_init+0x50&gt;  # 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00400" y="1143000"/>
            <a:ext cx="3689280" cy="3352680"/>
            <a:chOff x="3200400" y="1143000"/>
            <a:chExt cx="3689280" cy="3352680"/>
          </a:xfrm>
        </p:grpSpPr>
        <p:sp>
          <p:nvSpPr>
            <p:cNvPr id="399" name=""/>
            <p:cNvSpPr/>
            <p:nvPr/>
          </p:nvSpPr>
          <p:spPr>
            <a:xfrm>
              <a:off x="5489640" y="25909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00400" y="2743200"/>
              <a:ext cx="762120" cy="175248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28600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62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4280" y="289548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5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8560" y="2895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114300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62520" y="320040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62520" y="2286000"/>
              <a:ext cx="1523520" cy="914400"/>
              <a:chOff x="3962520" y="2286000"/>
              <a:chExt cx="1523520" cy="9144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3962520" y="2590560"/>
                <a:ext cx="1523520" cy="304560"/>
                <a:chOff x="3962520" y="2590560"/>
                <a:chExt cx="1523520" cy="3045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962520" y="259056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43400" y="259056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724280" y="259056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105160" y="259056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962520" y="2286000"/>
                <a:ext cx="1523520" cy="304560"/>
                <a:chOff x="3962520" y="2286000"/>
                <a:chExt cx="1523520" cy="304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228600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343400" y="228600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24280" y="228600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05160" y="228600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396252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43400" y="289548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24280" y="289548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0516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3962520" y="114300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1066680"/>
            <a:ext cx="2652120" cy="3124080"/>
            <a:chOff x="685800" y="1066680"/>
            <a:chExt cx="2652120" cy="3124080"/>
          </a:xfrm>
        </p:grpSpPr>
        <p:sp>
          <p:nvSpPr>
            <p:cNvPr id="427" name=""/>
            <p:cNvSpPr/>
            <p:nvPr/>
          </p:nvSpPr>
          <p:spPr>
            <a:xfrm>
              <a:off x="685800" y="2209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5800" y="251460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2819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7040" y="2819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7920" y="2819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2819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12200" y="281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10040" y="266688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69400" y="2514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1066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312408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106668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791320" y="32004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d news when later attempt to restor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33520" y="1219320"/>
            <a:ext cx="2652120" cy="3124080"/>
            <a:chOff x="533520" y="1219320"/>
            <a:chExt cx="2652120" cy="3124080"/>
          </a:xfrm>
        </p:grpSpPr>
        <p:sp>
          <p:nvSpPr>
            <p:cNvPr id="443" name=""/>
            <p:cNvSpPr/>
            <p:nvPr/>
          </p:nvSpPr>
          <p:spPr>
            <a:xfrm>
              <a:off x="533520" y="23623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520" y="26672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1476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9564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992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057760" y="2819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17120" y="266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3520" y="12193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520" y="32767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3520" y="12193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21932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95480" y="1295280"/>
            <a:ext cx="3994200" cy="4321080"/>
            <a:chOff x="2895480" y="1295280"/>
            <a:chExt cx="3994200" cy="4321080"/>
          </a:xfrm>
        </p:grpSpPr>
        <p:sp>
          <p:nvSpPr>
            <p:cNvPr id="457" name=""/>
            <p:cNvSpPr/>
            <p:nvPr/>
          </p:nvSpPr>
          <p:spPr>
            <a:xfrm>
              <a:off x="5489640" y="27432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200400" y="2894760"/>
              <a:ext cx="762120" cy="175284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24382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2520" y="27432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2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340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24280" y="30481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8560" y="3048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2520" y="12952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2520" y="33526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962520" y="2438280"/>
              <a:ext cx="1523520" cy="914400"/>
              <a:chOff x="3962520" y="2438280"/>
              <a:chExt cx="1523520" cy="9144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962520" y="2742840"/>
                <a:ext cx="1523520" cy="304560"/>
                <a:chOff x="3962520" y="2742840"/>
                <a:chExt cx="1523520" cy="3045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962520" y="27428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43400" y="274284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7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724280" y="274284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105160" y="27428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962520" y="2438280"/>
                <a:ext cx="1523520" cy="304560"/>
                <a:chOff x="3962520" y="2438280"/>
                <a:chExt cx="1523520" cy="3045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62520" y="24382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43400" y="243828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724280" y="243828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105160" y="24382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3962520" y="30477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43400" y="304776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304776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05160" y="30477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962520" y="12952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86400" y="2590920"/>
              <a:ext cx="762120" cy="2666880"/>
            </a:xfrm>
            <a:custGeom>
              <a:avLst/>
              <a:gdLst/>
              <a:ahLst/>
              <a:rect l="l" t="t" r="r" b="b"/>
              <a:pathLst>
                <a:path w="640" h="2016">
                  <a:moveTo>
                    <a:pt x="0" y="0"/>
                  </a:moveTo>
                  <a:cubicBezTo>
                    <a:pt x="192" y="80"/>
                    <a:pt x="384" y="160"/>
                    <a:pt x="480" y="336"/>
                  </a:cubicBezTo>
                  <a:cubicBezTo>
                    <a:pt x="576" y="512"/>
                    <a:pt x="640" y="776"/>
                    <a:pt x="576" y="1056"/>
                  </a:cubicBezTo>
                  <a:cubicBezTo>
                    <a:pt x="512" y="1336"/>
                    <a:pt x="176" y="1856"/>
                    <a:pt x="96" y="2016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60720" y="4495680"/>
              <a:ext cx="1756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valid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5480" y="5029200"/>
              <a:ext cx="2590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 longer pointing to desired return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400800" y="3733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518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Memory Layo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76720" y="9144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ntime stack (8MB limi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eap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ally allocated storag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call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L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ally Linked Libra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brary routines (e.g.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d into object code when first execu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ally allocated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arrays &amp; strings declared i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machine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-on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057400"/>
            <a:ext cx="10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p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hex digits of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505320"/>
            <a:ext cx="12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 H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. 6.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920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4080" y="152280"/>
            <a:ext cx="1980000" cy="6540480"/>
            <a:chOff x="1144080" y="152280"/>
            <a:chExt cx="1980000" cy="6540480"/>
          </a:xfrm>
        </p:grpSpPr>
        <p:sp>
          <p:nvSpPr>
            <p:cNvPr id="86" name=""/>
            <p:cNvSpPr/>
            <p:nvPr/>
          </p:nvSpPr>
          <p:spPr>
            <a:xfrm>
              <a:off x="1676520" y="50292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4290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18288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080" y="152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4080" y="1766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4080" y="3381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4080" y="499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4080" y="152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C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408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408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4080" y="6324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228600"/>
              <a:ext cx="1447560" cy="64008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6520" y="1828800"/>
              <a:ext cx="144756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472428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601992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571500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5029200"/>
              <a:ext cx="1447560" cy="6858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3200400"/>
              <a:ext cx="144756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080" y="6019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2664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icious Use of Buffer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string contains byte representation of executable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verwrite return address with address of buff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execute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ll jump to exploit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48240" y="227304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2730600"/>
            <a:ext cx="533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52840" y="22089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7840" y="4128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64400" y="461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59320" y="478800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27600" y="413640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rly versions of the finger server (fingerd) 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read the argument sent by the cli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finger droh@cs.cmu.ed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m attacked fingerd server by sending phony argum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finger “exploit-code  padding  new-return-addres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 code: executed a root shell on the victim machine with a direct TCP connection to the attack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 exploited existing buffer overflow bug in AIM cli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Microsoft changed code to match signature, AOL changed signature lo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743200" y="11520"/>
            <a:ext cx="3657600" cy="100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W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ne 18, 2001.  Microsoft announces buffer overflow vulnerability in IIS Inter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ly 19, 2001. over 250,000 machines infected by new virus in 9 hou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te house must change its IP address.  Pentagon shut down public WWW servers for d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We Set Up CS:APP Web S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ived strings of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default.ida?NNNNNNNNNNNNNNNNNNNNNNNNNNNNNNNNNNNNNNN....NNNNNNNNNNNNNNNNNNNNNNNNNNNNNNNNNNNNNNNNN%u9090%u6858%ucbd3%u7801%u9090%u6858%ucbd3%u7801%u9090%u6858%ucbd3%u7801%u9090%u9090%u8190%u00c3%u0003%u8b00%u531b%u53ff%u0078%u0000%u00=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0" 400 325 "-" "-"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xploi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597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100 thread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read sel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 random IP addresses &amp; send attack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1st &amp; 19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tack www.whitehouse.go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nd 98,304 packets; sleep for 4-1/2 hours; repe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ial of service attac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21st &amp; 27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ce server’s home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fter waiting 2 ho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9" name="hackedweb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8941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ter Version Even More Mal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of April, 2002, over 18,000 machines inf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pre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ved Way for NIMD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ety of propagation metho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was to exploit vulnerabilities left behind by 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Overflow Vulnerabi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24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Library Routines that Limit Str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ncpy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c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ion specif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ad the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160020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fgets(buf, 4, stdin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6643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86: first computer to implement IEEE F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 8087 FPU (floating point uni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86: merged FPU and Integer Unit onto one c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o add, multiply, and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control &amp; status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32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80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0" y="4343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4343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048120"/>
            <a:ext cx="1447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43800" y="2438280"/>
            <a:ext cx="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04812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05920" y="304812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69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Data Register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79080" y="1364760"/>
            <a:ext cx="6211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372680" y="1903320"/>
            <a:ext cx="5636160" cy="611280"/>
            <a:chOff x="1372680" y="1903320"/>
            <a:chExt cx="5636160" cy="611280"/>
          </a:xfrm>
        </p:grpSpPr>
        <p:sp>
          <p:nvSpPr>
            <p:cNvPr id="540" name=""/>
            <p:cNvSpPr/>
            <p:nvPr/>
          </p:nvSpPr>
          <p:spPr>
            <a:xfrm>
              <a:off x="1447920" y="2209680"/>
              <a:ext cx="3045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22096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2209680"/>
              <a:ext cx="4267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29120" y="1903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920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34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76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8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7268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regist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ly forms shallow st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p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t(0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ush too many, bottom values disappe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03200" y="579132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114800" y="4495680"/>
            <a:ext cx="4496400" cy="1282680"/>
            <a:chOff x="4114800" y="4495680"/>
            <a:chExt cx="4496400" cy="1282680"/>
          </a:xfrm>
        </p:grpSpPr>
        <p:sp>
          <p:nvSpPr>
            <p:cNvPr id="551" name=""/>
            <p:cNvSpPr/>
            <p:nvPr/>
          </p:nvSpPr>
          <p:spPr>
            <a:xfrm>
              <a:off x="5565960" y="4495680"/>
              <a:ext cx="2152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4800" y="5410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op”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57800" y="556236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62720" y="4800600"/>
              <a:ext cx="2152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62720" y="510516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62720" y="541008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57800" y="4495680"/>
              <a:ext cx="2743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98960" y="5410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0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98960" y="51051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1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98960" y="4800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2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98960" y="44956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3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3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5680" y="1038240"/>
            <a:ext cx="1980000" cy="5397480"/>
            <a:chOff x="2515680" y="1038240"/>
            <a:chExt cx="1980000" cy="5397480"/>
          </a:xfrm>
        </p:grpSpPr>
        <p:sp>
          <p:nvSpPr>
            <p:cNvPr id="108" name=""/>
            <p:cNvSpPr/>
            <p:nvPr/>
          </p:nvSpPr>
          <p:spPr>
            <a:xfrm>
              <a:off x="3048120" y="10382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47721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1719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5717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5680" y="1509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568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5680" y="4738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5680" y="286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5680" y="4467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5680" y="6067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1571760"/>
              <a:ext cx="144756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1571760"/>
              <a:ext cx="1447560" cy="1807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446724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576252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545796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175248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568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5360" y="762120"/>
            <a:ext cx="1980360" cy="5688000"/>
            <a:chOff x="4725360" y="762120"/>
            <a:chExt cx="1980360" cy="5688000"/>
          </a:xfrm>
        </p:grpSpPr>
        <p:sp>
          <p:nvSpPr>
            <p:cNvPr id="126" name=""/>
            <p:cNvSpPr/>
            <p:nvPr/>
          </p:nvSpPr>
          <p:spPr>
            <a:xfrm>
              <a:off x="5257800" y="762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me Hea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786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31860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15858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5360" y="152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5360" y="313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5360" y="4753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5360" y="2881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5360" y="4481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5360" y="6081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15858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57800" y="1585800"/>
              <a:ext cx="1447920" cy="2430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57800" y="448164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7800" y="577692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547200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3733920"/>
              <a:ext cx="1447920" cy="74772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90512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943600" y="327672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536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935400" y="762120"/>
            <a:ext cx="1980000" cy="5702040"/>
            <a:chOff x="6935400" y="762120"/>
            <a:chExt cx="1980000" cy="5702040"/>
          </a:xfrm>
        </p:grpSpPr>
        <p:sp>
          <p:nvSpPr>
            <p:cNvPr id="146" name=""/>
            <p:cNvSpPr/>
            <p:nvPr/>
          </p:nvSpPr>
          <p:spPr>
            <a:xfrm>
              <a:off x="7467480" y="762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or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ea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8006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32004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67480" y="1600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5400" y="1538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5400" y="3152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5400" y="476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5400" y="2895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5400" y="4495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5400" y="6095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16002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600200"/>
              <a:ext cx="144792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449568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579132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7480" y="548640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5105520"/>
              <a:ext cx="1447920" cy="380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2971800"/>
              <a:ext cx="144792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3280" y="205740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153280" y="4876560"/>
              <a:ext cx="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54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06000" y="1023840"/>
            <a:ext cx="1980000" cy="5397480"/>
            <a:chOff x="306000" y="1023840"/>
            <a:chExt cx="1980000" cy="5397480"/>
          </a:xfrm>
        </p:grpSpPr>
        <p:sp>
          <p:nvSpPr>
            <p:cNvPr id="167" name=""/>
            <p:cNvSpPr/>
            <p:nvPr/>
          </p:nvSpPr>
          <p:spPr>
            <a:xfrm>
              <a:off x="838080" y="1023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itiall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7577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1575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5573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000" y="1495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6000" y="3110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600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000" y="2852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000" y="4452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000" y="6053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55736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1557360"/>
              <a:ext cx="1447920" cy="1191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574848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544356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60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175248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50 basic instruction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, store, add,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, cos, tan, arctan, and lo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7520" y="4038480"/>
            <a:ext cx="8489520" cy="2056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51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3048120"/>
            <a:ext cx="3502080" cy="3009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56680" y="1371600"/>
            <a:ext cx="5087880" cy="4995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ner Product Stack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5200" y="16444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7600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31240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92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0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5200" y="434340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60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727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5200" y="56386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0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1240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26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194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78600" y="434340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194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161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78600" y="56386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986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348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172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88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1364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nal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/machine dependent (including kernel vers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partitioning: stack/data/text/heap/DLL found in mos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 Declaration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ation obscure, but very syst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to analyze nonstandard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what happens when stack corrupted due to buffer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to step through with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nge “shallow stack”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 &amp;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371600"/>
            <a:ext cx="6095880" cy="1613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break ma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reakpoint 1, 0x804856f in main 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$es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3 = (void *) 0xbffffc7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3657600"/>
            <a:ext cx="6110280" cy="20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56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a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0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4856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bf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fc7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0480" y="685800"/>
            <a:ext cx="1980000" cy="5397480"/>
            <a:chOff x="6630480" y="685800"/>
            <a:chExt cx="1980000" cy="5397480"/>
          </a:xfrm>
        </p:grpSpPr>
        <p:sp>
          <p:nvSpPr>
            <p:cNvPr id="187" name=""/>
            <p:cNvSpPr/>
            <p:nvPr/>
          </p:nvSpPr>
          <p:spPr>
            <a:xfrm>
              <a:off x="7162560" y="685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itiall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560" y="44197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2560" y="28195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2560" y="12193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30480" y="1157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30480" y="2772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30480" y="43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30480" y="2514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3048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30480" y="5715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2560" y="121932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560" y="1219320"/>
              <a:ext cx="1447920" cy="1191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560" y="541044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560" y="510552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30480" y="5453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8360" y="141444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Link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90720"/>
            <a:ext cx="6400800" cy="2833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mallo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1 = {&lt;text variable, no debug info&gt;}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454 &lt;malloc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ogram exited normal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mallo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2 = {void *(unsigned int)}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006240 &lt;malloc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3886200"/>
            <a:ext cx="641520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text segment that invokes dynamic link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45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a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45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DLL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859080" y="762120"/>
            <a:ext cx="1980000" cy="5397120"/>
            <a:chOff x="6859080" y="762120"/>
            <a:chExt cx="1980000" cy="5397120"/>
          </a:xfrm>
        </p:grpSpPr>
        <p:sp>
          <p:nvSpPr>
            <p:cNvPr id="207" name=""/>
            <p:cNvSpPr/>
            <p:nvPr/>
          </p:nvSpPr>
          <p:spPr>
            <a:xfrm>
              <a:off x="7391520" y="762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44956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28954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12952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9080" y="1233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9080" y="28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9080" y="446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9080" y="2590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9080" y="419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9080" y="579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295280"/>
              <a:ext cx="1447560" cy="48002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1520" y="1295280"/>
              <a:ext cx="1447560" cy="1803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1520" y="419076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548604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1520" y="5181480"/>
              <a:ext cx="1447560" cy="3042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77320" y="1476000"/>
              <a:ext cx="0" cy="45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9080" y="5514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84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llo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44520"/>
            <a:ext cx="7010640" cy="4478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ig_array[1&lt;&lt;24];  /*  1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huge_array[1&lt;&lt;28];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eyond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1, *p2, *p3, *p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useless() {  return 0; 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 &lt;&lt;28); 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1 &lt;&lt; 8);  /* 256 B 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1 &lt;&lt;28); 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1 &lt;&lt; 8);  /* 256 B 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ome print statements ..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578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143000"/>
            <a:ext cx="5105520" cy="4478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$esp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bffffc7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3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500b5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1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400b4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al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4000624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4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640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53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beyond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52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big_arra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804a5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uge_arra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a5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in()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56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useless()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56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45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24280" y="5333760"/>
            <a:ext cx="1981440" cy="75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029200"/>
            <a:ext cx="198144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648320"/>
            <a:ext cx="1981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267080"/>
            <a:ext cx="190512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3886200"/>
            <a:ext cx="190512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3581280"/>
            <a:ext cx="19051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200400"/>
            <a:ext cx="17524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2819520"/>
            <a:ext cx="175248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438280"/>
            <a:ext cx="1828800" cy="1524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057400"/>
            <a:ext cx="182880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1676520"/>
            <a:ext cx="1752480" cy="1676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00600" y="1066320"/>
            <a:ext cx="18288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54160" y="838080"/>
            <a:ext cx="1980360" cy="4925880"/>
            <a:chOff x="6554160" y="838080"/>
            <a:chExt cx="1980360" cy="4925880"/>
          </a:xfrm>
        </p:grpSpPr>
        <p:sp>
          <p:nvSpPr>
            <p:cNvPr id="241" name=""/>
            <p:cNvSpPr/>
            <p:nvPr/>
          </p:nvSpPr>
          <p:spPr>
            <a:xfrm>
              <a:off x="7086600" y="41004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86600" y="2500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9000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4160" y="838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4160" y="2452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4160" y="406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4160" y="2195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54160" y="3795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4160" y="5395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9000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6600" y="900000"/>
              <a:ext cx="144792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379548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86600" y="509076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6600" y="478620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86600" y="4404960"/>
              <a:ext cx="1447920" cy="3812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86600" y="2271600"/>
              <a:ext cx="144792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72400" y="135720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772400" y="4176000"/>
              <a:ext cx="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4160" y="509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507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oper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1400" y="831960"/>
            <a:ext cx="81586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ociativ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)  []  -&gt;  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  ~  ++  --  +  -  *  &amp; (type) sizeo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  /  %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 -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 &gt;&gt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  &lt;=  &gt;  &gt;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=  !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^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|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+= -= *= /= %= &amp;= ^= != &lt;&lt;= &gt;&gt;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: Una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ve higher precedence than binary for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36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ointer decla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120" y="1054080"/>
            <a:ext cx="840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[1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(p[13]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*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a pointer to an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p)[1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an array[13] of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f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function returning a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f)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pointer to a function returning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(*f())[13])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function returning ptr to an array[1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pointers to functions returning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(*x[3])())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 is an array[3] of pointers  to func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ing pointers to array[5] of i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3Z</dcterms:modified>
  <cp:revision>97</cp:revision>
  <dc:subject/>
  <dc:title>Machine Level Programming V</dc:title>
</cp:coreProperties>
</file>