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625FF70-CB45-46CF-81A9-CD8A6B7AD87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26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57178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In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duction in str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on subexpression sha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ying performance bottlene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34800"/>
            <a:ext cx="468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ector AD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381880" cy="41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ptr new_vec(int le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vector of specified l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vec_element(vec_ptr v, int index, int *d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rieve vector element, store at *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0 if out of bounds, 1 if successfu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get_vec_start(vec_ptr v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pointer to start of vect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array implementations in Pascal, ML, Ja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always do bounds check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95280" y="1523880"/>
            <a:ext cx="3657600" cy="609840"/>
            <a:chOff x="1295280" y="1523880"/>
            <a:chExt cx="3657600" cy="609840"/>
          </a:xfrm>
        </p:grpSpPr>
        <p:sp>
          <p:nvSpPr>
            <p:cNvPr id="116" name=""/>
            <p:cNvSpPr/>
            <p:nvPr/>
          </p:nvSpPr>
          <p:spPr>
            <a:xfrm>
              <a:off x="1295280" y="15238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engt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5280" y="182880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819520" y="1828800"/>
              <a:ext cx="2133000" cy="304920"/>
              <a:chOff x="2819520" y="1828800"/>
              <a:chExt cx="2133000" cy="30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281952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2408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29000" y="1828800"/>
                <a:ext cx="3042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796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560" y="182880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057400" y="198108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95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2408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83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ength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34800"/>
            <a:ext cx="6129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42667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Sca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bsolute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use nano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–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scale of computer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ck Cyc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uters controlled by high frequency clock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 M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10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G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X 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0.5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sh machines: 550 MHz (1.8 ns clock perio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71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s Per El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5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nient way to express performance of program that operators on vectors or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ngth =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 = CPE*n +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76520" y="2514600"/>
          <a:ext cx="584820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4820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933720" y="3362400"/>
            <a:ext cx="1257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4.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4343400"/>
            <a:ext cx="1543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3.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334800"/>
            <a:ext cx="582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3877920"/>
            <a:ext cx="830556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integer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data structure and operations defined via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/III Performance: Clock Cycles /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2.06 (Compiled -g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1.25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20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825480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vec_length call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result always the s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990720"/>
            <a:ext cx="5680080" cy="4203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-goto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vec_length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i="1" lang="en-US" sz="1800" spc="-1" strike="noStrike">
                <a:solidFill>
                  <a:srgbClr val="a50021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12408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6440" y="26668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iter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6360" y="334800"/>
            <a:ext cx="824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vec_length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all Out of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leng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lue does not change from one iteration to nex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0.66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quires only constant time, but significant overh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31440" y="990720"/>
            <a:ext cx="4982040" cy="31064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2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 = 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80800" y="1905120"/>
            <a:ext cx="4982040" cy="20091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strlen(s)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6751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Mo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to Convert String to Lower Ca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racted from 213 lab submissions, Fall, 199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1522440"/>
            <a:ext cx="8307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quadrup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Quadratic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85960" y="2438280"/>
          <a:ext cx="737208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438280"/>
                    <a:ext cx="737208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vert Loop To Goto For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3120" y="5000760"/>
            <a:ext cx="82821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xecut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near in length of st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64560" indent="-137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scan string until find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\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performance is quadr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1143000"/>
            <a:ext cx="4962600" cy="36601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strlen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68280"/>
            <a:ext cx="5316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is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gorithm, data representations, procedures, and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are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6230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520" y="3866760"/>
            <a:ext cx="8307360" cy="25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side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ce result does not change from one iteration to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 of code mo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8640" y="1143000"/>
            <a:ext cx="4982040" cy="228348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 = 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doub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88840" y="1943280"/>
          <a:ext cx="7328160" cy="39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943280"/>
                    <a:ext cx="7328160" cy="39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Procedure Cal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0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couldn’t the compiler mov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ut of the inner loo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may have side 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ers global state each time call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may not return same value for given argu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other parts of global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w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uld interac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trl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doesn’t compiler look at code f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ker may overload with different 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ess declared sta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procedural optimization is not used extensively due to c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treats procedure call as a black bo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ak optimizations in and around th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28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 procedure call to retrieve each vector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pointer to start of array before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in loop just do pointer refer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s clean in terms of data abstra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6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call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unds checking is expens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1440" y="990720"/>
            <a:ext cx="4982040" cy="25578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3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440" y="334800"/>
            <a:ext cx="89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iminate Unneeded Memory Ref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need to store in destination until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1 memory read, 1 memory write per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reference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80" y="334800"/>
            <a:ext cx="9016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Unneeded Memory Refs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 instructions in 6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read and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instructions in  2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996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,%ed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ax,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(%ed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76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1212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24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Memory Alias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a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different memory references specify singl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: [3, 2, 17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3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4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have happen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ce allowed to do address arithme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 access to storage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in habit of introducing 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umulating within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our way of telling compiler not to check for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477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are good at this for simple loop/array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Don’t do well in presence of procedure calls and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duction in 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(generally) good at thi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act trade-offs machine-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data in registers rather tha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not good at this, since concerned with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have limited algebraic reasoning capabil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84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ortant To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asur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rately compute time taken b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modern machines have built in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ing them to get reliable measurements is trick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ile procedure calling frequ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tool gpro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ing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s you see what optimizations compiler can mak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 capabilities/limitations of particula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6688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"/>
          </a:bodyPr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nt word frequencies in text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 sorted list of words from most frequent to le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strings to lowerca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ords and insert into hash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ly list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intain counter for each unique wo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rt res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ed works of Shakespe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46,596 total words, 26,596 u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implementation: 9.2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867280" y="3124080"/>
          <a:ext cx="2438280" cy="3111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</a:tblGrid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9,8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7,5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1,0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0,95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8,51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,37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0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,93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72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51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5780520" y="2362320"/>
            <a:ext cx="255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hakespeare’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ost frequent 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56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efficient mapping of program to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selection and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ing minor ineffici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 (usually) improve asymptotic 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programmer to select best overall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-O savings are (often) more important than constant fa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constant factors also mat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ve difficulty overcoming “optimization blocker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procedure side-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56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ment Executable Program with Timing 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(approximate) amount of time spent in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computation metho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iodically (~ every 10ms) interrup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termine what function is currently execu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rement its timer by interval (e.g., 10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maintains counter for each function indicating number of times call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–O2 –pg prog. –o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/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ecutes in normal fashion, but also generates fil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prof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s profile information based 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091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0520" y="3261960"/>
            <a:ext cx="8307360" cy="31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 Stat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calls and cumulative time for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Limi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ing inefficient sorting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call uses 87% of CPU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7760" y="1219320"/>
            <a:ext cx="8228160" cy="15490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  cumulative   self              self     total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   seconds   seconds    calls  ms/call  ms/call  name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6.60      8.21     8.21        1  8210.00  8210.00  sort_wor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.80      8.76     0.55   946596     0.00     0.00  lower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.75      9.21     0.45   946596     0.00     0.00  find_ele_re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.27      9.33     0.12   946596     0.00     0.00  h_ad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0520" y="4395600"/>
            <a:ext cx="8307360" cy="37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step: Use more efficient sorting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brary func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s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61920" y="137160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5964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rther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3657600"/>
            <a:ext cx="8307360" cy="20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first: Use iterative function to insert elements into linked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uses code to slow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last: Iterative function, places new entry at end of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nd to place most common words at front of li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table: Increase number of hash bu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ter hash: Use more sophisticated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lower: Mov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61920" y="83808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83808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45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s identify performance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useful when have complex system with many compon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s performance for data tes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inear lower did not show big gain, since words are sh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adratic inefficiency could remain lurking i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ing mechanism fairly cru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orks for programs that run for &gt; 3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e Under Fundamental Constrai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not cause any change in program behavior under any possible condi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ten prevents it from making optimizations when would only affect behavior under pathological cond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havior that may be obvious to the programmer can  be obfuscated by languages and coding sty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ata ranges may be more limited than variable types sugge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performed only within procedur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ole-program analysis is too expensive in most ca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based only on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static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nform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has difficulty anticipating run-time inpu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en in doubt, the compiler must be conservativ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50200" cy="106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mizations you should do regardless of processor /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4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requency with which computation perform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it will always produce same res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moving code out of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7640" y="389556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96120" y="3666960"/>
            <a:ext cx="2848680" cy="11545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3040" y="420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99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er-Generated Code Mo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196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ilers do a good job with array code + simple loop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Generated by GC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3600" y="220968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43440" y="3809880"/>
            <a:ext cx="5591520" cy="24332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8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a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(%edi,%eax,4)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 = a+i*n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nner Lo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4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2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(%edi,%ecx,4),%eax # b+j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*p = b[j]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++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cl 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j++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l .L40                 # loop if j&lt;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200400"/>
            <a:ext cx="60984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828800"/>
            <a:ext cx="28972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*p = a+n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*p++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3047760"/>
            <a:ext cx="4572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204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lace costly operation with simpler 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6*x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 &lt;&lt;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tility machine 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cost of multiply or divide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Pentium II or III, integer multiply only requires 4 CPU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ognize sequence of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2200" y="421632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1040" y="3987720"/>
            <a:ext cx="28486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ni += n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17960" y="452592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633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ke Use of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registers much faster than reading/writing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not always able to determine whether variable can be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ssibility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example la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s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use portions of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often not very sophisticated in exploiting arithmetic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Sum neighbors of i,j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(i-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(i+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*n   + j-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*n   + j+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34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nj = i*n + j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inj -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inj +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nj -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nj +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4840" y="4097160"/>
            <a:ext cx="363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 multiplications: i*n, (i–1)*n, (i+1)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60560" y="4097160"/>
            <a:ext cx="204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multiplication: i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648320"/>
            <a:ext cx="3657600" cy="11545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-1(%edx),%ecx  # i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# (i-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1(%edx),%eax   # i+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     # (i+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dx     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04Z</dcterms:modified>
  <cp:revision>98</cp:revision>
  <dc:subject/>
  <dc:title>Code Optimization I</dc:title>
</cp:coreProperties>
</file>