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6664E4E-C096-4F8B-AFC8-272786FCCB6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ic cache memory orga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sociative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act of caches on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Use Middle Bits as Index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6960" y="3156120"/>
            <a:ext cx="438300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igh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iddle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direct-mapped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mpare the tag in each valid line in the selected s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14640" y="3040200"/>
            <a:ext cx="5816520" cy="925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65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35416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29040" y="35416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29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93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90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054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18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26240" y="35402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421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212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844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4240" y="31478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84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849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946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37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09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74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25960" y="51292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3960" y="5129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7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64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1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9960" y="56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5640" y="5660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1436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96160" y="56768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1800" y="56768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3600" y="56768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5080" y="33699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322720" y="2311200"/>
            <a:ext cx="3421800" cy="1229040"/>
            <a:chOff x="2322720" y="2311200"/>
            <a:chExt cx="3421800" cy="1229040"/>
          </a:xfrm>
        </p:grpSpPr>
        <p:sp>
          <p:nvSpPr>
            <p:cNvPr id="720" name=""/>
            <p:cNvSpPr/>
            <p:nvPr/>
          </p:nvSpPr>
          <p:spPr>
            <a:xfrm>
              <a:off x="2322720" y="232560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460600" y="2684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651040" y="2684880"/>
              <a:ext cx="0" cy="85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1840" y="231120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3449520"/>
            <a:ext cx="4032360" cy="1812960"/>
            <a:chOff x="0" y="3449520"/>
            <a:chExt cx="4032360" cy="1812960"/>
          </a:xfrm>
        </p:grpSpPr>
        <p:sp>
          <p:nvSpPr>
            <p:cNvPr id="725" name=""/>
            <p:cNvSpPr/>
            <p:nvPr/>
          </p:nvSpPr>
          <p:spPr>
            <a:xfrm rot="16200000">
              <a:off x="3400560" y="456192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51880" y="434916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79760" y="467028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195080"/>
              <a:ext cx="32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one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f the cache lines mus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tch the tag bits 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2840" y="3830400"/>
              <a:ext cx="0" cy="59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11560" y="3449520"/>
              <a:ext cx="0" cy="9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38720" y="3858840"/>
            <a:ext cx="3828960" cy="1334880"/>
            <a:chOff x="5238720" y="3858840"/>
            <a:chExt cx="3828960" cy="1334880"/>
          </a:xfrm>
        </p:grpSpPr>
        <p:sp>
          <p:nvSpPr>
            <p:cNvPr id="732" name=""/>
            <p:cNvSpPr/>
            <p:nvPr/>
          </p:nvSpPr>
          <p:spPr>
            <a:xfrm>
              <a:off x="5791320" y="470520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238720" y="3858840"/>
              <a:ext cx="3828960" cy="1334880"/>
              <a:chOff x="5238720" y="3858840"/>
              <a:chExt cx="3828960" cy="1334880"/>
            </a:xfrm>
          </p:grpSpPr>
          <p:sp>
            <p:nvSpPr>
              <p:cNvPr id="734" name=""/>
              <p:cNvSpPr/>
              <p:nvPr/>
            </p:nvSpPr>
            <p:spPr>
              <a:xfrm rot="16200000">
                <a:off x="5718240" y="4561920"/>
                <a:ext cx="152280" cy="11113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8800 h 1111320"/>
                  <a:gd name="textAreaBottom" fmla="*/ 1082520 h 11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84840" y="4699080"/>
                <a:ext cx="3175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65720" y="4093560"/>
                <a:ext cx="29019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(3) If (1) and (2), then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ache hit, an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lock  offset selects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tarting byte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02360" y="3858840"/>
                <a:ext cx="0" cy="839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5445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241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813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878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978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7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42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06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ons: separ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ction cach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ied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44760" y="2243160"/>
            <a:ext cx="2197080" cy="1725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1760" y="3670200"/>
            <a:ext cx="93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5240" y="2305080"/>
            <a:ext cx="963360" cy="1571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1920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33400" y="2471760"/>
            <a:ext cx="65088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87960" y="2281320"/>
            <a:ext cx="801720" cy="1633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29160" y="2550960"/>
            <a:ext cx="658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52920" y="368316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09564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9600" y="3086280"/>
            <a:ext cx="758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80" y="2550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84280" y="2703600"/>
            <a:ext cx="443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36800" y="320976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2792520"/>
            <a:ext cx="132876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entium Cache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, 4-wa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ction of memory references not found in cache (misses/referenc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10%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quite small (e.g., &lt; 1%) for L2, depending on size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clock cycle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8 clock cycles for L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time required because of a mi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25-100 cycles for ma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Cache Friendl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d cache, 4-byte words, 4-word cac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360" y="357516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3680" y="359712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71880" y="5985000"/>
            <a:ext cx="1536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/4 = 25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51080" y="5985000"/>
            <a:ext cx="67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bytes read from memory per second (MB/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read throughput as a function of spatial and temporal localit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way to characterize memory system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Test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338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6680" y="1027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frequently accessed blocks of ma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89760" y="5500800"/>
            <a:ext cx="819360" cy="823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63724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2680" y="5665680"/>
            <a:ext cx="81936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9760" y="563724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8680" y="5665680"/>
            <a:ext cx="168732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4160" y="447048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460836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474516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4160" y="488304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501984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70480"/>
            <a:ext cx="399960" cy="342720"/>
          </a:xfrm>
          <a:prstGeom prst="rightArrow">
            <a:avLst>
              <a:gd name="adj1" fmla="val 50000"/>
              <a:gd name="adj2" fmla="val 2917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9400" y="481320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563724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665680"/>
            <a:ext cx="88740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1080" y="4334040"/>
            <a:ext cx="479520" cy="9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81320" y="4165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0760" y="522612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2240" y="4127400"/>
            <a:ext cx="2676240" cy="21970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480" y="38365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880" y="500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9960" y="5294160"/>
            <a:ext cx="41292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5003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0240" y="5294160"/>
            <a:ext cx="61884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9280" y="50032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0880" y="5294160"/>
            <a:ext cx="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8680" y="4567320"/>
            <a:ext cx="65700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6720" y="508788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2120" y="1087560"/>
          <a:ext cx="86806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087560"/>
                    <a:ext cx="86806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dges of Tempor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luminates read throughputs of different caches and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237168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7168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lope of Spati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s cache block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jor Cache Effects to Consi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temporal locality and keep the working set small (e.g., by using blocking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spatial loca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scrip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(N3) total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reads per source elem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values summed per destin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t may be able to hold in register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s Rate Analysis for Matrix Multip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 size = 32B (big enough for 4 64-bit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rix dimension (N) is ver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roximate 1/N as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is not even big enough to hold multiple r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access pattern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819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825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828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831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834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837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842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yout of C Arrays in Memory (re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ow in contiguous memory lo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0]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successiv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block size (B) &gt; 4 bytes, exploit spatial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4 bytes /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i][0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distan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patial loc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1 (i.e. 100%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7040" y="176544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288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11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54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2464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4360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86600" y="3168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2593800"/>
            <a:ext cx="0" cy="50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99000" y="29624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81840" y="2787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91320" y="2254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3600" y="28987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34320" y="2558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96760" y="1797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435000" y="3592440"/>
            <a:ext cx="1042560" cy="1301040"/>
            <a:chOff x="6435000" y="3592440"/>
            <a:chExt cx="1042560" cy="1301040"/>
          </a:xfrm>
        </p:grpSpPr>
        <p:sp>
          <p:nvSpPr>
            <p:cNvPr id="862" name=""/>
            <p:cNvSpPr/>
            <p:nvPr/>
          </p:nvSpPr>
          <p:spPr>
            <a:xfrm>
              <a:off x="6435000" y="4255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99120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14600" y="4255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72240" y="35924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7590240" y="3592440"/>
            <a:ext cx="739080" cy="1026720"/>
            <a:chOff x="7590240" y="3592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7590240" y="4255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4716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90520" y="4964040"/>
            <a:ext cx="5073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i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9880" y="177948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8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1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0060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1992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39240" y="323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10280" y="2660760"/>
            <a:ext cx="0" cy="50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75320" y="30290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7800" y="28544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7640" y="2320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89920" y="29653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10640" y="2625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9040" y="1787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33760" y="3803760"/>
            <a:ext cx="1168920" cy="1027080"/>
            <a:chOff x="5333760" y="3803760"/>
            <a:chExt cx="1168920" cy="1027080"/>
          </a:xfrm>
        </p:grpSpPr>
        <p:sp>
          <p:nvSpPr>
            <p:cNvPr id="886" name=""/>
            <p:cNvSpPr/>
            <p:nvPr/>
          </p:nvSpPr>
          <p:spPr>
            <a:xfrm>
              <a:off x="5333760" y="44676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104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36520" y="3803760"/>
            <a:ext cx="1042560" cy="1301400"/>
            <a:chOff x="6536520" y="3803760"/>
            <a:chExt cx="1042560" cy="1301400"/>
          </a:xfrm>
        </p:grpSpPr>
        <p:sp>
          <p:nvSpPr>
            <p:cNvPr id="889" name=""/>
            <p:cNvSpPr/>
            <p:nvPr/>
          </p:nvSpPr>
          <p:spPr>
            <a:xfrm>
              <a:off x="6536520" y="44676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09308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66200" y="3811680"/>
            <a:ext cx="739080" cy="1027080"/>
            <a:chOff x="7666200" y="3811680"/>
            <a:chExt cx="739080" cy="1027080"/>
          </a:xfrm>
        </p:grpSpPr>
        <p:sp>
          <p:nvSpPr>
            <p:cNvPr id="892" name=""/>
            <p:cNvSpPr/>
            <p:nvPr/>
          </p:nvSpPr>
          <p:spPr>
            <a:xfrm>
              <a:off x="7666200" y="44755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223120" y="381168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i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2520" y="1770120"/>
            <a:ext cx="4263840" cy="30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34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11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14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75640" y="3459240"/>
            <a:ext cx="739080" cy="1026720"/>
            <a:chOff x="5075640" y="3459240"/>
            <a:chExt cx="739080" cy="1026720"/>
          </a:xfrm>
        </p:grpSpPr>
        <p:sp>
          <p:nvSpPr>
            <p:cNvPr id="917" name=""/>
            <p:cNvSpPr/>
            <p:nvPr/>
          </p:nvSpPr>
          <p:spPr>
            <a:xfrm>
              <a:off x="5075640" y="4122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632560" y="34592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erting an L1 Cache  Between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PU and Main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6640" y="4755960"/>
            <a:ext cx="30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big slow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many 4-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7160" y="2664720"/>
            <a:ext cx="36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mall fas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1 cac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two  4-word 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8280" y="1371240"/>
            <a:ext cx="38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iny, very fast CP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four 4-byte wor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280" y="325404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and ma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 is a 4-word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6 byte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740960"/>
            <a:ext cx="30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PU register file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is a 4-byte blo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k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0680" y="1757520"/>
            <a:ext cx="43146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722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36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39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227920" y="41227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632560" y="34592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k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6640" y="1766880"/>
            <a:ext cx="435312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4024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2812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7200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913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584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5648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92760" y="3006720"/>
            <a:ext cx="5112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7532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6968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80392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88688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2276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106240" y="3679560"/>
            <a:ext cx="1106640" cy="1301400"/>
            <a:chOff x="5106240" y="3679560"/>
            <a:chExt cx="1106640" cy="1301400"/>
          </a:xfrm>
        </p:grpSpPr>
        <p:sp>
          <p:nvSpPr>
            <p:cNvPr id="960" name=""/>
            <p:cNvSpPr/>
            <p:nvPr/>
          </p:nvSpPr>
          <p:spPr>
            <a:xfrm>
              <a:off x="5106240" y="434340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6244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468560" y="3679560"/>
            <a:ext cx="1042560" cy="1301400"/>
            <a:chOff x="7468560" y="3679560"/>
            <a:chExt cx="1042560" cy="1301400"/>
          </a:xfrm>
        </p:grpSpPr>
        <p:sp>
          <p:nvSpPr>
            <p:cNvPr id="963" name=""/>
            <p:cNvSpPr/>
            <p:nvPr/>
          </p:nvSpPr>
          <p:spPr>
            <a:xfrm>
              <a:off x="7468560" y="43434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02476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70920" y="3687840"/>
            <a:ext cx="739080" cy="1026720"/>
            <a:chOff x="6370920" y="3687840"/>
            <a:chExt cx="739080" cy="1026720"/>
          </a:xfrm>
        </p:grpSpPr>
        <p:sp>
          <p:nvSpPr>
            <p:cNvPr id="966" name=""/>
            <p:cNvSpPr/>
            <p:nvPr/>
          </p:nvSpPr>
          <p:spPr>
            <a:xfrm>
              <a:off x="6370920" y="43513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27840" y="36878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j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17400" y="1782720"/>
            <a:ext cx="45180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77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7708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45280" y="2606760"/>
            <a:ext cx="5972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895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0884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336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7400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0280" y="30067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284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720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12144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20404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4028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599520" y="3573360"/>
            <a:ext cx="739080" cy="1026720"/>
            <a:chOff x="6599520" y="3573360"/>
            <a:chExt cx="739080" cy="1026720"/>
          </a:xfrm>
        </p:grpSpPr>
        <p:sp>
          <p:nvSpPr>
            <p:cNvPr id="985" name=""/>
            <p:cNvSpPr/>
            <p:nvPr/>
          </p:nvSpPr>
          <p:spPr>
            <a:xfrm>
              <a:off x="6599520" y="42368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156440" y="35733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411160" y="3565440"/>
            <a:ext cx="1042560" cy="1301040"/>
            <a:chOff x="5411160" y="3565440"/>
            <a:chExt cx="1042560" cy="1301040"/>
          </a:xfrm>
        </p:grpSpPr>
        <p:sp>
          <p:nvSpPr>
            <p:cNvPr id="988" name=""/>
            <p:cNvSpPr/>
            <p:nvPr/>
          </p:nvSpPr>
          <p:spPr>
            <a:xfrm>
              <a:off x="5411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67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697160" y="3565440"/>
            <a:ext cx="1042560" cy="1301040"/>
            <a:chOff x="7697160" y="3565440"/>
            <a:chExt cx="1042560" cy="1301040"/>
          </a:xfrm>
        </p:grpSpPr>
        <p:sp>
          <p:nvSpPr>
            <p:cNvPr id="991" name=""/>
            <p:cNvSpPr/>
            <p:nvPr/>
          </p:nvSpPr>
          <p:spPr>
            <a:xfrm>
              <a:off x="7697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53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Matrix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Matrix 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9312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s are helpful but not perfect predic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scheduling matters, to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835200" y="215892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5892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Temporal Locality by Bloc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” (in this context) does not mean “cache block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ead, it mean a sub-block within the matrix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N = 8; sub-block size =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31760" y="507204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008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928800" y="3060720"/>
            <a:ext cx="215280" cy="838080"/>
            <a:chOff x="928800" y="3060720"/>
            <a:chExt cx="215280" cy="838080"/>
          </a:xfrm>
        </p:grpSpPr>
        <p:sp>
          <p:nvSpPr>
            <p:cNvPr id="1010" name=""/>
            <p:cNvSpPr/>
            <p:nvPr/>
          </p:nvSpPr>
          <p:spPr>
            <a:xfrm>
              <a:off x="92880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4104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04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842840" y="3060720"/>
            <a:ext cx="228960" cy="838080"/>
            <a:chOff x="1842840" y="3060720"/>
            <a:chExt cx="228960" cy="838080"/>
          </a:xfrm>
        </p:grpSpPr>
        <p:sp>
          <p:nvSpPr>
            <p:cNvPr id="1014" name=""/>
            <p:cNvSpPr/>
            <p:nvPr/>
          </p:nvSpPr>
          <p:spPr>
            <a:xfrm flipV="1">
              <a:off x="20718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8428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8428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67624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604960" y="3060720"/>
            <a:ext cx="215640" cy="838080"/>
            <a:chOff x="2604960" y="3060720"/>
            <a:chExt cx="215640" cy="838080"/>
          </a:xfrm>
        </p:grpSpPr>
        <p:sp>
          <p:nvSpPr>
            <p:cNvPr id="1019" name=""/>
            <p:cNvSpPr/>
            <p:nvPr/>
          </p:nvSpPr>
          <p:spPr>
            <a:xfrm>
              <a:off x="26049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175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5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443040" y="3060720"/>
            <a:ext cx="228960" cy="838080"/>
            <a:chOff x="3443040" y="3060720"/>
            <a:chExt cx="228960" cy="838080"/>
          </a:xfrm>
        </p:grpSpPr>
        <p:sp>
          <p:nvSpPr>
            <p:cNvPr id="1023" name=""/>
            <p:cNvSpPr/>
            <p:nvPr/>
          </p:nvSpPr>
          <p:spPr>
            <a:xfrm flipV="1">
              <a:off x="36720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430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4430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09680" y="3389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8800" y="331308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76800" y="3084480"/>
            <a:ext cx="8204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205160" y="3060720"/>
            <a:ext cx="215640" cy="838080"/>
            <a:chOff x="4205160" y="3060720"/>
            <a:chExt cx="215640" cy="838080"/>
          </a:xfrm>
        </p:grpSpPr>
        <p:sp>
          <p:nvSpPr>
            <p:cNvPr id="1030" name=""/>
            <p:cNvSpPr/>
            <p:nvPr/>
          </p:nvSpPr>
          <p:spPr>
            <a:xfrm>
              <a:off x="42051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177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177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43240" y="3060720"/>
            <a:ext cx="228960" cy="838080"/>
            <a:chOff x="5043240" y="3060720"/>
            <a:chExt cx="228960" cy="838080"/>
          </a:xfrm>
        </p:grpSpPr>
        <p:sp>
          <p:nvSpPr>
            <p:cNvPr id="1034" name=""/>
            <p:cNvSpPr/>
            <p:nvPr/>
          </p:nvSpPr>
          <p:spPr>
            <a:xfrm flipV="1">
              <a:off x="52722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0432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0432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38080" y="425772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(b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14648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nermost loop pair multiplies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size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lock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accumulates in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p ov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eps throug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 sliver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using sam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4024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0880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25304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7200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16880" y="5191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9840" y="60292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465360" y="4705200"/>
            <a:ext cx="636840" cy="982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46720" y="4616280"/>
            <a:ext cx="203040" cy="2034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06480" y="57499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460840" y="489564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040" y="564840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6807240" y="4768560"/>
            <a:ext cx="55872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6708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2900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9132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37400" y="4565520"/>
            <a:ext cx="361440" cy="736560"/>
            <a:chOff x="4937400" y="4565520"/>
            <a:chExt cx="361440" cy="736560"/>
          </a:xfrm>
        </p:grpSpPr>
        <p:sp>
          <p:nvSpPr>
            <p:cNvPr id="1061" name=""/>
            <p:cNvSpPr/>
            <p:nvPr/>
          </p:nvSpPr>
          <p:spPr>
            <a:xfrm>
              <a:off x="5105520" y="4565520"/>
              <a:ext cx="0" cy="736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37400" y="46526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1528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5296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127400" y="4272120"/>
            <a:ext cx="736560" cy="302040"/>
            <a:chOff x="4127400" y="4272120"/>
            <a:chExt cx="736560" cy="302040"/>
          </a:xfrm>
        </p:grpSpPr>
        <p:sp>
          <p:nvSpPr>
            <p:cNvPr id="1066" name=""/>
            <p:cNvSpPr/>
            <p:nvPr/>
          </p:nvSpPr>
          <p:spPr>
            <a:xfrm>
              <a:off x="4127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51600" y="42721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489720" y="4272120"/>
            <a:ext cx="736560" cy="302040"/>
            <a:chOff x="6489720" y="4272120"/>
            <a:chExt cx="736560" cy="302040"/>
          </a:xfrm>
        </p:grpSpPr>
        <p:sp>
          <p:nvSpPr>
            <p:cNvPr id="1069" name=""/>
            <p:cNvSpPr/>
            <p:nvPr/>
          </p:nvSpPr>
          <p:spPr>
            <a:xfrm>
              <a:off x="648972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1500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70400" y="4272120"/>
            <a:ext cx="736560" cy="302040"/>
            <a:chOff x="5270400" y="4272120"/>
            <a:chExt cx="736560" cy="302040"/>
          </a:xfrm>
        </p:grpSpPr>
        <p:sp>
          <p:nvSpPr>
            <p:cNvPr id="1072" name=""/>
            <p:cNvSpPr/>
            <p:nvPr/>
          </p:nvSpPr>
          <p:spPr>
            <a:xfrm>
              <a:off x="5270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604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68240" y="2308320"/>
            <a:ext cx="6900840" cy="2557800"/>
            <a:chOff x="768240" y="2308320"/>
            <a:chExt cx="6900840" cy="2557800"/>
          </a:xfrm>
        </p:grpSpPr>
        <p:sp>
          <p:nvSpPr>
            <p:cNvPr id="1075" name=""/>
            <p:cNvSpPr/>
            <p:nvPr/>
          </p:nvSpPr>
          <p:spPr>
            <a:xfrm>
              <a:off x="768240" y="23083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26481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000" y="40194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Blocked Matrix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ly insensitive to array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lud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structures are organ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are ac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sted loop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ing is a general techniq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systems favor “cache friendly cod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absolute optimum performance is very platform specif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sizes, line sizes, associativiti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t most of the advantage with generic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working set reasonably small (tempor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mall strides (spati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Org of a Cache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ing 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set index bits to determine the set of intere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 match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Find a valid line in the selected set with a matching t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d sel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Then extract the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5880" y="3774960"/>
            <a:ext cx="58449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69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84480" y="38512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2120" y="5329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00120" y="5329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3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7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586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1800" y="5860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3240" y="53434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72320" y="58770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960" y="587700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9760" y="587700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20" y="38113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114880" y="4144680"/>
            <a:ext cx="3671280" cy="1655640"/>
            <a:chOff x="5114880" y="4144680"/>
            <a:chExt cx="3671280" cy="1655640"/>
          </a:xfrm>
        </p:grpSpPr>
        <p:sp>
          <p:nvSpPr>
            <p:cNvPr id="342" name=""/>
            <p:cNvSpPr/>
            <p:nvPr/>
          </p:nvSpPr>
          <p:spPr>
            <a:xfrm flipV="1">
              <a:off x="5667480" y="4144680"/>
              <a:ext cx="228600" cy="106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559440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0280" y="4489560"/>
              <a:ext cx="2225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3) If (1) and (2), the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ache hit,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nd block offse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lec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ing byte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135520" y="3058920"/>
            <a:ext cx="3350520" cy="790920"/>
            <a:chOff x="2135520" y="3058920"/>
            <a:chExt cx="3350520" cy="790920"/>
          </a:xfrm>
        </p:grpSpPr>
        <p:sp>
          <p:nvSpPr>
            <p:cNvPr id="346" name=""/>
            <p:cNvSpPr/>
            <p:nvPr/>
          </p:nvSpPr>
          <p:spPr>
            <a:xfrm flipV="1">
              <a:off x="2400480" y="339264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520" y="305892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9880" y="30618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0560" y="4092480"/>
            <a:ext cx="3567960" cy="1301400"/>
            <a:chOff x="340560" y="4092480"/>
            <a:chExt cx="3567960" cy="1301400"/>
          </a:xfrm>
        </p:grpSpPr>
        <p:sp>
          <p:nvSpPr>
            <p:cNvPr id="350" name=""/>
            <p:cNvSpPr/>
            <p:nvPr/>
          </p:nvSpPr>
          <p:spPr>
            <a:xfrm rot="16200000">
              <a:off x="327672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02480" y="45493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5920" y="4870440"/>
              <a:ext cx="0" cy="369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560" y="4393440"/>
              <a:ext cx="284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the cac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ine must match t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g bits in 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5920" y="4092480"/>
              <a:ext cx="0" cy="49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70280" y="38512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94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466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67480" y="38498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69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941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894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 Simu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7760" y="1117440"/>
            <a:ext cx="616104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=16 byte addresses, B=2 bytes/block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4 sets, E=1 entry/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trace (reads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1 [00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13 [11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8 [1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0200" y="1577880"/>
            <a:ext cx="2046600" cy="549360"/>
            <a:chOff x="160200" y="1577880"/>
            <a:chExt cx="2046600" cy="549360"/>
          </a:xfrm>
        </p:grpSpPr>
        <p:sp>
          <p:nvSpPr>
            <p:cNvPr id="374" name=""/>
            <p:cNvSpPr/>
            <p:nvPr/>
          </p:nvSpPr>
          <p:spPr>
            <a:xfrm>
              <a:off x="1602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36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624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0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318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01880" y="2936880"/>
            <a:ext cx="3065400" cy="1552680"/>
            <a:chOff x="1001880" y="2936880"/>
            <a:chExt cx="3065400" cy="1552680"/>
          </a:xfrm>
        </p:grpSpPr>
        <p:sp>
          <p:nvSpPr>
            <p:cNvPr id="381" name=""/>
            <p:cNvSpPr/>
            <p:nvPr/>
          </p:nvSpPr>
          <p:spPr>
            <a:xfrm>
              <a:off x="1568160" y="35877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25360" y="35877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8880" y="35877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696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6820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032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8160" y="38163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5360" y="38163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8880" y="38163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160" y="40449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5360" y="40449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8880" y="40449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8160" y="42735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5360" y="42735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8880" y="42735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293688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18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59480" y="2936880"/>
            <a:ext cx="2811600" cy="1552680"/>
            <a:chOff x="4659480" y="2936880"/>
            <a:chExt cx="2811600" cy="1552680"/>
          </a:xfrm>
        </p:grpSpPr>
        <p:sp>
          <p:nvSpPr>
            <p:cNvPr id="399" name=""/>
            <p:cNvSpPr/>
            <p:nvPr/>
          </p:nvSpPr>
          <p:spPr>
            <a:xfrm>
              <a:off x="5149800" y="3587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7000" y="3587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0520" y="3587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932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984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1196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49800" y="38163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7000" y="38163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40520" y="38163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9800" y="4044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07000" y="4044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4044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9800" y="4273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4273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0520" y="4273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79640" y="2936880"/>
              <a:ext cx="189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 [1101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4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77840" y="5070600"/>
            <a:ext cx="2837520" cy="1551960"/>
            <a:chOff x="1077840" y="5070600"/>
            <a:chExt cx="2837520" cy="1551960"/>
          </a:xfrm>
        </p:grpSpPr>
        <p:sp>
          <p:nvSpPr>
            <p:cNvPr id="417" name=""/>
            <p:cNvSpPr/>
            <p:nvPr/>
          </p:nvSpPr>
          <p:spPr>
            <a:xfrm>
              <a:off x="1568520" y="57211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572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924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32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856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068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8520" y="59497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5924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8520" y="61783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2572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5924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8520" y="64069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572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5924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5064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 [1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784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59480" y="5070600"/>
            <a:ext cx="2836800" cy="1551960"/>
            <a:chOff x="4659480" y="5070600"/>
            <a:chExt cx="2836800" cy="1551960"/>
          </a:xfrm>
        </p:grpSpPr>
        <p:sp>
          <p:nvSpPr>
            <p:cNvPr id="435" name=""/>
            <p:cNvSpPr/>
            <p:nvPr/>
          </p:nvSpPr>
          <p:spPr>
            <a:xfrm>
              <a:off x="5149440" y="57211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64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016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6896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948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60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9440" y="59497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0664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49440" y="61783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664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016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49440" y="64069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664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4016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156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48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562040" y="3581280"/>
            <a:ext cx="2121120" cy="901440"/>
            <a:chOff x="1562040" y="3581280"/>
            <a:chExt cx="2121120" cy="901440"/>
          </a:xfrm>
        </p:grpSpPr>
        <p:sp>
          <p:nvSpPr>
            <p:cNvPr id="453" name=""/>
            <p:cNvSpPr/>
            <p:nvPr/>
          </p:nvSpPr>
          <p:spPr>
            <a:xfrm>
              <a:off x="1562040" y="35812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5812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760" y="35812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2040" y="38098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19240" y="38098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52760" y="38098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2040" y="40384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19240" y="40384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2760" y="40384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62040" y="42670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42670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42670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43680" y="3581280"/>
            <a:ext cx="2120400" cy="901440"/>
            <a:chOff x="5143680" y="3581280"/>
            <a:chExt cx="2120400" cy="901440"/>
          </a:xfrm>
        </p:grpSpPr>
        <p:sp>
          <p:nvSpPr>
            <p:cNvPr id="466" name=""/>
            <p:cNvSpPr/>
            <p:nvPr/>
          </p:nvSpPr>
          <p:spPr>
            <a:xfrm>
              <a:off x="5143680" y="35812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0520" y="35812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35812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43680" y="38098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0520" y="38098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34040" y="38098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3680" y="40384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00520" y="40384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34040" y="40384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3680" y="42670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0520" y="42670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42670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62040" y="5715000"/>
            <a:ext cx="2121120" cy="901440"/>
            <a:chOff x="1562040" y="5715000"/>
            <a:chExt cx="2121120" cy="901440"/>
          </a:xfrm>
        </p:grpSpPr>
        <p:sp>
          <p:nvSpPr>
            <p:cNvPr id="479" name=""/>
            <p:cNvSpPr/>
            <p:nvPr/>
          </p:nvSpPr>
          <p:spPr>
            <a:xfrm>
              <a:off x="1562040" y="57150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19240" y="57150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2760" y="57150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62040" y="59436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9240" y="59436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2760" y="59436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61722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61722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2760" y="61722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2040" y="64008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9240" y="64008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2760" y="64008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43680" y="5715000"/>
            <a:ext cx="2120400" cy="901440"/>
            <a:chOff x="5143680" y="5715000"/>
            <a:chExt cx="2120400" cy="901440"/>
          </a:xfrm>
        </p:grpSpPr>
        <p:sp>
          <p:nvSpPr>
            <p:cNvPr id="492" name=""/>
            <p:cNvSpPr/>
            <p:nvPr/>
          </p:nvSpPr>
          <p:spPr>
            <a:xfrm>
              <a:off x="5143680" y="57150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0520" y="57150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34040" y="57150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680" y="59436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520" y="59436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4040" y="59436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61722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0520" y="61722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34040" y="61722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64008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520" y="64008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34040" y="64008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714680" y="3537000"/>
            <a:ext cx="1650240" cy="312840"/>
            <a:chOff x="1714680" y="3537000"/>
            <a:chExt cx="1650240" cy="312840"/>
          </a:xfrm>
        </p:grpSpPr>
        <p:sp>
          <p:nvSpPr>
            <p:cNvPr id="505" name=""/>
            <p:cNvSpPr/>
            <p:nvPr/>
          </p:nvSpPr>
          <p:spPr>
            <a:xfrm>
              <a:off x="219384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960" y="3537000"/>
              <a:ext cx="687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[0-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1468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14680" y="5661000"/>
            <a:ext cx="1766160" cy="784080"/>
            <a:chOff x="1714680" y="5661000"/>
            <a:chExt cx="1766160" cy="784080"/>
          </a:xfrm>
        </p:grpSpPr>
        <p:grpSp>
          <p:nvGrpSpPr>
            <p:cNvPr id="509" name=""/>
            <p:cNvGrpSpPr/>
            <p:nvPr/>
          </p:nvGrpSpPr>
          <p:grpSpPr>
            <a:xfrm>
              <a:off x="1714680" y="6132240"/>
              <a:ext cx="1766160" cy="312840"/>
              <a:chOff x="1714680" y="6132240"/>
              <a:chExt cx="176616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384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7160" y="613224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1468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714680" y="5661000"/>
              <a:ext cx="1652040" cy="312840"/>
              <a:chOff x="1714680" y="5661000"/>
              <a:chExt cx="1652040" cy="31284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384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78760" y="566100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8-9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1468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5294160" y="5672160"/>
            <a:ext cx="1766160" cy="775080"/>
            <a:chOff x="5294160" y="5672160"/>
            <a:chExt cx="1766160" cy="775080"/>
          </a:xfrm>
        </p:grpSpPr>
        <p:grpSp>
          <p:nvGrpSpPr>
            <p:cNvPr id="518" name=""/>
            <p:cNvGrpSpPr/>
            <p:nvPr/>
          </p:nvGrpSpPr>
          <p:grpSpPr>
            <a:xfrm>
              <a:off x="5294160" y="6134400"/>
              <a:ext cx="1766160" cy="312840"/>
              <a:chOff x="5294160" y="6134400"/>
              <a:chExt cx="1766160" cy="312840"/>
            </a:xfrm>
          </p:grpSpPr>
          <p:sp>
            <p:nvSpPr>
              <p:cNvPr id="519" name=""/>
              <p:cNvSpPr/>
              <p:nvPr/>
            </p:nvSpPr>
            <p:spPr>
              <a:xfrm>
                <a:off x="577332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6640" y="61344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416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94160" y="5672160"/>
              <a:ext cx="1653480" cy="312840"/>
              <a:chOff x="5294160" y="5672160"/>
              <a:chExt cx="1653480" cy="312840"/>
            </a:xfrm>
          </p:grpSpPr>
          <p:sp>
            <p:nvSpPr>
              <p:cNvPr id="523" name=""/>
              <p:cNvSpPr/>
              <p:nvPr/>
            </p:nvSpPr>
            <p:spPr>
              <a:xfrm>
                <a:off x="577332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9680" y="56721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416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89480" y="3533760"/>
            <a:ext cx="1766160" cy="775080"/>
            <a:chOff x="5289480" y="3533760"/>
            <a:chExt cx="1766160" cy="775080"/>
          </a:xfrm>
        </p:grpSpPr>
        <p:grpSp>
          <p:nvGrpSpPr>
            <p:cNvPr id="527" name=""/>
            <p:cNvGrpSpPr/>
            <p:nvPr/>
          </p:nvGrpSpPr>
          <p:grpSpPr>
            <a:xfrm>
              <a:off x="5289480" y="3996000"/>
              <a:ext cx="1766160" cy="312840"/>
              <a:chOff x="5289480" y="3996000"/>
              <a:chExt cx="1766160" cy="312840"/>
            </a:xfrm>
          </p:grpSpPr>
          <p:sp>
            <p:nvSpPr>
              <p:cNvPr id="528" name=""/>
              <p:cNvSpPr/>
              <p:nvPr/>
            </p:nvSpPr>
            <p:spPr>
              <a:xfrm>
                <a:off x="576864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1960" y="39960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8948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289480" y="3533760"/>
              <a:ext cx="1653480" cy="312840"/>
              <a:chOff x="5289480" y="3533760"/>
              <a:chExt cx="1653480" cy="312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76864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55000" y="35337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8948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 and David R. O'Hallaron</dc:creator>
  <dc:description/>
  <dc:language>en-US</dc:language>
  <cp:lastModifiedBy>droh</cp:lastModifiedBy>
  <cp:lastPrinted>2001-10-04T12:22:59Z</cp:lastPrinted>
  <dcterms:modified xsi:type="dcterms:W3CDTF">2002-10-28T20:32:33Z</dcterms:modified>
  <cp:revision>278</cp:revision>
  <dc:subject/>
  <dc:title>Cache Memories</dc:title>
</cp:coreProperties>
</file>