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4E7EAE88-12F2-458A-A127-D020022D87F7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king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ct. 15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504960"/>
            <a:ext cx="617508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tic lin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bject fi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tic libra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ynamic linking of shared libra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15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LF Object File Format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55767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.symtab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sec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ymbol tab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dure and static variable nam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ction names and locatio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.rel.text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sec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location info fo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tex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es of instructions that will need to be modified in the executab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ctions for modifying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.rel.data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sec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location info fo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data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es of pointer data that will need to be modified in the merged executab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.debug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sec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fo for symbolic debugging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 -g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137160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LF head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1752480"/>
            <a:ext cx="2971800" cy="6098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gram heade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required for executabl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67280" y="236232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text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274320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data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3124080"/>
            <a:ext cx="2971800" cy="38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bss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350532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symta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388620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rel.t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4267080"/>
            <a:ext cx="2971800" cy="38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rel.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464832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debu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5029200"/>
            <a:ext cx="2971800" cy="6094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ction heade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required for relocatabl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840880" y="12193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ple C Progra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62640" y="1979640"/>
            <a:ext cx="2100960" cy="17398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e=7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 = a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0)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65880" y="160956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83640" y="160956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79320" y="1928880"/>
            <a:ext cx="2649600" cy="2562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tern int e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ep=&amp;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=15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()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*ep+x+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74720" y="228600"/>
            <a:ext cx="7594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rging Relocatable Object Files into an Executable Object Fi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3701880"/>
            <a:ext cx="1981080" cy="5335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0840" y="3948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548640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ep = &amp;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4952880"/>
            <a:ext cx="1981080" cy="5335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6000" y="5427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89720" y="478620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e = 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89720" y="2309760"/>
            <a:ext cx="1981080" cy="3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89720" y="2957400"/>
            <a:ext cx="1981080" cy="5335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89720" y="3490920"/>
            <a:ext cx="1981080" cy="5335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86600" y="20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2057400"/>
            <a:ext cx="1981080" cy="5335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ystem 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89720" y="501480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ep = &amp;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423540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e = 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259092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ystem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89720" y="4024440"/>
            <a:ext cx="1981080" cy="5331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ore system 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571500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 = 1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5943600"/>
            <a:ext cx="1981080" cy="2286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89720" y="455760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ystem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89720" y="524340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 = 1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0560" y="1447920"/>
            <a:ext cx="28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locatable Object Fi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4840" y="146196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ecutable Object Fi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47120" y="2271600"/>
            <a:ext cx="304560" cy="2224080"/>
          </a:xfrm>
          <a:custGeom>
            <a:avLst/>
            <a:gdLst>
              <a:gd name="textAreaLeft" fmla="*/ 0 w 304560"/>
              <a:gd name="textAreaRight" fmla="*/ 109800 w 304560"/>
              <a:gd name="textAreaTop" fmla="*/ 57960 h 2224080"/>
              <a:gd name="textAreaBottom" fmla="*/ 2166120 h 22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104320" y="3149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tex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55960" y="21128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tex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71800" y="24782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71800" y="37418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tex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71800" y="4154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0245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tex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71800" y="54817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71800" y="5862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bss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89720" y="5715000"/>
            <a:ext cx="19810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symta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debu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47120" y="4557600"/>
            <a:ext cx="304560" cy="914400"/>
          </a:xfrm>
          <a:custGeom>
            <a:avLst/>
            <a:gdLst>
              <a:gd name="textAreaLeft" fmla="*/ 0 w 304560"/>
              <a:gd name="textAreaRight" fmla="*/ 10980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04320" y="47815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89720" y="5486400"/>
            <a:ext cx="1981080" cy="2286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ninitialized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23760" y="5405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b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4191120"/>
            <a:ext cx="121932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38480" y="3124080"/>
            <a:ext cx="1219320" cy="53352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038480" y="4800240"/>
            <a:ext cx="121932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89720" y="2633760"/>
            <a:ext cx="1981080" cy="3189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ystem 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locating Symbols and Resolving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ternal Referenc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15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ymbol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are lexical entities that name functions and variable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symbol has a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valu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(typically a memory address)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 consists of symbol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efinition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eferenc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ferences can be eithe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local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4"/>
                </a:solidFill>
                <a:latin typeface="Arial"/>
              </a:rPr>
              <a:t>or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xternal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27720" y="3130560"/>
            <a:ext cx="2100960" cy="17398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e=7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 = a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0)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30960" y="276084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10760" y="276084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06080" y="3079800"/>
            <a:ext cx="2649600" cy="2562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tern int e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ep=&amp;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=15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()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*ep+x+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0" y="3349800"/>
            <a:ext cx="2514600" cy="642600"/>
            <a:chOff x="0" y="3349800"/>
            <a:chExt cx="2514600" cy="642600"/>
          </a:xfrm>
        </p:grpSpPr>
        <p:sp>
          <p:nvSpPr>
            <p:cNvPr id="210" name=""/>
            <p:cNvSpPr/>
            <p:nvPr/>
          </p:nvSpPr>
          <p:spPr>
            <a:xfrm>
              <a:off x="0" y="33498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ef of local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1295280" y="3425760"/>
              <a:ext cx="1219320" cy="3081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0400" y="4568760"/>
            <a:ext cx="2207880" cy="1722960"/>
            <a:chOff x="230400" y="4568760"/>
            <a:chExt cx="2207880" cy="1722960"/>
          </a:xfrm>
        </p:grpSpPr>
        <p:sp>
          <p:nvSpPr>
            <p:cNvPr id="213" name=""/>
            <p:cNvSpPr/>
            <p:nvPr/>
          </p:nvSpPr>
          <p:spPr>
            <a:xfrm>
              <a:off x="230400" y="5100480"/>
              <a:ext cx="1831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f to external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 exi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(defined in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libc.so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371600" y="4568760"/>
              <a:ext cx="1066680" cy="5335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477120" y="3719520"/>
            <a:ext cx="2519640" cy="916920"/>
            <a:chOff x="6477120" y="3719520"/>
            <a:chExt cx="2519640" cy="916920"/>
          </a:xfrm>
        </p:grpSpPr>
        <p:sp>
          <p:nvSpPr>
            <p:cNvPr id="216" name=""/>
            <p:cNvSpPr/>
            <p:nvPr/>
          </p:nvSpPr>
          <p:spPr>
            <a:xfrm>
              <a:off x="7741440" y="3719520"/>
              <a:ext cx="1255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f to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externa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6477120" y="3872880"/>
              <a:ext cx="1295280" cy="307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887640" y="3882600"/>
            <a:ext cx="1827360" cy="1799640"/>
            <a:chOff x="3887640" y="3882600"/>
            <a:chExt cx="1827360" cy="1799640"/>
          </a:xfrm>
        </p:grpSpPr>
        <p:sp>
          <p:nvSpPr>
            <p:cNvPr id="219" name=""/>
            <p:cNvSpPr/>
            <p:nvPr/>
          </p:nvSpPr>
          <p:spPr>
            <a:xfrm>
              <a:off x="3887640" y="4491000"/>
              <a:ext cx="1044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ef o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ocal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p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4572000" y="3882600"/>
              <a:ext cx="1143000" cy="11430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867280" y="4264200"/>
            <a:ext cx="3200400" cy="1648440"/>
            <a:chOff x="5867280" y="4264200"/>
            <a:chExt cx="3200400" cy="1648440"/>
          </a:xfrm>
        </p:grpSpPr>
        <p:sp>
          <p:nvSpPr>
            <p:cNvPr id="222" name=""/>
            <p:cNvSpPr/>
            <p:nvPr/>
          </p:nvSpPr>
          <p:spPr>
            <a:xfrm>
              <a:off x="7772400" y="472140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efs of local 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s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and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5867280" y="4264200"/>
              <a:ext cx="1905120" cy="9172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019920" y="5330520"/>
            <a:ext cx="2117160" cy="1177920"/>
            <a:chOff x="6019920" y="5330520"/>
            <a:chExt cx="2117160" cy="1177920"/>
          </a:xfrm>
        </p:grpSpPr>
        <p:sp>
          <p:nvSpPr>
            <p:cNvPr id="225" name=""/>
            <p:cNvSpPr/>
            <p:nvPr/>
          </p:nvSpPr>
          <p:spPr>
            <a:xfrm>
              <a:off x="6019920" y="5865840"/>
              <a:ext cx="211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fs of local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s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p,x,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6866640" y="5330520"/>
              <a:ext cx="0" cy="6094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801320" y="5025600"/>
            <a:ext cx="1245960" cy="1603080"/>
            <a:chOff x="4801320" y="5025600"/>
            <a:chExt cx="1245960" cy="1603080"/>
          </a:xfrm>
        </p:grpSpPr>
        <p:sp>
          <p:nvSpPr>
            <p:cNvPr id="228" name=""/>
            <p:cNvSpPr/>
            <p:nvPr/>
          </p:nvSpPr>
          <p:spPr>
            <a:xfrm>
              <a:off x="4801320" y="5711760"/>
              <a:ext cx="124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ef o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ocal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410080" y="5025600"/>
              <a:ext cx="152640" cy="7635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078280" y="4263840"/>
            <a:ext cx="1831320" cy="1784160"/>
            <a:chOff x="2078280" y="4263840"/>
            <a:chExt cx="1831320" cy="1784160"/>
          </a:xfrm>
        </p:grpSpPr>
        <p:sp>
          <p:nvSpPr>
            <p:cNvPr id="231" name=""/>
            <p:cNvSpPr/>
            <p:nvPr/>
          </p:nvSpPr>
          <p:spPr>
            <a:xfrm>
              <a:off x="2078280" y="5405400"/>
              <a:ext cx="183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f to external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895480" y="4263840"/>
              <a:ext cx="457200" cy="11430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m.o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Relocation Info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37840" y="1295280"/>
            <a:ext cx="5667120" cy="277092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isassembly of section .text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0000000 &lt;main&gt;: 00000000 &lt;main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:   55              pushl  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:   89 e5           movl   %esp,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3:   e8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fc ff ff ff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call   4 &lt;main+0x4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4: R_386_PC32   a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:   6a 00           pushl  $0x0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:   e8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fc ff ff ff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call   b &lt;main+0xb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b: R_386_PC32   exit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:   90              nop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8320" y="4572000"/>
            <a:ext cx="3838320" cy="13107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isassembly of section .data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0000000 &lt;e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:   </a:t>
            </a:r>
            <a:r>
              <a:rPr b="1" lang="en-US" sz="1600" spc="-1" strike="noStrike">
                <a:solidFill>
                  <a:srgbClr val="000004"/>
                </a:solidFill>
                <a:latin typeface="Courier New"/>
              </a:rPr>
              <a:t>07 00 00 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7320" y="6095880"/>
            <a:ext cx="182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ource: objdum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8760" y="1295280"/>
            <a:ext cx="2100960" cy="17398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4"/>
                </a:solidFill>
                <a:latin typeface="Courier New"/>
              </a:rPr>
              <a:t>e=7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 = a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0)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7080" y="93492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72200" y="2832120"/>
            <a:ext cx="2616120" cy="25416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72200" y="3568680"/>
            <a:ext cx="2616120" cy="25416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a.o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Relocation Info (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.tex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30760" y="100008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6440" y="1319040"/>
            <a:ext cx="2649600" cy="2562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tern int e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ep=&amp;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=15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()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*ep+x+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52680" y="1295280"/>
            <a:ext cx="5639040" cy="4474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isassembly of section .text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0000000 &lt;a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:   55              pushl  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:   8b 15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0 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movl   0x0,%ed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: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3: R_386_32     e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7:   a1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0 00 00 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movl   0x0,%ea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8: R_386_32     x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:   89 e5           movl   %esp,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:   03 02           addl   (%edx),%ea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0:   89 ec           movl   %ebp,%es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2:   03 05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0 00 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addl   0x0,%ea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7: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14: R_386_32    y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8:   5d              popl   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9:   c3              ret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72200" y="2806560"/>
            <a:ext cx="2616120" cy="25416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72200" y="3301920"/>
            <a:ext cx="2616120" cy="25416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72200" y="4775040"/>
            <a:ext cx="2616120" cy="25416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a.o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Relocation Info (.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data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0760" y="100008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6440" y="1319040"/>
            <a:ext cx="2649600" cy="2562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tern int e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ep=&amp;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=15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()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*ep+x+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94240" y="1295280"/>
            <a:ext cx="5371920" cy="1797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isassembly of section .data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0000000 &lt;ep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: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0 00 00 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: R_386_32     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0000004 &lt;x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4:   0f 00 00 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72200" y="2336760"/>
            <a:ext cx="2616120" cy="25416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03040" y="266400"/>
            <a:ext cx="8918640" cy="1135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able After Relocation and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ternal Reference Resolution (.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tex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79400" y="1685880"/>
            <a:ext cx="7495920" cy="4961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8048530 &lt;main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30:       55              pushl  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31:       89 e5           movl   %esp,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33:       e8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8 00 00 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call   8048540 &lt;a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38:       6a 00           pushl  $0x0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3a:       e8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35 ff ff ff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call   8048474 &lt;_init+0x94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3f:       90              nop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8048540 &lt;a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40:       55              pushl  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41:       8b 15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1c a0 04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movl   0x804a01c,%ed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46: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8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47:       a1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20 a0 04 08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movl   0x804a020,%ea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4c:       89 e5           movl   %esp,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4e:       03 02           addl   (%edx),%ea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50:       89 ec           movl   %ebp,%es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52:       03 05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d0 a3 04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addl   0x804a3d0,%ea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57: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8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58:       5d              popl   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59:       c3              re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6960" y="228240"/>
            <a:ext cx="869148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able After Relocation and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ternal Reference Resolution(.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data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86200" y="1828800"/>
            <a:ext cx="3809880" cy="3501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isassembly of section .data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804a018 &lt;e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a018:       07 00 00 00                                    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804a01c &lt;ep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a01c: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18 a0 04 08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            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804a020 &lt;x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a020:       0f 00 00 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8760" y="1676520"/>
            <a:ext cx="2100960" cy="17398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e=7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 = a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0)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7080" y="131616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5360" y="352584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2400" y="3844800"/>
            <a:ext cx="2649600" cy="2562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tern int e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ep=&amp;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=15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()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*ep+x+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rong and Weak Symbol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 symbols are either strong or wea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tron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procedures and initialized globa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wea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uninitialized globa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54120" y="3133800"/>
            <a:ext cx="1552320" cy="11912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oo=5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969440" y="3133800"/>
            <a:ext cx="1278000" cy="11912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oo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56280" y="2763720"/>
            <a:ext cx="72936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70880" y="2763720"/>
            <a:ext cx="72936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54520" y="36576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ro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638680" y="3886200"/>
            <a:ext cx="9144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2440" y="31240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ea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095880" y="3352680"/>
            <a:ext cx="9144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6320" y="36720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ro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600200" y="3886200"/>
            <a:ext cx="91440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6320" y="31384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ro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600200" y="3352680"/>
            <a:ext cx="91440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ker Puzz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7960" y="238140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9440" y="238752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7960" y="3295800"/>
            <a:ext cx="1034280" cy="8240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y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09800" y="3301920"/>
            <a:ext cx="127800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ouble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4160" y="4344840"/>
            <a:ext cx="1155960" cy="8240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=7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y=5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35080" y="4344840"/>
            <a:ext cx="127800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ouble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4160" y="5411880"/>
            <a:ext cx="115596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=7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8040" y="541188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3800" y="139068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25280" y="139716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3143160"/>
            <a:ext cx="76964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4199040"/>
            <a:ext cx="7696440" cy="111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5265720"/>
            <a:ext cx="7696440" cy="111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152800"/>
            <a:ext cx="76964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ker’s Symbol Ru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ule 1. A strong symbol  can only appear onc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ule 2. A weak symbol  can be overridden by a strong symbol of the same nam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ferences to the weak symbol resolve to the strong symbol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ule 3. If there are multiple weak symbols, the linker can pick an arbitrary on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ker Puzz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97960" y="202896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09440" y="203508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7960" y="2943360"/>
            <a:ext cx="1034280" cy="8240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y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09800" y="2949480"/>
            <a:ext cx="127800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ouble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14160" y="3992400"/>
            <a:ext cx="1155960" cy="8240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=7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y=5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77840" y="3992400"/>
            <a:ext cx="127800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ouble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4160" y="5059440"/>
            <a:ext cx="115596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=7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38040" y="505944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13800" y="103824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25280" y="104472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01320" y="1168560"/>
            <a:ext cx="40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ink time error: two strong symbols (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73960" y="2022480"/>
            <a:ext cx="451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ferences to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will refer to the sam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initialized int. Is this what you really want?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97360" y="3057480"/>
            <a:ext cx="357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rites to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in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might overwrite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y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vil!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00240" y="4003560"/>
            <a:ext cx="341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rites to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in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ill overwrite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y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asty!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635760" y="5022720"/>
            <a:ext cx="8016840" cy="1473120"/>
            <a:chOff x="635760" y="5022720"/>
            <a:chExt cx="8016840" cy="1473120"/>
          </a:xfrm>
        </p:grpSpPr>
        <p:sp>
          <p:nvSpPr>
            <p:cNvPr id="293" name=""/>
            <p:cNvSpPr/>
            <p:nvPr/>
          </p:nvSpPr>
          <p:spPr>
            <a:xfrm>
              <a:off x="635760" y="5915160"/>
              <a:ext cx="7876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ightmare scenario: two identical weak structs, compiled by different compiler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ith different alignment rules.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902760" y="5022720"/>
              <a:ext cx="4749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ferences to 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x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will refer to the same initialize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riable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609480" y="2790720"/>
            <a:ext cx="76964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3846600"/>
            <a:ext cx="7696440" cy="111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480" y="4913280"/>
            <a:ext cx="7696440" cy="111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1800360"/>
            <a:ext cx="76964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ckaging  Commonly Used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How to package functions commonly used by programmers?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th, I/O, memory management, string manipulation, etc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Awkward, given the linker framework so far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ption 1: Put all functions in a single source fi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rogrammers link big object file into their program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pace and time inefficien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ption 2: Put each function in a separate source fi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rogrammers explicitly link appropriate binaries into their program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ore efficient, but burdensome on the programmer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olution: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tatic libraries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(.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a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4"/>
                </a:solidFill>
                <a:latin typeface="Arial"/>
              </a:rPr>
              <a:t>archive files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catenate related relocatable object files into a single file with an index (called an archive)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nhance linker so that it tries to resolve unresolved external references by looking for the symbols in one or more archive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f an archive member file resolves reference, link into executabl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tic Libraries (archives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00200" y="15238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14400" y="1893960"/>
            <a:ext cx="13716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19680" y="1219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51360" y="2590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90920" y="1893960"/>
            <a:ext cx="13716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27880" y="1219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2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27880" y="2590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2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76720" y="15238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28600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76720" y="228600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00200" y="2895480"/>
            <a:ext cx="762120" cy="3049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276720" y="28954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724280" y="2590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c.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3886200" y="2895480"/>
            <a:ext cx="838080" cy="3049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1320" y="232092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tatic library (archive) of relocatable object files concatenated into one file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657600" y="373212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xecutable object file (only contains code and data for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 libc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functions that are called from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p1.c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p2.c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90720" y="487692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urther improves modularity and efficiency by packaging commonly used functions [e.g., C standard library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, math library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m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ker selectively only th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o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iles in the archive that are actually needed by the program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52480" y="3276720"/>
            <a:ext cx="29718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ker (ld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5520" y="3962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54400" y="366876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reating Static Librar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160020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1969920"/>
            <a:ext cx="13716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8080" y="1295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toi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22400" y="2666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toi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62320" y="1969920"/>
            <a:ext cx="13716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361600" y="12952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380680" y="26668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48120" y="160020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71600" y="236232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48120" y="236232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48120" y="3044880"/>
            <a:ext cx="0" cy="471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77960" y="4354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c.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3962520" y="2982960"/>
            <a:ext cx="129528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05120" y="3516480"/>
            <a:ext cx="29718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chiver (ar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962520" y="183996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648320" y="1981080"/>
            <a:ext cx="13716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647600" y="13064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ando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66680" y="26780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andom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34120" y="161136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34120" y="237348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371600" y="2982960"/>
            <a:ext cx="12193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72120" y="344016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r rs libc.a \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toi.o printf.o … random.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8120" y="395928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19320" y="5149800"/>
            <a:ext cx="716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chiver allows incremental updates: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compile function that changes and replace .o file in archive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43434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 standard libra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monly Used Librar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5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libc.a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(the C standard library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8 MB archive of 900 object file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/O, memory allocation, signal handling, string handling, data and time, random numbers, integer math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libm.a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(the C math library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 MB archive of 226 object files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loating point math (sin, cos, tan, log, exp, sqrt, …)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5120" y="3584520"/>
            <a:ext cx="3960360" cy="301428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% ar -t /usr/lib/libc.a | sor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k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…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rintf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u_control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utc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open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scanf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seek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stab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84840" y="3594240"/>
            <a:ext cx="3960360" cy="301428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% ar -t /usr/lib/libm.a | sor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cos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cosf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cosh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coshf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coshl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cosl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sin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sinf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sinl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ing Static Librar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413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nker’s algorithm for resolving external referenc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can .o files and .a files in the command line ord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uring the scan, keep a list of the current unresolved referenc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 each new .o or .a file obj is encountered, try to resolve each unresolved reference in the list against the symbols in obj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any entries in the unresolved list at end of scan, then erro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blem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mand line order matters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ral: put libraries at the end of the command line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126080" y="5295960"/>
            <a:ext cx="6764400" cy="106740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gcc -L. libtest.o -lmin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gcc -L. -lmine libtest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btest.o: In function `main'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btest.o(.text+0x4): undefined reference to `libfun'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ading Executable Binar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9480" y="1600200"/>
            <a:ext cx="2971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LF head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9480" y="1981080"/>
            <a:ext cx="297180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gram heade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required for executabl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2590920"/>
            <a:ext cx="2971800" cy="3808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text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480" y="2971800"/>
            <a:ext cx="2971800" cy="38088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data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9480" y="3352680"/>
            <a:ext cx="2971800" cy="38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bss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9480" y="3733920"/>
            <a:ext cx="2971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symta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4114800"/>
            <a:ext cx="2971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rel.t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9480" y="4495680"/>
            <a:ext cx="297180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rel.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4876920"/>
            <a:ext cx="2971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debu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5257800"/>
            <a:ext cx="29718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ction heade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required for relocatabl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83080" y="1447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952880" y="3276720"/>
            <a:ext cx="1905120" cy="6094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text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gm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r/o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952880" y="4267080"/>
            <a:ext cx="1905120" cy="60984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data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gm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initialized r/w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952880" y="5334120"/>
            <a:ext cx="1905120" cy="6094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bss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gm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uninitialized r/w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581280" y="2743200"/>
            <a:ext cx="1295640" cy="838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81280" y="3200400"/>
            <a:ext cx="1295640" cy="12952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581280" y="3581280"/>
            <a:ext cx="1295640" cy="2057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93360" y="990720"/>
            <a:ext cx="263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ecutable object file for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ample program 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032080" y="1905120"/>
            <a:ext cx="161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 imag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320040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804849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52880" y="2286000"/>
            <a:ext cx="190512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it and shared li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gmen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934320" y="22096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80483e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31360" y="1797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irtual add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934320" y="418464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804a0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34320" y="51814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804a3b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hared Librar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tatic libraries have the following disadvantages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otential for duplicating  lots of common code in the executable files on a filesystem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.g., every C program needs the standard C library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otential for duplicating lots of code in the virtual memory space of many processes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nor bug fixes of system libraries require each application to explicitly relink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olution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hared librarie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(dynamic link libraries, DLLs) whose members are dynamically loaded into memory and linked into an application at run-time.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ynamic linking can occur when executable is first loaded and run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mmon case for Linux, handled automatically by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d-linux.so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ynamic linking can also occur after program has begun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 Linux, this is done explicitly by user with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lopen().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asis for High-Performance Web Servers. 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hared library routines can be shared by multiple processes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ynamically Linked Shared Libraries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03880" y="5000760"/>
            <a:ext cx="376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libc.so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functions called by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nd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a.c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are loaded, linked, and (potentially) shared among processe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638680" y="3886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hared library of dynamically relocatable object fi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96920" y="12952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77920" y="1665360"/>
            <a:ext cx="1504800" cy="63756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cc1, a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93080" y="990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93080" y="2655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987640" y="1665360"/>
            <a:ext cx="1523880" cy="63756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cc1,a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69240" y="990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369240" y="2655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73440" y="12952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96920" y="235116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673440" y="235116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96920" y="2960640"/>
            <a:ext cx="762120" cy="3049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673440" y="296064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355640" y="39434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c.s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4191120" y="4343400"/>
            <a:ext cx="6127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49560" y="3341520"/>
            <a:ext cx="29718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ker (ld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490560" y="4027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09680" y="4865760"/>
            <a:ext cx="2971800" cy="63756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ader/Dynamic Link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ld-linux.so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51120" y="3733920"/>
            <a:ext cx="648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657600" y="441972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651120" y="5532480"/>
            <a:ext cx="0" cy="658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57360" y="5889600"/>
            <a:ext cx="287964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Fully linked executable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’ (in memor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7080" y="4029120"/>
            <a:ext cx="324144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artially linked executable p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on dis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498480" y="6191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’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Simplistic Program Translation Schem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16800" y="4641840"/>
            <a:ext cx="7209000" cy="146556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blems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fficiency: small change requires complete recompil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odularity: hard to share common functions (e.g.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printf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tatic linker (or linker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213372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2514600"/>
            <a:ext cx="236232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74160" y="1752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95480" y="3214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28954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92520" y="175248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SCII source fi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18080" y="297180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inary executable object fi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memory image on dis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Complete Pi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854440" y="143820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168640" y="1808280"/>
            <a:ext cx="13716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47000" y="1133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47000" y="25052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44800" y="1808280"/>
            <a:ext cx="13716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223520" y="1133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23520" y="25052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30600" y="143820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54440" y="220032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30600" y="220032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854440" y="2809800"/>
            <a:ext cx="761760" cy="3049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530600" y="280980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127120" y="4029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c.s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800600" y="4334040"/>
            <a:ext cx="86040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006720" y="3267000"/>
            <a:ext cx="29718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tic Linker (ld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404960" y="40179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62320" y="4856040"/>
            <a:ext cx="4190760" cy="63756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ader/Dynamic Link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ld-linux.so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08640" y="3724200"/>
            <a:ext cx="612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441000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582520" y="251604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whatever.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5136840" y="2820960"/>
            <a:ext cx="82548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95680" y="54910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268160" y="5948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’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327360" y="4029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m.s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5791320" y="4334040"/>
            <a:ext cx="10699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Better Scheme Using a Link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19810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3733920"/>
            <a:ext cx="29718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ker (ld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351160"/>
            <a:ext cx="152388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71040" y="1676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47000" y="3048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2351160"/>
            <a:ext cx="152388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99840" y="1676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75800" y="3048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43200" y="4419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19810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274320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274320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3526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87920" y="412596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14880" y="2906640"/>
            <a:ext cx="298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eparately compiled relocatable object fi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52960" y="4189320"/>
            <a:ext cx="45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xecutable object file  (contains code and data for all functions defined in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m.c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a.c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33526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the Example Program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mpiler driver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coordinates all steps in the translation and linking process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ically included with each compilation system (e.g.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c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vokes preprocessor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p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, compiler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c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, assembler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,  and linker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l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sses command line arguments to appropriate phase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: create executabl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p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from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m.c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a.c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040" y="4145040"/>
            <a:ext cx="8547480" cy="2014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ass&gt; gcc -O2 -v -o p m.c a.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pp [args] m.c /tmp/cca07630.i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c1 /tmp/cca07630.i m.c -O2 [args] -o /tmp/cca07630.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s [args] -o /tmp/cca076301.o /tmp/cca07630.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lt;similar process for a.c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d -o p [system obj files] /tmp/cca076301.o /tmp/cca076302.o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ass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at Does a Linker Do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erges object fil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rges multiple relocatable (.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o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 object files into a single executable object file that can loaded and executed by the loader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Resolves external referenc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 part of the merging process, resolves external reference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External reference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: reference to a symbol defined in another object file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Relocates symbol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locates symbols from their relative locations in th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o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iles to new absolute positions in the executabl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s all references to these symbols to reflect their new position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ferences can be in either code or data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de: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();         /* reference to symbol a */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a: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*xp=&amp;x;  /* reference to symbol x */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y Linkers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dulari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 can be written as a collection of smaller source files, rather than one monolithic mas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build libraries of common functions (more on this later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Math library, standard C libra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fficienc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: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hange one source file, compile, and then relink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need to recompile other source fil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ace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braries of common functions can be aggregated into a single file..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Yet executable files and running memory images contain only code for the functions they actually use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493560"/>
            <a:ext cx="8153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able and Linkable Format (ELF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255160" cy="399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tandard binary format for object fil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rives from AT&amp;T System V Unix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ater adopted by BSD Unix variants and Linux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One unified format for 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4"/>
                </a:solidFill>
                <a:latin typeface="Arial"/>
              </a:rPr>
              <a:t>Relocatable object files (</a:t>
            </a:r>
            <a:r>
              <a:rPr b="1" lang="en-US" sz="1800" spc="-1" strike="noStrike">
                <a:solidFill>
                  <a:srgbClr val="000004"/>
                </a:solidFill>
                <a:latin typeface="Courier New"/>
              </a:rPr>
              <a:t>.o</a:t>
            </a:r>
            <a:r>
              <a:rPr b="1" lang="en-US" sz="1800" spc="-1" strike="noStrike">
                <a:solidFill>
                  <a:srgbClr val="000004"/>
                </a:solidFill>
                <a:latin typeface="Arial"/>
              </a:rPr>
              <a:t>),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4"/>
                </a:solidFill>
                <a:latin typeface="Arial"/>
              </a:rPr>
              <a:t>Executable object fil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4"/>
                </a:solidFill>
                <a:latin typeface="Arial"/>
              </a:rPr>
              <a:t>Shared object files (.</a:t>
            </a:r>
            <a:r>
              <a:rPr b="1" lang="en-US" sz="1800" spc="-1" strike="noStrike">
                <a:solidFill>
                  <a:srgbClr val="000004"/>
                </a:solidFill>
                <a:latin typeface="Courier New"/>
              </a:rPr>
              <a:t>so</a:t>
            </a:r>
            <a:r>
              <a:rPr b="1" lang="en-US" sz="1800" spc="-1" strike="noStrike">
                <a:solidFill>
                  <a:srgbClr val="000004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Generic name: ELF binari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Better support for shared libraries than old 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a.out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formats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LF Object File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55767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lf header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gic number, type (.o, exec, .so), machine, byte ordering, etc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ogram header tabl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ge size, virtual addresses memory segments (sections), segment size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.text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sec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.data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sec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itialized (static) data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.bss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sec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ninitialized (static) data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lock Started by Symbol”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tter Save Space”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s section header but occupies no spac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37160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LF head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1752480"/>
            <a:ext cx="2971800" cy="6098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gram heade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required for executabl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236232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text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74320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data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3124080"/>
            <a:ext cx="2971800" cy="38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bss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50532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symta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388620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rel.t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4267080"/>
            <a:ext cx="2971800" cy="38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rel.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67280" y="464832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debu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5029200"/>
            <a:ext cx="2971800" cy="6094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ction heade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required for relocatabl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840880" y="1219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8:51Z</dcterms:created>
  <dc:creator>Randal E.  Bryant and David R. O'Hallaron</dc:creator>
  <dc:description/>
  <dc:language>en-US</dc:language>
  <cp:lastModifiedBy>droh</cp:lastModifiedBy>
  <cp:lastPrinted>2001-10-04T12:22:59Z</cp:lastPrinted>
  <dcterms:modified xsi:type="dcterms:W3CDTF">2002-10-28T20:33:11Z</dcterms:modified>
  <cp:revision>358</cp:revision>
  <dc:subject/>
  <dc:title>Linking</dc:title>
</cp:coreProperties>
</file>