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F6A6A354-FDC0-4961-A6D9-9EC479B70D2C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Measureme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val coun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 cou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-best measurement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9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uracy of Interval Coun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3120" y="3352680"/>
            <a:ext cx="8282160" cy="28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st Cas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r Interval 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ocess segment measurement can be off b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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 on error for multiple seg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uld consistently underestimate, or consistently overestim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01720" y="1057320"/>
            <a:ext cx="2754360" cy="1376280"/>
            <a:chOff x="801720" y="1057320"/>
            <a:chExt cx="2754360" cy="1376280"/>
          </a:xfrm>
        </p:grpSpPr>
        <p:sp>
          <p:nvSpPr>
            <p:cNvPr id="328" name=""/>
            <p:cNvSpPr/>
            <p:nvPr/>
          </p:nvSpPr>
          <p:spPr>
            <a:xfrm>
              <a:off x="80172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4444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889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334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7800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2108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560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097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542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876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264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264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064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8696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95480" y="1171440"/>
            <a:ext cx="2144520" cy="3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192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746360"/>
            <a:ext cx="266724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192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5956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9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uracy of Int. Cntg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3120" y="3429000"/>
            <a:ext cx="8282160" cy="27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verage Cas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/underestimates tend to balance o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long as total run time is sufficientl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 run time ~1 seco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istently miss 4% overhead due to timer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01720" y="1057320"/>
            <a:ext cx="2754360" cy="1376280"/>
            <a:chOff x="801720" y="1057320"/>
            <a:chExt cx="2754360" cy="1376280"/>
          </a:xfrm>
        </p:grpSpPr>
        <p:sp>
          <p:nvSpPr>
            <p:cNvPr id="407" name=""/>
            <p:cNvSpPr/>
            <p:nvPr/>
          </p:nvSpPr>
          <p:spPr>
            <a:xfrm>
              <a:off x="80172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4444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889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34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800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2108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6560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97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542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876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264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3264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6064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696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95480" y="1171440"/>
            <a:ext cx="2144520" cy="3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3192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746360"/>
            <a:ext cx="266724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192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5956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34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 Cou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3120" y="1371240"/>
            <a:ext cx="8282160" cy="11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modern systems have built in registers that are 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fine gra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ed as part of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623880" indent="-88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Linux, counts elapsed global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assembly code instruction to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(recent model) Intel machin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 coun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DTSC instruction set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high order 32-bits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low order 32-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34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 Counter Perio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3120" y="1371240"/>
            <a:ext cx="8282160" cy="11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 Around Times for 550 MHz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w order 32 bits wrap around every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/ (550 *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= 7.8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order 64 bits wrap around every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/ (550 *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= 33539534679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65 yea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2 GHz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w order 32-bits every 2.1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order 64 bits every 293 yea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24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with Cycle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3120" y="1142640"/>
            <a:ext cx="8282160" cy="14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current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99120" indent="-145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as pair of unsigned’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yc_h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yc_l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ome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new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double precision subtraction to get elapsed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3657600"/>
            <a:ext cx="71625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Keep track of most recent reading of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urrent value of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the Cycle Cntr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15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CC allows inline assembly code with mechanism for matching registers with program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only works on x86 machine compiling with GC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mit assembly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dts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tw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2286000"/>
            <a:ext cx="716256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St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assembly comm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parated by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or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%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where normally would use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2280" y="32000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s indicating destinations for valu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20760" indent="-66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losed in parenthe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20760" indent="-66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447840" indent="-63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that can appear on LHS of assign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"=r"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symbolic valu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, should be replaced by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11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put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15640" indent="-71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expressions indicating sources for valu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32280" indent="-68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losed in parenthe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32280" indent="-68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 expression returning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15640" indent="-71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"r"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symbolic valu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 will come from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6000"/>
          </a:bodyPr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bbers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67840" indent="-88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of register names that get altered by assembly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67840" indent="-88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will make sure doesn’t store something in one of these registers that must be preserved acro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12560" indent="-85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set before &amp; used af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%edx", "%eax"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348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405144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wo Fundamental Time Sca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ternal event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–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eyboard inpu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isk see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reen refres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44920" y="4190760"/>
            <a:ext cx="407664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mpli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execute many instructions while waiting for external event to occu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alternate among processes without anyone notic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1219320"/>
            <a:ext cx="7696440" cy="2571480"/>
            <a:chOff x="838080" y="1219320"/>
            <a:chExt cx="7696440" cy="2571480"/>
          </a:xfrm>
        </p:grpSpPr>
        <p:sp>
          <p:nvSpPr>
            <p:cNvPr id="85" name=""/>
            <p:cNvSpPr/>
            <p:nvPr/>
          </p:nvSpPr>
          <p:spPr>
            <a:xfrm>
              <a:off x="838080" y="1219320"/>
              <a:ext cx="7696440" cy="2571480"/>
            </a:xfrm>
            <a:prstGeom prst="rect">
              <a:avLst/>
            </a:pr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219320"/>
              <a:ext cx="7696440" cy="2571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84400" y="1692360"/>
              <a:ext cx="684504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4616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248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5096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2360" y="2751120"/>
              <a:ext cx="10188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0412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0360" y="2751120"/>
              <a:ext cx="10188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184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6840" y="1355760"/>
              <a:ext cx="26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 Scale (1 Ghz Machine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368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9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9176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100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34240" y="3281400"/>
              <a:ext cx="57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+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12760" y="3352680"/>
              <a:ext cx="148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(seconds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3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1160" y="299232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59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00840" y="29941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7640" y="29764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18640" y="2994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45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48320" y="299232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31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8840" y="299232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8800" y="1943280"/>
              <a:ext cx="971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47000" y="200196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er Ad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63720" y="2171880"/>
              <a:ext cx="93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53360" y="223056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P Multipl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49520" y="2400480"/>
              <a:ext cx="844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39880" y="2459160"/>
              <a:ext cx="77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P Divid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7920" y="20955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724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1440" y="23241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6400" y="2247840"/>
              <a:ext cx="86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04960" y="230652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04600" y="248904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rup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07120" y="26719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780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69240" y="1943280"/>
              <a:ext cx="1014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57440" y="2001960"/>
              <a:ext cx="9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k Acces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01000" y="2171880"/>
              <a:ext cx="12412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88120" y="2230560"/>
              <a:ext cx="124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een Refres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97840" y="2400480"/>
              <a:ext cx="861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6040" y="245916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88000" y="20955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4520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2920" y="23241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7920" y="17146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35720" y="17146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2200" y="1387440"/>
              <a:ext cx="1122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0760" y="14461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icroscopi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57840" y="1409760"/>
              <a:ext cx="1181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46040" y="14684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croscopi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440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09720" y="2930400"/>
              <a:ext cx="752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248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604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8780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1360" y="2930400"/>
              <a:ext cx="752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412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6768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236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20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162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98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22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400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20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792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9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14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38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74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56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9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the Cycle Cntr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3120" y="1371600"/>
            <a:ext cx="82821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mitted Assembl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h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replac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l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replac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value that must be carried across inserted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2057400"/>
            <a:ext cx="7467480" cy="201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s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h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AP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dtsc; movl %edx,%ecx; movl %eax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NO_AP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(%esi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high bits at *h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di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low bits at *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723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leting Measu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3120" y="1371600"/>
            <a:ext cx="82821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new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double precision subtraction to get elapsed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void overflow probl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14400" y="3048120"/>
            <a:ext cx="7162920" cy="3014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ncyc_hi, ncyc_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662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ing With Cycle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rmine Clock Rate of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number of cycles required for some fixed number of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Function 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attempt: Simply count cycles for one execution of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5029200"/>
            <a:ext cx="655308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2514600"/>
            <a:ext cx="655308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625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Pitf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_counter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urs small amount of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nt to measure long enough code sequence to compens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expected Cache Effec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tificial hits or mi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these measurements were taken with the Alpha cycle count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1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68,829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2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23,337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2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70,513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1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23,203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62080" y="334800"/>
            <a:ext cx="888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Overhead &amp; Cache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execute function once to “warm up”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oubling number of times execute P() until reach some thresho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CMIN = 500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14400" y="2666880"/>
            <a:ext cx="7010280" cy="35010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nt = 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cmeas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 =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Warm up cach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c--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eas = ge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ycles = cmeas /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 +=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while (cmeas &lt; CMIN);  /* Make sure have enough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ycles / (1e6 * MHZ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tasking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ycle Counter Measures Elapsed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s accumulating during periods of inac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ac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unning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 counter never underestimates program ru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ly overestimates by large amou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-Best Measurement Sche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up to N (e.g., 20) measurements of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if fastest K (e.g., 3) within some relative factor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0.00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5729400"/>
            <a:ext cx="6400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81080" y="5653080"/>
            <a:ext cx="15264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180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11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81480" y="5653080"/>
            <a:ext cx="15264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2095560" y="576684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990720" y="565272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9200" y="6033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31156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0520" y="4800240"/>
            <a:ext cx="407664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ery good accuracy for &lt; 8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one timer interv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 when heavily load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21240" y="4800240"/>
            <a:ext cx="407664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~4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val clock interrupt handl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438280" y="152280"/>
          <a:ext cx="655344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655344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560" y="304560"/>
            <a:ext cx="302256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ensat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Tim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h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4500360"/>
            <a:ext cx="4433760" cy="16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btract Timer Overhea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stimate overhead of single interrupt by measuring periods of inactiv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 interval timer to determine number of interrupts that have occurr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38760" y="4500360"/>
            <a:ext cx="4076640" cy="16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Accuracy for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0.2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Still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971800" y="31680"/>
          <a:ext cx="61722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1680"/>
                    <a:ext cx="61722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160020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n 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5000760"/>
            <a:ext cx="4076640" cy="144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cceptable accuracy for &lt; 5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cheduler allows process to run multiple interv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21240" y="5000760"/>
            <a:ext cx="4076640" cy="144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2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Generally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09680" y="0"/>
          <a:ext cx="69343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0"/>
                    <a:ext cx="6934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722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of Day C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15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timeofday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elapsed time since reference time (Jan 1, 197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-142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s interval counting on som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arse grain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-142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s cycle counter on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e grained, but significant overhead and only 1 microsecond resolu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31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66680" y="3809880"/>
            <a:ext cx="6553440" cy="2527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ys/time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timeval tstart, tfinis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timeofday(&amp;tstar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timeofday(&amp;tfinish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secs = (tfinish.tv_sec - tstart.tv_sec) +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e6 * (tfinish.tv_usec - tstart.tv_usec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Challe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Much Time Does Program X Requir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many total seconds are used when executing X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asure used for most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mall dependence on other system activ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 (“Wall”)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many seconds elapse between the start and the completion of X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system load, I/O tim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founding Fa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es time get measur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processes share computing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ient effects when switching from one process to an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ddenly, the effects of alternating among processes become notice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6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timeofd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160" y="5257800"/>
            <a:ext cx="43578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good as using cycle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times &gt; 10 microsecon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21240" y="5257800"/>
            <a:ext cx="407664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54840" indent="-2163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ed by interval count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54840" indent="-2163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o coarse-grain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219320" y="685800"/>
          <a:ext cx="655308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6553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66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ing is highly case and system depend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overall duration being measur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 1 second: interval counting is O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lt;&lt; 1 second: must use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what hardware / OS / OS versi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ing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imeofda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implemen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imer interrup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ing poli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ising a Measurement Metho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ng durations: use Unix timing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du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possible,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ettimeofd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wise must work with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-best scheme most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” on a Computer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2680" y="1682640"/>
            <a:ext cx="55627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95200" y="177624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l (wall clock)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35728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70080" y="2233440"/>
            <a:ext cx="666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user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the user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46320" y="4626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268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93880" y="4626000"/>
            <a:ext cx="8892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4120" y="4654440"/>
            <a:ext cx="267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 real (wall clock)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03840" y="5111640"/>
            <a:ext cx="546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We will use the word “time” to refer to user tim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1143000"/>
            <a:ext cx="27936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1143000"/>
            <a:ext cx="279360" cy="355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1143000"/>
            <a:ext cx="279360" cy="355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119400"/>
            <a:ext cx="888840" cy="355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2995560"/>
            <a:ext cx="6669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system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kernel on behalf of user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2060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1800" y="4626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06360" y="3835440"/>
            <a:ext cx="889200" cy="3556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57480" y="3711600"/>
            <a:ext cx="668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some other user’s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different user’s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13640" y="57913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umulative user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8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ivity Periods: Light Lo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90520" y="4190760"/>
            <a:ext cx="4076640" cy="20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7040" indent="-2332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st of the time spent executing one proc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iodic interrupts every 10m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val ti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eep system from executing one process to exclusion of oth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21240" y="4190760"/>
            <a:ext cx="4076640" cy="20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interrup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e to I/O activ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activity perio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ystem time spent processing interrupt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~250,000 clock cycl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1440" y="2173320"/>
            <a:ext cx="55260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240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2200" y="2173320"/>
            <a:ext cx="761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2396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62120" y="2173320"/>
            <a:ext cx="3333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2173320"/>
            <a:ext cx="428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242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2400" y="2173320"/>
            <a:ext cx="77148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3388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72040" y="2173320"/>
            <a:ext cx="761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3380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71960" y="2173320"/>
            <a:ext cx="54288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14840" y="2173320"/>
            <a:ext cx="22860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434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81600" y="2173320"/>
            <a:ext cx="76212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4372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1440" y="3525840"/>
            <a:ext cx="646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17144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8108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9072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0036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1000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1028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1992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82956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3920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71440" y="1592280"/>
            <a:ext cx="1800" cy="19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525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592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9040" y="1697040"/>
            <a:ext cx="217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Periods, Load 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59920" y="36590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520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2484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3448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412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4440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5404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6368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332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2487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16880" y="3916440"/>
            <a:ext cx="84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m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5744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5736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6700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6720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7684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7712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62600" y="2239920"/>
            <a:ext cx="238320" cy="23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62600" y="2544840"/>
            <a:ext cx="238320" cy="23796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67520" y="2239920"/>
            <a:ext cx="69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13680" y="2297160"/>
            <a:ext cx="488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67520" y="2544840"/>
            <a:ext cx="819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15840" y="2602080"/>
            <a:ext cx="618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activ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ivity Periods: Heavy Lo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0520" y="4343400"/>
            <a:ext cx="830736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processor with one other active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perspective of this process, system appears to be “inactive” for ~50% of th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process is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09640" y="1266840"/>
            <a:ext cx="7886520" cy="2516040"/>
            <a:chOff x="809640" y="1266840"/>
            <a:chExt cx="7886520" cy="2516040"/>
          </a:xfrm>
        </p:grpSpPr>
        <p:sp>
          <p:nvSpPr>
            <p:cNvPr id="250" name=""/>
            <p:cNvSpPr/>
            <p:nvPr/>
          </p:nvSpPr>
          <p:spPr>
            <a:xfrm>
              <a:off x="914400" y="1847880"/>
              <a:ext cx="77148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880" y="1847880"/>
              <a:ext cx="3816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4040" y="1847880"/>
              <a:ext cx="1238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47880" y="1847880"/>
              <a:ext cx="6476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95520" y="1847880"/>
              <a:ext cx="83808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33600" y="1847880"/>
              <a:ext cx="30492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8520" y="1847880"/>
              <a:ext cx="46692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05440" y="1847880"/>
              <a:ext cx="84744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1847880"/>
              <a:ext cx="77148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1847880"/>
              <a:ext cx="83844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1847880"/>
              <a:ext cx="3524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15240" y="1847880"/>
              <a:ext cx="4190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34280" y="1847880"/>
              <a:ext cx="4752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3200400"/>
              <a:ext cx="646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91440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72404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53368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34332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5296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5288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6252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57216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38180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4400" y="1266840"/>
              <a:ext cx="1440" cy="19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85960" y="32004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5960" y="12668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12000" y="1371600"/>
              <a:ext cx="2176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y Periods, Load = 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02880" y="333360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5816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780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744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8708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8700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9664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0628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1592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9640" y="216216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59840" y="3591000"/>
              <a:ext cx="843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(ms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3836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792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4820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4812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776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804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796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72240" y="1914480"/>
              <a:ext cx="238320" cy="238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72240" y="2219400"/>
              <a:ext cx="238320" cy="237960"/>
            </a:xfrm>
            <a:prstGeom prst="rect">
              <a:avLst/>
            </a:prstGeom>
            <a:solidFill>
              <a:srgbClr val="4d4d4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77160" y="1914480"/>
              <a:ext cx="6955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23320" y="1971720"/>
              <a:ext cx="488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77160" y="2219400"/>
              <a:ext cx="819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25120" y="2276640"/>
              <a:ext cx="61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6078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val Coun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Measures Runtimes Using Interval Tim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ntain 2 counts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ime get timer interrupt, increment counter for executing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time if running in user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 if running in kernel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val Count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004320" cy="31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8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ime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omman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0520" y="3200040"/>
            <a:ext cx="8307360" cy="32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82 seconds user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30 seconds system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0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32 seconds wall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4.8% of total was used running these proces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.82+0.3)/1.32 = .84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01160" y="1219320"/>
            <a:ext cx="700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make osev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clo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options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load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o osevent osevent.c 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.820u 0.300s 0:01.32 84.8%     0+0k 0+0io 4049pf+0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5:44Z</dcterms:modified>
  <cp:revision>124</cp:revision>
  <dc:subject/>
  <dc:title>Time Measurement</dc:title>
</cp:coreProperties>
</file>