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CDB7559-D7F5-4FDD-B940-F2088D38C12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explicit alloca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i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124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als of Good malloc/fre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ary go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time performance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ally should take constant time (not always possib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certainly not take linear time in the number of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space util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allocated structures should be large fraction of the hea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nt to minimize “fragmentation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other go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locality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s allocated close in time should be close in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ilar” objects should be allocated close in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heck th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ee(p1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on a valid allocated objec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heck that memory references are to allocated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67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Goals: Through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 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nt to maximize throughput and peak memory utiliza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se goals are often conflic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oughpu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ompleted requests per unit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,000 malloc calls and 5,000 free calls in 10 second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ughput is 1,000 operations/secon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68580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Goals: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ak Memory Util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470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 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Aggregate payload P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(p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sults in a block with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ylo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.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ques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s completed,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ggregate paylo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sum of currently allocated paylo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Current heap size is denoted by H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tha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monotonically nondecre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Peak memory utiliza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quest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eak memory utiliza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= ( max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&lt;k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)  /  H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3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al Frag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15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oor memory utilization caused by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fragmentation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es in two forms: internal and external frag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ternal fragment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some block, internal fragmentation is the difference between the block size and the payload siz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used by overhead of maintaining heap data structures, padding for alignment purposes, or explicit policy decisions (e.g., not to split the block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pends only on the patter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eviou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quests, and thus is easy to measur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55960" y="3505320"/>
            <a:ext cx="2819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75480" y="3505320"/>
            <a:ext cx="7617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93840" y="3505320"/>
            <a:ext cx="76212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99480" y="342900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08280" y="3733920"/>
            <a:ext cx="76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4213080" y="1104480"/>
            <a:ext cx="304920" cy="4343400"/>
          </a:xfrm>
          <a:custGeom>
            <a:avLst/>
            <a:gdLst>
              <a:gd name="textAreaLeft" fmla="*/ 0 w 304920"/>
              <a:gd name="textAreaRight" fmla="*/ 11016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5160" y="2863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2840" y="350532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5240" y="38098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Frag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207180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07180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07180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07180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2760" y="1614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00480" y="29098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05040" y="29098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9960" y="29098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9098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1944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9280" y="290988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3384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3876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436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482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531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580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626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675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724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770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61080" y="2487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00480" y="374796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05040" y="374796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9960" y="374796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14880" y="374796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944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29280" y="374796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3384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3876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43680" y="374796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4824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58080" y="374796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6264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6756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72480" y="37479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77040" y="374796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0840" y="3325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45100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451008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451008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4560" y="412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2760" y="4967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31320" y="5272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0680" y="96840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ccurs when there is enough aggregate heap memory, but no sing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 is large en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0160" y="5692680"/>
            <a:ext cx="72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ternal fragmentation depends on the pattern of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futur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quests, 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us is difficult to measure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1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know how much memory to free just given a point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keep track of the free block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do we do with the extra space when allocating a structure that is smaller than the free block it is placed i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pick a block to use for allocation -- many might fi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insert freed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54244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1008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54244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626256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86920" y="512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18600" y="5861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527220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527220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nowing How Much to Fre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metho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the length of a block in the word preceding the bloc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s word is often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ader fiel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a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an extra word for every allocated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7280" y="52578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94680" y="39625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 = malloc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33920" y="3429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27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3429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146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578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77120" y="5791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0120" y="3962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572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146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19520" y="4572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4572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4572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4572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62720" y="4572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441972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77120" y="4572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3800" y="53341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19720" y="4876560"/>
            <a:ext cx="7596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9080" y="5334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4800240" y="4876560"/>
            <a:ext cx="30492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181480" y="4876560"/>
            <a:ext cx="53352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05520" y="487656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181480" y="4876560"/>
            <a:ext cx="22860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441972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4572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" y="1143000"/>
            <a:ext cx="8458200" cy="1447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gregated free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57400" y="347976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91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1: Implicit Lis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25516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to identify whether each block is free or allocat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extra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 can be put in the same word as the size if block sizes are always multiples of two (mask out low order bit when reading size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44640" y="39751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9120" y="3517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32560" y="45021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4640" y="43560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93400" y="389880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397512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5638680"/>
            <a:ext cx="16765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Finding a Free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irs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rch list from beginning, choose first free block that f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n take linear time in total number of blocks (allocated and fr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practice it can cause “splinters” at beginning of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ex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ke first-fit, but search list from location of end of previous sear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earch suggests that fragmentation is worse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es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rch the list, choose the free block with the closest size that f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Keeps fragments small --- usually helps frag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ll typically run slower than first-fi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38640" y="1978200"/>
            <a:ext cx="5423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sta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 &lt; end) ||    \\ not passed 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*p &amp; 1) ||     \\ already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*p &lt;= len));   \\ too small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sh Re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those based on complex, graph algorith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610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Allocating in Free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in a free block -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plitt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allocated space might be smaller than free space, we might want to split the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1880" y="3403440"/>
            <a:ext cx="8227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block(ptr p, int len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size = ((len + 1) &gt;&gt; 1) &lt;&lt; 1;  // add 1 and round u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ldsize = *p &amp; -2;                // mask out low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p = newsize | 1;                     // set new lengt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newsize &lt; oldsiz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(p+newsize) = oldsize - newsize;   // set length in remain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                                  //   part of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68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259092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259092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86200" y="259092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259092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150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25909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25909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956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2362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48320" y="2362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0040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05320" y="614664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0988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1480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24280" y="614664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614664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4120" y="614664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61466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61466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614664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59180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98920" y="289512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5200" y="3048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2362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24640" y="6140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95680" y="591804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91320" y="599436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810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61466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591804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1640" y="5581800"/>
            <a:ext cx="1798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block(p, 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20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Freeing a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implementa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879480" indent="-380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to clear allocated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510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void free_block(ptr p) { *p = *p &amp; -2}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879480" indent="-380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can lead to “false fragmentation”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re is enough free space, but the allocator won’t be able to find 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5760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1240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6708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3124080"/>
            <a:ext cx="30456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91320" y="3124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3124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057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28954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76920" y="311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48320" y="2895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29718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25120" y="358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3800" y="3505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38862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38862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133720" y="2895480"/>
            <a:ext cx="1371600" cy="533520"/>
            <a:chOff x="2133720" y="2895480"/>
            <a:chExt cx="1371600" cy="533520"/>
          </a:xfrm>
        </p:grpSpPr>
        <p:sp>
          <p:nvSpPr>
            <p:cNvPr id="553" name=""/>
            <p:cNvSpPr/>
            <p:nvPr/>
          </p:nvSpPr>
          <p:spPr>
            <a:xfrm>
              <a:off x="21337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38640" y="31240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4320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86000" y="28954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76920" y="410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48320" y="388620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96252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1320" y="4572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(5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8960" y="4695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6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Coalesc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Join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elesce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) with next and/or previous block if they are free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alescing with next blo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t how do we coalesce with previous block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5268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47242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6708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724280"/>
            <a:ext cx="30456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640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91320" y="4724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4724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00800" y="4724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4724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05320" y="44956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76920" y="471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8320" y="44956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3600" y="45720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5120" y="51832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73800" y="5105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724280" y="502884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337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82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5715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6708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5715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05720" y="5715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05320" y="54864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4864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33720" y="4495680"/>
            <a:ext cx="1371600" cy="533520"/>
            <a:chOff x="2133720" y="4495680"/>
            <a:chExt cx="1371600" cy="533520"/>
          </a:xfrm>
        </p:grpSpPr>
        <p:sp>
          <p:nvSpPr>
            <p:cNvPr id="603" name=""/>
            <p:cNvSpPr/>
            <p:nvPr/>
          </p:nvSpPr>
          <p:spPr>
            <a:xfrm>
              <a:off x="213372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38640" y="47242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4320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4812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0" y="44956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8769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814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64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913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58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54864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1080" y="2597040"/>
            <a:ext cx="647712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74600" y="2597040"/>
            <a:ext cx="75358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54280" y="2514600"/>
            <a:ext cx="7191000" cy="1655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void free_block(ptr p) {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*p = *p &amp; -2;          // clear allocated flag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next = p + *p;         // find next block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if ((*next &amp; 1) == 0)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*p = *p + *next;    // add to this block if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}                         //    no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Bidirectional Coalesc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undary tag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[Knuth73]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plicate size/allocated word at bottom of free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ws us to traverse the “list” backwards, but requires extra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ortant and general technique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111480" y="3000240"/>
            <a:ext cx="1370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7192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7480" y="35337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1480" y="338148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97960" y="317808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: total 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81640" y="3000240"/>
            <a:ext cx="304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10040" y="4676760"/>
            <a:ext cx="1369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79840" y="467676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2520" y="467676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oundary 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foot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14600" y="482904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716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765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053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242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41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386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9436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4320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62520" y="5575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16" y="72"/>
                  <a:pt x="464" y="144"/>
                  <a:pt x="336" y="144"/>
                </a:cubicBezTo>
                <a:cubicBezTo>
                  <a:pt x="208" y="144"/>
                  <a:pt x="104" y="72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610884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1152" y="0"/>
                </a:moveTo>
                <a:cubicBezTo>
                  <a:pt x="960" y="72"/>
                  <a:pt x="768" y="144"/>
                  <a:pt x="576" y="144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63" y="23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78320" y="29242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315288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02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38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96252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8640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8640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8640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10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10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1240" y="274968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be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28800" y="30481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17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4136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524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89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2920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25909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16765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09680" y="22860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0968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4812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09680" y="25909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0532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0968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09680" y="32004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09680" y="25909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09680" y="35053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0968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9680" y="41148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28954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29200" y="2590920"/>
            <a:ext cx="1676520" cy="1828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19810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1676520"/>
            <a:ext cx="1676520" cy="1828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029200" y="1981080"/>
            <a:ext cx="1676520" cy="2133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029200" y="1676520"/>
            <a:ext cx="1676520" cy="27432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Key Allocator Poli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lacement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rst fit, next fit, best fit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des off lower throughput for less fragmenta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esting observation: segregated free lists (next lecture) approximate a best fit placement policy without having the search entire free list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litting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do we go ahead and split free blocks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 much internal fragmentation are we willing to tolerat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alescing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mediate coalescing: coalesce adjacent blocks each time free is called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erred coalescing: try to improve performance of free by deferring coalescing until needed. e.g.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alesce as you scan the free list for malloc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alesce when the amount of external fragmentation reaches some threshold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40" y="3034800"/>
            <a:ext cx="805032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licit vs. Implicit Memory Allocato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licit:  application allocates and frees space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alloc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re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in C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icit: application allocates, but does not free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 garbage collection in Java, ML or Lisp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llo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both cases the memory allocator provides an abstraction of memory as a set of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les out free memory blocks to applic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ll discuss simple explicit memory allocation tod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2193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1676520"/>
            <a:ext cx="350496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 Memory Alloc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21337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p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5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s: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ery simp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ear time worst cas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stant time worst case -- even with coalesc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usag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ll depend on placement polic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fit, next fit or best f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 used in practice for malloc/free because of linear time allocate.  Used in many special purpose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concepts of splitting and boundary tag coalescing are general to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lloca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5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 Memory Im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57440" y="1233360"/>
            <a:ext cx="320040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57440" y="2935440"/>
            <a:ext cx="3200400" cy="66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57440" y="3600360"/>
            <a:ext cx="3200400" cy="723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7440" y="4327560"/>
            <a:ext cx="3200400" cy="669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 (via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57440" y="2025720"/>
            <a:ext cx="3200400" cy="906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57440" y="5743440"/>
            <a:ext cx="3200400" cy="3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text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7440" y="536256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ized data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7440" y="498168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data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65840" y="396360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57440" y="1690560"/>
            <a:ext cx="320040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81680" y="258732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7520" y="202572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57440" y="6124680"/>
            <a:ext cx="3200400" cy="3967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4320" y="6292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0440" y="181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1984320"/>
            <a:ext cx="3808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7560" y="1187280"/>
            <a:ext cx="208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81680" y="1187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1920" y="4138560"/>
            <a:ext cx="14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“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k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” pt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29400" y="4311720"/>
            <a:ext cx="38088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322884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ors 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itional heap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 the operating system using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br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unction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loc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15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#include &lt;stdlib.h&gt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*malloc(size_t size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successful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turns a pointer to a memory block of at least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siz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bytes, (typically) aligned to 8-byte boundar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size == 0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returns NU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unsuccessful: returns NULL (0) and set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rrn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free(void *p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s the block pointed at b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pool of available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must come from a previous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re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*realloc(void *p, size_t size)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nges size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returns pointer to new block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s of new block unchanged up to min of old and new siz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loc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066680"/>
            <a:ext cx="6781680" cy="563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o(int n, int m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*p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allocate a block of n int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 = (int *) malloc(n * sizeof(int))) == NULL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ror("malloc"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add m bytes to end of p block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 = (int *) realloc(p, (n+m) * sizeof(int))) == NULL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ror("realloc"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n; i &lt; n+m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rint new array */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0; i&lt;n+m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%d\n", p[i]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ree(p); /* return p to available memory pool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70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um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ptions made in this l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is word addressed (each word can hold a poin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7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16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065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14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209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58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04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353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02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448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497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546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592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641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9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736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85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34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292040" y="24289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2760" y="3222720"/>
            <a:ext cx="16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4 word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5400" y="322884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3 word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187520" y="25812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4840" y="30765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54840" y="34574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39320" y="307656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40760" y="345744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loc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082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0480" y="1233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25956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5956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25956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0480" y="2120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3483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34830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34830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830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4830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3483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0120" y="3483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0480" y="30081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3440" y="43704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78000" y="43704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82920" y="43704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87840" y="43704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24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9732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2240" y="43704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1172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6640" y="43704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120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612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31040" y="43704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3560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4052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45440" y="43704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500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2280" y="3895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2880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3372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38640" y="52578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320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8120" y="5257800"/>
            <a:ext cx="304920" cy="30492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53040" y="5257800"/>
            <a:ext cx="304560" cy="30492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5760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6252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67440" y="5257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7200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692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81840" y="52578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8640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9132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96240" y="52578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080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0572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0480" y="47829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ssue arbitrary sequence of allocation and free requ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requests must correspond to an allocated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control number or size of allocat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respond immediately to all allocation requ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an’t reorder or buffer reques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llocate blocks from fre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an only place allocated blocks in fre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lign blocks so they satisfy all alignment requir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 byte alignment for GNU malloc (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alloc) on Linux box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manipulate and modify fre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move the allocated blocks once they are alloc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ompaction is not allow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5T15:43:58Z</dcterms:modified>
  <cp:revision>179</cp:revision>
  <dc:subject/>
  <dc:title>Dynamic Memory Allocation I</dc:title>
</cp:coreProperties>
</file>