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904C566F-A949-495A-80B0-E3E2CFE641F4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ynamic Memory Allocation II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ov 7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733920"/>
            <a:ext cx="6175080" cy="22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licit doubly-linked free lis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gregated free lis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arbage colle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-related perils and pitfal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22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413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gregated Storag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ach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ize clas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has its own collection of bloc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64280" y="1949400"/>
            <a:ext cx="6779160" cy="3080520"/>
            <a:chOff x="764280" y="1949400"/>
            <a:chExt cx="6779160" cy="3080520"/>
          </a:xfrm>
        </p:grpSpPr>
        <p:sp>
          <p:nvSpPr>
            <p:cNvPr id="295" name=""/>
            <p:cNvSpPr/>
            <p:nvPr/>
          </p:nvSpPr>
          <p:spPr>
            <a:xfrm>
              <a:off x="1447560" y="19494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52480" y="19494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361960" y="19494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66880" y="19494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276360" y="19494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81280" y="19494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190760" y="19494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95680" y="19494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7560" y="26352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52480" y="26352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57400" y="26352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666880" y="26352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71800" y="26352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276360" y="26352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86200" y="26352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90760" y="26352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495680" y="26352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105160" y="26352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410080" y="26352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6352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47560" y="33210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752480" y="33210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057400" y="33210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361960" y="33210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71800" y="33210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76360" y="33210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81280" y="33210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86200" y="33210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495680" y="33210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00600" y="33210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05160" y="33210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410080" y="33210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447560" y="40068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752480" y="40068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57400" y="40068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361960" y="40068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666880" y="40068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71800" y="40068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276360" y="40068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81280" y="40068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190760" y="40068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95680" y="40068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800600" y="40068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105160" y="40068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410080" y="40068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715000" y="40068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019560" y="40068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324480" y="40068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24480" y="26352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629400" y="26352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933960" y="26352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447560" y="46926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752480" y="46926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057400" y="46926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61960" y="46926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666880" y="46926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971800" y="46926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276360" y="46926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81280" y="46926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886200" y="46926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190760" y="46926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495680" y="46926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00600" y="46926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105160" y="46926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410080" y="46926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715000" y="46926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19560" y="46926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916200" y="194940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1-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068120" y="26352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52280" y="3305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916200" y="400680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5-8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64280" y="469260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9-1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057400" y="2101680"/>
              <a:ext cx="304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971800" y="2101680"/>
              <a:ext cx="304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86200" y="4159080"/>
              <a:ext cx="304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86200" y="2101680"/>
              <a:ext cx="304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361960" y="2787480"/>
              <a:ext cx="3045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00600" y="2787480"/>
              <a:ext cx="304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81280" y="2787480"/>
              <a:ext cx="3045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666880" y="3473280"/>
              <a:ext cx="3045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019560" y="2787480"/>
              <a:ext cx="3045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90760" y="3473280"/>
              <a:ext cx="3045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00600" y="2101680"/>
              <a:ext cx="304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38880" y="2787480"/>
              <a:ext cx="3045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629400" y="4159080"/>
              <a:ext cx="304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715000" y="3473280"/>
              <a:ext cx="304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24480" y="4844880"/>
              <a:ext cx="3045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457200" y="525780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lvl="1" marL="721800" indent="-2383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ften have separate size class for every small size (2,3,4,…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21800" indent="-2383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larger sizes typically have a size class for each power of 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7175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mple Segregated Storag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48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eparate heap and free list for each size clas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No splitting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To allocate a block of size n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f free list for size n is not empty,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llocate first block on list (note, list can be implicit or explicit)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f free list is empty,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get a new page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reate new free list from all blocks in page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llocate first block on lis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stant tim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To free a block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 to free lis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f page is empty, return the page for use by another size (optional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Tradeoffs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ast, but can fragment badl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5905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gregated Fi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25516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ray of free lists, each one for some size clas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 allocate a block of size n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arch appropriate free list for block of size m &gt; 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an appropriate block is found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plit block and place fragment on appropriate list (optional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no block is found, try next larger cla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eat until block is foun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 free a block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alesce and place on appropriate list (optional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deoff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aster search than sequential fits (i.e., log time for power of two size classe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rols fragmentation of simple segregated stor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alescing can increase search tim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ferred coalescing can help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9948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 More Info on Allocato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3120" y="1447920"/>
            <a:ext cx="8282160" cy="340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. Knuth, “The Art of Computer Programming, Second Edition”, Addison Wesley, 1973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classic reference on dynamic storage al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ilson et al, “Dynamic Storage Allocation: A Survey and Critical Review”, Proc. 1995 Int’l Workshop on Memory Management, Kinross, Scotland, Sept, 1995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rehensive surve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vailable from CS:APP student site (csapp.cs.cmu.edu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30224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icit Memory Management: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arbage Colle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3120" y="1872720"/>
            <a:ext cx="828216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Garbage collection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utomatic reclamation of heap-allocated storage -- application never has to fre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57200" y="4114800"/>
            <a:ext cx="83059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70440" indent="-37044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mon in functional languages, scripting languages, and modern object oriented languages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4600" indent="-2358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sp, ML, Java, Perl, Mathematica,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70440" indent="-37044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ariants (conservative garbage collectors) exist for C and C++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4600" indent="-2358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not collect all garbag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14480" y="2819520"/>
            <a:ext cx="4935600" cy="106740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foo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*p = malloc(128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; /* p block is now garbag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6350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arbage Colle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255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does the memory manager know when memory can be freed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general we cannot know what is going to be used in the future since it depends on conditiona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t we can tell that certain blocks cannot be used if there are no pointers to th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eed to make certain assumptions about poin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 manager can distinguish pointers from non-poin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 pointers point to the start of a block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not hide pointers (e.g., by coercing them to a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and then back again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6883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assical GC algorithm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44240" y="1371600"/>
            <a:ext cx="83185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rk and sweep collection (McCarthy, 1960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es not move blocks (unless you also “compact”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ference counting (Collins, 1960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es not move blocks (not discussed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pying collection (Minsky, 1963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ves blocks (not discussed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r more information, see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Jones and Lin, “Garbage Collection: Algorithms for Automatic Dynamic Memory”, John Wiley &amp; Sons, 1996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609480" y="3505320"/>
            <a:ext cx="5985000" cy="2057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337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as a Graph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470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970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e view memory as a directed graph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-18900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block is a node in the graph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18900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pointer is an edge in the graph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18900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cations not in the heap that contain pointers into the heap are called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nodes  (e.g. registers, locations on the stack, global variables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320920" y="2819520"/>
            <a:ext cx="304920" cy="304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387600" y="2819520"/>
            <a:ext cx="304920" cy="304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30600" y="2819520"/>
            <a:ext cx="304920" cy="304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2015640" y="3124080"/>
            <a:ext cx="381240" cy="9144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18000" y="281952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oot nod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94800" y="358128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eap nod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40240" y="3124080"/>
            <a:ext cx="0" cy="9144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759200" y="3124080"/>
            <a:ext cx="533520" cy="9144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863720" y="4038480"/>
            <a:ext cx="30492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387600" y="4038480"/>
            <a:ext cx="30492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216400" y="4038480"/>
            <a:ext cx="30492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330200" y="4267080"/>
            <a:ext cx="53352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77920" y="4952880"/>
            <a:ext cx="30492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68640" y="4267080"/>
            <a:ext cx="53316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49520" y="4952880"/>
            <a:ext cx="30492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69040" y="4343400"/>
            <a:ext cx="0" cy="6094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216400" y="4952880"/>
            <a:ext cx="30492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267080" y="4343400"/>
            <a:ext cx="304920" cy="304920"/>
          </a:xfrm>
          <a:prstGeom prst="ellipse">
            <a:avLst/>
          </a:prstGeom>
          <a:solidFill>
            <a:srgbClr val="b2b2b2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267080" y="5105520"/>
            <a:ext cx="304920" cy="304560"/>
          </a:xfrm>
          <a:prstGeom prst="ellipse">
            <a:avLst/>
          </a:prstGeom>
          <a:solidFill>
            <a:srgbClr val="b2b2b2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19720" y="46483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505320" y="4800600"/>
            <a:ext cx="304560" cy="304920"/>
          </a:xfrm>
          <a:prstGeom prst="ellipse">
            <a:avLst/>
          </a:prstGeom>
          <a:solidFill>
            <a:srgbClr val="b2b2b2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 flipV="1">
            <a:off x="3809880" y="5028840"/>
            <a:ext cx="457200" cy="1522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809880" y="4571640"/>
            <a:ext cx="45720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943600" y="4495680"/>
            <a:ext cx="304920" cy="304920"/>
          </a:xfrm>
          <a:prstGeom prst="ellipse">
            <a:avLst/>
          </a:prstGeom>
          <a:solidFill>
            <a:srgbClr val="b2b2b2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46840" y="3632040"/>
            <a:ext cx="30492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46840" y="4089240"/>
            <a:ext cx="304920" cy="304920"/>
          </a:xfrm>
          <a:prstGeom prst="ellipse">
            <a:avLst/>
          </a:prstGeom>
          <a:solidFill>
            <a:srgbClr val="b2b2b2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231320" y="4038480"/>
            <a:ext cx="153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ot-reachable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garbage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241040" y="358128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ch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39680" y="5638680"/>
            <a:ext cx="8623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A node (block) is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reachable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 if there is a path from any root to that node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Non-reachable nodes ar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garbage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(never needed by the application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7353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ssumptions For This Lectu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Applica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ew(n)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 returns pointer to new block with all locations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cleare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ad(b,i):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read location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of block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 into regis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rite(b,i,v)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rit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into location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of block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ach block will have a header word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ed a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[-1],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 a block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sed for different purposes in different collector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Instructions used by the Garbage Collector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s_ptr(p): d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termines whethe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is a poi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ngth(b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: returns the length of block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,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t including the head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_roots()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 returns all the root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324480" y="5257800"/>
            <a:ext cx="304920" cy="304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191120" y="5257800"/>
            <a:ext cx="304560" cy="304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81280" y="5257800"/>
            <a:ext cx="304920" cy="304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150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rk and Sweep Collect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n build on top of malloc/free packag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locate using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lloc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until you “run out of space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en out of space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e extr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ark bi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n the head of each blo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ark: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tart at roots and set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rk bi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n all reachable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weep: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can all blocks and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re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blocks that ar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 mark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962520" y="4038480"/>
            <a:ext cx="685800" cy="482760"/>
          </a:xfrm>
          <a:custGeom>
            <a:avLst/>
            <a:gdLst/>
            <a:ahLst/>
            <a:rect l="l" t="t" r="r" b="b"/>
            <a:pathLst>
              <a:path w="768" h="304">
                <a:moveTo>
                  <a:pt x="768" y="304"/>
                </a:moveTo>
                <a:cubicBezTo>
                  <a:pt x="640" y="168"/>
                  <a:pt x="512" y="32"/>
                  <a:pt x="384" y="16"/>
                </a:cubicBezTo>
                <a:cubicBezTo>
                  <a:pt x="256" y="0"/>
                  <a:pt x="128" y="104"/>
                  <a:pt x="0" y="208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52880" y="4013280"/>
            <a:ext cx="1752840" cy="558720"/>
          </a:xfrm>
          <a:custGeom>
            <a:avLst/>
            <a:gdLst/>
            <a:ahLst/>
            <a:rect l="l" t="t" r="r" b="b"/>
            <a:pathLst>
              <a:path w="960" h="352">
                <a:moveTo>
                  <a:pt x="0" y="352"/>
                </a:moveTo>
                <a:cubicBezTo>
                  <a:pt x="136" y="192"/>
                  <a:pt x="272" y="32"/>
                  <a:pt x="432" y="16"/>
                </a:cubicBezTo>
                <a:cubicBezTo>
                  <a:pt x="592" y="0"/>
                  <a:pt x="776" y="128"/>
                  <a:pt x="960" y="25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4572000"/>
            <a:ext cx="1371600" cy="380880"/>
          </a:xfrm>
          <a:custGeom>
            <a:avLst/>
            <a:gdLst/>
            <a:ahLst/>
            <a:rect l="l" t="t" r="r" b="b"/>
            <a:pathLst>
              <a:path w="768" h="256">
                <a:moveTo>
                  <a:pt x="768" y="0"/>
                </a:moveTo>
                <a:cubicBezTo>
                  <a:pt x="640" y="112"/>
                  <a:pt x="512" y="224"/>
                  <a:pt x="384" y="240"/>
                </a:cubicBezTo>
                <a:cubicBezTo>
                  <a:pt x="256" y="256"/>
                  <a:pt x="128" y="176"/>
                  <a:pt x="0" y="9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9040" y="431784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efore mar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648320" y="416556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376160" y="3854520"/>
            <a:ext cx="5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oo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362320" y="4419720"/>
            <a:ext cx="609480" cy="3045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971800" y="4419720"/>
            <a:ext cx="609480" cy="3045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581280" y="4419720"/>
            <a:ext cx="609840" cy="3045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191120" y="4419720"/>
            <a:ext cx="914400" cy="3045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05520" y="4419720"/>
            <a:ext cx="1218960" cy="3045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324480" y="4419720"/>
            <a:ext cx="914400" cy="3045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276720" y="4419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666880" y="4419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86200" y="4419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495680" y="4419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800600" y="4419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10080" y="4419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15000" y="4419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019920" y="4419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629400" y="4419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934320" y="4419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962520" y="4876920"/>
            <a:ext cx="685800" cy="482400"/>
          </a:xfrm>
          <a:custGeom>
            <a:avLst/>
            <a:gdLst/>
            <a:ahLst/>
            <a:rect l="l" t="t" r="r" b="b"/>
            <a:pathLst>
              <a:path w="768" h="304">
                <a:moveTo>
                  <a:pt x="768" y="304"/>
                </a:moveTo>
                <a:cubicBezTo>
                  <a:pt x="640" y="168"/>
                  <a:pt x="512" y="32"/>
                  <a:pt x="384" y="16"/>
                </a:cubicBezTo>
                <a:cubicBezTo>
                  <a:pt x="256" y="0"/>
                  <a:pt x="128" y="104"/>
                  <a:pt x="0" y="208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952880" y="4851360"/>
            <a:ext cx="1752840" cy="558720"/>
          </a:xfrm>
          <a:custGeom>
            <a:avLst/>
            <a:gdLst/>
            <a:ahLst/>
            <a:rect l="l" t="t" r="r" b="b"/>
            <a:pathLst>
              <a:path w="960" h="352">
                <a:moveTo>
                  <a:pt x="0" y="352"/>
                </a:moveTo>
                <a:cubicBezTo>
                  <a:pt x="136" y="192"/>
                  <a:pt x="272" y="32"/>
                  <a:pt x="432" y="16"/>
                </a:cubicBezTo>
                <a:cubicBezTo>
                  <a:pt x="592" y="0"/>
                  <a:pt x="776" y="128"/>
                  <a:pt x="960" y="25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819520" y="5410080"/>
            <a:ext cx="1218960" cy="381240"/>
          </a:xfrm>
          <a:custGeom>
            <a:avLst/>
            <a:gdLst/>
            <a:ahLst/>
            <a:rect l="l" t="t" r="r" b="b"/>
            <a:pathLst>
              <a:path w="768" h="256">
                <a:moveTo>
                  <a:pt x="768" y="0"/>
                </a:moveTo>
                <a:cubicBezTo>
                  <a:pt x="640" y="112"/>
                  <a:pt x="512" y="224"/>
                  <a:pt x="384" y="240"/>
                </a:cubicBezTo>
                <a:cubicBezTo>
                  <a:pt x="256" y="256"/>
                  <a:pt x="128" y="176"/>
                  <a:pt x="0" y="9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7960" y="515628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fter mar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48320" y="500364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362320" y="5257800"/>
            <a:ext cx="609480" cy="3049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5257800"/>
            <a:ext cx="609480" cy="3049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581280" y="5257800"/>
            <a:ext cx="609840" cy="3049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91120" y="5257800"/>
            <a:ext cx="914400" cy="3049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05520" y="5257800"/>
            <a:ext cx="1218960" cy="3049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324480" y="5257800"/>
            <a:ext cx="914400" cy="3049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76720" y="52578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666880" y="52578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86200" y="52578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495680" y="52578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800600" y="52578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410080" y="52578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715000" y="52578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19920" y="52578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629400" y="52578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934320" y="52578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362320" y="5257800"/>
            <a:ext cx="304560" cy="304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62520" y="5715000"/>
            <a:ext cx="685800" cy="482760"/>
          </a:xfrm>
          <a:custGeom>
            <a:avLst/>
            <a:gdLst/>
            <a:ahLst/>
            <a:rect l="l" t="t" r="r" b="b"/>
            <a:pathLst>
              <a:path w="768" h="304">
                <a:moveTo>
                  <a:pt x="768" y="304"/>
                </a:moveTo>
                <a:cubicBezTo>
                  <a:pt x="640" y="168"/>
                  <a:pt x="512" y="32"/>
                  <a:pt x="384" y="16"/>
                </a:cubicBezTo>
                <a:cubicBezTo>
                  <a:pt x="256" y="0"/>
                  <a:pt x="128" y="104"/>
                  <a:pt x="0" y="208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952880" y="5689440"/>
            <a:ext cx="1752840" cy="559080"/>
          </a:xfrm>
          <a:custGeom>
            <a:avLst/>
            <a:gdLst/>
            <a:ahLst/>
            <a:rect l="l" t="t" r="r" b="b"/>
            <a:pathLst>
              <a:path w="960" h="352">
                <a:moveTo>
                  <a:pt x="0" y="352"/>
                </a:moveTo>
                <a:cubicBezTo>
                  <a:pt x="136" y="192"/>
                  <a:pt x="272" y="32"/>
                  <a:pt x="432" y="16"/>
                </a:cubicBezTo>
                <a:cubicBezTo>
                  <a:pt x="592" y="0"/>
                  <a:pt x="776" y="128"/>
                  <a:pt x="960" y="25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819520" y="6248520"/>
            <a:ext cx="1218960" cy="380880"/>
          </a:xfrm>
          <a:custGeom>
            <a:avLst/>
            <a:gdLst/>
            <a:ahLst/>
            <a:rect l="l" t="t" r="r" b="b"/>
            <a:pathLst>
              <a:path w="768" h="256">
                <a:moveTo>
                  <a:pt x="768" y="0"/>
                </a:moveTo>
                <a:cubicBezTo>
                  <a:pt x="640" y="112"/>
                  <a:pt x="512" y="224"/>
                  <a:pt x="384" y="240"/>
                </a:cubicBezTo>
                <a:cubicBezTo>
                  <a:pt x="256" y="256"/>
                  <a:pt x="128" y="176"/>
                  <a:pt x="0" y="9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91560" y="599436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fter swee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648320" y="584208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362320" y="6095880"/>
            <a:ext cx="609480" cy="3049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971800" y="6095880"/>
            <a:ext cx="609480" cy="3049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581280" y="6095880"/>
            <a:ext cx="609840" cy="3049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91120" y="6095880"/>
            <a:ext cx="914400" cy="3049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105520" y="6095880"/>
            <a:ext cx="1218960" cy="3049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324480" y="6095880"/>
            <a:ext cx="914400" cy="3049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609588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666880" y="609588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86200" y="609588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609588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800600" y="609588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410080" y="609588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15000" y="609588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019920" y="609588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629400" y="609588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934320" y="609588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105520" y="6095880"/>
            <a:ext cx="121896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400800" y="3733920"/>
            <a:ext cx="304920" cy="30456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732360" y="3733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ark bit 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971800" y="6095880"/>
            <a:ext cx="60948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8600" y="2666880"/>
            <a:ext cx="8458200" cy="16765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8153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Keeping Track of Free Block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8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ethod 1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Implicit list using lengths -- links all bloc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-385920">
              <a:lnSpc>
                <a:spcPct val="8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ethod 2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Explicit list among the free blocks using pointers within the free bloc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-385920">
              <a:lnSpc>
                <a:spcPct val="8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ethod 3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Segregated free lis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fferent free lists for different size cla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-385920">
              <a:lnSpc>
                <a:spcPct val="8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ethod 4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Blocks sorted by size (not discussed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use a balanced tree (e.g. Red-Black tree) with pointers within each free block, and the length used as a ke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133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2133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2133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05320" y="21337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2133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4800" y="2133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2428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133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21337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2133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19720" y="2133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3886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3886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3886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14600" y="3886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19520" y="3886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3886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3886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38862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38480" y="3886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3886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3886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57800" y="3886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3886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3886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3886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77120" y="38862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3886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57400" y="3556080"/>
            <a:ext cx="2438280" cy="482400"/>
          </a:xfrm>
          <a:custGeom>
            <a:avLst/>
            <a:gdLst/>
            <a:ahLst/>
            <a:rect l="l" t="t" r="r" b="b"/>
            <a:pathLst>
              <a:path w="1536" h="304">
                <a:moveTo>
                  <a:pt x="0" y="304"/>
                </a:moveTo>
                <a:cubicBezTo>
                  <a:pt x="328" y="167"/>
                  <a:pt x="656" y="31"/>
                  <a:pt x="912" y="16"/>
                </a:cubicBezTo>
                <a:cubicBezTo>
                  <a:pt x="1167" y="0"/>
                  <a:pt x="1351" y="104"/>
                  <a:pt x="1536" y="208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1905120"/>
            <a:ext cx="1523880" cy="228600"/>
          </a:xfrm>
          <a:custGeom>
            <a:avLst/>
            <a:gdLst/>
            <a:ahLst/>
            <a:rect l="l" t="t" r="r" b="b"/>
            <a:pathLst>
              <a:path w="960" h="144">
                <a:moveTo>
                  <a:pt x="0" y="144"/>
                </a:moveTo>
                <a:cubicBezTo>
                  <a:pt x="184" y="72"/>
                  <a:pt x="368" y="0"/>
                  <a:pt x="528" y="0"/>
                </a:cubicBezTo>
                <a:cubicBezTo>
                  <a:pt x="688" y="0"/>
                  <a:pt x="824" y="72"/>
                  <a:pt x="960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190512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1905120"/>
            <a:ext cx="1828800" cy="2286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6782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rk and Sweep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46480" y="1447920"/>
            <a:ext cx="7739640" cy="204084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r mark(ptr p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!is_ptr(p)) return;        // do nothing if not poi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markBitSet(p)) return      // check if already mark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tMarkBit(p);                 // set the mark b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 &lt; length(p); i++)  // mark all childre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ark(p[i]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33520" y="10666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rk using depth-first traversal of the memory graph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57200" y="36576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weep using lengths to find next blo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2160" y="4038480"/>
            <a:ext cx="4326120" cy="204084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r sweep(ptr p, ptr end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p &lt; end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markBitSet(p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clearMarkBit(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 if (allocateBitSet(p)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ree(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 += length(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8001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servative Mark and Sweep in 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449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 conservative  collector for C program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s_ptr(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determines if a word is a pointer by checking if it points to an allocated block of memor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t, in C pointers can point to the middle of a block.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o how do we find the beginning of the block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use balanced tree to keep track of all allocated blocks where the key is the 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alanced tree pointers can be stored in header (use two additional word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514600" y="3352680"/>
            <a:ext cx="3200400" cy="30492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514600" y="3352680"/>
            <a:ext cx="30492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211840" y="304812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ead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737880" y="272736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t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304812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143000" y="3352680"/>
            <a:ext cx="1371600" cy="30492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3352680"/>
            <a:ext cx="30492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876920" y="3352680"/>
            <a:ext cx="30456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657600" y="5759280"/>
            <a:ext cx="114300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038480" y="5759280"/>
            <a:ext cx="0" cy="3812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419720" y="5759280"/>
            <a:ext cx="0" cy="3812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800600" y="5759280"/>
            <a:ext cx="1828800" cy="38124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66040" y="543888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190120" y="54388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885840" y="5987880"/>
            <a:ext cx="30492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572000" y="5987880"/>
            <a:ext cx="22860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660840" y="63691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ef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98920" y="636912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igh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595680" y="5784840"/>
            <a:ext cx="5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iz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6566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-Related Bug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referencing bad poin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ading uninitialized mem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verwriting mem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ferencing nonexistent variabl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reeing blocks multiple tim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ferencing freed bloc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ailing to free bloc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referencing Bad Point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classic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canf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bu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435120" y="2362320"/>
            <a:ext cx="2253240" cy="3373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canf(“%d”, va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ading Uninitialized Mem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uming that heap data is initialized to zero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362320" y="2413080"/>
            <a:ext cx="4343400" cy="2770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return y = Ax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*matvec(int **A, int *x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*y = malloc(N*sizeof(int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, j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j=0; j&lt;N; j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y[i] += A[i][j]*x[j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y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writing Mem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ocating the (possibly) wrong sized objec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462400" y="2286000"/>
            <a:ext cx="4082040" cy="179748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**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 = malloc(N*sizeof(int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; i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[i] = malloc(M*sizeof(int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writing Mem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ff-by-one err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538720" y="2286000"/>
            <a:ext cx="4082040" cy="179748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**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 = malloc(N*sizeof(int *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=N; i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[i] = malloc(M*sizeof(int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writing Mem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449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ot checking the max string siz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sis for classic buffer overflow attac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988 Internet wor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dern attacks on Web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OL/Microsoft IM wa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762920" y="2286000"/>
            <a:ext cx="5667120" cy="13107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s[8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gets(s);  /* reads “123456789” from stdin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writing Mem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ferencing a pointer instead of the object it points to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600200" y="2209680"/>
            <a:ext cx="5916600" cy="204084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*BinheapDelete(int **binheap, int *size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*packe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acket = binheap[0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inheap[0] = binheap[*size - 1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size--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eapify(binheap, *size, 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(packe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writing Mem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isunderstanding pointer arithmet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438280" y="2133720"/>
            <a:ext cx="4343400" cy="179748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*search(int *p, int val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*p &amp;&amp; *p != val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 += sizeof(in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6070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plicit Free Lis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e data space for link poin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ypically doubly link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ill need boundary tags for coalesc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t is important to realize that links are not necessarily in the same order as the blo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209320" y="1371600"/>
            <a:ext cx="4343760" cy="304920"/>
            <a:chOff x="2209320" y="1371600"/>
            <a:chExt cx="4343760" cy="304920"/>
          </a:xfrm>
        </p:grpSpPr>
        <p:sp>
          <p:nvSpPr>
            <p:cNvPr id="125" name=""/>
            <p:cNvSpPr/>
            <p:nvPr/>
          </p:nvSpPr>
          <p:spPr>
            <a:xfrm>
              <a:off x="2514600" y="1371600"/>
              <a:ext cx="83808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09880" y="1371600"/>
              <a:ext cx="83844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29200" y="1371600"/>
              <a:ext cx="11430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52680" y="144792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48320" y="1447920"/>
              <a:ext cx="3808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648320" y="1600200"/>
              <a:ext cx="3808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3352680" y="160020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72200" y="1447920"/>
              <a:ext cx="3808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2209320" y="1600200"/>
              <a:ext cx="3049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91440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41148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41148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38280" y="41148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41148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41148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5760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62520" y="41148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41148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41148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81480" y="41148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41148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41148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05720" y="41148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71600" y="3708360"/>
            <a:ext cx="5181480" cy="558720"/>
          </a:xfrm>
          <a:custGeom>
            <a:avLst/>
            <a:gdLst/>
            <a:ahLst/>
            <a:rect l="l" t="t" r="r" b="b"/>
            <a:pathLst>
              <a:path w="3264" h="352">
                <a:moveTo>
                  <a:pt x="0" y="352"/>
                </a:moveTo>
                <a:cubicBezTo>
                  <a:pt x="712" y="191"/>
                  <a:pt x="1424" y="31"/>
                  <a:pt x="1968" y="16"/>
                </a:cubicBezTo>
                <a:cubicBezTo>
                  <a:pt x="2511" y="0"/>
                  <a:pt x="2887" y="128"/>
                  <a:pt x="3264" y="25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3632040"/>
            <a:ext cx="3352680" cy="635040"/>
          </a:xfrm>
          <a:custGeom>
            <a:avLst/>
            <a:gdLst/>
            <a:ahLst/>
            <a:rect l="l" t="t" r="r" b="b"/>
            <a:pathLst>
              <a:path w="2112" h="400">
                <a:moveTo>
                  <a:pt x="2112" y="400"/>
                </a:moveTo>
                <a:cubicBezTo>
                  <a:pt x="2072" y="216"/>
                  <a:pt x="2032" y="32"/>
                  <a:pt x="1680" y="16"/>
                </a:cubicBezTo>
                <a:cubicBezTo>
                  <a:pt x="1328" y="0"/>
                  <a:pt x="280" y="256"/>
                  <a:pt x="0" y="30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4267080"/>
            <a:ext cx="6096240" cy="671760"/>
          </a:xfrm>
          <a:custGeom>
            <a:avLst/>
            <a:gdLst/>
            <a:ahLst/>
            <a:rect l="l" t="t" r="r" b="b"/>
            <a:pathLst>
              <a:path w="3840" h="423">
                <a:moveTo>
                  <a:pt x="3840" y="0"/>
                </a:moveTo>
                <a:cubicBezTo>
                  <a:pt x="3719" y="136"/>
                  <a:pt x="3599" y="272"/>
                  <a:pt x="3072" y="336"/>
                </a:cubicBezTo>
                <a:cubicBezTo>
                  <a:pt x="2544" y="399"/>
                  <a:pt x="1183" y="423"/>
                  <a:pt x="672" y="384"/>
                </a:cubicBezTo>
                <a:cubicBezTo>
                  <a:pt x="160" y="344"/>
                  <a:pt x="80" y="220"/>
                  <a:pt x="0" y="9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4267080"/>
            <a:ext cx="2438280" cy="480960"/>
          </a:xfrm>
          <a:custGeom>
            <a:avLst/>
            <a:gdLst/>
            <a:ahLst/>
            <a:rect l="l" t="t" r="r" b="b"/>
            <a:pathLst>
              <a:path w="1536" h="303">
                <a:moveTo>
                  <a:pt x="0" y="0"/>
                </a:moveTo>
                <a:cubicBezTo>
                  <a:pt x="280" y="136"/>
                  <a:pt x="560" y="272"/>
                  <a:pt x="816" y="288"/>
                </a:cubicBezTo>
                <a:cubicBezTo>
                  <a:pt x="1071" y="303"/>
                  <a:pt x="1303" y="199"/>
                  <a:pt x="1536" y="9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60640" y="342900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orward link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44680" y="456552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ack link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75680" y="41846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3645000"/>
            <a:ext cx="2971800" cy="622080"/>
          </a:xfrm>
          <a:custGeom>
            <a:avLst/>
            <a:gdLst/>
            <a:ahLst/>
            <a:rect l="l" t="t" r="r" b="b"/>
            <a:pathLst>
              <a:path w="1872" h="392">
                <a:moveTo>
                  <a:pt x="1872" y="392"/>
                </a:moveTo>
                <a:cubicBezTo>
                  <a:pt x="1499" y="251"/>
                  <a:pt x="1127" y="111"/>
                  <a:pt x="816" y="56"/>
                </a:cubicBezTo>
                <a:cubicBezTo>
                  <a:pt x="504" y="0"/>
                  <a:pt x="252" y="28"/>
                  <a:pt x="0" y="5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4267080"/>
            <a:ext cx="762120" cy="457200"/>
          </a:xfrm>
          <a:custGeom>
            <a:avLst/>
            <a:gdLst/>
            <a:ahLst/>
            <a:rect l="l" t="t" r="r" b="b"/>
            <a:pathLst>
              <a:path w="480" h="288">
                <a:moveTo>
                  <a:pt x="480" y="0"/>
                </a:moveTo>
                <a:cubicBezTo>
                  <a:pt x="448" y="96"/>
                  <a:pt x="416" y="192"/>
                  <a:pt x="336" y="240"/>
                </a:cubicBezTo>
                <a:cubicBezTo>
                  <a:pt x="256" y="288"/>
                  <a:pt x="128" y="288"/>
                  <a:pt x="0" y="288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55760" y="38037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35760" y="38098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6240" y="4419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ferencing Nonexistent Variab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rgetting that local variables disappear when a function retur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438280" y="2432160"/>
            <a:ext cx="4343400" cy="106740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*foo 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va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&amp;va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reeing Blocks Multiple Tim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asty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438280" y="2133720"/>
            <a:ext cx="4343400" cy="179748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x = malloc(N*sizeof(int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manipulate x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ree(x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y = malloc(M*sizeof(int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manipulate y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ree(x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ferencing Freed Block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vil!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438280" y="2133720"/>
            <a:ext cx="4343400" cy="179748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x = malloc(N*sizeof(int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manipulate x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ree(x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y = malloc(M*sizeof(int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M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y[i] = x[i]++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ailing to Free Block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Memory Leaks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low, long-term killer!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438280" y="2666880"/>
            <a:ext cx="4343400" cy="13107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o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*x = malloc(N*sizeof(int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ailing to Free Block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Memory Leaks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reeing only part of a data structur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638360" y="2333520"/>
            <a:ext cx="6134040" cy="37443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list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va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list *nex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o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list *head =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alloc(sizeof(struct list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ead-&gt;val = 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ead-&gt;next = NUL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create and manipulate the rest of the list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ree(head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aling With Memory Bug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ventional debugger (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gdb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ood for finding  bad pointer dereferenc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 to detect the other memory bug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bugging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malloc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(CSRI UToronto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malloc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rapper around conventional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allo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tects memory bugs a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allo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e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undar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mory overwrites that corrupt heap structur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ome instances of freeing blocks multiple tim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mory leak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not detect all memory bug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verwrites into the middle of allocated block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reeing block twice that has been reallocated in the interi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ferencing freed block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aling With Memory Bugs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inary translator (Atom, Purify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werful debugging and analysis techniq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writes text section of executable object fi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detect all errors as debugging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allo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also check each individual reference at run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ad point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verwrit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ferencing outside of allocated bloc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arbage collection (Boehm-Weiser Conservative GC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 the system free blocks instead of the programm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8001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llocating From Explicit Free Lis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08600" y="2360520"/>
            <a:ext cx="2057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ee blo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43320" y="19033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06720" y="16279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92840" y="19033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45800" y="1627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uc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23000" y="4417920"/>
            <a:ext cx="11430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ee blo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24560" y="3960720"/>
            <a:ext cx="603000" cy="4572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87960" y="36853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892840" y="39607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45800" y="36853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uc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08600" y="4417920"/>
            <a:ext cx="914400" cy="4572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42600" y="2421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for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60280" y="4235040"/>
            <a:ext cx="174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fter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with splitting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7454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reeing With Explicit Free Lis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nsertion policy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Where in the free list do you put a newly freed block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FO (last-in-first-out) polic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sert freed block at the beginning of the free lis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: simple and constant tim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: studies suggest fragmentation is worse than address ordered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-ordered polic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sert freed blocks so that free list blocks are always in address ord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.e. addr(pred) &lt; addr(curr) &lt; addr(succ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: requires search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: studies suggest fragmentation is better than LIF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952880" y="5181480"/>
            <a:ext cx="373392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3505320"/>
            <a:ext cx="3733920" cy="1371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52880" y="1371600"/>
            <a:ext cx="3733920" cy="1371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7099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reeing With a LIFO Polic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90160" y="1655280"/>
            <a:ext cx="3846600" cy="42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ase 1: a-a-a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ert self at beginning of free lis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ase 2: a-a-f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plice out next, coalesce self and next, and add to beginning of free lis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58880" y="137088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d (p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36440" y="13708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ucc (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1555920"/>
            <a:ext cx="106668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213372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l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81480" y="2133720"/>
            <a:ext cx="10670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315200" y="213372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373880" y="35046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002800" y="350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248520" y="426708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l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81480" y="4267080"/>
            <a:ext cx="10670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15200" y="426708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3800" y="3886200"/>
            <a:ext cx="0" cy="38088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159760" y="3886200"/>
            <a:ext cx="0" cy="38088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8040" y="396216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efore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373880" y="52714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072640" y="527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5715000"/>
            <a:ext cx="2057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1480" y="5715000"/>
            <a:ext cx="10670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62760" y="548604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fter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20120" y="5456160"/>
            <a:ext cx="53316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5029200" y="990720"/>
            <a:ext cx="3733920" cy="12189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2362320"/>
            <a:ext cx="3733920" cy="990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29200" y="3886200"/>
            <a:ext cx="373392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29200" y="5410080"/>
            <a:ext cx="3733920" cy="10670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797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reeing With a LIFO Policy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90160" y="1655280"/>
            <a:ext cx="3846600" cy="42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ase 3: f-a-a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plice out prev, coalesce with self, and add to beginning of free lis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ase 4: f-a-f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plice out prev and next, coalesce with self, and add to beginning of lis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59240" y="913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88520" y="913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48520" y="167652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l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81480" y="1676520"/>
            <a:ext cx="10670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15200" y="167652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295280"/>
            <a:ext cx="0" cy="38124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26040" y="1295280"/>
            <a:ext cx="0" cy="38124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59440" y="137124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efore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63840" y="2375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62960" y="2375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81480" y="2819520"/>
            <a:ext cx="2057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38880" y="2819520"/>
            <a:ext cx="10670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51600" y="266652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fter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10080" y="2560680"/>
            <a:ext cx="53352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30800" y="38854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60080" y="3885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83440" y="464832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l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16400" y="4648320"/>
            <a:ext cx="10670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50120" y="464832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45000" y="4267080"/>
            <a:ext cx="0" cy="38124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60960" y="4267080"/>
            <a:ext cx="0" cy="38124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94360" y="426672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efore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216400" y="5943600"/>
            <a:ext cx="31654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286520" y="571464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fter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92960" y="38854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022240" y="3885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07160" y="4267080"/>
            <a:ext cx="0" cy="38124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223120" y="4267080"/>
            <a:ext cx="0" cy="38124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030640" y="54237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12560" y="5423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164360" y="54237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22240" y="5423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10080" y="56088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56088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540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plicit List 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arison to implicit list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ocate is linear time in number of free blocks instead of total blocks  -- much faster allocates when most of the memory is full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lightly more complicated allocate and free since needs to splice blocks in and out of the li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me extra space for the links (2 extra  words needed for each block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in use of linked lists is in conjunction with segregated free lis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ep multiple linked lists of different size classes, or possibly for different types of objec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28600" y="4495680"/>
            <a:ext cx="8458200" cy="7621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341280"/>
            <a:ext cx="7315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Keeping Track of Free Block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ethod 1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mplicit lis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using lengths -- links all bloc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ethod 2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plicit lis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among the free blocks using pointers within the free bloc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ethod 3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egregated free lis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fferent free lists for different size cla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ethod 4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Blocks sorted by siz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an use a balanced tree (e.g. Red-Black tree) with pointers within each free block, and the length used as a ke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76520" y="2133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8108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90920" y="2133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9548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2133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05320" y="21337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2133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14800" y="2133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4120" y="2133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3868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94360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248520" y="21337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53080" y="2133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19720" y="2133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0020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05120" y="38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0968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1460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19520" y="38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2408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42900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733920" y="38098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648320" y="38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25780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62720" y="38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86728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17220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477120" y="38098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4340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57400" y="3479760"/>
            <a:ext cx="2438280" cy="482760"/>
          </a:xfrm>
          <a:custGeom>
            <a:avLst/>
            <a:gdLst/>
            <a:ahLst/>
            <a:rect l="l" t="t" r="r" b="b"/>
            <a:pathLst>
              <a:path w="1536" h="304">
                <a:moveTo>
                  <a:pt x="0" y="304"/>
                </a:moveTo>
                <a:cubicBezTo>
                  <a:pt x="328" y="167"/>
                  <a:pt x="656" y="31"/>
                  <a:pt x="912" y="16"/>
                </a:cubicBezTo>
                <a:cubicBezTo>
                  <a:pt x="1167" y="0"/>
                  <a:pt x="1351" y="104"/>
                  <a:pt x="1536" y="208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28800" y="1905120"/>
            <a:ext cx="1523880" cy="228600"/>
          </a:xfrm>
          <a:custGeom>
            <a:avLst/>
            <a:gdLst/>
            <a:ahLst/>
            <a:rect l="l" t="t" r="r" b="b"/>
            <a:pathLst>
              <a:path w="960" h="144">
                <a:moveTo>
                  <a:pt x="0" y="144"/>
                </a:moveTo>
                <a:cubicBezTo>
                  <a:pt x="184" y="72"/>
                  <a:pt x="368" y="0"/>
                  <a:pt x="528" y="0"/>
                </a:cubicBezTo>
                <a:cubicBezTo>
                  <a:pt x="688" y="0"/>
                  <a:pt x="824" y="72"/>
                  <a:pt x="960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352680" y="190512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1905120"/>
            <a:ext cx="1828800" cy="2286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0-28T21:46:07Z</dcterms:modified>
  <cp:revision>226</cp:revision>
  <dc:subject/>
  <dc:title>Dynamic Memory Allocation II</dc:title>
</cp:coreProperties>
</file>