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FF886002-62DC-441B-82F0-DF2DF5F6B829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Servic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26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ng stat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ng dynam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818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atomy of an HTTP Trans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6320" y="1206360"/>
            <a:ext cx="8727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www.aol.com 8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open connection t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205.188.146.23...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elnet prints 3 lines to the termin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aol.com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 HTTP/1.1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quest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: www.aol.com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required HTTP/1.1 HOST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empty line terminates headers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0 200 OK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IME-Version: 1.0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followed by fiv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head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e: Mon, 08 Jan 2001 04:59:42 GM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: NaviServer/2.0 AOLserver/2.3.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Type: text/html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expect HTML in the </a:t>
            </a: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Length: 42092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expect 42,092 bytes in the resp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empty line 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\r\n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”) terminates hd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tml&gt;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first HTML line i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766 lines of HTML not shown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/html&gt;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last HTML line in response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closes 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closes connection and termina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888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que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TTP request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quest lin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followed by zero or mo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quest head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est line: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method&gt; &lt;uri&gt; &lt;version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version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HTTP version of request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/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/1.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uri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ypically URL for proxies, URL suffix for serv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method&gt;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eithe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GET, POST, OPTIONS, HEAD, PUT, DELETE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TRA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86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ques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6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TTP method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Retrieve static or dynam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 for dynamic content are in 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khorse method (99% of request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Retrieve dynam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 for dynamic content are in the request bod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Get server or file attribu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Lik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ut no data in response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rite a file to the server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ELE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Delete a file on the server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RA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Echo request in response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for debugg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86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ques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est headers: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header name&gt;: &lt;header 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additional information to the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jor differences between HTTP/1.1 and HTTP/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0 uses a new connection for each transa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1 also support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ersistent conne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e transactions over the same conne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onnection: Keep-Al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1 requir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ea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ost: kittyhawk.cmcl.cs.cmu.ed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1 adds additional support for ca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154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spon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TTP response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ponse lin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ollowed by zero or mo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ponse header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ponse line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version&gt; &lt;status code&gt; &lt;status msg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version&gt; is HTTP version of the respons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status code&gt; is numeric statu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status msg&gt; is corresponding English tex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est was handled without err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0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bidd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ver lacks permission to access fi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0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foun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ver couldn’t find the f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ponse headers: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header name&gt;: &lt;header data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additional information about respon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-Typ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ME type of content in response bod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-Length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ngth of content in response bod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111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GE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quest to Apache Serv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om IE Brows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88920" y="2141280"/>
            <a:ext cx="7534440" cy="2038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GET /test.html HTTP/1.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Accept: *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Accept-Language: en-u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Accept-Encoding: gzip, deflat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User-Agent: Mozilla/4.0 (compatible; MSIE 4.01; Windows 98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Host: euro.ecom.cmu.edu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RLF (\r\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GE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sponse From Apache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88920" y="1831320"/>
            <a:ext cx="5935680" cy="3985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e: Thu, 22 Jul 1999 04:02:15 GM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: Apache/1.3.3 Ben-SSL/1.28 (Uni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ast-Modified: Thu, 22 Jul 1999 03:33:21 GM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Tag: "48bb2-4f-3796910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ccept-Ranges: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Length: 7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eep-Alive: timeout=15, max=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RL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ead&gt;&lt;title&gt;Test page&lt;/title&gt;&lt;/head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1&gt;Test page&lt;/h1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096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48320" y="266220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26160" y="266220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2760" y="1969560"/>
            <a:ext cx="4287960" cy="445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 sends request to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request URI contains the string “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/cgi-bi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”, then the server assumes that the request is for dynamic content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13560" y="3117960"/>
            <a:ext cx="912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92120" y="2130480"/>
            <a:ext cx="40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 /cgi-bin/env.pl HTTP/1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73560" y="1901880"/>
            <a:ext cx="10670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53200" y="190188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2760" y="1969920"/>
            <a:ext cx="428796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reates a child process and runs the program identified by the URI in that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59680" y="349884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v.p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84920" y="2890440"/>
            <a:ext cx="0" cy="608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52520" y="301176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/e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73560" y="1825560"/>
            <a:ext cx="10670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53200" y="182556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2760" y="1969560"/>
            <a:ext cx="4287960" cy="445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hild runs and generates the dynamic cont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aptures the content of the child and forwards it without modification to the cli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59680" y="3422520"/>
            <a:ext cx="1065240" cy="989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v.p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684920" y="2814120"/>
            <a:ext cx="0" cy="608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16880" y="296712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02440" y="226728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240240" y="2281320"/>
            <a:ext cx="912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464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Hist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45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nnevar Bush, “As we may think”, Atlantic Monthly, July, 1945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cribes the idea of a distributed hypertext system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“memex” that mimics the “web of trails” in our mind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 Berners-Lee (CERN) writes internal proposal to develop a distributed hypertext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nects “a web of notes with links.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nded to help CERN physicists in large projects share and manage information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0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 BL writes a graphical browser for Next machin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ssues in Serving Dynamic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9440" y="1595160"/>
            <a:ext cx="536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client pass program arguments to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server pass these arguments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server pass other info relevant to the request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server capture the content produced by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se issues are addressed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 Gateway Interface (CGI)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fica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59400" y="182556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7600" y="1825560"/>
            <a:ext cx="106668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1240" y="2814120"/>
            <a:ext cx="0" cy="6843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5080" y="296712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6480" y="213048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524640" y="2462040"/>
            <a:ext cx="9129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10880" y="167328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447960" y="2054160"/>
            <a:ext cx="10652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218440" y="2738520"/>
            <a:ext cx="0" cy="6840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81720" y="296712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43720" y="3422520"/>
            <a:ext cx="1067040" cy="989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v.p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G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cause the children are written according to the CGI spec, they are often call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GI program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cause many CGI programs are written in Perl, they are often call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GI script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CGI really defines a simple standard for transferring information between the client (browser), the server, and the child proc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6000"/>
            <a:ext cx="8991720" cy="114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.com: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Internet addition portal!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1940040"/>
            <a:ext cx="830736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 need to add two numbers together and you just can’t find your calculato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y Dr. Dave’s addition service at “add.com: THE Internet addition portal!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kes as input the two numbers you want to add toge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their sum in a tasteful personalized messag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fter the IPO we’ll expand to multiplication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94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add.com Experie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7" name="capture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07400" cy="4408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1524600" y="10666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UR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1371600"/>
            <a:ext cx="53352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520" y="39006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utput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248160" y="3885840"/>
            <a:ext cx="53316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1066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5720" y="1066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3240" y="10666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GI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3680" y="10666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13716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1371600"/>
            <a:ext cx="7621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1447920"/>
            <a:ext cx="6858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696080" y="1447920"/>
            <a:ext cx="7632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795672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How does the client pass arguments to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 arguments are appended to the UR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be encoded directly in a URL typed to a browser or a URL in an HTML link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add.com/cgi-bin/adder?1&amp;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CGI program on the server that will do the addi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 list starts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“?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separat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“&amp;”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s represented by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“+” or “%20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also be generated by an HTM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6249240"/>
            <a:ext cx="7532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form method=get action="http://add.com/cgi-bin/postadder"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RL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add.com/cgi-bin/adder?1&amp;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 displayed on browser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2200" y="3276720"/>
            <a:ext cx="6509880" cy="19206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lcome to add.com: THE Internet addition port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answer is: 1 + 2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anks for visiting! Tell your friend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220760"/>
            <a:ext cx="780444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Ques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How does the server pass these arguments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 environment variable QUERY_ST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ingle string containing everything after the “?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add.com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UERY_STR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&amp;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2880" y="3657600"/>
            <a:ext cx="627660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hild code that accesses the argument li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buf = getenv("QUERY_STRING")) == NULL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xtract arg1 and arg2 from buf and conve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1 = atoi(arg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2 = atoi(arg2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ow does the server pass other info relevant to the request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 a collection of environment variables defined by the CGI spec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CGI Environm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RVER_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RVER_N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ATEWAY_INTERFA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GI vers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est-specif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RVER_P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QUEST_METHO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UERY_STR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ntai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g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MOTE_H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domain name of cli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MOTE_ADD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IP address of cli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_TYP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type of data in message body, 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xt/htm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_LENG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length in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CGI Environm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 addition, the value of each header of typ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received from the client is placed in environment variab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HTTP_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TTP_ACCEP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TTP_HO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TTP_USER_AGE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any “-” is changed to “_”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History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CSA server relea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6 WWW servers world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c Andreessen releases first version of NCSA Mosaic brows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aic version released for (Windows, Mac, Unix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(port 80) traffic at 1% of NSFNET backbone traffi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 200 WWW servers worldwi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spcAft>
                <a:spcPts val="499"/>
              </a:spcAft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reessen and colleagues leave NCSA to form "Mosaic Communications Corp" (now Netscape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Question: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How does the server capture the content produced by the chil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Answer: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The child generates its output on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  Server uses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dup2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redirect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stdout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its connected socket.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ice that only the child knows the type and size of the content. Thus the child (not the server) must generate the corresponding header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0520" y="3505320"/>
            <a:ext cx="8593200" cy="2770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hild generates the result string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printf(content, "Welcome to add.com: THE Internet addition portal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e answer is: %d + %d = %d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anks for visiting!\r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1, n2, n1+n2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hild generates the headers and dynamic conte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tent-length: %d\r\n", strlen(conte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tent-type: text/html\r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\r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%s", conte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160" y="1066680"/>
            <a:ext cx="6154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tiny 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telnet bass 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: Tiny 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length: 10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elcome to add.com: THE Internet addition portal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e answer is: 1 + 2 = 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anks for visiting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0" y="11430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quest receiv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ny Web 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68040" y="35193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quest sent by 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72360" y="39625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133720"/>
            <a:ext cx="84582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4038480"/>
            <a:ext cx="84582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8200" y="45403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CGI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6019920"/>
            <a:ext cx="84582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x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9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x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n intermediary between a client an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rigin serv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lient, the proxy acts like a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server, the proxy acts like a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32424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324240"/>
            <a:ext cx="1065240" cy="988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0840" y="332280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3124080"/>
            <a:ext cx="2057400" cy="427320"/>
            <a:chOff x="1600200" y="3124080"/>
            <a:chExt cx="2057400" cy="427320"/>
          </a:xfrm>
        </p:grpSpPr>
        <p:sp>
          <p:nvSpPr>
            <p:cNvPr id="204" name=""/>
            <p:cNvSpPr/>
            <p:nvPr/>
          </p:nvSpPr>
          <p:spPr>
            <a:xfrm>
              <a:off x="1600200" y="35514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2160" y="312408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48320" y="3138480"/>
            <a:ext cx="2057400" cy="412920"/>
            <a:chOff x="4648320" y="3138480"/>
            <a:chExt cx="2057400" cy="412920"/>
          </a:xfrm>
        </p:grpSpPr>
        <p:sp>
          <p:nvSpPr>
            <p:cNvPr id="207" name=""/>
            <p:cNvSpPr/>
            <p:nvPr/>
          </p:nvSpPr>
          <p:spPr>
            <a:xfrm>
              <a:off x="4648320" y="35514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00320" y="313848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72000" y="4008600"/>
            <a:ext cx="2057400" cy="413280"/>
            <a:chOff x="4572000" y="4008600"/>
            <a:chExt cx="2057400" cy="413280"/>
          </a:xfrm>
        </p:grpSpPr>
        <p:sp>
          <p:nvSpPr>
            <p:cNvPr id="210" name=""/>
            <p:cNvSpPr/>
            <p:nvPr/>
          </p:nvSpPr>
          <p:spPr>
            <a:xfrm>
              <a:off x="4572000" y="40086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5400" y="408456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23880" y="4008600"/>
            <a:ext cx="2057400" cy="413280"/>
            <a:chOff x="1523880" y="4008600"/>
            <a:chExt cx="2057400" cy="413280"/>
          </a:xfrm>
        </p:grpSpPr>
        <p:sp>
          <p:nvSpPr>
            <p:cNvPr id="213" name=""/>
            <p:cNvSpPr/>
            <p:nvPr/>
          </p:nvSpPr>
          <p:spPr>
            <a:xfrm>
              <a:off x="1523880" y="40086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30960" y="408456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24400" y="3406680"/>
            <a:ext cx="2322720" cy="141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2846520"/>
            <a:ext cx="4800600" cy="333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Proxie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perform useful functions as requests and responses pass b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 Caching, logging, anonym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8560" y="3000240"/>
            <a:ext cx="1065240" cy="98928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76680" y="3808440"/>
            <a:ext cx="1065240" cy="988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5480" y="371628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724040" y="3170160"/>
            <a:ext cx="2243520" cy="738360"/>
            <a:chOff x="1724040" y="3170160"/>
            <a:chExt cx="2243520" cy="738360"/>
          </a:xfrm>
        </p:grpSpPr>
        <p:sp>
          <p:nvSpPr>
            <p:cNvPr id="223" name=""/>
            <p:cNvSpPr/>
            <p:nvPr/>
          </p:nvSpPr>
          <p:spPr>
            <a:xfrm>
              <a:off x="1724040" y="3419640"/>
              <a:ext cx="2157480" cy="488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56600" y="3170160"/>
              <a:ext cx="20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quest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707000" y="3719520"/>
            <a:ext cx="3187800" cy="337320"/>
            <a:chOff x="4707000" y="3719520"/>
            <a:chExt cx="3187800" cy="337320"/>
          </a:xfrm>
        </p:grpSpPr>
        <p:sp>
          <p:nvSpPr>
            <p:cNvPr id="226" name=""/>
            <p:cNvSpPr/>
            <p:nvPr/>
          </p:nvSpPr>
          <p:spPr>
            <a:xfrm>
              <a:off x="4707000" y="4035600"/>
              <a:ext cx="3187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9440" y="3719520"/>
              <a:ext cx="20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quest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67400" y="4213080"/>
            <a:ext cx="3220920" cy="337320"/>
            <a:chOff x="4667400" y="4213080"/>
            <a:chExt cx="3220920" cy="337320"/>
          </a:xfrm>
        </p:grpSpPr>
        <p:sp>
          <p:nvSpPr>
            <p:cNvPr id="229" name=""/>
            <p:cNvSpPr/>
            <p:nvPr/>
          </p:nvSpPr>
          <p:spPr>
            <a:xfrm>
              <a:off x="4667400" y="4492800"/>
              <a:ext cx="3220920" cy="18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32160" y="42130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579680" y="3666960"/>
            <a:ext cx="2097000" cy="615960"/>
            <a:chOff x="1579680" y="3666960"/>
            <a:chExt cx="2097000" cy="615960"/>
          </a:xfrm>
        </p:grpSpPr>
        <p:sp>
          <p:nvSpPr>
            <p:cNvPr id="232" name=""/>
            <p:cNvSpPr/>
            <p:nvPr/>
          </p:nvSpPr>
          <p:spPr>
            <a:xfrm>
              <a:off x="1579680" y="3817800"/>
              <a:ext cx="2097000" cy="46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7080" y="366696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28560" y="498312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70840" y="4443120"/>
            <a:ext cx="2793240" cy="685800"/>
            <a:chOff x="870840" y="4443120"/>
            <a:chExt cx="2793240" cy="685800"/>
          </a:xfrm>
        </p:grpSpPr>
        <p:sp>
          <p:nvSpPr>
            <p:cNvPr id="236" name=""/>
            <p:cNvSpPr/>
            <p:nvPr/>
          </p:nvSpPr>
          <p:spPr>
            <a:xfrm flipV="1">
              <a:off x="1552680" y="4443120"/>
              <a:ext cx="21114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70840" y="4489560"/>
              <a:ext cx="20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quest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703520" y="4801680"/>
            <a:ext cx="2361960" cy="793440"/>
            <a:chOff x="1703520" y="4801680"/>
            <a:chExt cx="2361960" cy="793440"/>
          </a:xfrm>
        </p:grpSpPr>
        <p:sp>
          <p:nvSpPr>
            <p:cNvPr id="239" name=""/>
            <p:cNvSpPr/>
            <p:nvPr/>
          </p:nvSpPr>
          <p:spPr>
            <a:xfrm flipV="1">
              <a:off x="1703520" y="4801680"/>
              <a:ext cx="2361960" cy="77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73200" y="52578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245600" y="6183360"/>
            <a:ext cx="31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ast inexpensive local 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3720" y="4792680"/>
            <a:ext cx="16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wer mor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pens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lobal 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586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udy the Tiny Web server described in your tex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ny is a sequential Web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s static and dynamic content to real brows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files, HTML files, GIF and JPEG ima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20 lines of commented C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omes with an implementation of the CGI script for the add.com addition port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Ho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86" name="hosts" descr=""/>
          <p:cNvPicPr/>
          <p:nvPr/>
        </p:nvPicPr>
        <p:blipFill>
          <a:blip r:embed="rId1"/>
          <a:stretch/>
        </p:blipFill>
        <p:spPr>
          <a:xfrm>
            <a:off x="603360" y="1219320"/>
            <a:ext cx="80071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3733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4400" y="2666880"/>
            <a:ext cx="136872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07080" y="2967120"/>
            <a:ext cx="17492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5720" y="258624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 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59360" y="3575160"/>
            <a:ext cx="14464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3640" y="3702240"/>
            <a:ext cx="196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 respon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cont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3120" y="1598760"/>
            <a:ext cx="3821040" cy="46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lients and servers communicate using  the HyperText Transfer Protocol (HTTP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 and server establish TCP conn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 requests cont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 responds with requested cont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 and server close connection (usually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urrent version is HTTP/1.1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FC 2616, June, 1999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9560" y="2666880"/>
            <a:ext cx="136980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browser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646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 servers retur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cli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ntent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equence of bytes with an associated MIME (Multipurpose Internet Mail Extensions)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MIME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xt/htm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HTML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xt/pla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Unformatted 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pplication/postscrip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tcript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age/gif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Binary image encoded in GIF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age/jpe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Binary image encoded in JPE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77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ic and Dynamic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ontent returned in HTTP responses can be eith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content: content stored in files and retrieved in response to an HTTP requ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HTML files, images, audio clip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 content: content produced on-the-fly in response to an HTTP requ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: content produced by a program executed by the server on behalf of the clien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ttom line: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ll Web content is associated with a file that is managed by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3657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R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file managed by a server has a unique name called a URL (Universal Resource Locator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RLs for static conten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:80/index.ht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/index.ht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ies a file calle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dex.html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anaged by a Web server 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hat is listening on port 80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RLs for dynamic conten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:8000/cgi-bin/adder?15000&amp;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ies an executable file calle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managed by a Web server 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hat is listening on port 8000, that should be called with two argument strings: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5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21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Clients and Servers Use UR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URL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ttp://www.aol.com:80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/index.htm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ttp://www.aol.com:80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to infer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kind of server to contact (Web serv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re the server i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ww.aol.co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port it is listening on (8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/index.htm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t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e if request is for static or dynamic cont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hard and fast rules for thi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vention: executables reside i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gi-b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file on file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l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in suffix denotes home directory for requested conten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al suffix is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, which all servers expand to some default home page (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dex.htm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13T18:41:52Z</dcterms:modified>
  <cp:revision>514</cp:revision>
  <dc:subject/>
  <dc:title>Web Services</dc:title>
</cp:coreProperties>
</file>