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D75FA71D-EEEA-44C2-82F5-E79086C6E70F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amming with Thread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c 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ed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ed for synchron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nizing with semapho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 safety and reentra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ces and dead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9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correct ordering: two threads increment the counter, but the result is 1 instead of 2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193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93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19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19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9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19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9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19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19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19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48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448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448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48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448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448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448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448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448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448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942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942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94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4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4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94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94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94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4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94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831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831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831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831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831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831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831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831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831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831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1200" y="22856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6160" y="22849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2400" y="23014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840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7708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5280" y="51951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about this order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193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193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193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193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193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193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193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193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193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448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448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448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448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448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448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448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448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448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448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942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942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942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942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942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942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942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942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942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942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831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831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831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831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831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831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831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831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831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831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1200" y="167616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6160" y="167544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52400" y="1692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840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5288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288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7708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92800" y="524196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can clarify our understanding of concurr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cution with the help of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gress grap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ess Grap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31000" y="1009440"/>
            <a:ext cx="307944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rogress grap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depic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discrete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ecu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 spac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f concurr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axis corresponds 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sequential order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in a threa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point corresponds 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possibl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ion 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L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S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denotes 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re  thread 1 h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leted L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has completed S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1080" y="537516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811080" y="153468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7272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004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6988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87000" y="53614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312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7760" y="4802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6560" y="41072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7760" y="33865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8560" y="270576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0440" y="1986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20920" y="4657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85920" y="464508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8432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920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8616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20920" y="3957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85920" y="394488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8432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920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8616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20920" y="32418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85920" y="324180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8432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920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8616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20920" y="253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85920" y="2536920"/>
            <a:ext cx="381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8432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8920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616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20920" y="18493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85920" y="1836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8432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920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8616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02960" y="5206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040" y="1218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00360" y="2176920"/>
            <a:ext cx="817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L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, S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53532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7332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8756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9244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8940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7040" y="46450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0560" y="39448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0560" y="3244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0560" y="25272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7040" y="18302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056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jectories in Progress Grap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23720" y="1410120"/>
            <a:ext cx="325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rajector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a sequenc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 legal state transition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at describes one possibl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current execution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threa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1, L1, U1, H2, L2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1, T1, U2, S2, T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9240" y="532440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849240" y="148392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1088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9712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324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50720" y="53107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7648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5920" y="47901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4720" y="40946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5920" y="33865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6720" y="26546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8600" y="1986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59080" y="460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24080" y="45943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27520" y="45943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627360" y="45943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24320" y="45943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59080" y="39067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24080" y="38941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2248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2736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2432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59080" y="319104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24080" y="31910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2248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2736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32432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59080" y="248616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24080" y="248616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2248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736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2432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9080" y="179856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24080" y="178596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2248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2736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2432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41120" y="51559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200" y="11682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60520" y="53020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36680" y="5299200"/>
            <a:ext cx="3816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38320" y="5299200"/>
            <a:ext cx="3672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43200" y="5299200"/>
            <a:ext cx="3672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14960" y="5299200"/>
            <a:ext cx="3780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" y="45943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8720" y="38941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28720" y="31939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28720" y="24764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5200" y="1779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28720" y="5299200"/>
            <a:ext cx="3636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68320" y="5326200"/>
            <a:ext cx="611280" cy="9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88960" y="5326200"/>
            <a:ext cx="739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2760" y="5326200"/>
            <a:ext cx="655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954160" y="4643280"/>
            <a:ext cx="0" cy="63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944800" y="39333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73240" y="3911760"/>
            <a:ext cx="655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64080" y="3911760"/>
            <a:ext cx="655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344840" y="32335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344840" y="25189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344840" y="181908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ritical Sections and Unsafe Reg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97600" y="1244520"/>
            <a:ext cx="299088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, U, and S form a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ritical section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spect to the sha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n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in criti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tions (wrt to so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ared variable) shoul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 be interleave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s of states where su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rleaving occu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m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unsafe region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19240" y="2603520"/>
            <a:ext cx="2095560" cy="2019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57200" y="537516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1357200" y="153468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9364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7952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1600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33120" y="53614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5924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83880" y="48153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12680" y="41202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83880" y="34120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94680" y="26802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06560" y="20116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67040" y="463536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32040" y="463536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30440" y="463536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35320" y="463536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3228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67040" y="3957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32040" y="394488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3044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3532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228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67040" y="32418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32040" y="324180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3044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3532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3228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67040" y="253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32040" y="25369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3044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3532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3228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67040" y="18493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32040" y="1836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3044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3532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3228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49080" y="5206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12160" y="1218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68480" y="53532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74464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756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5116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3228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43160" y="46450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36680" y="39448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36680" y="3244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36680" y="25272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43160" y="18302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3668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08680" y="3425400"/>
            <a:ext cx="153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76240" y="2577960"/>
            <a:ext cx="241200" cy="2070360"/>
          </a:xfrm>
          <a:custGeom>
            <a:avLst/>
            <a:gdLst>
              <a:gd name="textAreaLeft" fmla="*/ 154080 w 241200"/>
              <a:gd name="textAreaRight" fmla="*/ 241560 w 241200"/>
              <a:gd name="textAreaTop" fmla="*/ 54000 h 2070360"/>
              <a:gd name="textAreaBottom" fmla="*/ 2016360 h 207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2971800" y="4749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09440" y="587664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0760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and Unsafe Trajecto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048360" y="1473120"/>
            <a:ext cx="299088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ef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trajectory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afe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f it doesn’t  touch an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an unsafe reg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laim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trajectory i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ect (w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 iff it i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af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2476440"/>
            <a:ext cx="2095560" cy="2019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95360" y="5248440"/>
            <a:ext cx="3809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395360" y="1407960"/>
            <a:ext cx="0" cy="3840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3180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1768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5416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71280" y="52344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9740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22040" y="46882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50840" y="39931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22040" y="32850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32840" y="2553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4720" y="188496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0484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70200" y="45086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860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348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0440" y="45180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04840" y="38307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70200" y="381780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68600" y="381780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73480" y="381780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70440" y="38178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0484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70200" y="3114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6860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7348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70440" y="31147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0484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70200" y="24098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46860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7348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70440" y="240984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04840" y="17226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70200" y="170964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68600" y="170964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73480" y="170964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0440" y="17096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87240" y="50796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0320" y="10918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06640" y="52261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82800" y="522288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65360" y="522288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89320" y="522288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70440" y="522288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80960" y="45180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74840" y="38178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4840" y="311796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74840" y="24004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80960" y="17035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74840" y="522288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27480" y="2589840"/>
            <a:ext cx="136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14440" y="5237280"/>
            <a:ext cx="5889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62080" y="5237280"/>
            <a:ext cx="712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03680" y="5237280"/>
            <a:ext cx="64908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487680" y="4548240"/>
            <a:ext cx="0" cy="6840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487680" y="3879360"/>
            <a:ext cx="1800" cy="628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890960" y="2436480"/>
            <a:ext cx="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890960" y="1730520"/>
            <a:ext cx="0" cy="691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397160" y="4575240"/>
            <a:ext cx="0" cy="65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397160" y="3858840"/>
            <a:ext cx="0" cy="663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2017440" y="2441520"/>
            <a:ext cx="6120" cy="70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052720" y="2438280"/>
            <a:ext cx="709560" cy="5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727280"/>
            <a:ext cx="641520" cy="4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33960" y="1727280"/>
            <a:ext cx="641160" cy="4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390680" y="3173400"/>
            <a:ext cx="0" cy="64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24800" y="257976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raj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04160" y="182520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afe traj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76240" y="2463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6200000">
            <a:off x="2971440" y="4635000"/>
            <a:ext cx="241560" cy="2070000"/>
          </a:xfrm>
          <a:custGeom>
            <a:avLst/>
            <a:gdLst>
              <a:gd name="textAreaLeft" fmla="*/ 154440 w 241560"/>
              <a:gd name="textAreaRight" fmla="*/ 241920 w 24156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9440" y="576216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09312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17920" y="3835440"/>
            <a:ext cx="6350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74840" y="3129120"/>
            <a:ext cx="64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16320" y="3828960"/>
            <a:ext cx="6350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890960" y="3162240"/>
            <a:ext cx="1800" cy="62856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2795760" y="2438280"/>
            <a:ext cx="709560" cy="5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484440" y="1708200"/>
            <a:ext cx="6480" cy="70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759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How can we guarantee a safe traject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must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ynchronize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hreads so that they never enter an unsafe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lassic solu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Dijkstra's P and V operations o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emaphor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maphore: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n-negative integer synchronization vari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(s): [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hile (s == 0) wait(); s--;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utch for "Proberen" (tes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(s): [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++;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utch for "Verhogen" (incremen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S guarantees that operations between brackets [ ] are executed indivisib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one P or V operation at a time can modify 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loop in P terminates, only that P can decrement 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maphore invariant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s &gt;= 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Shar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201680"/>
            <a:ext cx="8307360" cy="92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ere is how we would  use P and V operations to synchronize the threads that updat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57720" y="2655360"/>
            <a:ext cx="4082040" cy="3407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Semaphore s is initially 1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s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s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832040" y="2557440"/>
            <a:ext cx="1900080" cy="1855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Shar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788080" y="1380960"/>
            <a:ext cx="31050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vide mutually exclusive access to shared variable by surrounding critical section with  P and V operations on semapho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initially set to 1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maphore invaria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reate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orbidden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eg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at encloses unsafe region and is neve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uched by any trajector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22400" y="2638440"/>
            <a:ext cx="1728720" cy="1682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2040" y="5557680"/>
            <a:ext cx="4591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1400" y="1203120"/>
            <a:ext cx="0" cy="4354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644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77280" y="55353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28160" y="55353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4680" y="55188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53960" y="58384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5680" y="8823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6540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68400" y="4943520"/>
            <a:ext cx="349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7500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7980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84600" y="4943520"/>
            <a:ext cx="334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204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28796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9420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6540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68400" y="4354560"/>
            <a:ext cx="349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7500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7980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84600" y="4354560"/>
            <a:ext cx="334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04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8796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9420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6540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68400" y="376380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7500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7980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376380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04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8796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89420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6540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68400" y="317484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7500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07980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84600" y="317484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6204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8796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9420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6540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68400" y="2585880"/>
            <a:ext cx="349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7500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7980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684600" y="2585880"/>
            <a:ext cx="334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204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28796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9420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65400" y="55357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6840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473200" y="5533920"/>
            <a:ext cx="334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78000" y="5533920"/>
            <a:ext cx="334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68136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040" y="5533920"/>
            <a:ext cx="316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28616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760" y="5533920"/>
            <a:ext cx="331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65400" y="199548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8400" y="199548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73200" y="199548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7980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83160" y="199548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204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86160" y="199548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9276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65400" y="140652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68400" y="140652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73200" y="140652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7980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683160" y="140652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6204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86160" y="140652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9276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01960" y="55188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58588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98240" y="5518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6640" y="5037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5440" y="44827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5440" y="21362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7520" y="15008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4000" y="387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6640" y="3308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7440" y="2702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73600" y="3328560"/>
            <a:ext cx="153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4520" y="22413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39720" y="5307840"/>
            <a:ext cx="4559400" cy="276480"/>
            <a:chOff x="639720" y="5307840"/>
            <a:chExt cx="4559400" cy="276480"/>
          </a:xfrm>
        </p:grpSpPr>
        <p:sp>
          <p:nvSpPr>
            <p:cNvPr id="644" name=""/>
            <p:cNvSpPr/>
            <p:nvPr/>
          </p:nvSpPr>
          <p:spPr>
            <a:xfrm>
              <a:off x="639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934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105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60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78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968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14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330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72840" y="4661640"/>
            <a:ext cx="4560120" cy="276480"/>
            <a:chOff x="672840" y="4661640"/>
            <a:chExt cx="4560120" cy="276480"/>
          </a:xfrm>
        </p:grpSpPr>
        <p:sp>
          <p:nvSpPr>
            <p:cNvPr id="653" name=""/>
            <p:cNvSpPr/>
            <p:nvPr/>
          </p:nvSpPr>
          <p:spPr>
            <a:xfrm>
              <a:off x="6728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62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436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9300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12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7303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4736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966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67248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2660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188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6024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952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40632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77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669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752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2984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2384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714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888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0632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509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683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752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2984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8568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681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855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0632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509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683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248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32660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89504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205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379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0632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477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669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672840" y="1777320"/>
            <a:ext cx="4560120" cy="276480"/>
            <a:chOff x="672840" y="1777320"/>
            <a:chExt cx="4560120" cy="276480"/>
          </a:xfrm>
        </p:grpSpPr>
        <p:sp>
          <p:nvSpPr>
            <p:cNvPr id="694" name=""/>
            <p:cNvSpPr/>
            <p:nvPr/>
          </p:nvSpPr>
          <p:spPr>
            <a:xfrm>
              <a:off x="67284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266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440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93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125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7299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47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6692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72840" y="1159560"/>
            <a:ext cx="4560120" cy="276480"/>
            <a:chOff x="672840" y="1159560"/>
            <a:chExt cx="4560120" cy="276480"/>
          </a:xfrm>
        </p:grpSpPr>
        <p:sp>
          <p:nvSpPr>
            <p:cNvPr id="703" name=""/>
            <p:cNvSpPr/>
            <p:nvPr/>
          </p:nvSpPr>
          <p:spPr>
            <a:xfrm>
              <a:off x="67284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266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440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93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125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299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47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6692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760" y="5864400"/>
            <a:ext cx="878760" cy="580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itiall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=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SIX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66720" y="1342080"/>
            <a:ext cx="74959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Initialize semaphore sem to valu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shared=0 if thread, pshared=1 if proc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Sem_init(sem_t *sem, int pshared, unsigned int value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init(sem, pshared, value) &l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Sem_init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 operation on semaphore s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P(sem_t *sem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wait(sem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P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V operation on semaphore s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V(sem_t *sem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post(sem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V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Variables in Threaded C Pro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392120"/>
            <a:ext cx="830736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estion: Which variables  in a threaded C program are shared variable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nswer is not as simple as “global variables are shared” and “stack variables are private”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quires answers to the following ques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s the memory model for thread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are variables mapped to memory instanc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many threads reference each of these instanc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ing With POSIX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04840" y="1023840"/>
            <a:ext cx="4773600" cy="5403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oodcnt.c - properly sync’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er progra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em, 0, 1); /* sem=1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OOM! cnt=%d\n", 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K cnt=%d\n", 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1054080"/>
            <a:ext cx="3838320" cy="292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7213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53800" y="2557440"/>
            <a:ext cx="8729640" cy="43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mmon synchronization patter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r waits for slot, inserts item in buffer, and “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ignals”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onsum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umer waits for item, removes it from buffer, and “signals” produc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gnals” in this context has nothing to do with Unix signal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ltimedia processing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er creates MPEG video frames, consumer renders the frames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vent-driven graphical user interfa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er detects mouse clicks, mouse movements, and keyboard hits and inserts corresponding events in buffer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sumer retrieves events from buffer and paints the display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552680" y="1146240"/>
            <a:ext cx="121896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86040" y="1419120"/>
            <a:ext cx="1219320" cy="53352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71640" y="1647720"/>
            <a:ext cx="914400" cy="12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905360" y="1647720"/>
            <a:ext cx="914400" cy="12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19760" y="1149480"/>
            <a:ext cx="121932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371520"/>
            <a:ext cx="7493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ducer-Consumer on a Buffer That Holds One I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0840" y="1516320"/>
            <a:ext cx="3716280" cy="365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buf1.c - producer-consum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n 1-element buff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NITERS 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producer(void *ar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consumer(void *ar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uf; /* shared va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full; /* sem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empt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share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11640" y="1496160"/>
            <a:ext cx="481356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_produce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_consume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initialize the semaphore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hared.empty, 0, 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hared.full,  0, 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reate threads and wa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_producer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duc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_consumer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sum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_produc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_consum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ducer-Consum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4520" y="1927080"/>
            <a:ext cx="3594600" cy="413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roducer th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producer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roduce it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 =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produced 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write item to bu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hared.empt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hared.buf =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hared.f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47920" y="1926360"/>
            <a:ext cx="3594600" cy="389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onsumer th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nsumer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read item from bu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hared.f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 = shared.buf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hared.empt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onsume it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consumed 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8280" y="1143000"/>
            <a:ext cx="31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ly:  empty = 1, full = 0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 Safe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 called from a thread must b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read-saf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 identify four (non-disjoint) classes of thread-unsafe fun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1: Failing to protect shared variab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2: Relying on persistent state across invoca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3: Returning a pointer to a static vari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4: Calling thread-unsafe fun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520" y="361800"/>
            <a:ext cx="692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1: Failing to protect shared variabl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Use P and V semaphore opera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sue: Synchronization operations will slow down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oodcnt.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520" y="352440"/>
            <a:ext cx="7340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520" y="991800"/>
            <a:ext cx="8548920" cy="197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2:  Relying on persistent state across multiple function invoca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dom number generator relies on static stat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Rewrite function so that caller passes in all necessary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96760" y="3021120"/>
            <a:ext cx="6890040" cy="325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and - return pseudo-random integer on 0..32767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rand(voi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unsigned int next = 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xt = next*1103515245 + 12345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(unsigned int)(next/65536) % 32768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rand - set seed for rand(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rand(unsigned int see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xt = see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340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8560" y="914400"/>
            <a:ext cx="4089240" cy="554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3: Returning a ptr to a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atic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riab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es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Rewrite code so caller passes pointer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sue: Requires changes in caller and calle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ock-and-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sue: Requires only simple changes in caller (and none in  calle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wever, caller must free memory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497480" y="3037680"/>
            <a:ext cx="3716280" cy="4870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p = Malloc(...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hostbyname_r(name, host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471920" y="100836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10800" y="4094640"/>
            <a:ext cx="4325760" cy="24339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gethostbyname_ts(char *p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q = Malloc(...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mutex); /* loc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gethostbyname(nam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q = *p;   /* cop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mute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q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1520" y="2832120"/>
            <a:ext cx="574560" cy="304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16400" y="3944880"/>
            <a:ext cx="931680" cy="2142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520" y="352440"/>
            <a:ext cx="664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4: Calling thread-unsafe func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ing one thread-unsafe function makes an entire function thread-unsaf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Modify the function so it calls only thread-safe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1878120" y="2832120"/>
            <a:ext cx="2514600" cy="1905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80880" y="342720"/>
            <a:ext cx="64137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entrant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marL="189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 function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entran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iff it accesses NO shared variables when called from multiple thread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364680" indent="-1202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entrant functions are a proper subset of the set of thread-safe func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E: The fixes to Class 2 and 3 thread-unsafe functions require modifying the function to make it reentran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335320" y="3517920"/>
            <a:ext cx="1523880" cy="114300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entr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738440" y="252684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92720" y="2832120"/>
            <a:ext cx="2514600" cy="1905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91680" y="3441600"/>
            <a:ext cx="157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-un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25680" y="283212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-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Memory Mode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ceptual model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thread runs in the context of a proces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thread has its own separate thread contex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hread ID, stack, stack pointer, program counter, condition codes, and general purpose register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 threads share the remaining process contex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de, data, heap, and shared library segments of the process virtual address space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Open files and installed handl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perationally, this model is not strictly enforced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ile register values are truly separate and protected...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thread can read and write the stack of any other thread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Mismatch between the conceptual and operation model is a source of confusion and error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Safe Library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functions in the Standard C Library (at the back of your K&amp;R text) are thread-saf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rint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can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Unix system calls are thread-safe, with a few excep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14560" y="3620520"/>
            <a:ext cx="67500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ace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ccurs when the correctness of the program depends on one thread reaching point x before another thread reaches point 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11320" y="2458800"/>
            <a:ext cx="6342120" cy="413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a threaded program with a rac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[N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[i], NULL, thread, &amp;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[i]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*((int *)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ello from thread %d\n", myi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498680" y="3733920"/>
            <a:ext cx="9144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ad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d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785880" y="1653840"/>
            <a:ext cx="0" cy="38401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5880" y="5494320"/>
            <a:ext cx="3809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82840" y="5443560"/>
            <a:ext cx="0" cy="1220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73560" y="544356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2004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8700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25400" y="4556160"/>
            <a:ext cx="1224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725400" y="2850840"/>
            <a:ext cx="127080" cy="46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01240" y="26506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463280" y="56304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40480" y="1337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96880" y="2031840"/>
            <a:ext cx="1868760" cy="170208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400" y="5985000"/>
            <a:ext cx="169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ly, s=t=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3560" y="4352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411280" y="2870280"/>
            <a:ext cx="1868760" cy="170172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21000" y="548172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15712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87960" y="550692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2408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789920" y="2120040"/>
            <a:ext cx="1294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on for 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701800" y="3898080"/>
            <a:ext cx="1249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on for 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5400" y="3718080"/>
            <a:ext cx="1224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00880" y="3514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725400" y="1999800"/>
            <a:ext cx="127080" cy="46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8560" y="18000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11560" y="3746520"/>
            <a:ext cx="88920" cy="88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97360" y="1797120"/>
            <a:ext cx="117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ad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2450880" y="2286000"/>
            <a:ext cx="16254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37320" y="1177920"/>
            <a:ext cx="31050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cking introduces 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: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iting for a condition that will never be tru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trajectory that en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 region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ventually reach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 stat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waiting for eith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to become nonzero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ther trajectories luck out and skirt the deadlock reg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fortunate fact: deadlock is often non-deterministic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provide another mechanism for writing concurrent program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are growing in popular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what cheaper than process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share data between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the ease of sharing has a cos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introduce subtle synchronization error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ead carefully with thread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more info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. Butenhof, “Programming with Posix Threads”, Addison-Wesley, 1997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of Threads Accessing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other Thread’s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00" y="1651320"/>
            <a:ext cx="3716280" cy="438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79040" y="1636560"/>
            <a:ext cx="4448160" cy="219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int svar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[%d]: %s (svar=%d)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yid, ptr[myid], ++sva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36480" y="4311720"/>
            <a:ext cx="4582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eer threads access main thread’s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directly through global ptr vari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931000" y="3606840"/>
            <a:ext cx="520560" cy="673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9480" y="266400"/>
            <a:ext cx="897228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pping Variables to Mem. Instan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00" y="1994040"/>
            <a:ext cx="3716280" cy="438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06120" y="3389400"/>
            <a:ext cx="4448160" cy="219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int svar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[%d]: %s (svar=%d)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yid, ptr[myid], ++sva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680" y="987480"/>
            <a:ext cx="394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Global va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397160" y="1244520"/>
            <a:ext cx="380880" cy="787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04160" y="5985000"/>
            <a:ext cx="462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static va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va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286680" y="4584600"/>
            <a:ext cx="304560" cy="1346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47720" y="1450800"/>
            <a:ext cx="55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automatic var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.m, msgs.m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41320" y="1752480"/>
            <a:ext cx="1701720" cy="1650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73840" y="1956240"/>
            <a:ext cx="4149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automatic var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2 instances (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peer thread 0’s stack],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peer thread 1’s stack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905440" y="2882880"/>
            <a:ext cx="533520" cy="13208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Variable Analysi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ich variables are shar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0280" y="1744200"/>
            <a:ext cx="72414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anc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?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 0?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 1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va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.m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sgs.m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600" y="4610160"/>
            <a:ext cx="8254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9000"/>
          </a:bodyPr>
          <a:p>
            <a:pPr marL="189000" indent="-18900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swer: A variable x is shared iff multiple threads reference at least one  instance of x. Thu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64680" indent="-120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t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va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sg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re sha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364680" indent="-120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y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a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3760" y="200160"/>
            <a:ext cx="8775720" cy="109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badcnt.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An Improperly Synchronized Threaded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8200" y="1399320"/>
            <a:ext cx="43261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cnt = 0; /* share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1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2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1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2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OOM! cnt=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K cnt=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84560" y="1379880"/>
            <a:ext cx="359460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238920"/>
            <a:ext cx="2497320" cy="20408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84118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2618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26967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4920" y="5317920"/>
            <a:ext cx="32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cn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hould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qual to 200,000,00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went wrong?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ode for Counter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33880" y="2201400"/>
            <a:ext cx="4552920" cy="37443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9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$99999999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e .L1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 .L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2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cnt,%eax      # 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1(%eax),%edx  # Up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%edx,cnt      # Stor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1(%eax)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%edx,-4(%eb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 .L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5160" y="152352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esponding as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0 -fforce-me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13160"/>
            <a:ext cx="3200400" cy="58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2186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 code for counter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6040" y="22096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4840" y="2571480"/>
            <a:ext cx="115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d (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89720" y="4846320"/>
            <a:ext cx="96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il (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30480" y="44956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33880" y="3492360"/>
            <a:ext cx="4552920" cy="1296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33880" y="4470480"/>
            <a:ext cx="4552920" cy="2520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16080" y="3523320"/>
            <a:ext cx="17798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cnt (L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cnt (U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ore cnt (S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33880" y="568944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52440"/>
            <a:ext cx="6616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45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idea: In general, any sequentially consistent interleaving is possible, but some are incorrect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notes that thread i executes instruction 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e contents of %eax in thread i’s con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0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0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0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0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0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0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0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0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0200" y="5324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0200" y="5595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65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5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65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65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65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65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5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65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653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53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147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147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147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147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147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147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147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147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147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147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56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56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356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56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356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56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56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568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568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61720" y="27428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27040" y="27421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04960" y="27586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3892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54720" y="5728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6080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080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6080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6080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6080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6080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6080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6080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6080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6080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8500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2-05T16:18:33Z</dcterms:modified>
  <cp:revision>608</cp:revision>
  <dc:subject/>
  <dc:title>Programming with Threads</dc:title>
</cp:coreProperties>
</file>