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9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F52-52CB-4856-BE1F-BAC79F87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CD20-DA3D-4A60-9210-7A94D8C6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AE5-A1A2-45E9-8C1A-B34FB349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ED2-2490-40F5-97B5-96E27751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1CB-735E-4A1F-8DB6-AC50E5CF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12E-6F54-4FF7-9CE2-CAC74105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44C1-E9EB-49A8-AE01-8CFBCEA3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73E-5ABE-4E2A-962D-388E1A74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5F3-6314-41E6-AD1F-54D5AA2D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31B-37D3-445C-9BA2-83ABC328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1ED-1B34-4417-9534-8AA1C3F8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427-D139-4F73-9BDC-B9D364EC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7557-966E-4113-A12F-670879D54CC2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6A22-380E-49C2-8705-64A08463BFC5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12.png"/><Relationship Id="rId45" Type="http://schemas.openxmlformats.org/officeDocument/2006/relationships/image" Target="../media/image11.png"/><Relationship Id="rId46" Type="http://schemas.openxmlformats.org/officeDocument/2006/relationships/image" Target="../media/image10.png"/><Relationship Id="rId47" Type="http://schemas.openxmlformats.org/officeDocument/2006/relationships/image" Target="../media/image11.png"/><Relationship Id="rId48" Type="http://schemas.openxmlformats.org/officeDocument/2006/relationships/image" Target="../media/image10.png"/><Relationship Id="rId49" Type="http://schemas.openxmlformats.org/officeDocument/2006/relationships/image" Target="../media/image10.png"/><Relationship Id="rId50" Type="http://schemas.openxmlformats.org/officeDocument/2006/relationships/image" Target="../media/image10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0.png"/><Relationship Id="rId54" Type="http://schemas.openxmlformats.org/officeDocument/2006/relationships/image" Target="../media/image11.png"/><Relationship Id="rId55" Type="http://schemas.openxmlformats.org/officeDocument/2006/relationships/image" Target="../media/image12.png"/><Relationship Id="rId56" Type="http://schemas.openxmlformats.org/officeDocument/2006/relationships/image" Target="../media/image10.png"/><Relationship Id="rId57" Type="http://schemas.openxmlformats.org/officeDocument/2006/relationships/image" Target="../media/image11.png"/><Relationship Id="rId58" Type="http://schemas.openxmlformats.org/officeDocument/2006/relationships/image" Target="../media/image11.png"/><Relationship Id="rId59" Type="http://schemas.openxmlformats.org/officeDocument/2006/relationships/image" Target="../media/image10.png"/><Relationship Id="rId60" Type="http://schemas.openxmlformats.org/officeDocument/2006/relationships/image" Target="../media/image12.png"/><Relationship Id="rId61" Type="http://schemas.openxmlformats.org/officeDocument/2006/relationships/image" Target="../media/image10.png"/><Relationship Id="rId62" Type="http://schemas.openxmlformats.org/officeDocument/2006/relationships/image" Target="../media/image10.png"/><Relationship Id="rId63" Type="http://schemas.openxmlformats.org/officeDocument/2006/relationships/image" Target="../media/image11.png"/><Relationship Id="rId64" Type="http://schemas.openxmlformats.org/officeDocument/2006/relationships/image" Target="../media/image12.png"/><Relationship Id="rId6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9 – Limits to ILP  and Simultaneous Multithreading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3560" y="4289400"/>
            <a:ext cx="766296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vlsi.cs.berkeley.edu/cs252-s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28600" y="1501920"/>
          <a:ext cx="8915400" cy="523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01920"/>
                    <a:ext cx="8915400" cy="52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Window Impac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2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3765600" cy="492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from Infinite window 2048, 512, 128, 3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3400" y="129528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9 -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3320" y="289548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8 - 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2312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67A-2A8B-4B28-9D40-EFA75D76CB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4690C-6198-4CE9-BC1F-615728F22918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04920" y="1143000"/>
          <a:ext cx="8229600" cy="571500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Perfect vs. 8K Tournament vs. 512 2-bit vs. profile vs. 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to 6% mis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urnament Branch Predi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D74-E3E5-4F23-B86B-AB1F7CFA439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02402-A734-4F6E-B722-572D5A1546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09480" y="1244520"/>
          <a:ext cx="8204400" cy="537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44520"/>
                    <a:ext cx="8204400" cy="53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399600"/>
            <a:ext cx="84772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Branch Impac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3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0800" y="971280"/>
            <a:ext cx="3886200" cy="201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from Infinite window to examine to 2048 and maximum issue of 64 instructions per clock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22400" y="646740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50000" y="6467400"/>
            <a:ext cx="124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BHT (5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04480" y="6467400"/>
            <a:ext cx="150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Tourna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64440" y="6467400"/>
            <a:ext cx="95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er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26840" y="6505560"/>
            <a:ext cx="165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c0081"/>
                </a:solidFill>
                <a:latin typeface="Arial"/>
              </a:rPr>
              <a:t>No 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23480" y="101448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15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1480" y="309096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6 -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12312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374-7C5D-4FD0-A320-20329532198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0A56D-DB59-4392-81F1-48A59E96E50C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isprediction Rat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066680"/>
          <a:ext cx="9144000" cy="51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1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76CC-2C34-44A2-9DFC-68201F88B9F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5AB8F-2583-47DF-87BF-9B67BDA843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04920" y="1143000"/>
          <a:ext cx="8229600" cy="511956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finite v. 256, 128, 64, 32, non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8K 2-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nament Branch Predi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107-4D97-4BBB-B8A4-FD701B0FD8A5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7141D-B5E7-4403-BFC9-6C30B6B7F4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68280" y="1157400"/>
          <a:ext cx="8178840" cy="536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157400"/>
                    <a:ext cx="8178840" cy="53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820000" cy="15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naming Register Impact (N int + N fp) 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3.5</a:t>
            </a:r>
            <a:endParaRPr b="1" lang="en-US" sz="1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90680" y="1619280"/>
            <a:ext cx="3619440" cy="125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 2048 instr window, 64 instr issue, 8K 2 level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6560" y="6389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74160" y="6389640"/>
            <a:ext cx="94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97800" y="638964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61480" y="6389640"/>
            <a:ext cx="118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25000" y="6389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1440" y="638964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7000" y="342900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5 -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42600" y="112860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11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900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D5A-EF3C-4F5D-8D82-8DD5388CBCF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F32E7-4BBB-4A22-BF65-DECBC2623E1F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04920" y="1143000"/>
          <a:ext cx="8229600" cy="531828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5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t + 256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8K 2-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na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Perfect v. Stack v. Inspect v. 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7790-F9F1-423B-A584-7BC6F6BEBAD3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DA924-3235-442B-B1A0-818D146B84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5040" y="927000"/>
            <a:ext cx="8496360" cy="5384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emory Address Alias Imp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6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520" y="1447920"/>
            <a:ext cx="36576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 2048 instr window, 64 instr issue, 8K 2 level Prediction, 256 renaming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18760" y="6097680"/>
            <a:ext cx="94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6960" y="6097680"/>
            <a:ext cx="2792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Global/Stack perf;</a:t>
            </a:r>
            <a:br>
              <a:rPr sz="2400"/>
            </a:b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heap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1760" y="6097680"/>
            <a:ext cx="121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4880" y="6097680"/>
            <a:ext cx="1265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Inspec.</a:t>
            </a:r>
            <a:br>
              <a:rPr sz="2400"/>
            </a:b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Ass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51800" y="1795320"/>
            <a:ext cx="1537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4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ortr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he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69800" y="3262320"/>
            <a:ext cx="199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4 -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2312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083-DBED-4F9F-8170-A21A31CBDA6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1A150-5269-457C-B1E1-B77C07E92A32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1143000"/>
          <a:ext cx="8229600" cy="507348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 (no restricti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finite vs. 256, 128, 64, 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t + 64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1K 2-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na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W disambig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ADB-B725-430C-BBFB-3C835471BF71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15BC9-886A-4131-BCB1-F320BE3205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4160" y="993600"/>
            <a:ext cx="8623080" cy="5524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628200"/>
            <a:ext cx="88963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alistic HW: Window Impac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igure 3.7)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405792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ect disambiguation (HW), 1K Selective Prediction, 16 entry return, 64 registers, issue as many as 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24800" y="63514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25000" y="63514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1240" y="635148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7200" y="6351480"/>
            <a:ext cx="118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99520" y="63514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61520" y="635148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24560" y="63514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2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75600" y="63514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4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7480" y="373860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6 -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61360" y="2004840"/>
            <a:ext cx="153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8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-28800" y="360756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1DA3-7086-42A1-8563-53CF67C4024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77D3E-D0F1-4E66-AA99-ACB1D6E055DF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Tim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1406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 in multiple-issue because wanted to improve performance without affecting uniprocessor programming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ing advantage of ILP is conceptually simple, but design problems are amazingly complex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rvative in ideas, just faster clock and big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s of last 5 years (Pentium 4, IBM Power 5, AMD Opteron) have the same basic structure and similar sustained issue rates (3 to 4 instructions per clock) as the 1st dynamically scheduled, multiple-issue processors announced in 199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s 10 to 20X faster, caches 4 to 8X bigger, 2 to 4X as many renaming registers, and 2X as many load-store uni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formance 8 to 16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k v. delivered performance gap incre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A9F-4FD2-4D26-A973-7CCA6ACCB2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0C687-3524-42B9-A0AC-969E2DC967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867800" cy="54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Page project writeups Due LAST Sun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mework Assignment due Fri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 on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Friday Reading Assignment: “Simultaneous Multithreading: A Platform for Next-generation Processors,” Susan J. Eggers et al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EEE Mic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199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30 minute discussion after one hour lecture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email to TA by Friday, will be posted on Saturday, review before discussion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ssumption made about computer organization before add SMT? What performance advantages claimed? For what workload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ompare to Wall’s ILP limit claim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6BB-8496-4493-B16A-D9F37BA8755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E1303-199C-459E-83E6-946B2B88DE64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Limits to ILP (another perspec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4 vs. Power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to Head: VLIW vs. Superscalar vs. SM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0550-08C8-4C66-B283-A802616ADF1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5EB77-2853-4A6D-9918-D5FAA637C6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30120"/>
            <a:ext cx="79246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ow to Exceed ILP Limits of this study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are not laws of physics; just practical limits for today, and perhaps overcome via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and ISA advances could change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 and WAW hazards through memory: eliminated WAW and WAR hazards through register renaming, but not in memory u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get conflicts via allocation of stack frames as a called procedure reuses the memory addresses of a previous frame on the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8FB-BF1E-453A-938D-AF027D69DBE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4E07E-7667-4B31-87D3-84EA5EB50EBC}" type="datetime1">
              <a:rPr lang="en-US"/>
              <a:t>07/29/26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W v. SW to increase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disambiguation: HW b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ulation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W best when dynamic branch prediction better than compile time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easier for H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W doesn’t need bookkeeping code or compensation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complicated to ge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ing: SW can look ahead to schedule bet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 independence: does not require new compiler, recompilation to run w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852-285F-42FA-9630-85F45BE3996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EDD5A-75AD-4800-8837-A9BDAF9566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Performance beyond single thread ILP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can be much higher natural parallelism in some applicatio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e.g., Database or Scientific cod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it 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Thread Level Paralle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Data Level Parallel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Threa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process with own instructions and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ad may be a process part of a parallel program of multiple processes, or it may be an independent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hread has all the state (instructions, data, PC, register state, and so on) necessary to allow it to exec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Data Level Paralle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Perform identical operations on data, and lots of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B725-37E9-4F64-BC32-7A8FB6B7218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67A19-497E-4203-A8CE-1B5E02C223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ad Level Parallelism (TLP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8040" y="1193400"/>
            <a:ext cx="7683480" cy="53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P exploits implicit parallel operations within a loop or straight-line code seg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P explicitly represented by the use of multiple threads of execution that are inherently parall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: Use multiple instruction streams to improv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put of computers that run many progra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on time of multi-threaded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P could be more cost-effective to exploit than IL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334-A771-48BF-8E7C-77AD8C4E8A2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C0B28-0DB7-49D0-BC52-7D102CB008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ew Approach: Mulithreaded Execu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threading: multiple threads to share the functional units of 1 processor via overla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or must duplicate independent state of each thread e.g., a separate copy of register file, a separate PC, and for running independent programs, a separate page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shared through the virtual memory mechanisms, which already support multiple pro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W for fast thread switch; much faster than full process switc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00s to 1000s of c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switc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e instruction per thread (fine gra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thread is stalled, perhaps for a cache miss, another thread can be executed (coarse gra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D8B-6B8B-4C5E-823D-C22DBCFAF82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3D48F-FF81-477F-B4E7-B5427A026BA8}" type="datetime1">
              <a:rPr lang="en-US"/>
              <a:t>07/29/26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ine-Grained Multithre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s between threads on each instruction, causing the execution of multiples threads to be interleav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done in a round-robin fashion, skipping any stalled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must be able to switch threads every c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 is it can hide both short and long stalls, since instructions from other threads executed when one thread stal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 is it slows down execution of individual threads, since a thread ready to execute without stalls will be delayed by instructions from other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on Sun’s Niagara (will see lat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D90-9167-4B04-985B-5BDD73D4F31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2F896-1D25-4CEB-974F-5C8B956097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urse-Grained Multithre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12080" cy="528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s threads only on costly stalls, such as L2 cache mi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eves need to have very fast thread-switc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n’t slow down thread, since instructions from other threads issued only when the thread encounters a costly st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 is hard to overcome throughput losses from shorter stalls, due to pipeline start-up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CPU issues instructions from 1 thread, when a stall occurs, the pipeline must be emptied or froz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thread must fill pipeline before instructions can complet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 start-up overhead, coarse-grained multithreading is better for reducing penalty of high cost stalls, where pipeline refill &lt;&lt; stall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 IBM AS/4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392-BE54-4E45-ABF0-5E1FE513CBC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6FD68-2009-4169-97F5-9F7537E0B3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92520" y="-360"/>
            <a:ext cx="948708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r most apps, most execution units lie id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47920" y="880920"/>
            <a:ext cx="5918040" cy="5977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86400" y="5097600"/>
            <a:ext cx="181764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From: Tullsen, Eggers, and Lev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Simultaneous Multithreading: Maximizing On-chip Parallelism, ISCA 199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990720"/>
            <a:ext cx="1886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900" spc="-1" strike="noStrike">
                <a:solidFill>
                  <a:srgbClr val="053de8"/>
                </a:solidFill>
                <a:latin typeface="Arial"/>
              </a:rPr>
              <a:t>For an 8-way superscala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o ILP (another perspec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4 vs. Power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to Head: VLIW vs. Superscalar vs. SM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D76-4347-4976-8E45-C772D6FBA2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1242D-D196-4A31-A2EA-1F4D0B153C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o both ILP and TLP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P and ILP exploit two different kinds of parallel structure in a progra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a processor oriented at ILP to exploit TLP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units are often idle in data path designed for ILP because of either stalls or dependences in the cod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the TLP be used as a source of independent instructions that might keep the processor busy during stalls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TLP be used to employ the functional units that would otherwise lie idle when insufficient ILP exists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3F8-9DFA-48CF-82D4-7116CA46371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FB5C4-48A8-4E68-875B-6639017A17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imultaneous Multi-threading ...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63480" y="1679400"/>
          <a:ext cx="3462480" cy="4481640"/>
        </p:xfrm>
        <a:graphic>
          <a:graphicData uri="http://schemas.openxmlformats.org/drawingml/2006/table">
            <a:tbl>
              <a:tblPr/>
              <a:tblGrid>
                <a:gridCol w="376920"/>
                <a:gridCol w="388800"/>
                <a:gridCol w="388440"/>
                <a:gridCol w="376920"/>
                <a:gridCol w="388800"/>
                <a:gridCol w="388440"/>
                <a:gridCol w="376920"/>
                <a:gridCol w="388800"/>
                <a:gridCol w="388440"/>
              </a:tblGrid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59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1085760" y="1371600"/>
            <a:ext cx="30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4920" y="137160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93880" y="1371600"/>
            <a:ext cx="41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93840" y="1371600"/>
            <a:ext cx="43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83000" y="1371600"/>
            <a:ext cx="4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82960" y="1371600"/>
            <a:ext cx="4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6840" y="1371600"/>
            <a:ext cx="49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14840" y="137160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760" y="1360440"/>
            <a:ext cx="84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53de8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990720"/>
            <a:ext cx="4022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061"/>
              </a:lnSpc>
              <a:tabLst>
                <a:tab algn="l" pos="0"/>
                <a:tab algn="l" pos="536400"/>
                <a:tab algn="l" pos="1360440"/>
                <a:tab algn="l" pos="2182680"/>
                <a:tab algn="l" pos="3006720"/>
                <a:tab algn="l" pos="3828960"/>
                <a:tab algn="l" pos="4651200"/>
                <a:tab algn="l" pos="5475240"/>
                <a:tab algn="l" pos="629748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thread, 8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6960" y="6389640"/>
            <a:ext cx="853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M = Load/Store, FX = Fixed Point, FP = Floating Point, BR = Branch, CC = 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292720" y="1741320"/>
          <a:ext cx="3462480" cy="4481640"/>
        </p:xfrm>
        <a:graphic>
          <a:graphicData uri="http://schemas.openxmlformats.org/drawingml/2006/table">
            <a:tbl>
              <a:tblPr/>
              <a:tblGrid>
                <a:gridCol w="376920"/>
                <a:gridCol w="388800"/>
                <a:gridCol w="388440"/>
                <a:gridCol w="376920"/>
                <a:gridCol w="388800"/>
                <a:gridCol w="388440"/>
                <a:gridCol w="376920"/>
                <a:gridCol w="388800"/>
                <a:gridCol w="388440"/>
              </a:tblGrid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59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</a:tr>
              <a:tr h="50292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5703840" y="1433520"/>
            <a:ext cx="30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3000" y="143352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11960" y="1433520"/>
            <a:ext cx="41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11920" y="1433520"/>
            <a:ext cx="4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01080" y="1433520"/>
            <a:ext cx="43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01040" y="143352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54920" y="1433520"/>
            <a:ext cx="4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31120" y="14335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38840" y="1422360"/>
            <a:ext cx="84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53de8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1066680"/>
            <a:ext cx="4194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061"/>
              </a:lnSpc>
              <a:tabLst>
                <a:tab algn="l" pos="0"/>
                <a:tab algn="l" pos="536400"/>
                <a:tab algn="l" pos="1360440"/>
                <a:tab algn="l" pos="2182680"/>
                <a:tab algn="l" pos="3006720"/>
                <a:tab algn="l" pos="3828960"/>
                <a:tab algn="l" pos="4651200"/>
                <a:tab algn="l" pos="5475240"/>
                <a:tab algn="l" pos="629748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threads, 8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18080" y="701640"/>
            <a:ext cx="0" cy="560088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imultaneous Multithreading (SMT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 (SMT): insight that dynamically scheduled processor already has many HW mechanisms to support 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set of virtual registers that can be used to hold the register sets of independent thread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renaming provides unique register identifiers, so instructions from multiple threads can be mixed in datapath without confusing sources and destinations across th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-of-order completion allows the threads to execute out of order, and get better utilization of the H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 adding a per thread renaming table and keeping separate P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 commitment can be supported by logically keeping a separate reorder buffer for each thr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25280" y="6019200"/>
            <a:ext cx="271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Micrprocessor Report, December 6, 1999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“Compaq Chooses SMT for Alph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B72-873C-4277-860C-3C5B774C693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8FD0E-38A9-4720-A0D0-78728CB329B8}" type="datetime1">
              <a:rPr lang="en-US"/>
              <a:t>07/29/26</a:t>
            </a:fld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15920" y="330120"/>
            <a:ext cx="65167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ultithreaded Categori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90720" y="1447920"/>
            <a:ext cx="1143000" cy="3581280"/>
            <a:chOff x="990720" y="1447920"/>
            <a:chExt cx="1143000" cy="3581280"/>
          </a:xfrm>
        </p:grpSpPr>
        <p:sp>
          <p:nvSpPr>
            <p:cNvPr id="185" name=""/>
            <p:cNvSpPr/>
            <p:nvPr/>
          </p:nvSpPr>
          <p:spPr>
            <a:xfrm>
              <a:off x="99072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564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056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0512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0720" y="17524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564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056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0512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072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564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056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0512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9072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9564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0056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907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9564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056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051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9072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564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56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0512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90720" y="32767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95640" y="32767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056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0512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90720" y="35812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9564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0056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051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9072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9564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0056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512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9072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64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056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0512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9072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9564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0056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0512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90720" y="48006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640" y="48006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0056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512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514600" y="1447920"/>
            <a:ext cx="1143000" cy="3581280"/>
            <a:chOff x="2514600" y="1447920"/>
            <a:chExt cx="1143000" cy="3581280"/>
          </a:xfrm>
        </p:grpSpPr>
        <p:sp>
          <p:nvSpPr>
            <p:cNvPr id="234" name=""/>
            <p:cNvSpPr/>
            <p:nvPr/>
          </p:nvSpPr>
          <p:spPr>
            <a:xfrm>
              <a:off x="251460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1952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2408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2900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14600" y="1752480"/>
              <a:ext cx="22860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19520" y="1752480"/>
              <a:ext cx="22860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2408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2900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14600" y="20574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19520" y="20574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2408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900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4600" y="2362320"/>
              <a:ext cx="2286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19520" y="2362320"/>
              <a:ext cx="2286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408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900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14600" y="2666880"/>
              <a:ext cx="22860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195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2408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2900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460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1952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2408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2900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14600" y="3276720"/>
              <a:ext cx="228600" cy="228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19520" y="3276720"/>
              <a:ext cx="228600" cy="228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24080" y="3276720"/>
              <a:ext cx="22860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2900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1460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1952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2408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2900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14600" y="3886200"/>
              <a:ext cx="22860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1952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2408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2900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14600" y="4191120"/>
              <a:ext cx="228600" cy="2286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19520" y="4191120"/>
              <a:ext cx="22860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4080" y="4191120"/>
              <a:ext cx="22860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4191120"/>
              <a:ext cx="228600" cy="228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1460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2408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14600" y="4800600"/>
              <a:ext cx="228600" cy="2286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1952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2408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2900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038480" y="1447920"/>
            <a:ext cx="1143000" cy="3581280"/>
            <a:chOff x="4038480" y="1447920"/>
            <a:chExt cx="1143000" cy="3581280"/>
          </a:xfrm>
        </p:grpSpPr>
        <p:sp>
          <p:nvSpPr>
            <p:cNvPr id="283" name=""/>
            <p:cNvSpPr/>
            <p:nvPr/>
          </p:nvSpPr>
          <p:spPr>
            <a:xfrm>
              <a:off x="4038480" y="2666880"/>
              <a:ext cx="228600" cy="2286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3040" y="2666880"/>
              <a:ext cx="228600" cy="2286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796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5288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38480" y="2971800"/>
              <a:ext cx="228600" cy="2286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43040" y="2971800"/>
              <a:ext cx="228600" cy="2286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47960" y="2971800"/>
              <a:ext cx="228600" cy="22860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5288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38480" y="3276720"/>
              <a:ext cx="228600" cy="2286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43040" y="3276720"/>
              <a:ext cx="228600" cy="22860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47960" y="3276720"/>
              <a:ext cx="228600" cy="22860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5288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3848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04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796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88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38480" y="38862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43040" y="38862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288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3848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4304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4796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5288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38480" y="4495680"/>
              <a:ext cx="228600" cy="2286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43040" y="4495680"/>
              <a:ext cx="228600" cy="22860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796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5288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38480" y="4800600"/>
              <a:ext cx="228600" cy="22860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4304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4796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5288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3848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4304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796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5288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38480" y="17524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4304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4796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5288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3848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4304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4796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5288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848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4304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4796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5288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638680" y="1295280"/>
            <a:ext cx="1143000" cy="3962520"/>
            <a:chOff x="5638680" y="1295280"/>
            <a:chExt cx="1143000" cy="3962520"/>
          </a:xfrm>
        </p:grpSpPr>
        <p:sp>
          <p:nvSpPr>
            <p:cNvPr id="332" name=""/>
            <p:cNvSpPr/>
            <p:nvPr/>
          </p:nvSpPr>
          <p:spPr>
            <a:xfrm>
              <a:off x="5638680" y="26668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4360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485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3868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4360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48520" y="2971800"/>
              <a:ext cx="228600" cy="22860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2971800"/>
              <a:ext cx="228600" cy="2286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3868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4360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48520" y="3276720"/>
              <a:ext cx="228600" cy="22860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38680" y="35812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3600" y="35812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48520" y="3581280"/>
              <a:ext cx="228600" cy="22860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53080" y="3581280"/>
              <a:ext cx="228600" cy="2286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3868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4360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48520" y="3886200"/>
              <a:ext cx="228600" cy="22860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5308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38680" y="41911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43600" y="41911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4852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5308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3868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4360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48520" y="4495680"/>
              <a:ext cx="228600" cy="22860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5308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3868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4360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4800600"/>
              <a:ext cx="228600" cy="22860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53080" y="4800600"/>
              <a:ext cx="228600" cy="22860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3868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4360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48520" y="1447920"/>
              <a:ext cx="228600" cy="22860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53080" y="1447920"/>
              <a:ext cx="228600" cy="22860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38680" y="17524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4360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48520" y="1752480"/>
              <a:ext cx="228600" cy="22860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53080" y="1752480"/>
              <a:ext cx="228600" cy="22860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3868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4360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48520" y="2057400"/>
              <a:ext cx="228600" cy="22860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308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3868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4360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48520" y="2362320"/>
              <a:ext cx="228600" cy="22860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5308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10360" y="1295280"/>
              <a:ext cx="0" cy="39625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238880" y="2666880"/>
            <a:ext cx="228600" cy="2286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2666880"/>
            <a:ext cx="228600" cy="22860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2666880"/>
            <a:ext cx="228600" cy="2286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53280" y="2666880"/>
            <a:ext cx="228600" cy="22860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3888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84872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15328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32767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32767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848720" y="3276720"/>
            <a:ext cx="228600" cy="22860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153280" y="3276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238880" y="358128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3581280"/>
            <a:ext cx="228600" cy="2286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848720" y="35812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153280" y="3581280"/>
            <a:ext cx="228600" cy="2286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38862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8862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848720" y="3886200"/>
            <a:ext cx="228600" cy="2286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153280" y="3886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41911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543800" y="4191120"/>
            <a:ext cx="228600" cy="22860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848720" y="4191120"/>
            <a:ext cx="228600" cy="2286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153280" y="41911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449568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43800" y="4495680"/>
            <a:ext cx="228600" cy="22860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48720" y="4495680"/>
            <a:ext cx="228600" cy="22860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53280" y="44956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4800600"/>
            <a:ext cx="228600" cy="22860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543800" y="4800600"/>
            <a:ext cx="228600" cy="22860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848720" y="4800600"/>
            <a:ext cx="228600" cy="22860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153280" y="48006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38880" y="14479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43800" y="14479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848720" y="1447920"/>
            <a:ext cx="228600" cy="2286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153280" y="1447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175248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543800" y="17524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848720" y="1752480"/>
            <a:ext cx="228600" cy="22860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53280" y="1752480"/>
            <a:ext cx="228600" cy="22860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2057400"/>
            <a:ext cx="228600" cy="22860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543800" y="2057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848720" y="2057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153280" y="2057400"/>
            <a:ext cx="228600" cy="22860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238880" y="23623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3800" y="23623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848720" y="2362320"/>
            <a:ext cx="228600" cy="22860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153280" y="2362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0800000">
            <a:off x="226800" y="1135440"/>
            <a:ext cx="6678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ime (processor cyc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352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7720" y="107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upersca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54480" y="10764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ne-Gr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43280" y="10764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arse-Gr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76960" y="10555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lti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17560" y="847800"/>
            <a:ext cx="14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ltithre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09680" y="54864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09680" y="5867280"/>
            <a:ext cx="228600" cy="22860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5486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5867280"/>
            <a:ext cx="228600" cy="22860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5486400"/>
            <a:ext cx="228600" cy="22860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5867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14880" y="53942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21000" y="57913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16720" y="54100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16720" y="57913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697800" y="54100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11120" y="579132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dle s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A46-77C1-442E-A89C-0E0538B2FCC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6F8C5-ACCC-46E2-89B2-71BA544E14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sign Challenges in SM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SMT makes sense only with fine-grained implementation, impact of fine-grained scheduling on single thread performan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eferred thread approach sacrifices neither throughput nor single-thread performance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fortunately, with a preferred thread, the processor is likely to sacrifice some throughput, when preferred thread stal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register file needed to hold multiple contex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ffecting clock cycle time, especially i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issue - more candidate instructions need to be conside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completion - choosing which instructions to commit may be challeng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ing that cache and TLB conflicts generated by SMT do not degrad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232-5AB4-422B-AA70-2A6EF74FB6A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DFF39-B3F5-41D4-AB6B-93C499C38D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79200" y="10800"/>
            <a:ext cx="9555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wer 4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6792840" y="744480"/>
            <a:ext cx="1973160" cy="20732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149400" y="2916360"/>
            <a:ext cx="8638920" cy="326376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239760" y="835200"/>
            <a:ext cx="6367320" cy="2799720"/>
            <a:chOff x="239760" y="835200"/>
            <a:chExt cx="6367320" cy="2799720"/>
          </a:xfrm>
        </p:grpSpPr>
        <p:sp>
          <p:nvSpPr>
            <p:cNvPr id="454" name=""/>
            <p:cNvSpPr/>
            <p:nvPr/>
          </p:nvSpPr>
          <p:spPr>
            <a:xfrm>
              <a:off x="239760" y="835200"/>
              <a:ext cx="6367320" cy="19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0760"/>
                  <a:tab algn="l" pos="639720"/>
                  <a:tab algn="l" pos="960480"/>
                  <a:tab algn="l" pos="1279440"/>
                  <a:tab algn="l" pos="1600200"/>
                  <a:tab algn="l" pos="1920960"/>
                  <a:tab algn="l" pos="2239920"/>
                  <a:tab algn="l" pos="2560680"/>
                  <a:tab algn="l" pos="2879640"/>
                  <a:tab algn="l" pos="3200400"/>
                  <a:tab algn="l" pos="3521160"/>
                  <a:tab algn="l" pos="38401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ingle-threaded predecessor to Power 5.  8 execution units 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20760"/>
                  <a:tab algn="l" pos="639720"/>
                  <a:tab algn="l" pos="960480"/>
                  <a:tab algn="l" pos="1279440"/>
                  <a:tab algn="l" pos="1600200"/>
                  <a:tab algn="l" pos="1920960"/>
                  <a:tab algn="l" pos="2239920"/>
                  <a:tab algn="l" pos="2560680"/>
                  <a:tab algn="l" pos="2879640"/>
                  <a:tab algn="l" pos="3200400"/>
                  <a:tab algn="l" pos="3521160"/>
                  <a:tab algn="l" pos="38401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ut-of-order engine, each ma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20760"/>
                  <a:tab algn="l" pos="639720"/>
                  <a:tab algn="l" pos="960480"/>
                  <a:tab algn="l" pos="1279440"/>
                  <a:tab algn="l" pos="1600200"/>
                  <a:tab algn="l" pos="1920960"/>
                  <a:tab algn="l" pos="2239920"/>
                  <a:tab algn="l" pos="2560680"/>
                  <a:tab algn="l" pos="2879640"/>
                  <a:tab algn="l" pos="3200400"/>
                  <a:tab algn="l" pos="3521160"/>
                  <a:tab algn="l" pos="38401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ssue an instruction each cycl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26280" y="2766600"/>
              <a:ext cx="1200240" cy="868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250920" y="12600"/>
            <a:ext cx="8640720" cy="32655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325440" y="3279600"/>
            <a:ext cx="8475840" cy="34592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1442880" y="23760"/>
            <a:ext cx="1460520" cy="9140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919191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arker Felt"/>
              </a:rPr>
              <a:t>Power 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89280" y="3281400"/>
            <a:ext cx="1460520" cy="9140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919191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arker Felt"/>
              </a:rPr>
              <a:t>Power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7560" y="4349880"/>
            <a:ext cx="727200" cy="725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noFill/>
          <a:ln w="38160">
            <a:solidFill>
              <a:srgbClr val="053de8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50800" y="4897440"/>
            <a:ext cx="727200" cy="725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noFill/>
          <a:ln w="38160">
            <a:solidFill>
              <a:srgbClr val="053de8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01480" y="5086080"/>
            <a:ext cx="285840" cy="468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478800" y="5371920"/>
            <a:ext cx="903240" cy="206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58240" y="4510080"/>
            <a:ext cx="725400" cy="725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noFill/>
          <a:ln w="38160">
            <a:solidFill>
              <a:srgbClr val="053de8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400960" y="4000680"/>
            <a:ext cx="0" cy="46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760" y="5638680"/>
            <a:ext cx="294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fetch (PC),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initial de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62920" y="297180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 commits (architected register s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0760" y="10800"/>
            <a:ext cx="751068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wer 5 data flow ...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9600" y="1185840"/>
            <a:ext cx="9036000" cy="34783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669960" y="4861080"/>
            <a:ext cx="7711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only 2 threads? With 4, one of the shared resources (physical registers, cache, memory bandwidth) would be prone to bottlene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17440" y="11160"/>
            <a:ext cx="8390160" cy="75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wer 5 thread performance ...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571920" y="1081080"/>
            <a:ext cx="4508280" cy="57769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114800" y="2160720"/>
            <a:ext cx="1463760" cy="663480"/>
          </a:xfrm>
          <a:prstGeom prst="line">
            <a:avLst/>
          </a:prstGeom>
          <a:ln w="38160">
            <a:solidFill>
              <a:srgbClr val="0000ff">
                <a:alpha val="58000"/>
              </a:srgbClr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617920" y="2595240"/>
            <a:ext cx="2171520" cy="1050840"/>
          </a:xfrm>
          <a:prstGeom prst="line">
            <a:avLst/>
          </a:prstGeom>
          <a:ln w="38160">
            <a:solidFill>
              <a:srgbClr val="0000ff">
                <a:alpha val="58000"/>
              </a:srgbClr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" y="1143000"/>
            <a:ext cx="2895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ve priority of each thread controllable in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" y="3683160"/>
            <a:ext cx="291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balanced operation, both threads run slower than if they “owned” the mach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hanges in  Power 5 to support SM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associativity of L1 instruction cache and the instruction address translation buff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per thread load and store queu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size of the L2 (1.92 vs. 1.44 MB) and L3 c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separate instruction prefetch and buffering per th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the number of virtual registers from 152 to 2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the size of several issue que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wer5 core is about 24% larger than the Power4 core because of the addition of SM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A2C-F4E9-4518-90AF-B197D10012B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407DA-31FF-4587-BBD3-21EF341B30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licting studies of amou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chmarks (vectorized Fortran FP vs. integer C program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 sophis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 sophis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ILP is available using existing mechanisms with increasing HW budget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we need to invent new HW/SW mechanisms to keep on processor performance curv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MMX, SSE (Streaming SIMD Extensions): 64 bit in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SSE2: 128 bit, including 2 64-bit Fl. Pt. per c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ola AltaVec: 128 bit ints and F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sparc Multimedia ops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B00-EE87-43AB-8254-D372F9C511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A9AE7-8E97-4C64-B0FB-E40F0DDFB5E3}" type="datetime1">
              <a:rPr lang="en-US"/>
              <a:t>07/29/26</a:t>
            </a:fld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itial Performance of SM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6472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 4 Extreme SMT yields 1.01 speedup for SPECint_rate benchmark and 1.07 for SPECfp_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ium 4 is dual threaded SM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Rate requires that each SPEC benchmark be run against a vendor-selected number of copies of the same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on Pentium 4 each of 26 SPEC benchmarks paired with every other (2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uns) speed-ups from 0.90 to 1.58; average was 1.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5, 8 processor server 1.23 faster for SPECint_rate with SMT, 1.16 faster for SPECfp_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5 running 2 copies of each app speedup between 0.89 and 1.4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gained so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.Pt. apps had most cache conflicts and least ga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BEC9-1FBB-42C0-8C8A-AB0BA781993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E3746-2087-4A82-A8F1-4D2CA1A6A7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228600" y="1066680"/>
          <a:ext cx="8686800" cy="4959360"/>
        </p:xfrm>
        <a:graphic>
          <a:graphicData uri="http://schemas.openxmlformats.org/drawingml/2006/table">
            <a:tbl>
              <a:tblPr/>
              <a:tblGrid>
                <a:gridCol w="1380960"/>
                <a:gridCol w="2621160"/>
                <a:gridCol w="1193760"/>
                <a:gridCol w="893880"/>
                <a:gridCol w="811080"/>
                <a:gridCol w="947880"/>
                <a:gridCol w="83808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 archite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tch / Issue / Exec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ck Rate (GH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-tors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Pentium 4 Extre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ulative dynamically scheduled; deeply pipelined; SM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int. 1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 M    122 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D Athlon 64 FX-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ulative dynamically schedu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t. 3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M 115 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M Power5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CPU on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ulative dynamically scheduled; SMT;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PU cores/c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4/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t. 2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M 300 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es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W (es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l Itanium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ically schedul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IW-sty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/5/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int. 2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2 M 423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57200" y="304920"/>
            <a:ext cx="7292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ead to Head ILP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4BD3-49B4-481C-B8DB-20431C2376C7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77FDD-3F9A-49DD-AF05-36F8175519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 on SPECint2000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0" y="990720"/>
          <a:ext cx="105156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105156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6EC1-1C3F-4DF0-9085-043F5688DAB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01F89-89EE-4DBA-BEDF-7513EF6089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 on SPECfp2000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457200" y="609480"/>
          <a:ext cx="838188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818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190-85EA-4448-9351-09649B8DF9C0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BE98F-7ED8-47AD-88C2-E5D4EB131B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ormalized Performance: Efficienc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380880" y="685800"/>
          <a:ext cx="7467840" cy="579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746784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477120" y="1219320"/>
          <a:ext cx="2438280" cy="4525920"/>
        </p:xfrm>
        <a:graphic>
          <a:graphicData uri="http://schemas.openxmlformats.org/drawingml/2006/table">
            <a:tbl>
              <a:tblPr/>
              <a:tblGrid>
                <a:gridCol w="1066680"/>
                <a:gridCol w="293760"/>
                <a:gridCol w="358560"/>
                <a:gridCol w="360360"/>
                <a:gridCol w="358920"/>
              </a:tblGrid>
              <a:tr h="179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niu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/T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P/T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/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P/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/W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P/W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C77-77BD-463A-B66A-49940671764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EB90F-EA32-4EF2-B7D6-9355D14269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o Silver Bullet for ILP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obvious over all leader in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MD Athlon leads on SPECInt performance followed by the Pentium 4, Itanium 2, and Power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 2 and Power5, which perform similarly on SPECFP, clearly dominate the Athlon and Pentium 4 on SPECF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 2 is the most </a:t>
            </a: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in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cessor both for Fl. Pt. and integer code for all but one efficiency measure (SPECFP/Wat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hlon and Pentium 4 both make good use of transistors and area in terms of efficiency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Power5 is the most effective user of energy on SPECFP and essentially tied on SPEC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33D-B47A-41ED-BD48-35FB5467314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6EA7C-0D99-40D1-90A4-271CBFA57A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ing issue rates above today’s 3-6 instructions per clock, say to 6 to 12 instructions, probably requires a processor t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 3 or 4 data memory accesses per cycl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ve 2 or 3 branches per cycl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ame and access more than 20 registers per cycle,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 12 to 24 instructions per cycl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lexities of implementing these capabilities is likely to mean sacrifices in the maximum clock r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,  widest issue processor is the Itanium 2, but it also has the slowest clock rate, despite the fact that it consumes the most power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3FA-A8C4-49AB-920F-4C661746E40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10C63-0186-4A51-BAB8-6C4D85405F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techniques for increasing performance increase power consump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ey question is whether a technique is </a:t>
            </a:r>
            <a:r>
              <a:rPr b="1" i="1" lang="en-US" sz="2000" spc="-1" strike="noStrike">
                <a:solidFill>
                  <a:srgbClr val="114ffb"/>
                </a:solidFill>
                <a:latin typeface="Arial"/>
              </a:rPr>
              <a:t>energy effici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does it increase power consumption faster than it increases performance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issue processors techniques all are energy inefficien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ing multiple instructions incurs some overhead in logic that grows faster than the issue rate gr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wing gap between peak issue rates and sustained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transistors switching = f(peak issue rate), and performance = f( sustained rate)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gap between peak and sustained performanc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reasing energy per unit of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A13-BD63-4762-9EE7-7493CCA4726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0A7F1-39E4-4CEC-B5E1-066336142D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menta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8040" y="1193400"/>
            <a:ext cx="7683480" cy="53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anium architecture does </a:t>
            </a:r>
            <a:r>
              <a:rPr b="1" lang="en-US" sz="2000" spc="-1" strike="noStrike">
                <a:solidFill>
                  <a:srgbClr val="114ffb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resent a significant breakthrough in scaling ILP or in avoiding the problems of complexity and power consum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ead of pursuing more ILP, architects are increasingly focusing on TLP implemented with single-chip multiprocesso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2000, IBM announced the 1st commercial single-chip, general-purpose multiprocessor, the Power4, which contains 2 Power3 processors and an integrated L2 cach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ce then, Sun Microsystems, AMD, and Intel have switch to a focus on single-chip multiprocessors rather than more aggressive uniprocesso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 balance of ILP and TLP is unclear to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haps right choice for server market, which can exploit more TLP, may differ from desktop, where single-thread performance may continue to be a primary requir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70E9-2C51-4ABB-B5ED-0DB3A0E5A0E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6CEEB-1308-4563-9C29-E1B3F28AF6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o ILP (power efficiency, compilers, dependencies …) seem to limit to 3 to 6 issue for practical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ly parallel (Data level parallelism or Thread level parallelism) is next step to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rse grain vs. Fine grained multi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 big stall vs. every clock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 if fine grained multithreading based on OOO superscalar micro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 of replicating registers, reuse rename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/EPIC/VLIW is not a breakthrough in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 of ILP and TLP decided in marketpl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88B7-F685-4602-9354-1DE365C1E3F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AAB50-3652-431F-82D7-8DEDD79C6E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vercoming Limi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s in compiler technology + significantly new and different hardware techniques </a:t>
            </a:r>
            <a:r>
              <a:rPr b="1" i="1" lang="en-US" sz="2800" spc="-1" strike="noStrike">
                <a:solidFill>
                  <a:srgbClr val="0332b7"/>
                </a:solidFill>
                <a:latin typeface="Arial"/>
              </a:rPr>
              <a:t>ma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e able to overcome limitations assumed in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unlikely such advances when coupled </a:t>
            </a:r>
            <a:r>
              <a:rPr b="1" i="1" lang="en-US" sz="2800" spc="-1" strike="noStrike">
                <a:solidFill>
                  <a:srgbClr val="0332b7"/>
                </a:solidFill>
                <a:latin typeface="Arial"/>
              </a:rPr>
              <a:t>with realistic hardw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ll overcome these limits in near futu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484-6102-42F0-8833-DBA59858CC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318E8-0BCC-47DA-87A3-47A0F47B4A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677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W Model here; MIPS compil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ptions for ideal/perfect machine to star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Register renam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infinite virtual registe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all register WAW &amp; WAR hazards are avoi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Branch predi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perfect; no mispredict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Jump predi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all jumps perfectly predicted (returns, case statements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&amp; 3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 control dependencies; perfect speculation &amp; an unbounded buffer of instructions avai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emory-address alias analys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addresses known &amp; a load can be moved before a store provided addresses not equal; 1&amp;4 eliminates all but RA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: perfect caches; 1 cycle latency for all instructions (FP *,/); unlimited instructions issued/clock cycle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BE0-B208-4DCC-AE13-734038BE91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E001E-BC6D-45C3-8388-31FEC1B94BE3}" type="datetime1">
              <a:rPr lang="en-US"/>
              <a:t>07/29/26</a:t>
            </a:fld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62120" y="1219320"/>
          <a:ext cx="7696080" cy="50544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to 6% mis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urnament Branch Predi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A1C-1738-4491-B14E-53034569B43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7C178-639D-4C56-B5CD-AE8685C952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Upper Limit to ILP: Ideal Machine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igure 3.1)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359000"/>
            <a:ext cx="8331120" cy="549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13280" y="2424240"/>
            <a:ext cx="2334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18 -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33480" y="1871640"/>
            <a:ext cx="187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75 -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-1693800" y="3641400"/>
            <a:ext cx="449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ructions Per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97F-D1C2-4620-89E4-7BEE98A3EA6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B6F63-D358-4731-9758-3A054F7DA320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04920" y="1143000"/>
          <a:ext cx="8229600" cy="571500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finite, 2K, 512, 128, 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to 6% mis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urnament Branch Predi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942-2A28-463A-A98B-EA883C4DCC4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F0117-5F4D-453C-92AC-AC8A7ED16E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3:17:21Z</dcterms:created>
  <dc:creator> </dc:creator>
  <dc:description/>
  <cp:keywords/>
  <dc:language>en-US</dc:language>
  <cp:lastModifiedBy>EECS</cp:lastModifiedBy>
  <cp:lastPrinted>1998-07-14T21:04:32Z</cp:lastPrinted>
  <dcterms:modified xsi:type="dcterms:W3CDTF">2006-02-14T14:25:54Z</dcterms:modified>
  <cp:revision>84</cp:revision>
  <dc:subject/>
  <dc:title>EECS 252 Graduate Computer Architecture   Lec XX - TOPIC  </dc:title>
</cp:coreProperties>
</file>