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24E-D179-4764-A146-D1F01EBF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994-8412-4D90-ADAF-3ED48EDF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E38-EDDC-45CF-BA76-357E652D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EC2-5FA5-4568-A350-906486B8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55D-A70B-4987-811B-782F7F48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F72-BA09-40D1-8C05-0A18F1D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9A7-6178-4380-AB41-8FC9F30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8FC-8B6E-4536-9DDB-2F99DC5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B7B-D67F-4C43-A8EE-F779D2D1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71B-1413-4DD3-9298-40DC389F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1E4-5AA5-4E16-9CCB-E3BF2B4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91E-6322-475B-8FE6-CBAEF03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E3F-22D4-4765-8EB8-8BB35ACF3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0560" y="76320"/>
            <a:ext cx="766764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743200"/>
            <a:ext cx="8632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1981080"/>
            <a:ext cx="86328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765440"/>
            <a:ext cx="8632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778040"/>
            <a:ext cx="8632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09440"/>
            <a:ext cx="74134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01680"/>
            <a:ext cx="79470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4240" y="250920"/>
            <a:ext cx="77439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25680" y="254160"/>
            <a:ext cx="42991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625760"/>
            <a:ext cx="863280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723960"/>
            <a:ext cx="8632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406440"/>
            <a:ext cx="8632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98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0760" y="254160"/>
            <a:ext cx="4918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499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0232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75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54360" y="254160"/>
            <a:ext cx="54370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88920"/>
            <a:ext cx="86328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7320"/>
            <a:ext cx="82296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434960"/>
            <a:ext cx="86328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1:21Z</dcterms:modified>
  <cp:revision>3</cp:revision>
  <dc:subject/>
  <dc:title>Slide 1</dc:title>
</cp:coreProperties>
</file>