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3095-C7EE-4AE7-A7D9-B4FFE57F2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9182-AE8D-46B5-A11E-64679A5B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7388-42A5-4CB9-A180-899FF0EB3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7B39-E7F5-4828-9A5C-27A93281B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440B-0D91-472D-88CA-8A92777E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EF04-D242-4D6D-83B3-D2A9ABF7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327D-6562-41A1-9131-6B668A91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D6F2-3493-4D7B-98CA-9CD639CF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4D18-2D15-4E38-B8CA-4B036A23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3F93-87F0-405C-9E29-18590812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E145-DA35-4A95-AC16-CC6A47EF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DC0D-1E42-4005-8D57-F7CBC4FE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E2F2-4080-4644-BC31-16A1B01CC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4160" y="228600"/>
            <a:ext cx="863280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600200" y="85680"/>
            <a:ext cx="610704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76320"/>
            <a:ext cx="7413840" cy="66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4160" y="888840"/>
            <a:ext cx="863280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63280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4160" y="838080"/>
            <a:ext cx="86328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4160" y="1511280"/>
            <a:ext cx="8632800" cy="38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4160" y="863640"/>
            <a:ext cx="863280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4160" y="838080"/>
            <a:ext cx="863280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4160" y="851040"/>
            <a:ext cx="863280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4160" y="546120"/>
            <a:ext cx="863280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4160" y="736560"/>
            <a:ext cx="863280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09680" y="76320"/>
            <a:ext cx="835344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4160" y="380880"/>
            <a:ext cx="863280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4160" y="457200"/>
            <a:ext cx="863280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4160" y="393840"/>
            <a:ext cx="863280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6360" y="76320"/>
            <a:ext cx="6296040" cy="67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68480" y="254160"/>
            <a:ext cx="520380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1257480"/>
            <a:ext cx="8632800" cy="43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480" y="76320"/>
            <a:ext cx="7925040" cy="66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47920" y="144360"/>
            <a:ext cx="6232320" cy="66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4160" y="304920"/>
            <a:ext cx="86328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0:17:48Z</dcterms:created>
  <dc:creator>ramkumar</dc:creator>
  <dc:description/>
  <dc:language>en-US</dc:language>
  <cp:lastModifiedBy>kiran</cp:lastModifiedBy>
  <dcterms:modified xsi:type="dcterms:W3CDTF">2006-09-25T10:41:08Z</dcterms:modified>
  <cp:revision>3</cp:revision>
  <dc:subject/>
  <dc:title>Slide 1</dc:title>
</cp:coreProperties>
</file>