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03D5-CA6C-4A1F-B941-7427BE4A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610-804F-4CD2-98CE-7B39B3AF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974-D688-4272-8E15-76DCA1B2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DB8-75B2-4921-A9F4-693ABEF7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48C-0C2A-4DC0-A58F-6745032C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40E-4AFB-40BD-A7FB-9CEB3010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FD5-21E8-4B97-81A1-AEC6CD57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DB35-1DF3-468D-B5AE-72D301EB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90E-6B20-4159-82B0-1BD8D3A1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B17-CEA5-416A-9D67-CD128C69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19D-E86A-40CD-9AB0-11B00BE5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5A1-D678-4B7B-8DC1-966B694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8C23-7C5F-40E2-8240-D3093EAE8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519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2082960"/>
            <a:ext cx="863280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1028880"/>
            <a:ext cx="86328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1359000"/>
            <a:ext cx="86328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85680"/>
            <a:ext cx="76960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101520"/>
            <a:ext cx="8632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63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2870280"/>
            <a:ext cx="86328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1089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22640" y="254160"/>
            <a:ext cx="47005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1206360"/>
            <a:ext cx="86328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939960"/>
            <a:ext cx="86328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279360"/>
            <a:ext cx="86328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41120"/>
            <a:ext cx="804852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24:32Z</dcterms:modified>
  <cp:revision>3</cp:revision>
  <dc:subject/>
  <dc:title>Slide 1</dc:title>
</cp:coreProperties>
</file>