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22B5-A161-4A8B-AF68-24F154690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5CD3-F5F9-4A82-8A9D-3D7CF1FD4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9278-D7C2-46FF-AF06-C05B699F9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F5CE-7156-448B-8F96-CA7A96BD1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3D58-19A9-4526-9C66-6577AB13E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83FB-A258-4657-9C81-12C0620AD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31ED-A2B9-4AF6-B817-5D4040048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137A-D064-4263-BFB8-98F920881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5EBE-27E6-4755-867B-A12AEB51D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1190-BD8A-4B0C-A3C4-9E7803CA2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3835-9EA4-4872-A57C-EFBD2F4FF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A4F7-7BF1-4C0D-A5A4-DA19132A3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51CA3-B4A1-48C7-A950-28670CFABC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54160" y="507960"/>
            <a:ext cx="8632800" cy="58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4160" y="1104840"/>
            <a:ext cx="8632800" cy="46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33520" y="76320"/>
            <a:ext cx="812484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4160" y="965160"/>
            <a:ext cx="8632800" cy="49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838080" y="76320"/>
            <a:ext cx="7540920" cy="67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4160" y="1092240"/>
            <a:ext cx="8632800" cy="46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" y="76320"/>
            <a:ext cx="8074080" cy="67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4160" y="291960"/>
            <a:ext cx="8632800" cy="627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54160" y="2489040"/>
            <a:ext cx="8632800" cy="18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54160" y="1397160"/>
            <a:ext cx="8632800" cy="40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54160" y="1155600"/>
            <a:ext cx="863280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66880" y="76320"/>
            <a:ext cx="7515000" cy="66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09680" y="88920"/>
            <a:ext cx="8353440" cy="66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295280" y="76320"/>
            <a:ext cx="6778800" cy="67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4160" y="317520"/>
            <a:ext cx="8632800" cy="62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4160" y="190440"/>
            <a:ext cx="8632800" cy="64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4160" y="190440"/>
            <a:ext cx="8632800" cy="64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4160" y="1079640"/>
            <a:ext cx="8632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54160" y="368280"/>
            <a:ext cx="8632800" cy="61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87520" y="139680"/>
            <a:ext cx="8099280" cy="66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4160" y="622440"/>
            <a:ext cx="8632800" cy="56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10:17:48Z</dcterms:created>
  <dc:creator>ramkumar</dc:creator>
  <dc:description/>
  <dc:language>en-US</dc:language>
  <cp:lastModifiedBy>kiran</cp:lastModifiedBy>
  <dcterms:modified xsi:type="dcterms:W3CDTF">2006-09-25T10:59:01Z</dcterms:modified>
  <cp:revision>3</cp:revision>
  <dc:subject/>
  <dc:title>Slide 1</dc:title>
</cp:coreProperties>
</file>