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BA0-A726-40C3-9F9F-A5B61FBF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F24-1749-4D0F-A972-245C1BC1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A53-935A-496F-B9C8-254817A6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371-071A-4B6C-A5C4-A40E3DCF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95F-0432-476F-9CB5-1AFD3206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592-1A41-44CE-BA0B-D378B1A1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E78-719A-4CBD-B5CB-5155DBA3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E54-41BF-4307-A6F0-9EC4BAAF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8F5-9276-4F98-B220-580653F2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39E-5E27-4E8D-8418-A4E3A8A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633-B148-4326-89C3-3B73D435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165-4842-4831-9018-04B961A3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8219-3DA4-4D45-ADF2-3AE6D5476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359000"/>
            <a:ext cx="8632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1320840"/>
            <a:ext cx="8632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673200"/>
            <a:ext cx="86328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083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24080" y="152280"/>
            <a:ext cx="675324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03240" y="254160"/>
            <a:ext cx="5545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81000"/>
            <a:ext cx="7413480" cy="67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68480" y="254160"/>
            <a:ext cx="52196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324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355680"/>
            <a:ext cx="86328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47:15Z</dcterms:modified>
  <cp:revision>4</cp:revision>
  <dc:subject/>
  <dc:title>Slide 1</dc:title>
</cp:coreProperties>
</file>