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EB4-E334-4700-8401-AF6DF073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D17-1522-4B8E-9CDC-1D2FA6A5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D1E-FFF2-4CDB-8D46-6DA41914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EAF-7D58-434A-BBC9-A0C8B2B4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AA7-6682-4796-891F-C51EE9E8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CD8-473D-42D7-A255-BD9549AC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E47-DD90-4CD1-BC05-7A0FA8D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F47-5826-4B53-9EDE-22B0F9E4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B5E-3070-4517-ADF2-30DB9F7A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1E2-9548-4C49-A115-5C613AC5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C94-012E-470E-9672-3D511EDB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60D-B911-4D1F-BF20-D21D5E19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AEC5-69EB-40C1-AEC8-1241EC1F2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698400"/>
            <a:ext cx="8632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216000"/>
            <a:ext cx="86328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444600"/>
            <a:ext cx="8632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2160" y="254160"/>
            <a:ext cx="5375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914400"/>
            <a:ext cx="8632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774720"/>
            <a:ext cx="86328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727280"/>
            <a:ext cx="86328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346040"/>
            <a:ext cx="8632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1346040"/>
            <a:ext cx="863280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739880"/>
            <a:ext cx="86328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177840"/>
            <a:ext cx="863280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9:55Z</dcterms:modified>
  <cp:revision>3</cp:revision>
  <dc:subject/>
  <dc:title>Slide 1</dc:title>
</cp:coreProperties>
</file>