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DB7-64AF-409A-A487-28FC9F59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9CA-56C5-44BD-A582-810781AB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E15-C777-4B50-A1E2-295A416F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2F5-F8D7-4307-8290-0B43EB39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0D6-2170-4328-9F07-5EA24607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F1B-2231-4CE9-9474-6343F4C1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C77-6F76-4685-81E0-E5DC19AD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8D7-3EAE-43D8-ADFE-D8FE8DEB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BAC-CCE3-42A6-9BBD-BF045CBF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DB4-562E-4470-9BC3-39CE5666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69D-84ED-4FA0-8E82-23E5415D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9077-7ECD-407A-AB26-7F36A395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B533-CB4D-4175-B38D-045863634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952560"/>
            <a:ext cx="8632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774720"/>
            <a:ext cx="86328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03240" y="254160"/>
            <a:ext cx="55375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70280" y="254160"/>
            <a:ext cx="34002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607068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28880"/>
            <a:ext cx="86328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34:22Z</dcterms:modified>
  <cp:revision>3</cp:revision>
  <dc:subject/>
  <dc:title>Slide 1</dc:title>
</cp:coreProperties>
</file>