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B98-C1D2-47BC-AC50-7A90F8A4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C0D-CAE5-4D68-90C8-A0E1BEFB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7B8-26BA-4FFC-94BE-166BA3DD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568-EB39-46B6-A02C-74A22DB3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EBB-E692-4B84-8D9F-DEC4E8A4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2F0-CCFF-4C59-A411-C9D4873A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FA55-996F-496F-BA91-88DC37E7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F08-C8B5-43E8-B89E-14EEA216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9D1-EC70-4BDB-88C7-2E34B49A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FA5-0477-40EE-B5DA-B96E0E64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880-6F3B-4409-A2B8-837E7082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741-4BCA-4A3F-A857-D3080B80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7656-BCEE-4424-9C33-EA15F6A81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828800"/>
            <a:ext cx="86328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1003320"/>
            <a:ext cx="863280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1143000"/>
            <a:ext cx="86328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977760"/>
            <a:ext cx="863280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63280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1041480"/>
            <a:ext cx="86328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343080"/>
            <a:ext cx="8632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0640" y="254160"/>
            <a:ext cx="55609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7844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1511280"/>
            <a:ext cx="86328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1041480"/>
            <a:ext cx="86328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76320"/>
            <a:ext cx="624672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4160" y="495360"/>
            <a:ext cx="863280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4160" y="2413080"/>
            <a:ext cx="86328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4160" y="609480"/>
            <a:ext cx="86328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80400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927000"/>
            <a:ext cx="863280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838080"/>
            <a:ext cx="86328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2540160"/>
            <a:ext cx="863280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127080"/>
            <a:ext cx="86328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1955880"/>
            <a:ext cx="86328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1955880"/>
            <a:ext cx="86328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52:56Z</dcterms:modified>
  <cp:revision>3</cp:revision>
  <dc:subject/>
  <dc:title>Slide 1</dc:title>
</cp:coreProperties>
</file>