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E73-01CA-4015-A6EF-6732CCBC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249-5981-4452-A7A8-3990DE05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45E-89B2-431D-B502-23D12EEB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2FD-A917-45D8-85FC-4015E64A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9CD-E78D-45CF-9538-5192CED4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156-C88E-40D3-A6BB-008845B7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178-A077-44C0-B684-4EE6092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52A-901D-42C2-9EB1-04399B1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A60-2400-4C86-862E-0C8A64C2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063-0A99-4288-A8EC-4C2DFE9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436-9B5A-4632-B5A6-EDF3AB60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B55-892C-4823-9BB4-032E060A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F5D6-5B9D-4EFC-AF74-E921C2A7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054080"/>
            <a:ext cx="8632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879560"/>
            <a:ext cx="863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2006640"/>
            <a:ext cx="8632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80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45000" y="254160"/>
            <a:ext cx="1859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2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2184480"/>
            <a:ext cx="8632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231920"/>
            <a:ext cx="8632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2184480"/>
            <a:ext cx="8632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1816200"/>
            <a:ext cx="8632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2108160"/>
            <a:ext cx="8632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134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5548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533520"/>
            <a:ext cx="8632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600200"/>
            <a:ext cx="8632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222640"/>
            <a:ext cx="86328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1840" y="254160"/>
            <a:ext cx="50961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2425680"/>
            <a:ext cx="8632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38160"/>
            <a:ext cx="86328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33200"/>
            <a:ext cx="73152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5:08Z</dcterms:modified>
  <cp:revision>3</cp:revision>
  <dc:subject/>
  <dc:title>Slide 1</dc:title>
</cp:coreProperties>
</file>