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FF3-D43B-4B3A-B5F4-B817D7E0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6FF-4E39-4960-AE61-BE03389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DF4-1DC5-48B7-9F6D-CDE5D12C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D4B-E401-49E7-990A-D0ACCAA3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B43-784E-4195-B485-C2B2CF6B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96E-78ED-4155-AA5A-96F583B5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06D-6DB8-454A-8027-E84EE621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250-92F1-47D0-A5BA-668E50CD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C65-12BA-404B-A742-BCC0A25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790-02C7-4E87-A615-53DA26C5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BE6-4F97-4B15-85C6-BCDD90E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D4C-14AF-464C-96E5-9B205D8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9B73-F1B2-48FE-9F5E-87CE1D2E4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812880"/>
            <a:ext cx="8632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901800"/>
            <a:ext cx="8632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708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52280"/>
            <a:ext cx="8632800" cy="65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36440"/>
            <a:ext cx="777240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12920" y="76320"/>
            <a:ext cx="653580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298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36:16Z</dcterms:modified>
  <cp:revision>5</cp:revision>
  <dc:subject/>
  <dc:title>Slide 1</dc:title>
</cp:coreProperties>
</file>