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5042-D0E2-405F-8D9F-7A66BB92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76A5-1B6A-4954-B2FD-D290ACB5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72D3-AED4-43E2-B7B3-BC3909CE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904F-F8B1-4BCA-A413-98684801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A00A-A44A-4365-84EF-A0F66A9B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83C3-D697-4BC5-8166-59A1A8B8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4F4D-CA17-44C4-8465-E3696EB4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230E-2011-4EB1-A0F2-C5DC2A22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F983-4A23-4932-A737-61EDB23D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1C8-C8C7-454A-8ECC-F326C566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7875-3914-42CC-BF1D-40B9735D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F142-F6BE-4414-8C17-130A87B7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5D23-E143-41E2-9885-65C5E82F1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82960" y="254160"/>
            <a:ext cx="497196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67728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876240"/>
            <a:ext cx="86328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0440" y="254160"/>
            <a:ext cx="46166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507960"/>
            <a:ext cx="86328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571680"/>
            <a:ext cx="863280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444600"/>
            <a:ext cx="86328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00200" y="76320"/>
            <a:ext cx="610092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355680"/>
            <a:ext cx="863280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71800" y="254160"/>
            <a:ext cx="321480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05040" y="254160"/>
            <a:ext cx="37400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42:33Z</dcterms:modified>
  <cp:revision>3</cp:revision>
  <dc:subject/>
  <dc:title>Slide 1</dc:title>
</cp:coreProperties>
</file>