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3ADF-908A-4E8D-8382-C568B95B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79C2-6B5C-407C-88AF-F418D901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1AFE-B7CF-4BBD-BDCD-A510F42E7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9027-2A14-47DA-9524-C9A90575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5540-D28D-447D-BB07-B7DB2D4E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C1B2-5EA5-4AA8-9B64-8C1C2B2F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6590-5274-4F9F-8353-4626F8B2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F7AE-97A2-47CF-9007-9B321FC4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EC10-3E5B-48FA-80CB-177A436C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7E8C-E4EF-42A9-9386-963EC3B5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2E04-97B8-474B-828B-8EBF48C0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0DE0-D713-418B-905C-10F8C8B3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AE2E-DB6A-4123-AF02-593DB078D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4160" y="863640"/>
            <a:ext cx="863280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1:43:23Z</dcterms:modified>
  <cp:revision>3</cp:revision>
  <dc:subject/>
  <dc:title>Slide 1</dc:title>
</cp:coreProperties>
</file>