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FC7-75ED-4C8F-B2BD-FBE6A736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A05-90E1-4343-B7AB-ACBD4940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55C0-21EF-4F9C-8A31-CFEFA423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F5C-D531-4F83-B46B-68322178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2FB-4E82-43B6-9309-3481F297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272-83AD-4CDE-8985-194DFAB7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789-B131-4A09-824A-CAEAADA4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390-D0EA-40F2-A412-BE5030A6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E780-C794-4558-8A55-2B67DB91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9B8-C21D-454F-9958-0BF30555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A59-D5BD-4B96-AD11-28225FDC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E49-12C6-479A-B291-52FB70E5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2FA3-2459-4617-AB02-A112F5CE4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46748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0600" y="98280"/>
            <a:ext cx="663408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457200"/>
            <a:ext cx="86328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749160"/>
            <a:ext cx="86328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29604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5080" y="152280"/>
            <a:ext cx="644364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698400"/>
            <a:ext cx="86328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59000" y="111240"/>
            <a:ext cx="656568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1028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11200" y="152280"/>
            <a:ext cx="6513480" cy="66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01064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05816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37:34Z</dcterms:modified>
  <cp:revision>3</cp:revision>
  <dc:subject/>
  <dc:title>Slide 1</dc:title>
</cp:coreProperties>
</file>