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F908-BC6A-40C7-A063-FE9149DB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5313-8D96-4FA8-9CBE-FD354742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B02B-7617-47BE-8CA3-74B37669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A13A-D15A-4591-A9AD-F9CFA210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4176-E898-4163-A2F7-94DBC526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4AFB-4426-431D-B8F8-3A3244CB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F9D0-FBC0-4600-AB2F-57F5DB18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9DB8-3355-4E41-A951-653FC6EC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7A50-9816-4747-AAA0-5387ABF8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0763-44E8-4FF9-A3EF-5ADCE48B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4E30-4254-4ADC-9244-A8821983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EA9D-7416-49C6-9B75-1243F4D3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2E95-D2FA-419D-889E-A353F4808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1041480"/>
            <a:ext cx="86328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4160" y="800280"/>
            <a:ext cx="86328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603900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099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4160" y="291960"/>
            <a:ext cx="863280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82960" y="254160"/>
            <a:ext cx="497196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4160" y="2082960"/>
            <a:ext cx="863280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00320" y="76320"/>
            <a:ext cx="662436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39800" y="339840"/>
            <a:ext cx="7718400" cy="62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87520" y="166680"/>
            <a:ext cx="802296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00200" y="85680"/>
            <a:ext cx="61246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622440"/>
            <a:ext cx="863280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4160" y="419040"/>
            <a:ext cx="86328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74640" y="50760"/>
            <a:ext cx="600732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03240" y="254160"/>
            <a:ext cx="55375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4160" y="1346040"/>
            <a:ext cx="8632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4160" y="139680"/>
            <a:ext cx="863280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4160" y="139680"/>
            <a:ext cx="863280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4160" y="139680"/>
            <a:ext cx="863280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4160" y="291960"/>
            <a:ext cx="8632800" cy="627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863280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76320"/>
            <a:ext cx="7947000" cy="67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4160" y="2273400"/>
            <a:ext cx="86328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4160" y="546120"/>
            <a:ext cx="863280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4160" y="1384200"/>
            <a:ext cx="863280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6550200" cy="662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76320"/>
            <a:ext cx="78962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76320"/>
            <a:ext cx="7718400" cy="67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4160" y="1181160"/>
            <a:ext cx="86328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4160" y="609480"/>
            <a:ext cx="86328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6240" y="76320"/>
            <a:ext cx="700704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4160" y="1384200"/>
            <a:ext cx="863280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828800" y="254160"/>
            <a:ext cx="548316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1282680"/>
            <a:ext cx="86328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4160" y="825480"/>
            <a:ext cx="86328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4160" y="584280"/>
            <a:ext cx="863280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4160" y="1117440"/>
            <a:ext cx="86328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457200"/>
            <a:ext cx="863280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4160" y="1104840"/>
            <a:ext cx="863280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0640" y="254160"/>
            <a:ext cx="55688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160" y="457200"/>
            <a:ext cx="863280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1:31:37Z</dcterms:modified>
  <cp:revision>3</cp:revision>
  <dc:subject/>
  <dc:title>Slide 1</dc:title>
</cp:coreProperties>
</file>