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0DC-39F5-4204-992C-3ED260C4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E7A-8CB3-43FF-AB10-A3A92F1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933-EEB2-4F46-965C-A0CA3DE8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536-B148-422D-815C-6599CD25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551-10CE-429E-B9E0-94432DD5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183-F0A7-4AC4-9D6D-E5AFF29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456-2EC4-4D1C-9374-845706E7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BA1-50EE-4E94-B328-0FECC04A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1D0-9246-4478-ACE4-C33D489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B68-1E9D-4EBD-8426-9420B36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0A2-5304-49FC-878D-6F32AC2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068-B613-4E12-BCCC-03711380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0D26-37C4-4A25-B17C-2F85D953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24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536840"/>
            <a:ext cx="8632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295280"/>
            <a:ext cx="86328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25600" y="76320"/>
            <a:ext cx="63468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074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166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244520"/>
            <a:ext cx="8632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469800"/>
            <a:ext cx="86328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1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562040"/>
            <a:ext cx="86328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3600" y="123840"/>
            <a:ext cx="7236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87440" y="160200"/>
            <a:ext cx="64612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65240"/>
            <a:ext cx="86328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280" y="304920"/>
            <a:ext cx="78962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0320" y="254160"/>
            <a:ext cx="5281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43280" y="254160"/>
            <a:ext cx="5251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0:24Z</dcterms:modified>
  <cp:revision>5</cp:revision>
  <dc:subject/>
  <dc:title>Slide 1</dc:title>
</cp:coreProperties>
</file>