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011-88E1-450F-8B64-6F2BDA2A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9F0-A871-4363-BF2E-1A087D2B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935-FDAE-44F7-8C17-1526597A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1C2-B172-43A5-BD21-EE66CC8F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9D4-6C84-4EDC-BC98-B78E77BB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0E0-9359-4A2E-83E3-64F81B6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7AD-7F87-4050-9A09-94971618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66D-BEEF-4ADA-BB7D-8879C9C2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8E4-9049-4EEE-97E7-FACA3653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FFB-76E2-47AB-919E-A777EF46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D2A-C8B2-4175-8D32-BBA40A8F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0B3-5371-467E-836B-B70D97A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3FE0-FC96-42F6-BF2F-539D4938B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15960" y="166680"/>
            <a:ext cx="618012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2298600"/>
            <a:ext cx="8632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86328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511280"/>
            <a:ext cx="8632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128520"/>
            <a:ext cx="65628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282680"/>
            <a:ext cx="8632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3:17Z</dcterms:modified>
  <cp:revision>3</cp:revision>
  <dc:subject/>
  <dc:title>Slide 1</dc:title>
</cp:coreProperties>
</file>