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7F8-FA92-45E5-982D-F81F1C99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1E02-DDA2-4687-9ADE-A4C9C97C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5E8-437E-4112-B305-8A6CD862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16E6-C965-44FE-A1E3-FF371186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7D0-1031-4196-8D00-97E41A1C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A164-2EA3-472D-A4F1-C11A58E1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0D1-3D9C-43CE-ADCF-A4172B04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49E-763B-4DDC-A162-8CF08537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F46-429D-4B44-AB15-0ECDAAAD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268-01ED-43A9-A7D1-B43ED9EC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FED6-0424-4E6B-9839-5759FFC6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35A9-F50C-4A51-89FD-73650760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0881-F90A-4BA3-9F01-22DAE96A6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63280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1409760"/>
            <a:ext cx="863280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7640" y="152280"/>
            <a:ext cx="73882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291960"/>
            <a:ext cx="863280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2793960"/>
            <a:ext cx="86328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1015920"/>
            <a:ext cx="863280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1587600"/>
            <a:ext cx="863280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38160"/>
            <a:ext cx="81248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685800"/>
            <a:ext cx="86328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" y="863640"/>
            <a:ext cx="86328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2590920"/>
            <a:ext cx="86328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26:17Z</dcterms:modified>
  <cp:revision>4</cp:revision>
  <dc:subject/>
  <dc:title>Slide 1</dc:title>
</cp:coreProperties>
</file>