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F1A-D5E6-470D-9B28-89D5D8D7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E899-5667-4BE9-8E82-8A425FA2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3860-D962-4464-A3DF-DBF3BA33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zing and projecting: introduce new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 all local constraints: essentially “the best” you can do by adding local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746-51D2-49E9-ACC0-4498C072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example is an intersecting family (i.e. clique), SA cannot captur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clique constraints to tackle the highly intersecting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840-6D85-43D0-826A-FE8A062E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is this global: the constraint may include a lot of 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usual LP analysis, this is not constructive (no rounding algorith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tended the local search analysis, so actually the ratio is between a local optimal solution and the fractional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09E-7EA6-43B7-B2B9-08605008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8C4E-B0CF-4867-9430-ACAD1052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B5E-5A0F-4A5C-9562-C5AE1569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F71-3DAA-47D0-A86C-2DE50187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lution: few non-zer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E'| = |T| means equality holds everywhere on the second to last line. Hence deg(v) = 3 for every v \in 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投影片編號版面配置區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14D-4846-4510-9067-FB918B89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0CF3-1A51-4F2C-B410-38905E0E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nstant factor approximation for set packing. Not approximable within m^(1/2-\epsilon), where m is # sets, or m^(1-\epsilon) unless NP=Z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graph matching: also known as set 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set 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set packing = 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k-set 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graph is now 3-regular and 3-part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92D-9251-47EB-8D1A-2E0F1514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C7B8-B588-4384-BC2D-2E148E2D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21E-AB32-454E-B9A9-ADD454AD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3D4A-B08B-4986-BC9E-C9FE543D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7FE-8A7E-4DF3-A162-6CD2B2ED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AF43-7859-4DCC-9D4C-4082C487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other scenario where no edge in the neighborhood is selected, we simply add back the origin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ixing M, every other edges have to intersect with at least one edge i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投影片編號版面配置區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6D9A-526B-4B40-82F7-198A56C6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352-42BA-4F96-A2FE-750ECC58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x(F) &lt;= (k+2) |M| / 2, but we can show (with a more detail analysis) that x(F) &lt;= (k+1) |M| /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7E9-994E-436F-BBAB-644F8F12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ed degree independent set: degree upper bound k -&gt; k-Set 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dimensional matching: the set of vertices is partitioned into k parts, each edge contain one vertex from each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square extension can be seen as a 3-D Matching by the reduction on the left. (approximation ratio is preser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71C-979A-406D-AA8D-863ABBB7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148-3152-4F58-90E6-B702C8D4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ic results based on local 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: try all possible subsets of at most t edges, so time depends on 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1DEF-A046-4534-BF75-F1E6343F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1F1-7225-4F12-B48F-7B661A28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896-9977-41D7-9305-02731A1A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177-D185-4491-9FB8-0CF9C061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constraints only give slight improv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: Improve by a constant factor, better than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a new connection between local search and LP/SDP that are seemingly diff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4906-C619-417F-BB58-64EFB1AE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0160" cy="34588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D7C-D887-4A5E-B066-32EBC656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38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ADE-96AA-447C-8F1F-308BEF5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38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38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F88-6ECC-4CA8-9C08-081AF3BB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6836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6836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38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38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38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A31-72E1-4F3C-9855-A795930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68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4F0-84CB-4BEC-A0C4-B429860C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01A-5E12-4DC8-8866-D8E56517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6836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DF7-7E70-4482-AD92-027B882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C6F-1FB3-4D04-AC34-4A9161F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1C8-2ED2-4BF1-B426-C3C40826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6836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38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365-90AD-46D6-9AC0-8571C157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38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4F1-DC1F-4478-8168-604F281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6836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38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F54-8FC6-44D6-A18B-412C31D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68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11B9-0A2C-41CB-9B5E-ED8073BA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home.wlu.edu/~mcraea/finite_geometry/NoneuclideanGeometry/Prob14ProjPlane/problem14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46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linear and semidefinite programming relaxations for hypergraph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4240" y="3886200"/>
            <a:ext cx="717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ork appeared in SODA 10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k Hei Chan (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ork with Lap Chi Lau @ CUH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3360" y="1825200"/>
            <a:ext cx="793728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unweighted 3-Set Pac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6"/>
          <p:cNvGraphicFramePr/>
          <p:nvPr/>
        </p:nvGraphicFramePr>
        <p:xfrm>
          <a:off x="3121200" y="2513160"/>
          <a:ext cx="177480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2513160"/>
                    <a:ext cx="177480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7"/>
          <p:cNvSpPr/>
          <p:nvPr/>
        </p:nvSpPr>
        <p:spPr>
          <a:xfrm>
            <a:off x="5029200" y="32004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03360" y="4420800"/>
            <a:ext cx="793728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Main proof 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is Fano LP, any basic solution has no Fano pla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pply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’s result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03360" y="1139760"/>
            <a:ext cx="2900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an we write a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 Unicode MS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LP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2435400" y="5872320"/>
            <a:ext cx="427320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no LP integrality gap 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76040" y="1825560"/>
            <a:ext cx="35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Fano plane constrai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053800"/>
            <a:ext cx="793116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ali-Adams will add all local constraints on    edges after    rou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3000" y="4497480"/>
            <a:ext cx="572436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ure all local constraints on     hyper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tegrality gap for any set of          hypere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7 rounds to get Fano plane constra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0"/>
          <p:cNvSpPr/>
          <p:nvPr/>
        </p:nvSpPr>
        <p:spPr>
          <a:xfrm>
            <a:off x="1060560" y="3733920"/>
            <a:ext cx="46558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       are disjoint edge subsets with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7" name="Object 307"/>
          <p:cNvGraphicFramePr/>
          <p:nvPr/>
        </p:nvGraphicFramePr>
        <p:xfrm>
          <a:off x="6097680" y="4573440"/>
          <a:ext cx="177480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4573440"/>
                    <a:ext cx="17748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308"/>
          <p:cNvSpPr/>
          <p:nvPr/>
        </p:nvSpPr>
        <p:spPr>
          <a:xfrm>
            <a:off x="7701120" y="51847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311"/>
          <p:cNvSpPr/>
          <p:nvPr/>
        </p:nvSpPr>
        <p:spPr>
          <a:xfrm>
            <a:off x="603360" y="1368360"/>
            <a:ext cx="61052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an we improve further by adding mor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 Unicode MS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constraint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398"/>
          <p:cNvSpPr/>
          <p:nvPr/>
        </p:nvSpPr>
        <p:spPr>
          <a:xfrm>
            <a:off x="6095880" y="2741760"/>
            <a:ext cx="2444760" cy="64260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by linearizing and projec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399" descr="txp_fig"/>
          <p:cNvPicPr/>
          <p:nvPr/>
        </p:nvPicPr>
        <p:blipFill>
          <a:blip r:embed="rId3"/>
          <a:stretch/>
        </p:blipFill>
        <p:spPr>
          <a:xfrm>
            <a:off x="1060560" y="2741760"/>
            <a:ext cx="3987720" cy="66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1" descr="txp_fig"/>
          <p:cNvPicPr/>
          <p:nvPr/>
        </p:nvPicPr>
        <p:blipFill>
          <a:blip r:embed="rId4"/>
          <a:stretch/>
        </p:blipFill>
        <p:spPr>
          <a:xfrm>
            <a:off x="5781600" y="2120760"/>
            <a:ext cx="76320" cy="203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2" descr="txp_fig"/>
          <p:cNvPicPr/>
          <p:nvPr/>
        </p:nvPicPr>
        <p:blipFill>
          <a:blip r:embed="rId5"/>
          <a:stretch/>
        </p:blipFill>
        <p:spPr>
          <a:xfrm>
            <a:off x="7189920" y="2120760"/>
            <a:ext cx="7596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04" descr="txp_fig"/>
          <p:cNvPicPr/>
          <p:nvPr/>
        </p:nvPicPr>
        <p:blipFill>
          <a:blip r:embed="rId6"/>
          <a:stretch/>
        </p:blipFill>
        <p:spPr>
          <a:xfrm>
            <a:off x="1878120" y="3809880"/>
            <a:ext cx="583920" cy="203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06" descr="txp_fig"/>
          <p:cNvPicPr/>
          <p:nvPr/>
        </p:nvPicPr>
        <p:blipFill>
          <a:blip r:embed="rId7"/>
          <a:stretch/>
        </p:blipFill>
        <p:spPr>
          <a:xfrm>
            <a:off x="5622840" y="3821040"/>
            <a:ext cx="1117800" cy="27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07" descr="txp_fig"/>
          <p:cNvPicPr/>
          <p:nvPr/>
        </p:nvPicPr>
        <p:blipFill>
          <a:blip r:embed="rId8"/>
          <a:stretch/>
        </p:blipFill>
        <p:spPr>
          <a:xfrm>
            <a:off x="4289400" y="4573440"/>
            <a:ext cx="76320" cy="20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09" descr="txp_fig"/>
          <p:cNvPicPr/>
          <p:nvPr/>
        </p:nvPicPr>
        <p:blipFill>
          <a:blip r:embed="rId9"/>
          <a:stretch/>
        </p:blipFill>
        <p:spPr>
          <a:xfrm>
            <a:off x="4346640" y="5170320"/>
            <a:ext cx="330120" cy="254160"/>
          </a:xfrm>
          <a:prstGeom prst="rect">
            <a:avLst/>
          </a:prstGeom>
          <a:ln w="0">
            <a:noFill/>
          </a:ln>
        </p:spPr>
      </p:pic>
      <p:sp>
        <p:nvSpPr>
          <p:cNvPr id="229" name="Line 174"/>
          <p:cNvSpPr/>
          <p:nvPr/>
        </p:nvSpPr>
        <p:spPr>
          <a:xfrm>
            <a:off x="2664000" y="3429000"/>
            <a:ext cx="19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example for Sherali-Adams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0" y="2207880"/>
            <a:ext cx="33512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ified projectiv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an intersecting famil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optimal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al solu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≥ k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482760" y="1368360"/>
          <a:ext cx="447012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368360"/>
                    <a:ext cx="44701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utoShape 25"/>
          <p:cNvSpPr/>
          <p:nvPr/>
        </p:nvSpPr>
        <p:spPr>
          <a:xfrm>
            <a:off x="5564160" y="3429000"/>
            <a:ext cx="763560" cy="38088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1519200" y="5948280"/>
            <a:ext cx="610560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m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A gap is at least k − 2 afte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n /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roun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3"/>
          <p:cNvSpPr/>
          <p:nvPr/>
        </p:nvSpPr>
        <p:spPr>
          <a:xfrm>
            <a:off x="1824120" y="45403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4572000" y="4387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664000" y="4387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6404040" y="4387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191120" y="4921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082960" y="49212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6251760" y="49230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que L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 flipH="1">
            <a:off x="2663640" y="4108320"/>
            <a:ext cx="106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3579840" y="4116240"/>
            <a:ext cx="9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 flipV="1">
            <a:off x="2664000" y="403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 flipV="1">
            <a:off x="4572000" y="403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603360" y="1368360"/>
            <a:ext cx="79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lique constraint: for a set of intersecting edges, allow sum of values ≤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900080" y="2208240"/>
            <a:ext cx="541980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m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“Clique” LP integrality gap ≤ 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345600" y="5948280"/>
            <a:ext cx="374436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local search analy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xt Box 39"/>
          <p:cNvSpPr/>
          <p:nvPr/>
        </p:nvSpPr>
        <p:spPr>
          <a:xfrm>
            <a:off x="996840" y="3048120"/>
            <a:ext cx="7229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new connections between local search and LP/SDP relax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>
            <a:off x="3934800" y="5948280"/>
            <a:ext cx="491004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nstructive; no rounding algorith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ext Box 43"/>
          <p:cNvSpPr/>
          <p:nvPr/>
        </p:nvSpPr>
        <p:spPr>
          <a:xfrm>
            <a:off x="2892600" y="3963960"/>
            <a:ext cx="145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035 0 E">
                                      <p:cBhvr>
                                        <p:cTn id="380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035 0 E">
                                      <p:cBhvr>
                                        <p:cTn id="3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851 0 E">
                                      <p:cBhvr>
                                        <p:cTn id="38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"/>
          <p:cNvSpPr/>
          <p:nvPr/>
        </p:nvSpPr>
        <p:spPr>
          <a:xfrm>
            <a:off x="1824120" y="3240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4572000" y="3087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2664000" y="3087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6404040" y="3087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191120" y="36212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82960" y="3621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51760" y="36226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que L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 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 flipH="1">
            <a:off x="2663640" y="2797200"/>
            <a:ext cx="106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5411880" y="2797200"/>
            <a:ext cx="9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V="1">
            <a:off x="2664000" y="2720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6404040" y="2720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3884760" y="25891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679320" y="4500720"/>
            <a:ext cx="778536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que LP has a compact representation when k is a const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1212840" y="6024600"/>
            <a:ext cx="779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polynomial size LP with smaller integrality gap than SA relax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2052720" y="1368360"/>
            <a:ext cx="50385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lique LP has exponentially many constraints and no separation oracle is know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363400" y="526104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result in extremal combinator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>
            <a:off x="144360" y="5948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2" descr="txp_fig"/>
          <p:cNvPicPr/>
          <p:nvPr/>
        </p:nvPicPr>
        <p:blipFill>
          <a:blip r:embed="rId1"/>
          <a:stretch/>
        </p:blipFill>
        <p:spPr>
          <a:xfrm>
            <a:off x="831960" y="3581280"/>
            <a:ext cx="5410080" cy="2235240"/>
          </a:xfrm>
          <a:prstGeom prst="rect">
            <a:avLst/>
          </a:prstGeom>
          <a:ln w="0">
            <a:noFill/>
          </a:ln>
        </p:spPr>
      </p:pic>
      <p:sp>
        <p:nvSpPr>
          <p:cNvPr id="273" name="Line 2"/>
          <p:cNvSpPr/>
          <p:nvPr/>
        </p:nvSpPr>
        <p:spPr>
          <a:xfrm>
            <a:off x="1824120" y="1932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4572000" y="177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2664000" y="177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6404040" y="177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91120" y="2313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082960" y="23130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OP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251760" y="231444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que L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4572000" y="3429000"/>
            <a:ext cx="38926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[Grötschel, Lovász, Schrijver]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DP captures the clique constra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 flipH="1">
            <a:off x="2663640" y="1500120"/>
            <a:ext cx="106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411880" y="1500120"/>
            <a:ext cx="9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V="1">
            <a:off x="2664000" y="1423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6404040" y="1423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3884760" y="129240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5869080" y="1779480"/>
            <a:ext cx="0" cy="3812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411880" y="23144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604800" y="289404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ovász theta function is an SDP formulation for the independent set probl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1136520" y="6100920"/>
            <a:ext cx="686916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vász theta function has integrality g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33"/>
          <p:cNvSpPr/>
          <p:nvPr/>
        </p:nvSpPr>
        <p:spPr>
          <a:xfrm>
            <a:off x="4191120" y="1673280"/>
            <a:ext cx="1984320" cy="99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259240" y="833400"/>
            <a:ext cx="36640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direct way of bounding SDP ga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335560" y="4829040"/>
            <a:ext cx="358776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way to improve k-Set Packing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explain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approximation for 3-D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lity g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 + 1) / 2 for clique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 Algorithm for k-D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93720" y="3122280"/>
            <a:ext cx="62532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a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good ordering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terativ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mall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local rat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mpute an approximat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136520" y="2817720"/>
            <a:ext cx="6870960" cy="22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824120" y="5718240"/>
            <a:ext cx="547992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ame algorithm for k-Set Packing gives k − 1 + 1/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984240" y="1673280"/>
            <a:ext cx="709776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m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2-approximation algorithm for weighted 3-D Matc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3"/>
          <p:cNvSpPr/>
          <p:nvPr/>
        </p:nvSpPr>
        <p:spPr>
          <a:xfrm>
            <a:off x="907920" y="4421160"/>
            <a:ext cx="732816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olution:  # variabl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ight constraints  in a basic so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Picture 264" descr="txp_fig"/>
          <p:cNvPicPr/>
          <p:nvPr/>
        </p:nvPicPr>
        <p:blipFill>
          <a:blip r:embed="rId1"/>
          <a:stretch/>
        </p:blipFill>
        <p:spPr>
          <a:xfrm>
            <a:off x="890640" y="1901880"/>
            <a:ext cx="4444920" cy="1650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1"/>
          <p:cNvSpPr/>
          <p:nvPr/>
        </p:nvSpPr>
        <p:spPr>
          <a:xfrm>
            <a:off x="5945040" y="3200400"/>
            <a:ext cx="2833920" cy="458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edges wit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945040" y="2436840"/>
            <a:ext cx="2833920" cy="611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degree constraints can be tigh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Text Box 40"/>
          <p:cNvSpPr/>
          <p:nvPr/>
        </p:nvSpPr>
        <p:spPr>
          <a:xfrm>
            <a:off x="1066680" y="5415120"/>
            <a:ext cx="7023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basic solution, there is a vertex with degree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7560" y="3429000"/>
            <a:ext cx="800748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t, th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each edge consists of 3 vertices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basic solution,                  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12840" y="2589120"/>
            <a:ext cx="595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t E' be the set of non-zero edges, i.e. edges s.t.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6"/>
          <p:cNvGrpSpPr/>
          <p:nvPr/>
        </p:nvGrpSpPr>
        <p:grpSpPr>
          <a:xfrm>
            <a:off x="1212840" y="1901880"/>
            <a:ext cx="6565680" cy="458640"/>
            <a:chOff x="1212840" y="1901880"/>
            <a:chExt cx="6565680" cy="458640"/>
          </a:xfrm>
        </p:grpSpPr>
        <p:sp>
          <p:nvSpPr>
            <p:cNvPr id="311" name="Text Box 7"/>
            <p:cNvSpPr/>
            <p:nvPr/>
          </p:nvSpPr>
          <p:spPr>
            <a:xfrm>
              <a:off x="1212840" y="1901880"/>
              <a:ext cx="6565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et T be the set of tight vertices, i.e. vertices s.t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12" name="Picture 8" descr="TP_tmp"/>
            <p:cNvPicPr/>
            <p:nvPr/>
          </p:nvPicPr>
          <p:blipFill>
            <a:blip r:embed="rId1"/>
            <a:stretch/>
          </p:blipFill>
          <p:spPr>
            <a:xfrm>
              <a:off x="6251400" y="1978200"/>
              <a:ext cx="13716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3" name="Picture 9" descr="TP_tmp"/>
          <p:cNvPicPr/>
          <p:nvPr/>
        </p:nvPicPr>
        <p:blipFill>
          <a:blip r:embed="rId2"/>
          <a:stretch/>
        </p:blipFill>
        <p:spPr>
          <a:xfrm>
            <a:off x="3273480" y="5838840"/>
            <a:ext cx="1041480" cy="2793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10"/>
          <p:cNvGrpSpPr/>
          <p:nvPr/>
        </p:nvGrpSpPr>
        <p:grpSpPr>
          <a:xfrm>
            <a:off x="4952880" y="5769000"/>
            <a:ext cx="1220760" cy="376200"/>
            <a:chOff x="4952880" y="5769000"/>
            <a:chExt cx="1220760" cy="376200"/>
          </a:xfrm>
        </p:grpSpPr>
        <p:sp>
          <p:nvSpPr>
            <p:cNvPr id="315" name="Text Box 11"/>
            <p:cNvSpPr/>
            <p:nvPr/>
          </p:nvSpPr>
          <p:spPr>
            <a:xfrm>
              <a:off x="4952880" y="5769000"/>
              <a:ext cx="1220760" cy="376200"/>
            </a:xfrm>
            <a:prstGeom prst="rect">
              <a:avLst/>
            </a:prstGeom>
            <a:solidFill>
              <a:srgbClr val="ccccff">
                <a:alpha val="8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16" name="Picture 12" descr="TP_tmp"/>
            <p:cNvPicPr/>
            <p:nvPr/>
          </p:nvPicPr>
          <p:blipFill>
            <a:blip r:embed="rId3"/>
            <a:stretch/>
          </p:blipFill>
          <p:spPr>
            <a:xfrm>
              <a:off x="5029200" y="5822640"/>
              <a:ext cx="1041480" cy="27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13" descr="TP_tmp"/>
          <p:cNvPicPr/>
          <p:nvPr/>
        </p:nvPicPr>
        <p:blipFill>
          <a:blip r:embed="rId4"/>
          <a:stretch/>
        </p:blipFill>
        <p:spPr>
          <a:xfrm>
            <a:off x="2662200" y="4802040"/>
            <a:ext cx="4680000" cy="58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TP_tmp"/>
          <p:cNvPicPr/>
          <p:nvPr/>
        </p:nvPicPr>
        <p:blipFill>
          <a:blip r:embed="rId5"/>
          <a:stretch/>
        </p:blipFill>
        <p:spPr>
          <a:xfrm>
            <a:off x="3349800" y="3429000"/>
            <a:ext cx="2108160" cy="584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0"/>
          <p:cNvSpPr/>
          <p:nvPr/>
        </p:nvSpPr>
        <p:spPr>
          <a:xfrm>
            <a:off x="1066680" y="1224000"/>
            <a:ext cx="7023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basic solution, there is a vertex with degree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Picture 12" descr="TP_tmp"/>
          <p:cNvPicPr/>
          <p:nvPr/>
        </p:nvPicPr>
        <p:blipFill>
          <a:blip r:embed="rId6"/>
          <a:srcRect l="43953" t="-2571" r="32688" b="0"/>
          <a:stretch/>
        </p:blipFill>
        <p:spPr>
          <a:xfrm>
            <a:off x="6431040" y="4838760"/>
            <a:ext cx="244440" cy="287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TP_tmp"/>
          <p:cNvPicPr/>
          <p:nvPr/>
        </p:nvPicPr>
        <p:blipFill>
          <a:blip r:embed="rId7"/>
          <a:srcRect l="43953" t="-2571" r="32688" b="0"/>
          <a:stretch/>
        </p:blipFill>
        <p:spPr>
          <a:xfrm>
            <a:off x="4952880" y="4846680"/>
            <a:ext cx="244440" cy="287280"/>
          </a:xfrm>
          <a:prstGeom prst="rect">
            <a:avLst/>
          </a:prstGeom>
          <a:ln w="0">
            <a:noFill/>
          </a:ln>
        </p:spPr>
      </p:pic>
      <p:sp>
        <p:nvSpPr>
          <p:cNvPr id="322" name="矩形 16"/>
          <p:cNvSpPr/>
          <p:nvPr/>
        </p:nvSpPr>
        <p:spPr>
          <a:xfrm>
            <a:off x="5638680" y="4724280"/>
            <a:ext cx="1298520" cy="486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1"/>
          <p:cNvSpPr/>
          <p:nvPr/>
        </p:nvSpPr>
        <p:spPr>
          <a:xfrm rot="720600">
            <a:off x="2664000" y="2741760"/>
            <a:ext cx="18316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1519200" y="1974960"/>
            <a:ext cx="183204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raph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9160" y="3963600"/>
            <a:ext cx="77155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Hypergraph ma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ind a largest subset of disjoint hyper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pproximation results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√n) [Halldórsson, Kratochvíl, Telle 98’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k-Set Pa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each hyperedge has k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044880" y="21272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3273480" y="151596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2816280" y="273852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3503520" y="28908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189320" y="304308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2357280" y="212724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1671480" y="212724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1900080" y="151596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2587680" y="33480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AutoShape 23"/>
          <p:cNvSpPr/>
          <p:nvPr/>
        </p:nvSpPr>
        <p:spPr>
          <a:xfrm rot="17434800">
            <a:off x="1748520" y="2278440"/>
            <a:ext cx="25192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 rot="3252000">
            <a:off x="1448280" y="1975320"/>
            <a:ext cx="1976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AutoShape 25"/>
          <p:cNvSpPr/>
          <p:nvPr/>
        </p:nvSpPr>
        <p:spPr>
          <a:xfrm rot="17506200">
            <a:off x="1289520" y="1669320"/>
            <a:ext cx="10684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5259240" y="1825560"/>
            <a:ext cx="221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ertex set V: |V| = 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5262120" y="2665440"/>
            <a:ext cx="187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yperedge set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1671480" y="5948280"/>
            <a:ext cx="5801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Hazan, Safra, Schwartz 03’]: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k / log(k) ) hard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0720" y="3123720"/>
            <a:ext cx="824256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graph is 3-parti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35120" y="121608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dge in E' consist of vertices in 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2595600" y="1258920"/>
            <a:ext cx="611280" cy="30636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450720" y="4879800"/>
            <a:ext cx="808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are not linearly independent, i.e. solution is not basi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 rot="18180600">
            <a:off x="3880440" y="2654640"/>
            <a:ext cx="213804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 flipH="1" rot="3419400">
            <a:off x="5713200" y="2667600"/>
            <a:ext cx="213840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0" name="Object 15"/>
          <p:cNvGraphicFramePr/>
          <p:nvPr/>
        </p:nvGraphicFramePr>
        <p:xfrm>
          <a:off x="4343400" y="2131920"/>
          <a:ext cx="306540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1920"/>
                    <a:ext cx="30654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40"/>
          <p:cNvSpPr/>
          <p:nvPr/>
        </p:nvSpPr>
        <p:spPr>
          <a:xfrm>
            <a:off x="1066680" y="5562720"/>
            <a:ext cx="7023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basic solution, there is a vertex with degree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群組 17"/>
          <p:cNvGrpSpPr/>
          <p:nvPr/>
        </p:nvGrpSpPr>
        <p:grpSpPr>
          <a:xfrm>
            <a:off x="982800" y="1157400"/>
            <a:ext cx="1303200" cy="485640"/>
            <a:chOff x="982800" y="1157400"/>
            <a:chExt cx="1303200" cy="485640"/>
          </a:xfrm>
        </p:grpSpPr>
        <p:pic>
          <p:nvPicPr>
            <p:cNvPr id="334" name="Picture 13" descr="TP_tmp"/>
            <p:cNvPicPr/>
            <p:nvPr/>
          </p:nvPicPr>
          <p:blipFill>
            <a:blip r:embed="rId3"/>
            <a:srcRect l="63515" t="0" r="8825" b="34852"/>
            <a:stretch/>
          </p:blipFill>
          <p:spPr>
            <a:xfrm>
              <a:off x="982800" y="1234800"/>
              <a:ext cx="12949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2" descr="TP_tmp"/>
            <p:cNvPicPr/>
            <p:nvPr/>
          </p:nvPicPr>
          <p:blipFill>
            <a:blip r:embed="rId4"/>
            <a:srcRect l="43953" t="-2571" r="32688" b="0"/>
            <a:stretch/>
          </p:blipFill>
          <p:spPr>
            <a:xfrm>
              <a:off x="1779480" y="1271520"/>
              <a:ext cx="24408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矩形 16"/>
            <p:cNvSpPr/>
            <p:nvPr/>
          </p:nvSpPr>
          <p:spPr>
            <a:xfrm>
              <a:off x="987480" y="1157400"/>
              <a:ext cx="1298520" cy="485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(fractional)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2435400" y="3144960"/>
            <a:ext cx="6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4038480" y="5052960"/>
            <a:ext cx="106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 −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5487840" y="5052960"/>
            <a:ext cx="114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 −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3808440" y="2763720"/>
            <a:ext cx="1603440" cy="3812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 rot="5400000">
            <a:off x="3895560" y="3363840"/>
            <a:ext cx="1467000" cy="34272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572000" y="3489480"/>
            <a:ext cx="12240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3579840" y="3908520"/>
            <a:ext cx="12204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5183280" y="2916360"/>
            <a:ext cx="12060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4572000" y="3984480"/>
            <a:ext cx="12240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Oval 12"/>
          <p:cNvSpPr/>
          <p:nvPr/>
        </p:nvSpPr>
        <p:spPr>
          <a:xfrm>
            <a:off x="5411880" y="3984480"/>
            <a:ext cx="12204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Oval 13"/>
          <p:cNvSpPr/>
          <p:nvPr/>
        </p:nvSpPr>
        <p:spPr>
          <a:xfrm>
            <a:off x="4572000" y="2916360"/>
            <a:ext cx="12240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Oval 14"/>
          <p:cNvSpPr/>
          <p:nvPr/>
        </p:nvSpPr>
        <p:spPr>
          <a:xfrm>
            <a:off x="3763800" y="3419640"/>
            <a:ext cx="12096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3962520" y="2916360"/>
            <a:ext cx="12204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5297400" y="3451320"/>
            <a:ext cx="12240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7"/>
          <p:cNvSpPr/>
          <p:nvPr/>
        </p:nvSpPr>
        <p:spPr>
          <a:xfrm rot="15532200">
            <a:off x="4649760" y="3335400"/>
            <a:ext cx="1433520" cy="3664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AutoShape 19"/>
          <p:cNvSpPr/>
          <p:nvPr/>
        </p:nvSpPr>
        <p:spPr>
          <a:xfrm rot="17411400">
            <a:off x="3093120" y="3305880"/>
            <a:ext cx="1449360" cy="3654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H="1">
            <a:off x="5068800" y="2496960"/>
            <a:ext cx="45576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3046320" y="3451320"/>
            <a:ext cx="459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AutoShape 30"/>
          <p:cNvSpPr/>
          <p:nvPr/>
        </p:nvSpPr>
        <p:spPr>
          <a:xfrm rot="1908000">
            <a:off x="5030640" y="3106800"/>
            <a:ext cx="1465560" cy="3664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1"/>
          <p:cNvSpPr/>
          <p:nvPr/>
        </p:nvSpPr>
        <p:spPr>
          <a:xfrm>
            <a:off x="5678640" y="3220920"/>
            <a:ext cx="12204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Oval 32"/>
          <p:cNvSpPr/>
          <p:nvPr/>
        </p:nvSpPr>
        <p:spPr>
          <a:xfrm>
            <a:off x="6175440" y="3527280"/>
            <a:ext cx="12060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Line 34"/>
          <p:cNvSpPr/>
          <p:nvPr/>
        </p:nvSpPr>
        <p:spPr>
          <a:xfrm flipH="1">
            <a:off x="4533840" y="440532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Line 37"/>
          <p:cNvSpPr/>
          <p:nvPr/>
        </p:nvSpPr>
        <p:spPr>
          <a:xfrm>
            <a:off x="5526000" y="4405320"/>
            <a:ext cx="3063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Line 38"/>
          <p:cNvSpPr/>
          <p:nvPr/>
        </p:nvSpPr>
        <p:spPr>
          <a:xfrm flipV="1">
            <a:off x="6022800" y="3908160"/>
            <a:ext cx="14472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6708600" y="50529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450040" y="2228760"/>
            <a:ext cx="6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2286000" y="5800680"/>
            <a:ext cx="45720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2 approx. for unweighted ca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0"/>
          <p:cNvSpPr/>
          <p:nvPr/>
        </p:nvSpPr>
        <p:spPr>
          <a:xfrm>
            <a:off x="2052720" y="5052960"/>
            <a:ext cx="6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Text Box 51"/>
          <p:cNvSpPr/>
          <p:nvPr/>
        </p:nvSpPr>
        <p:spPr>
          <a:xfrm>
            <a:off x="2778120" y="5052960"/>
            <a:ext cx="106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Line 53"/>
          <p:cNvSpPr/>
          <p:nvPr/>
        </p:nvSpPr>
        <p:spPr>
          <a:xfrm flipV="1">
            <a:off x="3351240" y="4365360"/>
            <a:ext cx="19224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Text Box 54"/>
          <p:cNvSpPr/>
          <p:nvPr/>
        </p:nvSpPr>
        <p:spPr>
          <a:xfrm>
            <a:off x="2433600" y="505296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 +  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Text Box 55"/>
          <p:cNvSpPr/>
          <p:nvPr/>
        </p:nvSpPr>
        <p:spPr>
          <a:xfrm>
            <a:off x="3425760" y="505296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 +  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Text Box 56"/>
          <p:cNvSpPr/>
          <p:nvPr/>
        </p:nvSpPr>
        <p:spPr>
          <a:xfrm>
            <a:off x="4838760" y="505296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 +  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Text Box 57"/>
          <p:cNvSpPr/>
          <p:nvPr/>
        </p:nvSpPr>
        <p:spPr>
          <a:xfrm>
            <a:off x="1901880" y="5052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Text Box 58"/>
          <p:cNvSpPr/>
          <p:nvPr/>
        </p:nvSpPr>
        <p:spPr>
          <a:xfrm>
            <a:off x="6365880" y="5052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1136520" y="1521000"/>
            <a:ext cx="7023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basic solution, there is a vertex with degree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54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0" y="3200400"/>
            <a:ext cx="320508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green edg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2, lose (up to)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442880" y="1368360"/>
            <a:ext cx="61819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ame algorithm does not work in the weighted ca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666880" y="3424320"/>
            <a:ext cx="1832040" cy="457200"/>
          </a:xfrm>
          <a:prstGeom prst="roundRect">
            <a:avLst>
              <a:gd name="adj" fmla="val 33681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4192560" y="35766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Oval 10"/>
          <p:cNvSpPr/>
          <p:nvPr/>
        </p:nvSpPr>
        <p:spPr>
          <a:xfrm>
            <a:off x="4421160" y="29653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2741760" y="25131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3505320" y="35766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Oval 13"/>
          <p:cNvSpPr/>
          <p:nvPr/>
        </p:nvSpPr>
        <p:spPr>
          <a:xfrm>
            <a:off x="2819520" y="35766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3122640" y="304812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 rot="17434800">
            <a:off x="3344760" y="3414240"/>
            <a:ext cx="185436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 rot="3252000">
            <a:off x="2351880" y="2892960"/>
            <a:ext cx="16938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AutoShape 17"/>
          <p:cNvSpPr/>
          <p:nvPr/>
        </p:nvSpPr>
        <p:spPr>
          <a:xfrm rot="17955000">
            <a:off x="1739880" y="3963600"/>
            <a:ext cx="16858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Oval 18"/>
          <p:cNvSpPr/>
          <p:nvPr/>
        </p:nvSpPr>
        <p:spPr>
          <a:xfrm>
            <a:off x="2511360" y="411624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679320" y="3124080"/>
            <a:ext cx="114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1825560" y="2436840"/>
            <a:ext cx="611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290600" y="5565600"/>
            <a:ext cx="114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Line 22"/>
          <p:cNvSpPr/>
          <p:nvPr/>
        </p:nvSpPr>
        <p:spPr>
          <a:xfrm flipV="1">
            <a:off x="1978200" y="5032440"/>
            <a:ext cx="150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Line 23"/>
          <p:cNvSpPr/>
          <p:nvPr/>
        </p:nvSpPr>
        <p:spPr>
          <a:xfrm flipH="1">
            <a:off x="3809880" y="4573440"/>
            <a:ext cx="7632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679320" y="2131920"/>
            <a:ext cx="114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Oval 25"/>
          <p:cNvSpPr/>
          <p:nvPr/>
        </p:nvSpPr>
        <p:spPr>
          <a:xfrm>
            <a:off x="2206800" y="46497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1901880" y="3429000"/>
            <a:ext cx="611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Oval 27"/>
          <p:cNvSpPr/>
          <p:nvPr/>
        </p:nvSpPr>
        <p:spPr>
          <a:xfrm>
            <a:off x="3962520" y="41925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Text Box 32"/>
          <p:cNvSpPr/>
          <p:nvPr/>
        </p:nvSpPr>
        <p:spPr>
          <a:xfrm>
            <a:off x="3046320" y="5032440"/>
            <a:ext cx="114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03360" y="1216080"/>
            <a:ext cx="7937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rateg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Write fractional solution as a linear combination of matching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 rot="720600">
            <a:off x="1824120" y="3657600"/>
            <a:ext cx="183204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AutoShape 6"/>
          <p:cNvSpPr/>
          <p:nvPr/>
        </p:nvSpPr>
        <p:spPr>
          <a:xfrm>
            <a:off x="679320" y="2894040"/>
            <a:ext cx="183204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2205000" y="30463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603360" y="36576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1976400" y="36576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2664000" y="38098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Oval 11"/>
          <p:cNvSpPr/>
          <p:nvPr/>
        </p:nvSpPr>
        <p:spPr>
          <a:xfrm>
            <a:off x="3349800" y="396252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Oval 12"/>
          <p:cNvSpPr/>
          <p:nvPr/>
        </p:nvSpPr>
        <p:spPr>
          <a:xfrm>
            <a:off x="1517760" y="30463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Oval 13"/>
          <p:cNvSpPr/>
          <p:nvPr/>
        </p:nvSpPr>
        <p:spPr>
          <a:xfrm>
            <a:off x="831960" y="30463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Oval 14"/>
          <p:cNvSpPr/>
          <p:nvPr/>
        </p:nvSpPr>
        <p:spPr>
          <a:xfrm>
            <a:off x="1060560" y="24354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Oval 15"/>
          <p:cNvSpPr/>
          <p:nvPr/>
        </p:nvSpPr>
        <p:spPr>
          <a:xfrm>
            <a:off x="1747800" y="42670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AutoShape 16"/>
          <p:cNvSpPr/>
          <p:nvPr/>
        </p:nvSpPr>
        <p:spPr>
          <a:xfrm rot="17434800">
            <a:off x="1143720" y="3537720"/>
            <a:ext cx="17920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 rot="3252000">
            <a:off x="608400" y="2894400"/>
            <a:ext cx="1976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 rot="17411400">
            <a:off x="67680" y="2894040"/>
            <a:ext cx="167976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449280" y="5872320"/>
            <a:ext cx="82440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f sum of coefficients is small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228600" y="5029200"/>
            <a:ext cx="114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H="1" flipV="1">
            <a:off x="685800" y="40384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 flipH="1" flipV="1">
            <a:off x="1752480" y="47242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2435400" y="1978200"/>
            <a:ext cx="114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 flipH="1">
            <a:off x="1671480" y="2282760"/>
            <a:ext cx="763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 flipV="1">
            <a:off x="2052720" y="2358720"/>
            <a:ext cx="5349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Line 26"/>
          <p:cNvSpPr/>
          <p:nvPr/>
        </p:nvSpPr>
        <p:spPr>
          <a:xfrm flipH="1" flipV="1">
            <a:off x="2739600" y="2435400"/>
            <a:ext cx="7956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3732120" y="342900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3" name="Group 101"/>
          <p:cNvGrpSpPr/>
          <p:nvPr/>
        </p:nvGrpSpPr>
        <p:grpSpPr>
          <a:xfrm>
            <a:off x="7075440" y="2095560"/>
            <a:ext cx="1340640" cy="1118520"/>
            <a:chOff x="7075440" y="2095560"/>
            <a:chExt cx="1340640" cy="1118520"/>
          </a:xfrm>
        </p:grpSpPr>
        <p:sp>
          <p:nvSpPr>
            <p:cNvPr id="424" name="AutoShape 28"/>
            <p:cNvSpPr/>
            <p:nvPr/>
          </p:nvSpPr>
          <p:spPr>
            <a:xfrm rot="613200">
              <a:off x="7671960" y="2741400"/>
              <a:ext cx="733320" cy="1839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AutoShape 29"/>
            <p:cNvSpPr/>
            <p:nvPr/>
          </p:nvSpPr>
          <p:spPr>
            <a:xfrm>
              <a:off x="7167600" y="2425680"/>
              <a:ext cx="825480" cy="18252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30"/>
            <p:cNvSpPr/>
            <p:nvPr/>
          </p:nvSpPr>
          <p:spPr>
            <a:xfrm>
              <a:off x="7808760" y="2471760"/>
              <a:ext cx="9180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31"/>
            <p:cNvSpPr/>
            <p:nvPr/>
          </p:nvSpPr>
          <p:spPr>
            <a:xfrm>
              <a:off x="7167600" y="274644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32"/>
            <p:cNvSpPr/>
            <p:nvPr/>
          </p:nvSpPr>
          <p:spPr>
            <a:xfrm>
              <a:off x="7718400" y="2746440"/>
              <a:ext cx="903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Oval 33"/>
            <p:cNvSpPr/>
            <p:nvPr/>
          </p:nvSpPr>
          <p:spPr>
            <a:xfrm>
              <a:off x="7993080" y="2792520"/>
              <a:ext cx="903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Oval 34"/>
            <p:cNvSpPr/>
            <p:nvPr/>
          </p:nvSpPr>
          <p:spPr>
            <a:xfrm>
              <a:off x="8267760" y="283860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7534080" y="2471760"/>
              <a:ext cx="903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Oval 36"/>
            <p:cNvSpPr/>
            <p:nvPr/>
          </p:nvSpPr>
          <p:spPr>
            <a:xfrm>
              <a:off x="7259400" y="2471760"/>
              <a:ext cx="903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7350120" y="2197080"/>
              <a:ext cx="9180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7624800" y="302112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AutoShape 39"/>
            <p:cNvSpPr/>
            <p:nvPr/>
          </p:nvSpPr>
          <p:spPr>
            <a:xfrm rot="17434800">
              <a:off x="7348320" y="2699640"/>
              <a:ext cx="830520" cy="1857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AutoShape 40"/>
            <p:cNvSpPr/>
            <p:nvPr/>
          </p:nvSpPr>
          <p:spPr>
            <a:xfrm rot="3358800">
              <a:off x="7160760" y="2428560"/>
              <a:ext cx="844560" cy="18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AutoShape 41"/>
            <p:cNvSpPr/>
            <p:nvPr/>
          </p:nvSpPr>
          <p:spPr>
            <a:xfrm rot="17411400">
              <a:off x="6891120" y="2423520"/>
              <a:ext cx="828720" cy="1857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8" name="Group 92"/>
          <p:cNvGrpSpPr/>
          <p:nvPr/>
        </p:nvGrpSpPr>
        <p:grpSpPr>
          <a:xfrm>
            <a:off x="4784040" y="2096640"/>
            <a:ext cx="1341720" cy="1117800"/>
            <a:chOff x="4784040" y="2096640"/>
            <a:chExt cx="1341720" cy="1117800"/>
          </a:xfrm>
        </p:grpSpPr>
        <p:sp>
          <p:nvSpPr>
            <p:cNvPr id="439" name="AutoShape 56"/>
            <p:cNvSpPr/>
            <p:nvPr/>
          </p:nvSpPr>
          <p:spPr>
            <a:xfrm rot="3358800">
              <a:off x="4870080" y="2428560"/>
              <a:ext cx="844560" cy="18720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AutoShape 44"/>
            <p:cNvSpPr/>
            <p:nvPr/>
          </p:nvSpPr>
          <p:spPr>
            <a:xfrm rot="613200">
              <a:off x="5381640" y="2741040"/>
              <a:ext cx="733320" cy="18432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AutoShape 45"/>
            <p:cNvSpPr/>
            <p:nvPr/>
          </p:nvSpPr>
          <p:spPr>
            <a:xfrm>
              <a:off x="4876920" y="2425680"/>
              <a:ext cx="825480" cy="18252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Oval 46"/>
            <p:cNvSpPr/>
            <p:nvPr/>
          </p:nvSpPr>
          <p:spPr>
            <a:xfrm>
              <a:off x="5518080" y="247176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Oval 47"/>
            <p:cNvSpPr/>
            <p:nvPr/>
          </p:nvSpPr>
          <p:spPr>
            <a:xfrm>
              <a:off x="4876920" y="274644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Oval 48"/>
            <p:cNvSpPr/>
            <p:nvPr/>
          </p:nvSpPr>
          <p:spPr>
            <a:xfrm>
              <a:off x="5427720" y="2746440"/>
              <a:ext cx="903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5702400" y="2792160"/>
              <a:ext cx="9036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5977080" y="2838240"/>
              <a:ext cx="9180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5243400" y="2471760"/>
              <a:ext cx="9072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4968720" y="2471760"/>
              <a:ext cx="9072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53"/>
            <p:cNvSpPr/>
            <p:nvPr/>
          </p:nvSpPr>
          <p:spPr>
            <a:xfrm>
              <a:off x="5059440" y="219708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54"/>
            <p:cNvSpPr/>
            <p:nvPr/>
          </p:nvSpPr>
          <p:spPr>
            <a:xfrm>
              <a:off x="5334120" y="3020760"/>
              <a:ext cx="9180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AutoShape 55"/>
            <p:cNvSpPr/>
            <p:nvPr/>
          </p:nvSpPr>
          <p:spPr>
            <a:xfrm rot="17434800">
              <a:off x="5057640" y="2700360"/>
              <a:ext cx="830160" cy="1854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AutoShape 57"/>
            <p:cNvSpPr/>
            <p:nvPr/>
          </p:nvSpPr>
          <p:spPr>
            <a:xfrm rot="17411400">
              <a:off x="4599720" y="2424600"/>
              <a:ext cx="828720" cy="1857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3" name="Group 94"/>
          <p:cNvGrpSpPr/>
          <p:nvPr/>
        </p:nvGrpSpPr>
        <p:grpSpPr>
          <a:xfrm>
            <a:off x="4784040" y="3852360"/>
            <a:ext cx="1341360" cy="1117800"/>
            <a:chOff x="4784040" y="3852360"/>
            <a:chExt cx="1341360" cy="1117800"/>
          </a:xfrm>
        </p:grpSpPr>
        <p:sp>
          <p:nvSpPr>
            <p:cNvPr id="454" name="AutoShape 70"/>
            <p:cNvSpPr/>
            <p:nvPr/>
          </p:nvSpPr>
          <p:spPr>
            <a:xfrm rot="17434800">
              <a:off x="5057640" y="4456080"/>
              <a:ext cx="830160" cy="18540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AutoShape 72"/>
            <p:cNvSpPr/>
            <p:nvPr/>
          </p:nvSpPr>
          <p:spPr>
            <a:xfrm rot="17411400">
              <a:off x="4599720" y="4180320"/>
              <a:ext cx="828720" cy="18576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AutoShape 59"/>
            <p:cNvSpPr/>
            <p:nvPr/>
          </p:nvSpPr>
          <p:spPr>
            <a:xfrm rot="613200">
              <a:off x="5381280" y="4497120"/>
              <a:ext cx="733320" cy="1839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AutoShape 60"/>
            <p:cNvSpPr/>
            <p:nvPr/>
          </p:nvSpPr>
          <p:spPr>
            <a:xfrm>
              <a:off x="4876920" y="4181400"/>
              <a:ext cx="825480" cy="18252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61"/>
            <p:cNvSpPr/>
            <p:nvPr/>
          </p:nvSpPr>
          <p:spPr>
            <a:xfrm>
              <a:off x="5518080" y="422748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62"/>
            <p:cNvSpPr/>
            <p:nvPr/>
          </p:nvSpPr>
          <p:spPr>
            <a:xfrm>
              <a:off x="4876920" y="4502160"/>
              <a:ext cx="9180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63"/>
            <p:cNvSpPr/>
            <p:nvPr/>
          </p:nvSpPr>
          <p:spPr>
            <a:xfrm>
              <a:off x="5427720" y="4502160"/>
              <a:ext cx="9036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64"/>
            <p:cNvSpPr/>
            <p:nvPr/>
          </p:nvSpPr>
          <p:spPr>
            <a:xfrm>
              <a:off x="5702400" y="4548240"/>
              <a:ext cx="903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65"/>
            <p:cNvSpPr/>
            <p:nvPr/>
          </p:nvSpPr>
          <p:spPr>
            <a:xfrm>
              <a:off x="5977080" y="459432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66"/>
            <p:cNvSpPr/>
            <p:nvPr/>
          </p:nvSpPr>
          <p:spPr>
            <a:xfrm>
              <a:off x="5243400" y="4227480"/>
              <a:ext cx="9072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4968720" y="4227480"/>
              <a:ext cx="9072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5059440" y="395280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5334120" y="4776840"/>
              <a:ext cx="9180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AutoShape 71"/>
            <p:cNvSpPr/>
            <p:nvPr/>
          </p:nvSpPr>
          <p:spPr>
            <a:xfrm rot="3358800">
              <a:off x="4870080" y="4184280"/>
              <a:ext cx="844560" cy="18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8" name="Group 95"/>
          <p:cNvGrpSpPr/>
          <p:nvPr/>
        </p:nvGrpSpPr>
        <p:grpSpPr>
          <a:xfrm>
            <a:off x="7074720" y="3852360"/>
            <a:ext cx="1341360" cy="1117800"/>
            <a:chOff x="7074720" y="3852360"/>
            <a:chExt cx="1341360" cy="1117800"/>
          </a:xfrm>
        </p:grpSpPr>
        <p:sp>
          <p:nvSpPr>
            <p:cNvPr id="469" name="AutoShape 74"/>
            <p:cNvSpPr/>
            <p:nvPr/>
          </p:nvSpPr>
          <p:spPr>
            <a:xfrm rot="613200">
              <a:off x="7671960" y="4497120"/>
              <a:ext cx="733320" cy="18396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AutoShape 87"/>
            <p:cNvSpPr/>
            <p:nvPr/>
          </p:nvSpPr>
          <p:spPr>
            <a:xfrm rot="17411400">
              <a:off x="6890400" y="4180320"/>
              <a:ext cx="828720" cy="185760"/>
            </a:xfrm>
            <a:prstGeom prst="roundRect">
              <a:avLst>
                <a:gd name="adj" fmla="val 33681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AutoShape 75"/>
            <p:cNvSpPr/>
            <p:nvPr/>
          </p:nvSpPr>
          <p:spPr>
            <a:xfrm>
              <a:off x="7167600" y="4181400"/>
              <a:ext cx="825480" cy="18252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76"/>
            <p:cNvSpPr/>
            <p:nvPr/>
          </p:nvSpPr>
          <p:spPr>
            <a:xfrm>
              <a:off x="7808760" y="422748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77"/>
            <p:cNvSpPr/>
            <p:nvPr/>
          </p:nvSpPr>
          <p:spPr>
            <a:xfrm>
              <a:off x="7167600" y="4502160"/>
              <a:ext cx="9216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Oval 78"/>
            <p:cNvSpPr/>
            <p:nvPr/>
          </p:nvSpPr>
          <p:spPr>
            <a:xfrm>
              <a:off x="7718400" y="4502160"/>
              <a:ext cx="90360" cy="921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Oval 79"/>
            <p:cNvSpPr/>
            <p:nvPr/>
          </p:nvSpPr>
          <p:spPr>
            <a:xfrm>
              <a:off x="7993080" y="4548240"/>
              <a:ext cx="903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Oval 80"/>
            <p:cNvSpPr/>
            <p:nvPr/>
          </p:nvSpPr>
          <p:spPr>
            <a:xfrm>
              <a:off x="8267760" y="4594320"/>
              <a:ext cx="921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Oval 81"/>
            <p:cNvSpPr/>
            <p:nvPr/>
          </p:nvSpPr>
          <p:spPr>
            <a:xfrm>
              <a:off x="7534440" y="4227480"/>
              <a:ext cx="903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82"/>
            <p:cNvSpPr/>
            <p:nvPr/>
          </p:nvSpPr>
          <p:spPr>
            <a:xfrm>
              <a:off x="7259760" y="4227480"/>
              <a:ext cx="903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83"/>
            <p:cNvSpPr/>
            <p:nvPr/>
          </p:nvSpPr>
          <p:spPr>
            <a:xfrm>
              <a:off x="7350120" y="3952800"/>
              <a:ext cx="92160" cy="9036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84"/>
            <p:cNvSpPr/>
            <p:nvPr/>
          </p:nvSpPr>
          <p:spPr>
            <a:xfrm>
              <a:off x="7624800" y="4776840"/>
              <a:ext cx="92160" cy="9180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AutoShape 85"/>
            <p:cNvSpPr/>
            <p:nvPr/>
          </p:nvSpPr>
          <p:spPr>
            <a:xfrm rot="17434800">
              <a:off x="7348320" y="4456080"/>
              <a:ext cx="830160" cy="18576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AutoShape 86"/>
            <p:cNvSpPr/>
            <p:nvPr/>
          </p:nvSpPr>
          <p:spPr>
            <a:xfrm rot="3358800">
              <a:off x="7160760" y="4184280"/>
              <a:ext cx="844560" cy="18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Text Box 88"/>
          <p:cNvSpPr/>
          <p:nvPr/>
        </p:nvSpPr>
        <p:spPr>
          <a:xfrm>
            <a:off x="5025960" y="33210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Text Box 89"/>
          <p:cNvSpPr/>
          <p:nvPr/>
        </p:nvSpPr>
        <p:spPr>
          <a:xfrm>
            <a:off x="7318440" y="33210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Text Box 90"/>
          <p:cNvSpPr/>
          <p:nvPr/>
        </p:nvSpPr>
        <p:spPr>
          <a:xfrm>
            <a:off x="7318440" y="50767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Text Box 91"/>
          <p:cNvSpPr/>
          <p:nvPr/>
        </p:nvSpPr>
        <p:spPr>
          <a:xfrm>
            <a:off x="5027760" y="50767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Rectangle 100"/>
          <p:cNvSpPr/>
          <p:nvPr/>
        </p:nvSpPr>
        <p:spPr>
          <a:xfrm>
            <a:off x="4648320" y="3809880"/>
            <a:ext cx="1603080" cy="122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Rectangle 101"/>
          <p:cNvSpPr/>
          <p:nvPr/>
        </p:nvSpPr>
        <p:spPr>
          <a:xfrm>
            <a:off x="5103720" y="5032440"/>
            <a:ext cx="687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Rectangle 102"/>
          <p:cNvSpPr/>
          <p:nvPr/>
        </p:nvSpPr>
        <p:spPr>
          <a:xfrm>
            <a:off x="5103720" y="3276720"/>
            <a:ext cx="687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Rectangle 103"/>
          <p:cNvSpPr/>
          <p:nvPr/>
        </p:nvSpPr>
        <p:spPr>
          <a:xfrm>
            <a:off x="7394400" y="3276720"/>
            <a:ext cx="687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104"/>
          <p:cNvSpPr/>
          <p:nvPr/>
        </p:nvSpPr>
        <p:spPr>
          <a:xfrm>
            <a:off x="7394400" y="5032440"/>
            <a:ext cx="687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Line 106"/>
          <p:cNvSpPr/>
          <p:nvPr/>
        </p:nvSpPr>
        <p:spPr>
          <a:xfrm flipV="1">
            <a:off x="2205000" y="3657600"/>
            <a:ext cx="2671920" cy="221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Line 107"/>
          <p:cNvSpPr/>
          <p:nvPr/>
        </p:nvSpPr>
        <p:spPr>
          <a:xfrm flipV="1">
            <a:off x="2205000" y="5261040"/>
            <a:ext cx="274788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Line 108"/>
          <p:cNvSpPr/>
          <p:nvPr/>
        </p:nvSpPr>
        <p:spPr>
          <a:xfrm flipV="1">
            <a:off x="2205000" y="3581280"/>
            <a:ext cx="5038920" cy="229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Line 109"/>
          <p:cNvSpPr/>
          <p:nvPr/>
        </p:nvSpPr>
        <p:spPr>
          <a:xfrm flipV="1">
            <a:off x="2205000" y="5412960"/>
            <a:ext cx="5114880" cy="45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Rectangle 110"/>
          <p:cNvSpPr/>
          <p:nvPr/>
        </p:nvSpPr>
        <p:spPr>
          <a:xfrm>
            <a:off x="3165840" y="5867280"/>
            <a:ext cx="58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aging, there is a matching of large weigh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371600" y="5195880"/>
            <a:ext cx="114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Good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3360" y="2665080"/>
            <a:ext cx="3579840" cy="297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80000" rIns="180000" tIns="154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der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an edge e with x(N[e]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it to the ord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ve e from the 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the graph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4495680" y="2513160"/>
            <a:ext cx="6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8074080" y="3276720"/>
            <a:ext cx="106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≤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 −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10400" y="4879800"/>
            <a:ext cx="152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∑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≤ 1 −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AutoShape 18"/>
          <p:cNvSpPr/>
          <p:nvPr/>
        </p:nvSpPr>
        <p:spPr>
          <a:xfrm rot="3252000">
            <a:off x="5476320" y="2952720"/>
            <a:ext cx="1582920" cy="3668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6084720" y="2954160"/>
            <a:ext cx="1467000" cy="3668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6754680" y="3075120"/>
            <a:ext cx="12240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5472000" y="3564000"/>
            <a:ext cx="12240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6572160" y="3564000"/>
            <a:ext cx="12060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7305840" y="3078000"/>
            <a:ext cx="12204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6207120" y="4605480"/>
            <a:ext cx="122400" cy="122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6203880" y="3075120"/>
            <a:ext cx="12240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5656320" y="3075120"/>
            <a:ext cx="120600" cy="1206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5838840" y="2585880"/>
            <a:ext cx="122400" cy="12096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6389640" y="4116240"/>
            <a:ext cx="12240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AutoShape 17"/>
          <p:cNvSpPr/>
          <p:nvPr/>
        </p:nvSpPr>
        <p:spPr>
          <a:xfrm rot="17434800">
            <a:off x="5734080" y="3978000"/>
            <a:ext cx="1433520" cy="3664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AutoShape 19"/>
          <p:cNvSpPr/>
          <p:nvPr/>
        </p:nvSpPr>
        <p:spPr>
          <a:xfrm rot="17411400">
            <a:off x="5045040" y="2952360"/>
            <a:ext cx="1343160" cy="3654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Line 28"/>
          <p:cNvSpPr/>
          <p:nvPr/>
        </p:nvSpPr>
        <p:spPr>
          <a:xfrm flipH="1">
            <a:off x="6329160" y="2513160"/>
            <a:ext cx="455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5029200" y="2741760"/>
            <a:ext cx="458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AutoShape 30"/>
          <p:cNvSpPr/>
          <p:nvPr/>
        </p:nvSpPr>
        <p:spPr>
          <a:xfrm rot="1908000">
            <a:off x="6388200" y="3755520"/>
            <a:ext cx="1465200" cy="3668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7061040" y="3871800"/>
            <a:ext cx="12240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Oval 32"/>
          <p:cNvSpPr/>
          <p:nvPr/>
        </p:nvSpPr>
        <p:spPr>
          <a:xfrm>
            <a:off x="7551720" y="4176720"/>
            <a:ext cx="120600" cy="12240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Line 34"/>
          <p:cNvSpPr/>
          <p:nvPr/>
        </p:nvSpPr>
        <p:spPr>
          <a:xfrm>
            <a:off x="7624800" y="3200400"/>
            <a:ext cx="458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Line 37"/>
          <p:cNvSpPr/>
          <p:nvPr/>
        </p:nvSpPr>
        <p:spPr>
          <a:xfrm>
            <a:off x="6634080" y="4481640"/>
            <a:ext cx="30636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Line 38"/>
          <p:cNvSpPr/>
          <p:nvPr/>
        </p:nvSpPr>
        <p:spPr>
          <a:xfrm flipV="1">
            <a:off x="7122960" y="4420800"/>
            <a:ext cx="18288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AutoShape 40"/>
          <p:cNvSpPr/>
          <p:nvPr/>
        </p:nvSpPr>
        <p:spPr>
          <a:xfrm rot="5400000">
            <a:off x="6744960" y="3697200"/>
            <a:ext cx="152280" cy="3429000"/>
          </a:xfrm>
          <a:custGeom>
            <a:avLst/>
            <a:gdLst>
              <a:gd name="textAreaLeft" fmla="*/ 0 w 152280"/>
              <a:gd name="textAreaRight" fmla="*/ 5508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Text Box 41"/>
          <p:cNvSpPr/>
          <p:nvPr/>
        </p:nvSpPr>
        <p:spPr>
          <a:xfrm>
            <a:off x="6251400" y="5565600"/>
            <a:ext cx="244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∑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≤ 2   (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≤ 1 −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1060560" y="1062000"/>
            <a:ext cx="7022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basic solution, there is a vertex with degree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6708600" y="2284560"/>
            <a:ext cx="61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907920" y="1749600"/>
            <a:ext cx="7328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Lemma to find a good ordering, then apply greedy colo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7"/>
          <p:cNvSpPr/>
          <p:nvPr/>
        </p:nvSpPr>
        <p:spPr>
          <a:xfrm>
            <a:off x="220680" y="6176880"/>
            <a:ext cx="8693280" cy="4057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re is an ordering of edge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.t. x(N[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∩ {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72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93"/>
          <p:cNvSpPr/>
          <p:nvPr/>
        </p:nvSpPr>
        <p:spPr>
          <a:xfrm rot="3252000">
            <a:off x="6579360" y="2470680"/>
            <a:ext cx="1481040" cy="342720"/>
          </a:xfrm>
          <a:prstGeom prst="roundRect">
            <a:avLst>
              <a:gd name="adj" fmla="val 33681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105"/>
          <p:cNvSpPr/>
          <p:nvPr/>
        </p:nvSpPr>
        <p:spPr>
          <a:xfrm>
            <a:off x="7311960" y="3451320"/>
            <a:ext cx="1373400" cy="341280"/>
          </a:xfrm>
          <a:prstGeom prst="roundRect">
            <a:avLst>
              <a:gd name="adj" fmla="val 33681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Text Box 104"/>
          <p:cNvSpPr/>
          <p:nvPr/>
        </p:nvSpPr>
        <p:spPr>
          <a:xfrm>
            <a:off x="372960" y="3048120"/>
            <a:ext cx="5114880" cy="1296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the fractional solution x as a linear combination of matchings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, wh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AutoShape 92"/>
          <p:cNvSpPr/>
          <p:nvPr/>
        </p:nvSpPr>
        <p:spPr>
          <a:xfrm rot="17434800">
            <a:off x="6819840" y="3430080"/>
            <a:ext cx="1343160" cy="343080"/>
          </a:xfrm>
          <a:prstGeom prst="roundRect">
            <a:avLst>
              <a:gd name="adj" fmla="val 33681"/>
            </a:avLst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AutoShape 94"/>
          <p:cNvSpPr/>
          <p:nvPr/>
        </p:nvSpPr>
        <p:spPr>
          <a:xfrm>
            <a:off x="7148520" y="2473200"/>
            <a:ext cx="1373040" cy="341280"/>
          </a:xfrm>
          <a:prstGeom prst="roundRect">
            <a:avLst>
              <a:gd name="adj" fmla="val 33681"/>
            </a:avLst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AutoShape 95"/>
          <p:cNvSpPr/>
          <p:nvPr/>
        </p:nvSpPr>
        <p:spPr>
          <a:xfrm rot="17411400">
            <a:off x="6175440" y="2470320"/>
            <a:ext cx="1257120" cy="342720"/>
          </a:xfrm>
          <a:prstGeom prst="roundRect">
            <a:avLst>
              <a:gd name="adj" fmla="val 33681"/>
            </a:avLst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greedy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297000" y="4802040"/>
            <a:ext cx="8626320" cy="871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aging argument, there is a matching with weight at least half of the optim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integrality gap at most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235080" y="1139760"/>
            <a:ext cx="8680320" cy="4057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re is an ordering of edge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.t. x(N[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∩ {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Text Box 37"/>
          <p:cNvSpPr/>
          <p:nvPr/>
        </p:nvSpPr>
        <p:spPr>
          <a:xfrm>
            <a:off x="1136520" y="6024600"/>
            <a:ext cx="32036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ot an efficient algorithm y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38"/>
          <p:cNvSpPr/>
          <p:nvPr/>
        </p:nvSpPr>
        <p:spPr>
          <a:xfrm>
            <a:off x="5564160" y="6024600"/>
            <a:ext cx="198756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eed local rat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1" name="Picture 40" descr="txp_fig"/>
          <p:cNvPicPr/>
          <p:nvPr/>
        </p:nvPicPr>
        <p:blipFill>
          <a:blip r:embed="rId1"/>
          <a:stretch/>
        </p:blipFill>
        <p:spPr>
          <a:xfrm>
            <a:off x="1189080" y="3886200"/>
            <a:ext cx="1447920" cy="380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3" descr="txp_fig"/>
          <p:cNvPicPr/>
          <p:nvPr/>
        </p:nvPicPr>
        <p:blipFill>
          <a:blip r:embed="rId2"/>
          <a:stretch/>
        </p:blipFill>
        <p:spPr>
          <a:xfrm>
            <a:off x="3479760" y="3886200"/>
            <a:ext cx="1092240" cy="3808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6"/>
          <p:cNvSpPr/>
          <p:nvPr/>
        </p:nvSpPr>
        <p:spPr>
          <a:xfrm>
            <a:off x="41400" y="2055960"/>
            <a:ext cx="624204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eedy coloring, color the edges in reverse or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Oval 59"/>
          <p:cNvSpPr/>
          <p:nvPr/>
        </p:nvSpPr>
        <p:spPr>
          <a:xfrm>
            <a:off x="7775640" y="2584440"/>
            <a:ext cx="11412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Oval 60"/>
          <p:cNvSpPr/>
          <p:nvPr/>
        </p:nvSpPr>
        <p:spPr>
          <a:xfrm>
            <a:off x="6575400" y="3043080"/>
            <a:ext cx="114480" cy="113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Oval 61"/>
          <p:cNvSpPr/>
          <p:nvPr/>
        </p:nvSpPr>
        <p:spPr>
          <a:xfrm>
            <a:off x="7604280" y="3043080"/>
            <a:ext cx="114120" cy="1130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Oval 62"/>
          <p:cNvSpPr/>
          <p:nvPr/>
        </p:nvSpPr>
        <p:spPr>
          <a:xfrm>
            <a:off x="8291520" y="2587680"/>
            <a:ext cx="114120" cy="11412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Oval 63"/>
          <p:cNvSpPr/>
          <p:nvPr/>
        </p:nvSpPr>
        <p:spPr>
          <a:xfrm>
            <a:off x="7262640" y="4017960"/>
            <a:ext cx="11448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Oval 64"/>
          <p:cNvSpPr/>
          <p:nvPr/>
        </p:nvSpPr>
        <p:spPr>
          <a:xfrm>
            <a:off x="7261200" y="2584440"/>
            <a:ext cx="11448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Oval 65"/>
          <p:cNvSpPr/>
          <p:nvPr/>
        </p:nvSpPr>
        <p:spPr>
          <a:xfrm>
            <a:off x="6746760" y="2584440"/>
            <a:ext cx="11448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Oval 66"/>
          <p:cNvSpPr/>
          <p:nvPr/>
        </p:nvSpPr>
        <p:spPr>
          <a:xfrm>
            <a:off x="6918480" y="2127240"/>
            <a:ext cx="11412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Oval 67"/>
          <p:cNvSpPr/>
          <p:nvPr/>
        </p:nvSpPr>
        <p:spPr>
          <a:xfrm>
            <a:off x="7434360" y="3559320"/>
            <a:ext cx="114120" cy="11412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AutoShape 68"/>
          <p:cNvSpPr/>
          <p:nvPr/>
        </p:nvSpPr>
        <p:spPr>
          <a:xfrm rot="17434800">
            <a:off x="6827760" y="3430080"/>
            <a:ext cx="1343160" cy="3430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AutoShape 57"/>
          <p:cNvSpPr/>
          <p:nvPr/>
        </p:nvSpPr>
        <p:spPr>
          <a:xfrm rot="3252000">
            <a:off x="6586920" y="2470680"/>
            <a:ext cx="1481040" cy="3430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AutoShape 58"/>
          <p:cNvSpPr/>
          <p:nvPr/>
        </p:nvSpPr>
        <p:spPr>
          <a:xfrm>
            <a:off x="7156440" y="2473200"/>
            <a:ext cx="1373040" cy="3412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AutoShape 69"/>
          <p:cNvSpPr/>
          <p:nvPr/>
        </p:nvSpPr>
        <p:spPr>
          <a:xfrm rot="17411400">
            <a:off x="6183360" y="2470320"/>
            <a:ext cx="1257120" cy="34272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Line 96"/>
          <p:cNvSpPr/>
          <p:nvPr/>
        </p:nvSpPr>
        <p:spPr>
          <a:xfrm flipH="1" flipV="1">
            <a:off x="7624440" y="4192200"/>
            <a:ext cx="38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Line 97"/>
          <p:cNvSpPr/>
          <p:nvPr/>
        </p:nvSpPr>
        <p:spPr>
          <a:xfrm flipH="1">
            <a:off x="7395840" y="1979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Line 98"/>
          <p:cNvSpPr/>
          <p:nvPr/>
        </p:nvSpPr>
        <p:spPr>
          <a:xfrm flipH="1" flipV="1">
            <a:off x="8540280" y="2893680"/>
            <a:ext cx="306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Line 99"/>
          <p:cNvSpPr/>
          <p:nvPr/>
        </p:nvSpPr>
        <p:spPr>
          <a:xfrm flipV="1">
            <a:off x="6480000" y="3429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100"/>
          <p:cNvSpPr/>
          <p:nvPr/>
        </p:nvSpPr>
        <p:spPr>
          <a:xfrm>
            <a:off x="6908760" y="4268880"/>
            <a:ext cx="104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Rectangle 101"/>
          <p:cNvSpPr/>
          <p:nvPr/>
        </p:nvSpPr>
        <p:spPr>
          <a:xfrm>
            <a:off x="6832440" y="1673280"/>
            <a:ext cx="104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Rectangle 102"/>
          <p:cNvSpPr/>
          <p:nvPr/>
        </p:nvSpPr>
        <p:spPr>
          <a:xfrm>
            <a:off x="5840280" y="2360520"/>
            <a:ext cx="104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angle 103"/>
          <p:cNvSpPr/>
          <p:nvPr/>
        </p:nvSpPr>
        <p:spPr>
          <a:xfrm>
            <a:off x="8053200" y="2055960"/>
            <a:ext cx="104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Oval 106"/>
          <p:cNvSpPr/>
          <p:nvPr/>
        </p:nvSpPr>
        <p:spPr>
          <a:xfrm>
            <a:off x="7939080" y="3562200"/>
            <a:ext cx="11448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Oval 107"/>
          <p:cNvSpPr/>
          <p:nvPr/>
        </p:nvSpPr>
        <p:spPr>
          <a:xfrm>
            <a:off x="8454960" y="3565440"/>
            <a:ext cx="114480" cy="1144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AutoShape 108"/>
          <p:cNvSpPr/>
          <p:nvPr/>
        </p:nvSpPr>
        <p:spPr>
          <a:xfrm>
            <a:off x="7319880" y="3451320"/>
            <a:ext cx="1373400" cy="3412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Line 109"/>
          <p:cNvSpPr/>
          <p:nvPr/>
        </p:nvSpPr>
        <p:spPr>
          <a:xfrm flipH="1" flipV="1">
            <a:off x="8616600" y="3885840"/>
            <a:ext cx="306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Rectangle 110"/>
          <p:cNvSpPr/>
          <p:nvPr/>
        </p:nvSpPr>
        <p:spPr>
          <a:xfrm>
            <a:off x="7824600" y="3886200"/>
            <a:ext cx="104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Oval 111"/>
          <p:cNvSpPr/>
          <p:nvPr/>
        </p:nvSpPr>
        <p:spPr>
          <a:xfrm>
            <a:off x="3351240" y="3657600"/>
            <a:ext cx="1449360" cy="83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Oval 112"/>
          <p:cNvSpPr/>
          <p:nvPr/>
        </p:nvSpPr>
        <p:spPr>
          <a:xfrm>
            <a:off x="8159760" y="833400"/>
            <a:ext cx="839880" cy="91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Line 113"/>
          <p:cNvSpPr/>
          <p:nvPr/>
        </p:nvSpPr>
        <p:spPr>
          <a:xfrm flipV="1">
            <a:off x="4572000" y="1520640"/>
            <a:ext cx="3587760" cy="221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93"/>
          <p:cNvSpPr/>
          <p:nvPr/>
        </p:nvSpPr>
        <p:spPr>
          <a:xfrm>
            <a:off x="6175440" y="3200400"/>
            <a:ext cx="1832040" cy="457200"/>
          </a:xfrm>
          <a:prstGeom prst="roundRect">
            <a:avLst>
              <a:gd name="adj" fmla="val 33681"/>
            </a:avLst>
          </a:prstGeom>
          <a:solidFill>
            <a:srgbClr val="80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AutoShape 86"/>
          <p:cNvSpPr/>
          <p:nvPr/>
        </p:nvSpPr>
        <p:spPr>
          <a:xfrm>
            <a:off x="1060560" y="3200400"/>
            <a:ext cx="1832040" cy="457200"/>
          </a:xfrm>
          <a:prstGeom prst="roundRect">
            <a:avLst>
              <a:gd name="adj" fmla="val 33681"/>
            </a:avLst>
          </a:prstGeom>
          <a:solidFill>
            <a:srgbClr val="80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AutoShape 7"/>
          <p:cNvSpPr/>
          <p:nvPr/>
        </p:nvSpPr>
        <p:spPr>
          <a:xfrm rot="720600">
            <a:off x="2206800" y="3959280"/>
            <a:ext cx="18316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044880" y="1216080"/>
            <a:ext cx="305424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plit the weight vector into 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ractional Local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8"/>
          <p:cNvSpPr/>
          <p:nvPr/>
        </p:nvSpPr>
        <p:spPr>
          <a:xfrm>
            <a:off x="1062000" y="3195720"/>
            <a:ext cx="183204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Oval 10"/>
          <p:cNvSpPr/>
          <p:nvPr/>
        </p:nvSpPr>
        <p:spPr>
          <a:xfrm>
            <a:off x="985680" y="395928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2359080" y="39592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046320" y="411156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Oval 14"/>
          <p:cNvSpPr/>
          <p:nvPr/>
        </p:nvSpPr>
        <p:spPr>
          <a:xfrm>
            <a:off x="1900080" y="33480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Oval 15"/>
          <p:cNvSpPr/>
          <p:nvPr/>
        </p:nvSpPr>
        <p:spPr>
          <a:xfrm>
            <a:off x="1214280" y="33480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Oval 16"/>
          <p:cNvSpPr/>
          <p:nvPr/>
        </p:nvSpPr>
        <p:spPr>
          <a:xfrm>
            <a:off x="1442880" y="273672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AutoShape 18"/>
          <p:cNvSpPr/>
          <p:nvPr/>
        </p:nvSpPr>
        <p:spPr>
          <a:xfrm rot="17434800">
            <a:off x="1526400" y="3839400"/>
            <a:ext cx="17920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Oval 24"/>
          <p:cNvSpPr/>
          <p:nvPr/>
        </p:nvSpPr>
        <p:spPr>
          <a:xfrm>
            <a:off x="2359080" y="39574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Oval 26"/>
          <p:cNvSpPr/>
          <p:nvPr/>
        </p:nvSpPr>
        <p:spPr>
          <a:xfrm>
            <a:off x="3656160" y="28893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AutoShape 28"/>
          <p:cNvSpPr/>
          <p:nvPr/>
        </p:nvSpPr>
        <p:spPr>
          <a:xfrm rot="14581800">
            <a:off x="2747160" y="4107600"/>
            <a:ext cx="213516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60336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6251400" y="121608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Number denotes weigh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679320" y="4313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1824120" y="2589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1900080" y="5032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3044880" y="4465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4267080" y="5305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38"/>
          <p:cNvSpPr/>
          <p:nvPr/>
        </p:nvSpPr>
        <p:spPr>
          <a:xfrm>
            <a:off x="4038480" y="27860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755640" y="1825560"/>
            <a:ext cx="7709040" cy="405720"/>
          </a:xfrm>
          <a:prstGeom prst="rect">
            <a:avLst/>
          </a:prstGeom>
          <a:solidFill>
            <a:srgbClr val="def6f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ep 1: pick an edge with ∑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≤ 2 in the closed neighborhood (by Lemm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755640" y="1825560"/>
            <a:ext cx="7709040" cy="368280"/>
          </a:xfrm>
          <a:prstGeom prst="rect">
            <a:avLst/>
          </a:prstGeom>
          <a:solidFill>
            <a:srgbClr val="def6f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ep 2: make a copy of the graph in the neighborhood of the blue ed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AutoShape 43"/>
          <p:cNvSpPr/>
          <p:nvPr/>
        </p:nvSpPr>
        <p:spPr>
          <a:xfrm>
            <a:off x="6175440" y="3200400"/>
            <a:ext cx="1832040" cy="457200"/>
          </a:xfrm>
          <a:prstGeom prst="roundRect">
            <a:avLst>
              <a:gd name="adj" fmla="val 33681"/>
            </a:avLst>
          </a:prstGeom>
          <a:solidFill>
            <a:srgbClr val="80b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Oval 45"/>
          <p:cNvSpPr/>
          <p:nvPr/>
        </p:nvSpPr>
        <p:spPr>
          <a:xfrm>
            <a:off x="6099120" y="39513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Oval 46"/>
          <p:cNvSpPr/>
          <p:nvPr/>
        </p:nvSpPr>
        <p:spPr>
          <a:xfrm>
            <a:off x="7472520" y="39513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Oval 49"/>
          <p:cNvSpPr/>
          <p:nvPr/>
        </p:nvSpPr>
        <p:spPr>
          <a:xfrm>
            <a:off x="7013520" y="33400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Oval 50"/>
          <p:cNvSpPr/>
          <p:nvPr/>
        </p:nvSpPr>
        <p:spPr>
          <a:xfrm>
            <a:off x="6327720" y="33400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Oval 51"/>
          <p:cNvSpPr/>
          <p:nvPr/>
        </p:nvSpPr>
        <p:spPr>
          <a:xfrm>
            <a:off x="6556320" y="272880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AutoShape 53"/>
          <p:cNvSpPr/>
          <p:nvPr/>
        </p:nvSpPr>
        <p:spPr>
          <a:xfrm rot="17434800">
            <a:off x="6639840" y="3831480"/>
            <a:ext cx="17920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AutoShape 54"/>
          <p:cNvSpPr/>
          <p:nvPr/>
        </p:nvSpPr>
        <p:spPr>
          <a:xfrm rot="3252000">
            <a:off x="6104520" y="3188160"/>
            <a:ext cx="1976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AutoShape 55"/>
          <p:cNvSpPr/>
          <p:nvPr/>
        </p:nvSpPr>
        <p:spPr>
          <a:xfrm rot="17411400">
            <a:off x="5564520" y="3187080"/>
            <a:ext cx="1679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Text Box 62"/>
          <p:cNvSpPr/>
          <p:nvPr/>
        </p:nvSpPr>
        <p:spPr>
          <a:xfrm>
            <a:off x="5716440" y="3168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Text Box 63"/>
          <p:cNvSpPr/>
          <p:nvPr/>
        </p:nvSpPr>
        <p:spPr>
          <a:xfrm>
            <a:off x="5792760" y="4313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Text Box 64"/>
          <p:cNvSpPr/>
          <p:nvPr/>
        </p:nvSpPr>
        <p:spPr>
          <a:xfrm>
            <a:off x="6939000" y="2608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Text Box 65"/>
          <p:cNvSpPr/>
          <p:nvPr/>
        </p:nvSpPr>
        <p:spPr>
          <a:xfrm>
            <a:off x="7015320" y="5032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Text Box 69"/>
          <p:cNvSpPr/>
          <p:nvPr/>
        </p:nvSpPr>
        <p:spPr>
          <a:xfrm>
            <a:off x="755640" y="1825560"/>
            <a:ext cx="7709040" cy="368280"/>
          </a:xfrm>
          <a:prstGeom prst="rect">
            <a:avLst/>
          </a:prstGeom>
          <a:solidFill>
            <a:srgbClr val="def6f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ep 3: distribute the weigh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Text Box 70"/>
          <p:cNvSpPr/>
          <p:nvPr/>
        </p:nvSpPr>
        <p:spPr>
          <a:xfrm>
            <a:off x="1824120" y="258912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Text Box 71"/>
          <p:cNvSpPr/>
          <p:nvPr/>
        </p:nvSpPr>
        <p:spPr>
          <a:xfrm>
            <a:off x="1900080" y="503244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Text Box 72"/>
          <p:cNvSpPr/>
          <p:nvPr/>
        </p:nvSpPr>
        <p:spPr>
          <a:xfrm>
            <a:off x="679320" y="434484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-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Text Box 73"/>
          <p:cNvSpPr/>
          <p:nvPr/>
        </p:nvSpPr>
        <p:spPr>
          <a:xfrm>
            <a:off x="755640" y="1825560"/>
            <a:ext cx="7709040" cy="368280"/>
          </a:xfrm>
          <a:prstGeom prst="rect">
            <a:avLst/>
          </a:prstGeom>
          <a:solidFill>
            <a:srgbClr val="def6f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ep 4: remove non-positive edges and solve the residue inst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Text Box 74"/>
          <p:cNvSpPr/>
          <p:nvPr/>
        </p:nvSpPr>
        <p:spPr>
          <a:xfrm>
            <a:off x="603360" y="320040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AutoShape 20"/>
          <p:cNvSpPr/>
          <p:nvPr/>
        </p:nvSpPr>
        <p:spPr>
          <a:xfrm rot="17411400">
            <a:off x="450360" y="3195720"/>
            <a:ext cx="167976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Text Box 76"/>
          <p:cNvSpPr/>
          <p:nvPr/>
        </p:nvSpPr>
        <p:spPr>
          <a:xfrm>
            <a:off x="1824120" y="2589120"/>
            <a:ext cx="457200" cy="336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Text Box 77"/>
          <p:cNvSpPr/>
          <p:nvPr/>
        </p:nvSpPr>
        <p:spPr>
          <a:xfrm>
            <a:off x="527040" y="3200400"/>
            <a:ext cx="457200" cy="336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Text Box 78"/>
          <p:cNvSpPr/>
          <p:nvPr/>
        </p:nvSpPr>
        <p:spPr>
          <a:xfrm>
            <a:off x="679320" y="4344840"/>
            <a:ext cx="457200" cy="336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Oval 9"/>
          <p:cNvSpPr/>
          <p:nvPr/>
        </p:nvSpPr>
        <p:spPr>
          <a:xfrm>
            <a:off x="2587680" y="33480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3732120" y="42642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Oval 17"/>
          <p:cNvSpPr/>
          <p:nvPr/>
        </p:nvSpPr>
        <p:spPr>
          <a:xfrm>
            <a:off x="2130480" y="456876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Oval 25"/>
          <p:cNvSpPr/>
          <p:nvPr/>
        </p:nvSpPr>
        <p:spPr>
          <a:xfrm>
            <a:off x="3351240" y="35002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Oval 29"/>
          <p:cNvSpPr/>
          <p:nvPr/>
        </p:nvSpPr>
        <p:spPr>
          <a:xfrm>
            <a:off x="4114800" y="502596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AutoShape 27"/>
          <p:cNvSpPr/>
          <p:nvPr/>
        </p:nvSpPr>
        <p:spPr>
          <a:xfrm rot="17841600">
            <a:off x="2531160" y="3328200"/>
            <a:ext cx="179208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AutoShape 79"/>
          <p:cNvSpPr/>
          <p:nvPr/>
        </p:nvSpPr>
        <p:spPr>
          <a:xfrm rot="5400000">
            <a:off x="3083400" y="4153680"/>
            <a:ext cx="228600" cy="3205080"/>
          </a:xfrm>
          <a:custGeom>
            <a:avLst/>
            <a:gdLst>
              <a:gd name="textAreaLeft" fmla="*/ 0 w 228600"/>
              <a:gd name="textAreaRight" fmla="*/ 82440 w 228600"/>
              <a:gd name="textAreaTop" fmla="*/ 83520 h 3205080"/>
              <a:gd name="textAreaBottom" fmla="*/ 3121560 h 32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Text Box 80"/>
          <p:cNvSpPr/>
          <p:nvPr/>
        </p:nvSpPr>
        <p:spPr>
          <a:xfrm>
            <a:off x="679320" y="5872320"/>
            <a:ext cx="43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btain a 2-approximate solution by indu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Text Box 81"/>
          <p:cNvSpPr/>
          <p:nvPr/>
        </p:nvSpPr>
        <p:spPr>
          <a:xfrm>
            <a:off x="755640" y="1825560"/>
            <a:ext cx="7709040" cy="368280"/>
          </a:xfrm>
          <a:prstGeom prst="rect">
            <a:avLst/>
          </a:prstGeom>
          <a:solidFill>
            <a:srgbClr val="def6f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ep 5: join the so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Text Box 82"/>
          <p:cNvSpPr/>
          <p:nvPr/>
        </p:nvSpPr>
        <p:spPr>
          <a:xfrm>
            <a:off x="1900080" y="503244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Text Box 83"/>
          <p:cNvSpPr/>
          <p:nvPr/>
        </p:nvSpPr>
        <p:spPr>
          <a:xfrm>
            <a:off x="679320" y="434484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Text Box 84"/>
          <p:cNvSpPr/>
          <p:nvPr/>
        </p:nvSpPr>
        <p:spPr>
          <a:xfrm>
            <a:off x="527040" y="320040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Text Box 85"/>
          <p:cNvSpPr/>
          <p:nvPr/>
        </p:nvSpPr>
        <p:spPr>
          <a:xfrm>
            <a:off x="1824120" y="2589120"/>
            <a:ext cx="45720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AutoShape 19"/>
          <p:cNvSpPr/>
          <p:nvPr/>
        </p:nvSpPr>
        <p:spPr>
          <a:xfrm rot="3252000">
            <a:off x="991080" y="3196080"/>
            <a:ext cx="1976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AutoShape 87"/>
          <p:cNvSpPr/>
          <p:nvPr/>
        </p:nvSpPr>
        <p:spPr>
          <a:xfrm rot="5400000">
            <a:off x="6899760" y="4305960"/>
            <a:ext cx="228600" cy="2443320"/>
          </a:xfrm>
          <a:custGeom>
            <a:avLst/>
            <a:gdLst>
              <a:gd name="textAreaLeft" fmla="*/ 0 w 228600"/>
              <a:gd name="textAreaRight" fmla="*/ 82440 w 228600"/>
              <a:gd name="textAreaTop" fmla="*/ 63720 h 2443320"/>
              <a:gd name="textAreaBottom" fmla="*/ 2379600 h 24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4886280" y="5641920"/>
            <a:ext cx="425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∑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≤ 2: pick any edge here = 2-approx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Oval 44"/>
          <p:cNvSpPr/>
          <p:nvPr/>
        </p:nvSpPr>
        <p:spPr>
          <a:xfrm>
            <a:off x="7701120" y="33400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Oval 52"/>
          <p:cNvSpPr/>
          <p:nvPr/>
        </p:nvSpPr>
        <p:spPr>
          <a:xfrm>
            <a:off x="7243920" y="45608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Oval 56"/>
          <p:cNvSpPr/>
          <p:nvPr/>
        </p:nvSpPr>
        <p:spPr>
          <a:xfrm>
            <a:off x="7472520" y="394956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Oval 91"/>
          <p:cNvSpPr/>
          <p:nvPr/>
        </p:nvSpPr>
        <p:spPr>
          <a:xfrm>
            <a:off x="603360" y="2360520"/>
            <a:ext cx="2441520" cy="3052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AutoShape 95"/>
          <p:cNvSpPr/>
          <p:nvPr/>
        </p:nvSpPr>
        <p:spPr>
          <a:xfrm rot="5400000">
            <a:off x="2587320" y="3888000"/>
            <a:ext cx="228600" cy="4197240"/>
          </a:xfrm>
          <a:custGeom>
            <a:avLst/>
            <a:gdLst>
              <a:gd name="textAreaLeft" fmla="*/ 0 w 228600"/>
              <a:gd name="textAreaRight" fmla="*/ 82440 w 228600"/>
              <a:gd name="textAreaTop" fmla="*/ 109440 h 4197240"/>
              <a:gd name="textAreaBottom" fmla="*/ 4087800 h 419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Text Box 96"/>
          <p:cNvSpPr/>
          <p:nvPr/>
        </p:nvSpPr>
        <p:spPr>
          <a:xfrm>
            <a:off x="1136520" y="6100920"/>
            <a:ext cx="31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is a 2-approximate solu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b2e6"/>
                                      </p:to>
                                    </p:animClr>
                                    <p:set>
                                      <p:cBhvr>
                                        <p:cTn id="87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d480"/>
                                      </p:to>
                                    </p:animClr>
                                    <p:set>
                                      <p:cBhvr>
                                        <p:cTn id="96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 LP has integralit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 + 1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52280" y="1292400"/>
            <a:ext cx="88394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rateg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Fix a 2-local optimal matching M, bound the ratio of any fractional so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755640" y="4344840"/>
            <a:ext cx="274788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: set of non-zero ed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AutoShape 24"/>
          <p:cNvSpPr/>
          <p:nvPr/>
        </p:nvSpPr>
        <p:spPr>
          <a:xfrm>
            <a:off x="5418000" y="2055960"/>
            <a:ext cx="18543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625788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Oval 26"/>
          <p:cNvSpPr/>
          <p:nvPr/>
        </p:nvSpPr>
        <p:spPr>
          <a:xfrm>
            <a:off x="694548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Oval 27"/>
          <p:cNvSpPr/>
          <p:nvPr/>
        </p:nvSpPr>
        <p:spPr>
          <a:xfrm>
            <a:off x="557064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AutoShape 28"/>
          <p:cNvSpPr/>
          <p:nvPr/>
        </p:nvSpPr>
        <p:spPr>
          <a:xfrm>
            <a:off x="5418000" y="2666880"/>
            <a:ext cx="1854360" cy="4590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Oval 29"/>
          <p:cNvSpPr/>
          <p:nvPr/>
        </p:nvSpPr>
        <p:spPr>
          <a:xfrm>
            <a:off x="625788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Oval 30"/>
          <p:cNvSpPr/>
          <p:nvPr/>
        </p:nvSpPr>
        <p:spPr>
          <a:xfrm>
            <a:off x="694548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Oval 31"/>
          <p:cNvSpPr/>
          <p:nvPr/>
        </p:nvSpPr>
        <p:spPr>
          <a:xfrm>
            <a:off x="557064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AutoShape 32"/>
          <p:cNvSpPr/>
          <p:nvPr/>
        </p:nvSpPr>
        <p:spPr>
          <a:xfrm>
            <a:off x="5418000" y="3276720"/>
            <a:ext cx="18543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Oval 33"/>
          <p:cNvSpPr/>
          <p:nvPr/>
        </p:nvSpPr>
        <p:spPr>
          <a:xfrm>
            <a:off x="625788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Oval 34"/>
          <p:cNvSpPr/>
          <p:nvPr/>
        </p:nvSpPr>
        <p:spPr>
          <a:xfrm>
            <a:off x="694548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Oval 35"/>
          <p:cNvSpPr/>
          <p:nvPr/>
        </p:nvSpPr>
        <p:spPr>
          <a:xfrm>
            <a:off x="557064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AutoShape 36"/>
          <p:cNvSpPr/>
          <p:nvPr/>
        </p:nvSpPr>
        <p:spPr>
          <a:xfrm>
            <a:off x="7861320" y="2055960"/>
            <a:ext cx="228600" cy="167940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9400"/>
              <a:gd name="textAreaBottom" fmla="*/ 1635840 h 167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8320320" y="270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AutoShape 38"/>
          <p:cNvSpPr/>
          <p:nvPr/>
        </p:nvSpPr>
        <p:spPr>
          <a:xfrm rot="8397000">
            <a:off x="4884480" y="3733920"/>
            <a:ext cx="185400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Oval 39"/>
          <p:cNvSpPr/>
          <p:nvPr/>
        </p:nvSpPr>
        <p:spPr>
          <a:xfrm>
            <a:off x="5724360" y="38862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Oval 40"/>
          <p:cNvSpPr/>
          <p:nvPr/>
        </p:nvSpPr>
        <p:spPr>
          <a:xfrm>
            <a:off x="5189400" y="434484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AutoShape 41"/>
          <p:cNvSpPr/>
          <p:nvPr/>
        </p:nvSpPr>
        <p:spPr>
          <a:xfrm rot="8059800">
            <a:off x="4768560" y="4306680"/>
            <a:ext cx="230040" cy="1068120"/>
          </a:xfrm>
          <a:custGeom>
            <a:avLst/>
            <a:gdLst>
              <a:gd name="textAreaLeft" fmla="*/ 0 w 230040"/>
              <a:gd name="textAreaRight" fmla="*/ 83160 w 230040"/>
              <a:gd name="textAreaTop" fmla="*/ 27720 h 1068120"/>
              <a:gd name="textAreaBottom" fmla="*/ 1040400 h 10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Text Box 42"/>
          <p:cNvSpPr/>
          <p:nvPr/>
        </p:nvSpPr>
        <p:spPr>
          <a:xfrm>
            <a:off x="4280400" y="48798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AutoShape 43"/>
          <p:cNvSpPr/>
          <p:nvPr/>
        </p:nvSpPr>
        <p:spPr>
          <a:xfrm rot="2568000">
            <a:off x="5167440" y="3289320"/>
            <a:ext cx="23349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Oval 44"/>
          <p:cNvSpPr/>
          <p:nvPr/>
        </p:nvSpPr>
        <p:spPr>
          <a:xfrm>
            <a:off x="6945480" y="40402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AutoShape 45"/>
          <p:cNvSpPr/>
          <p:nvPr/>
        </p:nvSpPr>
        <p:spPr>
          <a:xfrm rot="2813400">
            <a:off x="7544880" y="4332240"/>
            <a:ext cx="201600" cy="804600"/>
          </a:xfrm>
          <a:custGeom>
            <a:avLst/>
            <a:gdLst>
              <a:gd name="textAreaLeft" fmla="*/ 0 w 201600"/>
              <a:gd name="textAreaRight" fmla="*/ 72720 w 201600"/>
              <a:gd name="textAreaTop" fmla="*/ 20880 h 804600"/>
              <a:gd name="textAreaBottom" fmla="*/ 783720 h 80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Text Box 46"/>
          <p:cNvSpPr/>
          <p:nvPr/>
        </p:nvSpPr>
        <p:spPr>
          <a:xfrm>
            <a:off x="7792200" y="48038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Text Box 47"/>
          <p:cNvSpPr/>
          <p:nvPr/>
        </p:nvSpPr>
        <p:spPr>
          <a:xfrm>
            <a:off x="2587680" y="5872320"/>
            <a:ext cx="4044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ant to sho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x(F) 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 + 1) |M|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Rectangle 52"/>
          <p:cNvSpPr/>
          <p:nvPr/>
        </p:nvSpPr>
        <p:spPr>
          <a:xfrm>
            <a:off x="421920" y="3352680"/>
            <a:ext cx="317268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ounding algorith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Rectangle 53"/>
          <p:cNvSpPr/>
          <p:nvPr/>
        </p:nvSpPr>
        <p:spPr>
          <a:xfrm>
            <a:off x="421920" y="2360520"/>
            <a:ext cx="3744360" cy="368280"/>
          </a:xfrm>
          <a:prstGeom prst="rect">
            <a:avLst/>
          </a:prstGeom>
          <a:solidFill>
            <a:srgbClr val="ccccff">
              <a:alpha val="8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local search analy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73" name="群組 34"/>
          <p:cNvGrpSpPr/>
          <p:nvPr/>
        </p:nvGrpSpPr>
        <p:grpSpPr>
          <a:xfrm>
            <a:off x="5105520" y="3962880"/>
            <a:ext cx="1714320" cy="1544040"/>
            <a:chOff x="5105520" y="3962880"/>
            <a:chExt cx="1714320" cy="1544040"/>
          </a:xfrm>
        </p:grpSpPr>
        <p:sp>
          <p:nvSpPr>
            <p:cNvPr id="674" name="Oval 33"/>
            <p:cNvSpPr/>
            <p:nvPr/>
          </p:nvSpPr>
          <p:spPr>
            <a:xfrm>
              <a:off x="6408720" y="4202280"/>
              <a:ext cx="152280" cy="15228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AutoShape 38"/>
            <p:cNvSpPr/>
            <p:nvPr/>
          </p:nvSpPr>
          <p:spPr>
            <a:xfrm rot="8397000">
              <a:off x="5035320" y="4505400"/>
              <a:ext cx="1854000" cy="45864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Oval 39"/>
            <p:cNvSpPr/>
            <p:nvPr/>
          </p:nvSpPr>
          <p:spPr>
            <a:xfrm>
              <a:off x="5875200" y="4657680"/>
              <a:ext cx="152280" cy="15228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Oval 40"/>
            <p:cNvSpPr/>
            <p:nvPr/>
          </p:nvSpPr>
          <p:spPr>
            <a:xfrm>
              <a:off x="5340240" y="5116680"/>
              <a:ext cx="152280" cy="152280"/>
            </a:xfrm>
            <a:prstGeom prst="ellipse">
              <a:avLst/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 LP has integralit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 + 1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2968560" y="5337000"/>
            <a:ext cx="1371600" cy="4057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≤ |M|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AutoShape 9"/>
          <p:cNvSpPr/>
          <p:nvPr/>
        </p:nvSpPr>
        <p:spPr>
          <a:xfrm>
            <a:off x="5418000" y="2909880"/>
            <a:ext cx="18543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6257880" y="3063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>
            <a:off x="6945480" y="3063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>
            <a:off x="5570640" y="3063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AutoShape 13"/>
          <p:cNvSpPr/>
          <p:nvPr/>
        </p:nvSpPr>
        <p:spPr>
          <a:xfrm>
            <a:off x="5418000" y="3519360"/>
            <a:ext cx="1854360" cy="4590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6257880" y="36734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Oval 15"/>
          <p:cNvSpPr/>
          <p:nvPr/>
        </p:nvSpPr>
        <p:spPr>
          <a:xfrm>
            <a:off x="6945480" y="36734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Oval 16"/>
          <p:cNvSpPr/>
          <p:nvPr/>
        </p:nvSpPr>
        <p:spPr>
          <a:xfrm>
            <a:off x="5570640" y="36734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AutoShape 17"/>
          <p:cNvSpPr/>
          <p:nvPr/>
        </p:nvSpPr>
        <p:spPr>
          <a:xfrm>
            <a:off x="7854840" y="2908440"/>
            <a:ext cx="235080" cy="1069920"/>
          </a:xfrm>
          <a:custGeom>
            <a:avLst/>
            <a:gdLst>
              <a:gd name="textAreaLeft" fmla="*/ 0 w 235080"/>
              <a:gd name="textAreaRight" fmla="*/ 84960 w 23508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8313840" y="3254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AutoShape 19"/>
          <p:cNvSpPr/>
          <p:nvPr/>
        </p:nvSpPr>
        <p:spPr>
          <a:xfrm rot="5766600">
            <a:off x="4637520" y="4202640"/>
            <a:ext cx="185400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Oval 20"/>
          <p:cNvSpPr/>
          <p:nvPr/>
        </p:nvSpPr>
        <p:spPr>
          <a:xfrm>
            <a:off x="5487840" y="434484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Oval 21"/>
          <p:cNvSpPr/>
          <p:nvPr/>
        </p:nvSpPr>
        <p:spPr>
          <a:xfrm>
            <a:off x="5411880" y="50324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5266080" y="548964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AutoShape 24"/>
          <p:cNvSpPr/>
          <p:nvPr/>
        </p:nvSpPr>
        <p:spPr>
          <a:xfrm rot="4683600">
            <a:off x="6244200" y="4205880"/>
            <a:ext cx="183204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Oval 25"/>
          <p:cNvSpPr/>
          <p:nvPr/>
        </p:nvSpPr>
        <p:spPr>
          <a:xfrm>
            <a:off x="7091280" y="435924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Text Box 27"/>
          <p:cNvSpPr/>
          <p:nvPr/>
        </p:nvSpPr>
        <p:spPr>
          <a:xfrm>
            <a:off x="7098120" y="550404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126360" y="3276720"/>
            <a:ext cx="464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exists disjoin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50720" y="1292400"/>
            <a:ext cx="45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9" name="Picture 35" descr="TP_tmp"/>
          <p:cNvPicPr/>
          <p:nvPr/>
        </p:nvPicPr>
        <p:blipFill>
          <a:blip r:embed="rId1"/>
          <a:stretch/>
        </p:blipFill>
        <p:spPr>
          <a:xfrm>
            <a:off x="985680" y="1359000"/>
            <a:ext cx="3853080" cy="2793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3"/>
          <p:cNvSpPr/>
          <p:nvPr/>
        </p:nvSpPr>
        <p:spPr>
          <a:xfrm>
            <a:off x="450720" y="2060640"/>
            <a:ext cx="5037120" cy="40572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laim: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e) is an intersecting family f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01" name="Picture 38" descr="TP_tmp"/>
          <p:cNvPicPr/>
          <p:nvPr/>
        </p:nvPicPr>
        <p:blipFill>
          <a:blip r:embed="rId2"/>
          <a:stretch/>
        </p:blipFill>
        <p:spPr>
          <a:xfrm>
            <a:off x="4648320" y="212580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40"/>
          <p:cNvSpPr/>
          <p:nvPr/>
        </p:nvSpPr>
        <p:spPr>
          <a:xfrm>
            <a:off x="7396200" y="3549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Oval 41"/>
          <p:cNvSpPr/>
          <p:nvPr/>
        </p:nvSpPr>
        <p:spPr>
          <a:xfrm>
            <a:off x="7243920" y="504504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42"/>
          <p:cNvSpPr/>
          <p:nvPr/>
        </p:nvSpPr>
        <p:spPr>
          <a:xfrm>
            <a:off x="4800600" y="3443400"/>
            <a:ext cx="2976480" cy="25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43"/>
          <p:cNvSpPr/>
          <p:nvPr/>
        </p:nvSpPr>
        <p:spPr>
          <a:xfrm>
            <a:off x="5687280" y="6039000"/>
            <a:ext cx="135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44"/>
          <p:cNvSpPr/>
          <p:nvPr/>
        </p:nvSpPr>
        <p:spPr>
          <a:xfrm>
            <a:off x="6305400" y="2060640"/>
            <a:ext cx="2005200" cy="40572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e)) ≤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AutoShape 45"/>
          <p:cNvSpPr/>
          <p:nvPr/>
        </p:nvSpPr>
        <p:spPr>
          <a:xfrm>
            <a:off x="5792760" y="2093760"/>
            <a:ext cx="611280" cy="306720"/>
          </a:xfrm>
          <a:prstGeom prst="rightArrow">
            <a:avLst>
              <a:gd name="adj1" fmla="val 50000"/>
              <a:gd name="adj2" fmla="val 49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123840" y="5337000"/>
            <a:ext cx="2005200" cy="40572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e)) ≤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AutoShape 48"/>
          <p:cNvSpPr/>
          <p:nvPr/>
        </p:nvSpPr>
        <p:spPr>
          <a:xfrm>
            <a:off x="2128680" y="5357880"/>
            <a:ext cx="611280" cy="30636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1113120" y="4130640"/>
            <a:ext cx="266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e b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 LP has integralit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 + 1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0360" y="2136240"/>
            <a:ext cx="4343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k |M| vertices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gree constraint, x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 |M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dge inters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edges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5418000" y="2055960"/>
            <a:ext cx="18543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Oval 6"/>
          <p:cNvSpPr/>
          <p:nvPr/>
        </p:nvSpPr>
        <p:spPr>
          <a:xfrm>
            <a:off x="625788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Oval 7"/>
          <p:cNvSpPr/>
          <p:nvPr/>
        </p:nvSpPr>
        <p:spPr>
          <a:xfrm>
            <a:off x="694548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Oval 8"/>
          <p:cNvSpPr/>
          <p:nvPr/>
        </p:nvSpPr>
        <p:spPr>
          <a:xfrm>
            <a:off x="5570640" y="22096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5418000" y="2666880"/>
            <a:ext cx="1854360" cy="4590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625788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694548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5570640" y="282096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AutoShape 13"/>
          <p:cNvSpPr/>
          <p:nvPr/>
        </p:nvSpPr>
        <p:spPr>
          <a:xfrm>
            <a:off x="5418000" y="3276720"/>
            <a:ext cx="18543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Oval 14"/>
          <p:cNvSpPr/>
          <p:nvPr/>
        </p:nvSpPr>
        <p:spPr>
          <a:xfrm>
            <a:off x="625788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Oval 15"/>
          <p:cNvSpPr/>
          <p:nvPr/>
        </p:nvSpPr>
        <p:spPr>
          <a:xfrm>
            <a:off x="694548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Oval 16"/>
          <p:cNvSpPr/>
          <p:nvPr/>
        </p:nvSpPr>
        <p:spPr>
          <a:xfrm>
            <a:off x="5570640" y="343044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AutoShape 17"/>
          <p:cNvSpPr/>
          <p:nvPr/>
        </p:nvSpPr>
        <p:spPr>
          <a:xfrm>
            <a:off x="7861320" y="2055960"/>
            <a:ext cx="228600" cy="167940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9400"/>
              <a:gd name="textAreaBottom" fmla="*/ 1635840 h 167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8320320" y="270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AutoShape 19"/>
          <p:cNvSpPr/>
          <p:nvPr/>
        </p:nvSpPr>
        <p:spPr>
          <a:xfrm rot="5400000">
            <a:off x="4723920" y="3200400"/>
            <a:ext cx="1832040" cy="60948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Oval 20"/>
          <p:cNvSpPr/>
          <p:nvPr/>
        </p:nvSpPr>
        <p:spPr>
          <a:xfrm>
            <a:off x="5564160" y="40402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AutoShape 24"/>
          <p:cNvSpPr/>
          <p:nvPr/>
        </p:nvSpPr>
        <p:spPr>
          <a:xfrm rot="2568000">
            <a:off x="5869080" y="3276720"/>
            <a:ext cx="2334960" cy="4586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7647120" y="40273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AutoShape 26"/>
          <p:cNvSpPr/>
          <p:nvPr/>
        </p:nvSpPr>
        <p:spPr>
          <a:xfrm rot="5400000">
            <a:off x="6569640" y="3323160"/>
            <a:ext cx="168120" cy="2789280"/>
          </a:xfrm>
          <a:custGeom>
            <a:avLst/>
            <a:gdLst>
              <a:gd name="textAreaLeft" fmla="*/ 0 w 168120"/>
              <a:gd name="textAreaRight" fmla="*/ 60840 w 168120"/>
              <a:gd name="textAreaTop" fmla="*/ 72720 h 2789280"/>
              <a:gd name="textAreaBottom" fmla="*/ 2716560 h 278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487200" y="49561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Rectangle 33"/>
          <p:cNvSpPr/>
          <p:nvPr/>
        </p:nvSpPr>
        <p:spPr>
          <a:xfrm>
            <a:off x="1564920" y="4808520"/>
            <a:ext cx="2405880" cy="4057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 |M|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Text Box 34"/>
          <p:cNvSpPr/>
          <p:nvPr/>
        </p:nvSpPr>
        <p:spPr>
          <a:xfrm>
            <a:off x="1824120" y="5796000"/>
            <a:ext cx="5419800" cy="368280"/>
          </a:xfrm>
          <a:prstGeom prst="rect">
            <a:avLst/>
          </a:prstGeom>
          <a:solidFill>
            <a:srgbClr val="ffcccc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m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“Clique” LP integrality gap ≤ (k + 1) /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AutoShape 36"/>
          <p:cNvSpPr/>
          <p:nvPr/>
        </p:nvSpPr>
        <p:spPr>
          <a:xfrm>
            <a:off x="977760" y="4808520"/>
            <a:ext cx="611280" cy="30636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4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43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46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49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5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5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58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6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4040"/>
                                      </p:to>
                                    </p:animClr>
                                    <p:set>
                                      <p:cBhvr>
                                        <p:cTn id="116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 of k-Set 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9240" y="5641560"/>
            <a:ext cx="35798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square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1212840" y="1749600"/>
            <a:ext cx="53496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679320" y="2208240"/>
            <a:ext cx="53496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212840" y="2208240"/>
            <a:ext cx="611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831960" y="1673280"/>
            <a:ext cx="382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1136520" y="213192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2359080" y="220824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907920" y="144468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595520" y="182556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289160" y="258912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50720" y="220824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 rot="6132000">
            <a:off x="2788560" y="1941480"/>
            <a:ext cx="1679760" cy="533160"/>
          </a:xfrm>
          <a:prstGeom prst="roundRect">
            <a:avLst>
              <a:gd name="adj" fmla="val 33681"/>
            </a:avLst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3579840" y="144468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503520" y="182556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427560" y="220824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3351240" y="258912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6" name="Group 78"/>
          <p:cNvGrpSpPr/>
          <p:nvPr/>
        </p:nvGrpSpPr>
        <p:grpSpPr>
          <a:xfrm>
            <a:off x="5141160" y="2923200"/>
            <a:ext cx="3275280" cy="1896480"/>
            <a:chOff x="5141160" y="2923200"/>
            <a:chExt cx="3275280" cy="1896480"/>
          </a:xfrm>
        </p:grpSpPr>
        <p:sp>
          <p:nvSpPr>
            <p:cNvPr id="87" name="AutoShape 25"/>
            <p:cNvSpPr/>
            <p:nvPr/>
          </p:nvSpPr>
          <p:spPr>
            <a:xfrm rot="20769000">
              <a:off x="6556320" y="4111200"/>
              <a:ext cx="183204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" name="AutoShape 26"/>
            <p:cNvSpPr/>
            <p:nvPr/>
          </p:nvSpPr>
          <p:spPr>
            <a:xfrm>
              <a:off x="5413320" y="3652920"/>
              <a:ext cx="183204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6939000" y="3805200"/>
              <a:ext cx="152280" cy="152640"/>
            </a:xfrm>
            <a:prstGeom prst="ellipse">
              <a:avLst/>
            </a:prstGeom>
            <a:solidFill>
              <a:srgbClr val="404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7167600" y="3194280"/>
              <a:ext cx="152280" cy="152280"/>
            </a:xfrm>
            <a:prstGeom prst="ellipse">
              <a:avLst/>
            </a:prstGeom>
            <a:solidFill>
              <a:srgbClr val="40ff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Oval 29"/>
            <p:cNvSpPr/>
            <p:nvPr/>
          </p:nvSpPr>
          <p:spPr>
            <a:xfrm>
              <a:off x="6710400" y="4416480"/>
              <a:ext cx="152280" cy="152280"/>
            </a:xfrm>
            <a:prstGeom prst="ellipse">
              <a:avLst/>
            </a:prstGeom>
            <a:solidFill>
              <a:srgbClr val="ff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Oval 30"/>
            <p:cNvSpPr/>
            <p:nvPr/>
          </p:nvSpPr>
          <p:spPr>
            <a:xfrm>
              <a:off x="7396200" y="4264200"/>
              <a:ext cx="152280" cy="152280"/>
            </a:xfrm>
            <a:prstGeom prst="ellipse">
              <a:avLst/>
            </a:prstGeom>
            <a:solidFill>
              <a:srgbClr val="40ff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8083440" y="4111560"/>
              <a:ext cx="152280" cy="152640"/>
            </a:xfrm>
            <a:prstGeom prst="ellipse">
              <a:avLst/>
            </a:prstGeom>
            <a:solidFill>
              <a:srgbClr val="404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Oval 32"/>
            <p:cNvSpPr/>
            <p:nvPr/>
          </p:nvSpPr>
          <p:spPr>
            <a:xfrm>
              <a:off x="6251400" y="3805200"/>
              <a:ext cx="152280" cy="152640"/>
            </a:xfrm>
            <a:prstGeom prst="ellipse">
              <a:avLst/>
            </a:prstGeom>
            <a:solidFill>
              <a:srgbClr val="40ff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Oval 33"/>
            <p:cNvSpPr/>
            <p:nvPr/>
          </p:nvSpPr>
          <p:spPr>
            <a:xfrm>
              <a:off x="5565600" y="3805200"/>
              <a:ext cx="152280" cy="152640"/>
            </a:xfrm>
            <a:prstGeom prst="ellipse">
              <a:avLst/>
            </a:prstGeom>
            <a:solidFill>
              <a:srgbClr val="ff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5794200" y="3194280"/>
              <a:ext cx="152280" cy="152280"/>
            </a:xfrm>
            <a:prstGeom prst="ellipse">
              <a:avLst/>
            </a:prstGeom>
            <a:solidFill>
              <a:srgbClr val="404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36"/>
            <p:cNvSpPr/>
            <p:nvPr/>
          </p:nvSpPr>
          <p:spPr>
            <a:xfrm rot="17434800">
              <a:off x="6090840" y="3642840"/>
              <a:ext cx="185436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37"/>
            <p:cNvSpPr/>
            <p:nvPr/>
          </p:nvSpPr>
          <p:spPr>
            <a:xfrm rot="3252000">
              <a:off x="5342400" y="3653280"/>
              <a:ext cx="197640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38"/>
            <p:cNvSpPr/>
            <p:nvPr/>
          </p:nvSpPr>
          <p:spPr>
            <a:xfrm rot="17385000">
              <a:off x="4800240" y="3654000"/>
              <a:ext cx="167940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Oval 39"/>
            <p:cNvSpPr/>
            <p:nvPr/>
          </p:nvSpPr>
          <p:spPr>
            <a:xfrm>
              <a:off x="5335560" y="4416480"/>
              <a:ext cx="152280" cy="152280"/>
            </a:xfrm>
            <a:prstGeom prst="ellipse">
              <a:avLst/>
            </a:prstGeom>
            <a:solidFill>
              <a:srgbClr val="40ff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580920"/>
            <a:ext cx="403848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Dimensional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7"/>
          <p:cNvSpPr/>
          <p:nvPr/>
        </p:nvSpPr>
        <p:spPr>
          <a:xfrm>
            <a:off x="4419720" y="1825560"/>
            <a:ext cx="4419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degree independent 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Group 88"/>
          <p:cNvGrpSpPr/>
          <p:nvPr/>
        </p:nvGrpSpPr>
        <p:grpSpPr>
          <a:xfrm>
            <a:off x="144360" y="4421160"/>
            <a:ext cx="5038920" cy="2214720"/>
            <a:chOff x="144360" y="4421160"/>
            <a:chExt cx="5038920" cy="2214720"/>
          </a:xfrm>
        </p:grpSpPr>
        <p:sp>
          <p:nvSpPr>
            <p:cNvPr id="104" name="Text Box 48"/>
            <p:cNvSpPr/>
            <p:nvPr/>
          </p:nvSpPr>
          <p:spPr>
            <a:xfrm>
              <a:off x="1060560" y="51084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0"/>
            <p:cNvSpPr/>
            <p:nvPr/>
          </p:nvSpPr>
          <p:spPr>
            <a:xfrm>
              <a:off x="1442880" y="510840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51"/>
            <p:cNvSpPr/>
            <p:nvPr/>
          </p:nvSpPr>
          <p:spPr>
            <a:xfrm>
              <a:off x="1824120" y="510840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52"/>
            <p:cNvSpPr/>
            <p:nvPr/>
          </p:nvSpPr>
          <p:spPr>
            <a:xfrm>
              <a:off x="2206800" y="51084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Text Box 53"/>
            <p:cNvSpPr/>
            <p:nvPr/>
          </p:nvSpPr>
          <p:spPr>
            <a:xfrm>
              <a:off x="1060560" y="548964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Text Box 54"/>
            <p:cNvSpPr/>
            <p:nvPr/>
          </p:nvSpPr>
          <p:spPr>
            <a:xfrm>
              <a:off x="1442880" y="548964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55"/>
            <p:cNvSpPr/>
            <p:nvPr/>
          </p:nvSpPr>
          <p:spPr>
            <a:xfrm>
              <a:off x="1824120" y="548964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56"/>
            <p:cNvSpPr/>
            <p:nvPr/>
          </p:nvSpPr>
          <p:spPr>
            <a:xfrm>
              <a:off x="2206800" y="548964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57"/>
            <p:cNvSpPr/>
            <p:nvPr/>
          </p:nvSpPr>
          <p:spPr>
            <a:xfrm>
              <a:off x="1060560" y="587232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8"/>
            <p:cNvSpPr/>
            <p:nvPr/>
          </p:nvSpPr>
          <p:spPr>
            <a:xfrm>
              <a:off x="1442880" y="587232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9"/>
            <p:cNvSpPr/>
            <p:nvPr/>
          </p:nvSpPr>
          <p:spPr>
            <a:xfrm>
              <a:off x="1824120" y="587232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Text Box 60"/>
            <p:cNvSpPr/>
            <p:nvPr/>
          </p:nvSpPr>
          <p:spPr>
            <a:xfrm>
              <a:off x="2206800" y="587232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Text Box 61"/>
            <p:cNvSpPr/>
            <p:nvPr/>
          </p:nvSpPr>
          <p:spPr>
            <a:xfrm>
              <a:off x="1060560" y="625320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62"/>
            <p:cNvSpPr/>
            <p:nvPr/>
          </p:nvSpPr>
          <p:spPr>
            <a:xfrm>
              <a:off x="1442880" y="625320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63"/>
            <p:cNvSpPr/>
            <p:nvPr/>
          </p:nvSpPr>
          <p:spPr>
            <a:xfrm>
              <a:off x="1824120" y="6253200"/>
              <a:ext cx="38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Text Box 64"/>
            <p:cNvSpPr/>
            <p:nvPr/>
          </p:nvSpPr>
          <p:spPr>
            <a:xfrm>
              <a:off x="2206800" y="6253200"/>
              <a:ext cx="38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65"/>
            <p:cNvSpPr/>
            <p:nvPr/>
          </p:nvSpPr>
          <p:spPr>
            <a:xfrm>
              <a:off x="3122640" y="5261040"/>
              <a:ext cx="152280" cy="152280"/>
            </a:xfrm>
            <a:prstGeom prst="ellipse">
              <a:avLst/>
            </a:prstGeom>
            <a:solidFill>
              <a:srgbClr val="404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Text Box 66"/>
            <p:cNvSpPr/>
            <p:nvPr/>
          </p:nvSpPr>
          <p:spPr>
            <a:xfrm>
              <a:off x="3427560" y="5184720"/>
              <a:ext cx="17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w i, column j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67"/>
            <p:cNvSpPr/>
            <p:nvPr/>
          </p:nvSpPr>
          <p:spPr>
            <a:xfrm>
              <a:off x="3122640" y="5796000"/>
              <a:ext cx="152280" cy="152280"/>
            </a:xfrm>
            <a:prstGeom prst="ellipse">
              <a:avLst/>
            </a:prstGeom>
            <a:solidFill>
              <a:srgbClr val="40ff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Oval 68"/>
            <p:cNvSpPr/>
            <p:nvPr/>
          </p:nvSpPr>
          <p:spPr>
            <a:xfrm>
              <a:off x="3122640" y="6329520"/>
              <a:ext cx="152280" cy="152280"/>
            </a:xfrm>
            <a:prstGeom prst="ellipse">
              <a:avLst/>
            </a:prstGeom>
            <a:solidFill>
              <a:srgbClr val="ff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69"/>
            <p:cNvSpPr/>
            <p:nvPr/>
          </p:nvSpPr>
          <p:spPr>
            <a:xfrm>
              <a:off x="3427560" y="5718240"/>
              <a:ext cx="17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w i, color k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70"/>
            <p:cNvSpPr/>
            <p:nvPr/>
          </p:nvSpPr>
          <p:spPr>
            <a:xfrm>
              <a:off x="3427560" y="6253200"/>
              <a:ext cx="17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umn j, color k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71"/>
            <p:cNvSpPr/>
            <p:nvPr/>
          </p:nvSpPr>
          <p:spPr>
            <a:xfrm rot="16200000">
              <a:off x="2436120" y="5642640"/>
              <a:ext cx="1525680" cy="457200"/>
            </a:xfrm>
            <a:prstGeom prst="roundRect">
              <a:avLst>
                <a:gd name="adj" fmla="val 336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73"/>
            <p:cNvSpPr/>
            <p:nvPr/>
          </p:nvSpPr>
          <p:spPr>
            <a:xfrm>
              <a:off x="144360" y="5489640"/>
              <a:ext cx="91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w 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74"/>
            <p:cNvSpPr/>
            <p:nvPr/>
          </p:nvSpPr>
          <p:spPr>
            <a:xfrm>
              <a:off x="1442880" y="4421160"/>
              <a:ext cx="11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umn j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Line 75"/>
            <p:cNvSpPr/>
            <p:nvPr/>
          </p:nvSpPr>
          <p:spPr>
            <a:xfrm>
              <a:off x="755640" y="567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Line 76"/>
            <p:cNvSpPr/>
            <p:nvPr/>
          </p:nvSpPr>
          <p:spPr>
            <a:xfrm>
              <a:off x="2019240" y="480204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Rectangle 81"/>
            <p:cNvSpPr/>
            <p:nvPr/>
          </p:nvSpPr>
          <p:spPr>
            <a:xfrm>
              <a:off x="1060560" y="5108400"/>
              <a:ext cx="1527120" cy="152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Line 82"/>
            <p:cNvSpPr/>
            <p:nvPr/>
          </p:nvSpPr>
          <p:spPr>
            <a:xfrm flipV="1">
              <a:off x="1442880" y="5108400"/>
              <a:ext cx="0" cy="15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Line 83"/>
            <p:cNvSpPr/>
            <p:nvPr/>
          </p:nvSpPr>
          <p:spPr>
            <a:xfrm flipV="1">
              <a:off x="1824120" y="5108400"/>
              <a:ext cx="0" cy="15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Line 84"/>
            <p:cNvSpPr/>
            <p:nvPr/>
          </p:nvSpPr>
          <p:spPr>
            <a:xfrm flipV="1">
              <a:off x="2205000" y="5108400"/>
              <a:ext cx="0" cy="15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Line 85"/>
            <p:cNvSpPr/>
            <p:nvPr/>
          </p:nvSpPr>
          <p:spPr>
            <a:xfrm>
              <a:off x="1060560" y="5489640"/>
              <a:ext cx="15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Line 86"/>
            <p:cNvSpPr/>
            <p:nvPr/>
          </p:nvSpPr>
          <p:spPr>
            <a:xfrm>
              <a:off x="1060560" y="5872320"/>
              <a:ext cx="15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Line 87"/>
            <p:cNvSpPr/>
            <p:nvPr/>
          </p:nvSpPr>
          <p:spPr>
            <a:xfrm>
              <a:off x="1060560" y="6253200"/>
              <a:ext cx="15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49360" y="51811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/ log k) to (k + 1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442520" y="3276720"/>
            <a:ext cx="1527480" cy="38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(k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914400" y="4648320"/>
            <a:ext cx="4808520" cy="3682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the approximability of k-Set Packing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907920" y="2741760"/>
            <a:ext cx="4121280" cy="642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the integrality gap of the SDP?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914400" y="1752480"/>
            <a:ext cx="640080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“Iterative Rounding + Local Ratio” rounding algorithms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29"/>
          <p:cNvSpPr/>
          <p:nvPr/>
        </p:nvSpPr>
        <p:spPr>
          <a:xfrm>
            <a:off x="1442880" y="3733920"/>
            <a:ext cx="43498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ower bound on the integrality gap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36"/>
          <p:cNvSpPr/>
          <p:nvPr/>
        </p:nvSpPr>
        <p:spPr>
          <a:xfrm>
            <a:off x="5869080" y="3048120"/>
            <a:ext cx="1832040" cy="533160"/>
          </a:xfrm>
          <a:prstGeom prst="roundRect">
            <a:avLst>
              <a:gd name="adj" fmla="val 33681"/>
            </a:avLst>
          </a:prstGeom>
          <a:solidFill>
            <a:srgbClr val="0066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40"/>
          <p:cNvSpPr/>
          <p:nvPr/>
        </p:nvSpPr>
        <p:spPr>
          <a:xfrm>
            <a:off x="5869080" y="2360520"/>
            <a:ext cx="1832040" cy="533520"/>
          </a:xfrm>
          <a:prstGeom prst="roundRect">
            <a:avLst>
              <a:gd name="adj" fmla="val 33681"/>
            </a:avLst>
          </a:prstGeom>
          <a:solidFill>
            <a:srgbClr val="0066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 rot="20727600">
            <a:off x="1591920" y="2436480"/>
            <a:ext cx="1679400" cy="606240"/>
          </a:xfrm>
          <a:prstGeom prst="roundRect">
            <a:avLst>
              <a:gd name="adj" fmla="val 33681"/>
            </a:avLst>
          </a:prstGeom>
          <a:solidFill>
            <a:srgbClr val="0066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Work: Loc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89160" y="4649400"/>
            <a:ext cx="65656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ptimal —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p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dy solution = 1-opt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dy solution is k-approx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ime and performance guarantee depends o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 rot="1224000">
            <a:off x="2816280" y="2587680"/>
            <a:ext cx="1679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 rot="20725200">
            <a:off x="988920" y="2658600"/>
            <a:ext cx="1679760" cy="46512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4189320" y="296856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3579840" y="273996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2968560" y="251136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2357280" y="26640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1747800" y="281628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1136520" y="296856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20"/>
          <p:cNvSpPr/>
          <p:nvPr/>
        </p:nvSpPr>
        <p:spPr>
          <a:xfrm rot="20725800">
            <a:off x="1591920" y="2436840"/>
            <a:ext cx="1679400" cy="60624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2052720" y="1216080"/>
            <a:ext cx="5038560" cy="368280"/>
          </a:xfrm>
          <a:prstGeom prst="rect">
            <a:avLst/>
          </a:prstGeom>
          <a:solidFill>
            <a:srgbClr val="8dc6ff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mprove: add ≤ t edges in, remove fewer ed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1944000" y="3809880"/>
            <a:ext cx="13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 rot="5400000">
            <a:off x="5333760" y="3047760"/>
            <a:ext cx="1679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37"/>
          <p:cNvSpPr/>
          <p:nvPr/>
        </p:nvSpPr>
        <p:spPr>
          <a:xfrm>
            <a:off x="6099120" y="380988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38"/>
          <p:cNvSpPr/>
          <p:nvPr/>
        </p:nvSpPr>
        <p:spPr>
          <a:xfrm>
            <a:off x="6099120" y="3200400"/>
            <a:ext cx="15228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39"/>
          <p:cNvSpPr/>
          <p:nvPr/>
        </p:nvSpPr>
        <p:spPr>
          <a:xfrm>
            <a:off x="6099120" y="2589120"/>
            <a:ext cx="15228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AutoShape 41"/>
          <p:cNvSpPr/>
          <p:nvPr/>
        </p:nvSpPr>
        <p:spPr>
          <a:xfrm rot="5400000">
            <a:off x="5945040" y="2436840"/>
            <a:ext cx="167976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AutoShape 42"/>
          <p:cNvSpPr/>
          <p:nvPr/>
        </p:nvSpPr>
        <p:spPr>
          <a:xfrm rot="5400000">
            <a:off x="6556320" y="3047760"/>
            <a:ext cx="1679400" cy="45720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43"/>
          <p:cNvSpPr/>
          <p:nvPr/>
        </p:nvSpPr>
        <p:spPr>
          <a:xfrm>
            <a:off x="6708600" y="32004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44"/>
          <p:cNvSpPr/>
          <p:nvPr/>
        </p:nvSpPr>
        <p:spPr>
          <a:xfrm>
            <a:off x="6708600" y="258912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45"/>
          <p:cNvSpPr/>
          <p:nvPr/>
        </p:nvSpPr>
        <p:spPr>
          <a:xfrm>
            <a:off x="6708600" y="19782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Oval 46"/>
          <p:cNvSpPr/>
          <p:nvPr/>
        </p:nvSpPr>
        <p:spPr>
          <a:xfrm>
            <a:off x="7319880" y="258912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Oval 47"/>
          <p:cNvSpPr/>
          <p:nvPr/>
        </p:nvSpPr>
        <p:spPr>
          <a:xfrm>
            <a:off x="7319880" y="3200400"/>
            <a:ext cx="152640" cy="1522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Oval 48"/>
          <p:cNvSpPr/>
          <p:nvPr/>
        </p:nvSpPr>
        <p:spPr>
          <a:xfrm>
            <a:off x="7319880" y="3809880"/>
            <a:ext cx="152640" cy="152640"/>
          </a:xfrm>
          <a:prstGeom prst="ellipse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6138000" y="4421160"/>
            <a:ext cx="13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50"/>
          <p:cNvSpPr/>
          <p:nvPr/>
        </p:nvSpPr>
        <p:spPr>
          <a:xfrm>
            <a:off x="5869080" y="2360520"/>
            <a:ext cx="1832040" cy="53352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51"/>
          <p:cNvSpPr/>
          <p:nvPr/>
        </p:nvSpPr>
        <p:spPr>
          <a:xfrm>
            <a:off x="5869080" y="3048120"/>
            <a:ext cx="1832040" cy="533160"/>
          </a:xfrm>
          <a:prstGeom prst="roundRect">
            <a:avLst>
              <a:gd name="adj" fmla="val 33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  <p:set>
                                      <p:cBhvr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Work: Loc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0720" y="1336680"/>
          <a:ext cx="8229600" cy="5068800"/>
        </p:xfrm>
        <a:graphic>
          <a:graphicData uri="http://schemas.openxmlformats.org/drawingml/2006/table">
            <a:tbl>
              <a:tblPr/>
              <a:tblGrid>
                <a:gridCol w="4273560"/>
                <a:gridCol w="2060640"/>
                <a:gridCol w="189540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weight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kens, Schrijver 89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in, Hassin 97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dra, Halldórsson 99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man 00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man, Krysta 03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52" descr="txp_fig"/>
          <p:cNvPicPr/>
          <p:nvPr/>
        </p:nvPicPr>
        <p:blipFill>
          <a:blip r:embed="rId1"/>
          <a:stretch/>
        </p:blipFill>
        <p:spPr>
          <a:xfrm>
            <a:off x="4800600" y="4268880"/>
            <a:ext cx="1371600" cy="55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3" descr="txp_fig"/>
          <p:cNvPicPr/>
          <p:nvPr/>
        </p:nvPicPr>
        <p:blipFill>
          <a:blip r:embed="rId2"/>
          <a:stretch/>
        </p:blipFill>
        <p:spPr>
          <a:xfrm>
            <a:off x="6861240" y="3760920"/>
            <a:ext cx="533160" cy="203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4" descr="txp_fig"/>
          <p:cNvPicPr/>
          <p:nvPr/>
        </p:nvPicPr>
        <p:blipFill>
          <a:blip r:embed="rId3"/>
          <a:stretch/>
        </p:blipFill>
        <p:spPr>
          <a:xfrm>
            <a:off x="6861240" y="5210280"/>
            <a:ext cx="533160" cy="203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5" descr="txp_fig"/>
          <p:cNvPicPr/>
          <p:nvPr/>
        </p:nvPicPr>
        <p:blipFill>
          <a:blip r:embed="rId4"/>
          <a:stretch/>
        </p:blipFill>
        <p:spPr>
          <a:xfrm>
            <a:off x="6861240" y="5973840"/>
            <a:ext cx="533160" cy="20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6" descr="txp_fig"/>
          <p:cNvPicPr/>
          <p:nvPr/>
        </p:nvPicPr>
        <p:blipFill>
          <a:blip r:embed="rId5"/>
          <a:stretch/>
        </p:blipFill>
        <p:spPr>
          <a:xfrm>
            <a:off x="6861240" y="4294080"/>
            <a:ext cx="58428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7" descr="txp_fig"/>
          <p:cNvPicPr/>
          <p:nvPr/>
        </p:nvPicPr>
        <p:blipFill>
          <a:blip r:embed="rId6"/>
          <a:stretch/>
        </p:blipFill>
        <p:spPr>
          <a:xfrm>
            <a:off x="4800600" y="1978200"/>
            <a:ext cx="609480" cy="55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8" descr="txp_fig"/>
          <p:cNvPicPr/>
          <p:nvPr/>
        </p:nvPicPr>
        <p:blipFill>
          <a:blip r:embed="rId7"/>
          <a:stretch/>
        </p:blipFill>
        <p:spPr>
          <a:xfrm>
            <a:off x="6861240" y="1979640"/>
            <a:ext cx="584280" cy="533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9" descr="txp_fig"/>
          <p:cNvPicPr/>
          <p:nvPr/>
        </p:nvPicPr>
        <p:blipFill>
          <a:blip r:embed="rId8"/>
          <a:stretch/>
        </p:blipFill>
        <p:spPr>
          <a:xfrm>
            <a:off x="4800600" y="3733920"/>
            <a:ext cx="99072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0" descr="txp_fig"/>
          <p:cNvPicPr/>
          <p:nvPr/>
        </p:nvPicPr>
        <p:blipFill>
          <a:blip r:embed="rId9"/>
          <a:stretch/>
        </p:blipFill>
        <p:spPr>
          <a:xfrm>
            <a:off x="4800600" y="5006880"/>
            <a:ext cx="1015920" cy="55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1" descr="txp_fig"/>
          <p:cNvPicPr/>
          <p:nvPr/>
        </p:nvPicPr>
        <p:blipFill>
          <a:blip r:embed="rId10"/>
          <a:stretch/>
        </p:blipFill>
        <p:spPr>
          <a:xfrm>
            <a:off x="4800600" y="5796000"/>
            <a:ext cx="1015920" cy="5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txp_fig"/>
          <p:cNvPicPr/>
          <p:nvPr/>
        </p:nvPicPr>
        <p:blipFill>
          <a:blip r:embed="rId11"/>
          <a:stretch/>
        </p:blipFill>
        <p:spPr>
          <a:xfrm>
            <a:off x="6861240" y="1523880"/>
            <a:ext cx="609480" cy="203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3"/>
          <p:cNvSpPr/>
          <p:nvPr/>
        </p:nvSpPr>
        <p:spPr>
          <a:xfrm>
            <a:off x="4648320" y="4956120"/>
            <a:ext cx="29764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Work: Linear Programming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9320" y="5261040"/>
            <a:ext cx="77788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jective plane as a sub-hypergraph — integrality gap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lgorithmic, do not directly imply approxim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3"/>
          <p:cNvSpPr/>
          <p:nvPr/>
        </p:nvSpPr>
        <p:spPr>
          <a:xfrm>
            <a:off x="907920" y="3733920"/>
            <a:ext cx="7099560" cy="368280"/>
          </a:xfrm>
          <a:prstGeom prst="rect">
            <a:avLst/>
          </a:prstGeom>
          <a:solidFill>
            <a:srgbClr val="8dc6ff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[Füredi 81’] integrality gap = k − 1 + 1/k (unweight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64"/>
          <p:cNvSpPr/>
          <p:nvPr/>
        </p:nvSpPr>
        <p:spPr>
          <a:xfrm>
            <a:off x="907920" y="4497480"/>
            <a:ext cx="70995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[Füredi, Kahn, Seymour 93’] integrality gap = k − 1 + 1/k (weighted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173" descr="txp_fig"/>
          <p:cNvPicPr/>
          <p:nvPr/>
        </p:nvPicPr>
        <p:blipFill>
          <a:blip r:embed="rId1"/>
          <a:stretch/>
        </p:blipFill>
        <p:spPr>
          <a:xfrm>
            <a:off x="1747800" y="1521000"/>
            <a:ext cx="5511960" cy="1650960"/>
          </a:xfrm>
          <a:prstGeom prst="rect">
            <a:avLst/>
          </a:prstGeom>
          <a:ln w="0">
            <a:noFill/>
          </a:ln>
        </p:spPr>
      </p:pic>
      <p:sp>
        <p:nvSpPr>
          <p:cNvPr id="188" name="Line 174"/>
          <p:cNvSpPr/>
          <p:nvPr/>
        </p:nvSpPr>
        <p:spPr>
          <a:xfrm>
            <a:off x="1060560" y="6253200"/>
            <a:ext cx="1679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Work: Integrality Gap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8960" y="1444680"/>
            <a:ext cx="5565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ve plane (of order k –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 + 1 hypere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k on each ver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wise inters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s when 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is a prim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solution: 1/k on every edge gives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+ 1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l solution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10"/>
          <p:cNvGraphicFramePr/>
          <p:nvPr/>
        </p:nvGraphicFramePr>
        <p:xfrm>
          <a:off x="5487840" y="1596960"/>
          <a:ext cx="23637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7840" y="1596960"/>
                    <a:ext cx="23637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1"/>
          <p:cNvSpPr/>
          <p:nvPr/>
        </p:nvSpPr>
        <p:spPr>
          <a:xfrm>
            <a:off x="5487840" y="380988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3: Fano pl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108320" y="5527800"/>
            <a:ext cx="30546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lity gap = k − 1 + 1/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257800" y="427824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"order 3 projective plane"..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New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8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 algorithmic analysis of the standard LP rela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ening of LP by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no LP &amp; Sherali-Adams 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ment but not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ening of LP by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que” LP &amp; 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by a constant factor over local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onnection between local search and LP/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LP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8960" y="2360160"/>
            <a:ext cx="793116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ic proof of gap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 Unicode MS"/>
              </a:rPr>
              <a:t>−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for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mensional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79320" y="3740040"/>
            <a:ext cx="7097760" cy="368280"/>
          </a:xfrm>
          <a:prstGeom prst="rect">
            <a:avLst/>
          </a:prstGeom>
          <a:solidFill>
            <a:srgbClr val="ffcccc">
              <a:alpha val="6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m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2-approximation algorithm for weighted 3-D Matc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682280" y="1521000"/>
            <a:ext cx="5721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ight algorithmic analysis of the standard LP relax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84240" y="4548240"/>
            <a:ext cx="717552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ocal search algorithms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ique: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terative rounding + local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274920" y="2894040"/>
            <a:ext cx="3205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 Unicode MS"/>
              </a:rPr>
              <a:t>−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1 + 1/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for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t Pac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7:28:01Z</dcterms:created>
  <dc:creator>CSE</dc:creator>
  <dc:description/>
  <dc:language>en-US</dc:language>
  <cp:lastModifiedBy>Postmaster</cp:lastModifiedBy>
  <dcterms:modified xsi:type="dcterms:W3CDTF">2010-10-26T19:36:18Z</dcterms:modified>
  <cp:revision>319</cp:revision>
  <dc:subject/>
  <dc:title>On linear and semidefinite programming relaxations for hypergraph matching</dc:title>
</cp:coreProperties>
</file>