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2936CAFC-40B0-4032-85A9-F4CD6089918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75400" y="9148680"/>
            <a:ext cx="1366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56F52705-9EB7-41C0-8920-3E2F25CC63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353FEE7B-85F9-4E6D-99FC-875377DDAC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body"/>
          </p:nvPr>
        </p:nvSpPr>
        <p:spPr>
          <a:xfrm>
            <a:off x="550440" y="4560480"/>
            <a:ext cx="63039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1st slide of the “Course Structure and Course Philosophy” section of the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mphasis that for exams, our goal is the test your knowledge. It is not our goal to test how well your perform under time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664EB098-0B05-4CF1-A1B8-FBF81DBAF2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D2DD9CA-66B1-4401-84A2-FBC60C88E9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FF5A3517-61B5-4F9C-A2A2-98A2A12051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799160" cy="359892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C3CEAE6-183A-45A8-800A-82EC63D0D78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8979C284-066C-4EBC-AB37-F68370D60D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211400" y="709560"/>
            <a:ext cx="4840200" cy="36306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57240" y="4576680"/>
            <a:ext cx="5346720" cy="43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body"/>
          </p:nvPr>
        </p:nvSpPr>
        <p:spPr>
          <a:xfrm>
            <a:off x="1338120" y="4560480"/>
            <a:ext cx="45626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nciple of locality states that programs access a relatively small portion of the address space at  any instant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ind of like in real life, we all have a lot of friends.  But at any given time most of us can  only  keep in touch with a small group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different types of locality: Temporal and Spatial. Temporal locality is the locality in time  which says if an item is referenced, it  will tend to be referenced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like saying if you just talk to one of your friends, it is likely that you will talk to him or her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akes sense. For example, if you just have lunch with a friend, you may say, let’s go to the ball game this Sunday.  So you will talk to him again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tial locality is the locality in space.  It says if an item is referenced, items whose addresses are close by tend to be referenced so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using our analogy.  We can usually divide our friends into groups.  Like friends from high school, friends from work, friends from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ay you just talk to one of your friends from high school and she may say something like: “So did you hear so and so just won the lottery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obably will say NO, I better give him a call and find out m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is is an example of spatial locality.  You just talked to a friend from your high school days.  As a result, you end up talking to another high school friend.  Or at least in this case, you hope he still remember you are his fri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3 = 10 min. (X: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9D2619A7-AAC3-4754-9F34-3395C7AC6A9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 txBox="1"/>
          <p:nvPr/>
        </p:nvSpPr>
        <p:spPr>
          <a:xfrm>
            <a:off x="416232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B55EEBD5-80EB-4154-9D0E-F035D192CA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 txBox="1"/>
          <p:nvPr/>
        </p:nvSpPr>
        <p:spPr>
          <a:xfrm>
            <a:off x="-23760" y="9150480"/>
            <a:ext cx="3176640" cy="4269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-2376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 txBox="1"/>
          <p:nvPr/>
        </p:nvSpPr>
        <p:spPr>
          <a:xfrm>
            <a:off x="4162320" y="23760"/>
            <a:ext cx="3176640" cy="425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73320" y="615960"/>
            <a:ext cx="4782960" cy="3587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AE69-1099-4276-BCB1-E6566D76E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A8A-3A69-4E14-B6AD-5B7ACEEBF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3CB-5CA3-4BB3-999B-744B20B9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8DD9-68AD-4323-8E36-4B8C2514C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1363-0B0F-40A3-8062-2D5DF799C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5E5-9055-4FA1-9E1E-653195E3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6D4F-4C7A-4EE9-A5BC-591E0B53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FAA1-A15A-4CF1-9608-225EA047C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F478-6FDB-45A1-B1D3-84CE7D84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A3EC-4BEC-4B01-AB43-4660CB53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5869-55A7-4392-8BA1-904F4506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7876-A834-4F5F-A0EC-E61C7ADAE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1E98B-032E-4C91-B73A-13DF04B177C4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CEC16-5195-4222-B05B-64CE0D0FC72D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hyperlink" Target="http://www.t-ram.com/" TargetMode="External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 - Introduction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48800" y="419040"/>
            <a:ext cx="3038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4560" y="1139760"/>
            <a:ext cx="1282680" cy="13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28592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14382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352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07880" y="1095480"/>
            <a:ext cx="2264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4200" y="1095480"/>
            <a:ext cx="468720" cy="14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44560" y="25876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4560" y="281628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44560" y="2968560"/>
            <a:ext cx="1282680" cy="13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3840" y="2543040"/>
            <a:ext cx="4446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374920" y="1146240"/>
            <a:ext cx="4330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mable 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^32 x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x 32-bit GPRs (R0=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x 32-bit FP regs (paired D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6000"/>
              </a:lnSpc>
              <a:spcBef>
                <a:spcPts val="9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, LO,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408720" y="1187280"/>
            <a:ext cx="2425680" cy="12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type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t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9000"/>
              </a:lnSpc>
              <a:spcBef>
                <a:spcPts val="98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ressing Modes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11880" y="203040"/>
            <a:ext cx="25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6360" y="3352680"/>
            <a:ext cx="8379000" cy="30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ithmetic logic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,  AddU,  Sub,   SubU, And,  Or,  Xor, Nor, SLT, SLTU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I, AddIU, SLTI, SLTIU, AndI, OrI, XorI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LU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L, SRL, SRA, SLLV, SRLV, SRA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B, LBU, LH, LHU, LW, LWL,L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, SH, SW, SWL, SW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, JAL, JR, JAL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q, BNE, BLEZ,BGTZ,BLTZ,BGEZ,BLTZAL,BGEZ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54360" y="5540400"/>
            <a:ext cx="4226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32-bit instructions on word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5C4-3AA6-4723-9D52-7C6B16CB61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797471-E4E9-41C8-9342-9CA2DFE485CB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3200" y="401760"/>
            <a:ext cx="54705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77800" y="1126800"/>
            <a:ext cx="7988400" cy="19177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. the attributes of a [computing] system as seen by the programmer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.e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nceptual structure and functional behavior, as distinct from the organization of the data flows and controls the logic design, and the physical implementation.”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mdahl, Blaauw, and Brooks,  196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257800" y="3098880"/>
            <a:ext cx="3581280" cy="2108160"/>
            <a:chOff x="5257800" y="3098880"/>
            <a:chExt cx="3581280" cy="2108160"/>
          </a:xfrm>
        </p:grpSpPr>
        <p:sp>
          <p:nvSpPr>
            <p:cNvPr id="146" name=""/>
            <p:cNvSpPr/>
            <p:nvPr/>
          </p:nvSpPr>
          <p:spPr>
            <a:xfrm>
              <a:off x="5791320" y="3225960"/>
              <a:ext cx="304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64280" y="3689280"/>
              <a:ext cx="3187440" cy="15112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257800" y="3225960"/>
              <a:ext cx="53352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8458200" y="3225960"/>
              <a:ext cx="38088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839080" y="3225960"/>
              <a:ext cx="0" cy="144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458200" y="4673520"/>
              <a:ext cx="380880" cy="533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32880" y="3098880"/>
              <a:ext cx="18694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9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73760" y="4756320"/>
              <a:ext cx="36828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88160" y="4680000"/>
              <a:ext cx="29196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26240" y="4070520"/>
              <a:ext cx="292320" cy="291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095880" y="4673520"/>
              <a:ext cx="83844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6172200" y="5054400"/>
              <a:ext cx="9144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781680" y="4140000"/>
              <a:ext cx="83844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7162920" y="4368600"/>
              <a:ext cx="76176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26040" y="4146480"/>
              <a:ext cx="82548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0958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4852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08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940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781680" y="414036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7772400" y="414000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858000" y="4826160"/>
              <a:ext cx="76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019920" y="4825800"/>
              <a:ext cx="22860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007480" y="4527720"/>
              <a:ext cx="215640" cy="139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077320" y="46735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924680" y="4902120"/>
              <a:ext cx="15264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24680" y="5054760"/>
              <a:ext cx="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77320" y="4902120"/>
              <a:ext cx="15228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8153280" y="5054760"/>
              <a:ext cx="76320" cy="75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8001000" y="4749840"/>
              <a:ext cx="7632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848360" y="4749840"/>
              <a:ext cx="152280" cy="7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848360" y="459720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607680" y="3505320"/>
            <a:ext cx="7471440" cy="27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Organization of Programm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Data Types &amp; Data Structu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codings &amp;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Forma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Instruction (or Operation Code)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Modes of Addressing and Accessing Data Items and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  Exceptional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644-FB7F-4CB2-A301-9464C9BD05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D59F31-4C14-40AC-AF45-A48275DBAE2B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A vs. Computer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218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efinition of computer architectu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instruction set desig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aspects of computer design called implementation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inuates implementation is uninteresting or less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r view is computer architecture &gt;&gt; IS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’s job much more than instruction set design; technical hurdles today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m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allenging than those in instruction set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instruction set design not where action is, some conclude computer architecture (using old definition) is not where action 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disagree on conclu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ree that ISA not where action is (ISA in CA:AQA 4/e appendix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00C4-38BD-4B25-940E-281281331A4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9512A-F0CF-43DA-85BD-9F3329FCD7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15560" y="347760"/>
            <a:ext cx="7162920" cy="62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omp. Arch. is an Integrated Approach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6440" y="1320480"/>
            <a:ext cx="830592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eally matters is the functioning of the complete syst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, runtime system, compiler, operating system, and appl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networking, this is called the “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nd to End argum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not just about transistors, individual instructions, or particular implement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riginal RISC projects replaced complex instructions with a compiler + simple instru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1597-B2E3-4110-92D5-C85B04618F2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B2BA48-4913-4307-A5D5-76A43B5AC651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puter Architecture is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and Analysi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1841760" cy="18414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97600" y="1255680"/>
            <a:ext cx="6398640" cy="9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chitecture is an iterative proc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arching the space  of possible de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t all levels of computer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0" y="2463840"/>
            <a:ext cx="0" cy="2538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6527880" y="2768760"/>
            <a:ext cx="35568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78640" y="2997360"/>
            <a:ext cx="253800" cy="177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6603480" y="3225960"/>
            <a:ext cx="279720" cy="330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64480" y="3206880"/>
            <a:ext cx="29196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5936760" y="2978280"/>
            <a:ext cx="62244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50080" y="3282840"/>
            <a:ext cx="3682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64480" y="2749680"/>
            <a:ext cx="82548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7461360" y="2978280"/>
            <a:ext cx="24120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02560" y="2978280"/>
            <a:ext cx="44460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784480" y="3282840"/>
            <a:ext cx="16524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78280" y="3892680"/>
            <a:ext cx="1206360" cy="1206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73560" y="4273560"/>
            <a:ext cx="749160" cy="749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11640" y="4578480"/>
            <a:ext cx="520920" cy="4442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50760" y="3448080"/>
            <a:ext cx="162252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re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85960" y="3753000"/>
            <a:ext cx="57168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67080" y="4896000"/>
            <a:ext cx="0" cy="1104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4896000"/>
            <a:ext cx="0" cy="876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15000" y="489600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19480" y="5200560"/>
            <a:ext cx="2857320" cy="114480"/>
          </a:xfrm>
          <a:prstGeom prst="roundRect">
            <a:avLst>
              <a:gd name="adj" fmla="val 12495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17960" y="5492880"/>
            <a:ext cx="134352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ood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22680" y="5823000"/>
            <a:ext cx="24530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diocre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05080" y="6013440"/>
            <a:ext cx="236016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ad Ide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93840" y="4133880"/>
            <a:ext cx="161028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st 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E316-5AB6-4A7E-A1AB-65D0F56ED5E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99254-38ED-4D08-81A2-7D70C130150E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 Tre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169D-29D2-4008-B691-902E44AE09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F8714-4518-41A7-834D-9947A4CBB9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02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irst reading assignment: Chapter 1 (handout) for today, Mo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ppendix A (handout) A for Wed 1/2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E9B4-7104-4706-8E51-4D0A10D45C0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54DFB-A2B7-467C-B16A-2F6C63499844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517320"/>
            <a:ext cx="773748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ypical Class format (after week 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8440" y="1311120"/>
            <a:ext cx="8248680" cy="320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ring questions to cl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-Minute Revie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-Minute L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 Minute Administrative Mat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-Minute Lecture/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-Minute Break (water, stret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25-Minute Discussion based </a:t>
            </a:r>
            <a:br>
              <a:rPr sz="24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n your ques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6920" indent="-196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will come to class early to answer questions, can stay after on Wednesd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73880" y="1565280"/>
            <a:ext cx="0" cy="1652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49760" y="3230640"/>
            <a:ext cx="3405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88080" y="33228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4520" y="11588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ten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72120" y="331164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20 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75480" y="3309840"/>
            <a:ext cx="135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And in </a:t>
            </a:r>
            <a:br>
              <a:rPr sz="1600"/>
            </a:b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clusion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24640" y="1916280"/>
            <a:ext cx="750600" cy="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62640" y="1903320"/>
            <a:ext cx="374760" cy="23832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26240" y="2128680"/>
            <a:ext cx="1365120" cy="72720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8078760" y="2479680"/>
            <a:ext cx="212760" cy="401760"/>
          </a:xfrm>
          <a:prstGeom prst="line">
            <a:avLst/>
          </a:prstGeom>
          <a:ln w="572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661000" y="1816200"/>
            <a:ext cx="714240" cy="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88000" y="1803240"/>
            <a:ext cx="663840" cy="2016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7238880" y="1802880"/>
            <a:ext cx="100080" cy="16380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502400" y="1728720"/>
            <a:ext cx="701640" cy="37476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8205840" y="1792440"/>
            <a:ext cx="149040" cy="27432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64F0-9C42-4EEA-A946-B2917CAC9C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3568A-FFB3-4029-893F-2F42BC28B0C3}" type="datetime1">
              <a:rPr lang="en-US"/>
              <a:t>07/28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98120" y="609480"/>
            <a:ext cx="3429000" cy="26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Quizz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58360" y="1096560"/>
            <a:ext cx="8156520" cy="534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paration causes you to systematize your understan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 the pressure of taking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618f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2 Graded quizzes:  dates T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al: test knowledge vs. speed wri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hrs to take 1.5-hr quiz (5:30-8:30 PM, TBA loc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th quizzes can bring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fer ideas from book to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/Faculty meet over free pizza/drinks at La Val’s after ex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29F6-1887-4554-853F-F105D119CC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7026A-4940-4F36-81E7-F1C4EAEB251B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23888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Course Focu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21932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standing the design techniques, machine structures, technology factors, evaluation methods that will determine the form of computers in 21st Centu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445840" y="2922480"/>
            <a:ext cx="1590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124680" y="3011400"/>
            <a:ext cx="18982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62840" y="3278160"/>
            <a:ext cx="15141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56720" y="5227560"/>
            <a:ext cx="142884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pera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06040" y="5506920"/>
            <a:ext cx="117612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65640" y="5397480"/>
            <a:ext cx="11653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0880" y="3657600"/>
            <a:ext cx="1704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57400" y="3809880"/>
            <a:ext cx="888840" cy="190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124080" y="5016240"/>
            <a:ext cx="368280" cy="469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54560" y="3289320"/>
            <a:ext cx="393480" cy="647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5486040" y="3352680"/>
            <a:ext cx="787320" cy="559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5753160" y="4952520"/>
            <a:ext cx="1270080" cy="6606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76360" y="3733920"/>
            <a:ext cx="1907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IS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552720" y="3886200"/>
            <a:ext cx="381240" cy="76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11480" y="5264280"/>
            <a:ext cx="3086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343080" indent="-343080" algn="ctr">
              <a:lnSpc>
                <a:spcPct val="86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easurement &amp; 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70600" y="2844720"/>
            <a:ext cx="18280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Paralle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93760" y="3206880"/>
            <a:ext cx="88920" cy="672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5480" y="3962520"/>
            <a:ext cx="3581640" cy="750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uter Architectu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rdware/Software Bound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31520" y="464832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pi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 flipV="1">
            <a:off x="6553080" y="4724280"/>
            <a:ext cx="60984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B3D7-8000-4ACB-9F02-32EEE76B60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675F2C-1A9E-4154-AC91-2C66D5C72E39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713-47BE-45AA-AD85-E95A88D8A72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C39EAF-5ED8-4FEA-9797-B9678BFABF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Your CS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is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tionalization and renaiss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, dependability, multi CPU vs. 1 CPU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x of lecture vs. discus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ends on how well reading is done before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is to learn how to do good systems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 a lot from looking at good work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commit point, you may chose to pursue your own new idea instea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A38-662C-444B-BD0A-4EB049ED517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78437-074B-4A71-A153-1796292E839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50520" y="264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search Paper 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graduate students, you are now research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information of importance to you will be in research pa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ility to rapidly scan and understand research papers is key to your su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: you will read a few papers in this cou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ck 1 paragraph summaries and question will be due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supplement to boo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ll discuss papers in cla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s will be scanned and on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D4F0-60C0-43D1-A876-8965852F13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27407D-615C-4A65-BF1D-9BACE60ACCC9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lated Cours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6824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92680" y="1987560"/>
            <a:ext cx="1358640" cy="9777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S 2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58920" y="2514600"/>
            <a:ext cx="17017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016760" y="1987560"/>
            <a:ext cx="1359000" cy="977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64280" y="251460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92680" y="4197240"/>
            <a:ext cx="1358640" cy="97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S 2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3240" y="3102120"/>
            <a:ext cx="288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How to build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mplementation deta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06560" y="3025800"/>
            <a:ext cx="1819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hy, Analysi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valu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860080" y="3025800"/>
            <a:ext cx="2732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Parallel Architectur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anguages,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170440" y="5311800"/>
            <a:ext cx="48448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grated Circuit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a computer-organization view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02920" y="1978200"/>
            <a:ext cx="1490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erequi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575280" y="3787920"/>
            <a:ext cx="3307320" cy="911880"/>
            <a:chOff x="575280" y="3787920"/>
            <a:chExt cx="3307320" cy="911880"/>
          </a:xfrm>
        </p:grpSpPr>
        <p:sp>
          <p:nvSpPr>
            <p:cNvPr id="272" name=""/>
            <p:cNvSpPr/>
            <p:nvPr/>
          </p:nvSpPr>
          <p:spPr>
            <a:xfrm>
              <a:off x="692280" y="3816360"/>
              <a:ext cx="303516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75280" y="3787920"/>
              <a:ext cx="330732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asic knowledge of th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rganization of a comp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s assumed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5CC-11D7-4283-82C1-3CBE7617DA6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B5487F-ECAF-42D8-9BB9-2A35B9D29258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ping with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82120" y="1106640"/>
            <a:ext cx="7875720" cy="52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grads must have taken CS15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 Students with too varied backgroun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past, CS grad students took written prelim exams on undergraduate material in hardware, software, and the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st 5 weeks reviewed background, helped 252, 262, 27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lims were dropped =&gt; some unprepared for CS 252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ds without CS152 equivalent may have to work hard; Review: Appendix A, B, C; CS 152 home page, maybe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omputer Organization and Design (COD) 3/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pters 1 to 8 of COD if never took prerequisi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ook a class, be sure COD Chapters 2, 6, 7 are famili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an loan you a cop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pend 2 lectures on review of Pipelining and Memory Hierarchy, and in class quiz to be sure everyone is up to spe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B27C-BA3C-4DC9-9048-004B2E5252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A74B5A-6677-428C-A9FA-0F42BE7301C2}" type="datetime1">
              <a:rPr lang="en-US"/>
              <a:t>07/28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09200" y="232920"/>
            <a:ext cx="716292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r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120" y="1283760"/>
            <a:ext cx="815364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Homeworks (work in pairs) and reading writeup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Examinations (2 Quizz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5% Research Project (work in pair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ition from undergrad to grad stu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rkeley wants you to succeed, but you need to show initia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ck topic (more on this late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et 3 times with faculty to see prog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ve oral presentation or poster s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ten report like conference p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weeks work full time for 2 peo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portunity to do “research in the small” to help make transition from good student to research colleag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% Class Particip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1E2-3E3D-4749-A78E-8FD2BBAA5D9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5C3C1-E57E-42B5-8520-42BCCE9E3839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58360" y="-36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Project opportunity this seme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79000" y="1168560"/>
            <a:ext cx="8426520" cy="50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PGAs as New Research Platfo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s ~ 25 CPUs can fit in Field Programmable Gate Array (FPGA), 1000-CPU system from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 40 FPGA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4-bit simple “soft core” RISC at 100MHz in 2004 (Virtex-I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 generations every 1.5 yrs; 2X CPUs, 2X clock r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W research community does logic design (“gate shareware”) to create out-of-the-box, Massively Parallel Processor runs standard binaries of OS, ap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teware: Processors, Caches, Coherency, Ethernet Interfaces, Switches, Routers, …  (IBM, Sun have donated processo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, 1000 processor, IBM Power binary-compatible, cache-coherent supercomputer @ 200 MHz; fast enough for resear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3C9-DDC8-4BFA-9C5D-9E753E3BB28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4B9E5-198D-4C10-ABE5-6B1F7F08DA39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ce goal is to ramp up research in multiprocessing, called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earch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celerator for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M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ltiple </a:t>
            </a:r>
            <a:r>
              <a:rPr b="1" lang="en-US" sz="3200" spc="-1" strike="noStrike" u="sng">
                <a:solidFill>
                  <a:srgbClr val="114ffb"/>
                </a:solidFill>
                <a:uFillTx/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cesso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learn more, read “RAMP: Research Accelerator for Multiple Processors - A Community Vision for a Shared Experimental Parallel HW/SW Platform,” Technical Report UCB//CSD-05-1412, Sept 200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b page ramp.eecs.berkeley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4363-B9B5-457B-93C2-C8B0DF4A6CC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0FC51-A73B-484D-B448-E5BEFBB292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229600" cy="90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y RAMP Good for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Arial"/>
              </a:rPr>
              <a:t>Research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? 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0" y="1066680"/>
          <a:ext cx="9067680" cy="5757840"/>
        </p:xfrm>
        <a:graphic>
          <a:graphicData uri="http://schemas.openxmlformats.org/drawingml/2006/table">
            <a:tbl>
              <a:tblPr/>
              <a:tblGrid>
                <a:gridCol w="2666880"/>
                <a:gridCol w="1600200"/>
                <a:gridCol w="1447920"/>
                <a:gridCol w="1447920"/>
                <a:gridCol w="190476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mu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0 CPU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40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2M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$0.1M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 of ownershi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/Space</a:t>
                      </a:r>
                      <a:br>
                        <a:rPr sz="18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ilowatts,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0 kw, 12 racks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.1 kw, 0.1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5 kw, </a:t>
                      </a:r>
                      <a:br>
                        <a:rPr sz="1700"/>
                      </a:b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 racks)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un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roduc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ex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ibil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.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lock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F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3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 GHz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A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4" name=""/>
          <p:cNvSpPr/>
          <p:nvPr/>
        </p:nvSpPr>
        <p:spPr>
          <a:xfrm>
            <a:off x="2664000" y="1420920"/>
            <a:ext cx="1574640" cy="60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214880" y="1886040"/>
            <a:ext cx="1574640" cy="1768320"/>
            <a:chOff x="4214880" y="1886040"/>
            <a:chExt cx="1574640" cy="1768320"/>
          </a:xfrm>
        </p:grpSpPr>
        <p:sp>
          <p:nvSpPr>
            <p:cNvPr id="286" name=""/>
            <p:cNvSpPr/>
            <p:nvPr/>
          </p:nvSpPr>
          <p:spPr>
            <a:xfrm>
              <a:off x="4255920" y="1886040"/>
              <a:ext cx="1478160" cy="6030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214880" y="2992320"/>
              <a:ext cx="1574640" cy="6620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5708520" y="5459400"/>
            <a:ext cx="1474920" cy="911160"/>
            <a:chOff x="5708520" y="5459400"/>
            <a:chExt cx="1474920" cy="911160"/>
          </a:xfrm>
        </p:grpSpPr>
        <p:sp>
          <p:nvSpPr>
            <p:cNvPr id="289" name=""/>
            <p:cNvSpPr/>
            <p:nvPr/>
          </p:nvSpPr>
          <p:spPr>
            <a:xfrm>
              <a:off x="5708520" y="545940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24360" y="5921280"/>
              <a:ext cx="1459080" cy="4492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1" name=""/>
          <p:cNvGrpSpPr/>
          <p:nvPr/>
        </p:nvGrpSpPr>
        <p:grpSpPr>
          <a:xfrm>
            <a:off x="7267680" y="5872320"/>
            <a:ext cx="1579320" cy="985680"/>
            <a:chOff x="7267680" y="5872320"/>
            <a:chExt cx="1579320" cy="985680"/>
          </a:xfrm>
        </p:grpSpPr>
        <p:sp>
          <p:nvSpPr>
            <p:cNvPr id="292" name=""/>
            <p:cNvSpPr/>
            <p:nvPr/>
          </p:nvSpPr>
          <p:spPr>
            <a:xfrm>
              <a:off x="7272360" y="5872320"/>
              <a:ext cx="1574640" cy="44748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67680" y="6372360"/>
              <a:ext cx="1574640" cy="48564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A992-6064-4A14-B18A-4BAEBFAC429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E4F497-93B1-4784-9571-F270298761AA}" type="datetime1">
              <a:rPr lang="en-US"/>
              <a:t>07/28/26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76720" y="2325600"/>
            <a:ext cx="5715000" cy="369432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04920" y="1447920"/>
            <a:ext cx="8839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leted Dec. 2004 (14x17 inch 22-layer PC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1905120"/>
            <a:ext cx="304776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u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PGAs, memory, 10GigE con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ct Fl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ministration/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enance por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/100 E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DMI/DV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4K/module w/o FPGAs or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3000" y="279360"/>
            <a:ext cx="8229600" cy="77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1 Hardwa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16080" y="6095880"/>
            <a:ext cx="75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ae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d “BEE2” for Berkeley Emulation Engin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FB83-B666-4055-B688-9AECC34F58A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E0834-92FA-40AB-B5E5-E1DF03D0EBD1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537480" y="397800"/>
            <a:ext cx="8093880" cy="64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ple Module RAMP 1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0720" y="3809880"/>
            <a:ext cx="6026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 compute modules (plus power supplies) in 8U rack mount chas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-1000 emulated process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ny topologies possi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U single module tray for develop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 storage: disk emulator + Network Attached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ATXBlade"/>
          <p:cNvPicPr/>
          <p:nvPr/>
        </p:nvPicPr>
        <p:blipFill>
          <a:blip r:embed="rId1"/>
          <a:stretch/>
        </p:blipFill>
        <p:spPr>
          <a:xfrm>
            <a:off x="1371600" y="1447920"/>
            <a:ext cx="3114720" cy="23763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6019920" y="1523880"/>
            <a:ext cx="2273040" cy="3097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4C0-6637-4969-9DC2-6AE5DA89A3F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B757A-2897-42B6-80DA-E4672CD647AE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28376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onventional Wisdom: Power is free, Transistors expens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onventional Wisdom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Power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ower expensive, Xtors fre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an put more on chip than can afford to turn 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Sufficiently increasing Instruction Level Parallelism via compilers, innovation (Out-of-order, speculation, VLIW, …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“ILP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law of diminishing returns on more HW for ILP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Multiplies are slow, Memory access is fa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Times New Roman"/>
              </a:rPr>
              <a:t>“Memory wall”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Memory slow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ies fas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200 clock cycles to DRAM memory, 4 clocks for multipl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ld CW: Uniprocessor performance 2X / 1.5 y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W: Power Wall + ILP Wall + Memory Wall =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Brick Wal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processor performance now 2X / 5(?) y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a change in chip design: multiple “cores”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X processors per chip / ~ 2 year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impler processors are more power effici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185760" y="174240"/>
            <a:ext cx="895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Conventional Wisdom in Comp. Arc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75F1-E3B7-414B-9188-5C83CAFB2A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0C92B3-D39E-49F2-9208-C466C4BD84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14360" y="163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ion: Multiprocessing Watering Ho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41907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ttracts many communities to shared artifac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ross-disciplinary interac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ccelerate innovation in multiproce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as next Standard Research Platform?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e.g., VAX/BSD Unix in 1980s, x86/Linux in 1990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5943600" cy="15984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3276720" y="2573280"/>
            <a:ext cx="1828800" cy="3985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Elephant"/>
              </a:rPr>
              <a:t>R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12720" y="2971800"/>
            <a:ext cx="208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fil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918720" y="3200400"/>
            <a:ext cx="20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read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299960" y="3429000"/>
            <a:ext cx="30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ultiprocessor switch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81560" y="3657600"/>
            <a:ext cx="393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ult insertion to check depend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90760" y="2986200"/>
            <a:ext cx="222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center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641200" y="321480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Arial"/>
                <a:ea typeface="Arial"/>
              </a:rPr>
              <a:t>Internet in a bo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24560" y="297180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flow language/comp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975400" y="321480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enhanc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5600" y="342900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outer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44200" y="3429000"/>
            <a:ext cx="19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ompile to FP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720040" y="3672000"/>
            <a:ext cx="205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arallel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F447-E304-47A9-A76D-326DA956AA5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C2CD1-3B79-4619-93AB-40BA7B79B93A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209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pporters </a:t>
            </a:r>
            <a:r>
              <a:rPr b="1" i="1" lang="en-US" sz="2000" spc="-1" strike="noStrike">
                <a:solidFill>
                  <a:srgbClr val="0332b7"/>
                </a:solidFill>
                <a:latin typeface="Arial"/>
              </a:rPr>
              <a:t>(wrote letters to NSF) &amp; 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articipan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0" y="116532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ordon Bell  (Microsof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o Bolsens  (Xilinx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 Jouppi  (HP Lab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Kramer  (NERSC/LBL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ig Mundie  (MS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. Papadopoulos  (Sun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in Rattner  (Intel CT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van Sutherland  (Sun Fellow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uck Thacker  (Microsoft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es Vissers  (Xilin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38240" y="10890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ug Burg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ll Dally  (Stanfo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l Ebeling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san Eggers  (Washingt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eve Keckler  (Texa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eg Morrisett  (Harvar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tt Shenker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on Stoica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athy Yelick  (Berkele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509904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articipants: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Arvind  (MIT), Krste Asanovíc (MIT), </a:t>
            </a:r>
            <a:br>
              <a:rPr sz="2000"/>
            </a:b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erek Chiou  (Texas), James Hoe  (CMU), Christos Kozyrakis  (Stanford), Shih-Lien Lu  (Intel), Mark Oskin  (Washington), David Patterson (Berkeley), Jan Rabaey  (Berkeley), and John Wawrzynek (Berkele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424-5E21-458F-ADFB-F70E8ADE1265}" type="slidenum">
              <a:t>31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DD7A8-5F8B-4839-A2A5-F92C15695BD5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600" y="10666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AMP as system-level time machine: preview computers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of future to accelerate HW/SW generation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 anything, Reproduce everything, Tape out every 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TP new supercomputer overnight and boot in morn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ne to check results (as fast in Berkeley as in Boston?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ulate Massive Multiprocessor, Data Center, or Distributed Compu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arpe Diem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stems researchers (HW &amp; SW) need the cap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GA technology is ready today, and getting better every ye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 on shoulders vs. toes: standardize on multi-year Berkeley effort on FPGA platform Berkeley Emulation Engine 2 (BEE2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hitecture researchers get opportunity to immediately aid colleagues via gateware (as SW researchers have done in pas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ramp.eecs.berkeley.ed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Vision “Multiprocessor Research Watering Hole” accelerate research in multiprocessing via standard research platform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hasten sea change from sequential to parallel computing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title"/>
          </p:nvPr>
        </p:nvSpPr>
        <p:spPr>
          <a:xfrm>
            <a:off x="1676160" y="114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2C4-CE9F-4A01-B50A-EE8D2BBEC48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693B7-7FC3-4EE2-A732-011B74AF91F2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MP projects for CS 25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ign a of guest timing accounting strate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 to be able specify performance parameters (clock rate, memory latency, network latency, …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t must accurately account for guest clock cyc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’t want to slow down host execution time very mu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disk emulator for use in RA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itates disk, accesses network attached storage fo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ed after guest VM/driver VM from Xen VM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 cluster using components from opencores.org on BEE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pen source hardware consort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 emulator of an “Internet in a Box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mulab/Planetlab in a box is closer to re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E57-8390-4248-A77B-1787864F857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4BDE6F-FF62-4D20-B4EB-365245C175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ther projec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reate results from research paper to s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are reproduc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hey still ho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evaluation of Niagara, new 8 core, 4 threads per core chip from S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ose your own research project that is related to computer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574-738E-416D-9E2C-FCED8789535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BD422-B57B-4CC0-B3AA-A88CD247E2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9166-06D4-47C1-A184-5EDC9FC623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24BB11-A523-4359-8B97-F363EE55AB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8566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hat Computer Architecture brings to T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98040" y="1092240"/>
            <a:ext cx="798516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ther fields often borrow ideas from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rinciples of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ke Advantage of Parallel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le of Loca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cus on the Common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dahl’s La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rocessor Performance Eq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eful, quantitative comparis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, quantity, and summarize relative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relative co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depend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and quantity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anticipating and exploiting advances in techn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e of well-defined interfaces that are carefully implemented and thoroughly check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F009-287D-4852-AE93-125C9DADA6C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71087D-4233-494C-B12C-27DBAEE86A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1) Taking Advantage of Parallelis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98400" y="1193400"/>
            <a:ext cx="797904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throughput of server computer via multiple processors or multipl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HW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Carry lookahead add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uses parallelism to speed up computing sums from linear to logarithmic in number of bits per oper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Multiple memory bank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earched in parallel in set-associative c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Pipelin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verlap instruction execution to reduce the total time to complete an instruction sequenc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every instruction depends on immediate predecesso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executing instructions completely/partially in parallel possi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 5-stage pipeline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 Instruction Fetch (Ifetch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 Register Read (Reg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 Execute (ALU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 Data Memory Access (Dmem)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) Register Write (Re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5A10-B2B1-4B35-BB07-BC1A6E365DF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F9583-CA24-40A3-99A5-45282EC7A7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96880" y="228240"/>
            <a:ext cx="7556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Instruction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38920" y="1279440"/>
            <a:ext cx="7607160" cy="4969080"/>
            <a:chOff x="538920" y="1279440"/>
            <a:chExt cx="7607160" cy="4969080"/>
          </a:xfrm>
        </p:grpSpPr>
        <p:sp>
          <p:nvSpPr>
            <p:cNvPr id="336" name=""/>
            <p:cNvSpPr/>
            <p:nvPr/>
          </p:nvSpPr>
          <p:spPr>
            <a:xfrm>
              <a:off x="538920" y="22096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066680" y="2286000"/>
              <a:ext cx="0" cy="3022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414600" y="1279440"/>
              <a:ext cx="2374920" cy="36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ime (clock cycle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57480" y="1314360"/>
              <a:ext cx="144756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342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6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350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6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9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363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366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4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5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377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378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80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1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3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384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8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0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405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406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08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09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410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411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418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2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439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2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3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445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446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8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9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1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452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4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2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473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474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76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7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236-BAB7-492E-90E7-0688C3B775C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AD1F6-8C87-4CD6-985B-5F55855859AF}" type="datetime1">
              <a:rPr lang="en-US"/>
              <a:t>07/28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pipelining</a:t>
            </a:r>
            <a:r>
              <a:rPr b="1" lang="en-US" sz="32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83720" y="1347840"/>
            <a:ext cx="7734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attempt to use the same hardware to do two different things at o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833200" y="4390920"/>
            <a:ext cx="292680" cy="20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227400" y="4425840"/>
            <a:ext cx="0" cy="1390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32480" y="3808440"/>
            <a:ext cx="2304720" cy="33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359160" y="3979800"/>
            <a:ext cx="1006560" cy="13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386160" y="4146480"/>
            <a:ext cx="4570560" cy="7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3619080" y="4353840"/>
            <a:ext cx="2826000" cy="435240"/>
            <a:chOff x="3619080" y="4353840"/>
            <a:chExt cx="2826000" cy="435240"/>
          </a:xfrm>
        </p:grpSpPr>
        <p:grpSp>
          <p:nvGrpSpPr>
            <p:cNvPr id="500" name=""/>
            <p:cNvGrpSpPr/>
            <p:nvPr/>
          </p:nvGrpSpPr>
          <p:grpSpPr>
            <a:xfrm>
              <a:off x="4300200" y="4455000"/>
              <a:ext cx="420120" cy="246240"/>
              <a:chOff x="4300200" y="4455000"/>
              <a:chExt cx="420120" cy="24624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4352040" y="4503240"/>
                <a:ext cx="311760" cy="169920"/>
                <a:chOff x="4352040" y="4503240"/>
                <a:chExt cx="311760" cy="1699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4507920" y="450324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4352040" y="450324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4" name=""/>
              <p:cNvSpPr/>
              <p:nvPr/>
            </p:nvSpPr>
            <p:spPr>
              <a:xfrm>
                <a:off x="4300200" y="4455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4664520" y="45374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664520" y="463860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4946760" y="4353840"/>
              <a:ext cx="310680" cy="435240"/>
              <a:chOff x="4946760" y="4353840"/>
              <a:chExt cx="310680" cy="435240"/>
            </a:xfrm>
          </p:grpSpPr>
          <p:sp>
            <p:nvSpPr>
              <p:cNvPr id="508" name=""/>
              <p:cNvSpPr/>
              <p:nvPr/>
            </p:nvSpPr>
            <p:spPr>
              <a:xfrm rot="16200000">
                <a:off x="4960440" y="4455720"/>
                <a:ext cx="270720" cy="264240"/>
              </a:xfrm>
              <a:custGeom>
                <a:avLst/>
                <a:gdLst>
                  <a:gd name="textAreaLeft" fmla="*/ 59400 w 270720"/>
                  <a:gd name="textAreaRight" fmla="*/ 211320 w 27072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rot="5400000">
                <a:off x="4973400" y="45169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5400000">
                <a:off x="4979520" y="453312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16200000">
                <a:off x="4916520" y="44481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" name=""/>
            <p:cNvSpPr/>
            <p:nvPr/>
          </p:nvSpPr>
          <p:spPr>
            <a:xfrm>
              <a:off x="523044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27320" y="458820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4" name=""/>
            <p:cNvGrpSpPr/>
            <p:nvPr/>
          </p:nvGrpSpPr>
          <p:grpSpPr>
            <a:xfrm>
              <a:off x="5349960" y="4455000"/>
              <a:ext cx="592200" cy="246240"/>
              <a:chOff x="5349960" y="4455000"/>
              <a:chExt cx="592200" cy="246240"/>
            </a:xfrm>
          </p:grpSpPr>
          <p:sp>
            <p:nvSpPr>
              <p:cNvPr id="515" name=""/>
              <p:cNvSpPr/>
              <p:nvPr/>
            </p:nvSpPr>
            <p:spPr>
              <a:xfrm>
                <a:off x="5492160" y="450360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349960" y="4455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5450400" y="458820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26960" y="46393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984480" y="45374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0" name=""/>
            <p:cNvGrpSpPr/>
            <p:nvPr/>
          </p:nvGrpSpPr>
          <p:grpSpPr>
            <a:xfrm>
              <a:off x="3619080" y="4455000"/>
              <a:ext cx="557280" cy="246240"/>
              <a:chOff x="3619080" y="4455000"/>
              <a:chExt cx="557280" cy="246240"/>
            </a:xfrm>
          </p:grpSpPr>
          <p:sp>
            <p:nvSpPr>
              <p:cNvPr id="521" name=""/>
              <p:cNvSpPr/>
              <p:nvPr/>
            </p:nvSpPr>
            <p:spPr>
              <a:xfrm>
                <a:off x="3740760" y="450360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3619080" y="4455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3" name=""/>
            <p:cNvGrpSpPr/>
            <p:nvPr/>
          </p:nvGrpSpPr>
          <p:grpSpPr>
            <a:xfrm>
              <a:off x="4152240" y="4427280"/>
              <a:ext cx="1829880" cy="321480"/>
              <a:chOff x="4152240" y="4427280"/>
              <a:chExt cx="1829880" cy="321480"/>
            </a:xfrm>
          </p:grpSpPr>
          <p:sp>
            <p:nvSpPr>
              <p:cNvPr id="524" name=""/>
              <p:cNvSpPr/>
              <p:nvPr/>
            </p:nvSpPr>
            <p:spPr>
              <a:xfrm>
                <a:off x="474120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91912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152240" y="44272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330160" y="44290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"/>
            <p:cNvGrpSpPr/>
            <p:nvPr/>
          </p:nvGrpSpPr>
          <p:grpSpPr>
            <a:xfrm>
              <a:off x="6024960" y="4448880"/>
              <a:ext cx="420120" cy="246240"/>
              <a:chOff x="6024960" y="4448880"/>
              <a:chExt cx="420120" cy="246240"/>
            </a:xfrm>
          </p:grpSpPr>
          <p:grpSp>
            <p:nvGrpSpPr>
              <p:cNvPr id="529" name=""/>
              <p:cNvGrpSpPr/>
              <p:nvPr/>
            </p:nvGrpSpPr>
            <p:grpSpPr>
              <a:xfrm>
                <a:off x="6082920" y="4497120"/>
                <a:ext cx="314280" cy="169920"/>
                <a:chOff x="6082920" y="4497120"/>
                <a:chExt cx="314280" cy="169920"/>
              </a:xfrm>
            </p:grpSpPr>
            <p:sp>
              <p:nvSpPr>
                <p:cNvPr id="530" name=""/>
                <p:cNvSpPr/>
                <p:nvPr/>
              </p:nvSpPr>
              <p:spPr>
                <a:xfrm flipH="1">
                  <a:off x="6082920" y="4497120"/>
                  <a:ext cx="15696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 flipH="1">
                  <a:off x="6082560" y="4497120"/>
                  <a:ext cx="31428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 flipH="1">
                <a:off x="6024600" y="4448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4211280" y="4773600"/>
            <a:ext cx="2827440" cy="435240"/>
            <a:chOff x="4211280" y="4773600"/>
            <a:chExt cx="2827440" cy="435240"/>
          </a:xfrm>
        </p:grpSpPr>
        <p:grpSp>
          <p:nvGrpSpPr>
            <p:cNvPr id="534" name=""/>
            <p:cNvGrpSpPr/>
            <p:nvPr/>
          </p:nvGrpSpPr>
          <p:grpSpPr>
            <a:xfrm>
              <a:off x="4893120" y="4874760"/>
              <a:ext cx="420120" cy="246240"/>
              <a:chOff x="4893120" y="4874760"/>
              <a:chExt cx="420120" cy="246240"/>
            </a:xfrm>
          </p:grpSpPr>
          <p:grpSp>
            <p:nvGrpSpPr>
              <p:cNvPr id="535" name=""/>
              <p:cNvGrpSpPr/>
              <p:nvPr/>
            </p:nvGrpSpPr>
            <p:grpSpPr>
              <a:xfrm>
                <a:off x="4944600" y="4922640"/>
                <a:ext cx="312120" cy="170280"/>
                <a:chOff x="4944600" y="4922640"/>
                <a:chExt cx="312120" cy="1702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5100840" y="4922640"/>
                  <a:ext cx="15588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944600" y="4922640"/>
                  <a:ext cx="31212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8" name=""/>
              <p:cNvSpPr/>
              <p:nvPr/>
            </p:nvSpPr>
            <p:spPr>
              <a:xfrm>
                <a:off x="4893120" y="4874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"/>
            <p:cNvSpPr/>
            <p:nvPr/>
          </p:nvSpPr>
          <p:spPr>
            <a:xfrm>
              <a:off x="5257440" y="49568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7440" y="505872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" name=""/>
            <p:cNvGrpSpPr/>
            <p:nvPr/>
          </p:nvGrpSpPr>
          <p:grpSpPr>
            <a:xfrm>
              <a:off x="5539680" y="4773600"/>
              <a:ext cx="310680" cy="435240"/>
              <a:chOff x="5539680" y="4773600"/>
              <a:chExt cx="310680" cy="435240"/>
            </a:xfrm>
          </p:grpSpPr>
          <p:sp>
            <p:nvSpPr>
              <p:cNvPr id="542" name=""/>
              <p:cNvSpPr/>
              <p:nvPr/>
            </p:nvSpPr>
            <p:spPr>
              <a:xfrm rot="16200000">
                <a:off x="5552640" y="4875120"/>
                <a:ext cx="271800" cy="264240"/>
              </a:xfrm>
              <a:custGeom>
                <a:avLst/>
                <a:gdLst>
                  <a:gd name="textAreaLeft" fmla="*/ 59760 w 271800"/>
                  <a:gd name="textAreaRight" fmla="*/ 212040 w 27180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rot="5400000">
                <a:off x="5566320" y="493668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rot="5400000">
                <a:off x="5572440" y="495324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rot="16200000">
                <a:off x="5509440" y="4867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5823360" y="500832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0960" y="500832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5945040" y="4874760"/>
              <a:ext cx="592200" cy="246240"/>
              <a:chOff x="5945040" y="4874760"/>
              <a:chExt cx="592200" cy="246240"/>
            </a:xfrm>
          </p:grpSpPr>
          <p:sp>
            <p:nvSpPr>
              <p:cNvPr id="549" name=""/>
              <p:cNvSpPr/>
              <p:nvPr/>
            </p:nvSpPr>
            <p:spPr>
              <a:xfrm>
                <a:off x="6086160" y="4923000"/>
                <a:ext cx="31356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5040" y="48747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6043680" y="5008320"/>
              <a:ext cx="468720" cy="1353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19160" y="505944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577040" y="49568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4" name=""/>
            <p:cNvGrpSpPr/>
            <p:nvPr/>
          </p:nvGrpSpPr>
          <p:grpSpPr>
            <a:xfrm>
              <a:off x="4211280" y="4874760"/>
              <a:ext cx="557280" cy="246240"/>
              <a:chOff x="4211280" y="4874760"/>
              <a:chExt cx="557280" cy="246240"/>
            </a:xfrm>
          </p:grpSpPr>
          <p:sp>
            <p:nvSpPr>
              <p:cNvPr id="555" name=""/>
              <p:cNvSpPr/>
              <p:nvPr/>
            </p:nvSpPr>
            <p:spPr>
              <a:xfrm>
                <a:off x="4332960" y="4923000"/>
                <a:ext cx="313920" cy="169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211280" y="48747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4744800" y="4846320"/>
              <a:ext cx="1830960" cy="322560"/>
              <a:chOff x="4744800" y="4846320"/>
              <a:chExt cx="1830960" cy="322560"/>
            </a:xfrm>
          </p:grpSpPr>
          <p:sp>
            <p:nvSpPr>
              <p:cNvPr id="558" name=""/>
              <p:cNvSpPr/>
              <p:nvPr/>
            </p:nvSpPr>
            <p:spPr>
              <a:xfrm>
                <a:off x="533412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51276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744800" y="4846320"/>
                <a:ext cx="63000" cy="3225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923440" y="4848120"/>
                <a:ext cx="61920" cy="3182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6618600" y="4868640"/>
              <a:ext cx="420120" cy="246240"/>
              <a:chOff x="6618600" y="4868640"/>
              <a:chExt cx="420120" cy="246240"/>
            </a:xfrm>
          </p:grpSpPr>
          <p:grpSp>
            <p:nvGrpSpPr>
              <p:cNvPr id="563" name=""/>
              <p:cNvGrpSpPr/>
              <p:nvPr/>
            </p:nvGrpSpPr>
            <p:grpSpPr>
              <a:xfrm>
                <a:off x="6675840" y="4916520"/>
                <a:ext cx="314640" cy="170280"/>
                <a:chOff x="6675840" y="4916520"/>
                <a:chExt cx="314640" cy="170280"/>
              </a:xfrm>
            </p:grpSpPr>
            <p:sp>
              <p:nvSpPr>
                <p:cNvPr id="564" name=""/>
                <p:cNvSpPr/>
                <p:nvPr/>
              </p:nvSpPr>
              <p:spPr>
                <a:xfrm flipH="1">
                  <a:off x="6675480" y="4916520"/>
                  <a:ext cx="157320" cy="16848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 flipH="1">
                  <a:off x="6675840" y="4916520"/>
                  <a:ext cx="314640" cy="1702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 flipH="1">
                <a:off x="6618240" y="48686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7" name=""/>
          <p:cNvGrpSpPr/>
          <p:nvPr/>
        </p:nvGrpSpPr>
        <p:grpSpPr>
          <a:xfrm>
            <a:off x="4793760" y="5158080"/>
            <a:ext cx="2827440" cy="435240"/>
            <a:chOff x="4793760" y="5158080"/>
            <a:chExt cx="2827440" cy="435240"/>
          </a:xfrm>
        </p:grpSpPr>
        <p:grpSp>
          <p:nvGrpSpPr>
            <p:cNvPr id="568" name=""/>
            <p:cNvGrpSpPr/>
            <p:nvPr/>
          </p:nvGrpSpPr>
          <p:grpSpPr>
            <a:xfrm>
              <a:off x="5475600" y="5259240"/>
              <a:ext cx="420120" cy="246240"/>
              <a:chOff x="5475600" y="5259240"/>
              <a:chExt cx="420120" cy="24624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5527080" y="5307480"/>
                <a:ext cx="312120" cy="169560"/>
                <a:chOff x="5527080" y="5307480"/>
                <a:chExt cx="312120" cy="16956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5683320" y="5307480"/>
                  <a:ext cx="15588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527080" y="5307480"/>
                  <a:ext cx="31212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2" name=""/>
              <p:cNvSpPr/>
              <p:nvPr/>
            </p:nvSpPr>
            <p:spPr>
              <a:xfrm>
                <a:off x="5475600" y="5259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5839920" y="534204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839920" y="5443200"/>
              <a:ext cx="34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6122160" y="5158080"/>
              <a:ext cx="310680" cy="435240"/>
              <a:chOff x="6122160" y="5158080"/>
              <a:chExt cx="310680" cy="435240"/>
            </a:xfrm>
          </p:grpSpPr>
          <p:sp>
            <p:nvSpPr>
              <p:cNvPr id="576" name=""/>
              <p:cNvSpPr/>
              <p:nvPr/>
            </p:nvSpPr>
            <p:spPr>
              <a:xfrm rot="16200000">
                <a:off x="6135840" y="5259600"/>
                <a:ext cx="270360" cy="264240"/>
              </a:xfrm>
              <a:custGeom>
                <a:avLst/>
                <a:gdLst>
                  <a:gd name="textAreaLeft" fmla="*/ 59400 w 270360"/>
                  <a:gd name="textAreaRight" fmla="*/ 210960 w 27036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400000">
                <a:off x="6149160" y="5321880"/>
                <a:ext cx="8712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5400000">
                <a:off x="6154920" y="5338080"/>
                <a:ext cx="7668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200000">
                <a:off x="6091920" y="5252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>
              <a:off x="6405840" y="539316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03440" y="539316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527520" y="5259600"/>
              <a:ext cx="592200" cy="246240"/>
              <a:chOff x="6527520" y="5259600"/>
              <a:chExt cx="592200" cy="246240"/>
            </a:xfrm>
          </p:grpSpPr>
          <p:sp>
            <p:nvSpPr>
              <p:cNvPr id="583" name=""/>
              <p:cNvSpPr/>
              <p:nvPr/>
            </p:nvSpPr>
            <p:spPr>
              <a:xfrm>
                <a:off x="6668640" y="5308560"/>
                <a:ext cx="31356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6527520" y="5259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5" name=""/>
            <p:cNvSpPr/>
            <p:nvPr/>
          </p:nvSpPr>
          <p:spPr>
            <a:xfrm>
              <a:off x="6626160" y="5393160"/>
              <a:ext cx="468720" cy="13464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01640" y="544428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59520" y="534204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4793760" y="5259600"/>
              <a:ext cx="557280" cy="246240"/>
              <a:chOff x="4793760" y="5259600"/>
              <a:chExt cx="55728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4915440" y="5308560"/>
                <a:ext cx="313920" cy="169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793760" y="5259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5327280" y="5231880"/>
              <a:ext cx="1830960" cy="321480"/>
              <a:chOff x="5327280" y="5231880"/>
              <a:chExt cx="1830960" cy="321480"/>
            </a:xfrm>
          </p:grpSpPr>
          <p:sp>
            <p:nvSpPr>
              <p:cNvPr id="592" name=""/>
              <p:cNvSpPr/>
              <p:nvPr/>
            </p:nvSpPr>
            <p:spPr>
              <a:xfrm>
                <a:off x="591660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09524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27280" y="5231880"/>
                <a:ext cx="63000" cy="321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505920" y="5233680"/>
                <a:ext cx="61920" cy="31716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7201080" y="5253480"/>
              <a:ext cx="420120" cy="246240"/>
              <a:chOff x="7201080" y="5253480"/>
              <a:chExt cx="420120" cy="246240"/>
            </a:xfrm>
          </p:grpSpPr>
          <p:grpSp>
            <p:nvGrpSpPr>
              <p:cNvPr id="597" name=""/>
              <p:cNvGrpSpPr/>
              <p:nvPr/>
            </p:nvGrpSpPr>
            <p:grpSpPr>
              <a:xfrm>
                <a:off x="7258320" y="5301720"/>
                <a:ext cx="314640" cy="169560"/>
                <a:chOff x="7258320" y="5301720"/>
                <a:chExt cx="314640" cy="169560"/>
              </a:xfrm>
            </p:grpSpPr>
            <p:sp>
              <p:nvSpPr>
                <p:cNvPr id="598" name=""/>
                <p:cNvSpPr/>
                <p:nvPr/>
              </p:nvSpPr>
              <p:spPr>
                <a:xfrm flipH="1">
                  <a:off x="7257960" y="5301720"/>
                  <a:ext cx="157320" cy="167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>
                  <a:off x="7258320" y="5301720"/>
                  <a:ext cx="314640" cy="16956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 flipH="1">
                <a:off x="7200720" y="52534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1" name=""/>
          <p:cNvGrpSpPr/>
          <p:nvPr/>
        </p:nvGrpSpPr>
        <p:grpSpPr>
          <a:xfrm>
            <a:off x="5376600" y="5546880"/>
            <a:ext cx="2827080" cy="435240"/>
            <a:chOff x="5376600" y="5546880"/>
            <a:chExt cx="2827080" cy="435240"/>
          </a:xfrm>
        </p:grpSpPr>
        <p:grpSp>
          <p:nvGrpSpPr>
            <p:cNvPr id="602" name=""/>
            <p:cNvGrpSpPr/>
            <p:nvPr/>
          </p:nvGrpSpPr>
          <p:grpSpPr>
            <a:xfrm>
              <a:off x="6057720" y="5645880"/>
              <a:ext cx="420120" cy="246240"/>
              <a:chOff x="6057720" y="5645880"/>
              <a:chExt cx="420120" cy="246240"/>
            </a:xfrm>
          </p:grpSpPr>
          <p:grpSp>
            <p:nvGrpSpPr>
              <p:cNvPr id="603" name=""/>
              <p:cNvGrpSpPr/>
              <p:nvPr/>
            </p:nvGrpSpPr>
            <p:grpSpPr>
              <a:xfrm>
                <a:off x="6109560" y="5694120"/>
                <a:ext cx="311760" cy="169920"/>
                <a:chOff x="6109560" y="5694120"/>
                <a:chExt cx="311760" cy="169920"/>
              </a:xfrm>
            </p:grpSpPr>
            <p:sp>
              <p:nvSpPr>
                <p:cNvPr id="604" name=""/>
                <p:cNvSpPr/>
                <p:nvPr/>
              </p:nvSpPr>
              <p:spPr>
                <a:xfrm>
                  <a:off x="6265440" y="5694120"/>
                  <a:ext cx="15588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6109560" y="5694120"/>
                  <a:ext cx="31176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6" name=""/>
              <p:cNvSpPr/>
              <p:nvPr/>
            </p:nvSpPr>
            <p:spPr>
              <a:xfrm>
                <a:off x="6057720" y="56458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6422760" y="572868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422760" y="5829840"/>
              <a:ext cx="344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9" name=""/>
            <p:cNvGrpSpPr/>
            <p:nvPr/>
          </p:nvGrpSpPr>
          <p:grpSpPr>
            <a:xfrm>
              <a:off x="6705000" y="5546880"/>
              <a:ext cx="310680" cy="435240"/>
              <a:chOff x="6705000" y="5546880"/>
              <a:chExt cx="310680" cy="435240"/>
            </a:xfrm>
          </p:grpSpPr>
          <p:sp>
            <p:nvSpPr>
              <p:cNvPr id="610" name=""/>
              <p:cNvSpPr/>
              <p:nvPr/>
            </p:nvSpPr>
            <p:spPr>
              <a:xfrm rot="16200000">
                <a:off x="6718320" y="5646960"/>
                <a:ext cx="271440" cy="264240"/>
              </a:xfrm>
              <a:custGeom>
                <a:avLst/>
                <a:gdLst>
                  <a:gd name="textAreaLeft" fmla="*/ 59760 w 271440"/>
                  <a:gd name="textAreaRight" fmla="*/ 211680 w 271440"/>
                  <a:gd name="textAreaTop" fmla="*/ 57960 h 264240"/>
                  <a:gd name="textAreaBottom" fmla="*/ 206280 h 26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5400000">
                <a:off x="6731640" y="5708520"/>
                <a:ext cx="87480" cy="14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5400000">
                <a:off x="6737760" y="5725080"/>
                <a:ext cx="77040" cy="10872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16200000">
                <a:off x="6674760" y="56412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6988680" y="5779440"/>
              <a:ext cx="34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585920" y="5779440"/>
              <a:ext cx="34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7110000" y="5646240"/>
              <a:ext cx="592200" cy="246240"/>
              <a:chOff x="7110000" y="5646240"/>
              <a:chExt cx="592200" cy="246240"/>
            </a:xfrm>
          </p:grpSpPr>
          <p:sp>
            <p:nvSpPr>
              <p:cNvPr id="617" name=""/>
              <p:cNvSpPr/>
              <p:nvPr/>
            </p:nvSpPr>
            <p:spPr>
              <a:xfrm>
                <a:off x="7251120" y="5694840"/>
                <a:ext cx="31356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110000" y="5646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7209000" y="5779440"/>
              <a:ext cx="468360" cy="13500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84480" y="5830920"/>
              <a:ext cx="32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742360" y="5728680"/>
              <a:ext cx="36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376600" y="5646240"/>
              <a:ext cx="557280" cy="246240"/>
              <a:chOff x="5376600" y="5646240"/>
              <a:chExt cx="557280" cy="246240"/>
            </a:xfrm>
          </p:grpSpPr>
          <p:sp>
            <p:nvSpPr>
              <p:cNvPr id="623" name=""/>
              <p:cNvSpPr/>
              <p:nvPr/>
            </p:nvSpPr>
            <p:spPr>
              <a:xfrm>
                <a:off x="5498280" y="5694840"/>
                <a:ext cx="313920" cy="169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376600" y="5646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5910120" y="5618160"/>
              <a:ext cx="1830960" cy="322200"/>
              <a:chOff x="5910120" y="5618160"/>
              <a:chExt cx="1830960" cy="322200"/>
            </a:xfrm>
          </p:grpSpPr>
          <p:sp>
            <p:nvSpPr>
              <p:cNvPr id="626" name=""/>
              <p:cNvSpPr/>
              <p:nvPr/>
            </p:nvSpPr>
            <p:spPr>
              <a:xfrm>
                <a:off x="649944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67808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910120" y="5618160"/>
                <a:ext cx="63000" cy="322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7088760" y="5619960"/>
                <a:ext cx="61920" cy="317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7783560" y="5639760"/>
              <a:ext cx="420120" cy="246240"/>
              <a:chOff x="7783560" y="5639760"/>
              <a:chExt cx="420120" cy="246240"/>
            </a:xfrm>
          </p:grpSpPr>
          <p:grpSp>
            <p:nvGrpSpPr>
              <p:cNvPr id="631" name=""/>
              <p:cNvGrpSpPr/>
              <p:nvPr/>
            </p:nvGrpSpPr>
            <p:grpSpPr>
              <a:xfrm>
                <a:off x="7840800" y="5688000"/>
                <a:ext cx="314640" cy="169920"/>
                <a:chOff x="7840800" y="5688000"/>
                <a:chExt cx="314640" cy="169920"/>
              </a:xfrm>
            </p:grpSpPr>
            <p:sp>
              <p:nvSpPr>
                <p:cNvPr id="632" name=""/>
                <p:cNvSpPr/>
                <p:nvPr/>
              </p:nvSpPr>
              <p:spPr>
                <a:xfrm flipH="1">
                  <a:off x="7840440" y="5688000"/>
                  <a:ext cx="157320" cy="16812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 flipH="1">
                  <a:off x="7840800" y="5688000"/>
                  <a:ext cx="314640" cy="1699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4" name=""/>
              <p:cNvSpPr/>
              <p:nvPr/>
            </p:nvSpPr>
            <p:spPr>
              <a:xfrm flipH="1">
                <a:off x="7783200" y="563976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5" name=""/>
          <p:cNvSpPr/>
          <p:nvPr/>
        </p:nvSpPr>
        <p:spPr>
          <a:xfrm>
            <a:off x="41799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76244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53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56280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92776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14528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728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597120" y="4146480"/>
            <a:ext cx="0" cy="2102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A83-9008-441E-8E11-264D4DE2BD4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6364E-A0B8-43A1-8501-1208F1B46E35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1055520"/>
          <a:ext cx="9144000" cy="459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5520"/>
                    <a:ext cx="9144000" cy="45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63080"/>
            <a:ext cx="851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roads: Uniprocessor Performanc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41560" y="5452920"/>
            <a:ext cx="488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: 25%/year 1978 to 198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52%/year 1986 to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ISC + x86: ??%/year 2002 to p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24080" y="1413000"/>
            <a:ext cx="3454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rom Hennessy and Patterson,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uter Architecture: A Quantitative Approach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4th edition, October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5313-06C0-454D-8F67-800B072B349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77B04-8898-46B2-B0A4-621743093ADF}" type="datetime1">
              <a:rPr lang="en-US"/>
              <a:t>07/28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09200" y="501480"/>
            <a:ext cx="757260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2) The Principle of Loca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66200" y="1274400"/>
            <a:ext cx="8248680" cy="25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rinciple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am access a relatively small portion of the address space at any instant of tim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Different Types of Loca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Tempor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Time): If an item is referenced, it will tend to be referenced again soon (e.g., loops, reu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5480" indent="-1850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patial Locality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Locality in Space): If an item is referenced, items whose addresses are close by tend to be referenced so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e.g., straight-line code, array acces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 30 years, HW  relied on locality for memory perf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80880" y="5211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32560" y="516888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M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3406680" y="52135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079720" y="516240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233880" y="5167440"/>
            <a:ext cx="663480" cy="50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557600" y="4778280"/>
            <a:ext cx="1104840" cy="125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728800" y="5427720"/>
            <a:ext cx="4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913200" y="5432400"/>
            <a:ext cx="6332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2169000" y="4630680"/>
            <a:ext cx="1326240" cy="30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BE09-036D-4E7C-ACC2-9E2DAE6423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F8BE4-D2B4-44D9-B552-DB84D7209884}" type="datetime1">
              <a:rPr lang="en-US"/>
              <a:t>07/28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197000" y="169920"/>
            <a:ext cx="6472080" cy="409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evels of the Memory Hierarch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33160" y="1150920"/>
            <a:ext cx="215424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PU 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0s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00 – 500 ps (0.3-0.5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54680" y="2038320"/>
            <a:ext cx="15768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L1 and L2 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-100s 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1 ns - ~10 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$1000s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34520" y="3276720"/>
            <a:ext cx="133740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Main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G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80ns- 200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00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18600" y="4419720"/>
            <a:ext cx="17643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s T Bytes, 10 ms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(10,000,000 n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 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81160" y="461880"/>
            <a:ext cx="20602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Access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C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28400" y="5638680"/>
            <a:ext cx="113328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nfin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sec-m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~$1 / G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336840" y="1150920"/>
            <a:ext cx="1146240" cy="431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44760" y="1216080"/>
            <a:ext cx="1195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353040" y="196992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1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399480" y="3606840"/>
            <a:ext cx="10767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425760" y="4673520"/>
            <a:ext cx="6228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510360" y="5816520"/>
            <a:ext cx="6789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32000" y="1905120"/>
            <a:ext cx="1505160" cy="4125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603520" y="3517920"/>
            <a:ext cx="287028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70000" y="4584600"/>
            <a:ext cx="393696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765440" y="5651640"/>
            <a:ext cx="4698720" cy="507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886200" y="1601640"/>
            <a:ext cx="0" cy="30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86200" y="3166920"/>
            <a:ext cx="0" cy="33192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6200" y="4044960"/>
            <a:ext cx="0" cy="52056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86200" y="5111640"/>
            <a:ext cx="0" cy="52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990960" y="1593720"/>
            <a:ext cx="1816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str. Oper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970440" y="236232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948840" y="4140360"/>
            <a:ext cx="7736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86280" y="5207040"/>
            <a:ext cx="60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406560" y="646200"/>
            <a:ext cx="880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St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mic Sans MS"/>
              </a:rPr>
              <a:t>Xfer Un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47280" y="1492200"/>
            <a:ext cx="14518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prog./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-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6271200" y="2230560"/>
            <a:ext cx="1125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2-64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354360" y="4013280"/>
            <a:ext cx="11592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4K-8K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257880" y="5079960"/>
            <a:ext cx="13770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user/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M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476120" y="1144440"/>
            <a:ext cx="14882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Upp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292520" y="5816520"/>
            <a:ext cx="14929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mic Sans MS"/>
              </a:rPr>
              <a:t>Low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V="1">
            <a:off x="7848720" y="1841400"/>
            <a:ext cx="0" cy="3803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827840" y="1606680"/>
            <a:ext cx="7506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458200" y="1903320"/>
            <a:ext cx="0" cy="342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089920" y="5435640"/>
            <a:ext cx="8344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349800" y="2739960"/>
            <a:ext cx="113616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2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892600" y="2651040"/>
            <a:ext cx="1955520" cy="507960"/>
          </a:xfrm>
          <a:prstGeom prst="rect">
            <a:avLst/>
          </a:prstGeom>
          <a:noFill/>
          <a:ln w="255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82960" y="2324160"/>
            <a:ext cx="0" cy="355680"/>
          </a:xfrm>
          <a:prstGeom prst="line">
            <a:avLst/>
          </a:prstGeom>
          <a:ln w="12600">
            <a:solidFill>
              <a:srgbClr val="fc0128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260040" y="3048120"/>
            <a:ext cx="1227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ache cnt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4-128 by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003920" y="3192480"/>
            <a:ext cx="816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5893-60C0-44BA-B6A8-954AE77342AF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441768-CACC-4CB7-A8AA-A388DADC0E70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3) Focus on the Common Cas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945560" cy="51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sense guides computer desig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ce its engineering, common sense is valu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making a design trade-off, favor the frequent case over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nstruction fetch and decode unit used more frequently than multiplier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If database server has 50 disks / processor, storage dependability dominates system dependability, so optimize it 1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equent case is often simpler and can be done faster than the infrequent ca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overflow is rare when adding 2 numbers, so improve performance by optimizing more common case of no overfl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y slow down overflow, but overall performance improved by optimizing for the normal ca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frequent case and how much performance improved by making case faster =&gt;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mdahl’s La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F3DB-5DD7-4FD0-BA1A-FC9C3A5350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9E26A-5F67-4257-A462-DD363EA038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4) Amdahl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8" name=""/>
              <p:cNvSpPr txBox="1"/>
              <p:nvPr/>
            </p:nvSpPr>
            <p:spPr>
              <a:xfrm>
                <a:off x="533520" y="2743200"/>
                <a:ext cx="81547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veral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l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ew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9" name=""/>
          <p:cNvSpPr/>
          <p:nvPr/>
        </p:nvSpPr>
        <p:spPr>
          <a:xfrm>
            <a:off x="451800" y="41148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Best you could ever hope to 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0" name=""/>
              <p:cNvSpPr txBox="1"/>
              <p:nvPr/>
            </p:nvSpPr>
            <p:spPr>
              <a:xfrm>
                <a:off x="2209680" y="4648320"/>
                <a:ext cx="461016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peedu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aximu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 -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1" name=""/>
              <p:cNvSpPr txBox="1"/>
              <p:nvPr/>
            </p:nvSpPr>
            <p:spPr>
              <a:xfrm>
                <a:off x="609480" y="1295280"/>
                <a:ext cx="76978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ExTim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raction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edu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enhanced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02" name=""/>
          <p:cNvGrpSpPr/>
          <p:nvPr/>
        </p:nvGrpSpPr>
        <p:grpSpPr>
          <a:xfrm>
            <a:off x="1219320" y="5867280"/>
            <a:ext cx="6997680" cy="368280"/>
            <a:chOff x="1219320" y="5867280"/>
            <a:chExt cx="6997680" cy="368280"/>
          </a:xfrm>
        </p:grpSpPr>
        <p:sp>
          <p:nvSpPr>
            <p:cNvPr id="703" name=""/>
            <p:cNvSpPr/>
            <p:nvPr/>
          </p:nvSpPr>
          <p:spPr>
            <a:xfrm>
              <a:off x="12193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286000" y="5867280"/>
              <a:ext cx="10540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35268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8640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553080" y="5867280"/>
              <a:ext cx="596880" cy="368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62920" y="5867280"/>
              <a:ext cx="1054080" cy="368280"/>
            </a:xfrm>
            <a:prstGeom prst="rect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660920" y="6089400"/>
              <a:ext cx="495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D1D8-8809-4D24-BBDC-FA7EF4FFF5A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9123B6-A224-4920-9A40-312BDAEC1D0F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mdahl’s Law 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999560" cy="108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CPU 10X fa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bound server, so 60% time waiting for I/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857160" y="2347920"/>
                <a:ext cx="6905880" cy="259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u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verall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 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Fraction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edu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hanced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4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4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13" name=""/>
          <p:cNvSpPr/>
          <p:nvPr/>
        </p:nvSpPr>
        <p:spPr>
          <a:xfrm>
            <a:off x="863640" y="5029200"/>
            <a:ext cx="799920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arently, its human nature to be attracted by 10X faster, vs. keeping in perspective its just 1.6X f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1293-1CB4-4000-9674-E866C9BB42E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79B5F0-8893-4984-8904-D3F8375A71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-360" y="45576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) Processor performance equ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715" name=""/>
          <p:cNvGrpSpPr/>
          <p:nvPr/>
        </p:nvGrpSpPr>
        <p:grpSpPr>
          <a:xfrm>
            <a:off x="838080" y="1676520"/>
            <a:ext cx="7696080" cy="873360"/>
            <a:chOff x="838080" y="1676520"/>
            <a:chExt cx="7696080" cy="873360"/>
          </a:xfrm>
        </p:grpSpPr>
        <p:sp>
          <p:nvSpPr>
            <p:cNvPr id="716" name=""/>
            <p:cNvSpPr/>
            <p:nvPr/>
          </p:nvSpPr>
          <p:spPr>
            <a:xfrm>
              <a:off x="838080" y="1676520"/>
              <a:ext cx="7696080" cy="873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PU time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  Seconds    =   Instructions  x    Cycles     x   Secon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86000"/>
                </a:lnSpc>
                <a:spcBef>
                  <a:spcPts val="901"/>
                </a:spcBef>
                <a:tabLst>
                  <a:tab algn="l" pos="0"/>
                  <a:tab algn="l" pos="1371600"/>
                  <a:tab algn="l" pos="30733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Program          Instruction       Cyc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476440" y="196200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14800" y="1987560"/>
              <a:ext cx="123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803920" y="2012760"/>
              <a:ext cx="97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70560" y="1987560"/>
              <a:ext cx="92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1066320" y="25142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 Cou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CP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(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. Set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365760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3092400" y="2406240"/>
            <a:ext cx="0" cy="374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51360" y="245736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943600" y="2419200"/>
            <a:ext cx="0" cy="3721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102520" y="2419200"/>
            <a:ext cx="0" cy="377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68560" y="342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9480" y="410832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149480" y="4838760"/>
            <a:ext cx="692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68560" y="5499000"/>
            <a:ext cx="690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187280" y="6165720"/>
            <a:ext cx="688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30400" y="2832120"/>
            <a:ext cx="6940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858000" y="380880"/>
            <a:ext cx="968400" cy="838440"/>
          </a:xfrm>
          <a:custGeom>
            <a:avLst/>
            <a:gdLst/>
            <a:ahLst/>
            <a:rect l="l" t="t" r="r" b="b"/>
            <a:pathLst>
              <a:path w="610" h="528">
                <a:moveTo>
                  <a:pt x="0" y="528"/>
                </a:moveTo>
                <a:lnTo>
                  <a:pt x="305" y="0"/>
                </a:lnTo>
                <a:lnTo>
                  <a:pt x="610" y="528"/>
                </a:lnTo>
                <a:lnTo>
                  <a:pt x="0" y="528"/>
                </a:lnTo>
                <a:close/>
              </a:path>
            </a:pathLst>
          </a:custGeom>
          <a:noFill/>
          <a:ln w="2844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5932800" y="11844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inst 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7098840" y="76320"/>
            <a:ext cx="5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7545600" y="1219320"/>
            <a:ext cx="128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c0128"/>
                </a:solidFill>
                <a:latin typeface="Comic Sans MS"/>
              </a:rPr>
              <a:t>Cycle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DC1-9669-474C-8870-B96D92B420E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F41046-4176-414E-910A-8A909F2B340C}" type="datetime1">
              <a:rPr lang="en-US"/>
              <a:t>07/28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hat’s a Clock Cycle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4571640"/>
            <a:ext cx="7238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ld days: 10 levels of ga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day: determined by numerous time-of-flight issues + gate dela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 propagation, wire lengths, dri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2438280" y="1371600"/>
            <a:ext cx="38124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05320" y="1447920"/>
            <a:ext cx="1981080" cy="16761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313640" y="1828800"/>
            <a:ext cx="102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819520" y="18288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2819520" y="274320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172200" y="1371600"/>
            <a:ext cx="380880" cy="18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548640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548640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609720" y="1905120"/>
            <a:ext cx="172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binat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76520" y="3505320"/>
            <a:ext cx="5562360" cy="380880"/>
          </a:xfrm>
          <a:custGeom>
            <a:avLst/>
            <a:gdLst/>
            <a:ahLst/>
            <a:rect l="l" t="t" r="r" b="b"/>
            <a:pathLst>
              <a:path w="3504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  <a:lnTo>
                  <a:pt x="1248" y="0"/>
                </a:lnTo>
                <a:lnTo>
                  <a:pt x="1248" y="240"/>
                </a:lnTo>
                <a:lnTo>
                  <a:pt x="2976" y="240"/>
                </a:lnTo>
                <a:lnTo>
                  <a:pt x="2976" y="0"/>
                </a:lnTo>
                <a:lnTo>
                  <a:pt x="350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259092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640080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553080" y="1752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6553080" y="26668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752480" y="16765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752480" y="28954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3C5B-6E9A-4B8D-B7BA-3D4E3D44DCE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B02968-C603-462E-98D8-D56AD6744DF9}" type="datetime1">
              <a:rPr lang="en-US"/>
              <a:t>07/28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7240" y="1193760"/>
            <a:ext cx="7694640" cy="525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&gt;&gt; instruction s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skill sets are differen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Quantitative principles of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antitative approach to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lid interfaces that really 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 tracking and anticip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S 252 to learn new skills, transition to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t the crossroads from sequential to parallel 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lvation requires innovation in many fields, including computer archite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MP is interesting and timely CS 252 project opportunity given CS is at the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 Chapter 1, then Appendix A, record bugs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4AEB-C0E2-4454-AF01-1C789FCEA0D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507E8E-6EF1-4007-9763-F8BE953188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a Change in Chip Desig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33640"/>
            <a:ext cx="5997600" cy="12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ntel 4004 (1971): 4-bit processor,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312 transistors, 0.4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 micron PMOS, 11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241308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2422800" cy="175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1640" y="5696640"/>
            <a:ext cx="696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2b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b8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b4"/>
                </a:solidFill>
                <a:latin typeface="Arial"/>
              </a:rPr>
              <a:t>Processor is the new transistor?</a:t>
            </a:r>
            <a:r>
              <a:rPr b="1" lang="en-US" sz="3200" spc="-1" strike="noStrike">
                <a:solidFill>
                  <a:srgbClr val="0000b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62320"/>
            <a:ext cx="796752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ISC II (1983): 32-bit, 5 stage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ipeline, 40,760 transistors, 3 MHz,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 micron NMOS, 60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75160"/>
            <a:ext cx="8327880" cy="19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25 mm</a:t>
            </a:r>
            <a:r>
              <a:rPr b="1" lang="en-US" sz="19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hip, 0.065 micron CMOS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= 2312 RISC II+FPU+Icache+Dcach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SC II shrinks to ~ 0.02 mm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t 65 n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ches via DRAM or 1 transistor SRAM (</a:t>
            </a:r>
            <a:r>
              <a:rPr b="1" lang="en-US" sz="1600" spc="-1" strike="noStrike" u="sng">
                <a:solidFill>
                  <a:srgbClr val="fc0128"/>
                </a:solidFill>
                <a:uFillTx/>
                <a:latin typeface="Arial"/>
                <a:hlinkClick r:id="rId3"/>
              </a:rPr>
              <a:t>www.t-ram.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ximity Communication via capacitive coupling at &gt; 1 TB/s ?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van Sutherland @ Sun / Berkele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F6AC-151D-4CC6-8422-37FA86DA1E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E3AD47-6AB9-4B4D-9B76-D30D612FD360}" type="datetime1">
              <a:rPr lang="en-US"/>
              <a:t>07/28/26</a:t>
            </a:fld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4160" y="-360"/>
            <a:ext cx="675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éjà vu all over again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ultiprocessors imminent in 1970s, ‘80s, ‘90s, …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…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today’s processors … are nearing an impasse as technologies approach the speed of light..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avid Mitchell, </a:t>
            </a:r>
            <a:r>
              <a:rPr b="1" i="1" lang="en-US" sz="2100" spc="-1" strike="noStrike">
                <a:solidFill>
                  <a:srgbClr val="000000"/>
                </a:solidFill>
                <a:latin typeface="Arial"/>
              </a:rPr>
              <a:t>The Transputer: The Time Is Now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1989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ransputer was premature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Custom multiprocessors strove to lead uniprocesso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rewarded: 2X seq. perf. / 1.5 year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“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We are dedicating all of our future product development to multicore designs. … This is a sea change in computing”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r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aul Otellini, President, Intel (</a:t>
            </a:r>
            <a:r>
              <a:rPr b="1" lang="en-US" sz="2100" spc="-1" strike="noStrike">
                <a:solidFill>
                  <a:srgbClr val="0066ff"/>
                </a:solidFill>
                <a:latin typeface="Arial"/>
              </a:rPr>
              <a:t>2004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ifference is all microprocessor companies switch to multiprocessors (AMD, Intel, IBM, Sun; all new Apples 2 CPUs) 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Procrastination penalized: 2X sequential perf. / 5 yrs</a:t>
            </a:r>
            <a:br>
              <a:rPr sz="21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Biggest programming challenge: 1 to 2 CPUs</a:t>
            </a:r>
            <a:br>
              <a:rPr sz="2100"/>
            </a:b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54800" y="0"/>
            <a:ext cx="1789200" cy="10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0CD3-4DC8-4CB2-82FF-B4806218F8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8C6B43-3E2A-44FA-9793-CD978165B966}" type="datetime1">
              <a:rPr lang="en-US"/>
              <a:t>07/28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09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Sea Change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hms, Programming Languages, Compilers, Operating Systems, Architectures, Libraries, … not ready to supply Thread Level Parallelism or Data Level Parallelism for 1000 CPUs / chip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s not ready for 1000 CPUs / chi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like Instruction Level Parallelism, cannot be solved by just by computer architects and compiler writers alone, but also cannot be solved </a:t>
            </a: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withou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articipation of computer archit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edition of CS 252 (and 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dition of textbook Computer Architecture: A Quantitative Approach) explores shift from Instruction Level Parallelism to Thread Level Parallelism / Data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2BFC-1207-477E-BA26-DAC93E55EC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C8F21-BED9-49E6-98D0-AF5635489ABF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Computer Science at a Crossr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Architecture v. Instruction Set Arch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would you like your CS252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Computer Architecture brings to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E250-C8C9-44FC-BF6F-D4BB24AF00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F50A8A-C411-4E38-A8C9-0E04C54F9F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479520"/>
            <a:ext cx="889776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ruction Set Architecture: Critical Interfa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301760" y="2635200"/>
            <a:ext cx="66927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40040" y="126360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886200" y="1562040"/>
            <a:ext cx="7632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86200" y="21718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14800" y="217188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247644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733560" y="217188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504960" y="255276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62520" y="179064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191120" y="17906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86200" y="1714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4114800" y="1562040"/>
            <a:ext cx="1522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11640" y="133992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1638360"/>
            <a:ext cx="7596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105520" y="2247840"/>
            <a:ext cx="3045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247644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410080" y="224784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5715000" y="23238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232416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181480" y="186696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4952520" y="201924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028840" y="179064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4800240" y="1638000"/>
            <a:ext cx="22860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181480" y="14857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3885840" y="140940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352320" y="3085920"/>
            <a:ext cx="2362680" cy="1390680"/>
            <a:chOff x="3352320" y="3085920"/>
            <a:chExt cx="2362680" cy="1390680"/>
          </a:xfrm>
        </p:grpSpPr>
        <p:sp>
          <p:nvSpPr>
            <p:cNvPr id="103" name=""/>
            <p:cNvSpPr/>
            <p:nvPr/>
          </p:nvSpPr>
          <p:spPr>
            <a:xfrm>
              <a:off x="4216320" y="3166560"/>
              <a:ext cx="635040" cy="38268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419720" y="3388320"/>
              <a:ext cx="7596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95680" y="338832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0" y="3388320"/>
              <a:ext cx="763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0" y="326736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343400" y="3267360"/>
              <a:ext cx="76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3886200" y="4416120"/>
              <a:ext cx="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569760"/>
              <a:ext cx="0" cy="483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0" y="4053240"/>
              <a:ext cx="3808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52880" y="405324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05520" y="4355280"/>
              <a:ext cx="7596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4191120" y="4053240"/>
              <a:ext cx="38088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4038480" y="4113720"/>
              <a:ext cx="152640" cy="362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885840" y="4476600"/>
              <a:ext cx="152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3569760"/>
              <a:ext cx="533520" cy="604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05520" y="3085920"/>
              <a:ext cx="380880" cy="5439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8640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4114800" y="3630240"/>
              <a:ext cx="457200" cy="60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flipV="1">
              <a:off x="3581280" y="3086280"/>
              <a:ext cx="533520" cy="604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3352320" y="3086280"/>
              <a:ext cx="2286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3669840" y="2717640"/>
            <a:ext cx="170316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2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040" y="1816200"/>
            <a:ext cx="1066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51400" y="3720960"/>
            <a:ext cx="1142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0520" y="4788000"/>
            <a:ext cx="7683480" cy="172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perties of a good abstra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ts through many generations (portabi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d in many different ways (generalit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s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conven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functionality to high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s an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effic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mplementation at lower lev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1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E977-E2CF-45A5-B1C5-E0195A5E982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3C653B-11A5-4BA7-9C56-145516E0D2A3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1T15:15:10Z</dcterms:modified>
  <cp:revision>57</cp:revision>
  <dc:subject/>
  <dc:title>EECS 252 Graduate Computer Architecture   Lec 01 - Introduction  </dc:title>
</cp:coreProperties>
</file>