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C462A19-C440-45CC-BD89-C8EAC968500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5400" y="9148680"/>
            <a:ext cx="136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87888AFC-A640-43EB-A968-2EA887F6E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527120" y="923400"/>
            <a:ext cx="4260960" cy="31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0A9427E7-A783-4E0F-9098-947FF665A24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body"/>
          </p:nvPr>
        </p:nvSpPr>
        <p:spPr>
          <a:xfrm>
            <a:off x="550440" y="4560480"/>
            <a:ext cx="63039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ldImg"/>
          </p:nvPr>
        </p:nvSpPr>
        <p:spPr>
          <a:xfrm>
            <a:off x="1273320" y="615960"/>
            <a:ext cx="4782960" cy="3587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1st slide of the “Course Structure and Course Philosophy” section of the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mphasis that for exams, our goal is the test your knowledge. It is not our goal to test how well your perform under time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00E1BE1-4D75-4160-92AF-EEBC7C9FE56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51C2648-5B74-480F-8A01-192CBBCE6D9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6D9562F-078F-4D12-A267-63DEAF3A208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DFAE319-CA38-4302-8036-F0349DAAD41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4C556CF-9B90-4C53-B3A8-A11E2D0A0C1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211400" y="709560"/>
            <a:ext cx="4840200" cy="36306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57240" y="4576680"/>
            <a:ext cx="53467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body"/>
          </p:nvPr>
        </p:nvSpPr>
        <p:spPr>
          <a:xfrm>
            <a:off x="1338120" y="4560480"/>
            <a:ext cx="45626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nciple of locality states that programs access a relatively small portion of the address space at  any instant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ind of like in real life, we all have a lot of friends.  But at any given time most of us can  only  keep in touch with a small group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different types of locality: Temporal and Spatial. Temporal locality is the locality in time  which says if an item is referenced, it  will tend to be referenced again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like saying if you just talk to one of your friends, it is likely that you will talk to him or her again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sense. For example, if you just have lunch with a friend, you may say, let’s go to the ball game this Sunday.  So you will talk to him again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tial locality is the locality in space.  It says if an item is referenced, items whose addresses are close by tend to be referenced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using our analogy.  We can usually divide our friends into groups.  Like friends from high school, friends from work, friends from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say you just talk to one of your friends from high school and she may say something like: “So did you hear so and so just won the lotter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obably will say NO, I better give him a call and find out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is is an example of spatial locality.  You just talked to a friend from your high school days.  As a result, you end up talking to another high school friend.  Or at least in this case, you hope he still remember you are his fri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= 10 min. (X: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5D21C53-19B6-426C-AEDB-013EEABD2B3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9937029-B3F6-4B93-8E44-4CF7DFA08D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73320" y="615960"/>
            <a:ext cx="4782960" cy="3587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E5BA-5283-42A3-BA51-9E6B879C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2371-B15C-4316-8757-E2628A8A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692-35F9-4419-81FE-31A0A79D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3B79-2568-43F9-BFEE-C34254D2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479D-189F-4EDD-AB35-A01981E1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AEAE-FF0E-4C0A-8A5F-EA663883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BF6B-DD2E-4F16-BAFA-5FC0C15B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EA6E-7E8F-4488-B8E0-6FC11F28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409-0BF1-4322-9F0E-E92B9167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0AC-482C-4A67-AA3F-6B604F68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ACA3-E099-4A25-B20A-6EEB4FAC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59C2-2719-4F20-A3DC-F89C0F65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A73E-E530-4D3C-B15C-144BEC9A0F49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6E66-B502-4457-B63D-41AA06952464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t-ram.com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1 - Introduction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71080" y="4289400"/>
            <a:ext cx="6900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-inst.eecs.berkeley.edu/~cs25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8800" y="419040"/>
            <a:ext cx="303876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MIP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4560" y="1139760"/>
            <a:ext cx="1282680" cy="13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2859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4382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352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07880" y="1095480"/>
            <a:ext cx="2264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4200" y="1095480"/>
            <a:ext cx="46872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4560" y="2587680"/>
            <a:ext cx="128268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4560" y="2816280"/>
            <a:ext cx="128268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44560" y="2968560"/>
            <a:ext cx="128268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3840" y="2543040"/>
            <a:ext cx="4446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74920" y="1146240"/>
            <a:ext cx="4330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able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^32 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 x 32-bit GPRs (R0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x 32-bit FP regs (paired D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, LO,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8720" y="1187280"/>
            <a:ext cx="242568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9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typ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ing Modes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11880" y="20304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6360" y="3352680"/>
            <a:ext cx="837900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 log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,  AddU,  Sub,   SubU, And,  Or,  Xor, Nor, SLT, SLTU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, AddIU, SLTI, SLTIU, AndI, OrI, XorI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L, SRL, SRA, SLLV, SRLV, SR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B, LBU, LH, LHU, LW, LWL,LW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B, SH, SW, SWL, SW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, JAL, JR, JA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q, BNE, BLEZ,BGTZ,BLTZ,BGEZ,BLTZAL,BGEZ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54360" y="5540400"/>
            <a:ext cx="422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32-bit instructions on word 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29FB-7176-4399-9585-2AB8B79A8B5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5B94A-689F-4134-BC05-8106B39D1DEF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3200" y="401760"/>
            <a:ext cx="547056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struction Set Archit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7800" y="1126800"/>
            <a:ext cx="7988400" cy="1917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 the attributes of a [computing] system as seen by the programmer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.e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ceptual structure and functional behavior, as distinct from the organization of the data flows and controls the logic design, and the physical implementation.”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Amdahl, Blaauw, and Brooks,  196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257800" y="3098880"/>
            <a:ext cx="3581280" cy="2108160"/>
            <a:chOff x="5257800" y="3098880"/>
            <a:chExt cx="3581280" cy="2108160"/>
          </a:xfrm>
        </p:grpSpPr>
        <p:sp>
          <p:nvSpPr>
            <p:cNvPr id="146" name=""/>
            <p:cNvSpPr/>
            <p:nvPr/>
          </p:nvSpPr>
          <p:spPr>
            <a:xfrm>
              <a:off x="5791320" y="322596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64280" y="3689280"/>
              <a:ext cx="3187440" cy="1511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257800" y="3225960"/>
              <a:ext cx="5335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458200" y="3225960"/>
              <a:ext cx="380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839080" y="322596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458200" y="4673520"/>
              <a:ext cx="3808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32880" y="3098880"/>
              <a:ext cx="18694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73760" y="4756320"/>
              <a:ext cx="36828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88160" y="4680000"/>
              <a:ext cx="29196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26240" y="4070520"/>
              <a:ext cx="29232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095880" y="4673520"/>
              <a:ext cx="83844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172200" y="5054400"/>
              <a:ext cx="9144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781680" y="4140000"/>
              <a:ext cx="83844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162920" y="4368600"/>
              <a:ext cx="7617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26040" y="4146480"/>
              <a:ext cx="825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4852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080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940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772400" y="4140000"/>
              <a:ext cx="763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858000" y="48261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019920" y="4825800"/>
              <a:ext cx="2286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7480" y="4527720"/>
              <a:ext cx="2156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77320" y="46735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924680" y="4902120"/>
              <a:ext cx="15264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24680" y="505476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77320" y="4902120"/>
              <a:ext cx="1522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8153280" y="5054760"/>
              <a:ext cx="763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8001000" y="474984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848360" y="4749840"/>
              <a:ext cx="1522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848360" y="4597200"/>
              <a:ext cx="2286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07680" y="3505320"/>
            <a:ext cx="7471440" cy="27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Organization of Programm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Data Types &amp; Data Structu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dings &amp; Repres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Instruction Form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Instruction (or Operation Code)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Modes of Addressing and Accessing Data Items and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Exception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592-4E29-4B17-B5AA-877F2D00E8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76F00-A5F5-4B0A-A717-43CE0909472A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SA vs. Computer Archit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0218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 definition of computer architectu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instruction set desig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aspects of computer design called implementation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inuates implementation is uninteresting or less challeng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view is computer architecture &gt;&gt; I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’s job much more than instruction set design; technical hurdles today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llenging than those in instruction set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instruction set design not where action is, some conclude computer architecture (using old definition) is not where action 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disagree on conclu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 that ISA not where action is (ISA in CA:AQA 4/e appendi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960-E063-4AEF-8E0B-442D4050167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EC03B-5469-4845-9A1C-A3E3DEC802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15560" y="347760"/>
            <a:ext cx="716292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omp. Arch. is an Integrated Approach 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6440" y="1320480"/>
            <a:ext cx="8305920" cy="489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really matters is the functioning of the complete syste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, runtime system, compiler, operating system, and 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networking, this is called the “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nd to End argu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is not just about transistors, individual instructions, or particular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Original RISC projects replaced complex instructions with a compiler + simple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3658-7D63-4C52-942B-13D3630703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AD10E-41F8-45E4-82CF-86E2848143D6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puter Architecture is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sign and Analysi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1841760" cy="1841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397600" y="1255680"/>
            <a:ext cx="639864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chitecture is an iterative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arching the space  of possible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all levels of comput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2463840"/>
            <a:ext cx="0" cy="253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527880" y="2768760"/>
            <a:ext cx="355680" cy="177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78640" y="2997360"/>
            <a:ext cx="253800" cy="177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603480" y="3225960"/>
            <a:ext cx="279720" cy="330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64480" y="3206880"/>
            <a:ext cx="29196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936760" y="2978280"/>
            <a:ext cx="62244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50080" y="3282840"/>
            <a:ext cx="36828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64480" y="2749680"/>
            <a:ext cx="82548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461360" y="2978280"/>
            <a:ext cx="2412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02560" y="2978280"/>
            <a:ext cx="44460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784480" y="3282840"/>
            <a:ext cx="16524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78280" y="3892680"/>
            <a:ext cx="1206360" cy="1206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73560" y="4273560"/>
            <a:ext cx="749160" cy="749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11640" y="4578480"/>
            <a:ext cx="520920" cy="4442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50760" y="3448080"/>
            <a:ext cx="1622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3753000"/>
            <a:ext cx="57168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4896000"/>
            <a:ext cx="0" cy="110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4896000"/>
            <a:ext cx="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4896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19480" y="5200560"/>
            <a:ext cx="2857320" cy="114480"/>
          </a:xfrm>
          <a:prstGeom prst="roundRect">
            <a:avLst>
              <a:gd name="adj" fmla="val 1249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17960" y="5492880"/>
            <a:ext cx="1343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ood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22680" y="5823000"/>
            <a:ext cx="24530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diocre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05080" y="6013440"/>
            <a:ext cx="2360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ad Id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93840" y="4133880"/>
            <a:ext cx="16102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st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E558-8228-4FB4-833A-025975BCA12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3E0D1-84C3-46A5-8681-EA9E3DE0EE4B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Tre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F04-2255-49BC-AE8F-446EC082A5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DDAA7-825A-4072-BB4F-4BC0C0A1ED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0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:   Prof 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: 635 Soda Hall, pattrsn@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 Hours:  Tue 11 - noon or by app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act Cecilia Pracher; cpracher@ee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. 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ana Ganapathi, archanag@e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/W, 11:00 - 12:30pm    203 McLaughlin (and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 Architecture: A Quantitative Approach, 4th E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ct, 2006), Beta, distributed for free provided report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: http://www.cs/~pattrsn/courses/cs252-S06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s available online &lt;9:00 AM day of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 page: 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First reading assignment: Chapter 1 (handout) for today, Mon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Appendix A (handout) A for Wed 1/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C665-DCEB-4B49-A458-8174D48B90E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BA29A-1714-458C-82E8-2A0BD3216C75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5840" y="517320"/>
            <a:ext cx="773748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ypical Class format (after week 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8440" y="1311120"/>
            <a:ext cx="8248680" cy="32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ring questions to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Minute Review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-Minute L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 Minute Administrative Mat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-Minute Lecture/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Minute Break (water, stretc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5-Minute Discussion based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 your 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ill come to class early to answer questions, can stay after on Wednes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73880" y="1565280"/>
            <a:ext cx="0" cy="1652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49760" y="3230640"/>
            <a:ext cx="3405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488080" y="33228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14520" y="11588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72120" y="331164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20 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75480" y="3309840"/>
            <a:ext cx="135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And in </a:t>
            </a:r>
            <a:br>
              <a:rPr sz="1600"/>
            </a:b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clusio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24640" y="1916280"/>
            <a:ext cx="750600" cy="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62640" y="1903320"/>
            <a:ext cx="374760" cy="23832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26240" y="2128680"/>
            <a:ext cx="1365120" cy="7272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8078760" y="2479680"/>
            <a:ext cx="212760" cy="4017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61000" y="1816200"/>
            <a:ext cx="714240" cy="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88000" y="1803240"/>
            <a:ext cx="663840" cy="20160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238880" y="1802880"/>
            <a:ext cx="100080" cy="16380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02400" y="1728720"/>
            <a:ext cx="701640" cy="37476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8205840" y="1792440"/>
            <a:ext cx="149040" cy="27432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F18-E748-4DDC-9C6C-6D40A516191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D262E-DA81-4391-89AA-8B1059736649}" type="datetime1">
              <a:rPr lang="en-US"/>
              <a:t>07/29/26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98120" y="609480"/>
            <a:ext cx="3429000" cy="26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Quizz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58360" y="1096560"/>
            <a:ext cx="8156520" cy="534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ation causes you to systematize your understa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the pressure of taking ex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618f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2 Graded quizzes:  dates T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: test knowledge vs. speed wri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hrs to take 1.5-hr quiz (5:30-8:30 PM, TBA loc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quizzes can bring summary she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 ideas from book to p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/Faculty meet over free pizza/drinks at La Val’s after ex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5FDF-01C3-4134-8702-E603735E2A0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66392-BC66-4DBE-8D1A-7978D5446DDD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Course Focu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ing the design techniques, machine structures, technology factors, evaluation methods that will determine the form of computers in 21st Centu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45840" y="2922480"/>
            <a:ext cx="15904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24680" y="3011400"/>
            <a:ext cx="1898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62840" y="3278160"/>
            <a:ext cx="15141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56720" y="5227560"/>
            <a:ext cx="14288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pe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06040" y="5506920"/>
            <a:ext cx="1176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65640" y="5397480"/>
            <a:ext cx="11653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0880" y="3657600"/>
            <a:ext cx="1704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3809880"/>
            <a:ext cx="888840" cy="19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124080" y="5016240"/>
            <a:ext cx="368280" cy="46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54560" y="3289320"/>
            <a:ext cx="39348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86040" y="3352680"/>
            <a:ext cx="787320" cy="55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753160" y="4952520"/>
            <a:ext cx="1270080" cy="660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76360" y="3733920"/>
            <a:ext cx="1907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552720" y="3886200"/>
            <a:ext cx="3812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11480" y="5264280"/>
            <a:ext cx="3086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 algn="ctr"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asurement &amp;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70600" y="2844720"/>
            <a:ext cx="1828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Paralle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793760" y="3206880"/>
            <a:ext cx="8892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3962520"/>
            <a:ext cx="3581640" cy="75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r Architectu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rdware/Software 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31520" y="464832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mpi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553080" y="4724280"/>
            <a:ext cx="60984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232-66B3-409B-AA75-BC1FC7E3F90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86EDC-1D1D-4A04-9A71-89477B9A2B25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4D7-BBC1-4C79-BA3B-C59B4EA761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4E8D4-4606-4FEB-B81E-74C10C2DA8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Your CS25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is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tionalization and renaiss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, dependability, multi CPU vs. 1 CPU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x of lecture vs. 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s on how well reading is done before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 is to learn how to do good systems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 a lot from looking at good work in the p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commit point, you may chose to pursue your own new idea instea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4E5-EB95-4892-886F-873CF3C368B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99224-C849-49D7-BF90-CFBA6D5236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520" y="264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search Paper Re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graduate students, you are now researc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information of importance to you will be in research pa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lity to rapidly scan and understand research papers is key to your su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: you will read a few papers in this cou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ick 1 paragraph summaries and question will be due in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supplement to boo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discuss papers in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s will be scanned and on web 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13C-39B5-43A8-BEDF-1A1338B39E8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4B2A4-AF89-4297-A81B-8233EC4E372D}" type="datetime1">
              <a:rPr lang="en-US"/>
              <a:t>07/29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lated Cours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8240" y="1987560"/>
            <a:ext cx="13590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S 1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92680" y="1987560"/>
            <a:ext cx="1358640" cy="97776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S 2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58920" y="2514600"/>
            <a:ext cx="1701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16760" y="1987560"/>
            <a:ext cx="13590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S 2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64280" y="251460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92680" y="4197240"/>
            <a:ext cx="135864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S 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3240" y="3102120"/>
            <a:ext cx="288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to build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mplementation det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06560" y="3025800"/>
            <a:ext cx="1819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y, Analysi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0080" y="3025800"/>
            <a:ext cx="2732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rallel Architectur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nguages,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70440" y="5311800"/>
            <a:ext cx="4844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grated Circuit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a computer-organization view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02920" y="1978200"/>
            <a:ext cx="1490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requi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75280" y="3787920"/>
            <a:ext cx="3307320" cy="911880"/>
            <a:chOff x="575280" y="3787920"/>
            <a:chExt cx="3307320" cy="911880"/>
          </a:xfrm>
        </p:grpSpPr>
        <p:sp>
          <p:nvSpPr>
            <p:cNvPr id="272" name=""/>
            <p:cNvSpPr/>
            <p:nvPr/>
          </p:nvSpPr>
          <p:spPr>
            <a:xfrm>
              <a:off x="692280" y="3816360"/>
              <a:ext cx="303516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5280" y="3787920"/>
              <a:ext cx="33073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asic knowledge of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rganization of a 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s assumed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643-963A-499F-AD47-49C5BCC974E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8859B-64B0-468C-8C7D-B5AA156D2AA0}" type="datetime1">
              <a:rPr lang="en-US"/>
              <a:t>07/29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ping with CS 25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82120" y="1106640"/>
            <a:ext cx="787572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grads must have taken CS1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 Students with too varied backgroun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ast, CS grad students took written prelim exams on undergraduate material in hardware, software, and the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st 5 weeks reviewed background, helped 252, 262, 27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lims were dropped =&gt; some unprepared for CS 252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s without CS152 equivalent may have to work hard; Review: Appendix A, B, C; CS 152 home page, maybe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uter Organization and Design (COD) 3/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s 1 to 8 of COD if never took prerequis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ook a class, be sure COD Chapters 2, 6, 7 are famili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an loan you a cop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spend 2 lectures on review of Pipelining and Memory Hierarchy, and in class quiz to be sure everyone is up to spe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383-3C87-40B7-AA97-57E99EA5DDB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BF03C-1A96-4A55-A8D4-94F1D8154763}" type="datetime1">
              <a:rPr lang="en-US"/>
              <a:t>07/29/26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9200" y="2329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Gr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1283760"/>
            <a:ext cx="815364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% Homeworks (work in pairs) and reading writeu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% Examinations (2 Quizz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% Research Project (work in pair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tion from undergrad to grad stu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keley wants you to succeed, but you need to show initia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ck topic (more on this la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 3 times with faculty to see prog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 oral presentation or poster s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ten report like conference p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weeks work full time for 2 peo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rtunity to do “research in the small” to help make transition from good student to research colleag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% Class Particip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165-A3EC-4D5A-9E7A-BAE6ED02751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FD289-2DEA-4DC8-AD78-6AF14A9453A0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58360" y="-36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ew Project opportunity this semeste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79000" y="1168560"/>
            <a:ext cx="8426520" cy="50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PGAs as New Research Plat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~ 25 CPUs can fit in Field Programmable Gate Array (FPGA), 1000-CPU system fro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 40 FPGA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4-bit simple “soft core” RISC at 100MHz in 2004 (Virtex-I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PGA generations every 1.5 yrs; 2X CPUs, 2X clock r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W research community does logic design (“gate shareware”) to create out-of-the-box, Massively Parallel Processor runs standard binaries of OS, ap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eware: Processors, Caches, Coherency, Ethernet Interfaces, Switches, Routers, …  (IBM, Sun have donated processo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1000 processor, IBM Power binary-compatible, cache-coherent supercomputer @ 200 MHz; fast enough for resea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3C3C-7107-464D-AB99-59566B3F1B4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F307D-60AC-4010-8498-F70222EDF027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ce goal is to ramp up research in multiprocessing, called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earch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elerator for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tiple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ess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more, read “RAMP: Research Accelerator for Multiple Processors - A Community Vision for a Shared Experimental Parallel HW/SW Platform,” Technical Report UCB//CSD-05-1412, Sept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page ramp.eecs.berkeley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AD1-275B-4C7D-BDB8-79A741E5159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E9E7C-8E3E-42B9-8219-12B36A5360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Why RAMP Good for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Arial"/>
              </a:rPr>
              <a:t>Research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? 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1066680"/>
          <a:ext cx="9067680" cy="5757840"/>
        </p:xfrm>
        <a:graphic>
          <a:graphicData uri="http://schemas.openxmlformats.org/drawingml/2006/table">
            <a:tbl>
              <a:tblPr/>
              <a:tblGrid>
                <a:gridCol w="2666880"/>
                <a:gridCol w="1600200"/>
                <a:gridCol w="1447920"/>
                <a:gridCol w="1447920"/>
                <a:gridCol w="190476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0 CP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40M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2M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0M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0.1M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of own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/Space</a:t>
                      </a:r>
                      <a:br>
                        <a:rPr sz="18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ilowatts, rack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0 kw, 12 rack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0 kw, 12 rack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1 kw, 0.1 racks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 kw, 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 racks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oduc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.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lock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2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2664000" y="1420920"/>
            <a:ext cx="1574640" cy="60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214880" y="1886040"/>
            <a:ext cx="1574640" cy="1768320"/>
            <a:chOff x="4214880" y="1886040"/>
            <a:chExt cx="1574640" cy="1768320"/>
          </a:xfrm>
        </p:grpSpPr>
        <p:sp>
          <p:nvSpPr>
            <p:cNvPr id="286" name=""/>
            <p:cNvSpPr/>
            <p:nvPr/>
          </p:nvSpPr>
          <p:spPr>
            <a:xfrm>
              <a:off x="4255920" y="1886040"/>
              <a:ext cx="1478160" cy="60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14880" y="2992320"/>
              <a:ext cx="1574640" cy="6620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708520" y="5459400"/>
            <a:ext cx="1474920" cy="911160"/>
            <a:chOff x="5708520" y="5459400"/>
            <a:chExt cx="1474920" cy="911160"/>
          </a:xfrm>
        </p:grpSpPr>
        <p:sp>
          <p:nvSpPr>
            <p:cNvPr id="289" name=""/>
            <p:cNvSpPr/>
            <p:nvPr/>
          </p:nvSpPr>
          <p:spPr>
            <a:xfrm>
              <a:off x="5708520" y="5459400"/>
              <a:ext cx="1459080" cy="4492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24360" y="5921280"/>
              <a:ext cx="1459080" cy="4492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267680" y="5872320"/>
            <a:ext cx="1579320" cy="985680"/>
            <a:chOff x="7267680" y="5872320"/>
            <a:chExt cx="1579320" cy="985680"/>
          </a:xfrm>
        </p:grpSpPr>
        <p:sp>
          <p:nvSpPr>
            <p:cNvPr id="292" name=""/>
            <p:cNvSpPr/>
            <p:nvPr/>
          </p:nvSpPr>
          <p:spPr>
            <a:xfrm>
              <a:off x="7272360" y="5872320"/>
              <a:ext cx="1574640" cy="447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67680" y="6372360"/>
              <a:ext cx="1574640" cy="485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8AD4-AF65-4B7A-AE27-D62F5033FBD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B48F1-D6B5-4DC6-AF17-C4AD807C607E}" type="datetime1">
              <a:rPr lang="en-US"/>
              <a:t>07/29/26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276720" y="2325600"/>
            <a:ext cx="5715000" cy="36943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04920" y="14479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d Dec. 2004 (14x17 inch 22-layer PC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1905120"/>
            <a:ext cx="30477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PGAs, memory, 10GigE co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ct Fl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nistration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 por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/100 E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DMI/D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4K/module w/o FPGAs or 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3000" y="279360"/>
            <a:ext cx="8229600" cy="7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1 Hardwa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6080" y="6095880"/>
            <a:ext cx="75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d “BEE2” for Berkeley Emulation Engi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428E-E3CD-4A47-857A-ECA1F82A6F0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69137-CE6F-444D-BB6C-DA1F0676675E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37480" y="397800"/>
            <a:ext cx="8093880" cy="6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ultiple Module RAMP 1 System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0720" y="3809880"/>
            <a:ext cx="6026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compute modules (plus power supplies) in 8U rack mount chas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-1000 emulated process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topologies 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U single module tray for develo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storage: disk emulator + Network Attached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ATXBlade"/>
          <p:cNvPicPr/>
          <p:nvPr/>
        </p:nvPicPr>
        <p:blipFill>
          <a:blip r:embed="rId1"/>
          <a:stretch/>
        </p:blipFill>
        <p:spPr>
          <a:xfrm>
            <a:off x="1371600" y="1447920"/>
            <a:ext cx="3114720" cy="23763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6019920" y="1523880"/>
            <a:ext cx="2273040" cy="30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CEA-D911-47A0-8BD8-530062FEB7F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B98A2-2B1B-4391-8542-05C0C62CB67B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28376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onventional Wisdom: Power is free, Transistors expens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ventional Wisdom: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“Power wal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wer expensive, Xtors fre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an put more on chip than can afford to turn 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W: Sufficiently increasing Instruction Level Parallelism via compilers, innovation (Out-of-order, speculation, VLIW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W: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“ILP wal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aw of diminishing returns on more HW for IL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W: Multiplies are slow, Memory access is f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W: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“Memory wal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emory slow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ies fa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200 clock cycles to DRAM memory, 4 clocks for multipl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W: Uniprocessor performance 2X / 1.5 y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W: Power Wall + ILP Wall + Memory Wall =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rick Wa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processor performance now 2X / 5(?) y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 change in chip design: multiple “cores”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X processors per chip / ~ 2 yea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simpler processors are more power effic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85760" y="17424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rossroads: Conventional Wisdom in Comp. Arch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2DC-3ECE-4CDE-9643-D8A4A14CBA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79638-4DD6-4544-BCEA-4B9D5F2263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4360" y="16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ision: Multiprocessing Watering Ho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4190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attracts many communities to shared artifa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ross-disciplinary interac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lerate innovation in multiproc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as next Standard Research Platform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.g., VAX/BSD Unix in 1980s, x86/Linux in 1990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943600" cy="1598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276720" y="2573280"/>
            <a:ext cx="1828800" cy="398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Elephant"/>
              </a:rPr>
              <a:t>R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2720" y="297180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 fil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18720" y="320040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d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99960" y="3429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rocessor switch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81560" y="3657600"/>
            <a:ext cx="39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ult insertion to check depend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90760" y="298620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enter in a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41200" y="321480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nternet in a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24560" y="2971800"/>
            <a:ext cx="30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flow language/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75400" y="321480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enhanc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5600" y="3429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er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44200" y="34290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ile to FP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20040" y="367200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C52C-B583-4141-8CCD-D505E8F14D6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269A9-B657-400F-AA77-BB610246A1B5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09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upporters </a:t>
            </a:r>
            <a:r>
              <a:rPr b="1" i="1" lang="en-US" sz="2000" spc="-1" strike="noStrike">
                <a:solidFill>
                  <a:srgbClr val="0332b7"/>
                </a:solidFill>
                <a:latin typeface="Arial"/>
              </a:rPr>
              <a:t>(wrote letters to NSF) &amp; </a:t>
            </a: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articipan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1165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rdon Bell  (Microsof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o Bolsens  (Xilinx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 Jouppi  (HP Lab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 Kramer  (NERSC/LB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ig Mundie  (MS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. Papadopoulos  (Sun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in Rattner  (Intel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an Sutherland  (Sun Fello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uck Thacker  (Microsoft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s Vissers  (Xilin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38240" y="10890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g Burger  (Tex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 Dally  (Stanfor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l Ebeling  (Washingt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an Eggers  (Washingt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ve Keckler  (Tex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g Morrisett  (Harvar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tt Shenker  (Berkele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on Stoica  (Berkele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hy Yelick  (Berkele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50990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Participants: </a:t>
            </a: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Arvind  (MIT), Krste Asanovíc (MIT), </a:t>
            </a:r>
            <a:br>
              <a:rPr sz="2000"/>
            </a:b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Derek Chiou  (Texas), James Hoe  (CMU), Christos Kozyrakis  (Stanford), Shih-Lien Lu  (Intel), Mark Oskin  (Washington), David Patterson (Berkeley), Jan Rabaey  (Berkeley), and John Wawrzynek (Berkel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B906-D0E5-4E72-8729-2AC27848BAA1}" type="slidenum">
              <a:t>3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B2A98-1CFE-49AD-AACE-0C931F7E3787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AMP as system-level time machine: preview computers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f future to accelerate HW/SW generat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anything, Reproduce everything, Tape out every 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TP new supercomputer overnight and boot in mor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ne to check results (as fast in Berkeley as in Boston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ulate Massive Multiprocessor, Data Center, or Distributed Comp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rpe Diem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s researchers (HW &amp; SW) need the cap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GA technology is ready today, and getting better every ye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 on shoulders vs. toes: standardize on multi-year Berkeley effort on FPGA platform Berkeley Emulation Engine 2 (BEE2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tecture researchers get opportunity to immediately aid colleagues via gateware (as SW researchers have done in pas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ramp.eecs.berkeley.ed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sion “Multiprocessor Research Watering Hole” accelerate research in multiprocessing via standard research platform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hasten sea change from sequential to parallel computing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1676160" y="114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Summa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203D-F18D-446A-8A92-FE0D6757570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1991A-CE7B-4893-85A1-5091825D6B37}" type="datetime1">
              <a:rPr lang="en-US"/>
              <a:t>07/29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projects for CS 25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a of guest timing accounting strate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 to be able specify performance parameters (clock rate, memory latency, network latency, 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must accurately account for guest clock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want to slow down host execution time very mu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 disk emulator for use in RA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itates disk, accesses network attached storage for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ed after guest VM/driver VM from Xen VM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 cluster using components from opencores.org on BEE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source hardware consorti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 emulator of an “Internet in a Box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mulab/Planetlab in a box is closer to rea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29B-5835-4159-A0C3-F9EB8271782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05CF4-4CBB-46AC-8C37-54A1CE4393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ther projec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reate results from research paper to s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y are reproduc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y still ho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valuation of Niagara, new 8 core, 4 threads per core chip from S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 your own research project that is related to computer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5DE4-F379-48C7-ACCC-E3CEEAC0361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65C9E-85A1-4A79-B710-B9547BB58F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D75A-8497-47BA-B935-CA725AF2F23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7F662-15B1-43F4-8871-D27D56D41B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85664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What Computer Architecture brings to Table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98040" y="1092240"/>
            <a:ext cx="798516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ields often borrow ideas from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rinciples of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Advantage of Paralleli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 of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on the Common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dahl’s La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cessor Performance Eq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well-defined interfaces that are carefully implemented and thoroughly che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460A-7F86-4883-A54B-65164E47DE5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9F733-E735-4570-B7D5-539EADAF10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1) Taking Advantage of Parallelism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98400" y="1193400"/>
            <a:ext cx="79790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throughput of server computer via multiple processors or multiple d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HW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Carry lookahead add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es parallelism to speed up computing sums from linear to logarithmic in number of bits per oper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Multiple memory ban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earched in parallel in set-associative ca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Pipeli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overlap instruction execution to reduce the total time to complete an instruction seque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every instruction depends on immediate predecesso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executing instructions completely/partially in parallel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 5-stage pipeline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Instruction Fetch (Ifetch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Register Read (Reg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Execute (ALU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Data Memory Access (Dmem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Register Write (Re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0A2-82D7-46CB-9C8E-EAEE3742D85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5EBE7-5716-46AD-977D-27740D5978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96880" y="228240"/>
            <a:ext cx="7556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ipelined Instruction Execu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8920" y="1279440"/>
            <a:ext cx="7607160" cy="4969080"/>
            <a:chOff x="538920" y="1279440"/>
            <a:chExt cx="7607160" cy="4969080"/>
          </a:xfrm>
        </p:grpSpPr>
        <p:sp>
          <p:nvSpPr>
            <p:cNvPr id="336" name=""/>
            <p:cNvSpPr/>
            <p:nvPr/>
          </p:nvSpPr>
          <p:spPr>
            <a:xfrm>
              <a:off x="538920" y="2209680"/>
              <a:ext cx="34920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2286000"/>
              <a:ext cx="0" cy="302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14600" y="1279440"/>
              <a:ext cx="237492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ime (clock cyc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57480" y="1314360"/>
              <a:ext cx="144756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95280" y="1676520"/>
              <a:ext cx="657864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752480" y="2286000"/>
              <a:ext cx="3863160" cy="699840"/>
              <a:chOff x="1752480" y="2286000"/>
              <a:chExt cx="3863160" cy="69984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2684880" y="2450880"/>
                <a:ext cx="448920" cy="370080"/>
                <a:chOff x="2684880" y="2450880"/>
                <a:chExt cx="448920" cy="37008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2684880" y="2450880"/>
                  <a:ext cx="448920" cy="370080"/>
                  <a:chOff x="2684880" y="2450880"/>
                  <a:chExt cx="448920" cy="37008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2909520" y="24508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684880" y="24508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2701080" y="2489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3135960" y="25257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135960" y="27460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3542040" y="2341440"/>
                <a:ext cx="404280" cy="588960"/>
                <a:chOff x="3542040" y="2341440"/>
                <a:chExt cx="404280" cy="588960"/>
              </a:xfrm>
            </p:grpSpPr>
            <p:sp>
              <p:nvSpPr>
                <p:cNvPr id="350" name=""/>
                <p:cNvSpPr/>
                <p:nvPr/>
              </p:nvSpPr>
              <p:spPr>
                <a:xfrm rot="16200000">
                  <a:off x="3462120" y="24462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rot="5400000">
                  <a:off x="3548160" y="25344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rot="5400000">
                  <a:off x="3561480" y="25578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rot="16200000">
                  <a:off x="3593880" y="24786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3950640" y="26366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10320" y="263664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4253040" y="2452680"/>
                <a:ext cx="592200" cy="368280"/>
                <a:chOff x="4253040" y="2452680"/>
                <a:chExt cx="592200" cy="3682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43279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253040" y="2491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9" name=""/>
              <p:cNvSpPr/>
              <p:nvPr/>
            </p:nvSpPr>
            <p:spPr>
              <a:xfrm>
                <a:off x="4267440" y="26366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17960" y="27478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157120" y="25257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752480" y="2452680"/>
                <a:ext cx="557280" cy="368280"/>
                <a:chOff x="1752480" y="2452680"/>
                <a:chExt cx="557280" cy="36828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061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752480" y="2491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2398320" y="2286000"/>
                <a:ext cx="2634480" cy="699840"/>
                <a:chOff x="2398320" y="2286000"/>
                <a:chExt cx="2634480" cy="69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3246480" y="22860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94208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39832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094280" y="22899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5163120" y="2438280"/>
                <a:ext cx="452520" cy="369720"/>
                <a:chOff x="5163120" y="2438280"/>
                <a:chExt cx="452520" cy="36972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5163120" y="2438280"/>
                  <a:ext cx="452520" cy="369720"/>
                  <a:chOff x="5163120" y="2438280"/>
                  <a:chExt cx="452520" cy="3697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>
                    <a:off x="5163120" y="24382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>
                    <a:off x="5162760" y="24382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4" name=""/>
                <p:cNvSpPr/>
                <p:nvPr/>
              </p:nvSpPr>
              <p:spPr>
                <a:xfrm flipH="1">
                  <a:off x="5182920" y="2476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5" name=""/>
            <p:cNvGrpSpPr/>
            <p:nvPr/>
          </p:nvGrpSpPr>
          <p:grpSpPr>
            <a:xfrm>
              <a:off x="2606760" y="3200400"/>
              <a:ext cx="3862800" cy="699840"/>
              <a:chOff x="2606760" y="3200400"/>
              <a:chExt cx="3862800" cy="69984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3539160" y="3365280"/>
                <a:ext cx="448920" cy="370080"/>
                <a:chOff x="3539160" y="3365280"/>
                <a:chExt cx="448920" cy="370080"/>
              </a:xfrm>
            </p:grpSpPr>
            <p:grpSp>
              <p:nvGrpSpPr>
                <p:cNvPr id="377" name=""/>
                <p:cNvGrpSpPr/>
                <p:nvPr/>
              </p:nvGrpSpPr>
              <p:grpSpPr>
                <a:xfrm>
                  <a:off x="3539160" y="3365280"/>
                  <a:ext cx="448920" cy="370080"/>
                  <a:chOff x="3539160" y="3365280"/>
                  <a:chExt cx="448920" cy="37008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3763800" y="33652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3539160" y="33652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0" name=""/>
                <p:cNvSpPr/>
                <p:nvPr/>
              </p:nvSpPr>
              <p:spPr>
                <a:xfrm>
                  <a:off x="3555360" y="3403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3990240" y="34401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990240" y="36604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3" name=""/>
              <p:cNvGrpSpPr/>
              <p:nvPr/>
            </p:nvGrpSpPr>
            <p:grpSpPr>
              <a:xfrm>
                <a:off x="4395960" y="3255840"/>
                <a:ext cx="404280" cy="588960"/>
                <a:chOff x="4395960" y="3255840"/>
                <a:chExt cx="404280" cy="588960"/>
              </a:xfrm>
            </p:grpSpPr>
            <p:sp>
              <p:nvSpPr>
                <p:cNvPr id="384" name=""/>
                <p:cNvSpPr/>
                <p:nvPr/>
              </p:nvSpPr>
              <p:spPr>
                <a:xfrm rot="16200000">
                  <a:off x="4316040" y="33606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5400000">
                  <a:off x="4402080" y="34488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rot="5400000">
                  <a:off x="4415400" y="34722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rot="16200000">
                  <a:off x="4447800" y="33930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4804560" y="35510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664240" y="355104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5106960" y="3367080"/>
                <a:ext cx="592200" cy="368280"/>
                <a:chOff x="5106960" y="3367080"/>
                <a:chExt cx="592200" cy="3682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5181840" y="336708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106960" y="34056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5121720" y="35510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072240" y="36622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011400" y="34401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606760" y="3367080"/>
                <a:ext cx="557280" cy="368280"/>
                <a:chOff x="2606760" y="3367080"/>
                <a:chExt cx="557280" cy="3682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660400" y="33670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606760" y="34056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3252600" y="3200400"/>
                <a:ext cx="2634480" cy="699840"/>
                <a:chOff x="3252600" y="3200400"/>
                <a:chExt cx="2634480" cy="69984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4100760" y="32004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79636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25260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948560" y="32043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6017040" y="3352680"/>
                <a:ext cx="452520" cy="369720"/>
                <a:chOff x="6017040" y="3352680"/>
                <a:chExt cx="452520" cy="36972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6017040" y="3352680"/>
                  <a:ext cx="452520" cy="369720"/>
                  <a:chOff x="6017040" y="3352680"/>
                  <a:chExt cx="452520" cy="36972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H="1">
                    <a:off x="6017040" y="33526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>
                    <a:off x="6016680" y="33526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8" name=""/>
                <p:cNvSpPr/>
                <p:nvPr/>
              </p:nvSpPr>
              <p:spPr>
                <a:xfrm flipH="1">
                  <a:off x="6036840" y="33912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9" name=""/>
            <p:cNvGrpSpPr/>
            <p:nvPr/>
          </p:nvGrpSpPr>
          <p:grpSpPr>
            <a:xfrm>
              <a:off x="3444840" y="4038480"/>
              <a:ext cx="3862800" cy="699840"/>
              <a:chOff x="3444840" y="4038480"/>
              <a:chExt cx="3862800" cy="69984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4377240" y="4203360"/>
                <a:ext cx="448920" cy="370080"/>
                <a:chOff x="4377240" y="4203360"/>
                <a:chExt cx="448920" cy="370080"/>
              </a:xfrm>
            </p:grpSpPr>
            <p:grpSp>
              <p:nvGrpSpPr>
                <p:cNvPr id="411" name=""/>
                <p:cNvGrpSpPr/>
                <p:nvPr/>
              </p:nvGrpSpPr>
              <p:grpSpPr>
                <a:xfrm>
                  <a:off x="4377240" y="4203360"/>
                  <a:ext cx="448920" cy="370080"/>
                  <a:chOff x="4377240" y="4203360"/>
                  <a:chExt cx="448920" cy="37008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4601880" y="420336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377240" y="420336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4393440" y="42418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4828320" y="427824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828320" y="44985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5234040" y="4093920"/>
                <a:ext cx="404280" cy="588960"/>
                <a:chOff x="5234040" y="4093920"/>
                <a:chExt cx="404280" cy="588960"/>
              </a:xfrm>
            </p:grpSpPr>
            <p:sp>
              <p:nvSpPr>
                <p:cNvPr id="418" name=""/>
                <p:cNvSpPr/>
                <p:nvPr/>
              </p:nvSpPr>
              <p:spPr>
                <a:xfrm rot="16200000">
                  <a:off x="5154120" y="419868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rot="5400000">
                  <a:off x="5240160" y="428688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rot="5400000">
                  <a:off x="5253480" y="431028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rot="16200000">
                  <a:off x="5285880" y="423108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>
                <a:off x="5642640" y="438912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502320" y="438912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5945040" y="4205160"/>
                <a:ext cx="592200" cy="368280"/>
                <a:chOff x="5945040" y="4205160"/>
                <a:chExt cx="592200" cy="3682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019920" y="420516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945040" y="42436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5959800" y="438912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910320" y="450036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49480" y="427824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3444840" y="4205160"/>
                <a:ext cx="557280" cy="368280"/>
                <a:chOff x="3444840" y="4205160"/>
                <a:chExt cx="557280" cy="3682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3498480" y="420516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444840" y="42436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4090680" y="4038480"/>
                <a:ext cx="2634480" cy="699840"/>
                <a:chOff x="4090680" y="4038480"/>
                <a:chExt cx="2634480" cy="6998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938840" y="403848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63444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09068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786640" y="404244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6855120" y="4190760"/>
                <a:ext cx="452520" cy="369720"/>
                <a:chOff x="6855120" y="4190760"/>
                <a:chExt cx="452520" cy="36972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6855120" y="4190760"/>
                  <a:ext cx="452520" cy="369720"/>
                  <a:chOff x="6855120" y="4190760"/>
                  <a:chExt cx="452520" cy="36972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flipH="1">
                    <a:off x="6855120" y="419076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>
                    <a:off x="6854760" y="419076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2" name=""/>
                <p:cNvSpPr/>
                <p:nvPr/>
              </p:nvSpPr>
              <p:spPr>
                <a:xfrm flipH="1">
                  <a:off x="6874920" y="4229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3" name=""/>
            <p:cNvGrpSpPr/>
            <p:nvPr/>
          </p:nvGrpSpPr>
          <p:grpSpPr>
            <a:xfrm>
              <a:off x="4282920" y="4876920"/>
              <a:ext cx="3863160" cy="699840"/>
              <a:chOff x="4282920" y="4876920"/>
              <a:chExt cx="3863160" cy="69984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5215320" y="5041800"/>
                <a:ext cx="448920" cy="370080"/>
                <a:chOff x="5215320" y="5041800"/>
                <a:chExt cx="448920" cy="370080"/>
              </a:xfrm>
            </p:grpSpPr>
            <p:grpSp>
              <p:nvGrpSpPr>
                <p:cNvPr id="445" name=""/>
                <p:cNvGrpSpPr/>
                <p:nvPr/>
              </p:nvGrpSpPr>
              <p:grpSpPr>
                <a:xfrm>
                  <a:off x="5215320" y="5041800"/>
                  <a:ext cx="448920" cy="370080"/>
                  <a:chOff x="5215320" y="5041800"/>
                  <a:chExt cx="448920" cy="37008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5439960" y="504180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215320" y="504180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8" name=""/>
                <p:cNvSpPr/>
                <p:nvPr/>
              </p:nvSpPr>
              <p:spPr>
                <a:xfrm>
                  <a:off x="5231520" y="50803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9" name=""/>
              <p:cNvSpPr/>
              <p:nvPr/>
            </p:nvSpPr>
            <p:spPr>
              <a:xfrm>
                <a:off x="5666400" y="51166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666400" y="533700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6072480" y="4932360"/>
                <a:ext cx="404280" cy="588960"/>
                <a:chOff x="6072480" y="4932360"/>
                <a:chExt cx="404280" cy="588960"/>
              </a:xfrm>
            </p:grpSpPr>
            <p:sp>
              <p:nvSpPr>
                <p:cNvPr id="452" name=""/>
                <p:cNvSpPr/>
                <p:nvPr/>
              </p:nvSpPr>
              <p:spPr>
                <a:xfrm rot="16200000">
                  <a:off x="5992560" y="503712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5400000">
                  <a:off x="6078600" y="512532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5400000">
                  <a:off x="6091920" y="514872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rot="16200000">
                  <a:off x="6124320" y="50695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6481080" y="522756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340760" y="522756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6783480" y="5043600"/>
                <a:ext cx="592200" cy="368280"/>
                <a:chOff x="6783480" y="5043600"/>
                <a:chExt cx="592200" cy="3682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68583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83480" y="508212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>
                <a:off x="6797880" y="522756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748400" y="533880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687560" y="511668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4" name=""/>
              <p:cNvGrpSpPr/>
              <p:nvPr/>
            </p:nvGrpSpPr>
            <p:grpSpPr>
              <a:xfrm>
                <a:off x="4282920" y="5043600"/>
                <a:ext cx="557280" cy="368280"/>
                <a:chOff x="4282920" y="5043600"/>
                <a:chExt cx="557280" cy="36828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43365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282920" y="508212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4928760" y="4876920"/>
                <a:ext cx="2634480" cy="699840"/>
                <a:chOff x="4928760" y="4876920"/>
                <a:chExt cx="2634480" cy="6998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776920" y="487692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47252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92876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624720" y="488088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693560" y="5029200"/>
                <a:ext cx="452520" cy="369720"/>
                <a:chOff x="7693560" y="5029200"/>
                <a:chExt cx="452520" cy="369720"/>
              </a:xfrm>
            </p:grpSpPr>
            <p:grpSp>
              <p:nvGrpSpPr>
                <p:cNvPr id="473" name=""/>
                <p:cNvGrpSpPr/>
                <p:nvPr/>
              </p:nvGrpSpPr>
              <p:grpSpPr>
                <a:xfrm>
                  <a:off x="7693560" y="5029200"/>
                  <a:ext cx="452520" cy="369720"/>
                  <a:chOff x="7693560" y="5029200"/>
                  <a:chExt cx="452520" cy="3697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H="1">
                    <a:off x="7693560" y="502920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>
                    <a:off x="7693200" y="502920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6" name=""/>
                <p:cNvSpPr/>
                <p:nvPr/>
              </p:nvSpPr>
              <p:spPr>
                <a:xfrm flipH="1">
                  <a:off x="7713360" y="50677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7" name=""/>
            <p:cNvSpPr/>
            <p:nvPr/>
          </p:nvSpPr>
          <p:spPr>
            <a:xfrm>
              <a:off x="2438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76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14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67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528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05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002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807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9688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61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1120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44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8304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5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479-D533-4007-950E-9BC7D5000C4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219B2-2E79-43F7-A52A-7D24FAC4ADA7}" type="datetime1">
              <a:rPr lang="en-US"/>
              <a:t>07/29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pipelining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83720" y="1347840"/>
            <a:ext cx="7734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aza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vent next instruction from executing during its designated clock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tructura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ttempt to use the same hardware to do two different things at o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Data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nstruction depends on result of prior instruction still in the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Contro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aused by delay between the fetching of instructions and decisions about changes in control flow (branches and jumps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33200" y="4390920"/>
            <a:ext cx="292680" cy="20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227400" y="4425840"/>
            <a:ext cx="0" cy="1390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32480" y="3808440"/>
            <a:ext cx="2304720" cy="33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359160" y="3979800"/>
            <a:ext cx="1006560" cy="13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386160" y="4146480"/>
            <a:ext cx="457056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619080" y="4353840"/>
            <a:ext cx="2826000" cy="435240"/>
            <a:chOff x="3619080" y="4353840"/>
            <a:chExt cx="2826000" cy="435240"/>
          </a:xfrm>
        </p:grpSpPr>
        <p:grpSp>
          <p:nvGrpSpPr>
            <p:cNvPr id="500" name=""/>
            <p:cNvGrpSpPr/>
            <p:nvPr/>
          </p:nvGrpSpPr>
          <p:grpSpPr>
            <a:xfrm>
              <a:off x="4300200" y="4455000"/>
              <a:ext cx="420120" cy="246240"/>
              <a:chOff x="4300200" y="4455000"/>
              <a:chExt cx="420120" cy="24624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4352040" y="4503240"/>
                <a:ext cx="311760" cy="169920"/>
                <a:chOff x="4352040" y="4503240"/>
                <a:chExt cx="311760" cy="1699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4507920" y="4503240"/>
                  <a:ext cx="15588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352040" y="4503240"/>
                  <a:ext cx="31176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4300200" y="44550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4664520" y="453744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64520" y="463860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4946760" y="4353840"/>
              <a:ext cx="310680" cy="435240"/>
              <a:chOff x="4946760" y="4353840"/>
              <a:chExt cx="310680" cy="435240"/>
            </a:xfrm>
          </p:grpSpPr>
          <p:sp>
            <p:nvSpPr>
              <p:cNvPr id="508" name=""/>
              <p:cNvSpPr/>
              <p:nvPr/>
            </p:nvSpPr>
            <p:spPr>
              <a:xfrm rot="16200000">
                <a:off x="4960440" y="4455720"/>
                <a:ext cx="270720" cy="264240"/>
              </a:xfrm>
              <a:custGeom>
                <a:avLst/>
                <a:gdLst>
                  <a:gd name="textAreaLeft" fmla="*/ 59400 w 270720"/>
                  <a:gd name="textAreaRight" fmla="*/ 211320 w 27072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5400000">
                <a:off x="4973400" y="4516920"/>
                <a:ext cx="8748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5400000">
                <a:off x="4979520" y="4533120"/>
                <a:ext cx="7668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6200000">
                <a:off x="4916520" y="444816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5230440" y="458820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27320" y="458820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5349960" y="4455000"/>
              <a:ext cx="592200" cy="246240"/>
              <a:chOff x="5349960" y="4455000"/>
              <a:chExt cx="592200" cy="246240"/>
            </a:xfrm>
          </p:grpSpPr>
          <p:sp>
            <p:nvSpPr>
              <p:cNvPr id="515" name=""/>
              <p:cNvSpPr/>
              <p:nvPr/>
            </p:nvSpPr>
            <p:spPr>
              <a:xfrm>
                <a:off x="5492160" y="4503600"/>
                <a:ext cx="31392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349960" y="44550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5450400" y="4588200"/>
              <a:ext cx="468360" cy="13500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26960" y="463932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984480" y="453744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3619080" y="4455000"/>
              <a:ext cx="557280" cy="246240"/>
              <a:chOff x="3619080" y="4455000"/>
              <a:chExt cx="557280" cy="246240"/>
            </a:xfrm>
          </p:grpSpPr>
          <p:sp>
            <p:nvSpPr>
              <p:cNvPr id="521" name=""/>
              <p:cNvSpPr/>
              <p:nvPr/>
            </p:nvSpPr>
            <p:spPr>
              <a:xfrm>
                <a:off x="3740760" y="4503600"/>
                <a:ext cx="31356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619080" y="44550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4152240" y="4427280"/>
              <a:ext cx="1829880" cy="321480"/>
              <a:chOff x="4152240" y="4427280"/>
              <a:chExt cx="1829880" cy="321480"/>
            </a:xfrm>
          </p:grpSpPr>
          <p:sp>
            <p:nvSpPr>
              <p:cNvPr id="524" name=""/>
              <p:cNvSpPr/>
              <p:nvPr/>
            </p:nvSpPr>
            <p:spPr>
              <a:xfrm>
                <a:off x="4741200" y="44272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919120" y="44272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152240" y="44272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330160" y="4429080"/>
                <a:ext cx="61920" cy="3171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6024960" y="4448880"/>
              <a:ext cx="420120" cy="246240"/>
              <a:chOff x="6024960" y="4448880"/>
              <a:chExt cx="420120" cy="24624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6082920" y="4497120"/>
                <a:ext cx="314280" cy="169920"/>
                <a:chOff x="6082920" y="4497120"/>
                <a:chExt cx="314280" cy="169920"/>
              </a:xfrm>
            </p:grpSpPr>
            <p:sp>
              <p:nvSpPr>
                <p:cNvPr id="530" name=""/>
                <p:cNvSpPr/>
                <p:nvPr/>
              </p:nvSpPr>
              <p:spPr>
                <a:xfrm flipH="1">
                  <a:off x="6082920" y="4497120"/>
                  <a:ext cx="15696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>
                  <a:off x="6082560" y="4497120"/>
                  <a:ext cx="31428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 flipH="1">
                <a:off x="6024600" y="44488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"/>
          <p:cNvGrpSpPr/>
          <p:nvPr/>
        </p:nvGrpSpPr>
        <p:grpSpPr>
          <a:xfrm>
            <a:off x="4211280" y="4773600"/>
            <a:ext cx="2827440" cy="435240"/>
            <a:chOff x="4211280" y="4773600"/>
            <a:chExt cx="2827440" cy="435240"/>
          </a:xfrm>
        </p:grpSpPr>
        <p:grpSp>
          <p:nvGrpSpPr>
            <p:cNvPr id="534" name=""/>
            <p:cNvGrpSpPr/>
            <p:nvPr/>
          </p:nvGrpSpPr>
          <p:grpSpPr>
            <a:xfrm>
              <a:off x="4893120" y="4874760"/>
              <a:ext cx="420120" cy="246240"/>
              <a:chOff x="4893120" y="4874760"/>
              <a:chExt cx="420120" cy="24624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4944600" y="4922640"/>
                <a:ext cx="312120" cy="170280"/>
                <a:chOff x="4944600" y="4922640"/>
                <a:chExt cx="312120" cy="1702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5100840" y="4922640"/>
                  <a:ext cx="155880" cy="16848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944600" y="4922640"/>
                  <a:ext cx="312120" cy="1702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4893120" y="48747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5257440" y="495684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7440" y="505872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539680" y="4773600"/>
              <a:ext cx="310680" cy="435240"/>
              <a:chOff x="5539680" y="4773600"/>
              <a:chExt cx="310680" cy="435240"/>
            </a:xfrm>
          </p:grpSpPr>
          <p:sp>
            <p:nvSpPr>
              <p:cNvPr id="542" name=""/>
              <p:cNvSpPr/>
              <p:nvPr/>
            </p:nvSpPr>
            <p:spPr>
              <a:xfrm rot="16200000">
                <a:off x="5552640" y="4875120"/>
                <a:ext cx="271800" cy="264240"/>
              </a:xfrm>
              <a:custGeom>
                <a:avLst/>
                <a:gdLst>
                  <a:gd name="textAreaLeft" fmla="*/ 59760 w 271800"/>
                  <a:gd name="textAreaRight" fmla="*/ 212040 w 27180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5400000">
                <a:off x="5566320" y="4936680"/>
                <a:ext cx="8748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5400000">
                <a:off x="5572440" y="4953240"/>
                <a:ext cx="7704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6200000">
                <a:off x="5509440" y="48679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5823360" y="500832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20960" y="500832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945040" y="4874760"/>
              <a:ext cx="592200" cy="246240"/>
              <a:chOff x="5945040" y="4874760"/>
              <a:chExt cx="592200" cy="246240"/>
            </a:xfrm>
          </p:grpSpPr>
          <p:sp>
            <p:nvSpPr>
              <p:cNvPr id="549" name=""/>
              <p:cNvSpPr/>
              <p:nvPr/>
            </p:nvSpPr>
            <p:spPr>
              <a:xfrm>
                <a:off x="6086160" y="4923000"/>
                <a:ext cx="313560" cy="169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5040" y="487476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6043680" y="5008320"/>
              <a:ext cx="468720" cy="1353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19160" y="505944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77040" y="495684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4211280" y="4874760"/>
              <a:ext cx="557280" cy="246240"/>
              <a:chOff x="4211280" y="4874760"/>
              <a:chExt cx="557280" cy="246240"/>
            </a:xfrm>
          </p:grpSpPr>
          <p:sp>
            <p:nvSpPr>
              <p:cNvPr id="555" name=""/>
              <p:cNvSpPr/>
              <p:nvPr/>
            </p:nvSpPr>
            <p:spPr>
              <a:xfrm>
                <a:off x="4332960" y="4923000"/>
                <a:ext cx="313920" cy="169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211280" y="487476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4744800" y="4846320"/>
              <a:ext cx="1830960" cy="322560"/>
              <a:chOff x="4744800" y="4846320"/>
              <a:chExt cx="1830960" cy="322560"/>
            </a:xfrm>
          </p:grpSpPr>
          <p:sp>
            <p:nvSpPr>
              <p:cNvPr id="558" name=""/>
              <p:cNvSpPr/>
              <p:nvPr/>
            </p:nvSpPr>
            <p:spPr>
              <a:xfrm>
                <a:off x="5334120" y="4846320"/>
                <a:ext cx="63000" cy="3225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12760" y="4846320"/>
                <a:ext cx="63000" cy="3225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44800" y="4846320"/>
                <a:ext cx="63000" cy="3225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923440" y="4848120"/>
                <a:ext cx="61920" cy="3182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6618600" y="4868640"/>
              <a:ext cx="420120" cy="246240"/>
              <a:chOff x="6618600" y="4868640"/>
              <a:chExt cx="420120" cy="24624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6675840" y="4916520"/>
                <a:ext cx="314640" cy="170280"/>
                <a:chOff x="6675840" y="4916520"/>
                <a:chExt cx="314640" cy="170280"/>
              </a:xfrm>
            </p:grpSpPr>
            <p:sp>
              <p:nvSpPr>
                <p:cNvPr id="564" name=""/>
                <p:cNvSpPr/>
                <p:nvPr/>
              </p:nvSpPr>
              <p:spPr>
                <a:xfrm flipH="1">
                  <a:off x="6675480" y="4916520"/>
                  <a:ext cx="157320" cy="16848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>
                  <a:off x="6675840" y="4916520"/>
                  <a:ext cx="314640" cy="1702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 flipH="1">
                <a:off x="6618240" y="48686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4793760" y="5158080"/>
            <a:ext cx="2827440" cy="435240"/>
            <a:chOff x="4793760" y="5158080"/>
            <a:chExt cx="2827440" cy="435240"/>
          </a:xfrm>
        </p:grpSpPr>
        <p:grpSp>
          <p:nvGrpSpPr>
            <p:cNvPr id="568" name=""/>
            <p:cNvGrpSpPr/>
            <p:nvPr/>
          </p:nvGrpSpPr>
          <p:grpSpPr>
            <a:xfrm>
              <a:off x="5475600" y="5259240"/>
              <a:ext cx="420120" cy="246240"/>
              <a:chOff x="5475600" y="5259240"/>
              <a:chExt cx="420120" cy="24624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5527080" y="5307480"/>
                <a:ext cx="312120" cy="169560"/>
                <a:chOff x="5527080" y="5307480"/>
                <a:chExt cx="312120" cy="1695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5683320" y="5307480"/>
                  <a:ext cx="155880" cy="167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527080" y="5307480"/>
                  <a:ext cx="312120" cy="169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475600" y="52592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5839920" y="534204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839920" y="544320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6122160" y="5158080"/>
              <a:ext cx="310680" cy="435240"/>
              <a:chOff x="6122160" y="5158080"/>
              <a:chExt cx="310680" cy="435240"/>
            </a:xfrm>
          </p:grpSpPr>
          <p:sp>
            <p:nvSpPr>
              <p:cNvPr id="576" name=""/>
              <p:cNvSpPr/>
              <p:nvPr/>
            </p:nvSpPr>
            <p:spPr>
              <a:xfrm rot="16200000">
                <a:off x="6135840" y="5259600"/>
                <a:ext cx="270360" cy="264240"/>
              </a:xfrm>
              <a:custGeom>
                <a:avLst/>
                <a:gdLst>
                  <a:gd name="textAreaLeft" fmla="*/ 59400 w 270360"/>
                  <a:gd name="textAreaRight" fmla="*/ 210960 w 27036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5400000">
                <a:off x="6149160" y="5321880"/>
                <a:ext cx="8712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5400000">
                <a:off x="6154920" y="5338080"/>
                <a:ext cx="7668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6200000">
                <a:off x="6091920" y="52524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6405840" y="539316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03440" y="539316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6527520" y="5259600"/>
              <a:ext cx="592200" cy="246240"/>
              <a:chOff x="6527520" y="5259600"/>
              <a:chExt cx="592200" cy="246240"/>
            </a:xfrm>
          </p:grpSpPr>
          <p:sp>
            <p:nvSpPr>
              <p:cNvPr id="583" name=""/>
              <p:cNvSpPr/>
              <p:nvPr/>
            </p:nvSpPr>
            <p:spPr>
              <a:xfrm>
                <a:off x="6668640" y="5308560"/>
                <a:ext cx="31356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527520" y="52596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6626160" y="5393160"/>
              <a:ext cx="468720" cy="13464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01640" y="544428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159520" y="534204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4793760" y="5259600"/>
              <a:ext cx="557280" cy="246240"/>
              <a:chOff x="4793760" y="5259600"/>
              <a:chExt cx="557280" cy="246240"/>
            </a:xfrm>
          </p:grpSpPr>
          <p:sp>
            <p:nvSpPr>
              <p:cNvPr id="589" name=""/>
              <p:cNvSpPr/>
              <p:nvPr/>
            </p:nvSpPr>
            <p:spPr>
              <a:xfrm>
                <a:off x="4915440" y="5308560"/>
                <a:ext cx="31392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793760" y="52596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5327280" y="5231880"/>
              <a:ext cx="1830960" cy="321480"/>
              <a:chOff x="5327280" y="5231880"/>
              <a:chExt cx="1830960" cy="321480"/>
            </a:xfrm>
          </p:grpSpPr>
          <p:sp>
            <p:nvSpPr>
              <p:cNvPr id="592" name=""/>
              <p:cNvSpPr/>
              <p:nvPr/>
            </p:nvSpPr>
            <p:spPr>
              <a:xfrm>
                <a:off x="5916600" y="52318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095240" y="52318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327280" y="52318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505920" y="5233680"/>
                <a:ext cx="61920" cy="3171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7201080" y="5253480"/>
              <a:ext cx="420120" cy="246240"/>
              <a:chOff x="7201080" y="5253480"/>
              <a:chExt cx="420120" cy="24624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7258320" y="5301720"/>
                <a:ext cx="314640" cy="169560"/>
                <a:chOff x="7258320" y="5301720"/>
                <a:chExt cx="314640" cy="169560"/>
              </a:xfrm>
            </p:grpSpPr>
            <p:sp>
              <p:nvSpPr>
                <p:cNvPr id="598" name=""/>
                <p:cNvSpPr/>
                <p:nvPr/>
              </p:nvSpPr>
              <p:spPr>
                <a:xfrm flipH="1">
                  <a:off x="7257960" y="5301720"/>
                  <a:ext cx="157320" cy="167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>
                  <a:off x="7258320" y="5301720"/>
                  <a:ext cx="314640" cy="169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 flipH="1">
                <a:off x="7200720" y="52534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1" name=""/>
          <p:cNvGrpSpPr/>
          <p:nvPr/>
        </p:nvGrpSpPr>
        <p:grpSpPr>
          <a:xfrm>
            <a:off x="5376600" y="5546880"/>
            <a:ext cx="2827080" cy="435240"/>
            <a:chOff x="5376600" y="5546880"/>
            <a:chExt cx="2827080" cy="435240"/>
          </a:xfrm>
        </p:grpSpPr>
        <p:grpSp>
          <p:nvGrpSpPr>
            <p:cNvPr id="602" name=""/>
            <p:cNvGrpSpPr/>
            <p:nvPr/>
          </p:nvGrpSpPr>
          <p:grpSpPr>
            <a:xfrm>
              <a:off x="6057720" y="5645880"/>
              <a:ext cx="420120" cy="246240"/>
              <a:chOff x="6057720" y="5645880"/>
              <a:chExt cx="420120" cy="24624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6109560" y="5694120"/>
                <a:ext cx="311760" cy="169920"/>
                <a:chOff x="6109560" y="5694120"/>
                <a:chExt cx="311760" cy="16992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6265440" y="5694120"/>
                  <a:ext cx="15588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109560" y="5694120"/>
                  <a:ext cx="31176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6" name=""/>
              <p:cNvSpPr/>
              <p:nvPr/>
            </p:nvSpPr>
            <p:spPr>
              <a:xfrm>
                <a:off x="6057720" y="56458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6422760" y="572868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22760" y="582984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6705000" y="5546880"/>
              <a:ext cx="310680" cy="435240"/>
              <a:chOff x="6705000" y="5546880"/>
              <a:chExt cx="310680" cy="435240"/>
            </a:xfrm>
          </p:grpSpPr>
          <p:sp>
            <p:nvSpPr>
              <p:cNvPr id="610" name=""/>
              <p:cNvSpPr/>
              <p:nvPr/>
            </p:nvSpPr>
            <p:spPr>
              <a:xfrm rot="16200000">
                <a:off x="6718320" y="5646960"/>
                <a:ext cx="271440" cy="264240"/>
              </a:xfrm>
              <a:custGeom>
                <a:avLst/>
                <a:gdLst>
                  <a:gd name="textAreaLeft" fmla="*/ 59760 w 271440"/>
                  <a:gd name="textAreaRight" fmla="*/ 211680 w 27144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5400000">
                <a:off x="6731640" y="5708520"/>
                <a:ext cx="8748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5400000">
                <a:off x="6737760" y="5725080"/>
                <a:ext cx="7704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6200000">
                <a:off x="6674760" y="56412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6988680" y="577944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85920" y="577944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7110000" y="5646240"/>
              <a:ext cx="592200" cy="246240"/>
              <a:chOff x="7110000" y="5646240"/>
              <a:chExt cx="592200" cy="246240"/>
            </a:xfrm>
          </p:grpSpPr>
          <p:sp>
            <p:nvSpPr>
              <p:cNvPr id="617" name=""/>
              <p:cNvSpPr/>
              <p:nvPr/>
            </p:nvSpPr>
            <p:spPr>
              <a:xfrm>
                <a:off x="7251120" y="5694840"/>
                <a:ext cx="313560" cy="169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110000" y="564624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7209000" y="5779440"/>
              <a:ext cx="468360" cy="13500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84480" y="583092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42360" y="572868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5376600" y="5646240"/>
              <a:ext cx="557280" cy="246240"/>
              <a:chOff x="5376600" y="5646240"/>
              <a:chExt cx="557280" cy="246240"/>
            </a:xfrm>
          </p:grpSpPr>
          <p:sp>
            <p:nvSpPr>
              <p:cNvPr id="623" name=""/>
              <p:cNvSpPr/>
              <p:nvPr/>
            </p:nvSpPr>
            <p:spPr>
              <a:xfrm>
                <a:off x="5498280" y="5694840"/>
                <a:ext cx="313920" cy="169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376600" y="564624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5910120" y="5618160"/>
              <a:ext cx="1830960" cy="322200"/>
              <a:chOff x="5910120" y="5618160"/>
              <a:chExt cx="1830960" cy="322200"/>
            </a:xfrm>
          </p:grpSpPr>
          <p:sp>
            <p:nvSpPr>
              <p:cNvPr id="626" name=""/>
              <p:cNvSpPr/>
              <p:nvPr/>
            </p:nvSpPr>
            <p:spPr>
              <a:xfrm>
                <a:off x="6499440" y="5618160"/>
                <a:ext cx="63000" cy="322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678080" y="5618160"/>
                <a:ext cx="63000" cy="322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10120" y="5618160"/>
                <a:ext cx="63000" cy="322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088760" y="5619960"/>
                <a:ext cx="61920" cy="3178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7783560" y="5639760"/>
              <a:ext cx="420120" cy="246240"/>
              <a:chOff x="7783560" y="5639760"/>
              <a:chExt cx="420120" cy="246240"/>
            </a:xfrm>
          </p:grpSpPr>
          <p:grpSp>
            <p:nvGrpSpPr>
              <p:cNvPr id="631" name=""/>
              <p:cNvGrpSpPr/>
              <p:nvPr/>
            </p:nvGrpSpPr>
            <p:grpSpPr>
              <a:xfrm>
                <a:off x="7840800" y="5688000"/>
                <a:ext cx="314640" cy="169920"/>
                <a:chOff x="7840800" y="5688000"/>
                <a:chExt cx="314640" cy="169920"/>
              </a:xfrm>
            </p:grpSpPr>
            <p:sp>
              <p:nvSpPr>
                <p:cNvPr id="632" name=""/>
                <p:cNvSpPr/>
                <p:nvPr/>
              </p:nvSpPr>
              <p:spPr>
                <a:xfrm flipH="1">
                  <a:off x="7840440" y="5688000"/>
                  <a:ext cx="15732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H="1">
                  <a:off x="7840800" y="5688000"/>
                  <a:ext cx="31464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 flipH="1">
                <a:off x="7783200" y="56397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417996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6244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34528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56280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2776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14528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72812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9712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EB2-C841-46F7-A00F-A68C527819E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D30DE-D1CC-4FC9-ADDE-F33E5FE09A65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1055520"/>
          <a:ext cx="9144000" cy="459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5520"/>
                    <a:ext cx="914400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63080"/>
            <a:ext cx="851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rossroads: Uniprocessor Performance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41560" y="5452920"/>
            <a:ext cx="488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: 25%/year 1978 to 19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C + x86: 52%/year 1986 to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C + x86: ??%/year 2002 to 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24080" y="1413000"/>
            <a:ext cx="34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Hennessy and Patterson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uter Architecture: A Quantitative Approac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4th edition, October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1DDD-8120-4B3B-81BD-E968934CABB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4E25E-EF0A-46EE-B3DD-3F24CCBA0E06}" type="datetime1">
              <a:rPr lang="en-US"/>
              <a:t>07/29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09200" y="501480"/>
            <a:ext cx="757260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2) The Principle of Loca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66200" y="1274400"/>
            <a:ext cx="8248680" cy="25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nciple of Localit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185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ccess a relatively small portion of the address space at any instant of ti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Different Types of Localit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1850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Temporal Localit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ocality in Time): If an item is referenced, it will tend to be referenced again soon (e.g., loops, reus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1850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patial Localit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ocality in Space): If an item is referenced, items whose addresses are close by tend to be referenced so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.g., straight-line code, array acce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 30 years, HW  relied on locality for memory per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180880" y="5211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732560" y="516888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406680" y="5213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79720" y="5162400"/>
            <a:ext cx="66348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33880" y="5167440"/>
            <a:ext cx="66348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557600" y="4778280"/>
            <a:ext cx="1104840" cy="125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28800" y="5427720"/>
            <a:ext cx="486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13200" y="5432400"/>
            <a:ext cx="633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169000" y="4630680"/>
            <a:ext cx="1326240" cy="306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89A-BFDC-4976-8259-F475DA7C91A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ED479-22DF-4A86-83A3-3F49C3D1B625}" type="datetime1">
              <a:rPr lang="en-US"/>
              <a:t>07/29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97000" y="169920"/>
            <a:ext cx="647208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evels of the Memory Hierarch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33160" y="1150920"/>
            <a:ext cx="215424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PU 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0s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00 – 500 ps (0.3-0.5 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4680" y="2038320"/>
            <a:ext cx="15768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L1 and L2 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s-100s K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1 ns - ~10 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$1000s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34520" y="3276720"/>
            <a:ext cx="13374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Mai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80ns- 200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 $100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8600" y="4419720"/>
            <a:ext cx="17643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s T Bytes, 10 m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0,000,000 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 $1 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1160" y="461880"/>
            <a:ext cx="206028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cess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28400" y="5638680"/>
            <a:ext cx="1133280" cy="10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T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fin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c-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$1 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336840" y="1150920"/>
            <a:ext cx="114624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44760" y="1216080"/>
            <a:ext cx="1195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3040" y="1969920"/>
            <a:ext cx="1136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1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399480" y="3606840"/>
            <a:ext cx="1076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425760" y="4673520"/>
            <a:ext cx="622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10360" y="5816520"/>
            <a:ext cx="678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32000" y="1905120"/>
            <a:ext cx="1505160" cy="4125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603520" y="3517920"/>
            <a:ext cx="2870280" cy="5079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70000" y="4584600"/>
            <a:ext cx="3936960" cy="5079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765440" y="5651640"/>
            <a:ext cx="4698720" cy="507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6200" y="160164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86200" y="3166920"/>
            <a:ext cx="0" cy="33192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6200" y="4044960"/>
            <a:ext cx="0" cy="52056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86200" y="5111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90960" y="1593720"/>
            <a:ext cx="1816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tr. Oper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970440" y="2362320"/>
            <a:ext cx="816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48840" y="4140360"/>
            <a:ext cx="773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86280" y="5207040"/>
            <a:ext cx="604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406560" y="646200"/>
            <a:ext cx="880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St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Xfer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47280" y="1492200"/>
            <a:ext cx="1451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g./comp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-8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271200" y="2230560"/>
            <a:ext cx="1125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che cn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-6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354360" y="4013280"/>
            <a:ext cx="1159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K-8K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257880" y="5079960"/>
            <a:ext cx="13770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ser/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476120" y="1144440"/>
            <a:ext cx="1488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mic Sans MS"/>
              </a:rPr>
              <a:t>Upp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292520" y="5816520"/>
            <a:ext cx="1492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mic Sans MS"/>
              </a:rPr>
              <a:t>Low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7848720" y="1841400"/>
            <a:ext cx="0" cy="3803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827840" y="1606680"/>
            <a:ext cx="750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458200" y="1903320"/>
            <a:ext cx="0" cy="342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089920" y="5435640"/>
            <a:ext cx="834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r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349800" y="2739960"/>
            <a:ext cx="1136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2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92600" y="2651040"/>
            <a:ext cx="1955520" cy="5079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82960" y="2324160"/>
            <a:ext cx="0" cy="35568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260040" y="3048120"/>
            <a:ext cx="1227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che cn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64-128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003920" y="3192480"/>
            <a:ext cx="816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D6A3-B69B-47D2-A4A3-9B4530EC569F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4B76B-5D92-4089-99AC-E0C9DC3F16F5}" type="datetime1">
              <a:rPr lang="en-US"/>
              <a:t>07/29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3) Focus on the Common Cas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945560" cy="51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sense guides computer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its engineering, common sense is valu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aking a design trade-off, favor the frequent case over the infrequent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Instruction fetch and decode unit used more frequently than multiplier, so optimize it 1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If database server has 50 disks / processor, storage dependability dominates system dependability, so optimize it 1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t case is often simpler and can be done faster than the infrequent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overflow is rare when adding 2 numbers, so improve performance by optimizing more common case of no overflo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slow down overflow, but overall performance improved by optimizing for the normal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frequent case and how much performance improved by making case faster =&gt; </a:t>
            </a: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Amdahl’s La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B58B-FCA0-4739-B5AB-AF5808B9A01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79DBB-3606-43B6-9F0E-AEE895547C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4) Amdahl’s La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33520" y="2743200"/>
                <a:ext cx="8154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peedu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veral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u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451800" y="4114800"/>
            <a:ext cx="49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Best you could ever hope to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2209680" y="4648320"/>
                <a:ext cx="4610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peedu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imu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- 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609480" y="1295280"/>
                <a:ext cx="76978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Tim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xTim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u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02" name=""/>
          <p:cNvGrpSpPr/>
          <p:nvPr/>
        </p:nvGrpSpPr>
        <p:grpSpPr>
          <a:xfrm>
            <a:off x="1219320" y="5867280"/>
            <a:ext cx="6997680" cy="368280"/>
            <a:chOff x="1219320" y="5867280"/>
            <a:chExt cx="6997680" cy="368280"/>
          </a:xfrm>
        </p:grpSpPr>
        <p:sp>
          <p:nvSpPr>
            <p:cNvPr id="703" name=""/>
            <p:cNvSpPr/>
            <p:nvPr/>
          </p:nvSpPr>
          <p:spPr>
            <a:xfrm>
              <a:off x="121932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86000" y="5867280"/>
              <a:ext cx="1054080" cy="368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35268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8640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53080" y="5867280"/>
              <a:ext cx="596880" cy="368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6292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60920" y="6089400"/>
              <a:ext cx="49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798-6CE9-4957-B0A2-665F8F618BBD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B9823-AFC1-403B-911C-BC2484E02B33}" type="datetime1">
              <a:rPr lang="en-US"/>
              <a:t>07/29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mdahl’s Law examp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98040" y="1193400"/>
            <a:ext cx="7999560" cy="10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CPU 10X fa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ound server, so 60% time waiting for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57160" y="2347920"/>
                <a:ext cx="690588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u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veral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Fractio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nhanced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ractio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nhanced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edu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nhanced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>
            <a:off x="863640" y="5029200"/>
            <a:ext cx="79992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arently, its human nature to be attracted by 10X faster, vs. keeping in perspective its just 1.6X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5ED-65DE-4B3E-89CD-E331D2FFA9D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5F18A-7B72-4248-926F-A2F6793D06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) Processor performance equ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838080" y="1676520"/>
            <a:ext cx="7696080" cy="873360"/>
            <a:chOff x="838080" y="1676520"/>
            <a:chExt cx="7696080" cy="873360"/>
          </a:xfrm>
        </p:grpSpPr>
        <p:sp>
          <p:nvSpPr>
            <p:cNvPr id="716" name=""/>
            <p:cNvSpPr/>
            <p:nvPr/>
          </p:nvSpPr>
          <p:spPr>
            <a:xfrm>
              <a:off x="838080" y="1676520"/>
              <a:ext cx="7696080" cy="87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343080" indent="-343080">
                <a:lnSpc>
                  <a:spcPct val="86000"/>
                </a:lnSpc>
                <a:spcBef>
                  <a:spcPts val="901"/>
                </a:spcBef>
                <a:tabLst>
                  <a:tab algn="l" pos="0"/>
                  <a:tab algn="l" pos="1371600"/>
                  <a:tab algn="l" pos="30733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PU tim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 Seconds    =   Instructions  x    Cycles     x   Secon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6000"/>
                </a:lnSpc>
                <a:spcBef>
                  <a:spcPts val="901"/>
                </a:spcBef>
                <a:tabLst>
                  <a:tab algn="l" pos="0"/>
                  <a:tab algn="l" pos="1371600"/>
                  <a:tab algn="l" pos="30733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Program          Instruction       Cy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76440" y="196200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14800" y="198756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803920" y="2012760"/>
              <a:ext cx="97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70560" y="1987560"/>
              <a:ext cx="9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66320" y="25142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 Cou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P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ck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. Set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3092400" y="2406240"/>
            <a:ext cx="0" cy="374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851360" y="245736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943600" y="2419200"/>
            <a:ext cx="0" cy="372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102520" y="2419200"/>
            <a:ext cx="0" cy="377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68560" y="3429000"/>
            <a:ext cx="690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49480" y="4108320"/>
            <a:ext cx="692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49480" y="4838760"/>
            <a:ext cx="692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68560" y="5499000"/>
            <a:ext cx="690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87280" y="6165720"/>
            <a:ext cx="688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30400" y="2832120"/>
            <a:ext cx="694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0" y="380880"/>
            <a:ext cx="968400" cy="838440"/>
          </a:xfrm>
          <a:custGeom>
            <a:avLst/>
            <a:gdLst/>
            <a:ahLst/>
            <a:rect l="l" t="t" r="r" b="b"/>
            <a:pathLst>
              <a:path w="610" h="528">
                <a:moveTo>
                  <a:pt x="0" y="528"/>
                </a:moveTo>
                <a:lnTo>
                  <a:pt x="305" y="0"/>
                </a:lnTo>
                <a:lnTo>
                  <a:pt x="610" y="528"/>
                </a:lnTo>
                <a:lnTo>
                  <a:pt x="0" y="528"/>
                </a:lnTo>
                <a:close/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932800" y="118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inst 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98840" y="7632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C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545600" y="12193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Cycl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374-F7D9-4BCA-A991-7CC80DCDEA6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B1F29-E51E-4C36-B07B-3CF9B59E606C}" type="datetime1">
              <a:rPr lang="en-US"/>
              <a:t>07/29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What’s a Clock Cycle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 days: 10 levels of g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: determined by numerous time-of-flight issues + gate del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 propagation, wire lengths, dri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438280" y="1371600"/>
            <a:ext cx="38124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05320" y="1447920"/>
            <a:ext cx="1981080" cy="1676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313640" y="1828800"/>
            <a:ext cx="102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819520" y="1828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195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172200" y="1371600"/>
            <a:ext cx="38088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86400" y="1752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486400" y="2666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609720" y="1905120"/>
            <a:ext cx="17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bi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676520" y="3505320"/>
            <a:ext cx="5562360" cy="380880"/>
          </a:xfrm>
          <a:custGeom>
            <a:avLst/>
            <a:gdLst/>
            <a:ahLst/>
            <a:rect l="l" t="t" r="r" b="b"/>
            <a:pathLst>
              <a:path w="3504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  <a:lnTo>
                  <a:pt x="1248" y="0"/>
                </a:lnTo>
                <a:lnTo>
                  <a:pt x="1248" y="240"/>
                </a:lnTo>
                <a:lnTo>
                  <a:pt x="2976" y="240"/>
                </a:lnTo>
                <a:lnTo>
                  <a:pt x="2976" y="0"/>
                </a:lnTo>
                <a:lnTo>
                  <a:pt x="350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259092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40080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53080" y="1752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553080" y="2666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752480" y="1676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752480" y="2895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24F3-3BD8-488C-B3EE-CBE3B1DF384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AA110-F1FC-4B23-945D-76B5F14B5B21}" type="datetime1">
              <a:rPr lang="en-US"/>
              <a:t>07/29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7240" y="1193760"/>
            <a:ext cx="7694640" cy="52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&gt;&gt; instruction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skill sets are differ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Quantitative principles of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ative approach to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 interfaces that really 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tracking and anticip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 252 to learn new skills, transition to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t the crossroads from sequential to parallel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vation requires innovation in many fields, including computer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is interesting and timely CS 252 project opportunity given CS is at the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Chapter 1, then Appendix A, record bug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4FAE-FC60-4ADF-8A22-13F84025821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1EB8A-7981-4846-97E4-8F47994842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ea Change in Chip Desig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33640"/>
            <a:ext cx="5997600" cy="12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tel 4004 (1971): 4-bit processor,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312 transistors, 0.4 MHz,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 micron PMOS, 11 mm</a:t>
            </a:r>
            <a:r>
              <a:rPr b="1" lang="en-US" sz="19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ip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41308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2422800" cy="175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1640" y="5696640"/>
            <a:ext cx="69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b8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b4"/>
                </a:solidFill>
                <a:latin typeface="Arial"/>
              </a:rPr>
              <a:t>Processor is the new transistor?</a:t>
            </a:r>
            <a:r>
              <a:rPr b="1" lang="en-US" sz="3200" spc="-1" strike="noStrike">
                <a:solidFill>
                  <a:srgbClr val="0000b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62320"/>
            <a:ext cx="796752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ISC II (1983): 32-bit, 5 stage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ipeline, 40,760 transistors, 3 MHz,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 micron NMOS, 60 mm</a:t>
            </a:r>
            <a:r>
              <a:rPr b="1" lang="en-US" sz="19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i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75160"/>
            <a:ext cx="832788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25 mm</a:t>
            </a:r>
            <a:r>
              <a:rPr b="1" lang="en-US" sz="19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ip, 0.065 micron CMOS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= 2312 RISC II+FPU+Icache+Dcach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C II shrinks to ~ 0.02 m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65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s via DRAM or 1 transistor SRAM (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3"/>
              </a:rPr>
              <a:t>www.t-ram.c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imity Communication via capacitive coupling at &gt; 1 TB/s 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van Sutherland @ Sun / Berkel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72EE-8D42-4499-9EAF-AA14B3746E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0A618-07B8-4E6E-949D-F3EDB5EA4C15}" type="datetime1">
              <a:rPr lang="en-US"/>
              <a:t>07/29/26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4160" y="-360"/>
            <a:ext cx="6753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éjà vu all over again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ultiprocessors imminent in 1970s, ‘80s, ‘90s, …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“… 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today’s processors … are nearing an impasse as technologies approach the speed of light..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r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avid Mitchell,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The Transputer: The Time Is Now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1989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ransputer was premature 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ustom multiprocessors strove to lead uniprocessors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crastination rewarded: 2X seq. perf. / 1.5 yea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We are dedicating all of our future product development to multicore designs. … This is a sea change in computing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r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ul Otellini, President, Intel (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2004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ifference is all microprocessor companies switch to multiprocessors (AMD, Intel, IBM, Sun; all new Apples 2 CPUs) 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crastination penalized: 2X sequential perf. / 5 yrs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Biggest programming challenge: 1 to 2 CPUs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54800" y="0"/>
            <a:ext cx="1789200" cy="10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8B5-E8FF-49D3-99CD-441CE1C9F6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5E6A8-A21E-4183-AAF2-3234AD1C78A2}" type="datetime1">
              <a:rPr lang="en-US"/>
              <a:t>07/29/26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blems with Sea Change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hms, Programming Languages, Compilers, Operating Systems, Architectures, Libraries, … not ready to supply Thread Level Parallelism or Data Level Parallelism for 1000 CPUs / chip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s not ready for 1000 CPUs / 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ike Instruction Level Parallelism, cannot be solved by just by computer architects and compiler writers alone, but also cannot be solved </a:t>
            </a: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articipation of computer archit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edition of CS 252 (and 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ition of textbook Computer Architecture: A Quantitative Approach) explores shift from Instruction Level Parallelism to Thread Level Parallelism / Data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13A6-13CE-4655-9CBE-66C9B4CB74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6702D-4D5E-4D24-AEF1-01649A103399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D22A-0FC0-435C-95B6-BDDD91020F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3EE37-E4CB-40BB-9FA6-43040721FF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479520"/>
            <a:ext cx="889776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struction Set Architecture: Critical Interfa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01760" y="2635200"/>
            <a:ext cx="66927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40040" y="126360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886200" y="1562040"/>
            <a:ext cx="763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2171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21718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24764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733560" y="217188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504960" y="25527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179064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191120" y="17906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1714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114800" y="15620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11640" y="133992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1638360"/>
            <a:ext cx="759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105520" y="224784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247644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24784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32380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232416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181480" y="1866960"/>
            <a:ext cx="1526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952520" y="201924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028840" y="17906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800240" y="163800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181480" y="14857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885840" y="14094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352320" y="3085920"/>
            <a:ext cx="2362680" cy="1390680"/>
            <a:chOff x="3352320" y="3085920"/>
            <a:chExt cx="2362680" cy="1390680"/>
          </a:xfrm>
        </p:grpSpPr>
        <p:sp>
          <p:nvSpPr>
            <p:cNvPr id="103" name=""/>
            <p:cNvSpPr/>
            <p:nvPr/>
          </p:nvSpPr>
          <p:spPr>
            <a:xfrm>
              <a:off x="4216320" y="3166560"/>
              <a:ext cx="635040" cy="38268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419720" y="3388320"/>
              <a:ext cx="7596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388320"/>
              <a:ext cx="76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3388320"/>
              <a:ext cx="7632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0" y="326736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343400" y="3267360"/>
              <a:ext cx="76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886200" y="4416120"/>
              <a:ext cx="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569760"/>
              <a:ext cx="0" cy="483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0" y="4053240"/>
              <a:ext cx="380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52880" y="4053240"/>
              <a:ext cx="152640" cy="362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105520" y="4355280"/>
              <a:ext cx="75960" cy="6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191120" y="4053240"/>
              <a:ext cx="38088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038480" y="4113720"/>
              <a:ext cx="152640" cy="362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885840" y="447660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0" y="3569760"/>
              <a:ext cx="53352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105520" y="3085920"/>
              <a:ext cx="380880" cy="543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86400" y="308628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14800" y="3630240"/>
              <a:ext cx="457200" cy="6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581280" y="3086280"/>
              <a:ext cx="533520" cy="60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352320" y="308628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669840" y="2717640"/>
            <a:ext cx="17031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1040" y="1816200"/>
            <a:ext cx="1066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1400" y="3720960"/>
            <a:ext cx="1142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520" y="4788000"/>
            <a:ext cx="7683480" cy="17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ies of a good abstr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s through many generations (portabi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in many different ways (genera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onven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unctionality to higher lev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its an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mplementation at lower lev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8D8F-0C0F-4E31-8B20-3092B1AED9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84FFB-6FF3-4F92-B273-95E55BF2BFFD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5:15:41Z</dcterms:created>
  <dc:creator> </dc:creator>
  <dc:description/>
  <cp:keywords/>
  <dc:language>en-US</dc:language>
  <cp:lastModifiedBy>EECS</cp:lastModifiedBy>
  <cp:lastPrinted>1998-07-14T21:04:32Z</cp:lastPrinted>
  <dcterms:modified xsi:type="dcterms:W3CDTF">2006-01-21T15:15:10Z</dcterms:modified>
  <cp:revision>57</cp:revision>
  <dc:subject/>
  <dc:title>EECS 252 Graduate Computer Architecture   Lec 01 - Introduction  </dc:title>
</cp:coreProperties>
</file>