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23C3A4E-8E1C-4716-963F-4E087B23A3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15CC27-ACD3-462D-A981-DA4244CEB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375DCC5-2D68-4CF9-8189-C8D853CBFB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: 120X BW, 4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g betwee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int is because a lot of time between 32b Fast page mode and 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9ABF707-BDA5-4DB9-8B3A-D880304A18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: 1000X BW, 13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F792F7A-238A-4D1D-ABB2-31534A5D52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or: 2250X, 22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C741A57-B599-43EF-B865-D9F5541F8A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: 33X BW, 6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1CD-1CD5-4AF5-8FCD-5602C29A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076-C40F-4400-B435-1AE89D2E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09B-0EEC-44F5-A07F-3A5AD3BE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F19-2766-4060-8673-BF227491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2DA-34A0-40DD-AD68-F9BFD9ED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615-0E74-435B-A25C-EBD3ABA0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9A7-495D-45FA-B3B1-ED18B8B9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EDB-A312-467E-BE77-A80715B4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7B2-CD4A-4612-A85E-F2CDCC87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29B-3D43-4E8C-B6BB-CB649A9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67F-DBF6-4B13-86EA-20550E1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926-13AB-472F-BC05-77738DC8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A1BB-5DB7-41FD-BFAA-1F4BAD1D4663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468B-E3C3-4853-B626-552622F99ACC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2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3760" y="312480"/>
            <a:ext cx="79596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1044720"/>
            <a:ext cx="4952880" cy="55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Memory Mod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5120" y="56386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423720" y="816120"/>
          <a:ext cx="4832280" cy="58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3720" y="816120"/>
                    <a:ext cx="48322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C49-AE6E-4366-B873-ECA7E9176C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F66EC-4E2E-4565-8274-4E9E320E40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75960"/>
            <a:ext cx="8856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LAN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733920" cy="338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197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Mbits/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30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me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143000"/>
            <a:ext cx="4419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a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000 Mbits/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00X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19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5 copper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429912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axial C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5359320"/>
            <a:ext cx="2227320" cy="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3040" y="5135400"/>
            <a:ext cx="163800" cy="387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186920" y="513540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186920" y="556092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45040"/>
            <a:ext cx="1508040" cy="525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560920"/>
            <a:ext cx="1508040" cy="507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4865760"/>
            <a:ext cx="1082520" cy="16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627520"/>
            <a:ext cx="1082520" cy="16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89360" y="5290920"/>
            <a:ext cx="345960" cy="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5149800"/>
            <a:ext cx="158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3880" y="4903920"/>
            <a:ext cx="96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1240" y="4635360"/>
            <a:ext cx="234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ded outer 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0800" y="5032440"/>
            <a:ext cx="35748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04920" y="4865760"/>
            <a:ext cx="435240" cy="1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01720" y="4518000"/>
            <a:ext cx="4255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9600" y="4389480"/>
            <a:ext cx="165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tic Cov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76920" y="4137120"/>
            <a:ext cx="4267080" cy="1752840"/>
            <a:chOff x="4876920" y="4137120"/>
            <a:chExt cx="4267080" cy="1752840"/>
          </a:xfrm>
        </p:grpSpPr>
        <p:sp>
          <p:nvSpPr>
            <p:cNvPr id="105" name=""/>
            <p:cNvSpPr/>
            <p:nvPr/>
          </p:nvSpPr>
          <p:spPr>
            <a:xfrm>
              <a:off x="5252400" y="5191200"/>
              <a:ext cx="3618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per, 1mm thick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isted to avoid antenna 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184360" y="4429080"/>
              <a:ext cx="2864160" cy="679680"/>
              <a:chOff x="5184360" y="4429080"/>
              <a:chExt cx="2864160" cy="6796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84360" y="4429080"/>
                <a:ext cx="1441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wisted Pai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49800" y="4840560"/>
                <a:ext cx="3096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049800" y="4815000"/>
                <a:ext cx="3096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84960" y="48182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84960" y="50864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41920" y="4840560"/>
                <a:ext cx="33372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41920" y="4815000"/>
                <a:ext cx="33372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78520" y="48182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78520" y="50864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5636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705636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2960" y="48182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2960" y="50864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7224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757224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8840" y="48182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08840" y="50864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876920" y="413712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"Cat 5" is 4 twisted pairs in bun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2C7-1FD8-4935-B9B3-A3A0671B23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6E5D7-0D8F-4429-B348-81D53D1AF1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4840" y="286920"/>
            <a:ext cx="79599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131480"/>
            <a:ext cx="4952880" cy="60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Eth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0Mb, 100Mb, 1000Mb, 10000 Mb/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Memory Modu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4280" y="58244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369720" y="814320"/>
          <a:ext cx="469080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9720" y="814320"/>
                    <a:ext cx="4690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2F2-7009-4FC4-BEDC-754BCFB881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83F22-E266-493A-B6E0-487714F6D9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391680"/>
            <a:ext cx="90378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CP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49568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 8028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.5 M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MIPS (pea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320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,000 xtors, 4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, 68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code interprete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PU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o cach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040" y="1045800"/>
            <a:ext cx="4800600" cy="62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1 Intel 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00 MIPS (pea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25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15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,000,000 xtors, 21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, 423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way superscala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translate to RISC, Superpipelined (22 stag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Order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-chip 8KB Data cach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6KB Instr. Trace  cach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6KB L2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4854600"/>
            <a:ext cx="87768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25760" y="4435560"/>
            <a:ext cx="1816200" cy="2066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9F9-F9AE-42DD-A22F-1A1F2E60ECF6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F1AC6-5923-462A-A606-72A10E737E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39760"/>
            <a:ext cx="95742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1120" y="1100160"/>
            <a:ext cx="4952880" cy="60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cess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‘286, ‘386, ‘486, Pentium, Pentium Pro, Pentium 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21x,225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Ethernet: 10Mb, 100Mb, 1000Mb, 10000 Mb/s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Memory Module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isk : 3600, 5400, 7200, 10000, 15000 RP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154080" y="1052640"/>
          <a:ext cx="4605480" cy="55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080" y="1052640"/>
                    <a:ext cx="460548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0" y="1469880"/>
            <a:ext cx="3198960" cy="1924200"/>
            <a:chOff x="0" y="1469880"/>
            <a:chExt cx="3198960" cy="1924200"/>
          </a:xfrm>
        </p:grpSpPr>
        <p:sp>
          <p:nvSpPr>
            <p:cNvPr id="140" name=""/>
            <p:cNvSpPr/>
            <p:nvPr/>
          </p:nvSpPr>
          <p:spPr>
            <a:xfrm>
              <a:off x="0" y="1469880"/>
              <a:ext cx="174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PU high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low</a:t>
              </a:r>
              <a:br>
                <a:rPr sz="1800"/>
              </a:b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(“Memory Wall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1744560"/>
              <a:ext cx="1930680" cy="314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90680" y="2071800"/>
              <a:ext cx="841320" cy="1322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9CF-B3CF-41EA-9304-8B04BACFA3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8DFC3-6F6F-49A2-A7E7-7457DAD8A9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Rule of Thumb for Latency Lagging B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a factor of 1.2 to 1.4</a:t>
            </a:r>
            <a:r>
              <a:rPr b="0" lang="en-US" sz="2800" spc="-1" strike="noStrike">
                <a:solidFill>
                  <a:srgbClr val="002b8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capacity improves faster than bandwid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d alternatively: 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improves by more than the square of the improvement in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AF1-9FE8-4831-9B6D-FE9AA9756B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0CB35-1DCE-4CA3-AD08-23ED5DAEC6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8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Pipeline baiscs 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78A-C76F-4F85-BAA1-8332F06674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F532E-F1F4-4770-A5DD-280BB0B2BA77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s in the New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loses market share in own backyard,”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m Krazit, CNET News.com, 1/18/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's share of the U.S. retail PC market fell by 11 percentage points, from 64.4 percent in the fourth quarter of 2004 to 53.3 percent. … Current Analysis' market share numbers measure U.S. retail sales only, and therefore exclude figures from Dell, which uses its Web site to sell directly to consumers.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 chips were found in 52.5 percent of desktop PCs sold in U.S. retail stores during that period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dvantages of AMD Opteron/Athlon vs. Intel Pentium 4 as we’ll see in this cour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748-DEDC-4847-9DDB-BE23CCF481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B8940-640A-489C-9457-F4B418B91C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6760" y="147240"/>
            <a:ext cx="70452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187280"/>
            <a:ext cx="88390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oore’s Law helps BW more than laten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aster transistors, more transistors,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pins help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130 vs.   42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064 vs. 256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0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Pi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8  vs. 423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Pi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 vs.   66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maller, faster transistors but communicat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 (relatively) longer lines: limits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 to 3 vs. 0.18 micr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X,17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Di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  vs. 204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Die Siz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  vs. 217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81A-C0C5-45A1-9576-6DF0B8EC56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35836-8A6C-439F-9B7F-196A4D7254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1040" y="14724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04616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2. Distance limits lat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ze of DRAM b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 bit and word lin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ost of DRAM access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eed of light and computers on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&amp; 2. explains linear latency vs. square B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easier to sell (“bigger=better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10 Gbits/s Ethernet (“10 Gig”) v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 latency Eth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400 MB/s DIMM (“PC4400”) vs. 50 ns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ven if just marketing, customers now tra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nce bandwidth sells, more resources thrown at bandwidth, which further tips the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5A5-F2EE-428E-8BFF-A75844C5DB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7A2C1-C472-48CC-9A38-B6568B8B1F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377-CE9C-4168-B7A2-05B3DBF5BF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20F35-107F-4B02-A637-36008E2696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74320"/>
            <a:ext cx="815328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helps BW, but not vice vers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inning disk faster improves both bandwidth and rotational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600 RP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5000 RPM =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rotational latency: 8.3 m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ngs being equal, also helps BW by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wer DRAM latenc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access/second (higher bandwid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igher linear density helps disk BW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and capacity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, but not disk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,55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33,00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X in B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-3636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060-E05D-4DF5-8B1E-5264273CCE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73987-02D0-45C2-87B0-605B27EDD5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63120" y="1163520"/>
            <a:ext cx="8153640" cy="53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 Bandwidth hurts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Queues help Bandwidth, hurt Latency (Queuing Theo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dding chips to widen a memory module increases Bandwidth but higher fan-out on address lines may increase Laten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6. Operating System overhead hurts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more than Bandwid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ng messages amortize overhead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head bigger part of short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1104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3E0-F707-407F-9A9D-E82D5C87D4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0FD01-CAAA-4966-AFF9-742AEB729C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800" y="325080"/>
            <a:ext cx="73598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ummary of Technology Tren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0920"/>
            <a:ext cx="8458200" cy="57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For disk, LAN, memory, and microprocessor, bandwidth improves by square of latency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1.2X to 1.4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g probably even larger in real systems, as bandwidth gains multiplied by replica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processors in a cluster or even  in a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isks in a disk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memory modules in a large mem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taneous communication in switched 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W and SW developers should innovate assuming Latency Lags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everything improves at the same rate, then nothing really chang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rates vary, require real inno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2F1-82ED-4084-93A0-2F47AEAAF3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1365B-5BAC-40CE-9BFA-0F1C97BE82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83E-3476-4D85-B0A9-8108E271B3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2EB8F-B115-47AA-B6CC-594EDFA73F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 1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MOS chips, traditional dominant energy consumption has been in switching transistor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dynam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1360" y="2203560"/>
                <a:ext cx="80564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FrequencySwitch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3440" y="265428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bile devices, energy better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92240" y="3036960"/>
                <a:ext cx="4934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08120" y="344484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fixed task, slowing clock rate (frequency switched) reduces power, but no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ve load a function of number of transistors connected to output and technology, which determines capacitance of wires and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ping voltage helps both, so went from 5V to 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ave energy &amp; dynamic power, most CPUs now turn off clock of inactive modules (e.g. Fl. Pt.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D43-F153-4778-9E17-FE1286F096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4A847-89B5-46DA-A180-C08A68F686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of  quantifying power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32960" cy="14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5% reduction in voltage results in a 15% reduction in frequency. What is impact on dynamic pow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95360" y="2565360"/>
                <a:ext cx="829944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7CF-B4A4-42F4-B296-FF01134CEE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DB5BE-DD81-4073-8F9E-FF59488CEE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2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leakage current flows even when a transistor is off, now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static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ortant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440" y="275580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kage current increases in processors with smaller transistor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e number of transistors increases power even if they are turne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6, goal for leakage is 25% of total power consumption; high performance designs at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ow power systems even gate voltage to inactive modules to control loss due to lea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98600" y="2063880"/>
                <a:ext cx="4027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rrent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E9E-7991-4817-B7C9-6A39DCF5D5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FC4CF-C410-420B-93B4-4B67CCB0F4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4BD-3B25-4A0C-937F-CE689100C5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8FF41-C96F-43D6-BF98-4825FC4BA3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1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74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ecide when a system is operating properl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providers now offer Service Level Agreements (SLA) to guarantee that their networking or power service would be depend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alternate between 2 states of service with respect to an S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accomplish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service is delivered as specified in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interru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delivered service is different from the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1 to stat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Resto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2 to stat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571-4B0E-4D68-82E8-F99BAB52C0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41F02-5D33-4DCA-9984-B4C8834627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699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2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re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easure of continuous service accomplishment (or time to failure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Rel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ailures In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/MTTF, the rate of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ly reported as failures per billion hours of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Repa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Service Interru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ean Time Between Fail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TB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MTTF+MTT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ice as alternate between the 2 states of accomplishment and interruption (number between 0 and 1, e.g. 0.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 = MTTF / ( MTTF + MTT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193-40C7-4683-B7ED-8A8DB4A1BC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9B2E6-BA95-4071-8485-9C033B0D9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: Computer Architecture bring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838-7D87-4102-96B5-E2360207B0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865EB-F133-4ECF-9AFE-474390DE5E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01600" y="3898800"/>
                <a:ext cx="222120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0C7-DD8B-452D-86BE-B66E89B919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C5CF2-B8EB-4DA2-8424-34E1A1C62D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90440" y="3726000"/>
                <a:ext cx="7048800" cy="26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F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86D-3C31-4C8F-B506-85B3A7F185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459EE-E7E5-41A8-8A17-0FDEC59B4DF8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530-C0B4-49E3-90AB-72D8CBAF68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D5EA6-4FFE-4FEB-A786-4E860F5C9E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189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194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507-511F-4FE5-AA39-F60EC82BD8C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DA337-0009-4F43-AE16-7BDCCA213753}" type="datetime1">
              <a:rPr lang="en-US"/>
              <a:t>07/29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20A-FFD2-49F0-A41B-097727E67B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0BAB8-7BF3-4C4C-B315-495BA78283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4F0-792B-48E2-A462-81139AEDA7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779FD-33A2-442F-8964-C5EC15A64B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276-FD62-4B5E-B734-CFF4521204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9B78D-C473-4844-A5E8-06816DFC39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two points make geometric mean of ratios attractive to summariz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58E-6E5A-4CB0-8D3D-1346EFF48A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CEBE4-7873-4509-B89F-074B50C7BD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BD0-3FB2-487A-9D22-967231DB91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69ADF-7052-4239-A6C1-AB31A90E48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1AA-F15C-403F-880B-985EC64F3B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90930-FD83-43CF-B824-DE3C5B0BEE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68C-DB19-4E08-94A3-3BFE8256E2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AC718-9DA4-4E3B-A480-932B5365BE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B73-40CB-4D83-99E4-FBC95F5171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A79B1-15C4-4CCC-9AC3-4CA184B898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71440" y="1484280"/>
          <a:ext cx="7972560" cy="49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484280"/>
                    <a:ext cx="797256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C1C-F9D8-4559-BDFD-D65FE06056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BAD68-E2CC-43A8-BDD1-25BB1B8C5E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esults are quite compatible with a lognormal distribution (expect 68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09C-76A5-4DA7-87EB-35D4016F57C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67BBC-5033-4F7D-BE60-8BCECB81CB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, FIT), Availability (99.9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ppendix A, record bugs onlin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A59-7AF7-46F1-B6C7-34915C6A7F0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E2FCD-D7BC-47B6-A0E4-E20A6935AC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2266920" cy="2101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4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ore’s Law: 2X transistors / “year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120" y="5603400"/>
            <a:ext cx="87328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mming More Components onto Integrated Circuit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rdon Moore, Electronics, 196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on transistors / cost-effective integrated circuit double every N months (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≤ N ≤ 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4840" y="2760840"/>
            <a:ext cx="2739960" cy="271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7520" y="3586320"/>
            <a:ext cx="21938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854600" y="1144440"/>
          <a:ext cx="4289400" cy="292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4600" y="1144440"/>
                    <a:ext cx="4289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F8C-E4BA-4A5A-9B6C-2DB44591FD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FCDC7-474C-4B25-8E89-8B8F1B30DB61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330120"/>
            <a:ext cx="69120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32b7"/>
                </a:solidFill>
                <a:latin typeface="Arial"/>
              </a:rPr>
              <a:t>Tracking Technology Performance Trend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150920"/>
            <a:ext cx="807696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 down into 4 technolo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~1980 Archaic (Nostalgic) v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2000 Modern (Newfang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Milestones in each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for Bandwidth vs. Latency improvements in performance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number of events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 bits / second over network, M bytes / second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elapsed time for a single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ne-way network delay in microsecond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disk access time in milli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6F4-8878-40C7-A7ED-9A0BABBF4B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5DD88-20E5-4A8A-A734-45654DFF1E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26520"/>
            <a:ext cx="89694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isks: Archaic(Nostalgic) v. Modern(Newfangled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gate 373453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0 RP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.4 GBy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5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64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8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533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6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2.5” plat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3.5” form fa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6 MBytes/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4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 5.7 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8 M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1143000"/>
            <a:ext cx="384804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C Wren I, 1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0 R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3 GBytes 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8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95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5.25” plat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48.3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n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674-3344-4D80-9EC2-BA074FDD0FE9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188A0-AADA-4734-B103-2ECFC8D549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293400"/>
            <a:ext cx="8613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for 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1120" y="1099800"/>
            <a:ext cx="4952880" cy="60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Times New Roman"/>
              </a:rPr>
              <a:t>Di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3600, 5400, 7200, 10000, 15000 RP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4280" y="5726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399960" y="752400"/>
          <a:ext cx="4714920" cy="57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752400"/>
                    <a:ext cx="4714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5C2-3046-4BD9-BF7B-8D5C418FBC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768A2-2CF3-481C-8A78-040EB5FF74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080" y="445680"/>
            <a:ext cx="9215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Memor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00160"/>
            <a:ext cx="423396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synchrono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6 Mbit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,000 xtors, 35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 per module, 16 pin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225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 block trans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3360" y="1055520"/>
            <a:ext cx="548640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Data Rate Synch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locked)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00 Mbit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0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,000,000 xtors, 204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 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M, 66 pin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 Mbytes/se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52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transfers (page m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0BD-C5FF-4429-971E-144A00B3DF75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F3AEF-927F-466D-9A82-2BA4D2102F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6:30:27Z</dcterms:modified>
  <cp:revision>91</cp:revision>
  <dc:subject/>
  <dc:title>EECS 252 Graduate Computer Architecture   Lec 01 - Introduction  </dc:title>
</cp:coreProperties>
</file>