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4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9.jpeg" ContentType="image/jpeg"/>
  <Override PartName="/ppt/media/image10.jpeg" ContentType="image/jpeg"/>
  <Override PartName="/ppt/media/image13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A609784B-A80B-410F-AC32-19712C2D16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82FACDC-22DA-4A3B-917D-353494EF8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9FB2F8C-9B23-45E7-B1F3-3DE4AC30F1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M: 120X BW, 4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g between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4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int is because a lot of time between 32b Fast page mode and 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16B2EBA-D540-440D-BEB0-395FE5675B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: 1000X BW, 13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47548EF7-3F35-457C-A14B-92606F7428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or: 2250X, 22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9B5F497-5C18-4E8B-8993-41B32EC99E0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73080" y="4560480"/>
            <a:ext cx="536904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k: 33X BW, 6X lat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9A20-158F-4CF4-AADF-947E4378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F24-28EB-4DC8-B8EE-97D47DF7C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7E28-A9B8-4FA0-8E5C-22D3E1AF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FD7-66BB-4084-8316-40D432BA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BC9-AB8B-45D4-8FEC-70C1619A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6619-BABA-4B57-AA24-6461C6B8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71FA-A1D9-44AD-A4B7-102916EE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73D9-15B0-438C-932E-2D23A9F46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3AB-B6BC-403F-B613-2E4B8E92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F4B-BDDF-46C6-ACE7-6951720D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151-2467-473E-9DF9-CBA6BD90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3C43-1594-44D5-A781-8E385267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FBAF3-EE78-4786-920F-C9FFBC2713CE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F7F9C-F5BC-4A7D-A2BE-3FC206E6B5EB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2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93760" y="312480"/>
            <a:ext cx="79596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91120" y="1044720"/>
            <a:ext cx="4952880" cy="55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  <a:ea typeface="Times New Roman"/>
              </a:rPr>
              <a:t>Memory Modu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5120" y="563868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-423720" y="816120"/>
          <a:ext cx="4832280" cy="5846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23720" y="816120"/>
                    <a:ext cx="48322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D43-A25A-44F8-B634-8116486E45B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3CCF4F-7D64-4F4C-82AC-59223CE43A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200" y="75960"/>
            <a:ext cx="8856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LAN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3733920" cy="33814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197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Mbits/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300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red med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xial c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143000"/>
            <a:ext cx="441972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hernet 802.3a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ear of Standard: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,000 Mbits/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000X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k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190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5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d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229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tegory 5 copper w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-1440" y="4299120"/>
            <a:ext cx="18381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axial Cabl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1400" y="5359320"/>
            <a:ext cx="2227320" cy="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43040" y="5135400"/>
            <a:ext cx="163800" cy="387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186920" y="513540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186920" y="5560920"/>
            <a:ext cx="1443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045040"/>
            <a:ext cx="1508040" cy="525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4360" y="5560920"/>
            <a:ext cx="1508040" cy="50760"/>
          </a:xfrm>
          <a:prstGeom prst="rect">
            <a:avLst/>
          </a:prstGeom>
          <a:solidFill>
            <a:srgbClr val="fc012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4865760"/>
            <a:ext cx="1082520" cy="163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4360" y="5627520"/>
            <a:ext cx="1082520" cy="163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2889360" y="5290920"/>
            <a:ext cx="345960" cy="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5149800"/>
            <a:ext cx="1585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per 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3880" y="4903920"/>
            <a:ext cx="9601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41240" y="4635360"/>
            <a:ext cx="2347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raided outer condu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620800" y="5032440"/>
            <a:ext cx="357480" cy="20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104920" y="4865760"/>
            <a:ext cx="435240" cy="17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701720" y="4518000"/>
            <a:ext cx="425520" cy="357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199600" y="4389480"/>
            <a:ext cx="16506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astic Cov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876920" y="4137120"/>
            <a:ext cx="4267080" cy="1752840"/>
            <a:chOff x="4876920" y="4137120"/>
            <a:chExt cx="4267080" cy="1752840"/>
          </a:xfrm>
        </p:grpSpPr>
        <p:sp>
          <p:nvSpPr>
            <p:cNvPr id="105" name=""/>
            <p:cNvSpPr/>
            <p:nvPr/>
          </p:nvSpPr>
          <p:spPr>
            <a:xfrm>
              <a:off x="5252400" y="5191200"/>
              <a:ext cx="361800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pper, 1mm thick, 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wisted to avoid antenna eff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5184360" y="4429080"/>
              <a:ext cx="2864160" cy="679680"/>
              <a:chOff x="5184360" y="4429080"/>
              <a:chExt cx="2864160" cy="679680"/>
            </a:xfrm>
          </p:grpSpPr>
          <p:sp>
            <p:nvSpPr>
              <p:cNvPr id="107" name=""/>
              <p:cNvSpPr/>
              <p:nvPr/>
            </p:nvSpPr>
            <p:spPr>
              <a:xfrm>
                <a:off x="5184360" y="4429080"/>
                <a:ext cx="144180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Twisted Pair: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049800" y="4840560"/>
                <a:ext cx="3096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6049800" y="4815000"/>
                <a:ext cx="3096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384960" y="48182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84960" y="5086440"/>
                <a:ext cx="14112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41920" y="4840560"/>
                <a:ext cx="33372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541920" y="4815000"/>
                <a:ext cx="33372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8520" y="48182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878520" y="5086440"/>
                <a:ext cx="16200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636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705636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2960" y="48182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2960" y="5086440"/>
                <a:ext cx="16344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72240" y="4840560"/>
                <a:ext cx="311400" cy="24264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7572240" y="4815000"/>
                <a:ext cx="311400" cy="29376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08840" y="48182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908840" y="5086440"/>
                <a:ext cx="139680" cy="0"/>
              </a:xfrm>
              <a:prstGeom prst="line">
                <a:avLst/>
              </a:prstGeom>
              <a:ln w="255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876920" y="413712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"Cat 5" is 4 twisted pairs in bund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F1A0-DFD0-4D72-8E1A-6F7FB3BDE9E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13B6B-9BEC-4E58-92F1-66B5142BE1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94840" y="286920"/>
            <a:ext cx="795996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91120" y="1131480"/>
            <a:ext cx="4952880" cy="603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Ethern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10Mb, 100Mb, 1000Mb, 10000 Mb/s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Memory Module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Disk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Arial"/>
                <a:ea typeface="Times New Roman"/>
              </a:rPr>
              <a:t>3600, 5400, 7200, 10000, 15000 RPM </a:t>
            </a:r>
            <a:r>
              <a:rPr b="1" lang="en-US" sz="1200" spc="-1" strike="noStrike">
                <a:solidFill>
                  <a:srgbClr val="80808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44280" y="582444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Arial"/>
                <a:ea typeface="Times New Roman"/>
              </a:rPr>
              <a:t>BW = best-c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-369720" y="814320"/>
          <a:ext cx="4690800" cy="56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69720" y="814320"/>
                    <a:ext cx="4690800" cy="56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3117-136B-429D-8F5D-72D7DFE0674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0AB0E2-21DD-4AAA-B6B2-CC404B47F0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391680"/>
            <a:ext cx="90378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CPUs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4495680" cy="449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tel 80286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2.5 MHz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MIPS (pea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320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4,000 xtors, 4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, 68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crocode interpreter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te FPU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no caches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343040" y="1045800"/>
            <a:ext cx="4800600" cy="620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1 Intel Pentium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5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Hz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500 MIPS (peak)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25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 15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2,000,000 xtors, 217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, 423 pi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way superscalar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 translate to RISC, Superpipelined (22 stage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5752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n-chip 8KB Data caches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96KB Instr. Trace  cache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56KB L2 cach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4854600"/>
            <a:ext cx="87768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2525760" y="4435560"/>
            <a:ext cx="1816200" cy="2066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2A2-D121-4528-AB6C-52E51E6566B2}" type="slidenum">
              <a:t>1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96CDE-D1D7-4465-884B-DF2DBEDE78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39760"/>
            <a:ext cx="9574200" cy="58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91120" y="1100160"/>
            <a:ext cx="4952880" cy="60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rocess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‘286, ‘386, ‘486, Pentium, Pentium Pro, Pentium 4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21x,225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Ethernet: 10Mb, 100Mb, 1000Mb, 10000 Mb/s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16x,100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Memory Module: 16bit plain DRAM, Page Mode DRAM, 32b, 64b, SDRAM, </a:t>
            </a:r>
            <a:br>
              <a:rPr sz="2400"/>
            </a:b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DR SDRA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4x,120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  <a:ea typeface="Times New Roman"/>
              </a:rPr>
              <a:t>Disk : 3600, 5400, 7200, 10000, 15000 RPM </a:t>
            </a:r>
            <a:r>
              <a:rPr b="1" lang="en-US" sz="1200" spc="-1" strike="noStrike">
                <a:solidFill>
                  <a:srgbClr val="919191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154080" y="1052640"/>
          <a:ext cx="4605480" cy="5575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4080" y="1052640"/>
                    <a:ext cx="4605480" cy="55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9" name=""/>
          <p:cNvGrpSpPr/>
          <p:nvPr/>
        </p:nvGrpSpPr>
        <p:grpSpPr>
          <a:xfrm>
            <a:off x="0" y="1469880"/>
            <a:ext cx="3198960" cy="1924200"/>
            <a:chOff x="0" y="1469880"/>
            <a:chExt cx="3198960" cy="1924200"/>
          </a:xfrm>
        </p:grpSpPr>
        <p:sp>
          <p:nvSpPr>
            <p:cNvPr id="140" name=""/>
            <p:cNvSpPr/>
            <p:nvPr/>
          </p:nvSpPr>
          <p:spPr>
            <a:xfrm>
              <a:off x="0" y="1469880"/>
              <a:ext cx="1743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CPU high,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low</a:t>
              </a:r>
              <a:br>
                <a:rPr sz="1800"/>
              </a:b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(“Memory Wall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68280" y="1744560"/>
              <a:ext cx="1930680" cy="314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90680" y="2071800"/>
              <a:ext cx="841320" cy="1322280"/>
            </a:xfrm>
            <a:prstGeom prst="line">
              <a:avLst/>
            </a:prstGeom>
            <a:ln w="572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193-1ECD-43C9-9AFB-490E735CF2D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0058CE-3DD7-428A-A4E5-203ABA442C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90440"/>
            <a:ext cx="9144000" cy="56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Rule of Thumb for Latency Lagging B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a factor of 1.2 to 1.4</a:t>
            </a:r>
            <a:r>
              <a:rPr b="0" lang="en-US" sz="2800" spc="-1" strike="noStrike">
                <a:solidFill>
                  <a:srgbClr val="002b8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and capacity improves faster than bandwidth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ed alternatively: </a:t>
            </a:r>
            <a:br>
              <a:rPr sz="24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improves by more than the square of the improvement in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6A49-1CBA-4730-BB73-15F8B4306BA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5FD47-A701-40D1-9C15-4ED011E7002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88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Pipeline baiscs 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0119-91B6-4EA9-904A-18AF7096504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8EA4A-12C6-4794-BDE6-41557ADB9AF5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s in the New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 loses market share in own backyard,”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 Tom Krazit, CNET News.com, 1/18/200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l's share of the U.S. retail PC market fell by 11 percentage points, from 64.4 percent in the fourth quarter of 2004 to 53.3 percent. … Current Analysis' market share numbers measure U.S. retail sales only, and therefore exclude figures from Dell, which uses its Web site to sell directly to consumers. 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D chips were found in 52.5 percent of desktop PCs sold in U.S. retail stores during that period.”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dvantages of AMD Opteron/Athlon vs. Intel Pentium 4 as we’ll see in this cours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E6D9-1DF5-468E-835F-E31B3DC4FDC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CDDE97-784E-417C-B467-D7E8860C1D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66760" y="147240"/>
            <a:ext cx="70452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187280"/>
            <a:ext cx="88390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1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Moore’s Law helps BW more than latenc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Faster transistors, more transistors,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pins help Bandwid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130 vs.   42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Transistor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0.064 vs. 256 M xtor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000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Pin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8  vs. 423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6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Pins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  vs.   66 pins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46404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maller, faster transistors but communicate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 (relatively) longer lines: limits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5 to 3 vs. 0.18 micr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8X,17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PU Die Size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5  vs. 204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3040" indent="-397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4056120"/>
                <a:tab algn="r" pos="851544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RAM Die Siz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7  vs. 217 m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tio sqr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2X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29F-76DF-47C1-A1B1-F264CE487FF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83984-6F0A-4273-8863-AC2D161127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1040" y="14724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1920" y="1046160"/>
            <a:ext cx="8991720" cy="488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2. Distance limits latenc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ze of DRAM bloc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bit and word lin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ost of DRAM access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eed of light and computers on net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&amp; 2. explains linear latency vs. square B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3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Bandwidth easier to sell (“bigger=better”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.g., 10 Gbits/s Ethernet (“10 Gig”) vs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ec latency Ethern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400 MB/s DIMM (“PC4400”) vs. 50 ns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Even if just marketing, customers now train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ince bandwidth sells, more resources thrown at bandwidth, which further tips the bal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E9F5-4861-43A2-90AE-68E39D1BC10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94962-1CC0-4974-8651-8EA287F19E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6F17-6623-4C51-9C95-62326DF3FC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24F78-B5BA-432A-977D-C16B1DE58D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5800" y="1174320"/>
            <a:ext cx="815328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4.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helps BW, but not vice vers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Spinning disk faster improves both bandwidth and rotational latenc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600 RPM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15000 RPM =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verage rotational latency: 8.3 ms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0 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ings being equal, also helps BW by 4.2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wer DRAM latency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More access/second (higher bandwidth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Higher linear density helps disk BW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(and capacity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, but not disk Lat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9,55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533,000 BPI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0X in B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-3636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D9FC-3DC3-4898-9250-381658E02DC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CCDDEB-C8DC-4EE7-B7B8-352BAED739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63120" y="1163520"/>
            <a:ext cx="8153640" cy="536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5. Bandwidth hurts latenc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Queues help Bandwidth, hurt Latency (Queuing Theor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Adding chips to widen a memory module increases Bandwidth but higher fan-out on address lines may increase Latenc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6. Operating System overhead hurts 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Latency more than Bandwidt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Long messages amortize overhead;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overhead bigger part of short mess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311040" y="151920"/>
            <a:ext cx="8756640" cy="538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6 Reasons Latency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  <a:ea typeface="Times New Roman"/>
              </a:rPr>
              <a:t>Lags Bandwidth (cont’d)</a:t>
            </a: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0D6E-8371-4768-BFF4-382D6465C37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8BF14-4178-4DC9-9DC8-24745DF985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15800" y="325080"/>
            <a:ext cx="73598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ummary of Technology Tren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240920"/>
            <a:ext cx="8458200" cy="575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For disk, LAN, memory, and microprocessor, bandwidth improves by square of latency improv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  <a:ea typeface="Times New Roman"/>
              </a:rPr>
              <a:t>In the time that bandwidth doubles, latency improves by no more than 1.2X to 1.4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g probably even larger in real systems, as bandwidth gains multiplied by replicated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processors in a cluster or even  in a chi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disks in a disk arr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ultiple memory modules in a large memory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imultaneous communication in switched L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W and SW developers should innovate assuming Latency Lags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f everything improves at the same rate, then nothing really chang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When rates vary, require real innov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F77-58A1-42B6-BDED-4BB18E61BA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1AF87F-3482-410E-BB07-D7ED5C11B8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9A4F-1007-405B-8124-7CD8515A4F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E686A-7DC7-4C0D-8D47-07C1927C27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 1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CMOS chips, traditional dominant energy consumption has been in switching transistor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dynam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41360" y="2203560"/>
                <a:ext cx="805644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FrequencySwitche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3440" y="265428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obile devices, energy better metr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992240" y="3036960"/>
                <a:ext cx="49341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ergy</m:t>
                    </m:r>
                    <m:r>
                      <m:rPr>
                        <m:lit/>
                        <m:nor/>
                      </m:rPr>
                      <m:t xml:space="preserve">dynam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apacitiveLoad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708120" y="344484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fixed task, slowing clock rate (frequency switched) reduces power, but not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pacitive load a function of number of transistors connected to output and technology, which determines capacitance of wires and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opping voltage helps both, so went from 5V to 1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save energy &amp; dynamic power, most CPUs now turn off clock of inactive modules (e.g. Fl. Pt. Un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C6C0-D031-463C-A6B0-78E6CB66AE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A0DDE0-6F4F-4BFB-A6F2-B295B8956A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of  quantifying power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32960" cy="14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se 15% reduction in voltage results in a 15% reduction in frequency. What is impact on dynamic pow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95360" y="2565360"/>
                <a:ext cx="829944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5</m:t>
                        </m:r>
                        <m:r>
                          <m:rPr>
                            <m:lit/>
                            <m:nor/>
                          </m:rPr>
                          <m:t xml:space="preserve">CapacitiveLoad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×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oltage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FrequencySwitched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5</m:t>
                            </m:r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OldPower</m:t>
                        </m:r>
                        <m:r>
                          <m:rPr>
                            <m:lit/>
                            <m:nor/>
                          </m:rPr>
                          <m:t xml:space="preserve">dynami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1F5-56F8-4AD4-8B3D-DE66DEBA521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B79CBF-DFB4-45D6-8D77-5DCEF97A15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power (2 /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116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leakage current flows even when a transistor is off, now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static pow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mportant to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3440" y="2755800"/>
            <a:ext cx="80024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6000"/>
          </a:bodyPr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kage current increases in processors with smaller transistor s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e number of transistors increases power even if they are turned 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2006, goal for leakage is 25% of total power consumption; high performance designs at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2600" indent="-102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low power systems even gate voltage to inactive modules to control loss due to lea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298600" y="2063880"/>
                <a:ext cx="4027680" cy="45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wer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urrent</m:t>
                    </m:r>
                    <m:r>
                      <m:rPr>
                        <m:lit/>
                        <m:nor/>
                      </m:rPr>
                      <m:t xml:space="preserve">static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Voltage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0D31-F40B-48D8-BC28-44F96370FA5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49B20-7269-4A9C-BEB2-E0190E4D3A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E791-D0BD-4257-84F5-CB011E14854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001247-BD72-4B0F-A111-72DBFA254D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1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74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ecide when a system is operating properl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rastructure providers now offer Service Level Agreements (SLA) to guarantee that their networking or power service would be depend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s alternate between 2 states of service with respect to an SL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accomplishm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service is delivered as specified in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ervice interru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where the delivered service is different from the SL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1 to state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Restor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ransition from state 2 to state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9D4-90CD-4477-9178-25EBA2790D6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2066B-3DBF-43BB-9FF5-2BFB0D9D3C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699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e and quantity dependability (2/3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36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reli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measure of continuous service accomplishment (or time to failure)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 metri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Failu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Reli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ailures In Tim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FI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= 1/MTTF, the rate of failur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ditionally reported as failures per billion hours of op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ean Time To Repai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TT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measures Service Interrup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-33948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ean Time Between Failur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MTB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MTTF+MTT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ice as alternate between the 2 states of accomplishment and interruption (number between 0 and 1, e.g. 0.9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dule availability = MTTF / ( MTTF + MTT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72E4-69AF-46DD-B598-12BD9353355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0AD8E-DFBD-40BE-AB7C-62DAF86DB0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: Computer Architecture bring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A48-6033-482D-9747-5F0C8D4CC6C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649D3-0792-408B-AF84-28739408CB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01600" y="3898800"/>
                <a:ext cx="2221200" cy="21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</m:e>
                      <m:e/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7A1F-1342-4C2D-B343-A1A2AE34479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DC8B1-8A48-40C4-A0C8-459E3F2AC4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calculating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56756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modules have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exponentially distributed lifetim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ge of  module does not affect probability of failure), overall failure rate is the sum of failure rates of the modu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culate FIT and MTTF for 10 disks (1M hour MTTF per disk), 1 disk controller (0.5M hour MTTF), and 1 power supply (0.2M hour MTTF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090440" y="3726000"/>
                <a:ext cx="7048800" cy="26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ailureRat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F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TTF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5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hour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DC29-B918-4EFC-92F0-C97FCECC4F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F29A2-9980-455E-82B3-86300F5732B6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D061-C1B7-452D-97B0-F0228688257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6CF2E-028E-47EC-A543-3393255A33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189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194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9D5A-CFF6-4046-9662-CDED732296A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BE923-62E9-48B5-A44D-E9F0E55E7894}" type="datetime1">
              <a:rPr lang="en-US"/>
              <a:t>07/28/26</a:t>
            </a:fld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, called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7A6C-9486-4726-9676-2158EA14319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C62EA7-50F4-4860-8574-AAAFAD167F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5E9-19A9-4328-8EDA-3A7129EB3E3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E5D4D-0186-46FF-B8CB-D0ED9ED8F5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9B7B-A9D6-4B3C-8BCA-BB5983BBCA3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0F0D9-B8C6-48D1-A124-40F498361F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two points make geometric mean of ratios attractive to summariz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2EDE-0381-4E44-8BA4-30593BDF1A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5F717-D3E1-460D-86B5-D33AE94AEE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5AA-F028-432E-AC15-B798414BBA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BAD71B-D271-4731-871B-E9C88CB54A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E8B7-3A45-4D56-8236-09D09D311BA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3702C1-E929-43C5-BDEA-2465CD19E3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: Culture of tracking,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FD44-60BC-44D1-8009-D785CD2E78F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E80D1-B330-4651-976C-7DAC0613C9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1F1-17AC-4DFB-B45F-656A4413AA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6A1C6-492F-40B1-8AD6-21BF6F1295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171440" y="1484280"/>
          <a:ext cx="7972560" cy="490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1440" y="1484280"/>
                    <a:ext cx="797256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34E-DBCD-499D-AFA2-25490C1D55B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4CCD74-405E-433C-AC85-4D61AD8D3C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esults are quite compatible with a lognormal distribution (expect 68%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AD45-FB9B-43DA-82D5-40E2F0E5905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DF4EE-347E-456C-91B0-C3581EF11C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, FIT), Availability (99.9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Appendix A, record bugs online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86AE-0B81-4F0A-B827-AA62A2FB986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52C3B-197B-4847-89BA-83EE80B38E2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01640" y="1231920"/>
            <a:ext cx="2266920" cy="210168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64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ore’s Law: 2X transistors / “year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1120" y="5603400"/>
            <a:ext cx="8732880" cy="76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amming More Components onto Integrated Circuits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rdon Moore, Electronics, 196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# on transistors / cost-effective integrated circuit double every N months (12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≤ N ≤ 24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44840" y="2760840"/>
            <a:ext cx="2739960" cy="2719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17520" y="3586320"/>
            <a:ext cx="2193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4854600" y="1144440"/>
          <a:ext cx="4289400" cy="2924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54600" y="1144440"/>
                    <a:ext cx="4289400" cy="29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F21-ADF3-4FE0-A4AD-6C0EF40BE4D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AA0AC-187F-47DF-BDFD-0A0C2E8B2F94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23760" y="330120"/>
            <a:ext cx="69120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332b7"/>
                </a:solidFill>
                <a:latin typeface="Arial"/>
              </a:rPr>
              <a:t>Tracking Technology Performance Trend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5760" y="1150920"/>
            <a:ext cx="8076960" cy="523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ill down into 4 technolo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s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~1980 Archaic (Nostalgic) vs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~2000 Modern (Newfangled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Milestones in each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re for Bandwidth vs. Latency improvements in performance over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number of events per unit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M bits / second over network, M bytes / second from di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elapsed time for a single ev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ne-way network delay in microsecond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disk access time in milliseco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CEE-754D-4F95-A02B-A0560B9783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9F33E3-95E8-430C-A5CB-9DB89BF1F2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240" y="326520"/>
            <a:ext cx="896940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isks: Archaic(Nostalgic) v. Modern(Newfangled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3040" y="1143000"/>
            <a:ext cx="480060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agate 373453, 200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000 RP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3.4 GByt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5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64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8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533,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6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2.5” plat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 3.5” form facto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6 MBytes/se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14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 5.7 m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8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40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8 MBy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1143000"/>
            <a:ext cx="3848040" cy="543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DC Wren I, 198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0 RP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3 GBytes capac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acks/Inch: 8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its/Inch: 955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5.25” plat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width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6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48.3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che: n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1F2-05D0-4A0E-90EA-A68F7EAB89CE}" type="slidenum">
              <a:t>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0BEA6-A70C-4AA5-9380-9E3A6A30C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33000" y="293400"/>
            <a:ext cx="861372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Latency Lags Bandwidth (for last ~20 year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91120" y="1099800"/>
            <a:ext cx="4952880" cy="603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formance Milest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  <a:ea typeface="Times New Roman"/>
              </a:rPr>
              <a:t>Di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: 3600, 5400, 7200, 10000, 15000 RPM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8x, 14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44280" y="5726160"/>
            <a:ext cx="352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(latency = simple operation w/o conten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W = best-c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-399960" y="752400"/>
          <a:ext cx="47149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99960" y="752400"/>
                    <a:ext cx="47149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8DCF-A662-4892-A65C-6292E43D28F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AF5327-D757-4810-A615-03227291F0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7080" y="445680"/>
            <a:ext cx="9215640" cy="53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Memory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aic (Nostalgic) v. Modern (Newfangled)</a:t>
            </a:r>
            <a:endParaRPr b="1" lang="en-US" sz="2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100160"/>
            <a:ext cx="423396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80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asynchronou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6 Mbit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,000 xtors, 35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-bit data bus per module, 16 pins/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 Mbytes/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225 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no block transf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43360" y="1055520"/>
            <a:ext cx="5486400" cy="44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00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uble Data Rate Synchr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clocked) D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.00 Mbit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00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6,000,000 xtors, 204 m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data bus 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MM, 66 pins/chi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0 Mbytes/se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120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tency: 52 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4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r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transfers (page mod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970C-D165-44F0-AB4F-A6BE06A0518B}" type="slidenum">
              <a:t>9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9A710-E1B6-4205-A0F6-F42BA30EA1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6:30:27Z</dcterms:modified>
  <cp:revision>91</cp:revision>
  <dc:subject/>
  <dc:title>EECS 252 Graduate Computer Architecture   Lec 01 - Introduction  </dc:title>
</cp:coreProperties>
</file>