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7595CB6-B029-4AAB-9F94-12A054BA8B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A09B92-1149-4B3D-B9ED-78E3A773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94A2D2F-3B9C-403D-BBB8-6E342BBD64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890-F765-4785-AF94-0DCDF004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6BD-E34C-4120-BD70-766AC1E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962-5280-4917-BAA3-9D7DE6A9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850A-B179-4E41-8DBC-0EE9306C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A6B-EAE9-4C07-B624-7F811111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E31-A0B6-4B50-B7EB-98D96D3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B89-A145-41B5-AD16-2E8806FA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3AD-4FAD-4DCC-860A-25B416C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AB3-D7E3-4FE8-873D-FDB717C2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3A3-B858-46F2-93D8-A3067CE4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B8E-6A18-411B-B830-B403633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278-46D6-40D4-BBE0-1E4CD72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5CE-7E41-44FE-9EEE-1C5FA7B29EFE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A944-2165-407D-8E1B-F0596563D0C1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648-47FC-4F79-9ACF-16F7FFEDC3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430FB-FABD-4EE0-BB50-DCBF2AF0A1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A12-B5EB-4054-A149-81E019D01B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B3060-E735-4B9E-A709-400D8C5CD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DEF-FF12-471F-B912-8A19776952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67D18-95B7-47F4-A5E3-CDC9498DB9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B15-6CA3-4593-9A10-38E48DB91D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F73EB-B44A-465C-9185-D5BDC77626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B10-7522-484E-9AC3-402152F381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3340-B751-48DE-B8D2-EEBF815962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412-60F0-48D0-B737-4BD8D38B75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D890E-4AEC-4789-BE00-4907E481D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35D-1448-4D25-9345-BAF3B1B468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3C0F9-0C18-4C14-8808-E59DDB0BC16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D51-4835-49CE-970C-E2FB7391DB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037DC-DAFB-4BDB-8B75-D91ADFED17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810-86EC-41F3-8FD3-73891322F3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8336-59CA-4892-A26A-C0029D983129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FBC-8051-4529-9B9D-1F004B305B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0278-D99F-49B5-B3E9-CA88EAB6C1DC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AB0-0A86-4ABB-AC8B-E9F2964F50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48E9C-D6B0-4C29-90F9-ABF5C53AE2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E47-AC7F-4E0F-9FDC-CCDDB5A6CF9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6F148-572A-4977-B8E4-C1D86B68A6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346-660F-4072-8143-4F37518F6E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B7CB9-4962-45EB-85C3-B9BC5E55E3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F31-BEEC-406D-9236-6A479D8A03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EA614-15D8-428A-BD93-42DCBF51E76E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656-2339-436B-B007-BE2FBA533A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919E1-846E-446A-8AAF-E72F123F7F9B}" type="datetime1">
              <a:rPr lang="en-US"/>
              <a:t>07/29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0EB-23EF-4906-9B7E-51D16C9508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2920-7883-4D8F-8144-994082A4E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D9C-6F3C-4D6C-A27C-2FBA72F344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812C2-0271-4354-BB95-35D6D6D9F02F}" type="datetime1">
              <a:rPr lang="en-US"/>
              <a:t>07/29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42E-AF88-48D9-8AFA-D0A3053CF5A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3EFC1-17A0-46D2-BC73-AE84400CBD0D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108-DD18-4DA4-B30E-2529337086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F9FD8-28B0-4A91-9D72-3E286C8E7812}" type="datetime1">
              <a:rPr lang="en-US"/>
              <a:t>07/29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CD4-B507-4976-A276-A7FD931156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7D207-99D2-441E-92B3-3E9BDEACC6B3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8F7-2186-4752-BDA1-FCCB69CDF6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63A02-356F-4293-A9F0-2CDFE01D4687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1E4-B916-4A78-A133-5B7692B230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59EFE-6253-46E8-AFF4-766223908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268-D6DB-4D21-9AE9-293C9F3D96A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6F915-BAEF-4C68-A73D-5E06CB943DFD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A38-6ED3-40E6-B890-2A1E468F05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6AC72-18EE-4F82-93F0-5DB29FB2A00E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D54-B24E-4C5C-A364-F9A9CB5CB50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2607-F035-446C-AB85-32255DF30C0E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861-6A25-4602-B828-B839730148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1E90C-3C35-488D-978F-EE24CECEBE61}" type="datetime1">
              <a:rPr lang="en-US"/>
              <a:t>07/29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7DF-ED1E-48C7-B957-05366263E9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43602-39A7-4903-B486-36FE7DD848C9}" type="datetime1">
              <a:rPr lang="en-US"/>
              <a:t>07/29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E46-3EB0-4F26-A982-DE8CF8BD26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FB2DF-57B9-4E1F-85D2-36F94ED9E84F}" type="datetime1">
              <a:rPr lang="en-US"/>
              <a:t>07/29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CD5-8863-41F8-8182-E1531CE3AE5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2AAF1-78D1-4359-B3FE-4174DDF960A5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2E0-DE51-4169-9DC9-FC5D7F910EB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48208-5EF6-40DB-A468-BE86C1A472F1}" type="datetime1">
              <a:rPr lang="en-US"/>
              <a:t>07/29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B35-12F5-4177-8A9E-FA20B4B5301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82AD4-A544-4B05-A651-5D1C9A870444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430-9CF8-4021-944D-0056BA210B1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05F54-CAFF-41E1-975F-B71A1C33D02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441-FE2C-4A70-9BA0-04334413D2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DDD24-99F4-4DA3-8E12-ED07391BF2EE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A70-7407-4448-AAE6-1ADB4EBA14D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BDCE5-4C88-437D-8AA8-1A908EA43606}" type="datetime1">
              <a:rPr lang="en-US"/>
              <a:t>07/29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2EF-ED51-40FC-B6B6-891CA953CA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AA973-6C33-4518-9CDF-B4A8273E5CAE}" type="datetime1">
              <a:rPr lang="en-US"/>
              <a:t>07/29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859-7C14-4FF8-96B1-306894E37B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A8186-4985-47D0-B2B1-B39CEA886E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987-A681-4B0B-AC0E-B77EB043B4F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CEA5D-0754-449B-81A7-8B9BD8A251E7}" type="datetime1">
              <a:rPr lang="en-US"/>
              <a:t>07/29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41C-825E-498F-BD4B-CA0D0503F8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C2D1C-2425-436C-B592-A8715ECFA5B1}" type="datetime1">
              <a:rPr lang="en-US"/>
              <a:t>07/29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D30-55D3-4872-8DCD-42327DC09C3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A08D2-8A1F-4964-B01A-048538F82A74}" type="datetime1">
              <a:rPr lang="en-US"/>
              <a:t>07/29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0C5-1CC9-4EBB-8F7C-31D442FD705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B67A3-D116-460F-BF1E-B3919C7FE1B7}" type="datetime1">
              <a:rPr lang="en-US"/>
              <a:t>07/29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780-3111-4BFC-9B56-23388939AE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CA93A-DAE1-47FF-9F63-075FBBCC09EE}" type="datetime1">
              <a:rPr lang="en-US"/>
              <a:t>07/29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3F7-CDD4-4AB6-BA49-B8DDA13C25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A6744-42A6-4246-A9BF-4C09B06A37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B10-93D8-4114-BE72-F1D7AC116B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6EE13-972A-41E1-AAD4-DFF4C95595E6}" type="datetime1">
              <a:rPr lang="en-US"/>
              <a:t>07/29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AD0-998C-4A08-B6A0-E76AC46234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CDBEF-7129-416B-B74B-A753041514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3B3-B7C1-4E77-BBD6-A803458FE7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7B969-2CD5-46BF-9067-6D5A74812892}" type="datetime1">
              <a:rPr lang="en-US"/>
              <a:t>07/29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4FC-6435-45A0-9C02-EC682B43DC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A976F-77F2-473A-9D06-AB7EDD7398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109-1256-4CE2-BDBC-83AE6FAA6B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F40EA-E813-478C-B2D3-992B6E5851FB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903-E55C-43D4-BC0D-D54C2A76BB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04763-68E0-457C-8109-FCE25644B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963-E8CC-4896-AE99-439A804DB4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9DB59-15C8-487F-98F9-A11DDC53B2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A9E-225A-42A3-8E9C-ED02CD9180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C2788-F649-4269-9018-AF93E5251C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0CA-906C-4F0F-8EEA-0080B1B6D1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35DEB-23A3-4F0E-A0F8-19C234444F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