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22680" y="21960"/>
            <a:ext cx="2978280" cy="406440"/>
          </a:xfrm>
          <a:prstGeom prst="rect">
            <a:avLst/>
          </a:prstGeom>
          <a:noFill/>
          <a:ln w="0">
            <a:noFill/>
          </a:ln>
        </p:spPr>
        <p:txBody>
          <a:bodyPr lIns="16920" rIns="16920" tIns="0" bIns="0" anchor="t">
            <a:noAutofit/>
          </a:bodyPr>
          <a:p>
            <a:pPr indent="0">
              <a:buNone/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901680" y="21960"/>
            <a:ext cx="2978280" cy="406440"/>
          </a:xfrm>
          <a:prstGeom prst="rect">
            <a:avLst/>
          </a:prstGeom>
          <a:noFill/>
          <a:ln w="0">
            <a:noFill/>
          </a:ln>
        </p:spPr>
        <p:txBody>
          <a:bodyPr lIns="16920" rIns="16920" tIns="0" bIns="0" anchor="t">
            <a:noAutofit/>
          </a:bodyPr>
          <a:lstStyle>
            <a:lvl1pPr indent="0" algn="r">
              <a:buNone/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  <a:defRPr b="0" i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-22680" y="8714880"/>
            <a:ext cx="2978280" cy="406440"/>
          </a:xfrm>
          <a:prstGeom prst="rect">
            <a:avLst/>
          </a:prstGeom>
          <a:noFill/>
          <a:ln w="0">
            <a:noFill/>
          </a:ln>
        </p:spPr>
        <p:txBody>
          <a:bodyPr lIns="16920" rIns="16920" tIns="0" bIns="0" anchor="b">
            <a:noAutofit/>
          </a:bodyPr>
          <a:lstStyle>
            <a:lvl1pPr indent="0">
              <a:buNone/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  <a:defRPr b="0" i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3901680" y="8714880"/>
            <a:ext cx="2978280" cy="406440"/>
          </a:xfrm>
          <a:prstGeom prst="rect">
            <a:avLst/>
          </a:prstGeom>
          <a:noFill/>
          <a:ln w="0">
            <a:noFill/>
          </a:ln>
        </p:spPr>
        <p:txBody>
          <a:bodyPr lIns="16920" rIns="16920" tIns="0" bIns="0" anchor="b">
            <a:noAutofit/>
          </a:bodyPr>
          <a:lstStyle>
            <a:lvl1pPr indent="0" algn="r">
              <a:buNone/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  <a:defRPr b="0" i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fld id="{34EEA4A2-B65B-44DB-9655-DF607547C66D}" type="slidenum"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793960" y="8713800"/>
            <a:ext cx="1271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2F9C0C5-00F1-49A6-9928-8EE35BF0D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Img"/>
          </p:nvPr>
        </p:nvSpPr>
        <p:spPr>
          <a:xfrm>
            <a:off x="1400040" y="879120"/>
            <a:ext cx="4057920" cy="3043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lve RAW memory conflict? (address in memory buff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er unit executes in parall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lve RAW memory conflict? (address in memory buff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er unit executes in parall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lve RAW memory conflict? (address in memory buff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er unit executes in parall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lve RAW memory conflict? (address in memory buff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er unit executes in parall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lve RAW memory conflict? (address in memory buff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er unit executes in parall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lve RAW memory conflict? (address in memory buff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er unit executes in parall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lve RAW memory conflict? (address in memory buff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er unit executes in parall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lve RAW memory conflict? (address in memory buff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er unit executes in parall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3478-BED4-4C9D-8F83-20FB0D4BE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98040" y="3767760"/>
            <a:ext cx="768348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1D15-19D2-4945-982C-B5B1B351F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9804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536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1B98-04F1-4A5B-97F9-AC011C53A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6160" y="1193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93920" y="1193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98040" y="3767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6160" y="3767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93920" y="3767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F449-928B-4648-A83A-A807B661E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9F0A-493F-4E96-9759-0F33030B0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C2EA-B374-4B58-99E4-9AFEF4715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2F8A-9C10-4CE4-9A76-284D898B0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6A49-FE3C-4F8A-B4E4-40F6CF18B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30120"/>
            <a:ext cx="729288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E36C-407A-4C53-B56C-57ECCEF82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9804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4649-A898-4A2B-BEBE-4E90A53A6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536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833B-4257-4BB9-BE19-EE00C1894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98040" y="3767760"/>
            <a:ext cx="768348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3502-0A11-4C98-8478-EB897430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426360"/>
            <a:ext cx="1905120" cy="2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ae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E6714-772B-493B-AB12-104E22194325}" type="datetime">
              <a:rPr b="1" lang="en-US" sz="1400" spc="-1" strike="noStrike">
                <a:solidFill>
                  <a:srgbClr val="00ae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426360"/>
            <a:ext cx="2895840" cy="2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114ffb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4ffb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413400"/>
            <a:ext cx="1905120" cy="29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ae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3656E-422B-49B6-AFD7-2A40A503EB1F}" type="slidenum">
              <a:rPr b="1" lang="en-US" sz="1400" spc="-1" strike="noStrike">
                <a:solidFill>
                  <a:srgbClr val="00ae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93720" y="1041480"/>
            <a:ext cx="7778880" cy="0"/>
          </a:xfrm>
          <a:prstGeom prst="line">
            <a:avLst/>
          </a:prstGeom>
          <a:ln w="47520">
            <a:solidFill>
              <a:srgbClr val="fbb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rcRect l="0" t="0" r="0" b="22222"/>
          <a:stretch/>
        </p:blipFill>
        <p:spPr>
          <a:xfrm>
            <a:off x="8404200" y="0"/>
            <a:ext cx="739800" cy="62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898640"/>
            <a:ext cx="7753320" cy="166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ECS 252 Graduate Computer Architecture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 Lec 8 – Instruction Level Parallelism </a:t>
            </a:r>
            <a:br>
              <a:rPr sz="3200"/>
            </a:b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63560" y="4289400"/>
            <a:ext cx="7662960" cy="181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vid Patter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ctrical Engineering and Computer Scien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versity of California, Berkele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www.eecs.berkeley.edu/~pattrs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vlsi.cs.berkeley.edu/cs252-s06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29440" cy="40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eorder Buffer operation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62000" y="1066320"/>
            <a:ext cx="8982000" cy="437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lds instructions in FIFO order, exactly as issu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instructions complete, results placed into RO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lies operands to other instruction between execution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lete &amp; commit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ore registers like 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 results with ROB buffer number instead of reservation st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uctions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commit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s at head of ROB placed in regis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 a result, easy to und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ulated instruction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 mispredicted branches </a:t>
            </a:r>
            <a:br>
              <a:rPr sz="2400"/>
            </a:br>
            <a:r>
              <a:rPr b="1" lang="en-US" sz="2400" spc="-1" strike="noStrike" u="sng">
                <a:solidFill>
                  <a:srgbClr val="fc0128"/>
                </a:solidFill>
                <a:uFillTx/>
                <a:latin typeface="Arial"/>
              </a:rPr>
              <a:t>or on excep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5029200" y="3352680"/>
            <a:ext cx="3733200" cy="3047760"/>
            <a:chOff x="5029200" y="3352680"/>
            <a:chExt cx="3733200" cy="3047760"/>
          </a:xfrm>
        </p:grpSpPr>
        <p:sp>
          <p:nvSpPr>
            <p:cNvPr id="72" name=""/>
            <p:cNvSpPr/>
            <p:nvPr/>
          </p:nvSpPr>
          <p:spPr>
            <a:xfrm>
              <a:off x="6867000" y="3540600"/>
              <a:ext cx="1497960" cy="857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or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uff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495400" y="3958920"/>
              <a:ext cx="685440" cy="9673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ue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7160" y="5872320"/>
              <a:ext cx="945000" cy="198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P Ad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120440" y="5872320"/>
              <a:ext cx="945000" cy="198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P Ad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097960" y="5511600"/>
              <a:ext cx="1307880" cy="261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 St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913080" y="5511600"/>
              <a:ext cx="1307880" cy="261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 St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29200" y="6364080"/>
              <a:ext cx="3693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733960" y="3363120"/>
              <a:ext cx="0" cy="2974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7627320" y="3352680"/>
              <a:ext cx="1135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27680" y="3352680"/>
              <a:ext cx="0" cy="182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29840" y="6076440"/>
              <a:ext cx="0" cy="292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575840" y="6107760"/>
              <a:ext cx="0" cy="292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95280" y="4947120"/>
              <a:ext cx="0" cy="543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806800" y="5156280"/>
              <a:ext cx="1757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627680" y="5172120"/>
              <a:ext cx="0" cy="308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627680" y="4419360"/>
              <a:ext cx="0" cy="71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7529400" y="5156280"/>
              <a:ext cx="1215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097400" y="4552200"/>
              <a:ext cx="1013760" cy="402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P Reg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714400" y="4975200"/>
            <a:ext cx="167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ommit p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4373640" y="4451400"/>
            <a:ext cx="3200400" cy="676080"/>
          </a:xfrm>
          <a:prstGeom prst="line">
            <a:avLst/>
          </a:prstGeom>
          <a:ln w="572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D9F4-87B6-47CE-A77B-D4C2CECFC93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651B26-D76E-4ECE-A6C1-9F87F6B19AC9}" type="datetime1">
              <a:rPr lang="en-US"/>
              <a:t>07/28/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ecall: 4 Steps of Speculative Tomasulo Algorithm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06080" y="1517760"/>
            <a:ext cx="7823160" cy="434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2714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Iss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get instruction from FP Op Que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reservation station </a:t>
            </a:r>
            <a:r>
              <a:rPr b="1" lang="en-US" sz="1800" spc="-1" strike="noStrike">
                <a:solidFill>
                  <a:srgbClr val="618ffd"/>
                </a:solidFill>
                <a:latin typeface="Arial"/>
              </a:rPr>
              <a:t>and reorder buffer slo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ree, issue instr &amp; send operands </a:t>
            </a:r>
            <a:r>
              <a:rPr b="1" lang="en-US" sz="1800" spc="-1" strike="noStrike">
                <a:solidFill>
                  <a:srgbClr val="618ffd"/>
                </a:solidFill>
                <a:latin typeface="Arial"/>
              </a:rPr>
              <a:t>&amp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618ffd"/>
                </a:solidFill>
                <a:latin typeface="Arial"/>
              </a:rPr>
              <a:t>reorder buffer no. for destin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this stage sometimes called “dispatch”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operate on operands (EX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both operands ready then execute; if not ready, watch CDB for result; when both in reservation station, execute; checks RAW (sometimes called “issue”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Write resul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finish execution (WB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rite on Common Data Bus to all awaiting FUs </a:t>
            </a:r>
            <a:br>
              <a:rPr sz="1800"/>
            </a:br>
            <a:r>
              <a:rPr b="1" lang="en-US" sz="1800" spc="-1" strike="noStrike">
                <a:solidFill>
                  <a:srgbClr val="618ffd"/>
                </a:solidFill>
                <a:latin typeface="Arial"/>
              </a:rPr>
              <a:t>&amp; reorder buff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 mark reservation station availabl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Commit</a:t>
            </a:r>
            <a:r>
              <a:rPr b="1" lang="en-US" sz="2400" spc="-1" strike="noStrike">
                <a:solidFill>
                  <a:srgbClr val="618ffd"/>
                </a:solidFill>
                <a:latin typeface="Arial"/>
              </a:rPr>
              <a:t>—update register with reorder resul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18ffd"/>
                </a:solidFill>
                <a:latin typeface="Arial"/>
              </a:rPr>
              <a:t>When instr. at head of reorder buffer &amp; result present, update register with result (or store to memory) and remove instr from reorder buffer. Mispredicted branch flushes reorder buffer (sometimes called “graduation”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CF5C-91A0-46A7-BE7A-67C71A7F384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DF6EBE-A10E-472C-9100-B823E397D4FC}" type="datetime1">
              <a:rPr lang="en-US"/>
              <a:t>07/28/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S 252 Administrivia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867800" cy="5467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Page project writeups Due LAST Sunda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dnesday Reading Assignment: Chapter 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iday Reading Assignment: Dean Tullsen, Susan Eggers, and Hank Levy. “Simultaneous Multithreading: Maximizing OnChip Parallelism.” ISCA 22, June 199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y 30 minute discussion after one hour lecture on Monda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d email to TA by Friday, will be posted on Saturday, review before discussion on Monda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san Eggers took CS252 here; just elected to National Academy of Engineering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assumption made about computer organization before add SMT? How compare to Wall’s claims of ILP limits? What changes made to add SMT? What performance advantages claimed? For what workloads?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E711-2459-4B58-AEDD-EAB10F8A58A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ED6164-EEBE-40BE-AE20-9FACE060F306}" type="datetime1">
              <a:rPr lang="en-US"/>
              <a:t>07/28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3505320" y="4800600"/>
            <a:ext cx="2514600" cy="406440"/>
            <a:chOff x="3505320" y="4800600"/>
            <a:chExt cx="2514600" cy="406440"/>
          </a:xfrm>
        </p:grpSpPr>
        <p:sp>
          <p:nvSpPr>
            <p:cNvPr id="97" name=""/>
            <p:cNvSpPr/>
            <p:nvPr/>
          </p:nvSpPr>
          <p:spPr>
            <a:xfrm>
              <a:off x="3505320" y="4800600"/>
              <a:ext cx="25146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05320" y="5003640"/>
              <a:ext cx="2514600" cy="203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52720" y="4800600"/>
              <a:ext cx="675000" cy="406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304920" y="4648320"/>
            <a:ext cx="2590560" cy="203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4851360"/>
            <a:ext cx="2590560" cy="20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5054760"/>
            <a:ext cx="2590560" cy="203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62040" y="4648320"/>
            <a:ext cx="63324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562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Tomasulo With Reorder buffer: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6477120"/>
            <a:ext cx="8534160" cy="0"/>
          </a:xfrm>
          <a:prstGeom prst="line">
            <a:avLst/>
          </a:prstGeom>
          <a:ln w="763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485760" y="3742560"/>
            <a:ext cx="11300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81160" y="5791320"/>
            <a:ext cx="1066680" cy="3045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ad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253040" y="5791320"/>
            <a:ext cx="1447560" cy="3045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multipl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357200" y="52578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043000" y="52578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81640" y="51814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96040" y="51814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628720" y="5284080"/>
            <a:ext cx="16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serv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514600" y="5257440"/>
            <a:ext cx="0" cy="121932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867280" y="5181120"/>
            <a:ext cx="0" cy="12956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0880" y="914040"/>
            <a:ext cx="9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Que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3505320" y="3505320"/>
            <a:ext cx="2209680" cy="812520"/>
            <a:chOff x="3505320" y="3505320"/>
            <a:chExt cx="2209680" cy="812520"/>
          </a:xfrm>
        </p:grpSpPr>
        <p:sp>
          <p:nvSpPr>
            <p:cNvPr id="118" name=""/>
            <p:cNvSpPr/>
            <p:nvPr/>
          </p:nvSpPr>
          <p:spPr>
            <a:xfrm>
              <a:off x="3505320" y="350532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505320" y="3708360"/>
              <a:ext cx="2209680" cy="203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05320" y="391176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505320" y="411480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4952880" y="3276720"/>
            <a:ext cx="2057400" cy="533160"/>
          </a:xfrm>
          <a:custGeom>
            <a:avLst/>
            <a:gdLst/>
            <a:ahLst/>
            <a:rect l="l" t="t" r="r" b="b"/>
            <a:pathLst>
              <a:path w="1296" h="480">
                <a:moveTo>
                  <a:pt x="0" y="0"/>
                </a:moveTo>
                <a:lnTo>
                  <a:pt x="1296" y="0"/>
                </a:lnTo>
                <a:lnTo>
                  <a:pt x="1296" y="480"/>
                </a:lnTo>
              </a:path>
            </a:pathLst>
          </a:custGeom>
          <a:noFill/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90440" y="988200"/>
            <a:ext cx="662400" cy="22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505320" y="990720"/>
            <a:ext cx="3886200" cy="1218600"/>
            <a:chOff x="3505320" y="990720"/>
            <a:chExt cx="3886200" cy="1218600"/>
          </a:xfrm>
        </p:grpSpPr>
        <p:sp>
          <p:nvSpPr>
            <p:cNvPr id="125" name=""/>
            <p:cNvSpPr/>
            <p:nvPr/>
          </p:nvSpPr>
          <p:spPr>
            <a:xfrm>
              <a:off x="3505320" y="990720"/>
              <a:ext cx="38088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505320" y="1295280"/>
              <a:ext cx="380880" cy="304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886200" y="990720"/>
              <a:ext cx="99072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86200" y="1295280"/>
              <a:ext cx="990720" cy="304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876920" y="990720"/>
              <a:ext cx="213336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876920" y="1295280"/>
              <a:ext cx="2133360" cy="304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10280" y="990720"/>
              <a:ext cx="38124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10280" y="1295280"/>
              <a:ext cx="381240" cy="304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505320" y="1599840"/>
              <a:ext cx="38088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86200" y="1599840"/>
              <a:ext cx="99072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876920" y="1599840"/>
              <a:ext cx="213336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010280" y="1599840"/>
              <a:ext cx="38124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05320" y="1904760"/>
              <a:ext cx="38088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886200" y="1904760"/>
              <a:ext cx="99072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876920" y="1904760"/>
              <a:ext cx="213336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010280" y="1904760"/>
              <a:ext cx="38124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3505320" y="2209680"/>
            <a:ext cx="38088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05320" y="2514600"/>
            <a:ext cx="38088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05320" y="2819520"/>
            <a:ext cx="38088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209680"/>
            <a:ext cx="99072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886200" y="2514600"/>
            <a:ext cx="99072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86200" y="2819520"/>
            <a:ext cx="99072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76920" y="2209680"/>
            <a:ext cx="213336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76920" y="2514600"/>
            <a:ext cx="213336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76920" y="2819520"/>
            <a:ext cx="213336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D F0,10(R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010280" y="2209680"/>
            <a:ext cx="38124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010280" y="2514600"/>
            <a:ext cx="38124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010280" y="2819520"/>
            <a:ext cx="38124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952880" y="31240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37120" y="60876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on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467480" y="2209680"/>
            <a:ext cx="609840" cy="4267440"/>
          </a:xfrm>
          <a:custGeom>
            <a:avLst/>
            <a:gdLst/>
            <a:ahLst/>
            <a:rect l="l" t="t" r="r" b="b"/>
            <a:pathLst>
              <a:path w="576" h="2832">
                <a:moveTo>
                  <a:pt x="576" y="2832"/>
                </a:moveTo>
                <a:lnTo>
                  <a:pt x="576" y="0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952880" y="6095880"/>
            <a:ext cx="0" cy="45720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1716120" y="6091200"/>
            <a:ext cx="7920" cy="40176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9240" y="428220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351960" y="441900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8426520" y="1370880"/>
            <a:ext cx="457200" cy="1143000"/>
          </a:xfrm>
          <a:prstGeom prst="upArrow">
            <a:avLst>
              <a:gd name="adj1" fmla="val 50000"/>
              <a:gd name="adj2" fmla="val 62500"/>
            </a:avLst>
          </a:prstGeom>
          <a:solidFill>
            <a:srgbClr val="00ae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192160" y="259020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l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131680" y="99000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New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143000" y="712800"/>
            <a:ext cx="1218960" cy="914400"/>
            <a:chOff x="1143000" y="712800"/>
            <a:chExt cx="1218960" cy="914400"/>
          </a:xfrm>
        </p:grpSpPr>
        <p:sp>
          <p:nvSpPr>
            <p:cNvPr id="164" name=""/>
            <p:cNvSpPr/>
            <p:nvPr/>
          </p:nvSpPr>
          <p:spPr>
            <a:xfrm rot="16200000">
              <a:off x="78732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16200000">
              <a:off x="99036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16200000">
              <a:off x="119376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16200000">
              <a:off x="139680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16200000">
              <a:off x="160020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6200000">
              <a:off x="180324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6519240" y="4384080"/>
            <a:ext cx="11300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ro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010280" y="49528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6400800" y="5334120"/>
            <a:ext cx="1066320" cy="761760"/>
            <a:chOff x="6400800" y="5334120"/>
            <a:chExt cx="1066320" cy="761760"/>
          </a:xfrm>
        </p:grpSpPr>
        <p:sp>
          <p:nvSpPr>
            <p:cNvPr id="173" name=""/>
            <p:cNvSpPr/>
            <p:nvPr/>
          </p:nvSpPr>
          <p:spPr>
            <a:xfrm>
              <a:off x="6400800" y="5334120"/>
              <a:ext cx="1066320" cy="253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Courier New"/>
                </a:rPr>
                <a:t>1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10+R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400800" y="5587920"/>
              <a:ext cx="1066320" cy="254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400800" y="5842080"/>
              <a:ext cx="1066320" cy="253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756480" y="5334120"/>
              <a:ext cx="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6247800" y="502848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7200" y="1904400"/>
            <a:ext cx="281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order Buf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572840" y="3580560"/>
            <a:ext cx="18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gi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010280" y="60958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362320" y="114300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764D-8B55-40A4-9482-71C003C0A0F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931133-4E62-4DFE-B876-79378F3FE737}" type="datetime1">
              <a:rPr lang="en-US"/>
              <a:t>07/28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3505320" y="4800600"/>
            <a:ext cx="2514600" cy="406440"/>
            <a:chOff x="3505320" y="4800600"/>
            <a:chExt cx="2514600" cy="406440"/>
          </a:xfrm>
        </p:grpSpPr>
        <p:sp>
          <p:nvSpPr>
            <p:cNvPr id="183" name=""/>
            <p:cNvSpPr/>
            <p:nvPr/>
          </p:nvSpPr>
          <p:spPr>
            <a:xfrm>
              <a:off x="3505320" y="4800600"/>
              <a:ext cx="25146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5320" y="5003640"/>
              <a:ext cx="2514600" cy="203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852720" y="4800600"/>
              <a:ext cx="675000" cy="406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304920" y="4648320"/>
            <a:ext cx="2590560" cy="203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DDD R(F4),</a:t>
            </a: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RO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4920" y="4851360"/>
            <a:ext cx="2590560" cy="20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4920" y="5054760"/>
            <a:ext cx="2590560" cy="203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62040" y="4648320"/>
            <a:ext cx="63324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562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Tomasulo With Reorder buffer: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04920" y="6477120"/>
            <a:ext cx="8534160" cy="0"/>
          </a:xfrm>
          <a:prstGeom prst="line">
            <a:avLst/>
          </a:prstGeom>
          <a:ln w="763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485760" y="3742560"/>
            <a:ext cx="11300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181160" y="5791320"/>
            <a:ext cx="1066680" cy="3045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ad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253040" y="5791320"/>
            <a:ext cx="1447560" cy="3045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multipl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357200" y="52578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043000" y="52578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81640" y="51814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96040" y="51814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628720" y="5284080"/>
            <a:ext cx="16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serv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2514600" y="5257440"/>
            <a:ext cx="0" cy="121932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867280" y="5181120"/>
            <a:ext cx="0" cy="12956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00880" y="914040"/>
            <a:ext cx="9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Que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505320" y="3505320"/>
            <a:ext cx="2209680" cy="812520"/>
            <a:chOff x="3505320" y="3505320"/>
            <a:chExt cx="2209680" cy="812520"/>
          </a:xfrm>
        </p:grpSpPr>
        <p:sp>
          <p:nvSpPr>
            <p:cNvPr id="204" name=""/>
            <p:cNvSpPr/>
            <p:nvPr/>
          </p:nvSpPr>
          <p:spPr>
            <a:xfrm>
              <a:off x="3505320" y="350532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505320" y="3708360"/>
              <a:ext cx="2209680" cy="203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505320" y="391176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5320" y="411480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4952880" y="3276720"/>
            <a:ext cx="2057400" cy="533160"/>
          </a:xfrm>
          <a:custGeom>
            <a:avLst/>
            <a:gdLst/>
            <a:ahLst/>
            <a:rect l="l" t="t" r="r" b="b"/>
            <a:pathLst>
              <a:path w="1296" h="480">
                <a:moveTo>
                  <a:pt x="0" y="0"/>
                </a:moveTo>
                <a:lnTo>
                  <a:pt x="1296" y="0"/>
                </a:lnTo>
                <a:lnTo>
                  <a:pt x="1296" y="480"/>
                </a:lnTo>
              </a:path>
            </a:pathLst>
          </a:custGeom>
          <a:noFill/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390440" y="988200"/>
            <a:ext cx="662400" cy="22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3505320" y="990720"/>
            <a:ext cx="3886200" cy="2133360"/>
            <a:chOff x="3505320" y="990720"/>
            <a:chExt cx="3886200" cy="2133360"/>
          </a:xfrm>
        </p:grpSpPr>
        <p:grpSp>
          <p:nvGrpSpPr>
            <p:cNvPr id="211" name=""/>
            <p:cNvGrpSpPr/>
            <p:nvPr/>
          </p:nvGrpSpPr>
          <p:grpSpPr>
            <a:xfrm>
              <a:off x="3505320" y="990720"/>
              <a:ext cx="3886200" cy="1218600"/>
              <a:chOff x="3505320" y="990720"/>
              <a:chExt cx="3886200" cy="1218600"/>
            </a:xfrm>
          </p:grpSpPr>
          <p:sp>
            <p:nvSpPr>
              <p:cNvPr id="212" name=""/>
              <p:cNvSpPr/>
              <p:nvPr/>
            </p:nvSpPr>
            <p:spPr>
              <a:xfrm>
                <a:off x="3505320" y="99072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505320" y="1295280"/>
                <a:ext cx="38088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886200" y="99072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886200" y="1295280"/>
                <a:ext cx="99072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990720"/>
                <a:ext cx="213336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876920" y="1295280"/>
                <a:ext cx="213336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010280" y="99072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010280" y="1295280"/>
                <a:ext cx="38124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505320" y="159984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886200" y="159984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876920" y="1599840"/>
                <a:ext cx="213336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010280" y="159984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505320" y="190476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886200" y="190476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876920" y="1904760"/>
                <a:ext cx="213336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010280" y="190476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3505320" y="2209680"/>
              <a:ext cx="38088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505320" y="2514600"/>
              <a:ext cx="38088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505320" y="2819520"/>
              <a:ext cx="38088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86200" y="2209680"/>
              <a:ext cx="99072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886200" y="2514600"/>
              <a:ext cx="99072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886200" y="2819520"/>
              <a:ext cx="99072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76920" y="2209680"/>
              <a:ext cx="213336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876920" y="2514600"/>
              <a:ext cx="213336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DDD F10,F4,F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76920" y="2819520"/>
              <a:ext cx="213336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LD F0,10(R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010280" y="2209680"/>
              <a:ext cx="38124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010280" y="2514600"/>
              <a:ext cx="38124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010280" y="2819520"/>
              <a:ext cx="38124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4952880" y="31240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37120" y="60876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on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467480" y="2209680"/>
            <a:ext cx="609840" cy="4267440"/>
          </a:xfrm>
          <a:custGeom>
            <a:avLst/>
            <a:gdLst/>
            <a:ahLst/>
            <a:rect l="l" t="t" r="r" b="b"/>
            <a:pathLst>
              <a:path w="576" h="2832">
                <a:moveTo>
                  <a:pt x="576" y="2832"/>
                </a:moveTo>
                <a:lnTo>
                  <a:pt x="576" y="0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952880" y="6095880"/>
            <a:ext cx="0" cy="45720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1716120" y="6091200"/>
            <a:ext cx="7920" cy="40176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29240" y="428220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1960" y="441900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8426520" y="1370880"/>
            <a:ext cx="457200" cy="1143000"/>
          </a:xfrm>
          <a:prstGeom prst="upArrow">
            <a:avLst>
              <a:gd name="adj1" fmla="val 50000"/>
              <a:gd name="adj2" fmla="val 62500"/>
            </a:avLst>
          </a:prstGeom>
          <a:solidFill>
            <a:srgbClr val="00ae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192160" y="259020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l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131680" y="99000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New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1143000" y="712800"/>
            <a:ext cx="1218960" cy="914400"/>
            <a:chOff x="1143000" y="712800"/>
            <a:chExt cx="1218960" cy="914400"/>
          </a:xfrm>
        </p:grpSpPr>
        <p:sp>
          <p:nvSpPr>
            <p:cNvPr id="251" name=""/>
            <p:cNvSpPr/>
            <p:nvPr/>
          </p:nvSpPr>
          <p:spPr>
            <a:xfrm rot="16200000">
              <a:off x="78732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16200000">
              <a:off x="99036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16200000">
              <a:off x="119376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16200000">
              <a:off x="139680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16200000">
              <a:off x="160020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16200000">
              <a:off x="180324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6519240" y="4384080"/>
            <a:ext cx="11300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ro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010280" y="49528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6400800" y="5334120"/>
            <a:ext cx="1066320" cy="761760"/>
            <a:chOff x="6400800" y="5334120"/>
            <a:chExt cx="1066320" cy="761760"/>
          </a:xfrm>
        </p:grpSpPr>
        <p:sp>
          <p:nvSpPr>
            <p:cNvPr id="260" name=""/>
            <p:cNvSpPr/>
            <p:nvPr/>
          </p:nvSpPr>
          <p:spPr>
            <a:xfrm>
              <a:off x="6400800" y="5334120"/>
              <a:ext cx="1066320" cy="253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Courier New"/>
                </a:rPr>
                <a:t>1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10+R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400800" y="5587920"/>
              <a:ext cx="1066320" cy="254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400800" y="5842080"/>
              <a:ext cx="1066320" cy="253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56480" y="5334120"/>
              <a:ext cx="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6247800" y="502848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47200" y="1904400"/>
            <a:ext cx="281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order Buf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572840" y="3580560"/>
            <a:ext cx="18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gi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010280" y="60958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362320" y="114300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60C4-F452-492E-A0B2-28AA65249ED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3A0EBE-5B58-47AE-9DC6-15A3B01C491E}" type="datetime1">
              <a:rPr lang="en-US"/>
              <a:t>07/28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"/>
          <p:cNvGrpSpPr/>
          <p:nvPr/>
        </p:nvGrpSpPr>
        <p:grpSpPr>
          <a:xfrm>
            <a:off x="3505320" y="4800600"/>
            <a:ext cx="2514600" cy="406440"/>
            <a:chOff x="3505320" y="4800600"/>
            <a:chExt cx="2514600" cy="406440"/>
          </a:xfrm>
        </p:grpSpPr>
        <p:sp>
          <p:nvSpPr>
            <p:cNvPr id="270" name=""/>
            <p:cNvSpPr/>
            <p:nvPr/>
          </p:nvSpPr>
          <p:spPr>
            <a:xfrm>
              <a:off x="3505320" y="4800600"/>
              <a:ext cx="25146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Courier New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DIVD </a:t>
              </a:r>
              <a:r>
                <a:rPr b="1" lang="en-US" sz="1800" spc="-1" strike="noStrike">
                  <a:solidFill>
                    <a:srgbClr val="fc0128"/>
                  </a:solidFill>
                  <a:latin typeface="Courier New"/>
                </a:rPr>
                <a:t>ROB2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,R(F6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505320" y="5003640"/>
              <a:ext cx="2514600" cy="203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852720" y="4800600"/>
              <a:ext cx="675000" cy="406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304920" y="4648320"/>
            <a:ext cx="2590560" cy="203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DDD R(F4),</a:t>
            </a: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RO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04920" y="4851360"/>
            <a:ext cx="2590560" cy="20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04920" y="5054760"/>
            <a:ext cx="2590560" cy="203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62040" y="4648320"/>
            <a:ext cx="63324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562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Tomasulo With Reorder buffer: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04920" y="6477120"/>
            <a:ext cx="8534160" cy="0"/>
          </a:xfrm>
          <a:prstGeom prst="line">
            <a:avLst/>
          </a:prstGeom>
          <a:ln w="763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485760" y="3742560"/>
            <a:ext cx="11300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181160" y="5791320"/>
            <a:ext cx="1066680" cy="3045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ad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253040" y="5791320"/>
            <a:ext cx="1447560" cy="3045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multipl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357200" y="52578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043000" y="52578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481640" y="51814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396040" y="51814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628720" y="5284080"/>
            <a:ext cx="16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serv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2514600" y="5257440"/>
            <a:ext cx="0" cy="121932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5867280" y="5181120"/>
            <a:ext cx="0" cy="12956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00880" y="914040"/>
            <a:ext cx="9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Que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3505320" y="3505320"/>
            <a:ext cx="2209680" cy="812520"/>
            <a:chOff x="3505320" y="3505320"/>
            <a:chExt cx="2209680" cy="812520"/>
          </a:xfrm>
        </p:grpSpPr>
        <p:sp>
          <p:nvSpPr>
            <p:cNvPr id="291" name=""/>
            <p:cNvSpPr/>
            <p:nvPr/>
          </p:nvSpPr>
          <p:spPr>
            <a:xfrm>
              <a:off x="3505320" y="350532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3708360"/>
              <a:ext cx="2209680" cy="203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391176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11480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4952880" y="3276720"/>
            <a:ext cx="2057400" cy="533160"/>
          </a:xfrm>
          <a:custGeom>
            <a:avLst/>
            <a:gdLst/>
            <a:ahLst/>
            <a:rect l="l" t="t" r="r" b="b"/>
            <a:pathLst>
              <a:path w="1296" h="480">
                <a:moveTo>
                  <a:pt x="0" y="0"/>
                </a:moveTo>
                <a:lnTo>
                  <a:pt x="1296" y="0"/>
                </a:lnTo>
                <a:lnTo>
                  <a:pt x="1296" y="480"/>
                </a:lnTo>
              </a:path>
            </a:pathLst>
          </a:custGeom>
          <a:noFill/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90440" y="988200"/>
            <a:ext cx="662400" cy="22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3505320" y="990720"/>
            <a:ext cx="3886200" cy="2133360"/>
            <a:chOff x="3505320" y="990720"/>
            <a:chExt cx="3886200" cy="2133360"/>
          </a:xfrm>
        </p:grpSpPr>
        <p:grpSp>
          <p:nvGrpSpPr>
            <p:cNvPr id="298" name=""/>
            <p:cNvGrpSpPr/>
            <p:nvPr/>
          </p:nvGrpSpPr>
          <p:grpSpPr>
            <a:xfrm>
              <a:off x="3505320" y="990720"/>
              <a:ext cx="3886200" cy="1218600"/>
              <a:chOff x="3505320" y="990720"/>
              <a:chExt cx="3886200" cy="1218600"/>
            </a:xfrm>
          </p:grpSpPr>
          <p:sp>
            <p:nvSpPr>
              <p:cNvPr id="299" name=""/>
              <p:cNvSpPr/>
              <p:nvPr/>
            </p:nvSpPr>
            <p:spPr>
              <a:xfrm>
                <a:off x="3505320" y="99072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505320" y="1295280"/>
                <a:ext cx="38088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3886200" y="99072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886200" y="1295280"/>
                <a:ext cx="99072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876920" y="990720"/>
                <a:ext cx="213336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876920" y="1295280"/>
                <a:ext cx="213336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010280" y="99072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010280" y="1295280"/>
                <a:ext cx="38124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505320" y="159984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886200" y="159984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876920" y="1599840"/>
                <a:ext cx="213336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010280" y="159984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05320" y="190476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886200" y="190476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876920" y="1904760"/>
                <a:ext cx="213336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7010280" y="190476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505320" y="2209680"/>
              <a:ext cx="38088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505320" y="2514600"/>
              <a:ext cx="38088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505320" y="2819520"/>
              <a:ext cx="38088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86200" y="2209680"/>
              <a:ext cx="99072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86200" y="2514600"/>
              <a:ext cx="99072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886200" y="2819520"/>
              <a:ext cx="99072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876920" y="2209680"/>
              <a:ext cx="213336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DIVD F2,F10,F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876920" y="2514600"/>
              <a:ext cx="213336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DDD F10,F4,F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876920" y="2819520"/>
              <a:ext cx="213336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LD F0,10(R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010280" y="2209680"/>
              <a:ext cx="38124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010280" y="2514600"/>
              <a:ext cx="38124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010280" y="2819520"/>
              <a:ext cx="38124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4952880" y="31240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837120" y="60876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on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467480" y="2209680"/>
            <a:ext cx="609840" cy="4267440"/>
          </a:xfrm>
          <a:custGeom>
            <a:avLst/>
            <a:gdLst/>
            <a:ahLst/>
            <a:rect l="l" t="t" r="r" b="b"/>
            <a:pathLst>
              <a:path w="576" h="2832">
                <a:moveTo>
                  <a:pt x="576" y="2832"/>
                </a:moveTo>
                <a:lnTo>
                  <a:pt x="576" y="0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952880" y="6095880"/>
            <a:ext cx="0" cy="45720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1716120" y="6091200"/>
            <a:ext cx="7920" cy="40176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9240" y="428220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351960" y="441900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8426520" y="1370880"/>
            <a:ext cx="457200" cy="1143000"/>
          </a:xfrm>
          <a:prstGeom prst="upArrow">
            <a:avLst>
              <a:gd name="adj1" fmla="val 50000"/>
              <a:gd name="adj2" fmla="val 62500"/>
            </a:avLst>
          </a:prstGeom>
          <a:solidFill>
            <a:srgbClr val="00ae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8192160" y="259020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l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131680" y="99000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New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1143000" y="712800"/>
            <a:ext cx="1218960" cy="914400"/>
            <a:chOff x="1143000" y="712800"/>
            <a:chExt cx="1218960" cy="914400"/>
          </a:xfrm>
        </p:grpSpPr>
        <p:sp>
          <p:nvSpPr>
            <p:cNvPr id="338" name=""/>
            <p:cNvSpPr/>
            <p:nvPr/>
          </p:nvSpPr>
          <p:spPr>
            <a:xfrm rot="16200000">
              <a:off x="78732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rot="16200000">
              <a:off x="99036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rot="16200000">
              <a:off x="119376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rot="16200000">
              <a:off x="139680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rot="16200000">
              <a:off x="160020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rot="16200000">
              <a:off x="180324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6519240" y="4384080"/>
            <a:ext cx="11300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ro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010280" y="49528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6400800" y="5334120"/>
            <a:ext cx="1066320" cy="761760"/>
            <a:chOff x="6400800" y="5334120"/>
            <a:chExt cx="1066320" cy="761760"/>
          </a:xfrm>
        </p:grpSpPr>
        <p:sp>
          <p:nvSpPr>
            <p:cNvPr id="347" name=""/>
            <p:cNvSpPr/>
            <p:nvPr/>
          </p:nvSpPr>
          <p:spPr>
            <a:xfrm>
              <a:off x="6400800" y="5334120"/>
              <a:ext cx="1066320" cy="253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Courier New"/>
                </a:rPr>
                <a:t>1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10+R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00800" y="5587920"/>
              <a:ext cx="1066320" cy="254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400800" y="5842080"/>
              <a:ext cx="1066320" cy="253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756480" y="5334120"/>
              <a:ext cx="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6247800" y="502848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47200" y="1904400"/>
            <a:ext cx="281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order Buf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572840" y="3580560"/>
            <a:ext cx="18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gi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010280" y="60958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362320" y="114300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CCE4-C0C5-4486-8DE5-5CF96FC7D93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1975E4-8307-4F98-9E4F-76DC862C0934}" type="datetime1">
              <a:rPr lang="en-US"/>
              <a:t>07/28/26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"/>
          <p:cNvGrpSpPr/>
          <p:nvPr/>
        </p:nvGrpSpPr>
        <p:grpSpPr>
          <a:xfrm>
            <a:off x="3505320" y="4800600"/>
            <a:ext cx="2514600" cy="406440"/>
            <a:chOff x="3505320" y="4800600"/>
            <a:chExt cx="2514600" cy="406440"/>
          </a:xfrm>
        </p:grpSpPr>
        <p:sp>
          <p:nvSpPr>
            <p:cNvPr id="357" name=""/>
            <p:cNvSpPr/>
            <p:nvPr/>
          </p:nvSpPr>
          <p:spPr>
            <a:xfrm>
              <a:off x="3505320" y="4800600"/>
              <a:ext cx="25146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Courier New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DIVD </a:t>
              </a:r>
              <a:r>
                <a:rPr b="1" lang="en-US" sz="1800" spc="-1" strike="noStrike">
                  <a:solidFill>
                    <a:srgbClr val="fc0128"/>
                  </a:solidFill>
                  <a:latin typeface="Courier New"/>
                </a:rPr>
                <a:t>ROB2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,R(F6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505320" y="5003640"/>
              <a:ext cx="2514600" cy="203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852720" y="4800600"/>
              <a:ext cx="675000" cy="406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298440" y="4648320"/>
            <a:ext cx="2590920" cy="203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DDD R(F4),</a:t>
            </a: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RO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8440" y="4851360"/>
            <a:ext cx="2590920" cy="20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DDD </a:t>
            </a: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ROB5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(F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98440" y="5054760"/>
            <a:ext cx="2590920" cy="203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62040" y="4648320"/>
            <a:ext cx="63324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562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Tomasulo With Reorder buffer: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04920" y="6477120"/>
            <a:ext cx="8534160" cy="0"/>
          </a:xfrm>
          <a:prstGeom prst="line">
            <a:avLst/>
          </a:prstGeom>
          <a:ln w="763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485760" y="3742560"/>
            <a:ext cx="11300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181160" y="5791320"/>
            <a:ext cx="1066680" cy="3045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ad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253040" y="5791320"/>
            <a:ext cx="1447560" cy="3045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multipl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357200" y="52578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043000" y="52578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481640" y="51814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396040" y="51814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628720" y="5284080"/>
            <a:ext cx="16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serv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2514600" y="5257440"/>
            <a:ext cx="0" cy="121932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5867280" y="5181120"/>
            <a:ext cx="0" cy="12956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00880" y="914040"/>
            <a:ext cx="9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Que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3505320" y="3505320"/>
            <a:ext cx="2209680" cy="812520"/>
            <a:chOff x="3505320" y="3505320"/>
            <a:chExt cx="2209680" cy="812520"/>
          </a:xfrm>
        </p:grpSpPr>
        <p:sp>
          <p:nvSpPr>
            <p:cNvPr id="378" name=""/>
            <p:cNvSpPr/>
            <p:nvPr/>
          </p:nvSpPr>
          <p:spPr>
            <a:xfrm>
              <a:off x="3505320" y="350532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505320" y="3708360"/>
              <a:ext cx="2209680" cy="203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505320" y="391176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505320" y="411480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4952880" y="3276720"/>
            <a:ext cx="2057400" cy="533160"/>
          </a:xfrm>
          <a:custGeom>
            <a:avLst/>
            <a:gdLst/>
            <a:ahLst/>
            <a:rect l="l" t="t" r="r" b="b"/>
            <a:pathLst>
              <a:path w="1296" h="480">
                <a:moveTo>
                  <a:pt x="0" y="0"/>
                </a:moveTo>
                <a:lnTo>
                  <a:pt x="1296" y="0"/>
                </a:lnTo>
                <a:lnTo>
                  <a:pt x="1296" y="480"/>
                </a:lnTo>
              </a:path>
            </a:pathLst>
          </a:custGeom>
          <a:noFill/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390440" y="988200"/>
            <a:ext cx="662400" cy="22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3505320" y="990720"/>
            <a:ext cx="3886200" cy="2133360"/>
            <a:chOff x="3505320" y="990720"/>
            <a:chExt cx="3886200" cy="2133360"/>
          </a:xfrm>
        </p:grpSpPr>
        <p:grpSp>
          <p:nvGrpSpPr>
            <p:cNvPr id="385" name=""/>
            <p:cNvGrpSpPr/>
            <p:nvPr/>
          </p:nvGrpSpPr>
          <p:grpSpPr>
            <a:xfrm>
              <a:off x="3505320" y="990720"/>
              <a:ext cx="3886200" cy="1218600"/>
              <a:chOff x="3505320" y="990720"/>
              <a:chExt cx="3886200" cy="1218600"/>
            </a:xfrm>
          </p:grpSpPr>
          <p:sp>
            <p:nvSpPr>
              <p:cNvPr id="386" name=""/>
              <p:cNvSpPr/>
              <p:nvPr/>
            </p:nvSpPr>
            <p:spPr>
              <a:xfrm>
                <a:off x="3505320" y="99072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3505320" y="1295280"/>
                <a:ext cx="38088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F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886200" y="99072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886200" y="1295280"/>
                <a:ext cx="99072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876920" y="990720"/>
                <a:ext cx="213336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876920" y="1295280"/>
                <a:ext cx="213336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ADDD F0,F4,F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010280" y="99072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010280" y="1295280"/>
                <a:ext cx="38124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505320" y="159984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F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886200" y="159984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876920" y="1599840"/>
                <a:ext cx="213336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LD F4,0(R3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7010280" y="159984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505320" y="190476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--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886200" y="190476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876920" y="1904760"/>
                <a:ext cx="213336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BNE F2,&lt;…&gt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7010280" y="190476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2" name=""/>
            <p:cNvSpPr/>
            <p:nvPr/>
          </p:nvSpPr>
          <p:spPr>
            <a:xfrm>
              <a:off x="3505320" y="2209680"/>
              <a:ext cx="38088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505320" y="2514600"/>
              <a:ext cx="38088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505320" y="2819520"/>
              <a:ext cx="38088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886200" y="2209680"/>
              <a:ext cx="99072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886200" y="2514600"/>
              <a:ext cx="99072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886200" y="2819520"/>
              <a:ext cx="99072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876920" y="2209680"/>
              <a:ext cx="213336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DIVD F2,F10,F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876920" y="2514600"/>
              <a:ext cx="213336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DDD F10,F4,F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876920" y="2819520"/>
              <a:ext cx="213336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LD F0,10(R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010280" y="2209680"/>
              <a:ext cx="38124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010280" y="2514600"/>
              <a:ext cx="38124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010280" y="2819520"/>
              <a:ext cx="38124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4952880" y="31240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837120" y="60876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on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467480" y="2209680"/>
            <a:ext cx="609840" cy="4267440"/>
          </a:xfrm>
          <a:custGeom>
            <a:avLst/>
            <a:gdLst/>
            <a:ahLst/>
            <a:rect l="l" t="t" r="r" b="b"/>
            <a:pathLst>
              <a:path w="576" h="2832">
                <a:moveTo>
                  <a:pt x="576" y="2832"/>
                </a:moveTo>
                <a:lnTo>
                  <a:pt x="576" y="0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52880" y="6095880"/>
            <a:ext cx="0" cy="45720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1716120" y="6091200"/>
            <a:ext cx="7920" cy="40176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29240" y="428220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351960" y="441900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8426520" y="1370880"/>
            <a:ext cx="457200" cy="1143000"/>
          </a:xfrm>
          <a:prstGeom prst="upArrow">
            <a:avLst>
              <a:gd name="adj1" fmla="val 50000"/>
              <a:gd name="adj2" fmla="val 62500"/>
            </a:avLst>
          </a:prstGeom>
          <a:solidFill>
            <a:srgbClr val="00ae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192160" y="259020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l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131680" y="99000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New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1143000" y="712800"/>
            <a:ext cx="1218960" cy="914400"/>
            <a:chOff x="1143000" y="712800"/>
            <a:chExt cx="1218960" cy="914400"/>
          </a:xfrm>
        </p:grpSpPr>
        <p:sp>
          <p:nvSpPr>
            <p:cNvPr id="425" name=""/>
            <p:cNvSpPr/>
            <p:nvPr/>
          </p:nvSpPr>
          <p:spPr>
            <a:xfrm rot="16200000">
              <a:off x="78732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16200000">
              <a:off x="99036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6200000">
              <a:off x="119376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139680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rot="16200000">
              <a:off x="160020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rot="16200000">
              <a:off x="180324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6519240" y="4384080"/>
            <a:ext cx="11300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ro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010280" y="49528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400800" y="5334120"/>
            <a:ext cx="1066680" cy="253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10+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400800" y="5587920"/>
            <a:ext cx="1066680" cy="254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247800" y="502848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47200" y="1904400"/>
            <a:ext cx="281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order Buf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572840" y="3580560"/>
            <a:ext cx="18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gi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010280" y="60958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362320" y="114300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400800" y="5562720"/>
            <a:ext cx="1066680" cy="253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+R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400800" y="5791320"/>
            <a:ext cx="1066680" cy="253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756480" y="533412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A87E-BDA4-4203-9A5A-05A05AB7256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00AF0E-07B1-44C9-8F3C-99AFE9EBE650}" type="datetime1">
              <a:rPr lang="en-US"/>
              <a:t>07/28/2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" name=""/>
          <p:cNvGrpSpPr/>
          <p:nvPr/>
        </p:nvGrpSpPr>
        <p:grpSpPr>
          <a:xfrm>
            <a:off x="3505320" y="4800600"/>
            <a:ext cx="2514600" cy="406440"/>
            <a:chOff x="3505320" y="4800600"/>
            <a:chExt cx="2514600" cy="406440"/>
          </a:xfrm>
        </p:grpSpPr>
        <p:sp>
          <p:nvSpPr>
            <p:cNvPr id="444" name=""/>
            <p:cNvSpPr/>
            <p:nvPr/>
          </p:nvSpPr>
          <p:spPr>
            <a:xfrm>
              <a:off x="3505320" y="4800600"/>
              <a:ext cx="25146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Courier New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DIVD </a:t>
              </a:r>
              <a:r>
                <a:rPr b="1" lang="en-US" sz="1800" spc="-1" strike="noStrike">
                  <a:solidFill>
                    <a:srgbClr val="fc0128"/>
                  </a:solidFill>
                  <a:latin typeface="Courier New"/>
                </a:rPr>
                <a:t>ROB2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,R(F6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505320" y="5003640"/>
              <a:ext cx="2514600" cy="203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852720" y="4800600"/>
              <a:ext cx="675000" cy="406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304920" y="4648320"/>
            <a:ext cx="2590560" cy="203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DDD R(F4),</a:t>
            </a: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RO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4920" y="4851360"/>
            <a:ext cx="2590560" cy="20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DDD </a:t>
            </a: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ROB5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(F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04920" y="5054760"/>
            <a:ext cx="2590560" cy="203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62040" y="4648320"/>
            <a:ext cx="63324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562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Tomasulo With Reorder buffer: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04920" y="6477120"/>
            <a:ext cx="8534160" cy="0"/>
          </a:xfrm>
          <a:prstGeom prst="line">
            <a:avLst/>
          </a:prstGeom>
          <a:ln w="763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485760" y="3742560"/>
            <a:ext cx="11300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181160" y="5791320"/>
            <a:ext cx="1066680" cy="3045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ad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253040" y="5791320"/>
            <a:ext cx="1447560" cy="3045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multipl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357200" y="52578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043000" y="52578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481640" y="51814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396040" y="51814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628720" y="5284080"/>
            <a:ext cx="16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serv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2514600" y="5257440"/>
            <a:ext cx="0" cy="121932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5867280" y="5181120"/>
            <a:ext cx="0" cy="12956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00880" y="914040"/>
            <a:ext cx="9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Que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3505320" y="3505320"/>
            <a:ext cx="2209680" cy="812520"/>
            <a:chOff x="3505320" y="3505320"/>
            <a:chExt cx="2209680" cy="812520"/>
          </a:xfrm>
        </p:grpSpPr>
        <p:sp>
          <p:nvSpPr>
            <p:cNvPr id="465" name=""/>
            <p:cNvSpPr/>
            <p:nvPr/>
          </p:nvSpPr>
          <p:spPr>
            <a:xfrm>
              <a:off x="3505320" y="350532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505320" y="3708360"/>
              <a:ext cx="2209680" cy="203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505320" y="391176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505320" y="411480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9" name=""/>
          <p:cNvSpPr/>
          <p:nvPr/>
        </p:nvSpPr>
        <p:spPr>
          <a:xfrm>
            <a:off x="4952880" y="3276720"/>
            <a:ext cx="2057400" cy="533160"/>
          </a:xfrm>
          <a:custGeom>
            <a:avLst/>
            <a:gdLst/>
            <a:ahLst/>
            <a:rect l="l" t="t" r="r" b="b"/>
            <a:pathLst>
              <a:path w="1296" h="480">
                <a:moveTo>
                  <a:pt x="0" y="0"/>
                </a:moveTo>
                <a:lnTo>
                  <a:pt x="1296" y="0"/>
                </a:lnTo>
                <a:lnTo>
                  <a:pt x="1296" y="480"/>
                </a:lnTo>
              </a:path>
            </a:pathLst>
          </a:custGeom>
          <a:noFill/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390440" y="988200"/>
            <a:ext cx="662400" cy="22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3505320" y="990720"/>
            <a:ext cx="3886200" cy="2133360"/>
            <a:chOff x="3505320" y="990720"/>
            <a:chExt cx="3886200" cy="2133360"/>
          </a:xfrm>
        </p:grpSpPr>
        <p:grpSp>
          <p:nvGrpSpPr>
            <p:cNvPr id="472" name=""/>
            <p:cNvGrpSpPr/>
            <p:nvPr/>
          </p:nvGrpSpPr>
          <p:grpSpPr>
            <a:xfrm>
              <a:off x="3505320" y="990720"/>
              <a:ext cx="3886200" cy="1218600"/>
              <a:chOff x="3505320" y="990720"/>
              <a:chExt cx="3886200" cy="1218600"/>
            </a:xfrm>
          </p:grpSpPr>
          <p:sp>
            <p:nvSpPr>
              <p:cNvPr id="473" name=""/>
              <p:cNvSpPr/>
              <p:nvPr/>
            </p:nvSpPr>
            <p:spPr>
              <a:xfrm>
                <a:off x="3505320" y="99072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--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505320" y="1295280"/>
                <a:ext cx="38088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F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3886200" y="99072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c0128"/>
                    </a:solidFill>
                    <a:latin typeface="Courier New"/>
                  </a:rPr>
                  <a:t>ROB5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3886200" y="1295280"/>
                <a:ext cx="99072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876920" y="990720"/>
                <a:ext cx="213336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ST 0(R3),F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876920" y="1295280"/>
                <a:ext cx="213336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ADDD F0,F4,F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7010280" y="99072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010280" y="1295280"/>
                <a:ext cx="38124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505320" y="159984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F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3886200" y="159984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876920" y="1599840"/>
                <a:ext cx="213336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LD F4,0(R3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7010280" y="159984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3505320" y="190476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--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3886200" y="190476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4876920" y="1904760"/>
                <a:ext cx="213336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BNE F2,&lt;…&gt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010280" y="190476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9" name=""/>
            <p:cNvSpPr/>
            <p:nvPr/>
          </p:nvSpPr>
          <p:spPr>
            <a:xfrm>
              <a:off x="3505320" y="2209680"/>
              <a:ext cx="38088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505320" y="2514600"/>
              <a:ext cx="38088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505320" y="2819520"/>
              <a:ext cx="38088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886200" y="2209680"/>
              <a:ext cx="99072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886200" y="2514600"/>
              <a:ext cx="99072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886200" y="2819520"/>
              <a:ext cx="99072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876920" y="2209680"/>
              <a:ext cx="213336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DIVD F2,F10,F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876920" y="2514600"/>
              <a:ext cx="213336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DDD F10,F4,F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876920" y="2819520"/>
              <a:ext cx="213336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LD F0,10(R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010280" y="2209680"/>
              <a:ext cx="38124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010280" y="2514600"/>
              <a:ext cx="38124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010280" y="2819520"/>
              <a:ext cx="38124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"/>
          <p:cNvSpPr/>
          <p:nvPr/>
        </p:nvSpPr>
        <p:spPr>
          <a:xfrm>
            <a:off x="4952880" y="31240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837120" y="60876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on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467480" y="2209680"/>
            <a:ext cx="609840" cy="4267440"/>
          </a:xfrm>
          <a:custGeom>
            <a:avLst/>
            <a:gdLst/>
            <a:ahLst/>
            <a:rect l="l" t="t" r="r" b="b"/>
            <a:pathLst>
              <a:path w="576" h="2832">
                <a:moveTo>
                  <a:pt x="576" y="2832"/>
                </a:moveTo>
                <a:lnTo>
                  <a:pt x="576" y="0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952880" y="6095880"/>
            <a:ext cx="0" cy="45720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H="1">
            <a:off x="1716120" y="6091200"/>
            <a:ext cx="7920" cy="40176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29240" y="428220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351960" y="441900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8426520" y="1370880"/>
            <a:ext cx="457200" cy="1143000"/>
          </a:xfrm>
          <a:prstGeom prst="upArrow">
            <a:avLst>
              <a:gd name="adj1" fmla="val 50000"/>
              <a:gd name="adj2" fmla="val 62500"/>
            </a:avLst>
          </a:prstGeom>
          <a:solidFill>
            <a:srgbClr val="00ae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8192160" y="259020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l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8131680" y="99000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New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1143000" y="712800"/>
            <a:ext cx="1218960" cy="914400"/>
            <a:chOff x="1143000" y="712800"/>
            <a:chExt cx="1218960" cy="914400"/>
          </a:xfrm>
        </p:grpSpPr>
        <p:sp>
          <p:nvSpPr>
            <p:cNvPr id="512" name=""/>
            <p:cNvSpPr/>
            <p:nvPr/>
          </p:nvSpPr>
          <p:spPr>
            <a:xfrm rot="16200000">
              <a:off x="78732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rot="16200000">
              <a:off x="99036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rot="16200000">
              <a:off x="119376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rot="16200000">
              <a:off x="139680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rot="16200000">
              <a:off x="160020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rot="16200000">
              <a:off x="180324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8" name=""/>
          <p:cNvSpPr/>
          <p:nvPr/>
        </p:nvSpPr>
        <p:spPr>
          <a:xfrm>
            <a:off x="6519240" y="4384080"/>
            <a:ext cx="11300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ro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010280" y="49528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247800" y="502848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47200" y="1904400"/>
            <a:ext cx="281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order Buf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572840" y="3580560"/>
            <a:ext cx="18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gi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010280" y="60958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362320" y="114300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400800" y="5334120"/>
            <a:ext cx="1066680" cy="253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10+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400800" y="5587920"/>
            <a:ext cx="1066680" cy="2541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400800" y="5562720"/>
            <a:ext cx="1066680" cy="253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+R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400800" y="5791320"/>
            <a:ext cx="1066680" cy="253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756480" y="5334120"/>
            <a:ext cx="0" cy="68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9530-8FCB-4C9F-A507-F217A789FBD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09B67E-B966-44A5-B042-12819BA204B8}" type="datetime1">
              <a:rPr lang="en-US"/>
              <a:t>07/28/26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"/>
          <p:cNvGrpSpPr/>
          <p:nvPr/>
        </p:nvGrpSpPr>
        <p:grpSpPr>
          <a:xfrm>
            <a:off x="3505320" y="4800600"/>
            <a:ext cx="2514600" cy="406440"/>
            <a:chOff x="3505320" y="4800600"/>
            <a:chExt cx="2514600" cy="406440"/>
          </a:xfrm>
        </p:grpSpPr>
        <p:sp>
          <p:nvSpPr>
            <p:cNvPr id="531" name=""/>
            <p:cNvSpPr/>
            <p:nvPr/>
          </p:nvSpPr>
          <p:spPr>
            <a:xfrm>
              <a:off x="3505320" y="4800600"/>
              <a:ext cx="25146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Courier New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DIVD </a:t>
              </a:r>
              <a:r>
                <a:rPr b="1" lang="en-US" sz="1800" spc="-1" strike="noStrike">
                  <a:solidFill>
                    <a:srgbClr val="fc0128"/>
                  </a:solidFill>
                  <a:latin typeface="Courier New"/>
                </a:rPr>
                <a:t>ROB2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,R(F6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05320" y="5003640"/>
              <a:ext cx="2514600" cy="203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852720" y="4800600"/>
              <a:ext cx="675000" cy="406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562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Tomasulo With Reorder buffer: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04920" y="6477120"/>
            <a:ext cx="8534160" cy="0"/>
          </a:xfrm>
          <a:prstGeom prst="line">
            <a:avLst/>
          </a:prstGeom>
          <a:ln w="763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485760" y="3742560"/>
            <a:ext cx="11300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181160" y="5791320"/>
            <a:ext cx="1066680" cy="3045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ad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253040" y="5791320"/>
            <a:ext cx="1447560" cy="3045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multipl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1357200" y="52578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043000" y="52578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481640" y="51814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96040" y="51814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628720" y="5284080"/>
            <a:ext cx="16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serv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2514600" y="5257440"/>
            <a:ext cx="0" cy="121932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5867280" y="5181120"/>
            <a:ext cx="0" cy="12956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00880" y="914040"/>
            <a:ext cx="9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Que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3505320" y="3505320"/>
            <a:ext cx="2209680" cy="812520"/>
            <a:chOff x="3505320" y="3505320"/>
            <a:chExt cx="2209680" cy="812520"/>
          </a:xfrm>
        </p:grpSpPr>
        <p:sp>
          <p:nvSpPr>
            <p:cNvPr id="548" name=""/>
            <p:cNvSpPr/>
            <p:nvPr/>
          </p:nvSpPr>
          <p:spPr>
            <a:xfrm>
              <a:off x="3505320" y="350532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05320" y="3708360"/>
              <a:ext cx="2209680" cy="203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505320" y="391176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505320" y="411480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2" name=""/>
          <p:cNvSpPr/>
          <p:nvPr/>
        </p:nvSpPr>
        <p:spPr>
          <a:xfrm>
            <a:off x="4952880" y="3276720"/>
            <a:ext cx="2057400" cy="533160"/>
          </a:xfrm>
          <a:custGeom>
            <a:avLst/>
            <a:gdLst/>
            <a:ahLst/>
            <a:rect l="l" t="t" r="r" b="b"/>
            <a:pathLst>
              <a:path w="1296" h="480">
                <a:moveTo>
                  <a:pt x="0" y="0"/>
                </a:moveTo>
                <a:lnTo>
                  <a:pt x="1296" y="0"/>
                </a:lnTo>
                <a:lnTo>
                  <a:pt x="1296" y="480"/>
                </a:lnTo>
              </a:path>
            </a:pathLst>
          </a:custGeom>
          <a:noFill/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390440" y="988200"/>
            <a:ext cx="662400" cy="22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3505320" y="990720"/>
            <a:ext cx="3886200" cy="2133360"/>
            <a:chOff x="3505320" y="990720"/>
            <a:chExt cx="3886200" cy="2133360"/>
          </a:xfrm>
        </p:grpSpPr>
        <p:grpSp>
          <p:nvGrpSpPr>
            <p:cNvPr id="555" name=""/>
            <p:cNvGrpSpPr/>
            <p:nvPr/>
          </p:nvGrpSpPr>
          <p:grpSpPr>
            <a:xfrm>
              <a:off x="3505320" y="990720"/>
              <a:ext cx="3886200" cy="1218600"/>
              <a:chOff x="3505320" y="990720"/>
              <a:chExt cx="3886200" cy="1218600"/>
            </a:xfrm>
          </p:grpSpPr>
          <p:sp>
            <p:nvSpPr>
              <p:cNvPr id="556" name=""/>
              <p:cNvSpPr/>
              <p:nvPr/>
            </p:nvSpPr>
            <p:spPr>
              <a:xfrm>
                <a:off x="3505320" y="99072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--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3505320" y="1295280"/>
                <a:ext cx="38088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F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3886200" y="99072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M[10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3886200" y="1295280"/>
                <a:ext cx="99072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876920" y="990720"/>
                <a:ext cx="213336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ST 0(R3),F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4876920" y="1295280"/>
                <a:ext cx="213336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ADDD F0,F4,F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010280" y="99072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010280" y="1295280"/>
                <a:ext cx="38124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3505320" y="159984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F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3886200" y="159984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M[10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876920" y="1599840"/>
                <a:ext cx="213336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LD F4,0(R3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010280" y="159984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3505320" y="190476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--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3886200" y="190476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4876920" y="1904760"/>
                <a:ext cx="213336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BNE F2,&lt;…&gt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7010280" y="190476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2" name=""/>
            <p:cNvSpPr/>
            <p:nvPr/>
          </p:nvSpPr>
          <p:spPr>
            <a:xfrm>
              <a:off x="3505320" y="2209680"/>
              <a:ext cx="38088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05320" y="2514600"/>
              <a:ext cx="38088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505320" y="2819520"/>
              <a:ext cx="38088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886200" y="2209680"/>
              <a:ext cx="99072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886200" y="2514600"/>
              <a:ext cx="99072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886200" y="2819520"/>
              <a:ext cx="99072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876920" y="2209680"/>
              <a:ext cx="213336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DIVD F2,F10,F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876920" y="2514600"/>
              <a:ext cx="213336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DDD F10,F4,F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876920" y="2819520"/>
              <a:ext cx="213336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LD F0,10(R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010280" y="2209680"/>
              <a:ext cx="38124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010280" y="2514600"/>
              <a:ext cx="38124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010280" y="2819520"/>
              <a:ext cx="38124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4" name=""/>
          <p:cNvSpPr/>
          <p:nvPr/>
        </p:nvSpPr>
        <p:spPr>
          <a:xfrm>
            <a:off x="4952880" y="31240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837120" y="60876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on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467480" y="2209680"/>
            <a:ext cx="609840" cy="4267440"/>
          </a:xfrm>
          <a:custGeom>
            <a:avLst/>
            <a:gdLst/>
            <a:ahLst/>
            <a:rect l="l" t="t" r="r" b="b"/>
            <a:pathLst>
              <a:path w="576" h="2832">
                <a:moveTo>
                  <a:pt x="576" y="2832"/>
                </a:moveTo>
                <a:lnTo>
                  <a:pt x="576" y="0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952880" y="6095880"/>
            <a:ext cx="0" cy="45720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 flipH="1">
            <a:off x="1716120" y="6091200"/>
            <a:ext cx="7920" cy="40176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29240" y="428220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351960" y="441900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8426520" y="1370880"/>
            <a:ext cx="457200" cy="1143000"/>
          </a:xfrm>
          <a:prstGeom prst="upArrow">
            <a:avLst>
              <a:gd name="adj1" fmla="val 50000"/>
              <a:gd name="adj2" fmla="val 62500"/>
            </a:avLst>
          </a:prstGeom>
          <a:solidFill>
            <a:srgbClr val="00ae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192160" y="259020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l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131680" y="99000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New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4" name=""/>
          <p:cNvGrpSpPr/>
          <p:nvPr/>
        </p:nvGrpSpPr>
        <p:grpSpPr>
          <a:xfrm>
            <a:off x="1143000" y="712800"/>
            <a:ext cx="1218960" cy="914400"/>
            <a:chOff x="1143000" y="712800"/>
            <a:chExt cx="1218960" cy="914400"/>
          </a:xfrm>
        </p:grpSpPr>
        <p:sp>
          <p:nvSpPr>
            <p:cNvPr id="595" name=""/>
            <p:cNvSpPr/>
            <p:nvPr/>
          </p:nvSpPr>
          <p:spPr>
            <a:xfrm rot="16200000">
              <a:off x="78732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rot="16200000">
              <a:off x="99036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rot="16200000">
              <a:off x="119376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rot="16200000">
              <a:off x="139680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rot="16200000">
              <a:off x="160020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rot="16200000">
              <a:off x="180324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1" name=""/>
          <p:cNvSpPr/>
          <p:nvPr/>
        </p:nvSpPr>
        <p:spPr>
          <a:xfrm>
            <a:off x="6519240" y="4384080"/>
            <a:ext cx="11300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ro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010280" y="49528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6400800" y="5334120"/>
            <a:ext cx="1066320" cy="761760"/>
            <a:chOff x="6400800" y="5334120"/>
            <a:chExt cx="1066320" cy="761760"/>
          </a:xfrm>
        </p:grpSpPr>
        <p:sp>
          <p:nvSpPr>
            <p:cNvPr id="604" name=""/>
            <p:cNvSpPr/>
            <p:nvPr/>
          </p:nvSpPr>
          <p:spPr>
            <a:xfrm>
              <a:off x="6400800" y="5334120"/>
              <a:ext cx="1066320" cy="253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Courier New"/>
                </a:rPr>
                <a:t>1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10+R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400800" y="5587920"/>
              <a:ext cx="1066320" cy="254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400800" y="5842080"/>
              <a:ext cx="1066320" cy="253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756480" y="5334120"/>
              <a:ext cx="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>
            <a:off x="6247800" y="502848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47200" y="1904400"/>
            <a:ext cx="281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order Buf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572840" y="3580560"/>
            <a:ext cx="18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gi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010280" y="60958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362320" y="114300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04920" y="4648320"/>
            <a:ext cx="2590560" cy="203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DDD R(F4),</a:t>
            </a: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RO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04920" y="4851360"/>
            <a:ext cx="2590560" cy="20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DDD M[10],R(F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04920" y="5054760"/>
            <a:ext cx="2590560" cy="203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62040" y="4648320"/>
            <a:ext cx="63324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C2FC-36EE-423F-813A-5538D5F277E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B382E6-3737-463C-B6AE-94771DA40F4D}" type="datetime1">
              <a:rPr lang="en-US"/>
              <a:t>07/28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7" name=""/>
          <p:cNvGrpSpPr/>
          <p:nvPr/>
        </p:nvGrpSpPr>
        <p:grpSpPr>
          <a:xfrm>
            <a:off x="3505320" y="4800600"/>
            <a:ext cx="2514600" cy="406440"/>
            <a:chOff x="3505320" y="4800600"/>
            <a:chExt cx="2514600" cy="406440"/>
          </a:xfrm>
        </p:grpSpPr>
        <p:sp>
          <p:nvSpPr>
            <p:cNvPr id="618" name=""/>
            <p:cNvSpPr/>
            <p:nvPr/>
          </p:nvSpPr>
          <p:spPr>
            <a:xfrm>
              <a:off x="3505320" y="4800600"/>
              <a:ext cx="25146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Courier New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DIVD </a:t>
              </a:r>
              <a:r>
                <a:rPr b="1" lang="en-US" sz="1800" spc="-1" strike="noStrike">
                  <a:solidFill>
                    <a:srgbClr val="fc0128"/>
                  </a:solidFill>
                  <a:latin typeface="Courier New"/>
                </a:rPr>
                <a:t>ROB2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,R(F6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505320" y="5003640"/>
              <a:ext cx="2514600" cy="203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852720" y="4800600"/>
              <a:ext cx="675000" cy="406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304920" y="4648320"/>
            <a:ext cx="2590560" cy="203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DDD R(F4),</a:t>
            </a: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RO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04920" y="4851360"/>
            <a:ext cx="2590560" cy="20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04920" y="5054760"/>
            <a:ext cx="2590560" cy="203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62040" y="4648320"/>
            <a:ext cx="63324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562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Tomasulo With Reorder buffer: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04920" y="6477120"/>
            <a:ext cx="8534160" cy="0"/>
          </a:xfrm>
          <a:prstGeom prst="line">
            <a:avLst/>
          </a:prstGeom>
          <a:ln w="763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485760" y="3742560"/>
            <a:ext cx="11300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181160" y="5791320"/>
            <a:ext cx="1066680" cy="3045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ad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253040" y="5791320"/>
            <a:ext cx="1447560" cy="3045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multipl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357200" y="52578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043000" y="52578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4481640" y="51814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5396040" y="51814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628720" y="5284080"/>
            <a:ext cx="16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serv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flipV="1">
            <a:off x="2514600" y="5257440"/>
            <a:ext cx="0" cy="121932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V="1">
            <a:off x="5867280" y="5181120"/>
            <a:ext cx="0" cy="12956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00880" y="914040"/>
            <a:ext cx="9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Que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3505320" y="3505320"/>
            <a:ext cx="2209680" cy="812520"/>
            <a:chOff x="3505320" y="3505320"/>
            <a:chExt cx="2209680" cy="812520"/>
          </a:xfrm>
        </p:grpSpPr>
        <p:sp>
          <p:nvSpPr>
            <p:cNvPr id="639" name=""/>
            <p:cNvSpPr/>
            <p:nvPr/>
          </p:nvSpPr>
          <p:spPr>
            <a:xfrm>
              <a:off x="3505320" y="350532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505320" y="3708360"/>
              <a:ext cx="2209680" cy="203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505320" y="391176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505320" y="411480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952880" y="3276720"/>
            <a:ext cx="2057400" cy="533160"/>
          </a:xfrm>
          <a:custGeom>
            <a:avLst/>
            <a:gdLst/>
            <a:ahLst/>
            <a:rect l="l" t="t" r="r" b="b"/>
            <a:pathLst>
              <a:path w="1296" h="480">
                <a:moveTo>
                  <a:pt x="0" y="0"/>
                </a:moveTo>
                <a:lnTo>
                  <a:pt x="1296" y="0"/>
                </a:lnTo>
                <a:lnTo>
                  <a:pt x="1296" y="480"/>
                </a:lnTo>
              </a:path>
            </a:pathLst>
          </a:custGeom>
          <a:noFill/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390440" y="988200"/>
            <a:ext cx="662400" cy="22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3505320" y="990720"/>
            <a:ext cx="3886200" cy="2133360"/>
            <a:chOff x="3505320" y="990720"/>
            <a:chExt cx="3886200" cy="2133360"/>
          </a:xfrm>
        </p:grpSpPr>
        <p:grpSp>
          <p:nvGrpSpPr>
            <p:cNvPr id="646" name=""/>
            <p:cNvGrpSpPr/>
            <p:nvPr/>
          </p:nvGrpSpPr>
          <p:grpSpPr>
            <a:xfrm>
              <a:off x="3505320" y="990720"/>
              <a:ext cx="3886200" cy="1218600"/>
              <a:chOff x="3505320" y="990720"/>
              <a:chExt cx="3886200" cy="1218600"/>
            </a:xfrm>
          </p:grpSpPr>
          <p:sp>
            <p:nvSpPr>
              <p:cNvPr id="647" name=""/>
              <p:cNvSpPr/>
              <p:nvPr/>
            </p:nvSpPr>
            <p:spPr>
              <a:xfrm>
                <a:off x="3505320" y="99072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--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3505320" y="1295280"/>
                <a:ext cx="38088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F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3886200" y="99072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M[10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886200" y="1295280"/>
                <a:ext cx="99072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&lt;val2&gt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4876920" y="990720"/>
                <a:ext cx="213336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ST 0(R3),F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4876920" y="1295280"/>
                <a:ext cx="213336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ADDD F0,F4,F6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7010280" y="99072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7010280" y="1295280"/>
                <a:ext cx="381240" cy="3042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E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505320" y="159984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F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3886200" y="159984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M[10]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876920" y="1599840"/>
                <a:ext cx="213336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LD F4,0(R3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7010280" y="159984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3505320" y="1904760"/>
                <a:ext cx="3808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--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886200" y="1904760"/>
                <a:ext cx="99072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4876920" y="1904760"/>
                <a:ext cx="213336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BNE F2,&lt;…&gt;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7010280" y="1904760"/>
                <a:ext cx="38124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1919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3" name=""/>
            <p:cNvSpPr/>
            <p:nvPr/>
          </p:nvSpPr>
          <p:spPr>
            <a:xfrm>
              <a:off x="3505320" y="2209680"/>
              <a:ext cx="38088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505320" y="2514600"/>
              <a:ext cx="38088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505320" y="2819520"/>
              <a:ext cx="38088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886200" y="2209680"/>
              <a:ext cx="99072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886200" y="2514600"/>
              <a:ext cx="99072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886200" y="2819520"/>
              <a:ext cx="99072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876920" y="2209680"/>
              <a:ext cx="213336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DIVD F2,F10,F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876920" y="2514600"/>
              <a:ext cx="213336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DDD F10,F4,F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876920" y="2819520"/>
              <a:ext cx="213336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LD F0,10(R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010280" y="2209680"/>
              <a:ext cx="38124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010280" y="2514600"/>
              <a:ext cx="38124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010280" y="2819520"/>
              <a:ext cx="38124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5" name=""/>
          <p:cNvSpPr/>
          <p:nvPr/>
        </p:nvSpPr>
        <p:spPr>
          <a:xfrm>
            <a:off x="4952880" y="31240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837120" y="60876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on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467480" y="2209680"/>
            <a:ext cx="609840" cy="4267440"/>
          </a:xfrm>
          <a:custGeom>
            <a:avLst/>
            <a:gdLst/>
            <a:ahLst/>
            <a:rect l="l" t="t" r="r" b="b"/>
            <a:pathLst>
              <a:path w="576" h="2832">
                <a:moveTo>
                  <a:pt x="576" y="2832"/>
                </a:moveTo>
                <a:lnTo>
                  <a:pt x="576" y="0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4952880" y="6095880"/>
            <a:ext cx="0" cy="45720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 flipH="1">
            <a:off x="1716120" y="6091200"/>
            <a:ext cx="7920" cy="40176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29240" y="428220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351960" y="441900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V="1">
            <a:off x="8426520" y="1370880"/>
            <a:ext cx="457200" cy="1143000"/>
          </a:xfrm>
          <a:prstGeom prst="upArrow">
            <a:avLst>
              <a:gd name="adj1" fmla="val 50000"/>
              <a:gd name="adj2" fmla="val 62500"/>
            </a:avLst>
          </a:prstGeom>
          <a:solidFill>
            <a:srgbClr val="00ae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8192160" y="259020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l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8131680" y="99000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New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1143000" y="712800"/>
            <a:ext cx="1218960" cy="914400"/>
            <a:chOff x="1143000" y="712800"/>
            <a:chExt cx="1218960" cy="914400"/>
          </a:xfrm>
        </p:grpSpPr>
        <p:sp>
          <p:nvSpPr>
            <p:cNvPr id="686" name=""/>
            <p:cNvSpPr/>
            <p:nvPr/>
          </p:nvSpPr>
          <p:spPr>
            <a:xfrm rot="16200000">
              <a:off x="78732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rot="16200000">
              <a:off x="99036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rot="16200000">
              <a:off x="119376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rot="16200000">
              <a:off x="139680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rot="16200000">
              <a:off x="160020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rot="16200000">
              <a:off x="180324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"/>
          <p:cNvSpPr/>
          <p:nvPr/>
        </p:nvSpPr>
        <p:spPr>
          <a:xfrm>
            <a:off x="6519240" y="4384080"/>
            <a:ext cx="11300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ro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7010280" y="49528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6400800" y="5334120"/>
            <a:ext cx="1066320" cy="761760"/>
            <a:chOff x="6400800" y="5334120"/>
            <a:chExt cx="1066320" cy="761760"/>
          </a:xfrm>
        </p:grpSpPr>
        <p:sp>
          <p:nvSpPr>
            <p:cNvPr id="695" name=""/>
            <p:cNvSpPr/>
            <p:nvPr/>
          </p:nvSpPr>
          <p:spPr>
            <a:xfrm>
              <a:off x="6400800" y="5334120"/>
              <a:ext cx="1066320" cy="253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Courier New"/>
                </a:rPr>
                <a:t>1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10+R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400800" y="5587920"/>
              <a:ext cx="1066320" cy="254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400800" y="5842080"/>
              <a:ext cx="1066320" cy="253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6756480" y="5334120"/>
              <a:ext cx="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9" name=""/>
          <p:cNvSpPr/>
          <p:nvPr/>
        </p:nvSpPr>
        <p:spPr>
          <a:xfrm>
            <a:off x="6247800" y="502848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47200" y="1904400"/>
            <a:ext cx="281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order Buf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572840" y="3580560"/>
            <a:ext cx="18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gi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010280" y="60958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362320" y="114300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9359-4B96-4CAB-846D-808B5398E96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0B7CD1-A30E-4258-91A6-0784AE9EB594}" type="datetime1">
              <a:rPr lang="en-US"/>
              <a:t>07/28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eview from Last Time #1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rage Implicit Parallelism for Performance: Instruction Level Parallelis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op unrolling by compiler to increase IL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anch prediction to increase IL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ynamic HW exploiting IL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s when can’t know dependence at compile ti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hide L1 cache mi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de for one machine runs well on anoth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A0E4-D35A-40BD-A478-9AEF23C878B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B3EDB2-18E3-4AB1-B832-C1ABA2201768}" type="datetime1">
              <a:rPr lang="en-US"/>
              <a:t>07/28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4" name=""/>
          <p:cNvGrpSpPr/>
          <p:nvPr/>
        </p:nvGrpSpPr>
        <p:grpSpPr>
          <a:xfrm>
            <a:off x="3505320" y="990720"/>
            <a:ext cx="3886200" cy="1218600"/>
            <a:chOff x="3505320" y="990720"/>
            <a:chExt cx="3886200" cy="1218600"/>
          </a:xfrm>
        </p:grpSpPr>
        <p:sp>
          <p:nvSpPr>
            <p:cNvPr id="705" name=""/>
            <p:cNvSpPr/>
            <p:nvPr/>
          </p:nvSpPr>
          <p:spPr>
            <a:xfrm>
              <a:off x="3505320" y="990720"/>
              <a:ext cx="38088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505320" y="1295280"/>
              <a:ext cx="380880" cy="304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886200" y="990720"/>
              <a:ext cx="99072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M[10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886200" y="1295280"/>
              <a:ext cx="990720" cy="304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&lt;val2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876920" y="990720"/>
              <a:ext cx="213336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ST 0(R3),F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876920" y="1295280"/>
              <a:ext cx="2133360" cy="304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DDD F0,F4,F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010280" y="990720"/>
              <a:ext cx="38124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010280" y="1295280"/>
              <a:ext cx="381240" cy="304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505320" y="1599840"/>
              <a:ext cx="38088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886200" y="1599840"/>
              <a:ext cx="99072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M[10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876920" y="1599840"/>
              <a:ext cx="213336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LD F4,0(R3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010280" y="1599840"/>
              <a:ext cx="38124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3505320" y="1904760"/>
              <a:ext cx="38088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--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886200" y="1904760"/>
              <a:ext cx="99072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876920" y="1904760"/>
              <a:ext cx="213336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BNE F2,&lt;…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010280" y="1904760"/>
              <a:ext cx="38124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1" name=""/>
          <p:cNvGrpSpPr/>
          <p:nvPr/>
        </p:nvGrpSpPr>
        <p:grpSpPr>
          <a:xfrm>
            <a:off x="3505320" y="4800600"/>
            <a:ext cx="2514600" cy="406440"/>
            <a:chOff x="3505320" y="4800600"/>
            <a:chExt cx="2514600" cy="406440"/>
          </a:xfrm>
        </p:grpSpPr>
        <p:sp>
          <p:nvSpPr>
            <p:cNvPr id="722" name=""/>
            <p:cNvSpPr/>
            <p:nvPr/>
          </p:nvSpPr>
          <p:spPr>
            <a:xfrm>
              <a:off x="3505320" y="4800600"/>
              <a:ext cx="25146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Courier New"/>
                </a:rPr>
                <a:t>3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DIVD </a:t>
              </a:r>
              <a:r>
                <a:rPr b="1" lang="en-US" sz="1800" spc="-1" strike="noStrike">
                  <a:solidFill>
                    <a:srgbClr val="fc0128"/>
                  </a:solidFill>
                  <a:latin typeface="Courier New"/>
                </a:rPr>
                <a:t>ROB2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,R(F6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505320" y="5003640"/>
              <a:ext cx="2514600" cy="203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852720" y="4800600"/>
              <a:ext cx="675000" cy="4064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5" name=""/>
          <p:cNvSpPr/>
          <p:nvPr/>
        </p:nvSpPr>
        <p:spPr>
          <a:xfrm>
            <a:off x="304920" y="4648320"/>
            <a:ext cx="2590560" cy="203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DDD R(F4),</a:t>
            </a:r>
            <a:r>
              <a:rPr b="1" lang="en-US" sz="1800" spc="-1" strike="noStrike">
                <a:solidFill>
                  <a:srgbClr val="fc0128"/>
                </a:solidFill>
                <a:latin typeface="Courier New"/>
              </a:rPr>
              <a:t>ROB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04920" y="4851360"/>
            <a:ext cx="2590560" cy="20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04920" y="5054760"/>
            <a:ext cx="2590560" cy="203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2040" y="4648320"/>
            <a:ext cx="63324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56288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Tomasulo With Reorder buffer: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304920" y="6477120"/>
            <a:ext cx="8534160" cy="0"/>
          </a:xfrm>
          <a:prstGeom prst="line">
            <a:avLst/>
          </a:prstGeom>
          <a:ln w="7632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485760" y="3742560"/>
            <a:ext cx="11300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181160" y="5791320"/>
            <a:ext cx="1066680" cy="3045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ad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253040" y="5791320"/>
            <a:ext cx="1447560" cy="3045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multipli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357200" y="52578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043000" y="52578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4481640" y="51814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396040" y="51814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628720" y="5284080"/>
            <a:ext cx="16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serv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2514600" y="5257440"/>
            <a:ext cx="0" cy="121932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V="1">
            <a:off x="5867280" y="5181120"/>
            <a:ext cx="0" cy="12956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200880" y="914040"/>
            <a:ext cx="9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P 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Que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2" name=""/>
          <p:cNvGrpSpPr/>
          <p:nvPr/>
        </p:nvGrpSpPr>
        <p:grpSpPr>
          <a:xfrm>
            <a:off x="3505320" y="3505320"/>
            <a:ext cx="2209680" cy="812520"/>
            <a:chOff x="3505320" y="3505320"/>
            <a:chExt cx="2209680" cy="812520"/>
          </a:xfrm>
        </p:grpSpPr>
        <p:sp>
          <p:nvSpPr>
            <p:cNvPr id="743" name=""/>
            <p:cNvSpPr/>
            <p:nvPr/>
          </p:nvSpPr>
          <p:spPr>
            <a:xfrm>
              <a:off x="3505320" y="350532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505320" y="3708360"/>
              <a:ext cx="2209680" cy="2034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505320" y="391176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505320" y="4114800"/>
              <a:ext cx="220968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7" name=""/>
          <p:cNvSpPr/>
          <p:nvPr/>
        </p:nvSpPr>
        <p:spPr>
          <a:xfrm>
            <a:off x="4952880" y="3276720"/>
            <a:ext cx="2057400" cy="533160"/>
          </a:xfrm>
          <a:custGeom>
            <a:avLst/>
            <a:gdLst/>
            <a:ahLst/>
            <a:rect l="l" t="t" r="r" b="b"/>
            <a:pathLst>
              <a:path w="1296" h="480">
                <a:moveTo>
                  <a:pt x="0" y="0"/>
                </a:moveTo>
                <a:lnTo>
                  <a:pt x="1296" y="0"/>
                </a:lnTo>
                <a:lnTo>
                  <a:pt x="1296" y="480"/>
                </a:lnTo>
              </a:path>
            </a:pathLst>
          </a:custGeom>
          <a:noFill/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7390440" y="988200"/>
            <a:ext cx="662400" cy="22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mic Sans MS"/>
              </a:rPr>
              <a:t>ROB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505320" y="2209680"/>
            <a:ext cx="38088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505320" y="2514600"/>
            <a:ext cx="38088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505320" y="2819520"/>
            <a:ext cx="38088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886200" y="2209680"/>
            <a:ext cx="99072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886200" y="2514600"/>
            <a:ext cx="99072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886200" y="2819520"/>
            <a:ext cx="99072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876920" y="2209680"/>
            <a:ext cx="213336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VD F2,F10,F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876920" y="2514600"/>
            <a:ext cx="213336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D F10,F4,F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876920" y="2819520"/>
            <a:ext cx="213336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D F0,10(R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7010280" y="2209680"/>
            <a:ext cx="38124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010280" y="2514600"/>
            <a:ext cx="381240" cy="304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7010280" y="2819520"/>
            <a:ext cx="381240" cy="304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4952880" y="31240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837120" y="60876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on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7467480" y="2209680"/>
            <a:ext cx="609840" cy="4267440"/>
          </a:xfrm>
          <a:custGeom>
            <a:avLst/>
            <a:gdLst/>
            <a:ahLst/>
            <a:rect l="l" t="t" r="r" b="b"/>
            <a:pathLst>
              <a:path w="576" h="2832">
                <a:moveTo>
                  <a:pt x="576" y="2832"/>
                </a:moveTo>
                <a:lnTo>
                  <a:pt x="576" y="0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952880" y="6095880"/>
            <a:ext cx="0" cy="45720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H="1">
            <a:off x="1716120" y="6091200"/>
            <a:ext cx="7920" cy="40176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29240" y="428220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351960" y="441900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V="1">
            <a:off x="8426520" y="1370880"/>
            <a:ext cx="457200" cy="1143000"/>
          </a:xfrm>
          <a:prstGeom prst="upArrow">
            <a:avLst>
              <a:gd name="adj1" fmla="val 50000"/>
              <a:gd name="adj2" fmla="val 62500"/>
            </a:avLst>
          </a:prstGeom>
          <a:solidFill>
            <a:srgbClr val="00ae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8192160" y="259020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Ol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8131680" y="990000"/>
            <a:ext cx="10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New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1" name=""/>
          <p:cNvGrpSpPr/>
          <p:nvPr/>
        </p:nvGrpSpPr>
        <p:grpSpPr>
          <a:xfrm>
            <a:off x="1143000" y="712800"/>
            <a:ext cx="1218960" cy="914400"/>
            <a:chOff x="1143000" y="712800"/>
            <a:chExt cx="1218960" cy="914400"/>
          </a:xfrm>
        </p:grpSpPr>
        <p:sp>
          <p:nvSpPr>
            <p:cNvPr id="772" name=""/>
            <p:cNvSpPr/>
            <p:nvPr/>
          </p:nvSpPr>
          <p:spPr>
            <a:xfrm rot="16200000">
              <a:off x="78732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rot="16200000">
              <a:off x="99036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rot="16200000">
              <a:off x="119376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rot="16200000">
              <a:off x="139680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rot="16200000">
              <a:off x="160020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rot="16200000">
              <a:off x="1803240" y="1068480"/>
              <a:ext cx="914400" cy="2030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8" name=""/>
          <p:cNvSpPr/>
          <p:nvPr/>
        </p:nvSpPr>
        <p:spPr>
          <a:xfrm>
            <a:off x="6519240" y="4384080"/>
            <a:ext cx="11300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ro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7010280" y="49528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6400800" y="5334120"/>
            <a:ext cx="1066320" cy="761760"/>
            <a:chOff x="6400800" y="5334120"/>
            <a:chExt cx="1066320" cy="761760"/>
          </a:xfrm>
        </p:grpSpPr>
        <p:sp>
          <p:nvSpPr>
            <p:cNvPr id="781" name=""/>
            <p:cNvSpPr/>
            <p:nvPr/>
          </p:nvSpPr>
          <p:spPr>
            <a:xfrm>
              <a:off x="6400800" y="5334120"/>
              <a:ext cx="1066320" cy="253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Courier New"/>
                </a:rPr>
                <a:t>1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10+R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400800" y="5587920"/>
              <a:ext cx="1066320" cy="254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400800" y="5842080"/>
              <a:ext cx="1066320" cy="2538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756480" y="5334120"/>
              <a:ext cx="0" cy="76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5" name=""/>
          <p:cNvSpPr/>
          <p:nvPr/>
        </p:nvSpPr>
        <p:spPr>
          <a:xfrm>
            <a:off x="6247800" y="5028480"/>
            <a:ext cx="69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D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47200" y="1904400"/>
            <a:ext cx="281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order Buff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572840" y="3580560"/>
            <a:ext cx="18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gis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7010280" y="6095880"/>
            <a:ext cx="0" cy="3812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362320" y="114300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0" name=""/>
          <p:cNvGrpSpPr/>
          <p:nvPr/>
        </p:nvGrpSpPr>
        <p:grpSpPr>
          <a:xfrm>
            <a:off x="4680" y="1536840"/>
            <a:ext cx="7767720" cy="4025880"/>
            <a:chOff x="4680" y="1536840"/>
            <a:chExt cx="7767720" cy="4025880"/>
          </a:xfrm>
        </p:grpSpPr>
        <p:sp>
          <p:nvSpPr>
            <p:cNvPr id="791" name=""/>
            <p:cNvSpPr/>
            <p:nvPr/>
          </p:nvSpPr>
          <p:spPr>
            <a:xfrm>
              <a:off x="6324480" y="3200400"/>
              <a:ext cx="1447920" cy="2362320"/>
            </a:xfrm>
            <a:prstGeom prst="ellipse">
              <a:avLst/>
            </a:prstGeom>
            <a:noFill/>
            <a:ln w="7632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680" y="2741760"/>
              <a:ext cx="3327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18ffd"/>
                  </a:solidFill>
                  <a:latin typeface="Comic Sans MS"/>
                </a:rPr>
                <a:t>What about mem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18ffd"/>
                  </a:solidFill>
                  <a:latin typeface="Comic Sans MS"/>
                </a:rPr>
                <a:t>hazards??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362320" y="1536840"/>
              <a:ext cx="4038480" cy="2120760"/>
            </a:xfrm>
            <a:custGeom>
              <a:avLst/>
              <a:gdLst/>
              <a:ahLst/>
              <a:rect l="l" t="t" r="r" b="b"/>
              <a:pathLst>
                <a:path w="2544" h="1336">
                  <a:moveTo>
                    <a:pt x="0" y="808"/>
                  </a:moveTo>
                  <a:cubicBezTo>
                    <a:pt x="316" y="444"/>
                    <a:pt x="632" y="80"/>
                    <a:pt x="960" y="40"/>
                  </a:cubicBezTo>
                  <a:cubicBezTo>
                    <a:pt x="1288" y="0"/>
                    <a:pt x="1704" y="352"/>
                    <a:pt x="1968" y="568"/>
                  </a:cubicBezTo>
                  <a:cubicBezTo>
                    <a:pt x="2232" y="784"/>
                    <a:pt x="2388" y="1060"/>
                    <a:pt x="2544" y="1336"/>
                  </a:cubicBezTo>
                </a:path>
              </a:pathLst>
            </a:custGeom>
            <a:noFill/>
            <a:ln w="76320">
              <a:solidFill>
                <a:srgbClr val="618ffd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0041-AE14-45F2-BD49-16FE230D708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0831DE-D877-418A-8688-F44898B09ACB}" type="datetime1">
              <a:rPr lang="en-US"/>
              <a:t>07/28/26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Avoiding Memory Hazard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W and WAR hazards through memory are eliminated with speculation because actual updating of memory occurs in order, when a store is at head of the ROB, and hence, no earlier loads or stores can still be pending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W hazards through memory are maintained by two restrictions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allowing a load to initiate the second step of its execution if any active ROB entry occupied by a store has a Destination field that matches the value of the A field of the load, and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taining the program order for the computation of an effective address of a load with respect to all earlier stor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se restrictions ensure that any load that accesses a memory location written to by an earlier store cannot perform the memory access until the store has written the da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3CE8-CCAB-4562-9311-DCB97057F00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645358-9891-49A6-B37F-268C990E654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xceptions and Interrupt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82960" indent="-28296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M 360/91 invented “imprecise interrupts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r stopped at this PC; its likely close to this addr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so popular with programm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so, what about Virtual Memory? (Not in IBM 360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ique for both precise interrupts/exceptions and speculation: in-order completion and in-order comm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we speculate and are wrong, need to back up and restart execution to point at which we predicted incorrect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is exactly same as need to do with precise excep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ceptions are handled by not recognizing the exception until instruction that caused it is ready to commit in RO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a speculated instruction raises an exception, the exception is recorded in the RO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is why reorder buffers in all new process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02B7-5472-4CF6-BF3D-856E19505121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CDC75D-8D60-4307-B289-B3E99DFD6C9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Getting CPI below 1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806472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1 if issue only 1 instruction every clock cycl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ple-issue processors come in 3 flavors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ically-scheduled superscalar processors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ynamically-scheduled superscalar processors, and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LIW (very long instruction word) process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types of superscalar processors issue varying numbers of instructions per clock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in-order execution if they are statically scheduled, or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-of-order execution if they are dynamically schedul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LIW processors, in contrast, issue a fixed number of instructions formatted either as one large instruction or as a fixed instruction packet with the parallelism among instructions explicitly indicated by the instruction (Intel/HP Itanium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2726-A39C-416B-B43D-6A091A1FBCF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97391C-7501-47E1-91EB-A58098AABE0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3427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VLIW: Very Large Instruction Word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“instruction” has explicit coding for multiple oper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IA-64, grouping called a “packet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Transmeta, grouping called a “molecule” (with “atoms” as op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deoff instruction space for simple deco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long instruction word has room for many oper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definition, all the operations the compiler puts in the long instruction word are independent =&gt; execute in parall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, 2 integer operations, 2 FP ops, 2 Memory refs, 1 bran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 to 24 bits per field =&gt; 7*16 or 112 bits to 7*24 or 168 bits wi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compiling technique that schedules across several branch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19D6-B938-4549-BC3F-378BC994C14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241D91-A968-472C-95A8-2C2C50F1AAB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ecall: Unrolled Loop that Minimizes Stalls for Scalar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673200" y="1143000"/>
            <a:ext cx="845820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509840" y="1825560"/>
            <a:ext cx="666576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oop: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0,0(R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6,-8(R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10,-16(R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14,-24(R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.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4,F0,F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.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8,F6,F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.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12,F10,F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DD.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16,F14,F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.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(R1),F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.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8(R1),F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.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16(R1),F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SUBUI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1,R1,#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NEZ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1,L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.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ae00"/>
                </a:solidFill>
                <a:latin typeface="Courier New"/>
              </a:rPr>
              <a:t>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R1),F16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ae00"/>
                </a:solidFill>
                <a:latin typeface="Courier New"/>
              </a:rPr>
              <a:t>; 8-32 = -24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1886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4 clock cycles, or 3.5 per it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6024600" y="1882800"/>
            <a:ext cx="25938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.D to ADD.D: 1 Cy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.D to S.D: 2 Cyc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5304-C8C8-4B89-84B6-7C21A2D741F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16C312-B6B9-46E7-80EE-3D297E93AC8D}" type="datetime1">
              <a:rPr lang="en-US"/>
              <a:t>07/28/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Loop Unrolling in VLIW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41000" y="1572840"/>
            <a:ext cx="8550360" cy="490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663560"/>
                <a:tab algn="l" pos="3263760"/>
                <a:tab algn="l" pos="5207040"/>
                <a:tab algn="l" pos="6172200"/>
                <a:tab algn="r" pos="829296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emory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P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P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t. op/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lock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ference 1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eference 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operation 1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op. 2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ran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1663560"/>
                <a:tab algn="l" pos="3263760"/>
                <a:tab algn="l" pos="5207040"/>
                <a:tab algn="l" pos="6172200"/>
                <a:tab algn="r" pos="829296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.D F0,0(R1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.D F6,-8(R1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663560"/>
                <a:tab algn="l" pos="3263760"/>
                <a:tab algn="l" pos="5207040"/>
                <a:tab algn="l" pos="6172200"/>
                <a:tab algn="r" pos="829296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.D F10,-16(R1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.D F14,-24(R1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663560"/>
                <a:tab algn="l" pos="3263760"/>
                <a:tab algn="l" pos="5207040"/>
                <a:tab algn="l" pos="6172200"/>
                <a:tab algn="r" pos="829296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.D F18,-32(R1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.D F22,-40(R1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.D F4,F0,F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.D F8,F6,F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663560"/>
                <a:tab algn="l" pos="3263760"/>
                <a:tab algn="l" pos="5207040"/>
                <a:tab algn="l" pos="6172200"/>
                <a:tab algn="r" pos="829296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.D F26,-48(R1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.D F12,F10,F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.D F16,F14,F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663560"/>
                <a:tab algn="l" pos="3263760"/>
                <a:tab algn="l" pos="5207040"/>
                <a:tab algn="l" pos="6172200"/>
                <a:tab algn="r" pos="829296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.D F20,F18,F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.D F24,F22,F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663560"/>
                <a:tab algn="l" pos="3263760"/>
                <a:tab algn="l" pos="5207040"/>
                <a:tab algn="l" pos="6172200"/>
                <a:tab algn="r" pos="829296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.D 0(R1),F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.D -8(R1),F8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.D F28,F26,F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663560"/>
                <a:tab algn="l" pos="3263760"/>
                <a:tab algn="l" pos="5207040"/>
                <a:tab algn="l" pos="6172200"/>
                <a:tab algn="r" pos="829296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.D -16(R1),F1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.D -24(R1),F1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663560"/>
                <a:tab algn="l" pos="3263760"/>
                <a:tab algn="l" pos="5207040"/>
                <a:tab algn="l" pos="6172200"/>
                <a:tab algn="r" pos="829296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.D -32(R1),F2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.D -40(R1),F2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SUBUI  R1,R1,#48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663560"/>
                <a:tab algn="l" pos="3263760"/>
                <a:tab algn="l" pos="5207040"/>
                <a:tab algn="l" pos="6172200"/>
                <a:tab algn="r" pos="829296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.D -0(R1),F28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NEZ R1,LOOP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663560"/>
                <a:tab algn="l" pos="3263760"/>
                <a:tab algn="l" pos="5207040"/>
                <a:tab algn="l" pos="6172200"/>
                <a:tab algn="r" pos="829296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Unrolled 7 times to avoid delay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663560"/>
                <a:tab algn="l" pos="3263760"/>
                <a:tab algn="l" pos="5207040"/>
                <a:tab algn="l" pos="6172200"/>
                <a:tab algn="r" pos="829296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7 results in 9 clocks, or 1.3 clocks per iteration (1.8X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663560"/>
                <a:tab algn="l" pos="3263760"/>
                <a:tab algn="l" pos="5207040"/>
                <a:tab algn="l" pos="6172200"/>
                <a:tab algn="r" pos="829296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Average: 2.5 ops per clock, 50% efficienc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663560"/>
                <a:tab algn="l" pos="3263760"/>
                <a:tab algn="l" pos="5207040"/>
                <a:tab algn="l" pos="6172200"/>
                <a:tab algn="r" pos="829296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te: Need more registers in VLIW (15 vs. 6 in S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990720" y="2438280"/>
            <a:ext cx="3809880" cy="38124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H="1">
            <a:off x="1682640" y="3048120"/>
            <a:ext cx="2965680" cy="67932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28600" y="2133720"/>
            <a:ext cx="8686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9C27-B457-4117-B013-509D87AC63A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A7A850-9E79-436B-B910-3F5CF9C80563}" type="datetime1">
              <a:rPr lang="en-US"/>
              <a:t>07/28/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Problems with 1st Generation VLIW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259920" indent="-25992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rease in code siz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07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ing enough operations in a straight-line code fragment requires ambitiously unrolling loop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07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ever VLIW instructions are not full, unused functional units translate to wasted bits in instruction encod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erated in lock-step; no hazard detection H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07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stall in any functional unit pipeline caused entire processor to stall, since all functional units must be kept synchroniz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07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iler might prediction function units, but caches hard to predic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nary code compatibilit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07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re VLIW =&gt; different numbers of functional units and unit latencies require different versions of the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B504-F4FC-4588-B041-359AB4DD6FB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A9375F-61A9-416C-9254-D2A5368A910D}" type="datetime1">
              <a:rPr lang="en-US"/>
              <a:t>07/28/26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Intel/HP IA-64 “Explicitly Parallel Instruction Computer (EPIC)”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040" y="1143000"/>
            <a:ext cx="8705880" cy="5410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c0128"/>
                </a:solidFill>
                <a:uFillTx/>
                <a:latin typeface="Arial"/>
              </a:rPr>
              <a:t>IA-6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instruction set archite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8 64-bit integer regs + 128 82-bit floating point reg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separate register files per functional unit as in old VLI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dware checks dependencie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nterlocks =&gt; binary compatibility over tim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dicated execution (select 1 out of 64 1-bit flags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&gt; 40% fewer misprediction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c0128"/>
                </a:solidFill>
                <a:uFillTx/>
                <a:latin typeface="Arial"/>
              </a:rPr>
              <a:t>Itanium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as first implementation (200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ly parallel and deeply pipelined hardware at 800Mhz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3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-wide, 10-stage pipeline at 800Mhz on 0.18 µ pro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c0128"/>
                </a:solidFill>
                <a:uFillTx/>
                <a:latin typeface="Arial"/>
              </a:rPr>
              <a:t>Itanium 2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 name of 2nd implementation (2005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3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-wide,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stage pipeline at 1666Mhz on 0.13 µ pro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3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ches: 32 KB I, 32 KB D, 128 KB L2I, 128 KB L2D, 9216 KB L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5ABA-E966-4436-935A-A33AA8EB2FE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FADF98-FE65-41FA-ABDE-D57F71F9EE57}" type="datetime1">
              <a:rPr lang="en-US"/>
              <a:t>07/28/26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Increasing Instruction Fetch Bandwidth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304920" y="1193760"/>
            <a:ext cx="3047760" cy="513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27144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dicts next instruct address, sends it out </a:t>
            </a:r>
            <a:r>
              <a:rPr b="1" i="1" lang="en-US" sz="2400" spc="-1" strike="noStrike">
                <a:solidFill>
                  <a:srgbClr val="0332b7"/>
                </a:solidFill>
                <a:latin typeface="Arial"/>
              </a:rPr>
              <a:t>befo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coding instructu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C of branch sent to BT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match is found, Predicted PC is return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branch predicted taken, instruction fetch continues at Predicted P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7" name="" descr=""/>
          <p:cNvPicPr/>
          <p:nvPr/>
        </p:nvPicPr>
        <p:blipFill>
          <a:blip r:embed="rId1"/>
          <a:stretch/>
        </p:blipFill>
        <p:spPr>
          <a:xfrm>
            <a:off x="3276720" y="2209680"/>
            <a:ext cx="5835600" cy="4942080"/>
          </a:xfrm>
          <a:prstGeom prst="rect">
            <a:avLst/>
          </a:prstGeom>
          <a:ln w="0">
            <a:noFill/>
          </a:ln>
        </p:spPr>
      </p:pic>
      <p:sp>
        <p:nvSpPr>
          <p:cNvPr id="818" name=""/>
          <p:cNvSpPr/>
          <p:nvPr/>
        </p:nvSpPr>
        <p:spPr>
          <a:xfrm>
            <a:off x="3962520" y="1295280"/>
            <a:ext cx="4495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anch Target Buffer (BT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BFD4-5DDC-45F9-BDD8-CF5E1CE4C8D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016D1D-ABD6-4A8E-A2C7-11C00B00B1A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151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eview from Last Time #2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160" y="106668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9000"/>
          </a:bodyPr>
          <a:p>
            <a:pPr marL="225720" indent="-2257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ervations stations: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enam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larger set of registers + buffering source operan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0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vents registers as bottlene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0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oids WAR, WAW hazard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0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loop unrolling in H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5720" indent="-2257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limited to basic block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integer units gets ahead, beyond branche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720" indent="-2257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lps cache misses as wel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720" indent="-2257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sting Contribu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03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ynamic schedul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03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er renam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036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ad/store disambigu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5720" indent="-2257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60/91 descendants are Pentium 4, Power 5, AMD Athlon/Opteron, …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D65E-D166-4099-AC16-ACA04B50F79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523711-12FA-4431-8431-ABFF55589549}" type="datetime1">
              <a:rPr lang="en-US"/>
              <a:t>07/28/26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IF BW: Return Address Predictor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37656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277200" indent="-2772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mall buffer of return addresses acts as a stac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ches most recent return addres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l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ush a return addres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 stac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turn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op an address off stack &amp; predict as new P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1" name=""/>
          <p:cNvGraphicFramePr/>
          <p:nvPr/>
        </p:nvGraphicFramePr>
        <p:xfrm>
          <a:off x="3962520" y="2028960"/>
          <a:ext cx="5709960" cy="3911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2028960"/>
                    <a:ext cx="5709960" cy="39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2572-CDDA-4200-833F-4D5279A0932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96E339-156D-4466-A2DE-AC9225C9B55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More Instruction Fetch Bandwidth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7988400" cy="528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332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Integrated branch predic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ranch predictor is part of instruction fetch unit and is constantly predicting branch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332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Instruction prefetch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struction fetch units prefetch to deliver multiple instruct. per clock, integrating it with branch predi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332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Instruction memory access and buffer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etching multiple instructions per cycl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y require accessing multiple cache blocks (prefetch to hide cost of crossing cache blocks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s buffering, acting as on-demand unit to provide instructions to issue stage as needed and in quantity nee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9EFB-FA7A-43F9-A008-DF49AB4888A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5601D8-2DA8-45FC-858A-4CBC74E61CE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330120"/>
            <a:ext cx="822960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Speculation: Register Renaming vs. ROB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6840" y="1193760"/>
            <a:ext cx="8381880" cy="566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ternative to ROB is a larger physical set of registers combined with register renam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ended registers replace function of both ROB and reservation st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truction issue maps names of architectural registers to physical register numbers in extended register se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 issue, allocates a new unused register for the destination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which avoids WAW and WAR hazard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culation recovery easy because a physical register holding an instruction destination does not become the architectural register until the instruction commi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st Out-of-Order processors today use extended registers with renam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1266-438F-41EA-82D0-CAB1C32844E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63E614-7C5A-4AB8-A4B8-CEFF776D3D9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Value Prediction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79120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tempts to predict </a:t>
            </a: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roduced by instru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.g., Loads a value that changes infrequent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 prediction is useful only if it significantly increases IL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cus of research has been on loads; so-so results, no processor uses value predi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ated topic is </a:t>
            </a:r>
            <a:r>
              <a:rPr b="1" i="1" lang="en-US" sz="2400" spc="-1" strike="noStrike">
                <a:solidFill>
                  <a:srgbClr val="0332b7"/>
                </a:solidFill>
                <a:latin typeface="Arial"/>
              </a:rPr>
              <a:t>address aliasing predi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W for load and store or WAW for 2 sto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ress alias prediction is both more stable and simpler since need not actually predict the address values, only whether such values confli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s been used by a few process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0606-0EFF-4FD2-B681-9CE9ADBC88E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A3BC92-5A99-481F-B033-5A2BD0FE687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(Mis) Speculation on Pentium 4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graphicFrame>
        <p:nvGraphicFramePr>
          <p:cNvPr id="830" name=""/>
          <p:cNvGraphicFramePr/>
          <p:nvPr/>
        </p:nvGraphicFramePr>
        <p:xfrm>
          <a:off x="689040" y="1152360"/>
          <a:ext cx="7646760" cy="687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040" y="1152360"/>
                    <a:ext cx="7646760" cy="68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2" name=""/>
          <p:cNvSpPr/>
          <p:nvPr/>
        </p:nvSpPr>
        <p:spPr>
          <a:xfrm>
            <a:off x="2819520" y="6095880"/>
            <a:ext cx="17524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866200" y="6095880"/>
            <a:ext cx="221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oating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5410080" y="601992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905120" y="6019920"/>
            <a:ext cx="33526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838080" y="990720"/>
            <a:ext cx="791208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% of micro-ops not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5902-6714-4F0B-A49A-353BCBE0F6E4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7F2EB1-FCD7-4B52-9257-9D30B4359EF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Perspectiv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81406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est in multiple-issue because wanted to improve performance without affecting uniprocessor programming mod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king advantage of ILP is conceptually simple, but design problems are amazingly complex in pract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ervative in ideas, just faster clock and bigg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ors of last 5 years (Pentium 4, IBM Power 5, AMD Opteron) have the same basic structure and similar sustained issue rates (3 to 4 instructions per clock) as the 1st dynamically scheduled, multiple-issue processors announced in 199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cks 10 to 20X faster, caches 4 to 8X bigger, 2 to 4X as many renaming registers, and 2X as many load-store unit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erformance 8 to 16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ak v. delivered performance gap increas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1F2A-3F21-4A93-AC94-91AF80970D6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A18FE8-EDDA-4D2C-B993-C7DED0195ED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1625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In Conclusion …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rupts and Exceptions either interrupt the current instruction or happen between instru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sibly large quantities of state must be saved before interrupt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chines with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precise excep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rovide one single point in the program to restart exec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instructions before that point have comple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instructions after or including that point have completed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dware techniques exist for precise exceptions even in the face of out-of-order execution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ortant enabling factor for out-of-order execu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EA50-C717-4506-908A-8151646B2AC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A8C442-B03F-45F6-A21C-121762DC325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S 252 Administrivia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743040" y="1390320"/>
            <a:ext cx="7867440" cy="5086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Page project writeups Due this Sund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s working on the RAMP project should go to 253 Cory or 387 Soda to update their cardkey access for 125 C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MP Blue meeting today at 3:30 in 6</a:t>
            </a:r>
            <a:r>
              <a:rPr b="1" lang="en-US" sz="16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loor Soda Alco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ding Assignment: Chapter 2 today, Chapter 3 following next Wednesd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y 30 minute discussion after one hour lecture (similar to ISA discussion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nd email to TA by Friday, will be posted on Saturday, review before discussion on Mon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per: “Limits of instruction-level parallelism,” by David Wall, Nov 199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d pages 1-35 (&gt; ½ of paper is figu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your comments, rank in order of importance alias analysis, branch prediction, jump prediction, register renaming, and speculative exec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your comments, mention what are limits to this study of limits of ILP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E913-DE6A-43EE-8D7E-8FBB71DE8B77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DAC83E-0877-472D-98E1-D9042ADFE174}" type="datetime1">
              <a:rPr lang="en-US"/>
              <a:t>07/28/26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Limits of ILP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per: “Limits of instruction-level parallelism,” by David Wall, Nov 199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paper is a revision; did he think first version painted a pessimistic or optimistic picture of ILP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were defaults in number of instructions issued per clock cycle, instruction window size, execution latency, number of execution unit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id loop unrolling change results?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did realistic functional unit execution latencies change results?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5C30-2807-494C-99EA-CF89E163844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1BFC46-0A4D-4252-9E10-D1547D66ACC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Limits of ILP [2/2]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nk in order of importance alias analysis, branch prediction, jump prediction, register renaming, and speculative execu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are limits to this study of limits of ILP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was his cautionary note at the end of the memo about result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per was written in 1993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ideas still too optimistic in 2006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ich ideas seem tame in 2006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d you learn much from this paper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F97A-A801-430C-BAEC-D6B45B352C1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E6F10F-BA8B-4F33-A966-B6E307DFE93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ul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ulative Tomasulo Examp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ory Alia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cep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LI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ing instruction bandwid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ister Renaming vs. Reorder Buff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 Predi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cussion about paper “Limits of ILP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ABB2-3324-4EDD-8FBB-BD0737069B9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1B43AD-4693-4A5C-B9B6-10A5AF0159A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Speculation to greater ILP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7988400" cy="52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eater ILP: Overcome control dependence by hardware speculating on outcome of branches and executing program as if guesses were corr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751"/>
              </a:spcBef>
              <a:buClr>
                <a:srgbClr val="0332b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32b7"/>
                </a:solidFill>
                <a:latin typeface="Arial"/>
              </a:rPr>
              <a:t>Speculation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332b7"/>
                </a:solidFill>
                <a:latin typeface="Arial"/>
              </a:rPr>
              <a:t>fetch, issue, and execute instructi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s if branch predictions were always correc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751"/>
              </a:spcBef>
              <a:buClr>
                <a:srgbClr val="0332b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32b7"/>
                </a:solidFill>
                <a:latin typeface="Arial"/>
              </a:rPr>
              <a:t>Dynamic schedulin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nly </a:t>
            </a:r>
            <a:r>
              <a:rPr b="1" lang="en-US" sz="2000" spc="-1" strike="noStrike">
                <a:solidFill>
                  <a:srgbClr val="0332b7"/>
                </a:solidFill>
                <a:latin typeface="Arial"/>
              </a:rPr>
              <a:t>fetches and issu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stru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sentially a </a:t>
            </a: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data flow execution mode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Operations execute as soon as their operands are availa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02E4-116F-451E-8A9C-0B1F494EEE1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8CA203-7DE4-41C9-B03A-67D315DB779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Speculation to greater ILP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7988400" cy="520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components of HW-based specula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ynamic branch prediction to choose which instructions to execut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ulation to allow execution of instructions before control dependences are resolved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 ability to undo effects of incorrectly speculated sequenc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ynamic scheduling to deal with scheduling of different combinations of basic block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F854-60A4-4B12-8B25-0E13087CC29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769586-9BDD-4890-B426-AD1EC42B1D6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Adding Speculation to Tomasulo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75312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st separate execution from allowing instruction to finish or “commit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additional step called </a:t>
            </a: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instruction comm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an instruction is no longer speculative, allow it to update the register file or memory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s additional set of buffers to hold results of instructions that have finished execution but have not commit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reorder buff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ROB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is also used to pass results among instructions that may be specula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5193-8D69-4955-9885-3C80AC9AF56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B0A27D-0633-458C-A907-1CEC15A0D16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eorder Buffer (ROB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omasulo’s algorithm, once an instruction writes its result, any subsequently issued instructions will find result in the register fi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th speculation, the register file is not updated until the instruction commit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we know definitively that the instruction should execut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us, the ROB supplies operands in interval between completion of instruction execution and instruction comm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B is a source of operands for instructions, just as reservation stations (RS) provide operands in Tomasulo’s algorith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B extends architectured registers like 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6A91-C23F-4551-826D-A04ECEEB785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DC639C-68B2-4EC4-8305-5C01482EE23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eorder Buffer Entry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entry in the ROB contains four fields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uction typ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branch (has no destination result), a store (has a memory address destination), or a register operation (ALU operation or load, which has register destination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tin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er number (for loads and ALU operations) or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 address (for stores)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the instruction result should be writt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ue of instruction result until the instruction commi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icates that instruction has completed execution, and the value is read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8 ILP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EEA7-BD46-4F30-B116-3B733F9400D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A8B33D-996A-45C8-8BB0-B46BFE17C23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8T03:17:21Z</dcterms:created>
  <dc:creator> </dc:creator>
  <dc:description/>
  <cp:keywords/>
  <dc:language>en-US</dc:language>
  <cp:lastModifiedBy>EECS</cp:lastModifiedBy>
  <cp:lastPrinted>1998-07-14T21:04:32Z</cp:lastPrinted>
  <dcterms:modified xsi:type="dcterms:W3CDTF">2006-02-12T22:43:40Z</dcterms:modified>
  <cp:revision>60</cp:revision>
  <dc:subject/>
  <dc:title>EECS 252 Graduate Computer Architecture   Lec XX - TOPIC  </dc:title>
</cp:coreProperties>
</file>