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A49-64B4-4700-821C-C3A95AA7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72F-33F8-47CC-8A4B-691679D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146-3BA7-4B62-948F-18FB736D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AAE-6CD5-479C-96FC-C55BE114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18D-A9EF-4E2F-A218-06EF9DC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71A-6A64-42C6-87E3-7E9819C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641-6656-4634-A557-6B889E8B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30A-DF55-4453-8B10-327C550A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34B-FAAB-40BB-BEEC-639409E2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CB8-64F3-49D2-B359-27C11A2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693-2F29-48B2-B4EE-3F7A938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51C-D2F3-4938-8521-AA7566E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C15-7032-4BEA-88DB-117676B1D6BC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8421-E1E2-4E0E-BDF5-BD02A467A133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22C-2A94-44A6-8A47-A80C84008C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94C1B-0A77-4F5B-8E37-3AF47517A1A6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F93-C776-4D15-80E0-2F0C13CA99F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9A6E7-26F8-41EC-98E4-95BAE84878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881-F82D-4EE0-95FB-3FD7EA82F5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1FA10-FA03-4CA3-A7E2-B26839828FB0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296-1576-4789-8891-C26FCD8E11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3A7BF-A2FD-4D1E-BA64-B6AC8063F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F0C-8C24-4065-A637-7864F7F0A82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56620-D997-4796-AEE2-FBBF97211A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380-768B-4E5F-AB4B-F12041A896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27A62-094D-4967-9A9E-FD9317F66EC7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322-540D-4931-9AE3-895ACAFE955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F3CB3-A412-437A-B3FF-829ABE4CA4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A7C-B706-42E1-8DD4-AD963B30E3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536D7-616E-4098-9B55-A08F9CC0B676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36C-876B-48E0-8678-907A3F70AA2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A892D-A793-43BD-A596-5428B84EA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7E2-8E5F-46B9-9A3D-C2F7E2162F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E0278-1100-481E-AB71-E8B37D4E2350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C14-F221-457F-8F12-B03AE48B1E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8700E-3155-429A-B8E8-F2B395E3F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67C-7390-490C-9B54-9AA300527E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1459A-1606-4C4B-A9B1-A2BAFE5784E4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363-6620-4D40-B2E0-73320CE2F8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2E97F-3D29-4D86-9C45-B3991ADA8D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7D6-3C4C-42AE-B0DC-532D86C7AF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E5AE7-646D-4B40-90D2-CE7256835112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C8C-8777-4E56-80F5-2DF18662B6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5356A-5516-48A5-997D-4B921AC51F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409-D76A-4D07-811F-5A287BEC5F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077C1-8881-43B2-AE14-A3DCDA3030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604-A312-4FC1-A87C-F625A8C72D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E2263-0C5B-42D0-8337-E1BD115398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158-78C4-488E-A21D-97CC0FAD7A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8E4D0-F0E4-4097-AD4E-2E5C56CD7FF1}" type="datetime1">
              <a:rPr lang="en-US"/>
              <a:t>07/29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A89-341B-4594-B530-8B64AE0699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86BAB-DC5C-452E-8E66-1426F5CD6F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6D61-95DC-48EB-B7A8-E37CD37FC6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7ECB-2E14-4122-930F-B590FB7772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DEC-C0EE-4905-8EF1-4A8724BEEB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4865F-2D3F-4D8C-83B7-E49A595154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4AB-8BF5-472E-B84C-1ACC657C54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58656-BD42-4868-BA14-C2927BABE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3C6-77B3-4DDC-834A-EB15D233AF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60203-0B96-40EC-9901-4E975BE710C6}" type="datetime1">
              <a:rPr lang="en-US"/>
              <a:t>07/29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EDE-563E-4B59-AB13-E5F0CB9A6F2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C0F85-15C1-4BC5-A562-9521396EFE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6FB-43A4-47C6-926C-757A5B33B6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EAC83-B0FD-4092-B683-7EED6F689D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2FE-D9F3-463C-A84E-11CC8C5308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DEBB5-E5E5-4057-AE66-21C3466D7B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3A3-0F95-42A0-8741-EE6C4B331D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F1933-2EC7-4B99-9CEF-C9E1D2D05499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C2A-C7D7-4ED3-A20E-93C36BB7D8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0DCA7-3FE2-49D2-8395-11EB757AEB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CBA-A2FB-43A9-8819-ABEBE5563B4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D2601-1EDB-4137-85C7-5BAC9419EC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068-67F4-4BB3-BF02-FC8439659DF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D7999-EDB2-478D-A9F0-CD9478F96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7B5-8E4E-4C0C-9123-F2DAB381CC7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FB63E-18D1-46ED-8A1F-FFC3C433D6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E6E-0FEA-44BB-BA90-290065DCA6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21C27-D32E-41D8-A944-E3024EE97C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521-8800-47AD-968F-15D739D7B02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850CD-5330-4CD7-81B4-D2F10C6FCB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ACC-A4A3-4C4D-B8CD-72432449E4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AD48C-8B97-48FE-A4D7-4C6968F311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684-59FF-4854-A5E9-0A1E5A7A44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FA192-4CE1-4BB3-815E-A7CE2F9420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8D5-C190-484F-AB43-6451E29082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E4510-DDC1-49E9-8C7A-39CBCBE753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BED-952D-47EC-ACCE-C5F5EBB4C3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5AB64-5EAA-4538-B700-226CF5C9DC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685-D82E-4680-8865-6F33D91149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D2D24-EC68-4447-A935-999CF678DE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9B4-036E-4959-9E9E-2F7DACAE9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A252D-3A1E-4A36-BAEC-2E79F0131055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C71-7D61-42B1-A2E0-2377EF777D5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325B9-2D41-40A5-AFA4-D7C3C37E9F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677-1036-43FC-9D78-4682C1B4FF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AED28-5CA5-4007-97A2-E8AE92759348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8CD-D7E5-4D6A-AE90-3648D858BA5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B6B79-4E6B-48F6-BBC9-C119FB336B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