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wmf" ContentType="image/x-wmf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19.wmf" ContentType="image/x-wmf"/>
  <Override PartName="/ppt/media/image3.wmf" ContentType="image/x-wmf"/>
  <Override PartName="/ppt/media/image13.jpeg" ContentType="image/jpeg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4.wmf" ContentType="image/x-wmf"/>
  <Override PartName="/ppt/media/image5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ED4-A120-4DC2-8C39-3437A6AF3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8125-1A4C-428C-BAB7-C11C5D49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54FF-BE5D-4F4A-A019-D1864D2A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7CC8-DD09-4318-8793-EC438015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C526-6F95-42CF-A76C-23B97BC5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4FA-5F19-4907-A6A8-A71EAD9FD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3E3-6199-4B30-8180-A0BDEED9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CA43-E89D-4E8F-9C55-3DAF0BF0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23AD-6EA7-464A-B559-B7DD80745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45A0-AF0A-42E9-A5BF-4C87727E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505-426C-4C93-942B-B819138F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24B7-809E-4D39-A58B-48FF653A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3821-F1DE-4FBE-9FD7-75401E5AC95A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E639-013B-42FD-923C-36EE7DB78800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1.png"/><Relationship Id="rId24" Type="http://schemas.openxmlformats.org/officeDocument/2006/relationships/image" Target="../media/image11.png"/><Relationship Id="rId25" Type="http://schemas.openxmlformats.org/officeDocument/2006/relationships/image" Target="../media/image11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11.png"/><Relationship Id="rId43" Type="http://schemas.openxmlformats.org/officeDocument/2006/relationships/image" Target="../media/image11.png"/><Relationship Id="rId44" Type="http://schemas.openxmlformats.org/officeDocument/2006/relationships/image" Target="../media/image12.png"/><Relationship Id="rId45" Type="http://schemas.openxmlformats.org/officeDocument/2006/relationships/image" Target="../media/image11.png"/><Relationship Id="rId46" Type="http://schemas.openxmlformats.org/officeDocument/2006/relationships/image" Target="../media/image10.png"/><Relationship Id="rId47" Type="http://schemas.openxmlformats.org/officeDocument/2006/relationships/image" Target="../media/image11.png"/><Relationship Id="rId48" Type="http://schemas.openxmlformats.org/officeDocument/2006/relationships/image" Target="../media/image10.png"/><Relationship Id="rId49" Type="http://schemas.openxmlformats.org/officeDocument/2006/relationships/image" Target="../media/image10.png"/><Relationship Id="rId50" Type="http://schemas.openxmlformats.org/officeDocument/2006/relationships/image" Target="../media/image10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0.png"/><Relationship Id="rId54" Type="http://schemas.openxmlformats.org/officeDocument/2006/relationships/image" Target="../media/image11.png"/><Relationship Id="rId55" Type="http://schemas.openxmlformats.org/officeDocument/2006/relationships/image" Target="../media/image12.png"/><Relationship Id="rId56" Type="http://schemas.openxmlformats.org/officeDocument/2006/relationships/image" Target="../media/image10.png"/><Relationship Id="rId57" Type="http://schemas.openxmlformats.org/officeDocument/2006/relationships/image" Target="../media/image11.png"/><Relationship Id="rId58" Type="http://schemas.openxmlformats.org/officeDocument/2006/relationships/image" Target="../media/image11.png"/><Relationship Id="rId59" Type="http://schemas.openxmlformats.org/officeDocument/2006/relationships/image" Target="../media/image10.png"/><Relationship Id="rId60" Type="http://schemas.openxmlformats.org/officeDocument/2006/relationships/image" Target="../media/image12.png"/><Relationship Id="rId61" Type="http://schemas.openxmlformats.org/officeDocument/2006/relationships/image" Target="../media/image10.png"/><Relationship Id="rId62" Type="http://schemas.openxmlformats.org/officeDocument/2006/relationships/image" Target="../media/image10.png"/><Relationship Id="rId63" Type="http://schemas.openxmlformats.org/officeDocument/2006/relationships/image" Target="../media/image11.png"/><Relationship Id="rId64" Type="http://schemas.openxmlformats.org/officeDocument/2006/relationships/image" Target="../media/image12.png"/><Relationship Id="rId6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9 – Limits to ILP  and Simultaneous Multithreading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3560" y="4289400"/>
            <a:ext cx="7662960" cy="181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vlsi.cs.berkeley.edu/cs252-s0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228600" y="1501920"/>
          <a:ext cx="8915400" cy="523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01920"/>
                    <a:ext cx="8915400" cy="52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Window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2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3765600" cy="492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 from Infinite window 2048, 512, 128, 3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323400" y="12952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9 -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3320" y="289548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8 - 6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D594-FA8B-48A9-BF24-57AE983000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569D0-1D95-42CA-92EF-6B719B1E6BAF}" type="datetime1">
              <a:rPr lang="en-US"/>
              <a:t>07/28/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04920" y="1143000"/>
          <a:ext cx="8229600" cy="571500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Perfect vs. 8K Tournament vs. 512 2-bit vs. profile vs. 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2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733C-9E79-4776-BC5D-F1A021680C2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8B26E-E85F-4348-A4ED-8746415EFA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09480" y="1244520"/>
          <a:ext cx="8204400" cy="537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244520"/>
                    <a:ext cx="8204400" cy="537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399600"/>
            <a:ext cx="847728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Branch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3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0800" y="971280"/>
            <a:ext cx="3886200" cy="201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from Infinite window to examine to 2048 and maximum issue of 64 instructions per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22400" y="6467400"/>
            <a:ext cx="893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50000" y="6467400"/>
            <a:ext cx="1246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8ffd"/>
                </a:solidFill>
                <a:latin typeface="Arial"/>
              </a:rPr>
              <a:t>BHT (51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04480" y="6467400"/>
            <a:ext cx="1502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e00"/>
                </a:solidFill>
                <a:latin typeface="Arial"/>
              </a:rPr>
              <a:t>Tourna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64440" y="6467400"/>
            <a:ext cx="954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Perf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26840" y="6505560"/>
            <a:ext cx="1656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c0081"/>
                </a:solidFill>
                <a:latin typeface="Arial"/>
              </a:rPr>
              <a:t>No predi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23480" y="101448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15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41480" y="309096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6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8C7-0A74-450C-AF28-14932AFA578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8A5B7-FBE3-43D4-B3B3-2192BDB80D82}" type="datetime1">
              <a:rPr lang="en-US"/>
              <a:t>07/28/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isprediction Rat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066680"/>
          <a:ext cx="9144000" cy="51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51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1C16-EEAF-4BB7-A6FB-64E3ECE2CE7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59D99-BD91-413F-A510-24597A8EC5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304920" y="1143000"/>
          <a:ext cx="8229600" cy="511956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 v. 256, 128, 64, 32, none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8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 Branch Predi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9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7C0F-9266-4CDC-AE95-7BDFE83486A6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62E373-D69D-450C-9656-D6277B3925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368280" y="1157400"/>
          <a:ext cx="8178840" cy="536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157400"/>
                    <a:ext cx="8178840" cy="53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820000" cy="15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naming Register Impact (N int + N fp) </a:t>
            </a:r>
            <a:br>
              <a:rPr sz="32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gure 3.5</a:t>
            </a:r>
            <a:endParaRPr b="1" lang="en-US" sz="14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90680" y="1619280"/>
            <a:ext cx="3619440" cy="1257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268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 2048 instr window, 64 instr issue, 8K 2 level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6560" y="6389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74160" y="6389640"/>
            <a:ext cx="9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97800" y="638964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61480" y="638964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25000" y="6389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1440" y="638964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7000" y="342900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5 -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42600" y="1128600"/>
            <a:ext cx="1707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11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900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639D-2D4F-4766-A448-006E9FC805F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C7EB6-6227-4C64-9117-6C588845F59F}" type="datetime1">
              <a:rPr lang="en-US"/>
              <a:t>07/28/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304920" y="1143000"/>
          <a:ext cx="8229600" cy="531828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0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256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t + 256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8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Perfect v. Stack v. Inspect v. n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274-C378-47CE-8B92-C8A6ED7CB5BC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E75CA1-1162-486F-AEC7-5386FBF594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35040" y="927000"/>
            <a:ext cx="8496360" cy="5384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ore Realistic HW: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emory Address Alias Impa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gure 3.6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3657600" cy="11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34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 2048 instr window, 64 instr issue, 8K 2 level Prediction, 256 renaming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18760" y="6097680"/>
            <a:ext cx="941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86960" y="6097680"/>
            <a:ext cx="27921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Global/Stack perf;</a:t>
            </a:r>
            <a:br>
              <a:rPr sz="2400"/>
            </a:b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heap confli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1760" y="6097680"/>
            <a:ext cx="1214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4880" y="6097680"/>
            <a:ext cx="12650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Inspec.</a:t>
            </a:r>
            <a:br>
              <a:rPr sz="2400"/>
            </a:b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Ass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51800" y="1795320"/>
            <a:ext cx="153792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4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Fortra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he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69800" y="3262320"/>
            <a:ext cx="1996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4 -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23120" y="364572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15B6-BD60-43CC-B5ED-7C6A034CBA0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866B5-D0CE-4F4B-ADA2-02D76D830AFD}" type="datetime1">
              <a:rPr lang="en-US"/>
              <a:t>07/28/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143000"/>
          <a:ext cx="8229600" cy="507348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 (no restriction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 vs. 256, 128, 64,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64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t + 64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1K 2-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rna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W disambigu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6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165-9A4C-4365-B9D5-E16949FABAA4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D0A0D-622E-4697-959F-BB8C309E90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54160" y="993600"/>
            <a:ext cx="8623080" cy="55245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628200"/>
            <a:ext cx="8896320" cy="3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alistic HW: Window Impac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gure 3.7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4057920" cy="127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372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ect disambiguation (HW), 1K Selective Prediction, 16 entry return, 64 registers, issue as many as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2480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2500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61240" y="635148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2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77200" y="6351480"/>
            <a:ext cx="1182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In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799520" y="635148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61520" y="6351480"/>
            <a:ext cx="68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4560" y="63514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12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75600" y="635148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54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7480" y="3738600"/>
            <a:ext cx="2165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6 -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61360" y="2004840"/>
            <a:ext cx="1537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8 - 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-28800" y="3607560"/>
            <a:ext cx="859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9A77-43B2-4836-AB67-C1D682967B8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F7E810-21C8-4F61-BFDC-96C56874DA11}" type="datetime1">
              <a:rPr lang="en-US"/>
              <a:t>07/28/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Tim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1406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est in multiple-issue because wanted to improve performance without affecting uniprocessor programm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king advantage of ILP is conceptually simple, but design problems are amazingly complex in pract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ervative in ideas, just faster clock and big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ssors of last 5 years (Pentium 4, IBM Power 5, AMD Opteron) have the same basic structure and similar sustained issue rates (3 to 4 instructions per clock) as the 1st dynamically scheduled, multiple-issue processors announced in 199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ocks 10 to 20X faster, caches 4 to 8X bigger, 2 to 4X as many renaming registers, and 2X as many load-store unit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erformance 8 to 16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ak v. delivered performance gap increa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5ADA-7E75-4B89-938C-77643841A27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848B5-1CE1-4378-937B-6FA4202032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 252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867800" cy="546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Page project writeups Due LAST Sun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Homework Assignment due Frid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s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Friday Reading Assignment: “Simultaneous Multithreading: A Platform for Next-generation Processors,” Susan J. Eggers et al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EEE Micr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199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y 30 minute discussion after one hour lecture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nd email to TA by Friday, will be posted on Saturday, review before discussion on Mon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assumption made about computer organization before add SMT? What performance advantages claimed? For what workload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compare to Wall’s ILP limit claim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5D20-7D1B-47D3-B77D-EE0F445A7B0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FC96F-BE63-4227-BB84-0F5D5108583C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Limits to ILP (another perspec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4 vs. Power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to Head: VLIW vs. Superscalar vs. S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9F3A-4AA7-4373-A02B-B705D8C4879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3934F-82DB-49E2-BAFF-3942290FBB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30120"/>
            <a:ext cx="79246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ow to Exceed ILP Limits of this study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are not laws of physics; just practical limits for today, and perhaps overcome via resear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and ISA advances could change resul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 and WAW hazards through memory: eliminated WAW and WAR hazards through register renaming, but not in memory us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get conflicts via allocation of stack frames as a called procedure reuses the memory addresses of a previous frame on the st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1689-E029-4424-AD37-33463D5B672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8229C-B0B6-4120-87C3-713D67E04319}" type="datetime1">
              <a:rPr lang="en-US"/>
              <a:t>07/28/26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W v. SW to increase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 disambiguation: HW b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culation: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W best when dynamic branch prediction better than compile time predi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easier for H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W doesn’t need bookkeeping code or compensation c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4400" indent="-2145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complicated to get righ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heduling: SW can look ahead to schedule bett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 independence: does not require new compiler, recompilation to run wel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856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218-FA27-4EE9-894F-7B8865B23FD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29EF45-287B-4A23-A529-6E45CBC4BF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Performance beyond single thread ILP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re can be much higher natural parallelism in some applicatio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e.g., Database or Scientific codes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icit 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Thread Level Paralle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ata Level Paralleli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Threa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rocess with own instructions and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ad may be a process part of a parallel program of multiple processes, or it may be an independent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hread has all the state (instructions, data, PC, register state, and so on) necessary to allow it to execu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4ffb"/>
                </a:solidFill>
                <a:latin typeface="Arial"/>
              </a:rPr>
              <a:t>Data Level Parallelis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 Perform identical operations on data, and lots of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853-443E-4852-8593-249670FB3025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24E11-A6FB-4030-B237-8E66383E1A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ad Level Parallelism (TLP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683480" cy="53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P exploits implicit parallel operations within a loop or straight-line code seg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explicitly represented by the use of multiple threads of execution that are inherently parall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: Use multiple instruction streams to improv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put of computers that run many program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ion time of multi-threaded progra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could be more cost-effective to exploit than IL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5413-8E08-431D-9FC4-B5E4FCBB7F1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020A4-7AB9-45C0-9F74-940F87CEE0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ew Approach: Mulithreaded Execu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ltithreading: multiple threads to share the functional units of 1 processor via overlapp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cessor must duplicate independent state of each thread e.g., a separate copy of register file, a separate PC, and for running independent programs, a separate page t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mory shared through the virtual memory mechanisms, which already support multiple proc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W for fast thread switch; much faster than full process switc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100s to 1000s of clock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switch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e instruction per thread (fine gra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10200" indent="-2034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a thread is stalled, perhaps for a cache miss, another thread can be executed (coarse grai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AA2A-E88F-4558-AD0B-53CD0C778E8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FF527-8FEB-4945-A673-7AA4C29AAAA9}" type="datetime1">
              <a:rPr lang="en-US"/>
              <a:t>07/28/26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ine-Grained Multith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between threads on each instruction, causing the execution of multiples threads to be interleave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done in a round-robin fashion, skipping any stalled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PU must be able to switch threads every cloc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 is it can hide both short and long stalls, since instructions from other threads executed when one thread stall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 is it slows down execution of individual threads, since a thread ready to execute without stalls will be delayed by instructions from other thre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on Sun’s Niagara (will see late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DDE-6C41-42A8-BA1D-F58F2653AB2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E0844-BDA8-475B-9C4A-5962D6B1CB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urse-Grained Multithread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12080" cy="528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itches threads only on costly stalls, such as L2 cache mis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ieves need to have very fast thread-swit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n’t slow down thread, since instructions from other threads issued only when the thread encounters a costly stal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advantage is hard to overcome throughput losses from shorter stalls, due to pipeline start-up cos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ce CPU issues instructions from 1 thread, when a stall occurs, the pipeline must be emptied or froze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thread must fill pipeline before instructions can complet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cause of this start-up overhead, coarse-grained multithreading is better for reducing penalty of high cost stalls, where pipeline refill &lt;&lt; stall ti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d in IBM AS/4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927-121C-430D-BF09-EF05E5F037C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9B633-16E6-4F2E-B391-069372DBE2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92520" y="-360"/>
            <a:ext cx="94870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r most apps, most execution units lie idl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47920" y="880920"/>
            <a:ext cx="5918040" cy="59770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486400" y="5097600"/>
            <a:ext cx="1817640" cy="17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From: Tullsen, Eggers, and Lev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Simultaneous Multithreading: Maximizing On-chip Parallelism, ISCA 199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86400" y="990720"/>
            <a:ext cx="1886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900" spc="-1" strike="noStrike">
                <a:solidFill>
                  <a:srgbClr val="053de8"/>
                </a:solidFill>
                <a:latin typeface="Arial"/>
              </a:rPr>
              <a:t>For an 8-way superscalar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ILP (another perspectiv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ad Level Parallelis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4 vs. Power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ad to Head: VLIW vs. Superscalar vs. SM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a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FD92-752D-4BB9-8512-843578293D6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9BDB51-6879-4D6F-BAE0-C3C8E3F5A6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o both ILP and TLP?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LP and ILP exploit two different kinds of parallel structure in a program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a processor oriented at ILP to exploit TLP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ctional units are often idle in data path designed for ILP because of either stalls or dependences in the cod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the TLP be used as a source of independent instructions that might keep the processor busy during stalls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d TLP be used to employ the functional units that would otherwise lie idle when insufficient ILP exists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24AB-EEFF-4066-B553-3BE4F78F286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58EE1-117D-47EB-ADDC-8E66162310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imultaneous Multi-threading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63480" y="1679400"/>
          <a:ext cx="3462480" cy="4481640"/>
        </p:xfrm>
        <a:graphic>
          <a:graphicData uri="http://schemas.openxmlformats.org/drawingml/2006/table">
            <a:tbl>
              <a:tblPr/>
              <a:tblGrid>
                <a:gridCol w="376920"/>
                <a:gridCol w="388800"/>
                <a:gridCol w="388440"/>
                <a:gridCol w="376920"/>
                <a:gridCol w="388800"/>
                <a:gridCol w="388440"/>
                <a:gridCol w="376920"/>
                <a:gridCol w="388800"/>
                <a:gridCol w="388440"/>
              </a:tblGrid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59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5760">
                      <a:solidFill>
                        <a:srgbClr val="618ffd"/>
                      </a:solidFill>
                    </a:lnL>
                    <a:lnR w="5760">
                      <a:solidFill>
                        <a:srgbClr val="618ffd"/>
                      </a:solidFill>
                    </a:lnR>
                    <a:lnT w="5760">
                      <a:solidFill>
                        <a:srgbClr val="618ffd"/>
                      </a:solidFill>
                    </a:lnT>
                    <a:lnB w="5760">
                      <a:solidFill>
                        <a:srgbClr val="618ff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1085760" y="1371600"/>
            <a:ext cx="30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4920" y="137160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93880" y="1371600"/>
            <a:ext cx="412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93840" y="1371600"/>
            <a:ext cx="435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83000" y="137160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982960" y="137160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36840" y="1371600"/>
            <a:ext cx="49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14840" y="137160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760" y="1360440"/>
            <a:ext cx="84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53de8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990720"/>
            <a:ext cx="402264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061"/>
              </a:lnSpc>
              <a:tabLst>
                <a:tab algn="l" pos="0"/>
                <a:tab algn="l" pos="536400"/>
                <a:tab algn="l" pos="1360440"/>
                <a:tab algn="l" pos="2182680"/>
                <a:tab algn="l" pos="3006720"/>
                <a:tab algn="l" pos="3828960"/>
                <a:tab algn="l" pos="4651200"/>
                <a:tab algn="l" pos="5475240"/>
                <a:tab algn="l" pos="629748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e thread, 8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6960" y="6389640"/>
            <a:ext cx="853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en-US" sz="1600" spc="-1" strike="noStrike">
                <a:solidFill>
                  <a:srgbClr val="053de8"/>
                </a:solidFill>
                <a:latin typeface="Arial"/>
              </a:rPr>
              <a:t>M = Load/Store, FX = Fixed Point, FP = Floating Point, BR = Branch, CC = Condition C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5292720" y="1741320"/>
          <a:ext cx="3462480" cy="4481640"/>
        </p:xfrm>
        <a:graphic>
          <a:graphicData uri="http://schemas.openxmlformats.org/drawingml/2006/table">
            <a:tbl>
              <a:tblPr/>
              <a:tblGrid>
                <a:gridCol w="376920"/>
                <a:gridCol w="388800"/>
                <a:gridCol w="388440"/>
                <a:gridCol w="376920"/>
                <a:gridCol w="388800"/>
                <a:gridCol w="388440"/>
                <a:gridCol w="376920"/>
                <a:gridCol w="388800"/>
                <a:gridCol w="388440"/>
              </a:tblGrid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259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</a:tr>
              <a:tr h="50292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  <a:tr h="480600"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596880"/>
                          <a:tab algn="l" pos="1511280"/>
                          <a:tab algn="l" pos="2425680"/>
                          <a:tab algn="l" pos="3340080"/>
                          <a:tab algn="l" pos="4254480"/>
                          <a:tab algn="l" pos="5168880"/>
                          <a:tab algn="l" pos="6083280"/>
                          <a:tab algn="l" pos="699768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solidFill>
                      <a:srgbClr val="053de8"/>
                    </a:solidFill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  <a:tc>
                  <a:txBody>
                    <a:bodyPr lIns="82440" rIns="82440" tIns="41040" bIns="410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82440" marR="82440">
                    <a:lnL w="12240">
                      <a:solidFill>
                        <a:srgbClr val="618ffd"/>
                      </a:solidFill>
                    </a:lnL>
                    <a:lnR w="12240">
                      <a:solidFill>
                        <a:srgbClr val="618ffd"/>
                      </a:solidFill>
                    </a:lnR>
                    <a:lnT w="12240">
                      <a:solidFill>
                        <a:srgbClr val="618ffd"/>
                      </a:solidFill>
                    </a:lnT>
                    <a:lnB w="12240">
                      <a:solidFill>
                        <a:srgbClr val="618ff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"/>
          <p:cNvSpPr/>
          <p:nvPr/>
        </p:nvSpPr>
        <p:spPr>
          <a:xfrm>
            <a:off x="5703840" y="1433520"/>
            <a:ext cx="30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3000" y="1433520"/>
            <a:ext cx="307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411960" y="1433520"/>
            <a:ext cx="411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11920" y="1433520"/>
            <a:ext cx="43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201080" y="1433520"/>
            <a:ext cx="43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01040" y="1433520"/>
            <a:ext cx="43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954920" y="1433520"/>
            <a:ext cx="490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31120" y="1433520"/>
            <a:ext cx="457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8840" y="1422360"/>
            <a:ext cx="844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1800" spc="-1" strike="noStrike">
                <a:solidFill>
                  <a:srgbClr val="053de8"/>
                </a:solidFill>
                <a:latin typeface="Arial"/>
              </a:rPr>
              <a:t>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800600" y="1066680"/>
            <a:ext cx="419400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3061"/>
              </a:lnSpc>
              <a:tabLst>
                <a:tab algn="l" pos="0"/>
                <a:tab algn="l" pos="536400"/>
                <a:tab algn="l" pos="1360440"/>
                <a:tab algn="l" pos="2182680"/>
                <a:tab algn="l" pos="3006720"/>
                <a:tab algn="l" pos="3828960"/>
                <a:tab algn="l" pos="4651200"/>
                <a:tab algn="l" pos="5475240"/>
                <a:tab algn="l" pos="629748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wo threads, 8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618080" y="701640"/>
            <a:ext cx="0" cy="560088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imultaneous Multithreading (SMT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 (SMT): insight that dynamically scheduled processor already has many HW mechanisms to support multit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 set of virtual registers that can be used to hold the register sets of independent thread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ister renaming provides unique register identifiers, so instructions from multiple threads can be mixed in datapath without confusing sources and destinations across threa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-of-order completion allows the threads to execute out of order, and get better utilization of the HW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st adding a per thread renaming table and keeping separate PC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pendent commitment can be supported by logically keeping a separate reorder buffer for each thr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25280" y="6019200"/>
            <a:ext cx="2716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Micrprocessor Report, December 6, 1999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“Compaq Chooses SMT for Alpha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542-247C-46CB-AA14-AD7C4222BBF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29C95-E9F6-4B43-BF25-67A9BF407F25}" type="datetime1">
              <a:rPr lang="en-US"/>
              <a:t>07/28/26</a:t>
            </a:fld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15920" y="330120"/>
            <a:ext cx="65167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Multithreaded Categori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990720" y="1447920"/>
            <a:ext cx="1143000" cy="3581280"/>
            <a:chOff x="990720" y="1447920"/>
            <a:chExt cx="1143000" cy="3581280"/>
          </a:xfrm>
        </p:grpSpPr>
        <p:sp>
          <p:nvSpPr>
            <p:cNvPr id="185" name=""/>
            <p:cNvSpPr/>
            <p:nvPr/>
          </p:nvSpPr>
          <p:spPr>
            <a:xfrm>
              <a:off x="99072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64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0056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0512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072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9564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0056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0512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72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9564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56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0512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99072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9564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60056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90512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9907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9564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60056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051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9072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64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0056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0512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90720" y="32767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95640" y="32767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56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0512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9072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29564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60056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90512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9072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9564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0056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0512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9907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64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0056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051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9072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29564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0056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0512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0720" y="48006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5640" y="48006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056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90512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514600" y="1447920"/>
            <a:ext cx="1143000" cy="3581280"/>
            <a:chOff x="2514600" y="1447920"/>
            <a:chExt cx="1143000" cy="3581280"/>
          </a:xfrm>
        </p:grpSpPr>
        <p:sp>
          <p:nvSpPr>
            <p:cNvPr id="234" name=""/>
            <p:cNvSpPr/>
            <p:nvPr/>
          </p:nvSpPr>
          <p:spPr>
            <a:xfrm>
              <a:off x="251460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1952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2408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42900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514600" y="1752480"/>
              <a:ext cx="228600" cy="2286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19520" y="1752480"/>
              <a:ext cx="228600" cy="228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2408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42900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14600" y="20574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819520" y="20574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1240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900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14600" y="2362320"/>
              <a:ext cx="228600" cy="2286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19520" y="2362320"/>
              <a:ext cx="228600" cy="22860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240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514600" y="2666880"/>
              <a:ext cx="228600" cy="22860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819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240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2900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51460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1952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12408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429000" y="29718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3276720"/>
              <a:ext cx="228600" cy="22860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19520" y="3276720"/>
              <a:ext cx="228600" cy="22860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4080" y="3276720"/>
              <a:ext cx="228600" cy="2286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900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51460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1952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12408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14600" y="3886200"/>
              <a:ext cx="228600" cy="228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1952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1240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42900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514600" y="4191120"/>
              <a:ext cx="228600" cy="2286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19520" y="4191120"/>
              <a:ext cx="22860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124080" y="4191120"/>
              <a:ext cx="22860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429000" y="4191120"/>
              <a:ext cx="228600" cy="228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1460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952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2408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14600" y="4800600"/>
              <a:ext cx="228600" cy="22860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1952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1240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42900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038480" y="1447920"/>
            <a:ext cx="1143000" cy="3581280"/>
            <a:chOff x="4038480" y="1447920"/>
            <a:chExt cx="1143000" cy="3581280"/>
          </a:xfrm>
        </p:grpSpPr>
        <p:sp>
          <p:nvSpPr>
            <p:cNvPr id="283" name=""/>
            <p:cNvSpPr/>
            <p:nvPr/>
          </p:nvSpPr>
          <p:spPr>
            <a:xfrm>
              <a:off x="4038480" y="2666880"/>
              <a:ext cx="228600" cy="22860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3040" y="2666880"/>
              <a:ext cx="228600" cy="22860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4796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528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038480" y="2971800"/>
              <a:ext cx="228600" cy="22860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343040" y="2971800"/>
              <a:ext cx="228600" cy="22860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47960" y="2971800"/>
              <a:ext cx="228600" cy="22860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95288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38480" y="3276720"/>
              <a:ext cx="228600" cy="22860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343040" y="3276720"/>
              <a:ext cx="228600" cy="22860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47960" y="3276720"/>
              <a:ext cx="228600" cy="22860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9528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3848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43040" y="358128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4796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35812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38480" y="3886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43040" y="388620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528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03848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4304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4796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52880" y="4191120"/>
              <a:ext cx="228600" cy="228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038480" y="4495680"/>
              <a:ext cx="228600" cy="228600"/>
            </a:xfrm>
            <a:prstGeom prst="rect">
              <a:avLst/>
            </a:prstGeom>
            <a:blipFill rotWithShape="0">
              <a:blip r:embed="rId2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343040" y="4495680"/>
              <a:ext cx="228600" cy="228600"/>
            </a:xfrm>
            <a:prstGeom prst="rect">
              <a:avLst/>
            </a:prstGeom>
            <a:blipFill rotWithShape="0">
              <a:blip r:embed="rId2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64796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95288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38480" y="4800600"/>
              <a:ext cx="228600" cy="228600"/>
            </a:xfrm>
            <a:prstGeom prst="rect">
              <a:avLst/>
            </a:prstGeom>
            <a:blipFill rotWithShape="0">
              <a:blip r:embed="rId2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34304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4796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9528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03848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34304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796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952880" y="14479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3848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34304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64796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5288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3848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4304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4796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528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848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4304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4796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528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638680" y="1295280"/>
            <a:ext cx="1143000" cy="3962520"/>
            <a:chOff x="5638680" y="1295280"/>
            <a:chExt cx="1143000" cy="3962520"/>
          </a:xfrm>
        </p:grpSpPr>
        <p:sp>
          <p:nvSpPr>
            <p:cNvPr id="332" name=""/>
            <p:cNvSpPr/>
            <p:nvPr/>
          </p:nvSpPr>
          <p:spPr>
            <a:xfrm>
              <a:off x="5638680" y="26668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94360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24852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553080" y="26668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3868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43600" y="29718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48520" y="2971800"/>
              <a:ext cx="228600" cy="228600"/>
            </a:xfrm>
            <a:prstGeom prst="rect">
              <a:avLst/>
            </a:prstGeom>
            <a:blipFill rotWithShape="0">
              <a:blip r:embed="rId2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553080" y="2971800"/>
              <a:ext cx="228600" cy="228600"/>
            </a:xfrm>
            <a:prstGeom prst="rect">
              <a:avLst/>
            </a:prstGeom>
            <a:blipFill rotWithShape="0">
              <a:blip r:embed="rId2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6386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4360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48520" y="3276720"/>
              <a:ext cx="228600" cy="228600"/>
            </a:xfrm>
            <a:prstGeom prst="rect">
              <a:avLst/>
            </a:prstGeom>
            <a:blipFill rotWithShape="0">
              <a:blip r:embed="rId2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53080" y="32767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3868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43600" y="35812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48520" y="3581280"/>
              <a:ext cx="228600" cy="228600"/>
            </a:xfrm>
            <a:prstGeom prst="rect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53080" y="3581280"/>
              <a:ext cx="228600" cy="228600"/>
            </a:xfrm>
            <a:prstGeom prst="rect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638680" y="38862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94360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248520" y="3886200"/>
              <a:ext cx="228600" cy="228600"/>
            </a:xfrm>
            <a:prstGeom prst="rect">
              <a:avLst/>
            </a:prstGeom>
            <a:blipFill rotWithShape="0">
              <a:blip r:embed="rId3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553080" y="38862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638680" y="41911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43600" y="41911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4852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553080" y="41911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638680" y="44956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4360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48520" y="4495680"/>
              <a:ext cx="228600" cy="228600"/>
            </a:xfrm>
            <a:prstGeom prst="rect">
              <a:avLst/>
            </a:prstGeom>
            <a:blipFill rotWithShape="0">
              <a:blip r:embed="rId3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553080" y="44956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3868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943600" y="48006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4800600"/>
              <a:ext cx="228600" cy="228600"/>
            </a:xfrm>
            <a:prstGeom prst="rect">
              <a:avLst/>
            </a:prstGeom>
            <a:blipFill rotWithShape="0">
              <a:blip r:embed="rId3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553080" y="4800600"/>
              <a:ext cx="228600" cy="228600"/>
            </a:xfrm>
            <a:prstGeom prst="rect">
              <a:avLst/>
            </a:prstGeom>
            <a:blipFill rotWithShape="0">
              <a:blip r:embed="rId3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63868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43600" y="14479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248520" y="1447920"/>
              <a:ext cx="228600" cy="228600"/>
            </a:xfrm>
            <a:prstGeom prst="rect">
              <a:avLst/>
            </a:prstGeom>
            <a:blipFill rotWithShape="0">
              <a:blip r:embed="rId3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53080" y="1447920"/>
              <a:ext cx="228600" cy="228600"/>
            </a:xfrm>
            <a:prstGeom prst="rect">
              <a:avLst/>
            </a:prstGeom>
            <a:blipFill rotWithShape="0">
              <a:blip r:embed="rId3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638680" y="175248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43600" y="175248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248520" y="1752480"/>
              <a:ext cx="228600" cy="228600"/>
            </a:xfrm>
            <a:prstGeom prst="rect">
              <a:avLst/>
            </a:prstGeom>
            <a:blipFill rotWithShape="0">
              <a:blip r:embed="rId3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553080" y="1752480"/>
              <a:ext cx="228600" cy="228600"/>
            </a:xfrm>
            <a:prstGeom prst="rect">
              <a:avLst/>
            </a:prstGeom>
            <a:blipFill rotWithShape="0">
              <a:blip r:embed="rId3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3868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43600" y="205740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48520" y="2057400"/>
              <a:ext cx="228600" cy="228600"/>
            </a:xfrm>
            <a:prstGeom prst="rect">
              <a:avLst/>
            </a:prstGeom>
            <a:blipFill rotWithShape="0">
              <a:blip r:embed="rId3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553080" y="205740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3868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43600" y="2362320"/>
              <a:ext cx="228600" cy="22860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48520" y="2362320"/>
              <a:ext cx="228600" cy="228600"/>
            </a:xfrm>
            <a:prstGeom prst="rect">
              <a:avLst/>
            </a:prstGeom>
            <a:blipFill rotWithShape="0">
              <a:blip r:embed="rId4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553080" y="2362320"/>
              <a:ext cx="22860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10360" y="1295280"/>
              <a:ext cx="0" cy="396252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7238880" y="2666880"/>
            <a:ext cx="228600" cy="2286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543800" y="2666880"/>
            <a:ext cx="228600" cy="22860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2666880"/>
            <a:ext cx="228600" cy="2286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153280" y="2666880"/>
            <a:ext cx="228600" cy="22860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3888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54380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84872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153280" y="29718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32767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32767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848720" y="3276720"/>
            <a:ext cx="228600" cy="2286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153280" y="32767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238880" y="35812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543800" y="3581280"/>
            <a:ext cx="228600" cy="2286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848720" y="35812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153280" y="3581280"/>
            <a:ext cx="228600" cy="2286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238880" y="38862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543800" y="38862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848720" y="3886200"/>
            <a:ext cx="228600" cy="22860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8153280" y="3886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238880" y="41911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543800" y="4191120"/>
            <a:ext cx="228600" cy="228600"/>
          </a:xfrm>
          <a:prstGeom prst="rect">
            <a:avLst/>
          </a:prstGeom>
          <a:blipFill rotWithShape="0">
            <a:blip r:embed="rId4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848720" y="4191120"/>
            <a:ext cx="228600" cy="228600"/>
          </a:xfrm>
          <a:prstGeom prst="rect">
            <a:avLst/>
          </a:prstGeom>
          <a:blipFill rotWithShape="0">
            <a:blip r:embed="rId5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153280" y="419112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44956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543800" y="4495680"/>
            <a:ext cx="228600" cy="228600"/>
          </a:xfrm>
          <a:prstGeom prst="rect">
            <a:avLst/>
          </a:prstGeom>
          <a:blipFill rotWithShape="0">
            <a:blip r:embed="rId5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848720" y="4495680"/>
            <a:ext cx="228600" cy="228600"/>
          </a:xfrm>
          <a:prstGeom prst="rect">
            <a:avLst/>
          </a:prstGeom>
          <a:blipFill rotWithShape="0">
            <a:blip r:embed="rId5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153280" y="44956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238880" y="4800600"/>
            <a:ext cx="228600" cy="228600"/>
          </a:xfrm>
          <a:prstGeom prst="rect">
            <a:avLst/>
          </a:prstGeom>
          <a:blipFill rotWithShape="0">
            <a:blip r:embed="rId5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543800" y="4800600"/>
            <a:ext cx="228600" cy="228600"/>
          </a:xfrm>
          <a:prstGeom prst="rect">
            <a:avLst/>
          </a:prstGeom>
          <a:blipFill rotWithShape="0">
            <a:blip r:embed="rId5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848720" y="4800600"/>
            <a:ext cx="228600" cy="228600"/>
          </a:xfrm>
          <a:prstGeom prst="rect">
            <a:avLst/>
          </a:prstGeom>
          <a:blipFill rotWithShape="0">
            <a:blip r:embed="rId5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153280" y="48006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238880" y="14479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43800" y="14479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720" y="1447920"/>
            <a:ext cx="228600" cy="228600"/>
          </a:xfrm>
          <a:prstGeom prst="rect">
            <a:avLst/>
          </a:prstGeom>
          <a:blipFill rotWithShape="0">
            <a:blip r:embed="rId5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8153280" y="14479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38880" y="175248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543800" y="175248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848720" y="1752480"/>
            <a:ext cx="228600" cy="228600"/>
          </a:xfrm>
          <a:prstGeom prst="rect">
            <a:avLst/>
          </a:prstGeom>
          <a:blipFill rotWithShape="0">
            <a:blip r:embed="rId5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53280" y="1752480"/>
            <a:ext cx="228600" cy="228600"/>
          </a:xfrm>
          <a:prstGeom prst="rect">
            <a:avLst/>
          </a:prstGeom>
          <a:blipFill rotWithShape="0">
            <a:blip r:embed="rId5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2057400"/>
            <a:ext cx="228600" cy="228600"/>
          </a:xfrm>
          <a:prstGeom prst="rect">
            <a:avLst/>
          </a:prstGeom>
          <a:blipFill rotWithShape="0">
            <a:blip r:embed="rId5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543800" y="2057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848720" y="2057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153280" y="2057400"/>
            <a:ext cx="228600" cy="228600"/>
          </a:xfrm>
          <a:prstGeom prst="rect">
            <a:avLst/>
          </a:prstGeom>
          <a:blipFill rotWithShape="0">
            <a:blip r:embed="rId6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238880" y="23623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3800" y="236232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48720" y="2362320"/>
            <a:ext cx="228600" cy="228600"/>
          </a:xfrm>
          <a:prstGeom prst="rect">
            <a:avLst/>
          </a:prstGeom>
          <a:blipFill rotWithShape="0">
            <a:blip r:embed="rId6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153280" y="236232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0800000">
            <a:off x="226800" y="1135440"/>
            <a:ext cx="667800" cy="34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ime (processor cyc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33520" y="46483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7720" y="107640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upersca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454480" y="1076400"/>
            <a:ext cx="13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Fine-G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43280" y="10764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oarse-Gr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376960" y="105552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17560" y="84780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Simulta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ultithrea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09680" y="5486400"/>
            <a:ext cx="228600" cy="22860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09680" y="5867280"/>
            <a:ext cx="228600" cy="228600"/>
          </a:xfrm>
          <a:prstGeom prst="rect">
            <a:avLst/>
          </a:prstGeom>
          <a:blipFill rotWithShape="0">
            <a:blip r:embed="rId6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419720" y="5486400"/>
            <a:ext cx="2286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419720" y="5867280"/>
            <a:ext cx="228600" cy="228600"/>
          </a:xfrm>
          <a:prstGeom prst="rect">
            <a:avLst/>
          </a:prstGeom>
          <a:blipFill rotWithShape="0">
            <a:blip r:embed="rId6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477120" y="5486400"/>
            <a:ext cx="228600" cy="228600"/>
          </a:xfrm>
          <a:prstGeom prst="rect">
            <a:avLst/>
          </a:prstGeom>
          <a:blipFill rotWithShape="0">
            <a:blip r:embed="rId6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586728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414880" y="539424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421000" y="5791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16720" y="54100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716720" y="579132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697800" y="5410080"/>
            <a:ext cx="101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read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711120" y="5791320"/>
            <a:ext cx="89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dle s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F5D-A8B5-4F91-AD47-78E000BA8ECB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C91E6-2850-43BB-9421-3F5AAE0608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sign Challenges in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SMT makes sense only with fine-grained implementation, impact of fine-grained scheduling on single thread performanc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referred thread approach sacrifices neither throughput nor single-thread performance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fortunately, with a preferred thread, the processor is likely to sacrifice some throughput, when preferred thread stal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register file needed to hold multiple contex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 affecting clock cycle time, especially i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issue - more candidate instructions need to be consider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completion - choosing which instructions to commit may be challeng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ing that cache and TLB conflicts generated by SMT do not degrad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90AB-A8C2-42C6-862C-1C6134CBF02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6D0AB-AF99-46C6-855B-E2AABB8320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-79200" y="10800"/>
            <a:ext cx="955512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4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6792840" y="744480"/>
            <a:ext cx="1973160" cy="20732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149400" y="2916360"/>
            <a:ext cx="8638920" cy="3263760"/>
          </a:xfrm>
          <a:prstGeom prst="rect">
            <a:avLst/>
          </a:prstGeom>
          <a:ln w="0">
            <a:noFill/>
          </a:ln>
        </p:spPr>
      </p:pic>
      <p:grpSp>
        <p:nvGrpSpPr>
          <p:cNvPr id="453" name=""/>
          <p:cNvGrpSpPr/>
          <p:nvPr/>
        </p:nvGrpSpPr>
        <p:grpSpPr>
          <a:xfrm>
            <a:off x="239760" y="835200"/>
            <a:ext cx="6367320" cy="2799720"/>
            <a:chOff x="239760" y="835200"/>
            <a:chExt cx="6367320" cy="2799720"/>
          </a:xfrm>
        </p:grpSpPr>
        <p:sp>
          <p:nvSpPr>
            <p:cNvPr id="454" name=""/>
            <p:cNvSpPr/>
            <p:nvPr/>
          </p:nvSpPr>
          <p:spPr>
            <a:xfrm>
              <a:off x="239760" y="835200"/>
              <a:ext cx="6367320" cy="19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Single-threaded predecessor to Power 5.  8 execution units i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ut-of-order engine, each ma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320760"/>
                  <a:tab algn="l" pos="639720"/>
                  <a:tab algn="l" pos="960480"/>
                  <a:tab algn="l" pos="1279440"/>
                  <a:tab algn="l" pos="1600200"/>
                  <a:tab algn="l" pos="1920960"/>
                  <a:tab algn="l" pos="2239920"/>
                  <a:tab algn="l" pos="2560680"/>
                  <a:tab algn="l" pos="2879640"/>
                  <a:tab algn="l" pos="3200400"/>
                  <a:tab algn="l" pos="3521160"/>
                  <a:tab algn="l" pos="3840120"/>
                  <a:tab algn="l" pos="4111560"/>
                  <a:tab algn="l" pos="4933800"/>
                  <a:tab algn="l" pos="5756400"/>
                  <a:tab algn="l" pos="6578640"/>
                  <a:tab algn="l" pos="7400880"/>
                  <a:tab algn="l" pos="8223120"/>
                  <a:tab algn="l" pos="9045720"/>
                  <a:tab algn="l" pos="9867960"/>
                  <a:tab algn="l" pos="106902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issue an instruction each cycle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26280" y="2766600"/>
              <a:ext cx="1200240" cy="8683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250920" y="12600"/>
            <a:ext cx="8640720" cy="326556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325440" y="3279600"/>
            <a:ext cx="8475840" cy="345924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1442880" y="23760"/>
            <a:ext cx="1460520" cy="914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919191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arker Felt"/>
              </a:rPr>
              <a:t>Power 4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889280" y="3281400"/>
            <a:ext cx="1460520" cy="914040"/>
          </a:xfrm>
          <a:prstGeom prst="rect">
            <a:avLst/>
          </a:prstGeom>
          <a:noFill/>
          <a:ln w="0">
            <a:noFill/>
          </a:ln>
          <a:effectLst>
            <a:outerShdw dist="76367" dir="2700000" blurRad="0" rotWithShape="0">
              <a:srgbClr val="919191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20760"/>
                <a:tab algn="l" pos="639720"/>
                <a:tab algn="l" pos="960480"/>
                <a:tab algn="l" pos="1279440"/>
                <a:tab algn="l" pos="1600200"/>
                <a:tab algn="l" pos="1920960"/>
                <a:tab algn="l" pos="2239920"/>
                <a:tab algn="l" pos="2560680"/>
                <a:tab algn="l" pos="2879640"/>
                <a:tab algn="l" pos="3200400"/>
                <a:tab algn="l" pos="3521160"/>
                <a:tab algn="l" pos="38401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Marker Felt"/>
              </a:rPr>
              <a:t>Power 5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47560" y="4349880"/>
            <a:ext cx="7272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450800" y="4897440"/>
            <a:ext cx="7272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501480" y="5086080"/>
            <a:ext cx="285840" cy="468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478800" y="5371920"/>
            <a:ext cx="903240" cy="206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058240" y="4510080"/>
            <a:ext cx="725400" cy="725400"/>
          </a:xfrm>
          <a:custGeom>
            <a:avLst/>
            <a:gdLst/>
            <a:ahLst/>
            <a:rect l="l" t="t" r="r" b="b"/>
            <a:pathLst>
              <a:path w="9111" h="9111">
                <a:moveTo>
                  <a:pt x="18221" y="11778"/>
                </a:moveTo>
                <a:cubicBezTo>
                  <a:pt x="20000" y="13557"/>
                  <a:pt x="20000" y="16442"/>
                  <a:pt x="18221" y="18221"/>
                </a:cubicBezTo>
                <a:cubicBezTo>
                  <a:pt x="16442" y="20000"/>
                  <a:pt x="13557" y="20000"/>
                  <a:pt x="11778" y="18221"/>
                </a:cubicBezTo>
                <a:cubicBezTo>
                  <a:pt x="9999" y="16442"/>
                  <a:pt x="9999" y="13557"/>
                  <a:pt x="11778" y="11778"/>
                </a:cubicBezTo>
                <a:cubicBezTo>
                  <a:pt x="13557" y="9999"/>
                  <a:pt x="16442" y="9999"/>
                  <a:pt x="18221" y="11778"/>
                </a:cubicBezTo>
                <a:close/>
                <a:moveTo>
                  <a:pt x="18221" y="11778"/>
                </a:moveTo>
              </a:path>
            </a:pathLst>
          </a:custGeom>
          <a:noFill/>
          <a:ln w="38160">
            <a:solidFill>
              <a:srgbClr val="053de8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400960" y="4000680"/>
            <a:ext cx="0" cy="468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760" y="5638680"/>
            <a:ext cx="2948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fetch (PC),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2 initial de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62920" y="2971800"/>
            <a:ext cx="222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commits (architected register s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10760" y="10800"/>
            <a:ext cx="751068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5 data flow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9600" y="1185840"/>
            <a:ext cx="9036000" cy="347832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669960" y="4861080"/>
            <a:ext cx="7711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y only 2 threads? With 4, one of the shared resources (physical registers, cache, memory bandwidth) would be prone to bottlene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17440" y="11160"/>
            <a:ext cx="8390160" cy="75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ower 5 thread performance ...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3571920" y="1081080"/>
            <a:ext cx="4508280" cy="577692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4114800" y="2160720"/>
            <a:ext cx="1463760" cy="663480"/>
          </a:xfrm>
          <a:prstGeom prst="line">
            <a:avLst/>
          </a:prstGeom>
          <a:ln w="38160">
            <a:solidFill>
              <a:srgbClr val="0000ff">
                <a:alpha val="58000"/>
              </a:srgbClr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2617920" y="2595240"/>
            <a:ext cx="2171520" cy="1050840"/>
          </a:xfrm>
          <a:prstGeom prst="line">
            <a:avLst/>
          </a:prstGeom>
          <a:ln w="38160">
            <a:solidFill>
              <a:srgbClr val="0000ff">
                <a:alpha val="58000"/>
              </a:srgbClr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80880" y="1143000"/>
            <a:ext cx="289584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lative priority of each thread controllable in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8600" y="3683160"/>
            <a:ext cx="2911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 balanced operation, both threads run slower than if they “owned” the mach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hanges in  Power 5 to support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associativity of L1 instruction cache and the instruction address translation buff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per thread load and store queu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size of the L2 (1.92 vs. 1.44 MB) and L3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ed separate instruction prefetch and buffering per thre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the number of virtual registers from 152 to 2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the size of several issue que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ower5 core is about 24% larger than the Power4 core because of the addition of SMT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DB25-DB7C-4314-B56F-D4E9133ED1F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9C2AF-1137-4652-895B-D0CC349BDF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licting studies of amou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nchmarks (vectorized Fortran FP vs. integer C program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dware sophis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iler sophist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ILP is available using existing mechanisms with increasing HW budget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 we need to invent new HW/SW mechanisms to keep on processor performance cur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MMX, SSE (Streaming SIMD Extensions): 64 bit in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SSE2: 128 bit, including 2 64-bit Fl. Pt. per clo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torola AltaVec: 128 bit ints and FP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-191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ersparc Multimedia ops, et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60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BA02-38EA-4493-8ECA-F149CBB72D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E0EBA-72D2-4190-9219-DD59330AC680}" type="datetime1">
              <a:rPr lang="en-US"/>
              <a:t>07/28/26</a:t>
            </a:fld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itial Performance of SM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6472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ntium 4 Extreme SMT yields 1.01 speedup for SPECint_rate benchmark and 1.07 for SPECfp_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ntium 4 is dual threaded SM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Rate requires that each SPEC benchmark be run against a vendor-selected number of copies of the same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nning on Pentium 4 each of 26 SPEC benchmarks paired with every other (2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uns) speed-ups from 0.90 to 1.58; average was 1.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5, 8 processor server 1.23 faster for SPECint_rate with SMT, 1.16 faster for SPECfp_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wer 5 running 2 copies of each app speedup between 0.89 and 1.4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gained s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.Pt. apps had most cache conflicts and least ga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5B4-C44E-4658-89A2-CC4E3961181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52D5FB-00CF-4426-9203-55E82CB9C3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1" name=""/>
          <p:cNvGraphicFramePr/>
          <p:nvPr/>
        </p:nvGraphicFramePr>
        <p:xfrm>
          <a:off x="228600" y="1066680"/>
          <a:ext cx="8686800" cy="4959360"/>
        </p:xfrm>
        <a:graphic>
          <a:graphicData uri="http://schemas.openxmlformats.org/drawingml/2006/table">
            <a:tbl>
              <a:tblPr/>
              <a:tblGrid>
                <a:gridCol w="1380960"/>
                <a:gridCol w="2621160"/>
                <a:gridCol w="1193760"/>
                <a:gridCol w="893880"/>
                <a:gridCol w="811080"/>
                <a:gridCol w="947880"/>
                <a:gridCol w="838080"/>
              </a:tblGrid>
              <a:tr h="750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 architec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tch / Issue / Execu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ck Rate (GHz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is-tors 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 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l Pentium 4 Extre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; deeply pipelined; SM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int. 1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 M    122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D Athlon 64 FX-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/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t. 3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4 M 115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M Power5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 CPU only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ulative dynamically scheduled; SMT;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CPU cores/chi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4/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t. 2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M 300 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(es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W (est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l Itanium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atically scheduled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IW-sty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/5/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 int. 2 F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2 M 423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</a:t>
                      </a:r>
                      <a:r>
                        <a:rPr b="1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 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457200" y="304920"/>
            <a:ext cx="7292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ead to Head ILP compet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E87C-3ED1-4420-85BD-3860FFD3D09C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148B6-9457-41A8-8C12-5AAB6D1BA2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 on SPECint2000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0" y="990720"/>
          <a:ext cx="1051560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105156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4BDF-A4E6-4A72-9911-35665ACC3F32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87BD7-A7A3-4DF5-BE82-8AE91A6A1B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 on SPECfp2000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457200" y="609480"/>
          <a:ext cx="838188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CB05-6C00-4A26-9C26-0BBB0E24EB7F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183FB9-B786-4B3E-882B-EF340908E5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ormalized Performance: Efficienc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80880" y="685800"/>
          <a:ext cx="7467840" cy="579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46784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2" name=""/>
          <p:cNvGraphicFramePr/>
          <p:nvPr/>
        </p:nvGraphicFramePr>
        <p:xfrm>
          <a:off x="6477120" y="1219320"/>
          <a:ext cx="2438280" cy="4525920"/>
        </p:xfrm>
        <a:graphic>
          <a:graphicData uri="http://schemas.openxmlformats.org/drawingml/2006/table">
            <a:tbl>
              <a:tblPr/>
              <a:tblGrid>
                <a:gridCol w="1066680"/>
                <a:gridCol w="293760"/>
                <a:gridCol w="358560"/>
                <a:gridCol w="360360"/>
                <a:gridCol w="358920"/>
              </a:tblGrid>
              <a:tr h="1798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nium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m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T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T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are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t/W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ae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P/Wat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c0128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626-E89A-4372-B2D0-E6C7D645323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4CB60-0193-4797-BCDB-AFA312BDFF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o Silver Bullet for ILP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obvious over all leader in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AMD Athlon leads on SPECInt performance followed by the Pentium 4, Itanium 2, and Power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 2 and Power5, which perform similarly on SPECFP, clearly dominate the Athlon and Pentium 4 on SPECF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 2 is the most </a:t>
            </a: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in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cessor both for Fl. Pt. and integer code for all but one efficiency measure (SPECFP/Wat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hlon and Pentium 4 both make good use of transistors and area in terms of efficiency,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M Power5 is the most effective user of energy on SPECFP and essentially tied on SPEC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C37-1859-4E74-8E11-8E687F880A2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1A2441-4F50-4FED-94FC-5D234F8E98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ubling issue rates above today’s 3-6 instructions per clock, say to 6 to 12 instructions, probably requires a processor t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 3 or 4 data memory accesses per cycl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olve 2 or 3 branches per cycle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ame and access more than 20 registers per cycle, an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etch 12 to 24 instructions per cycle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omplexities of implementing these capabilities is likely to mean sacrifices in the maximum clock r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,  widest issue processor is the Itanium 2, but it also has the slowest clock rate, despite the fact that it consumes the most power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CD3-8DE7-4691-ADFF-2E7E681C558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31FDB-1927-464C-90E6-7824B2ABBD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88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techniques for increasing performance increase power consump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key question is whether a technique is </a:t>
            </a:r>
            <a:r>
              <a:rPr b="1" i="1" lang="en-US" sz="2000" spc="-1" strike="noStrike">
                <a:solidFill>
                  <a:srgbClr val="114ffb"/>
                </a:solidFill>
                <a:latin typeface="Arial"/>
              </a:rPr>
              <a:t>energy effici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does it increase power consumption faster than it increases performance?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e issue processors techniques all are energy inefficien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ing multiple instructions incurs some overhead in logic that grows faster than the issue rate gr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ing gap between peak issue rates and sustained perform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ber of transistors switching = f(peak issue rate), and performance = f( sustained rate),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wing gap between peak and sustained performan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creasing energy per unit of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A41-F969-490C-81F6-02C63F73E63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9D144-E066-4307-B1B9-8CC171EE4D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ar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8040" y="1193400"/>
            <a:ext cx="7683480" cy="535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anium architecture does </a:t>
            </a:r>
            <a:r>
              <a:rPr b="1" lang="en-US" sz="2000" spc="-1" strike="noStrike">
                <a:solidFill>
                  <a:srgbClr val="114ffb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present a significant breakthrough in scaling ILP or in avoiding the problems of complexity and power consump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ead of pursuing more ILP, architects are increasingly focusing on TLP implemented with single-chip multiprocessor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2000, IBM announced the 1st commercial single-chip, general-purpose multiprocessor, the Power4, which contains 2 Power3 processors and an integrated L2 cache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ce then, Sun Microsystems, AMD, and Intel have switch to a focus on single-chip multiprocessors rather than more aggressive uniprocesso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ight balance of ILP and TLP is unclear tod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haps right choice for server market, which can exploit more TLP, may differ from desktop, where single-thread performance may continue to be a primary requirem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25C6-6460-4323-9526-A290F32F0D2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FA228E-5560-4A17-B349-528D4538EE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 …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ILP (power efficiency, compilers, dependencies …) seem to limit to 3 to 6 issue for practical o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ly parallel (Data level parallelism or Thread level parallelism) is next step to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rse grain vs. Fine grained multihrea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ly on big stall vs. every clock cy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ultaneous Multithreading if fine grained multithreading based on OOO superscalar micro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 of replicating registers, reuse rename regis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anium/EPIC/VLIW is not a breakthrough in IL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lance of ILP and TLP decided in marketpl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32B-9B19-4892-84CE-90687442C71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7EE575-C26B-472F-99E3-B41345A68B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vercoming Limit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ances in compiler technology + significantly new and different hardware techniques </a:t>
            </a:r>
            <a:r>
              <a:rPr b="1" i="1" lang="en-US" sz="2800" spc="-1" strike="noStrike">
                <a:solidFill>
                  <a:srgbClr val="0332b7"/>
                </a:solidFill>
                <a:latin typeface="Arial"/>
              </a:rPr>
              <a:t>ma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be able to overcome limitations assumed in studi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ever, unlikely such advances when coupled </a:t>
            </a:r>
            <a:r>
              <a:rPr b="1" i="1" lang="en-US" sz="2800" spc="-1" strike="noStrike">
                <a:solidFill>
                  <a:srgbClr val="0332b7"/>
                </a:solidFill>
                <a:latin typeface="Arial"/>
              </a:rPr>
              <a:t>with realistic hardwar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ill overcome these limits in near future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F229-22C3-48E3-98EC-940D29B7088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22C55A-31FE-437B-95F3-079EFDA3B0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677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W Model here; MIPS compiler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ptions for ideal/perfect machine to star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Register renam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infinite virtual register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&gt; all register WAW &amp; WAR hazards are avoi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Branch predi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perfect; no mispredict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Jump predi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ll jumps perfectly predicted (returns, case statements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&amp; 3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o control dependencies; perfect speculation &amp; an unbounded buffer of instructions avai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i="1" lang="en-US" sz="2400" spc="-1" strike="noStrike">
                <a:solidFill>
                  <a:srgbClr val="fc0128"/>
                </a:solidFill>
                <a:latin typeface="Arial"/>
              </a:rPr>
              <a:t>Memory-address alias analys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addresses known &amp; a load can be moved before a store provided addresses not equal; 1&amp;4 eliminates all but RA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: perfect caches; 1 cycle latency for all instructions (FP *,/); unlimited instructions issued/clock cycle;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EEB-201A-41B9-9A96-2E26A21D5FE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69EFC-70D8-4C91-AC23-5AA77B4F799E}" type="datetime1">
              <a:rPr lang="en-US"/>
              <a:t>07/28/26</a:t>
            </a:fld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62120" y="1219320"/>
          <a:ext cx="7696080" cy="50544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 Analys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DD69-55AC-4DEC-97A0-A64150585E3F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0A1D32-2E4C-4B5B-8CA4-6513F5496A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533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Upper Limit to ILP: Ideal Machine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Figure 3.1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1359000"/>
            <a:ext cx="8331120" cy="5499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13280" y="2424240"/>
            <a:ext cx="2334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ger: 18 - 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33480" y="1871640"/>
            <a:ext cx="1875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P: 75 - 1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16200000">
            <a:off x="-1693800" y="3641400"/>
            <a:ext cx="44942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structions Per Cl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599-EEB6-4D61-8D63-BAD8D4DAC31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26CCB-AF66-4424-928B-205A68F4A778}" type="datetime1">
              <a:rPr lang="en-US"/>
              <a:t>07/28/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04920" y="1143000"/>
          <a:ext cx="8229600" cy="5715000"/>
        </p:xfrm>
        <a:graphic>
          <a:graphicData uri="http://schemas.openxmlformats.org/drawingml/2006/table">
            <a:tbl>
              <a:tblPr/>
              <a:tblGrid>
                <a:gridCol w="1779480"/>
                <a:gridCol w="2224080"/>
                <a:gridCol w="1482840"/>
                <a:gridCol w="2743200"/>
              </a:tblGrid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 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s Issued per clo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ruction Window S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332b7"/>
                          </a:solidFill>
                          <a:latin typeface="Arial"/>
                        </a:rPr>
                        <a:t>Infinite, 2K, 512, 128, 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aming Regist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in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integer + </a:t>
                      </a:r>
                      <a:br>
                        <a:rPr sz="2000"/>
                      </a:b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Fl. P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8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 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 to 6% mispredi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ournament Branch Predict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KI, 32KD, 1.92MB L2, 36 MB L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mory Ali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9144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Limits to ILP HW 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 S06 Lec9 Limits and SMT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2595-7CBF-40D2-A7D0-850BBFA7AA1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5C0637-9D8E-46A1-AC18-45A50E1CCA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8T03:17:21Z</dcterms:created>
  <dc:creator> </dc:creator>
  <dc:description/>
  <cp:keywords/>
  <dc:language>en-US</dc:language>
  <cp:lastModifiedBy>EECS</cp:lastModifiedBy>
  <cp:lastPrinted>1998-07-14T21:04:32Z</cp:lastPrinted>
  <dcterms:modified xsi:type="dcterms:W3CDTF">2006-02-14T14:25:54Z</dcterms:modified>
  <cp:revision>84</cp:revision>
  <dc:subject/>
  <dc:title>EECS 252 Graduate Computer Architecture   Lec XX - TOPIC  </dc:title>
</cp:coreProperties>
</file>