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59480" y="88423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17040D3-3C01-4771-9376-CF5E2E70D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84040" y="703440"/>
            <a:ext cx="4622760" cy="346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22760" cy="3466800"/>
          </a:xfrm>
          <a:prstGeom prst="rect">
            <a:avLst/>
          </a:prstGeom>
          <a:ln w="0">
            <a:noFill/>
          </a:ln>
        </p:spPr>
      </p:sp>
      <p:sp>
        <p:nvSpPr>
          <p:cNvPr id="215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ture from NEC article “A hardware overview of SX-6 and SX-7 supercomput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7720" y="152280"/>
            <a:ext cx="71629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2362320" y="571680"/>
            <a:ext cx="44193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407360" y="38160"/>
            <a:ext cx="1847880" cy="5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r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S 252 Feb. 27, 2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cture 12, Slide </a:t>
            </a:r>
            <a:fld id="{4F5165CF-1D40-42B7-8DBB-2B4641AEB4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rste@mit.edu" TargetMode="External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49440" y="1219320"/>
            <a:ext cx="8037360" cy="116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ECS 252 Graduate Computer Architecture</a:t>
            </a: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c. 12: Vector 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4203720"/>
            <a:ext cx="8175600" cy="20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ste Asanov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 u="sng">
                <a:solidFill>
                  <a:srgbClr val="fc0128"/>
                </a:solidFill>
                <a:uFillTx/>
                <a:latin typeface="Courier New"/>
                <a:hlinkClick r:id="rId1"/>
              </a:rPr>
              <a:t>krste@mit.ed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and Artificial Intelligence Labor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achusetts Institute of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Arithmetic Exec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52280" y="1543320"/>
            <a:ext cx="5562720" cy="18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deep pipeline (=&gt; fast clock) to execute element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ifies control of deep pipeline because elements in vector are independent (=&gt; no hazards!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477120" y="2971800"/>
            <a:ext cx="914400" cy="228600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477120" y="3886200"/>
            <a:ext cx="993240" cy="76320"/>
            <a:chOff x="6477120" y="3886200"/>
            <a:chExt cx="993240" cy="76320"/>
          </a:xfrm>
        </p:grpSpPr>
        <p:sp>
          <p:nvSpPr>
            <p:cNvPr id="497" name=""/>
            <p:cNvSpPr/>
            <p:nvPr/>
          </p:nvSpPr>
          <p:spPr>
            <a:xfrm>
              <a:off x="6477120" y="3886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315200" y="3886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394400" y="3924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477120" y="3124080"/>
            <a:ext cx="993240" cy="76320"/>
            <a:chOff x="6477120" y="3124080"/>
            <a:chExt cx="993240" cy="76320"/>
          </a:xfrm>
        </p:grpSpPr>
        <p:sp>
          <p:nvSpPr>
            <p:cNvPr id="501" name=""/>
            <p:cNvSpPr/>
            <p:nvPr/>
          </p:nvSpPr>
          <p:spPr>
            <a:xfrm>
              <a:off x="6477120" y="3124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315200" y="3124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394400" y="3162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6477120" y="3505320"/>
            <a:ext cx="993240" cy="75960"/>
            <a:chOff x="6477120" y="3505320"/>
            <a:chExt cx="993240" cy="75960"/>
          </a:xfrm>
        </p:grpSpPr>
        <p:sp>
          <p:nvSpPr>
            <p:cNvPr id="505" name=""/>
            <p:cNvSpPr/>
            <p:nvPr/>
          </p:nvSpPr>
          <p:spPr>
            <a:xfrm>
              <a:off x="6477120" y="3505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15200" y="3505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94400" y="3543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723888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629400" y="2666880"/>
            <a:ext cx="0" cy="3049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2666880"/>
            <a:ext cx="761760" cy="2743200"/>
          </a:xfrm>
          <a:custGeom>
            <a:avLst/>
            <a:gdLst/>
            <a:ahLst/>
            <a:rect l="l" t="t" r="r" b="b"/>
            <a:pathLst>
              <a:path w="482" h="1584">
                <a:moveTo>
                  <a:pt x="0" y="1490"/>
                </a:moveTo>
                <a:lnTo>
                  <a:pt x="2" y="1584"/>
                </a:lnTo>
                <a:lnTo>
                  <a:pt x="482" y="1584"/>
                </a:lnTo>
                <a:lnTo>
                  <a:pt x="48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40080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93432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467480" y="1371600"/>
            <a:ext cx="457200" cy="1305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945400" y="5637960"/>
            <a:ext cx="21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3 &lt;- v1 *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6477120" y="5029200"/>
            <a:ext cx="993240" cy="76320"/>
            <a:chOff x="6477120" y="5029200"/>
            <a:chExt cx="993240" cy="76320"/>
          </a:xfrm>
        </p:grpSpPr>
        <p:sp>
          <p:nvSpPr>
            <p:cNvPr id="516" name=""/>
            <p:cNvSpPr/>
            <p:nvPr/>
          </p:nvSpPr>
          <p:spPr>
            <a:xfrm>
              <a:off x="6477120" y="50292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315200" y="50292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394400" y="50673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77120" y="4267080"/>
            <a:ext cx="993240" cy="76320"/>
            <a:chOff x="6477120" y="4267080"/>
            <a:chExt cx="993240" cy="76320"/>
          </a:xfrm>
        </p:grpSpPr>
        <p:sp>
          <p:nvSpPr>
            <p:cNvPr id="520" name=""/>
            <p:cNvSpPr/>
            <p:nvPr/>
          </p:nvSpPr>
          <p:spPr>
            <a:xfrm>
              <a:off x="6477120" y="42670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315200" y="42670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94400" y="43052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477120" y="4648320"/>
            <a:ext cx="993240" cy="75960"/>
            <a:chOff x="6477120" y="4648320"/>
            <a:chExt cx="993240" cy="75960"/>
          </a:xfrm>
        </p:grpSpPr>
        <p:sp>
          <p:nvSpPr>
            <p:cNvPr id="524" name=""/>
            <p:cNvSpPr/>
            <p:nvPr/>
          </p:nvSpPr>
          <p:spPr>
            <a:xfrm>
              <a:off x="6477120" y="46483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46483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394400" y="46861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7" name=""/>
          <p:cNvSpPr/>
          <p:nvPr/>
        </p:nvSpPr>
        <p:spPr>
          <a:xfrm>
            <a:off x="3733920" y="3962520"/>
            <a:ext cx="1828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742840" y="4495680"/>
            <a:ext cx="305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ix stage multiply pipe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715000" y="434304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8380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380880" y="2602800"/>
            <a:ext cx="8534520" cy="3721320"/>
            <a:chOff x="380880" y="2602800"/>
            <a:chExt cx="8534520" cy="3721320"/>
          </a:xfrm>
        </p:grpSpPr>
        <p:grpSp>
          <p:nvGrpSpPr>
            <p:cNvPr id="532" name=""/>
            <p:cNvGrpSpPr/>
            <p:nvPr/>
          </p:nvGrpSpPr>
          <p:grpSpPr>
            <a:xfrm>
              <a:off x="380880" y="3213360"/>
              <a:ext cx="7327800" cy="3008160"/>
              <a:chOff x="380880" y="3213360"/>
              <a:chExt cx="7327800" cy="3008160"/>
            </a:xfrm>
          </p:grpSpPr>
          <p:sp>
            <p:nvSpPr>
              <p:cNvPr id="533" name=""/>
              <p:cNvSpPr/>
              <p:nvPr/>
            </p:nvSpPr>
            <p:spPr>
              <a:xfrm>
                <a:off x="3808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4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301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758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096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2673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3130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5874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384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01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959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4162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7280" y="4889880"/>
                <a:ext cx="46332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306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878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5000" y="4889880"/>
                <a:ext cx="463680" cy="13316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49" name=""/>
              <p:cNvGrpSpPr/>
              <p:nvPr/>
            </p:nvGrpSpPr>
            <p:grpSpPr>
              <a:xfrm>
                <a:off x="3587400" y="4051440"/>
                <a:ext cx="993960" cy="76320"/>
                <a:chOff x="3587400" y="4051440"/>
                <a:chExt cx="993960" cy="763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3587400" y="405144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25840" y="405144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505040" y="408960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3" name=""/>
              <p:cNvSpPr/>
              <p:nvPr/>
            </p:nvSpPr>
            <p:spPr>
              <a:xfrm flipV="1">
                <a:off x="615600" y="4127400"/>
                <a:ext cx="3353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1149120" y="4127400"/>
                <a:ext cx="281952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1530000" y="4127400"/>
                <a:ext cx="2438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1987200" y="4127400"/>
                <a:ext cx="19814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2444400" y="4127400"/>
                <a:ext cx="15242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2901600" y="4127400"/>
                <a:ext cx="10670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V="1">
                <a:off x="3358800" y="4127400"/>
                <a:ext cx="6098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3816000" y="4127400"/>
                <a:ext cx="15264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 flipV="1">
                <a:off x="3968640" y="4127400"/>
                <a:ext cx="304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 flipH="1" flipV="1">
                <a:off x="3968640" y="4127400"/>
                <a:ext cx="761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 flipH="1" flipV="1">
                <a:off x="3968640" y="4127400"/>
                <a:ext cx="1218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H="1" flipV="1">
                <a:off x="3968640" y="4127400"/>
                <a:ext cx="16761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H="1" flipV="1">
                <a:off x="3968640" y="4127400"/>
                <a:ext cx="21333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 flipV="1">
                <a:off x="3968640" y="4127400"/>
                <a:ext cx="25905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H="1" flipV="1">
                <a:off x="3968640" y="4127400"/>
                <a:ext cx="30477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968640" y="4127400"/>
                <a:ext cx="3504960" cy="762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968640" y="3213360"/>
                <a:ext cx="0" cy="838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0" name=""/>
            <p:cNvSpPr/>
            <p:nvPr/>
          </p:nvSpPr>
          <p:spPr>
            <a:xfrm>
              <a:off x="7696080" y="3670560"/>
              <a:ext cx="914400" cy="380880"/>
            </a:xfrm>
            <a:custGeom>
              <a:avLst/>
              <a:gdLst/>
              <a:ahLst/>
              <a:rect l="l" t="t" r="r" b="b"/>
              <a:pathLst>
                <a:path w="576" h="672">
                  <a:moveTo>
                    <a:pt x="0" y="0"/>
                  </a:moveTo>
                  <a:lnTo>
                    <a:pt x="144" y="672"/>
                  </a:lnTo>
                  <a:lnTo>
                    <a:pt x="450" y="672"/>
                  </a:lnTo>
                  <a:lnTo>
                    <a:pt x="576" y="0"/>
                  </a:lnTo>
                  <a:lnTo>
                    <a:pt x="336" y="0"/>
                  </a:lnTo>
                  <a:lnTo>
                    <a:pt x="288" y="96"/>
                  </a:lnTo>
                  <a:lnTo>
                    <a:pt x="24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153280" y="405144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543800" y="3365640"/>
              <a:ext cx="536400" cy="76320"/>
              <a:chOff x="7543800" y="3365640"/>
              <a:chExt cx="536400" cy="76320"/>
            </a:xfrm>
          </p:grpSpPr>
          <p:sp>
            <p:nvSpPr>
              <p:cNvPr id="573" name=""/>
              <p:cNvSpPr/>
              <p:nvPr/>
            </p:nvSpPr>
            <p:spPr>
              <a:xfrm>
                <a:off x="75438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9963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0391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8229600" y="3365640"/>
              <a:ext cx="536400" cy="76320"/>
              <a:chOff x="8229600" y="3365640"/>
              <a:chExt cx="536400" cy="76320"/>
            </a:xfrm>
          </p:grpSpPr>
          <p:sp>
            <p:nvSpPr>
              <p:cNvPr id="577" name=""/>
              <p:cNvSpPr/>
              <p:nvPr/>
            </p:nvSpPr>
            <p:spPr>
              <a:xfrm>
                <a:off x="8229600" y="33656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8682120" y="33656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24960" y="34038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0" name=""/>
            <p:cNvSpPr/>
            <p:nvPr/>
          </p:nvSpPr>
          <p:spPr>
            <a:xfrm flipH="1">
              <a:off x="7848000" y="3441960"/>
              <a:ext cx="180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8458200" y="3441960"/>
              <a:ext cx="144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01000" y="3593520"/>
              <a:ext cx="3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3" name=""/>
            <p:cNvGrpSpPr/>
            <p:nvPr/>
          </p:nvGrpSpPr>
          <p:grpSpPr>
            <a:xfrm>
              <a:off x="7924680" y="4280040"/>
              <a:ext cx="536400" cy="76320"/>
              <a:chOff x="7924680" y="4280040"/>
              <a:chExt cx="536400" cy="76320"/>
            </a:xfrm>
          </p:grpSpPr>
          <p:sp>
            <p:nvSpPr>
              <p:cNvPr id="584" name=""/>
              <p:cNvSpPr/>
              <p:nvPr/>
            </p:nvSpPr>
            <p:spPr>
              <a:xfrm>
                <a:off x="7924680" y="4280040"/>
                <a:ext cx="493560" cy="76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377200" y="4280040"/>
                <a:ext cx="40680" cy="76320"/>
              </a:xfrm>
              <a:custGeom>
                <a:avLst/>
                <a:gdLst/>
                <a:ahLst/>
                <a:rect l="l" t="t" r="r" b="b"/>
                <a:pathLst>
                  <a:path w="48" h="96">
                    <a:moveTo>
                      <a:pt x="48" y="96"/>
                    </a:moveTo>
                    <a:lnTo>
                      <a:pt x="0" y="48"/>
                    </a:lnTo>
                    <a:lnTo>
                      <a:pt x="48" y="0"/>
                    </a:lnTo>
                    <a:lnTo>
                      <a:pt x="48" y="9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0600" bIns="306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420040" y="4318200"/>
                <a:ext cx="410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"/>
            <p:cNvSpPr/>
            <p:nvPr/>
          </p:nvSpPr>
          <p:spPr>
            <a:xfrm>
              <a:off x="7238880" y="3213360"/>
              <a:ext cx="914400" cy="914400"/>
            </a:xfrm>
            <a:custGeom>
              <a:avLst/>
              <a:gdLst/>
              <a:ahLst/>
              <a:rect l="l" t="t" r="r" b="b"/>
              <a:pathLst>
                <a:path w="576" h="576">
                  <a:moveTo>
                    <a:pt x="576" y="576"/>
                  </a:moveTo>
                  <a:lnTo>
                    <a:pt x="0" y="576"/>
                  </a:lnTo>
                  <a:lnTo>
                    <a:pt x="0" y="0"/>
                  </a:lnTo>
                  <a:lnTo>
                    <a:pt x="288" y="0"/>
                  </a:lnTo>
                  <a:lnTo>
                    <a:pt x="288" y="9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2468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458200" y="2908440"/>
              <a:ext cx="144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91160" y="2602800"/>
              <a:ext cx="730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8076960" y="26028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Stri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696080" y="4356360"/>
              <a:ext cx="457200" cy="1218960"/>
            </a:xfrm>
            <a:custGeom>
              <a:avLst/>
              <a:gdLst/>
              <a:ahLst/>
              <a:rect l="l" t="t" r="r" b="b"/>
              <a:pathLst>
                <a:path w="288" h="768">
                  <a:moveTo>
                    <a:pt x="288" y="0"/>
                  </a:moveTo>
                  <a:lnTo>
                    <a:pt x="288" y="768"/>
                  </a:lnTo>
                  <a:lnTo>
                    <a:pt x="0" y="768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74680" y="2755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26960" y="5955840"/>
              <a:ext cx="180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 Ban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867280" y="336528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Address Gen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6" name=""/>
          <p:cNvSpPr/>
          <p:nvPr/>
        </p:nvSpPr>
        <p:spPr>
          <a:xfrm>
            <a:off x="280800" y="1234800"/>
            <a:ext cx="85856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ay-1, 16 banks, 4 cycle bank busy time, 12 cycle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ank busy ti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ycles between accesses to same b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16292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973600" y="83736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C,A,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762120" y="1295280"/>
            <a:ext cx="2743200" cy="4833000"/>
            <a:chOff x="762120" y="1295280"/>
            <a:chExt cx="2743200" cy="4833000"/>
          </a:xfrm>
        </p:grpSpPr>
        <p:grpSp>
          <p:nvGrpSpPr>
            <p:cNvPr id="600" name=""/>
            <p:cNvGrpSpPr/>
            <p:nvPr/>
          </p:nvGrpSpPr>
          <p:grpSpPr>
            <a:xfrm>
              <a:off x="1049040" y="2971440"/>
              <a:ext cx="1259640" cy="3156840"/>
              <a:chOff x="1049040" y="2971440"/>
              <a:chExt cx="1259640" cy="3156840"/>
            </a:xfrm>
          </p:grpSpPr>
          <p:sp>
            <p:nvSpPr>
              <p:cNvPr id="601" name=""/>
              <p:cNvSpPr/>
              <p:nvPr/>
            </p:nvSpPr>
            <p:spPr>
              <a:xfrm>
                <a:off x="127476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2" name=""/>
              <p:cNvGrpSpPr/>
              <p:nvPr/>
            </p:nvGrpSpPr>
            <p:grpSpPr>
              <a:xfrm>
                <a:off x="1274760" y="5410440"/>
                <a:ext cx="993960" cy="75960"/>
                <a:chOff x="1274760" y="5410440"/>
                <a:chExt cx="993960" cy="7596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27476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211320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19240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6" name=""/>
              <p:cNvGrpSpPr/>
              <p:nvPr/>
            </p:nvGrpSpPr>
            <p:grpSpPr>
              <a:xfrm>
                <a:off x="1274760" y="4648320"/>
                <a:ext cx="993960" cy="76320"/>
                <a:chOff x="1274760" y="4648320"/>
                <a:chExt cx="993960" cy="76320"/>
              </a:xfrm>
            </p:grpSpPr>
            <p:sp>
              <p:nvSpPr>
                <p:cNvPr id="607" name=""/>
                <p:cNvSpPr/>
                <p:nvPr/>
              </p:nvSpPr>
              <p:spPr>
                <a:xfrm>
                  <a:off x="127476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211320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19240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0" name=""/>
              <p:cNvGrpSpPr/>
              <p:nvPr/>
            </p:nvGrpSpPr>
            <p:grpSpPr>
              <a:xfrm>
                <a:off x="1274760" y="5029200"/>
                <a:ext cx="993960" cy="76320"/>
                <a:chOff x="1274760" y="5029200"/>
                <a:chExt cx="993960" cy="763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7476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211320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219240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142992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42992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42992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73196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0368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42740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490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734840" y="3885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490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734840" y="358128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490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734840" y="32763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490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34840" y="29714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H="1">
              <a:off x="1828440" y="1295280"/>
              <a:ext cx="1600200" cy="1676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6212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one pipelined functional un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3203280" y="1295280"/>
            <a:ext cx="5334120" cy="4833000"/>
            <a:chOff x="3203280" y="1295280"/>
            <a:chExt cx="5334120" cy="4833000"/>
          </a:xfrm>
        </p:grpSpPr>
        <p:grpSp>
          <p:nvGrpSpPr>
            <p:cNvPr id="631" name=""/>
            <p:cNvGrpSpPr/>
            <p:nvPr/>
          </p:nvGrpSpPr>
          <p:grpSpPr>
            <a:xfrm>
              <a:off x="3203280" y="2971440"/>
              <a:ext cx="1372320" cy="3156840"/>
              <a:chOff x="3203280" y="2971440"/>
              <a:chExt cx="1372320" cy="3156840"/>
            </a:xfrm>
          </p:grpSpPr>
          <p:sp>
            <p:nvSpPr>
              <p:cNvPr id="632" name=""/>
              <p:cNvSpPr/>
              <p:nvPr/>
            </p:nvSpPr>
            <p:spPr>
              <a:xfrm>
                <a:off x="34844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3" name=""/>
              <p:cNvGrpSpPr/>
              <p:nvPr/>
            </p:nvGrpSpPr>
            <p:grpSpPr>
              <a:xfrm>
                <a:off x="3484440" y="5410440"/>
                <a:ext cx="993960" cy="75960"/>
                <a:chOff x="3484440" y="5410440"/>
                <a:chExt cx="993960" cy="75960"/>
              </a:xfrm>
            </p:grpSpPr>
            <p:sp>
              <p:nvSpPr>
                <p:cNvPr id="634" name=""/>
                <p:cNvSpPr/>
                <p:nvPr/>
              </p:nvSpPr>
              <p:spPr>
                <a:xfrm>
                  <a:off x="34844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43228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44020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7" name=""/>
              <p:cNvGrpSpPr/>
              <p:nvPr/>
            </p:nvGrpSpPr>
            <p:grpSpPr>
              <a:xfrm>
                <a:off x="3484440" y="4648320"/>
                <a:ext cx="993960" cy="76320"/>
                <a:chOff x="3484440" y="4648320"/>
                <a:chExt cx="993960" cy="763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844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43228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4020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"/>
              <p:cNvGrpSpPr/>
              <p:nvPr/>
            </p:nvGrpSpPr>
            <p:grpSpPr>
              <a:xfrm>
                <a:off x="3484440" y="5029200"/>
                <a:ext cx="993960" cy="76320"/>
                <a:chOff x="3484440" y="5029200"/>
                <a:chExt cx="993960" cy="7632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34844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43228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44020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5" name=""/>
              <p:cNvSpPr/>
              <p:nvPr/>
            </p:nvSpPr>
            <p:spPr>
              <a:xfrm>
                <a:off x="36396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36396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36396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9416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465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6370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2032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8890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032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8890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2032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8890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2032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890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574880" y="2971440"/>
              <a:ext cx="1372320" cy="3156840"/>
              <a:chOff x="4574880" y="2971440"/>
              <a:chExt cx="1372320" cy="3156840"/>
            </a:xfrm>
          </p:grpSpPr>
          <p:sp>
            <p:nvSpPr>
              <p:cNvPr id="660" name=""/>
              <p:cNvSpPr/>
              <p:nvPr/>
            </p:nvSpPr>
            <p:spPr>
              <a:xfrm>
                <a:off x="485604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61" name=""/>
              <p:cNvGrpSpPr/>
              <p:nvPr/>
            </p:nvGrpSpPr>
            <p:grpSpPr>
              <a:xfrm>
                <a:off x="4856040" y="5410440"/>
                <a:ext cx="993960" cy="75960"/>
                <a:chOff x="4856040" y="5410440"/>
                <a:chExt cx="993960" cy="759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485604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569448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577368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56040" y="4648320"/>
                <a:ext cx="993960" cy="76320"/>
                <a:chOff x="4856040" y="4648320"/>
                <a:chExt cx="993960" cy="763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485604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569448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577368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4856040" y="5029200"/>
                <a:ext cx="993960" cy="76320"/>
                <a:chOff x="4856040" y="5029200"/>
                <a:chExt cx="993960" cy="7632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485604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569448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577368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3" name=""/>
              <p:cNvSpPr/>
              <p:nvPr/>
            </p:nvSpPr>
            <p:spPr>
              <a:xfrm>
                <a:off x="501120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11200" y="4647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01120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31324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6181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00868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574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2606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574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2606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74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2606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574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2606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5870160" y="2971440"/>
              <a:ext cx="1372320" cy="3156840"/>
              <a:chOff x="5870160" y="2971440"/>
              <a:chExt cx="1372320" cy="3156840"/>
            </a:xfrm>
          </p:grpSpPr>
          <p:sp>
            <p:nvSpPr>
              <p:cNvPr id="688" name=""/>
              <p:cNvSpPr/>
              <p:nvPr/>
            </p:nvSpPr>
            <p:spPr>
              <a:xfrm>
                <a:off x="6151320" y="449604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9" name=""/>
              <p:cNvGrpSpPr/>
              <p:nvPr/>
            </p:nvGrpSpPr>
            <p:grpSpPr>
              <a:xfrm>
                <a:off x="6151320" y="5410440"/>
                <a:ext cx="993960" cy="75960"/>
                <a:chOff x="6151320" y="5410440"/>
                <a:chExt cx="993960" cy="759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151320" y="541044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989760" y="541044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068960" y="54482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6151320" y="4648320"/>
                <a:ext cx="993960" cy="76320"/>
                <a:chOff x="6151320" y="4648320"/>
                <a:chExt cx="993960" cy="763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6151320" y="464832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989760" y="464832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7068960" y="468648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6151320" y="5029200"/>
                <a:ext cx="993960" cy="76320"/>
                <a:chOff x="6151320" y="5029200"/>
                <a:chExt cx="993960" cy="7632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51320" y="50292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6989760" y="50292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068960" y="50673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01" name=""/>
              <p:cNvSpPr/>
              <p:nvPr/>
            </p:nvSpPr>
            <p:spPr>
              <a:xfrm>
                <a:off x="630648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5104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30648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660852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69134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30396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701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55596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701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55596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8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701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5596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701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55596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"/>
            <p:cNvGrpSpPr/>
            <p:nvPr/>
          </p:nvGrpSpPr>
          <p:grpSpPr>
            <a:xfrm>
              <a:off x="7165440" y="2971440"/>
              <a:ext cx="1371960" cy="3156840"/>
              <a:chOff x="7165440" y="2971440"/>
              <a:chExt cx="1371960" cy="3156840"/>
            </a:xfrm>
          </p:grpSpPr>
          <p:sp>
            <p:nvSpPr>
              <p:cNvPr id="716" name=""/>
              <p:cNvSpPr/>
              <p:nvPr/>
            </p:nvSpPr>
            <p:spPr>
              <a:xfrm>
                <a:off x="7446600" y="4496040"/>
                <a:ext cx="91404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7" name=""/>
              <p:cNvGrpSpPr/>
              <p:nvPr/>
            </p:nvGrpSpPr>
            <p:grpSpPr>
              <a:xfrm>
                <a:off x="7446600" y="5410440"/>
                <a:ext cx="993240" cy="75960"/>
                <a:chOff x="7446600" y="5410440"/>
                <a:chExt cx="993240" cy="7596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7446600" y="541044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8284680" y="541044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8363880" y="54482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7446600" y="4648320"/>
                <a:ext cx="993240" cy="76320"/>
                <a:chOff x="7446600" y="4648320"/>
                <a:chExt cx="993240" cy="763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7446600" y="464832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8284680" y="464832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8363880" y="468648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446600" y="5029200"/>
                <a:ext cx="993240" cy="76320"/>
                <a:chOff x="7446600" y="5029200"/>
                <a:chExt cx="993240" cy="763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446600" y="50292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8284680" y="50292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8363880" y="50673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9" name=""/>
              <p:cNvSpPr/>
              <p:nvPr/>
            </p:nvSpPr>
            <p:spPr>
              <a:xfrm>
                <a:off x="7601760" y="50288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7545960" y="46479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7601760" y="57909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7903800" y="556272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20872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7599240" y="426744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16544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850880" y="38858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16544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850880" y="358128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19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16544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850880" y="327636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16544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850880" y="2971440"/>
                <a:ext cx="686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2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3" name=""/>
            <p:cNvSpPr/>
            <p:nvPr/>
          </p:nvSpPr>
          <p:spPr>
            <a:xfrm>
              <a:off x="4343400" y="1295280"/>
              <a:ext cx="1447920" cy="160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3657600" y="1432440"/>
              <a:ext cx="2743200" cy="1165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Execution using four pipelined functional un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Unit Struc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8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1828800" y="5181480"/>
            <a:ext cx="993240" cy="76320"/>
            <a:chOff x="1828800" y="5181480"/>
            <a:chExt cx="993240" cy="76320"/>
          </a:xfrm>
        </p:grpSpPr>
        <p:sp>
          <p:nvSpPr>
            <p:cNvPr id="748" name=""/>
            <p:cNvSpPr/>
            <p:nvPr/>
          </p:nvSpPr>
          <p:spPr>
            <a:xfrm>
              <a:off x="1828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666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46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1" name=""/>
          <p:cNvGrpSpPr/>
          <p:nvPr/>
        </p:nvGrpSpPr>
        <p:grpSpPr>
          <a:xfrm>
            <a:off x="1828800" y="4419720"/>
            <a:ext cx="993240" cy="75960"/>
            <a:chOff x="1828800" y="4419720"/>
            <a:chExt cx="993240" cy="75960"/>
          </a:xfrm>
        </p:grpSpPr>
        <p:sp>
          <p:nvSpPr>
            <p:cNvPr id="752" name=""/>
            <p:cNvSpPr/>
            <p:nvPr/>
          </p:nvSpPr>
          <p:spPr>
            <a:xfrm>
              <a:off x="1828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66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746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1828800" y="4800600"/>
            <a:ext cx="993240" cy="76320"/>
            <a:chOff x="1828800" y="4800600"/>
            <a:chExt cx="993240" cy="76320"/>
          </a:xfrm>
        </p:grpSpPr>
        <p:sp>
          <p:nvSpPr>
            <p:cNvPr id="756" name=""/>
            <p:cNvSpPr/>
            <p:nvPr/>
          </p:nvSpPr>
          <p:spPr>
            <a:xfrm>
              <a:off x="1828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666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746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590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981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1828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1828800" y="1752480"/>
            <a:ext cx="993240" cy="76320"/>
            <a:chOff x="1828800" y="1752480"/>
            <a:chExt cx="993240" cy="76320"/>
          </a:xfrm>
        </p:grpSpPr>
        <p:sp>
          <p:nvSpPr>
            <p:cNvPr id="763" name=""/>
            <p:cNvSpPr/>
            <p:nvPr/>
          </p:nvSpPr>
          <p:spPr>
            <a:xfrm flipV="1">
              <a:off x="1828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2666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746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6" name=""/>
          <p:cNvGrpSpPr/>
          <p:nvPr/>
        </p:nvGrpSpPr>
        <p:grpSpPr>
          <a:xfrm>
            <a:off x="1828800" y="2514600"/>
            <a:ext cx="993240" cy="76320"/>
            <a:chOff x="1828800" y="2514600"/>
            <a:chExt cx="993240" cy="76320"/>
          </a:xfrm>
        </p:grpSpPr>
        <p:sp>
          <p:nvSpPr>
            <p:cNvPr id="767" name=""/>
            <p:cNvSpPr/>
            <p:nvPr/>
          </p:nvSpPr>
          <p:spPr>
            <a:xfrm flipV="1">
              <a:off x="1828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2666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746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1828800" y="2133360"/>
            <a:ext cx="993240" cy="75960"/>
            <a:chOff x="1828800" y="2133360"/>
            <a:chExt cx="993240" cy="75960"/>
          </a:xfrm>
        </p:grpSpPr>
        <p:sp>
          <p:nvSpPr>
            <p:cNvPr id="771" name=""/>
            <p:cNvSpPr/>
            <p:nvPr/>
          </p:nvSpPr>
          <p:spPr>
            <a:xfrm flipV="1">
              <a:off x="1828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2666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746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"/>
          <p:cNvSpPr/>
          <p:nvPr/>
        </p:nvSpPr>
        <p:spPr>
          <a:xfrm flipV="1">
            <a:off x="2590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1981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523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2286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2286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600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1752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3392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3733920" y="5181480"/>
            <a:ext cx="993240" cy="76320"/>
            <a:chOff x="3733920" y="5181480"/>
            <a:chExt cx="993240" cy="76320"/>
          </a:xfrm>
        </p:grpSpPr>
        <p:sp>
          <p:nvSpPr>
            <p:cNvPr id="783" name=""/>
            <p:cNvSpPr/>
            <p:nvPr/>
          </p:nvSpPr>
          <p:spPr>
            <a:xfrm>
              <a:off x="373392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200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5120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3733920" y="4419720"/>
            <a:ext cx="993240" cy="75960"/>
            <a:chOff x="3733920" y="4419720"/>
            <a:chExt cx="993240" cy="75960"/>
          </a:xfrm>
        </p:grpSpPr>
        <p:sp>
          <p:nvSpPr>
            <p:cNvPr id="787" name=""/>
            <p:cNvSpPr/>
            <p:nvPr/>
          </p:nvSpPr>
          <p:spPr>
            <a:xfrm>
              <a:off x="373392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57200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65120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3733920" y="4800600"/>
            <a:ext cx="993240" cy="76320"/>
            <a:chOff x="3733920" y="4800600"/>
            <a:chExt cx="993240" cy="76320"/>
          </a:xfrm>
        </p:grpSpPr>
        <p:sp>
          <p:nvSpPr>
            <p:cNvPr id="791" name=""/>
            <p:cNvSpPr/>
            <p:nvPr/>
          </p:nvSpPr>
          <p:spPr>
            <a:xfrm>
              <a:off x="373392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57200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65120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4" name=""/>
          <p:cNvSpPr/>
          <p:nvPr/>
        </p:nvSpPr>
        <p:spPr>
          <a:xfrm>
            <a:off x="44956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8862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373392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3733920" y="1752480"/>
            <a:ext cx="993240" cy="76320"/>
            <a:chOff x="3733920" y="1752480"/>
            <a:chExt cx="993240" cy="76320"/>
          </a:xfrm>
        </p:grpSpPr>
        <p:sp>
          <p:nvSpPr>
            <p:cNvPr id="798" name=""/>
            <p:cNvSpPr/>
            <p:nvPr/>
          </p:nvSpPr>
          <p:spPr>
            <a:xfrm flipV="1">
              <a:off x="373392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457200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65120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3733920" y="2514600"/>
            <a:ext cx="993240" cy="76320"/>
            <a:chOff x="3733920" y="2514600"/>
            <a:chExt cx="993240" cy="76320"/>
          </a:xfrm>
        </p:grpSpPr>
        <p:sp>
          <p:nvSpPr>
            <p:cNvPr id="802" name=""/>
            <p:cNvSpPr/>
            <p:nvPr/>
          </p:nvSpPr>
          <p:spPr>
            <a:xfrm flipV="1">
              <a:off x="373392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457200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65120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3733920" y="2133360"/>
            <a:ext cx="993240" cy="75960"/>
            <a:chOff x="3733920" y="2133360"/>
            <a:chExt cx="993240" cy="75960"/>
          </a:xfrm>
        </p:grpSpPr>
        <p:sp>
          <p:nvSpPr>
            <p:cNvPr id="806" name=""/>
            <p:cNvSpPr/>
            <p:nvPr/>
          </p:nvSpPr>
          <p:spPr>
            <a:xfrm flipV="1">
              <a:off x="373392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457200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5120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9" name=""/>
          <p:cNvSpPr/>
          <p:nvPr/>
        </p:nvSpPr>
        <p:spPr>
          <a:xfrm flipV="1">
            <a:off x="44956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38862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42900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419112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flipV="1">
            <a:off x="419112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V="1">
            <a:off x="35053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36576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563868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7" name=""/>
          <p:cNvGrpSpPr/>
          <p:nvPr/>
        </p:nvGrpSpPr>
        <p:grpSpPr>
          <a:xfrm>
            <a:off x="5638680" y="5181480"/>
            <a:ext cx="993960" cy="76320"/>
            <a:chOff x="5638680" y="5181480"/>
            <a:chExt cx="993960" cy="76320"/>
          </a:xfrm>
        </p:grpSpPr>
        <p:sp>
          <p:nvSpPr>
            <p:cNvPr id="818" name=""/>
            <p:cNvSpPr/>
            <p:nvPr/>
          </p:nvSpPr>
          <p:spPr>
            <a:xfrm>
              <a:off x="5638680" y="5181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477120" y="5181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556320" y="5219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638680" y="4419720"/>
            <a:ext cx="993960" cy="75960"/>
            <a:chOff x="5638680" y="4419720"/>
            <a:chExt cx="993960" cy="75960"/>
          </a:xfrm>
        </p:grpSpPr>
        <p:sp>
          <p:nvSpPr>
            <p:cNvPr id="822" name=""/>
            <p:cNvSpPr/>
            <p:nvPr/>
          </p:nvSpPr>
          <p:spPr>
            <a:xfrm>
              <a:off x="5638680" y="441972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477120" y="441972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556320" y="4457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638680" y="4800600"/>
            <a:ext cx="993960" cy="76320"/>
            <a:chOff x="5638680" y="4800600"/>
            <a:chExt cx="993960" cy="76320"/>
          </a:xfrm>
        </p:grpSpPr>
        <p:sp>
          <p:nvSpPr>
            <p:cNvPr id="826" name=""/>
            <p:cNvSpPr/>
            <p:nvPr/>
          </p:nvSpPr>
          <p:spPr>
            <a:xfrm>
              <a:off x="5638680" y="4800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477120" y="4800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556320" y="4838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640080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913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868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2" name=""/>
          <p:cNvGrpSpPr/>
          <p:nvPr/>
        </p:nvGrpSpPr>
        <p:grpSpPr>
          <a:xfrm>
            <a:off x="5638680" y="1752480"/>
            <a:ext cx="993960" cy="76320"/>
            <a:chOff x="5638680" y="1752480"/>
            <a:chExt cx="993960" cy="76320"/>
          </a:xfrm>
        </p:grpSpPr>
        <p:sp>
          <p:nvSpPr>
            <p:cNvPr id="833" name=""/>
            <p:cNvSpPr/>
            <p:nvPr/>
          </p:nvSpPr>
          <p:spPr>
            <a:xfrm flipV="1">
              <a:off x="5638680" y="175248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V="1">
              <a:off x="6477120" y="175248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6320" y="179064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638680" y="2514600"/>
            <a:ext cx="993960" cy="76320"/>
            <a:chOff x="5638680" y="2514600"/>
            <a:chExt cx="993960" cy="76320"/>
          </a:xfrm>
        </p:grpSpPr>
        <p:sp>
          <p:nvSpPr>
            <p:cNvPr id="837" name=""/>
            <p:cNvSpPr/>
            <p:nvPr/>
          </p:nvSpPr>
          <p:spPr>
            <a:xfrm flipV="1">
              <a:off x="5638680" y="2514600"/>
              <a:ext cx="9144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V="1">
              <a:off x="6477120" y="2514600"/>
              <a:ext cx="7596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556320" y="255276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0" name=""/>
          <p:cNvGrpSpPr/>
          <p:nvPr/>
        </p:nvGrpSpPr>
        <p:grpSpPr>
          <a:xfrm>
            <a:off x="5638680" y="2133360"/>
            <a:ext cx="993960" cy="75960"/>
            <a:chOff x="5638680" y="2133360"/>
            <a:chExt cx="993960" cy="75960"/>
          </a:xfrm>
        </p:grpSpPr>
        <p:sp>
          <p:nvSpPr>
            <p:cNvPr id="841" name=""/>
            <p:cNvSpPr/>
            <p:nvPr/>
          </p:nvSpPr>
          <p:spPr>
            <a:xfrm flipV="1">
              <a:off x="5638680" y="2133000"/>
              <a:ext cx="9144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6477120" y="2133000"/>
              <a:ext cx="7596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556320" y="2171520"/>
              <a:ext cx="763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4" name=""/>
          <p:cNvSpPr/>
          <p:nvPr/>
        </p:nvSpPr>
        <p:spPr>
          <a:xfrm flipV="1">
            <a:off x="640080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7913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334120" y="2971800"/>
            <a:ext cx="152388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9588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609588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54100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6272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543800" y="4267080"/>
            <a:ext cx="914400" cy="106704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7543800" y="5181480"/>
            <a:ext cx="993240" cy="76320"/>
            <a:chOff x="7543800" y="5181480"/>
            <a:chExt cx="993240" cy="76320"/>
          </a:xfrm>
        </p:grpSpPr>
        <p:sp>
          <p:nvSpPr>
            <p:cNvPr id="853" name=""/>
            <p:cNvSpPr/>
            <p:nvPr/>
          </p:nvSpPr>
          <p:spPr>
            <a:xfrm>
              <a:off x="7543800" y="5181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381880" y="5181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461080" y="5219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6" name=""/>
          <p:cNvGrpSpPr/>
          <p:nvPr/>
        </p:nvGrpSpPr>
        <p:grpSpPr>
          <a:xfrm>
            <a:off x="7543800" y="4419720"/>
            <a:ext cx="993240" cy="75960"/>
            <a:chOff x="7543800" y="4419720"/>
            <a:chExt cx="993240" cy="75960"/>
          </a:xfrm>
        </p:grpSpPr>
        <p:sp>
          <p:nvSpPr>
            <p:cNvPr id="857" name=""/>
            <p:cNvSpPr/>
            <p:nvPr/>
          </p:nvSpPr>
          <p:spPr>
            <a:xfrm>
              <a:off x="7543800" y="441972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381880" y="441972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461080" y="4457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543800" y="4800600"/>
            <a:ext cx="993240" cy="76320"/>
            <a:chOff x="7543800" y="4800600"/>
            <a:chExt cx="993240" cy="76320"/>
          </a:xfrm>
        </p:grpSpPr>
        <p:sp>
          <p:nvSpPr>
            <p:cNvPr id="861" name=""/>
            <p:cNvSpPr/>
            <p:nvPr/>
          </p:nvSpPr>
          <p:spPr>
            <a:xfrm>
              <a:off x="7543800" y="4800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381880" y="4800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8461080" y="4838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830592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696080" y="403848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 flipV="1">
            <a:off x="7543800" y="1675800"/>
            <a:ext cx="914400" cy="106668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0" y="0"/>
                </a:moveTo>
                <a:lnTo>
                  <a:pt x="144" y="672"/>
                </a:lnTo>
                <a:lnTo>
                  <a:pt x="450" y="672"/>
                </a:lnTo>
                <a:lnTo>
                  <a:pt x="576" y="0"/>
                </a:lnTo>
                <a:lnTo>
                  <a:pt x="336" y="0"/>
                </a:lnTo>
                <a:lnTo>
                  <a:pt x="288" y="96"/>
                </a:lnTo>
                <a:lnTo>
                  <a:pt x="240" y="0"/>
                </a:lnTo>
                <a:lnTo>
                  <a:pt x="0" y="0"/>
                </a:lnTo>
                <a:close/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7543800" y="1752480"/>
            <a:ext cx="993240" cy="76320"/>
            <a:chOff x="7543800" y="1752480"/>
            <a:chExt cx="993240" cy="76320"/>
          </a:xfrm>
        </p:grpSpPr>
        <p:sp>
          <p:nvSpPr>
            <p:cNvPr id="868" name=""/>
            <p:cNvSpPr/>
            <p:nvPr/>
          </p:nvSpPr>
          <p:spPr>
            <a:xfrm flipV="1">
              <a:off x="7543800" y="175248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8381880" y="175248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461080" y="179064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7543800" y="2514600"/>
            <a:ext cx="993240" cy="76320"/>
            <a:chOff x="7543800" y="2514600"/>
            <a:chExt cx="993240" cy="76320"/>
          </a:xfrm>
        </p:grpSpPr>
        <p:sp>
          <p:nvSpPr>
            <p:cNvPr id="872" name=""/>
            <p:cNvSpPr/>
            <p:nvPr/>
          </p:nvSpPr>
          <p:spPr>
            <a:xfrm flipV="1">
              <a:off x="7543800" y="2514600"/>
              <a:ext cx="91404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8381880" y="2514600"/>
              <a:ext cx="75600" cy="7632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600" bIns="306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8461080" y="255276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7543800" y="2133360"/>
            <a:ext cx="993240" cy="75960"/>
            <a:chOff x="7543800" y="2133360"/>
            <a:chExt cx="993240" cy="75960"/>
          </a:xfrm>
        </p:grpSpPr>
        <p:sp>
          <p:nvSpPr>
            <p:cNvPr id="876" name=""/>
            <p:cNvSpPr/>
            <p:nvPr/>
          </p:nvSpPr>
          <p:spPr>
            <a:xfrm flipV="1">
              <a:off x="7543800" y="2133000"/>
              <a:ext cx="91404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81880" y="2133000"/>
              <a:ext cx="75600" cy="75960"/>
            </a:xfrm>
            <a:custGeom>
              <a:avLst/>
              <a:gdLst/>
              <a:ahLst/>
              <a:rect l="l" t="t" r="r" b="b"/>
              <a:pathLst>
                <a:path w="48" h="96">
                  <a:moveTo>
                    <a:pt x="48" y="96"/>
                  </a:moveTo>
                  <a:lnTo>
                    <a:pt x="0" y="48"/>
                  </a:lnTo>
                  <a:lnTo>
                    <a:pt x="48" y="0"/>
                  </a:lnTo>
                  <a:lnTo>
                    <a:pt x="48" y="9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30240" bIns="302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8461080" y="2171520"/>
              <a:ext cx="759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9" name=""/>
          <p:cNvSpPr/>
          <p:nvPr/>
        </p:nvSpPr>
        <p:spPr>
          <a:xfrm flipV="1">
            <a:off x="830592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7696080" y="2742840"/>
            <a:ext cx="0" cy="22860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7238880" y="2971800"/>
            <a:ext cx="1524240" cy="10666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001000" y="40384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8001000" y="1523880"/>
            <a:ext cx="685800" cy="1447920"/>
          </a:xfrm>
          <a:custGeom>
            <a:avLst/>
            <a:gdLst/>
            <a:ahLst/>
            <a:rect l="l" t="t" r="r" b="b"/>
            <a:pathLst>
              <a:path w="432" h="912">
                <a:moveTo>
                  <a:pt x="0" y="816"/>
                </a:moveTo>
                <a:lnTo>
                  <a:pt x="0" y="912"/>
                </a:lnTo>
                <a:lnTo>
                  <a:pt x="432" y="912"/>
                </a:lnTo>
                <a:lnTo>
                  <a:pt x="432" y="0"/>
                </a:lnTo>
              </a:path>
            </a:pathLst>
          </a:custGeom>
          <a:noFill/>
          <a:ln w="3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731520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467480" y="4038480"/>
            <a:ext cx="0" cy="1981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153000" y="1295280"/>
            <a:ext cx="3047400" cy="4436640"/>
            <a:chOff x="153000" y="1295280"/>
            <a:chExt cx="3047400" cy="4436640"/>
          </a:xfrm>
        </p:grpSpPr>
        <p:sp>
          <p:nvSpPr>
            <p:cNvPr id="887" name=""/>
            <p:cNvSpPr/>
            <p:nvPr/>
          </p:nvSpPr>
          <p:spPr>
            <a:xfrm>
              <a:off x="1371600" y="1295280"/>
              <a:ext cx="1828800" cy="4343400"/>
            </a:xfrm>
            <a:custGeom>
              <a:avLst/>
              <a:gdLst>
                <a:gd name="textAreaLeft" fmla="*/ 89280 w 1828800"/>
                <a:gd name="textAreaRight" fmla="*/ 1739520 w 1828800"/>
                <a:gd name="textAreaTop" fmla="*/ 89280 h 4343400"/>
                <a:gd name="textAreaBottom" fmla="*/ 4254120 h 4343400"/>
              </a:gdLst>
              <a:ahLst/>
              <a:rect l="textAreaLeft" t="textAreaTop" r="textAreaRight" b="textAreaBottom"/>
              <a:pathLst>
                <a:path w="21600" h="51294">
                  <a:moveTo>
                    <a:pt x="3600" y="0"/>
                  </a:moveTo>
                  <a:arcTo wR="3600" hR="3600" stAng="16200000" swAng="-5400000"/>
                  <a:lnTo>
                    <a:pt x="0" y="47694"/>
                  </a:lnTo>
                  <a:arcTo wR="3600" hR="3600" stAng="10800000" swAng="-5400000"/>
                  <a:lnTo>
                    <a:pt x="18000" y="5129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914040" y="5257800"/>
              <a:ext cx="453960" cy="2412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53000" y="5333040"/>
              <a:ext cx="77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Lan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523880" y="989640"/>
            <a:ext cx="7391520" cy="1829880"/>
            <a:chOff x="1523880" y="989640"/>
            <a:chExt cx="7391520" cy="1829880"/>
          </a:xfrm>
        </p:grpSpPr>
        <p:sp>
          <p:nvSpPr>
            <p:cNvPr id="891" name=""/>
            <p:cNvSpPr/>
            <p:nvPr/>
          </p:nvSpPr>
          <p:spPr>
            <a:xfrm>
              <a:off x="1523880" y="1447920"/>
              <a:ext cx="7391520" cy="137160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562720" y="1218960"/>
              <a:ext cx="380880" cy="228600"/>
            </a:xfrm>
            <a:prstGeom prst="line">
              <a:avLst/>
            </a:prstGeom>
            <a:ln w="3816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67280" y="989640"/>
              <a:ext cx="203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618ffd"/>
                  </a:solidFill>
                  <a:latin typeface="Arial"/>
                </a:rPr>
                <a:t>Functional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-360" y="2713680"/>
            <a:ext cx="134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H="1" flipV="1">
            <a:off x="1027080" y="3386160"/>
            <a:ext cx="496800" cy="169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1447920" y="6019920"/>
            <a:ext cx="7315200" cy="533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Sub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676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0, 4, 8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58128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1, 5, 9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48640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2, 6, 10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91520" y="3200400"/>
            <a:ext cx="123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s 3, 7, 11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0 Vector Microprocessor (1995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t0die" descr=""/>
          <p:cNvPicPr/>
          <p:nvPr/>
        </p:nvPicPr>
        <p:blipFill>
          <a:blip r:embed="rId1"/>
          <a:stretch/>
        </p:blipFill>
        <p:spPr>
          <a:xfrm>
            <a:off x="2743200" y="1143000"/>
            <a:ext cx="5138640" cy="5176800"/>
          </a:xfrm>
          <a:prstGeom prst="rect">
            <a:avLst/>
          </a:prstGeom>
          <a:ln w="0">
            <a:noFill/>
          </a:ln>
        </p:spPr>
      </p:pic>
      <p:sp>
        <p:nvSpPr>
          <p:cNvPr id="903" name=""/>
          <p:cNvSpPr/>
          <p:nvPr/>
        </p:nvSpPr>
        <p:spPr>
          <a:xfrm>
            <a:off x="6858000" y="2971800"/>
            <a:ext cx="457200" cy="3200400"/>
          </a:xfrm>
          <a:prstGeom prst="rect">
            <a:avLst/>
          </a:prstGeom>
          <a:noFill/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V="1">
            <a:off x="7315200" y="3200400"/>
            <a:ext cx="762120" cy="380880"/>
          </a:xfrm>
          <a:prstGeom prst="line">
            <a:avLst/>
          </a:prstGeom>
          <a:ln w="572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077680" y="289476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304920" y="2894400"/>
            <a:ext cx="7119000" cy="1999440"/>
            <a:chOff x="304920" y="2894400"/>
            <a:chExt cx="7119000" cy="1999440"/>
          </a:xfrm>
        </p:grpSpPr>
        <p:sp>
          <p:nvSpPr>
            <p:cNvPr id="907" name=""/>
            <p:cNvSpPr/>
            <p:nvPr/>
          </p:nvSpPr>
          <p:spPr>
            <a:xfrm>
              <a:off x="304920" y="2894400"/>
              <a:ext cx="2438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 register elements striped over 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8" name=""/>
            <p:cNvGrpSpPr/>
            <p:nvPr/>
          </p:nvGrpSpPr>
          <p:grpSpPr>
            <a:xfrm>
              <a:off x="3129840" y="3809160"/>
              <a:ext cx="4294080" cy="1084680"/>
              <a:chOff x="3129840" y="3809160"/>
              <a:chExt cx="4294080" cy="1084680"/>
            </a:xfrm>
          </p:grpSpPr>
          <p:sp>
            <p:nvSpPr>
              <p:cNvPr id="909" name=""/>
              <p:cNvSpPr/>
              <p:nvPr/>
            </p:nvSpPr>
            <p:spPr>
              <a:xfrm>
                <a:off x="32014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0148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1298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1312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6540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654000" y="42663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5820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5838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1922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1220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1202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1220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71924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64904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6472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64904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182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11236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110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112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8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79240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72220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72040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72220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9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632556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6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625392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4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625392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2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625536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0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859080" y="4494960"/>
                <a:ext cx="49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7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6788880" y="42663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15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787440" y="40377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23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788880" y="380916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[31]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1" name=""/>
            <p:cNvSpPr/>
            <p:nvPr/>
          </p:nvSpPr>
          <p:spPr>
            <a:xfrm>
              <a:off x="2209680" y="3581280"/>
              <a:ext cx="99072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ersus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6840" y="1139760"/>
            <a:ext cx="8001000" cy="16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memory-memory instructions hold all vector operands in main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rst vector machines, CDC Star-100 (‘73) and TI ASC (‘71), were memory-memory mach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y-1 (’76) was first vector register mach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380880" y="3200400"/>
            <a:ext cx="3200400" cy="2167200"/>
            <a:chOff x="380880" y="3200400"/>
            <a:chExt cx="3200400" cy="2167200"/>
          </a:xfrm>
        </p:grpSpPr>
        <p:sp>
          <p:nvSpPr>
            <p:cNvPr id="945" name=""/>
            <p:cNvSpPr/>
            <p:nvPr/>
          </p:nvSpPr>
          <p:spPr>
            <a:xfrm>
              <a:off x="459360" y="3673080"/>
              <a:ext cx="3061080" cy="16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[i] = A[i] -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80880" y="3275640"/>
              <a:ext cx="286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xample Source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80880" y="3200400"/>
              <a:ext cx="3200400" cy="2133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581280" y="2858040"/>
            <a:ext cx="5334120" cy="1372680"/>
            <a:chOff x="3581280" y="2858040"/>
            <a:chExt cx="5334120" cy="1372680"/>
          </a:xfrm>
        </p:grpSpPr>
        <p:grpSp>
          <p:nvGrpSpPr>
            <p:cNvPr id="949" name=""/>
            <p:cNvGrpSpPr/>
            <p:nvPr/>
          </p:nvGrpSpPr>
          <p:grpSpPr>
            <a:xfrm>
              <a:off x="5027400" y="2858040"/>
              <a:ext cx="3888000" cy="1372680"/>
              <a:chOff x="5027400" y="2858040"/>
              <a:chExt cx="3888000" cy="1372680"/>
            </a:xfrm>
          </p:grpSpPr>
          <p:sp>
            <p:nvSpPr>
              <p:cNvPr id="950" name=""/>
              <p:cNvSpPr/>
              <p:nvPr/>
            </p:nvSpPr>
            <p:spPr>
              <a:xfrm>
                <a:off x="5869080" y="3314880"/>
                <a:ext cx="1826640" cy="69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C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D, A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027400" y="2858040"/>
                <a:ext cx="378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Memory-Memory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29200" y="2859120"/>
                <a:ext cx="3886200" cy="1371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3" name=""/>
            <p:cNvSpPr/>
            <p:nvPr/>
          </p:nvSpPr>
          <p:spPr>
            <a:xfrm flipV="1">
              <a:off x="3581280" y="3544560"/>
              <a:ext cx="144792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"/>
          <p:cNvGrpSpPr/>
          <p:nvPr/>
        </p:nvGrpSpPr>
        <p:grpSpPr>
          <a:xfrm>
            <a:off x="3581280" y="4230720"/>
            <a:ext cx="5334120" cy="2515680"/>
            <a:chOff x="3581280" y="4230720"/>
            <a:chExt cx="5334120" cy="2515680"/>
          </a:xfrm>
        </p:grpSpPr>
        <p:grpSp>
          <p:nvGrpSpPr>
            <p:cNvPr id="955" name=""/>
            <p:cNvGrpSpPr/>
            <p:nvPr/>
          </p:nvGrpSpPr>
          <p:grpSpPr>
            <a:xfrm>
              <a:off x="5027760" y="4266360"/>
              <a:ext cx="3887640" cy="2480040"/>
              <a:chOff x="5027760" y="4266360"/>
              <a:chExt cx="3887640" cy="2480040"/>
            </a:xfrm>
          </p:grpSpPr>
          <p:sp>
            <p:nvSpPr>
              <p:cNvPr id="956" name=""/>
              <p:cNvSpPr/>
              <p:nvPr/>
            </p:nvSpPr>
            <p:spPr>
              <a:xfrm>
                <a:off x="5792760" y="4720320"/>
                <a:ext cx="2238120" cy="202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1, 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LV V2, 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ADDV V3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3, C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UBV V4, V1, V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urier New"/>
                  </a:rPr>
                  <a:t>SV V4, 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027760" y="4266360"/>
                <a:ext cx="276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Vector Register Co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029200" y="4267080"/>
                <a:ext cx="3886200" cy="2438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3581280" y="4230720"/>
              <a:ext cx="1447920" cy="1447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Memory-Memory vs. Vector Register Machin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304560" y="1369080"/>
            <a:ext cx="8381880" cy="52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memory-memory architectures (VMMA) require greater main memory bandwidth, wh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All operands must be read in and out of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make if difficult to overlap execution of multiple vector operations, why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ff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Must check dependencies on memory addre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MMAs incur greater startup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alar code was faster on CDC Star-100 for vectors &lt; 100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Cray-1, vector/scalar breakeven point was around 2 elem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part from CDC follow-ons (Cyber-205, ETA-10) all major vector machines since Cray-1 have had vector register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ff"/>
                </a:solidFill>
                <a:latin typeface="Arial"/>
              </a:rPr>
              <a:t>(we ignore vector memory-memory from now 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066680" y="213372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066680" y="3238560"/>
            <a:ext cx="609624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tomatic Code Vectoriz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2287800" y="683640"/>
            <a:ext cx="43869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(i=0; i &lt; N; i++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[i] = A[i] + B[i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-34920" y="1446840"/>
            <a:ext cx="3194640" cy="5258880"/>
            <a:chOff x="-34920" y="1446840"/>
            <a:chExt cx="3194640" cy="5258880"/>
          </a:xfrm>
        </p:grpSpPr>
        <p:grpSp>
          <p:nvGrpSpPr>
            <p:cNvPr id="967" name=""/>
            <p:cNvGrpSpPr/>
            <p:nvPr/>
          </p:nvGrpSpPr>
          <p:grpSpPr>
            <a:xfrm>
              <a:off x="1045440" y="1977840"/>
              <a:ext cx="1660320" cy="2270160"/>
              <a:chOff x="1045440" y="1977840"/>
              <a:chExt cx="1660320" cy="2270160"/>
            </a:xfrm>
          </p:grpSpPr>
          <p:sp>
            <p:nvSpPr>
              <p:cNvPr id="968" name=""/>
              <p:cNvSpPr/>
              <p:nvPr/>
            </p:nvSpPr>
            <p:spPr>
              <a:xfrm>
                <a:off x="1045440" y="19778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959840" y="243504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425600" y="312084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376280" y="380664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fc012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428480" y="2438280"/>
                <a:ext cx="22860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885320" y="2895480"/>
                <a:ext cx="30492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1809720" y="35812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5" name=""/>
            <p:cNvGrpSpPr/>
            <p:nvPr/>
          </p:nvGrpSpPr>
          <p:grpSpPr>
            <a:xfrm>
              <a:off x="1064520" y="4340160"/>
              <a:ext cx="1660320" cy="2269800"/>
              <a:chOff x="1064520" y="4340160"/>
              <a:chExt cx="1660320" cy="2269800"/>
            </a:xfrm>
          </p:grpSpPr>
          <p:sp>
            <p:nvSpPr>
              <p:cNvPr id="976" name=""/>
              <p:cNvSpPr/>
              <p:nvPr/>
            </p:nvSpPr>
            <p:spPr>
              <a:xfrm>
                <a:off x="1064520" y="434016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1978920" y="4797000"/>
                <a:ext cx="7459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44680" y="5482800"/>
                <a:ext cx="67572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395360" y="6168600"/>
                <a:ext cx="846360" cy="441360"/>
              </a:xfrm>
              <a:prstGeom prst="roundRect">
                <a:avLst>
                  <a:gd name="adj" fmla="val 16667"/>
                </a:avLst>
              </a:prstGeom>
              <a:solidFill>
                <a:srgbClr val="00ae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stor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47560" y="4800240"/>
                <a:ext cx="228600" cy="685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H="1">
                <a:off x="1904400" y="5257440"/>
                <a:ext cx="30492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828800" y="5943240"/>
                <a:ext cx="0" cy="228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3" name=""/>
            <p:cNvSpPr/>
            <p:nvPr/>
          </p:nvSpPr>
          <p:spPr>
            <a:xfrm>
              <a:off x="838080" y="1905120"/>
              <a:ext cx="1981440" cy="2361960"/>
            </a:xfrm>
            <a:custGeom>
              <a:avLst/>
              <a:gdLst>
                <a:gd name="textAreaLeft" fmla="*/ 96480 w 1981440"/>
                <a:gd name="textAreaRight" fmla="*/ 1884960 w 1981440"/>
                <a:gd name="textAreaTop" fmla="*/ 96480 h 2361960"/>
                <a:gd name="textAreaBottom" fmla="*/ 2265480 h 2361960"/>
              </a:gdLst>
              <a:ahLst/>
              <a:rect l="textAreaLeft" t="textAreaTop" r="textAreaRight" b="textAreaBottom"/>
              <a:pathLst>
                <a:path w="21600" h="25747">
                  <a:moveTo>
                    <a:pt x="3600" y="0"/>
                  </a:moveTo>
                  <a:arcTo wR="3600" hR="3600" stAng="16200000" swAng="-5400000"/>
                  <a:lnTo>
                    <a:pt x="0" y="22147"/>
                  </a:lnTo>
                  <a:arcTo wR="3600" hR="3600" stAng="10800000" swAng="-5400000"/>
                  <a:lnTo>
                    <a:pt x="18000" y="25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762120" y="4343400"/>
              <a:ext cx="2057400" cy="2362320"/>
            </a:xfrm>
            <a:custGeom>
              <a:avLst/>
              <a:gdLst>
                <a:gd name="textAreaLeft" fmla="*/ 100440 w 2057400"/>
                <a:gd name="textAreaRight" fmla="*/ 1956960 w 2057400"/>
                <a:gd name="textAreaTop" fmla="*/ 100440 h 2362320"/>
                <a:gd name="textAreaBottom" fmla="*/ 2261880 h 2362320"/>
              </a:gdLst>
              <a:ahLst/>
              <a:rect l="textAreaLeft" t="textAreaTop" r="textAreaRight" b="textAreaBottom"/>
              <a:pathLst>
                <a:path w="21600" h="24801">
                  <a:moveTo>
                    <a:pt x="3600" y="0"/>
                  </a:moveTo>
                  <a:arcTo wR="3600" hR="3600" stAng="16200000" swAng="-5400000"/>
                  <a:lnTo>
                    <a:pt x="0" y="21201"/>
                  </a:lnTo>
                  <a:arcTo wR="3600" hR="3600" stAng="10800000" swAng="-5400000"/>
                  <a:lnTo>
                    <a:pt x="18000" y="248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-34920" y="251352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-34920" y="4875840"/>
              <a:ext cx="85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151920" y="1446840"/>
              <a:ext cx="300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Scalar Sequential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590920" y="530316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ization is a massive compile-time reordering of operation sequen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s extensive loop depende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3048120" y="1370520"/>
            <a:ext cx="6089760" cy="3827880"/>
            <a:chOff x="3048120" y="1370520"/>
            <a:chExt cx="6089760" cy="3827880"/>
          </a:xfrm>
        </p:grpSpPr>
        <p:sp>
          <p:nvSpPr>
            <p:cNvPr id="990" name=""/>
            <p:cNvSpPr/>
            <p:nvPr/>
          </p:nvSpPr>
          <p:spPr>
            <a:xfrm>
              <a:off x="3733920" y="2438280"/>
              <a:ext cx="5029200" cy="609840"/>
            </a:xfrm>
            <a:prstGeom prst="roundRect">
              <a:avLst>
                <a:gd name="adj" fmla="val 16667"/>
              </a:avLst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733920" y="1806480"/>
              <a:ext cx="5029200" cy="579600"/>
            </a:xfrm>
            <a:prstGeom prst="roundRect">
              <a:avLst>
                <a:gd name="adj" fmla="val 16667"/>
              </a:avLst>
            </a:prstGeom>
            <a:solidFill>
              <a:srgbClr val="ccff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733920" y="3124080"/>
              <a:ext cx="5029200" cy="533520"/>
            </a:xfrm>
            <a:prstGeom prst="roundRect">
              <a:avLst>
                <a:gd name="adj" fmla="val 16667"/>
              </a:avLst>
            </a:prstGeom>
            <a:solidFill>
              <a:srgbClr val="ff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33920" y="3809880"/>
              <a:ext cx="5029200" cy="457200"/>
            </a:xfrm>
            <a:prstGeom prst="roundRect">
              <a:avLst>
                <a:gd name="adj" fmla="val 16667"/>
              </a:avLst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224480" y="4800240"/>
              <a:ext cx="191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18896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510336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56912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51944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572000" y="2362320"/>
              <a:ext cx="22860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502884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093720" y="190188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08120" y="2511360"/>
              <a:ext cx="7459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74240" y="3197160"/>
              <a:ext cx="67572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424560" y="3807000"/>
              <a:ext cx="846360" cy="441360"/>
            </a:xfrm>
            <a:prstGeom prst="roundRect">
              <a:avLst>
                <a:gd name="adj" fmla="val 16667"/>
              </a:avLst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400800" y="2362320"/>
              <a:ext cx="304920" cy="838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6933960" y="2971800"/>
              <a:ext cx="22860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58000" y="3657600"/>
              <a:ext cx="0" cy="152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96252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943600" y="1828800"/>
              <a:ext cx="1981080" cy="2590920"/>
            </a:xfrm>
            <a:custGeom>
              <a:avLst/>
              <a:gdLst>
                <a:gd name="textAreaLeft" fmla="*/ 96480 w 1981080"/>
                <a:gd name="textAreaRight" fmla="*/ 1884600 w 1981080"/>
                <a:gd name="textAreaTop" fmla="*/ 96480 h 2590920"/>
                <a:gd name="textAreaBottom" fmla="*/ 2494440 h 2590920"/>
              </a:gdLst>
              <a:ahLst/>
              <a:rect l="textAreaLeft" t="textAreaTop" r="textAreaRight" b="textAreaBottom"/>
              <a:pathLst>
                <a:path w="21600" h="28248">
                  <a:moveTo>
                    <a:pt x="3600" y="0"/>
                  </a:moveTo>
                  <a:arcTo wR="3600" hR="3600" stAng="16200000" swAng="-5400000"/>
                  <a:lnTo>
                    <a:pt x="0" y="24648"/>
                  </a:lnTo>
                  <a:arcTo wR="3600" hR="3600" stAng="10800000" swAng="-5400000"/>
                  <a:lnTo>
                    <a:pt x="18000" y="2824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96252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4494600"/>
              <a:ext cx="68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ter.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476760" y="1370520"/>
              <a:ext cx="217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Vectorized 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077320" y="4267080"/>
              <a:ext cx="152280" cy="609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429000" y="2438280"/>
              <a:ext cx="0" cy="1600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rot="16200000">
              <a:off x="2831760" y="2884320"/>
              <a:ext cx="892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8077320" y="2819520"/>
              <a:ext cx="533160" cy="0"/>
            </a:xfrm>
            <a:prstGeom prst="line">
              <a:avLst/>
            </a:prstGeom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ripm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4920" y="605160"/>
            <a:ext cx="8610480" cy="11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Vector registers have finite leng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Break loops into pieces that fit into vector registers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“Stripmining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506760" y="1759320"/>
            <a:ext cx="6124320" cy="51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NDI R1, N, 63   # N mod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  # Do rema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op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1, 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LL R2, R1, 3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# Multiply by 8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A, RA, R2 # Bump po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2, 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B, RB, R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3, V1, 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3, 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DDU RC, RC, R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SUBU N, N, R1 # Subtract el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 R1,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TC1 VLR, R1   # Reset full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GTZ N, loop   # Any more to d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1800" y="2131920"/>
            <a:ext cx="3617280" cy="4497480"/>
            <a:chOff x="1800" y="2131920"/>
            <a:chExt cx="3617280" cy="4497480"/>
          </a:xfrm>
        </p:grpSpPr>
        <p:sp>
          <p:nvSpPr>
            <p:cNvPr id="1022" name=""/>
            <p:cNvSpPr/>
            <p:nvPr/>
          </p:nvSpPr>
          <p:spPr>
            <a:xfrm>
              <a:off x="1800" y="2131920"/>
              <a:ext cx="3381120" cy="73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for (i=0; i&lt;N; i++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C[i] = A[i]+B[i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230040" y="2894760"/>
              <a:ext cx="3389040" cy="3734640"/>
              <a:chOff x="230040" y="2894760"/>
              <a:chExt cx="3389040" cy="3734640"/>
            </a:xfrm>
          </p:grpSpPr>
          <p:sp>
            <p:nvSpPr>
              <p:cNvPr id="1024" name=""/>
              <p:cNvSpPr/>
              <p:nvPr/>
            </p:nvSpPr>
            <p:spPr>
              <a:xfrm>
                <a:off x="3049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76212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600200" y="3276720"/>
                <a:ext cx="152280" cy="3352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049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76212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1600200" y="38862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049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76212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1600200" y="5257800"/>
                <a:ext cx="152280" cy="137160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49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76212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1600200" y="3276720"/>
                <a:ext cx="152280" cy="6094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457200" y="4343400"/>
                <a:ext cx="1143000" cy="456840"/>
                <a:chOff x="457200" y="4343400"/>
                <a:chExt cx="1143000" cy="45684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1143000" y="44197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914400" y="43434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 flipV="1">
                  <a:off x="457200" y="46479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1447560" y="45720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457200" y="5715000"/>
                <a:ext cx="1143000" cy="456840"/>
                <a:chOff x="457200" y="5715000"/>
                <a:chExt cx="1143000" cy="456840"/>
              </a:xfrm>
            </p:grpSpPr>
            <p:sp>
              <p:nvSpPr>
                <p:cNvPr id="1042" name=""/>
                <p:cNvSpPr/>
                <p:nvPr/>
              </p:nvSpPr>
              <p:spPr>
                <a:xfrm>
                  <a:off x="1143000" y="579132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914400" y="571500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457200" y="601956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1447560" y="594360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6" name=""/>
              <p:cNvGrpSpPr/>
              <p:nvPr/>
            </p:nvGrpSpPr>
            <p:grpSpPr>
              <a:xfrm>
                <a:off x="457200" y="3352680"/>
                <a:ext cx="1143000" cy="456840"/>
                <a:chOff x="457200" y="3352680"/>
                <a:chExt cx="1143000" cy="456840"/>
              </a:xfrm>
            </p:grpSpPr>
            <p:sp>
              <p:nvSpPr>
                <p:cNvPr id="1047" name=""/>
                <p:cNvSpPr/>
                <p:nvPr/>
              </p:nvSpPr>
              <p:spPr>
                <a:xfrm>
                  <a:off x="1143000" y="3429000"/>
                  <a:ext cx="304560" cy="298440"/>
                </a:xfrm>
                <a:prstGeom prst="ellipse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914400" y="3352680"/>
                  <a:ext cx="30456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 flipV="1">
                  <a:off x="457200" y="3657240"/>
                  <a:ext cx="685800" cy="152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1447560" y="3581280"/>
                  <a:ext cx="15264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1" name=""/>
              <p:cNvSpPr/>
              <p:nvPr/>
            </p:nvSpPr>
            <p:spPr>
              <a:xfrm>
                <a:off x="2300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724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525320" y="28947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828800" y="3962520"/>
                <a:ext cx="228600" cy="121896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31680 h 1218960"/>
                  <a:gd name="textAreaBottom" fmla="*/ 1187280 h 1218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1981440" y="4342320"/>
                <a:ext cx="1637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1828800" y="3276720"/>
                <a:ext cx="228600" cy="609480"/>
              </a:xfrm>
              <a:custGeom>
                <a:avLst/>
                <a:gdLst>
                  <a:gd name="textAreaLeft" fmla="*/ 0 w 228600"/>
                  <a:gd name="textAreaRight" fmla="*/ 82440 w 22860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1981800" y="3351960"/>
                <a:ext cx="1495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Remainde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8" name=""/>
          <p:cNvGrpSpPr/>
          <p:nvPr/>
        </p:nvGrpSpPr>
        <p:grpSpPr>
          <a:xfrm>
            <a:off x="685800" y="3324240"/>
            <a:ext cx="3276360" cy="1628640"/>
            <a:chOff x="685800" y="3324240"/>
            <a:chExt cx="3276360" cy="1628640"/>
          </a:xfrm>
        </p:grpSpPr>
        <p:grpSp>
          <p:nvGrpSpPr>
            <p:cNvPr id="1059" name=""/>
            <p:cNvGrpSpPr/>
            <p:nvPr/>
          </p:nvGrpSpPr>
          <p:grpSpPr>
            <a:xfrm>
              <a:off x="1523880" y="3733920"/>
              <a:ext cx="2438280" cy="1218960"/>
              <a:chOff x="1523880" y="3733920"/>
              <a:chExt cx="2438280" cy="121896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3657240" y="3733920"/>
                <a:ext cx="304920" cy="304560"/>
                <a:chOff x="3657240" y="3733920"/>
                <a:chExt cx="304920" cy="304560"/>
              </a:xfrm>
            </p:grpSpPr>
            <p:sp>
              <p:nvSpPr>
                <p:cNvPr id="1061" name=""/>
                <p:cNvSpPr/>
                <p:nvPr/>
              </p:nvSpPr>
              <p:spPr>
                <a:xfrm>
                  <a:off x="36572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37335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>
                <a:off x="1523880" y="37339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4" name=""/>
              <p:cNvGrpSpPr/>
              <p:nvPr/>
            </p:nvGrpSpPr>
            <p:grpSpPr>
              <a:xfrm>
                <a:off x="3657240" y="4038480"/>
                <a:ext cx="304920" cy="304560"/>
                <a:chOff x="3657240" y="4038480"/>
                <a:chExt cx="304920" cy="3045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36572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37335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7" name=""/>
              <p:cNvGrpSpPr/>
              <p:nvPr/>
            </p:nvGrpSpPr>
            <p:grpSpPr>
              <a:xfrm>
                <a:off x="3657240" y="4343400"/>
                <a:ext cx="304920" cy="304560"/>
                <a:chOff x="3657240" y="4343400"/>
                <a:chExt cx="304920" cy="304560"/>
              </a:xfrm>
            </p:grpSpPr>
            <p:sp>
              <p:nvSpPr>
                <p:cNvPr id="1068" name=""/>
                <p:cNvSpPr/>
                <p:nvPr/>
              </p:nvSpPr>
              <p:spPr>
                <a:xfrm>
                  <a:off x="36572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37335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0" name=""/>
              <p:cNvGrpSpPr/>
              <p:nvPr/>
            </p:nvGrpSpPr>
            <p:grpSpPr>
              <a:xfrm>
                <a:off x="3657240" y="4648320"/>
                <a:ext cx="304920" cy="304560"/>
                <a:chOff x="3657240" y="4648320"/>
                <a:chExt cx="304920" cy="30456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36572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37335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3" name=""/>
              <p:cNvGrpSpPr/>
              <p:nvPr/>
            </p:nvGrpSpPr>
            <p:grpSpPr>
              <a:xfrm>
                <a:off x="3352680" y="3733920"/>
                <a:ext cx="304560" cy="304560"/>
                <a:chOff x="3352680" y="3733920"/>
                <a:chExt cx="304560" cy="304560"/>
              </a:xfrm>
            </p:grpSpPr>
            <p:sp>
              <p:nvSpPr>
                <p:cNvPr id="1074" name=""/>
                <p:cNvSpPr/>
                <p:nvPr/>
              </p:nvSpPr>
              <p:spPr>
                <a:xfrm>
                  <a:off x="33526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34286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6" name=""/>
              <p:cNvGrpSpPr/>
              <p:nvPr/>
            </p:nvGrpSpPr>
            <p:grpSpPr>
              <a:xfrm>
                <a:off x="3352680" y="4038480"/>
                <a:ext cx="304560" cy="304560"/>
                <a:chOff x="3352680" y="4038480"/>
                <a:chExt cx="304560" cy="304560"/>
              </a:xfrm>
            </p:grpSpPr>
            <p:sp>
              <p:nvSpPr>
                <p:cNvPr id="1077" name=""/>
                <p:cNvSpPr/>
                <p:nvPr/>
              </p:nvSpPr>
              <p:spPr>
                <a:xfrm>
                  <a:off x="33526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34286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9" name=""/>
              <p:cNvGrpSpPr/>
              <p:nvPr/>
            </p:nvGrpSpPr>
            <p:grpSpPr>
              <a:xfrm>
                <a:off x="3352680" y="4343400"/>
                <a:ext cx="304560" cy="304560"/>
                <a:chOff x="3352680" y="4343400"/>
                <a:chExt cx="304560" cy="304560"/>
              </a:xfrm>
            </p:grpSpPr>
            <p:sp>
              <p:nvSpPr>
                <p:cNvPr id="1080" name=""/>
                <p:cNvSpPr/>
                <p:nvPr/>
              </p:nvSpPr>
              <p:spPr>
                <a:xfrm>
                  <a:off x="33526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34286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3352680" y="4648320"/>
                <a:ext cx="304560" cy="304560"/>
                <a:chOff x="3352680" y="4648320"/>
                <a:chExt cx="304560" cy="3045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33526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34286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3047760" y="3733920"/>
                <a:ext cx="304920" cy="304560"/>
                <a:chOff x="3047760" y="3733920"/>
                <a:chExt cx="304920" cy="30456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30477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31240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3047760" y="4038480"/>
                <a:ext cx="304920" cy="304560"/>
                <a:chOff x="3047760" y="4038480"/>
                <a:chExt cx="304920" cy="30456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30477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31240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1" name=""/>
              <p:cNvGrpSpPr/>
              <p:nvPr/>
            </p:nvGrpSpPr>
            <p:grpSpPr>
              <a:xfrm>
                <a:off x="3047760" y="4343400"/>
                <a:ext cx="304920" cy="304560"/>
                <a:chOff x="3047760" y="4343400"/>
                <a:chExt cx="304920" cy="30456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0477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31240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4" name=""/>
              <p:cNvGrpSpPr/>
              <p:nvPr/>
            </p:nvGrpSpPr>
            <p:grpSpPr>
              <a:xfrm>
                <a:off x="3047760" y="4648320"/>
                <a:ext cx="304920" cy="304560"/>
                <a:chOff x="3047760" y="4648320"/>
                <a:chExt cx="304920" cy="304560"/>
              </a:xfrm>
            </p:grpSpPr>
            <p:sp>
              <p:nvSpPr>
                <p:cNvPr id="1095" name=""/>
                <p:cNvSpPr/>
                <p:nvPr/>
              </p:nvSpPr>
              <p:spPr>
                <a:xfrm>
                  <a:off x="30477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31240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2742840" y="3733920"/>
                <a:ext cx="304920" cy="304560"/>
                <a:chOff x="2742840" y="3733920"/>
                <a:chExt cx="304920" cy="30456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27428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28191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2742840" y="4038480"/>
                <a:ext cx="304920" cy="304560"/>
                <a:chOff x="2742840" y="4038480"/>
                <a:chExt cx="304920" cy="3045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27428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28191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3" name=""/>
              <p:cNvGrpSpPr/>
              <p:nvPr/>
            </p:nvGrpSpPr>
            <p:grpSpPr>
              <a:xfrm>
                <a:off x="2742840" y="4343400"/>
                <a:ext cx="304920" cy="304560"/>
                <a:chOff x="2742840" y="4343400"/>
                <a:chExt cx="304920" cy="30456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27428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28191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2742840" y="4648320"/>
                <a:ext cx="304920" cy="304560"/>
                <a:chOff x="2742840" y="4648320"/>
                <a:chExt cx="304920" cy="3045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27428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28191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2438280" y="3733920"/>
                <a:ext cx="304560" cy="304560"/>
                <a:chOff x="2438280" y="3733920"/>
                <a:chExt cx="304560" cy="30456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24382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25142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2438280" y="4038480"/>
                <a:ext cx="304560" cy="304560"/>
                <a:chOff x="2438280" y="4038480"/>
                <a:chExt cx="304560" cy="30456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24382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25142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2438280" y="4343400"/>
                <a:ext cx="304560" cy="304560"/>
                <a:chOff x="2438280" y="4343400"/>
                <a:chExt cx="304560" cy="30456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24382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25142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8" name=""/>
              <p:cNvGrpSpPr/>
              <p:nvPr/>
            </p:nvGrpSpPr>
            <p:grpSpPr>
              <a:xfrm>
                <a:off x="2438280" y="4648320"/>
                <a:ext cx="304560" cy="304560"/>
                <a:chOff x="2438280" y="4648320"/>
                <a:chExt cx="304560" cy="304560"/>
              </a:xfrm>
            </p:grpSpPr>
            <p:sp>
              <p:nvSpPr>
                <p:cNvPr id="1119" name=""/>
                <p:cNvSpPr/>
                <p:nvPr/>
              </p:nvSpPr>
              <p:spPr>
                <a:xfrm>
                  <a:off x="24382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25142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1" name=""/>
              <p:cNvGrpSpPr/>
              <p:nvPr/>
            </p:nvGrpSpPr>
            <p:grpSpPr>
              <a:xfrm>
                <a:off x="2133360" y="3733920"/>
                <a:ext cx="304920" cy="304560"/>
                <a:chOff x="2133360" y="3733920"/>
                <a:chExt cx="304920" cy="304560"/>
              </a:xfrm>
            </p:grpSpPr>
            <p:sp>
              <p:nvSpPr>
                <p:cNvPr id="1122" name=""/>
                <p:cNvSpPr/>
                <p:nvPr/>
              </p:nvSpPr>
              <p:spPr>
                <a:xfrm>
                  <a:off x="213336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220968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4" name=""/>
              <p:cNvGrpSpPr/>
              <p:nvPr/>
            </p:nvGrpSpPr>
            <p:grpSpPr>
              <a:xfrm>
                <a:off x="2133360" y="4038480"/>
                <a:ext cx="304920" cy="304560"/>
                <a:chOff x="2133360" y="4038480"/>
                <a:chExt cx="304920" cy="304560"/>
              </a:xfrm>
            </p:grpSpPr>
            <p:sp>
              <p:nvSpPr>
                <p:cNvPr id="1125" name=""/>
                <p:cNvSpPr/>
                <p:nvPr/>
              </p:nvSpPr>
              <p:spPr>
                <a:xfrm>
                  <a:off x="213336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220968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7" name=""/>
              <p:cNvGrpSpPr/>
              <p:nvPr/>
            </p:nvGrpSpPr>
            <p:grpSpPr>
              <a:xfrm>
                <a:off x="2133360" y="4343400"/>
                <a:ext cx="304920" cy="304560"/>
                <a:chOff x="2133360" y="4343400"/>
                <a:chExt cx="304920" cy="30456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213336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220968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0" name=""/>
              <p:cNvGrpSpPr/>
              <p:nvPr/>
            </p:nvGrpSpPr>
            <p:grpSpPr>
              <a:xfrm>
                <a:off x="2133360" y="4648320"/>
                <a:ext cx="304920" cy="304560"/>
                <a:chOff x="2133360" y="4648320"/>
                <a:chExt cx="304920" cy="304560"/>
              </a:xfrm>
            </p:grpSpPr>
            <p:sp>
              <p:nvSpPr>
                <p:cNvPr id="1131" name=""/>
                <p:cNvSpPr/>
                <p:nvPr/>
              </p:nvSpPr>
              <p:spPr>
                <a:xfrm>
                  <a:off x="213336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220968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3" name=""/>
              <p:cNvGrpSpPr/>
              <p:nvPr/>
            </p:nvGrpSpPr>
            <p:grpSpPr>
              <a:xfrm>
                <a:off x="1828440" y="3733920"/>
                <a:ext cx="304920" cy="304560"/>
                <a:chOff x="1828440" y="3733920"/>
                <a:chExt cx="304920" cy="30456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182844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1904760" y="38098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6" name=""/>
              <p:cNvGrpSpPr/>
              <p:nvPr/>
            </p:nvGrpSpPr>
            <p:grpSpPr>
              <a:xfrm>
                <a:off x="1828440" y="4038480"/>
                <a:ext cx="304920" cy="304560"/>
                <a:chOff x="1828440" y="4038480"/>
                <a:chExt cx="304920" cy="304560"/>
              </a:xfrm>
            </p:grpSpPr>
            <p:sp>
              <p:nvSpPr>
                <p:cNvPr id="1137" name=""/>
                <p:cNvSpPr/>
                <p:nvPr/>
              </p:nvSpPr>
              <p:spPr>
                <a:xfrm>
                  <a:off x="1828440" y="40384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1904760" y="411444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9" name=""/>
              <p:cNvGrpSpPr/>
              <p:nvPr/>
            </p:nvGrpSpPr>
            <p:grpSpPr>
              <a:xfrm>
                <a:off x="1828440" y="4343400"/>
                <a:ext cx="304920" cy="304560"/>
                <a:chOff x="1828440" y="4343400"/>
                <a:chExt cx="304920" cy="30456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1828440" y="43434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1904760" y="441936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1828440" y="4648320"/>
                <a:ext cx="304920" cy="304560"/>
                <a:chOff x="1828440" y="4648320"/>
                <a:chExt cx="304920" cy="3045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182844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1904760" y="4724280"/>
                  <a:ext cx="15228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1523880" y="3733920"/>
                <a:ext cx="304560" cy="304560"/>
                <a:chOff x="1523880" y="3733920"/>
                <a:chExt cx="304560" cy="30456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52388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1599840" y="38098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8" name=""/>
              <p:cNvGrpSpPr/>
              <p:nvPr/>
            </p:nvGrpSpPr>
            <p:grpSpPr>
              <a:xfrm>
                <a:off x="1523880" y="4038480"/>
                <a:ext cx="304560" cy="304560"/>
                <a:chOff x="1523880" y="4038480"/>
                <a:chExt cx="304560" cy="30456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1523880" y="40384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1599840" y="411444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1" name=""/>
              <p:cNvGrpSpPr/>
              <p:nvPr/>
            </p:nvGrpSpPr>
            <p:grpSpPr>
              <a:xfrm>
                <a:off x="1523880" y="4343400"/>
                <a:ext cx="304560" cy="304560"/>
                <a:chOff x="1523880" y="4343400"/>
                <a:chExt cx="304560" cy="304560"/>
              </a:xfrm>
            </p:grpSpPr>
            <p:sp>
              <p:nvSpPr>
                <p:cNvPr id="1152" name=""/>
                <p:cNvSpPr/>
                <p:nvPr/>
              </p:nvSpPr>
              <p:spPr>
                <a:xfrm>
                  <a:off x="1523880" y="43434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1599840" y="441936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4" name=""/>
              <p:cNvGrpSpPr/>
              <p:nvPr/>
            </p:nvGrpSpPr>
            <p:grpSpPr>
              <a:xfrm>
                <a:off x="1523880" y="4648320"/>
                <a:ext cx="304560" cy="304560"/>
                <a:chOff x="1523880" y="4648320"/>
                <a:chExt cx="304560" cy="30456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152388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1599840" y="4724280"/>
                  <a:ext cx="151920" cy="152640"/>
                </a:xfrm>
                <a:prstGeom prst="ellipse">
                  <a:avLst/>
                </a:prstGeom>
                <a:solidFill>
                  <a:srgbClr val="ffff66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57" name=""/>
            <p:cNvSpPr/>
            <p:nvPr/>
          </p:nvSpPr>
          <p:spPr>
            <a:xfrm>
              <a:off x="685800" y="332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Parallelis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533520" y="988200"/>
            <a:ext cx="798192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overlap execution of multiple 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machine has 32 elements per vector register and 8 la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0" name=""/>
          <p:cNvGrpSpPr/>
          <p:nvPr/>
        </p:nvGrpSpPr>
        <p:grpSpPr>
          <a:xfrm>
            <a:off x="685800" y="2154240"/>
            <a:ext cx="3276360" cy="1579680"/>
            <a:chOff x="685800" y="2154240"/>
            <a:chExt cx="3276360" cy="1579680"/>
          </a:xfrm>
        </p:grpSpPr>
        <p:grpSp>
          <p:nvGrpSpPr>
            <p:cNvPr id="1161" name=""/>
            <p:cNvGrpSpPr/>
            <p:nvPr/>
          </p:nvGrpSpPr>
          <p:grpSpPr>
            <a:xfrm>
              <a:off x="1523880" y="2514600"/>
              <a:ext cx="2438280" cy="1219320"/>
              <a:chOff x="1523880" y="2514600"/>
              <a:chExt cx="2438280" cy="1219320"/>
            </a:xfrm>
          </p:grpSpPr>
          <p:grpSp>
            <p:nvGrpSpPr>
              <p:cNvPr id="1162" name=""/>
              <p:cNvGrpSpPr/>
              <p:nvPr/>
            </p:nvGrpSpPr>
            <p:grpSpPr>
              <a:xfrm>
                <a:off x="3657240" y="2514600"/>
                <a:ext cx="304920" cy="304920"/>
                <a:chOff x="3657240" y="2514600"/>
                <a:chExt cx="304920" cy="304920"/>
              </a:xfrm>
            </p:grpSpPr>
            <p:sp>
              <p:nvSpPr>
                <p:cNvPr id="1163" name=""/>
                <p:cNvSpPr/>
                <p:nvPr/>
              </p:nvSpPr>
              <p:spPr>
                <a:xfrm>
                  <a:off x="36572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7335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5" name=""/>
              <p:cNvSpPr/>
              <p:nvPr/>
            </p:nvSpPr>
            <p:spPr>
              <a:xfrm>
                <a:off x="1523880" y="25146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6" name=""/>
              <p:cNvGrpSpPr/>
              <p:nvPr/>
            </p:nvGrpSpPr>
            <p:grpSpPr>
              <a:xfrm>
                <a:off x="3657240" y="2819520"/>
                <a:ext cx="304920" cy="304560"/>
                <a:chOff x="3657240" y="2819520"/>
                <a:chExt cx="304920" cy="30456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36572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37335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9" name=""/>
              <p:cNvGrpSpPr/>
              <p:nvPr/>
            </p:nvGrpSpPr>
            <p:grpSpPr>
              <a:xfrm>
                <a:off x="3657240" y="3124080"/>
                <a:ext cx="304920" cy="304920"/>
                <a:chOff x="3657240" y="3124080"/>
                <a:chExt cx="304920" cy="304920"/>
              </a:xfrm>
            </p:grpSpPr>
            <p:sp>
              <p:nvSpPr>
                <p:cNvPr id="1170" name=""/>
                <p:cNvSpPr/>
                <p:nvPr/>
              </p:nvSpPr>
              <p:spPr>
                <a:xfrm>
                  <a:off x="36572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37335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2" name=""/>
              <p:cNvGrpSpPr/>
              <p:nvPr/>
            </p:nvGrpSpPr>
            <p:grpSpPr>
              <a:xfrm>
                <a:off x="3657240" y="3429000"/>
                <a:ext cx="304920" cy="304920"/>
                <a:chOff x="3657240" y="3429000"/>
                <a:chExt cx="304920" cy="304920"/>
              </a:xfrm>
            </p:grpSpPr>
            <p:sp>
              <p:nvSpPr>
                <p:cNvPr id="1173" name=""/>
                <p:cNvSpPr/>
                <p:nvPr/>
              </p:nvSpPr>
              <p:spPr>
                <a:xfrm>
                  <a:off x="36572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37335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3352680" y="2514600"/>
                <a:ext cx="304560" cy="304920"/>
                <a:chOff x="3352680" y="2514600"/>
                <a:chExt cx="304560" cy="304920"/>
              </a:xfrm>
            </p:grpSpPr>
            <p:sp>
              <p:nvSpPr>
                <p:cNvPr id="1176" name=""/>
                <p:cNvSpPr/>
                <p:nvPr/>
              </p:nvSpPr>
              <p:spPr>
                <a:xfrm>
                  <a:off x="33526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34286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3352680" y="2819520"/>
                <a:ext cx="304560" cy="304560"/>
                <a:chOff x="3352680" y="2819520"/>
                <a:chExt cx="304560" cy="30456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33526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34286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1" name=""/>
              <p:cNvGrpSpPr/>
              <p:nvPr/>
            </p:nvGrpSpPr>
            <p:grpSpPr>
              <a:xfrm>
                <a:off x="3352680" y="3124080"/>
                <a:ext cx="304560" cy="304920"/>
                <a:chOff x="3352680" y="3124080"/>
                <a:chExt cx="304560" cy="304920"/>
              </a:xfrm>
            </p:grpSpPr>
            <p:sp>
              <p:nvSpPr>
                <p:cNvPr id="1182" name=""/>
                <p:cNvSpPr/>
                <p:nvPr/>
              </p:nvSpPr>
              <p:spPr>
                <a:xfrm>
                  <a:off x="33526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34286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4" name=""/>
              <p:cNvGrpSpPr/>
              <p:nvPr/>
            </p:nvGrpSpPr>
            <p:grpSpPr>
              <a:xfrm>
                <a:off x="3352680" y="3429000"/>
                <a:ext cx="304560" cy="304920"/>
                <a:chOff x="3352680" y="3429000"/>
                <a:chExt cx="304560" cy="304920"/>
              </a:xfrm>
            </p:grpSpPr>
            <p:sp>
              <p:nvSpPr>
                <p:cNvPr id="1185" name=""/>
                <p:cNvSpPr/>
                <p:nvPr/>
              </p:nvSpPr>
              <p:spPr>
                <a:xfrm>
                  <a:off x="33526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34286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3047760" y="2514600"/>
                <a:ext cx="304920" cy="304920"/>
                <a:chOff x="3047760" y="2514600"/>
                <a:chExt cx="304920" cy="30492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30477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1240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0" name=""/>
              <p:cNvGrpSpPr/>
              <p:nvPr/>
            </p:nvGrpSpPr>
            <p:grpSpPr>
              <a:xfrm>
                <a:off x="3047760" y="2819520"/>
                <a:ext cx="304920" cy="304560"/>
                <a:chOff x="3047760" y="2819520"/>
                <a:chExt cx="304920" cy="304560"/>
              </a:xfrm>
            </p:grpSpPr>
            <p:sp>
              <p:nvSpPr>
                <p:cNvPr id="1191" name=""/>
                <p:cNvSpPr/>
                <p:nvPr/>
              </p:nvSpPr>
              <p:spPr>
                <a:xfrm>
                  <a:off x="30477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31240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3" name=""/>
              <p:cNvGrpSpPr/>
              <p:nvPr/>
            </p:nvGrpSpPr>
            <p:grpSpPr>
              <a:xfrm>
                <a:off x="3047760" y="3124080"/>
                <a:ext cx="304920" cy="304920"/>
                <a:chOff x="3047760" y="3124080"/>
                <a:chExt cx="304920" cy="30492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30477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31240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6" name=""/>
              <p:cNvGrpSpPr/>
              <p:nvPr/>
            </p:nvGrpSpPr>
            <p:grpSpPr>
              <a:xfrm>
                <a:off x="3047760" y="3429000"/>
                <a:ext cx="304920" cy="304920"/>
                <a:chOff x="3047760" y="3429000"/>
                <a:chExt cx="304920" cy="304920"/>
              </a:xfrm>
            </p:grpSpPr>
            <p:sp>
              <p:nvSpPr>
                <p:cNvPr id="1197" name=""/>
                <p:cNvSpPr/>
                <p:nvPr/>
              </p:nvSpPr>
              <p:spPr>
                <a:xfrm>
                  <a:off x="30477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31240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9" name=""/>
              <p:cNvGrpSpPr/>
              <p:nvPr/>
            </p:nvGrpSpPr>
            <p:grpSpPr>
              <a:xfrm>
                <a:off x="2742840" y="2514600"/>
                <a:ext cx="304920" cy="304920"/>
                <a:chOff x="2742840" y="2514600"/>
                <a:chExt cx="304920" cy="304920"/>
              </a:xfrm>
            </p:grpSpPr>
            <p:sp>
              <p:nvSpPr>
                <p:cNvPr id="1200" name=""/>
                <p:cNvSpPr/>
                <p:nvPr/>
              </p:nvSpPr>
              <p:spPr>
                <a:xfrm>
                  <a:off x="27428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28191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2" name=""/>
              <p:cNvGrpSpPr/>
              <p:nvPr/>
            </p:nvGrpSpPr>
            <p:grpSpPr>
              <a:xfrm>
                <a:off x="2742840" y="2819520"/>
                <a:ext cx="304920" cy="304560"/>
                <a:chOff x="2742840" y="2819520"/>
                <a:chExt cx="304920" cy="304560"/>
              </a:xfrm>
            </p:grpSpPr>
            <p:sp>
              <p:nvSpPr>
                <p:cNvPr id="1203" name=""/>
                <p:cNvSpPr/>
                <p:nvPr/>
              </p:nvSpPr>
              <p:spPr>
                <a:xfrm>
                  <a:off x="27428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28191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2742840" y="3124080"/>
                <a:ext cx="304920" cy="304920"/>
                <a:chOff x="2742840" y="3124080"/>
                <a:chExt cx="304920" cy="30492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27428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28191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2742840" y="3429000"/>
                <a:ext cx="304920" cy="304920"/>
                <a:chOff x="2742840" y="3429000"/>
                <a:chExt cx="304920" cy="30492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27428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28191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1" name=""/>
              <p:cNvGrpSpPr/>
              <p:nvPr/>
            </p:nvGrpSpPr>
            <p:grpSpPr>
              <a:xfrm>
                <a:off x="2438280" y="2514600"/>
                <a:ext cx="304560" cy="304920"/>
                <a:chOff x="2438280" y="2514600"/>
                <a:chExt cx="304560" cy="304920"/>
              </a:xfrm>
            </p:grpSpPr>
            <p:sp>
              <p:nvSpPr>
                <p:cNvPr id="1212" name=""/>
                <p:cNvSpPr/>
                <p:nvPr/>
              </p:nvSpPr>
              <p:spPr>
                <a:xfrm>
                  <a:off x="24382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25142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4" name=""/>
              <p:cNvGrpSpPr/>
              <p:nvPr/>
            </p:nvGrpSpPr>
            <p:grpSpPr>
              <a:xfrm>
                <a:off x="2438280" y="2819520"/>
                <a:ext cx="304560" cy="304560"/>
                <a:chOff x="2438280" y="2819520"/>
                <a:chExt cx="304560" cy="304560"/>
              </a:xfrm>
            </p:grpSpPr>
            <p:sp>
              <p:nvSpPr>
                <p:cNvPr id="1215" name=""/>
                <p:cNvSpPr/>
                <p:nvPr/>
              </p:nvSpPr>
              <p:spPr>
                <a:xfrm>
                  <a:off x="24382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"/>
                <p:cNvSpPr/>
                <p:nvPr/>
              </p:nvSpPr>
              <p:spPr>
                <a:xfrm>
                  <a:off x="25142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7" name=""/>
              <p:cNvGrpSpPr/>
              <p:nvPr/>
            </p:nvGrpSpPr>
            <p:grpSpPr>
              <a:xfrm>
                <a:off x="2438280" y="3124080"/>
                <a:ext cx="304560" cy="304920"/>
                <a:chOff x="2438280" y="3124080"/>
                <a:chExt cx="304560" cy="304920"/>
              </a:xfrm>
            </p:grpSpPr>
            <p:sp>
              <p:nvSpPr>
                <p:cNvPr id="1218" name=""/>
                <p:cNvSpPr/>
                <p:nvPr/>
              </p:nvSpPr>
              <p:spPr>
                <a:xfrm>
                  <a:off x="24382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5142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0" name=""/>
              <p:cNvGrpSpPr/>
              <p:nvPr/>
            </p:nvGrpSpPr>
            <p:grpSpPr>
              <a:xfrm>
                <a:off x="2438280" y="3429000"/>
                <a:ext cx="304560" cy="304920"/>
                <a:chOff x="2438280" y="3429000"/>
                <a:chExt cx="304560" cy="304920"/>
              </a:xfrm>
            </p:grpSpPr>
            <p:sp>
              <p:nvSpPr>
                <p:cNvPr id="1221" name=""/>
                <p:cNvSpPr/>
                <p:nvPr/>
              </p:nvSpPr>
              <p:spPr>
                <a:xfrm>
                  <a:off x="24382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5142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133360" y="2514600"/>
                <a:ext cx="304920" cy="304920"/>
                <a:chOff x="2133360" y="2514600"/>
                <a:chExt cx="304920" cy="30492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13336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220968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6" name=""/>
              <p:cNvGrpSpPr/>
              <p:nvPr/>
            </p:nvGrpSpPr>
            <p:grpSpPr>
              <a:xfrm>
                <a:off x="2133360" y="2819520"/>
                <a:ext cx="304920" cy="304560"/>
                <a:chOff x="2133360" y="2819520"/>
                <a:chExt cx="304920" cy="304560"/>
              </a:xfrm>
            </p:grpSpPr>
            <p:sp>
              <p:nvSpPr>
                <p:cNvPr id="1227" name=""/>
                <p:cNvSpPr/>
                <p:nvPr/>
              </p:nvSpPr>
              <p:spPr>
                <a:xfrm>
                  <a:off x="213336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220968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9" name=""/>
              <p:cNvGrpSpPr/>
              <p:nvPr/>
            </p:nvGrpSpPr>
            <p:grpSpPr>
              <a:xfrm>
                <a:off x="2133360" y="3124080"/>
                <a:ext cx="304920" cy="304920"/>
                <a:chOff x="2133360" y="3124080"/>
                <a:chExt cx="304920" cy="304920"/>
              </a:xfrm>
            </p:grpSpPr>
            <p:sp>
              <p:nvSpPr>
                <p:cNvPr id="1230" name=""/>
                <p:cNvSpPr/>
                <p:nvPr/>
              </p:nvSpPr>
              <p:spPr>
                <a:xfrm>
                  <a:off x="213336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220968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2" name=""/>
              <p:cNvGrpSpPr/>
              <p:nvPr/>
            </p:nvGrpSpPr>
            <p:grpSpPr>
              <a:xfrm>
                <a:off x="2133360" y="3429000"/>
                <a:ext cx="304920" cy="304920"/>
                <a:chOff x="2133360" y="3429000"/>
                <a:chExt cx="304920" cy="304920"/>
              </a:xfrm>
            </p:grpSpPr>
            <p:sp>
              <p:nvSpPr>
                <p:cNvPr id="1233" name=""/>
                <p:cNvSpPr/>
                <p:nvPr/>
              </p:nvSpPr>
              <p:spPr>
                <a:xfrm>
                  <a:off x="213336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220968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5" name=""/>
              <p:cNvGrpSpPr/>
              <p:nvPr/>
            </p:nvGrpSpPr>
            <p:grpSpPr>
              <a:xfrm>
                <a:off x="1828440" y="2514600"/>
                <a:ext cx="304920" cy="304920"/>
                <a:chOff x="1828440" y="2514600"/>
                <a:chExt cx="304920" cy="30492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1828440" y="25146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1904760" y="25909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8" name=""/>
              <p:cNvGrpSpPr/>
              <p:nvPr/>
            </p:nvGrpSpPr>
            <p:grpSpPr>
              <a:xfrm>
                <a:off x="1828440" y="2819520"/>
                <a:ext cx="304920" cy="304560"/>
                <a:chOff x="1828440" y="2819520"/>
                <a:chExt cx="304920" cy="304560"/>
              </a:xfrm>
            </p:grpSpPr>
            <p:sp>
              <p:nvSpPr>
                <p:cNvPr id="1239" name=""/>
                <p:cNvSpPr/>
                <p:nvPr/>
              </p:nvSpPr>
              <p:spPr>
                <a:xfrm>
                  <a:off x="182844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1904760" y="2895480"/>
                  <a:ext cx="15228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1" name=""/>
              <p:cNvGrpSpPr/>
              <p:nvPr/>
            </p:nvGrpSpPr>
            <p:grpSpPr>
              <a:xfrm>
                <a:off x="1828440" y="3124080"/>
                <a:ext cx="304920" cy="304920"/>
                <a:chOff x="1828440" y="3124080"/>
                <a:chExt cx="304920" cy="304920"/>
              </a:xfrm>
            </p:grpSpPr>
            <p:sp>
              <p:nvSpPr>
                <p:cNvPr id="1242" name=""/>
                <p:cNvSpPr/>
                <p:nvPr/>
              </p:nvSpPr>
              <p:spPr>
                <a:xfrm>
                  <a:off x="1828440" y="31240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1904760" y="320040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1828440" y="3429000"/>
                <a:ext cx="304920" cy="304920"/>
                <a:chOff x="1828440" y="3429000"/>
                <a:chExt cx="304920" cy="30492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1828440" y="34290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1904760" y="3505320"/>
                  <a:ext cx="15228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7" name=""/>
              <p:cNvGrpSpPr/>
              <p:nvPr/>
            </p:nvGrpSpPr>
            <p:grpSpPr>
              <a:xfrm>
                <a:off x="1523880" y="2514600"/>
                <a:ext cx="304560" cy="304920"/>
                <a:chOff x="1523880" y="2514600"/>
                <a:chExt cx="304560" cy="3049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1523880" y="25146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1599840" y="25909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0" name=""/>
              <p:cNvGrpSpPr/>
              <p:nvPr/>
            </p:nvGrpSpPr>
            <p:grpSpPr>
              <a:xfrm>
                <a:off x="1523880" y="2819520"/>
                <a:ext cx="304560" cy="304560"/>
                <a:chOff x="1523880" y="2819520"/>
                <a:chExt cx="304560" cy="304560"/>
              </a:xfrm>
            </p:grpSpPr>
            <p:sp>
              <p:nvSpPr>
                <p:cNvPr id="1251" name=""/>
                <p:cNvSpPr/>
                <p:nvPr/>
              </p:nvSpPr>
              <p:spPr>
                <a:xfrm>
                  <a:off x="152388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99840" y="2895480"/>
                  <a:ext cx="151920" cy="15192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3" name=""/>
              <p:cNvGrpSpPr/>
              <p:nvPr/>
            </p:nvGrpSpPr>
            <p:grpSpPr>
              <a:xfrm>
                <a:off x="1523880" y="3124080"/>
                <a:ext cx="304560" cy="304920"/>
                <a:chOff x="1523880" y="3124080"/>
                <a:chExt cx="304560" cy="30492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152388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1599840" y="320040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6" name=""/>
              <p:cNvGrpSpPr/>
              <p:nvPr/>
            </p:nvGrpSpPr>
            <p:grpSpPr>
              <a:xfrm>
                <a:off x="1523880" y="3429000"/>
                <a:ext cx="304560" cy="304920"/>
                <a:chOff x="1523880" y="3429000"/>
                <a:chExt cx="304560" cy="304920"/>
              </a:xfrm>
            </p:grpSpPr>
            <p:sp>
              <p:nvSpPr>
                <p:cNvPr id="1257" name=""/>
                <p:cNvSpPr/>
                <p:nvPr/>
              </p:nvSpPr>
              <p:spPr>
                <a:xfrm>
                  <a:off x="152388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8" name=""/>
                <p:cNvSpPr/>
                <p:nvPr/>
              </p:nvSpPr>
              <p:spPr>
                <a:xfrm>
                  <a:off x="1599840" y="3505320"/>
                  <a:ext cx="151920" cy="152280"/>
                </a:xfrm>
                <a:prstGeom prst="ellipse">
                  <a:avLst/>
                </a:prstGeom>
                <a:solidFill>
                  <a:srgbClr val="618ff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9" name=""/>
            <p:cNvSpPr/>
            <p:nvPr/>
          </p:nvSpPr>
          <p:spPr>
            <a:xfrm>
              <a:off x="685800" y="2154240"/>
              <a:ext cx="838080" cy="797040"/>
            </a:xfrm>
            <a:prstGeom prst="rightArrow">
              <a:avLst>
                <a:gd name="adj1" fmla="val 50000"/>
                <a:gd name="adj2" fmla="val 26287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0" name=""/>
          <p:cNvGrpSpPr/>
          <p:nvPr/>
        </p:nvGrpSpPr>
        <p:grpSpPr>
          <a:xfrm>
            <a:off x="3200400" y="2409840"/>
            <a:ext cx="3200400" cy="1628640"/>
            <a:chOff x="3200400" y="2409840"/>
            <a:chExt cx="3200400" cy="1628640"/>
          </a:xfrm>
        </p:grpSpPr>
        <p:grpSp>
          <p:nvGrpSpPr>
            <p:cNvPr id="1261" name=""/>
            <p:cNvGrpSpPr/>
            <p:nvPr/>
          </p:nvGrpSpPr>
          <p:grpSpPr>
            <a:xfrm>
              <a:off x="3962520" y="2819520"/>
              <a:ext cx="2438280" cy="1218960"/>
              <a:chOff x="3962520" y="2819520"/>
              <a:chExt cx="2438280" cy="1218960"/>
            </a:xfrm>
          </p:grpSpPr>
          <p:grpSp>
            <p:nvGrpSpPr>
              <p:cNvPr id="1262" name=""/>
              <p:cNvGrpSpPr/>
              <p:nvPr/>
            </p:nvGrpSpPr>
            <p:grpSpPr>
              <a:xfrm>
                <a:off x="3962520" y="2819520"/>
                <a:ext cx="304920" cy="304560"/>
                <a:chOff x="3962520" y="2819520"/>
                <a:chExt cx="304920" cy="30456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39625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40388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5" name=""/>
              <p:cNvSpPr/>
              <p:nvPr/>
            </p:nvSpPr>
            <p:spPr>
              <a:xfrm>
                <a:off x="3962520" y="2819520"/>
                <a:ext cx="2438280" cy="12189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6" name=""/>
              <p:cNvGrpSpPr/>
              <p:nvPr/>
            </p:nvGrpSpPr>
            <p:grpSpPr>
              <a:xfrm>
                <a:off x="3962520" y="3124080"/>
                <a:ext cx="304920" cy="304560"/>
                <a:chOff x="3962520" y="3124080"/>
                <a:chExt cx="304920" cy="3045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39625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40388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3962520" y="3429000"/>
                <a:ext cx="304920" cy="304560"/>
                <a:chOff x="3962520" y="3429000"/>
                <a:chExt cx="304920" cy="3045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39625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0388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3962520" y="3733920"/>
                <a:ext cx="304920" cy="304560"/>
                <a:chOff x="3962520" y="3733920"/>
                <a:chExt cx="304920" cy="30456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39625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40388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4267440" y="2819520"/>
                <a:ext cx="304560" cy="304560"/>
                <a:chOff x="4267440" y="2819520"/>
                <a:chExt cx="304560" cy="30456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42674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43434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267440" y="3124080"/>
                <a:ext cx="304560" cy="304560"/>
                <a:chOff x="4267440" y="3124080"/>
                <a:chExt cx="304560" cy="30456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2674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3434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1" name=""/>
              <p:cNvGrpSpPr/>
              <p:nvPr/>
            </p:nvGrpSpPr>
            <p:grpSpPr>
              <a:xfrm>
                <a:off x="4267440" y="3429000"/>
                <a:ext cx="304560" cy="304560"/>
                <a:chOff x="4267440" y="3429000"/>
                <a:chExt cx="304560" cy="304560"/>
              </a:xfrm>
            </p:grpSpPr>
            <p:sp>
              <p:nvSpPr>
                <p:cNvPr id="1282" name=""/>
                <p:cNvSpPr/>
                <p:nvPr/>
              </p:nvSpPr>
              <p:spPr>
                <a:xfrm>
                  <a:off x="42674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43434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4" name=""/>
              <p:cNvGrpSpPr/>
              <p:nvPr/>
            </p:nvGrpSpPr>
            <p:grpSpPr>
              <a:xfrm>
                <a:off x="4267440" y="3733920"/>
                <a:ext cx="304560" cy="304560"/>
                <a:chOff x="4267440" y="3733920"/>
                <a:chExt cx="304560" cy="304560"/>
              </a:xfrm>
            </p:grpSpPr>
            <p:sp>
              <p:nvSpPr>
                <p:cNvPr id="1285" name=""/>
                <p:cNvSpPr/>
                <p:nvPr/>
              </p:nvSpPr>
              <p:spPr>
                <a:xfrm>
                  <a:off x="42674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43434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4572000" y="2819520"/>
                <a:ext cx="304920" cy="304560"/>
                <a:chOff x="4572000" y="2819520"/>
                <a:chExt cx="304920" cy="30456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45720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46483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0" name=""/>
              <p:cNvGrpSpPr/>
              <p:nvPr/>
            </p:nvGrpSpPr>
            <p:grpSpPr>
              <a:xfrm>
                <a:off x="4572000" y="3124080"/>
                <a:ext cx="304920" cy="304560"/>
                <a:chOff x="4572000" y="3124080"/>
                <a:chExt cx="304920" cy="304560"/>
              </a:xfrm>
            </p:grpSpPr>
            <p:sp>
              <p:nvSpPr>
                <p:cNvPr id="1291" name=""/>
                <p:cNvSpPr/>
                <p:nvPr/>
              </p:nvSpPr>
              <p:spPr>
                <a:xfrm>
                  <a:off x="45720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46483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3" name=""/>
              <p:cNvGrpSpPr/>
              <p:nvPr/>
            </p:nvGrpSpPr>
            <p:grpSpPr>
              <a:xfrm>
                <a:off x="4572000" y="3429000"/>
                <a:ext cx="304920" cy="304560"/>
                <a:chOff x="4572000" y="3429000"/>
                <a:chExt cx="304920" cy="304560"/>
              </a:xfrm>
            </p:grpSpPr>
            <p:sp>
              <p:nvSpPr>
                <p:cNvPr id="1294" name=""/>
                <p:cNvSpPr/>
                <p:nvPr/>
              </p:nvSpPr>
              <p:spPr>
                <a:xfrm>
                  <a:off x="45720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5" name=""/>
                <p:cNvSpPr/>
                <p:nvPr/>
              </p:nvSpPr>
              <p:spPr>
                <a:xfrm>
                  <a:off x="46483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6" name=""/>
              <p:cNvGrpSpPr/>
              <p:nvPr/>
            </p:nvGrpSpPr>
            <p:grpSpPr>
              <a:xfrm>
                <a:off x="4572000" y="3733920"/>
                <a:ext cx="304920" cy="304560"/>
                <a:chOff x="4572000" y="3733920"/>
                <a:chExt cx="304920" cy="30456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45720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46483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4876920" y="2819520"/>
                <a:ext cx="304920" cy="304560"/>
                <a:chOff x="4876920" y="2819520"/>
                <a:chExt cx="304920" cy="30456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48769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49532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4876920" y="3124080"/>
                <a:ext cx="304920" cy="304560"/>
                <a:chOff x="4876920" y="3124080"/>
                <a:chExt cx="304920" cy="30456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48769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9532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4876920" y="3429000"/>
                <a:ext cx="304920" cy="304560"/>
                <a:chOff x="4876920" y="3429000"/>
                <a:chExt cx="304920" cy="304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48769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9532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876920" y="3733920"/>
                <a:ext cx="304920" cy="304560"/>
                <a:chOff x="4876920" y="3733920"/>
                <a:chExt cx="304920" cy="30456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8769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49532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5181840" y="2819520"/>
                <a:ext cx="304560" cy="304560"/>
                <a:chOff x="5181840" y="2819520"/>
                <a:chExt cx="304560" cy="30456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51818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52578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5181840" y="3124080"/>
                <a:ext cx="304560" cy="304560"/>
                <a:chOff x="5181840" y="3124080"/>
                <a:chExt cx="304560" cy="30456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51818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52578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5181840" y="3429000"/>
                <a:ext cx="304560" cy="304560"/>
                <a:chOff x="5181840" y="3429000"/>
                <a:chExt cx="304560" cy="30456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51818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2578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0" name=""/>
              <p:cNvGrpSpPr/>
              <p:nvPr/>
            </p:nvGrpSpPr>
            <p:grpSpPr>
              <a:xfrm>
                <a:off x="5181840" y="3733920"/>
                <a:ext cx="304560" cy="304560"/>
                <a:chOff x="5181840" y="3733920"/>
                <a:chExt cx="304560" cy="30456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5181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52578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5486400" y="2819520"/>
                <a:ext cx="304920" cy="304560"/>
                <a:chOff x="5486400" y="2819520"/>
                <a:chExt cx="304920" cy="30456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548640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556272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5486400" y="3124080"/>
                <a:ext cx="304920" cy="304560"/>
                <a:chOff x="5486400" y="3124080"/>
                <a:chExt cx="304920" cy="304560"/>
              </a:xfrm>
            </p:grpSpPr>
            <p:sp>
              <p:nvSpPr>
                <p:cNvPr id="1327" name=""/>
                <p:cNvSpPr/>
                <p:nvPr/>
              </p:nvSpPr>
              <p:spPr>
                <a:xfrm>
                  <a:off x="548640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556272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5486400" y="3429000"/>
                <a:ext cx="304920" cy="304560"/>
                <a:chOff x="5486400" y="3429000"/>
                <a:chExt cx="304920" cy="30456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548640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556272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2" name=""/>
              <p:cNvGrpSpPr/>
              <p:nvPr/>
            </p:nvGrpSpPr>
            <p:grpSpPr>
              <a:xfrm>
                <a:off x="5486400" y="3733920"/>
                <a:ext cx="304920" cy="304560"/>
                <a:chOff x="5486400" y="3733920"/>
                <a:chExt cx="304920" cy="304560"/>
              </a:xfrm>
            </p:grpSpPr>
            <p:sp>
              <p:nvSpPr>
                <p:cNvPr id="1333" name=""/>
                <p:cNvSpPr/>
                <p:nvPr/>
              </p:nvSpPr>
              <p:spPr>
                <a:xfrm>
                  <a:off x="548640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556272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5" name=""/>
              <p:cNvGrpSpPr/>
              <p:nvPr/>
            </p:nvGrpSpPr>
            <p:grpSpPr>
              <a:xfrm>
                <a:off x="5791320" y="2819520"/>
                <a:ext cx="304920" cy="304560"/>
                <a:chOff x="5791320" y="2819520"/>
                <a:chExt cx="304920" cy="304560"/>
              </a:xfrm>
            </p:grpSpPr>
            <p:sp>
              <p:nvSpPr>
                <p:cNvPr id="1336" name=""/>
                <p:cNvSpPr/>
                <p:nvPr/>
              </p:nvSpPr>
              <p:spPr>
                <a:xfrm>
                  <a:off x="5791320" y="28195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5867640" y="28954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8" name=""/>
              <p:cNvGrpSpPr/>
              <p:nvPr/>
            </p:nvGrpSpPr>
            <p:grpSpPr>
              <a:xfrm>
                <a:off x="5791320" y="3124080"/>
                <a:ext cx="304920" cy="304560"/>
                <a:chOff x="5791320" y="3124080"/>
                <a:chExt cx="304920" cy="30456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5791320" y="31240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5867640" y="320004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1" name=""/>
              <p:cNvGrpSpPr/>
              <p:nvPr/>
            </p:nvGrpSpPr>
            <p:grpSpPr>
              <a:xfrm>
                <a:off x="5791320" y="3429000"/>
                <a:ext cx="304920" cy="304560"/>
                <a:chOff x="5791320" y="3429000"/>
                <a:chExt cx="304920" cy="304560"/>
              </a:xfrm>
            </p:grpSpPr>
            <p:sp>
              <p:nvSpPr>
                <p:cNvPr id="1342" name=""/>
                <p:cNvSpPr/>
                <p:nvPr/>
              </p:nvSpPr>
              <p:spPr>
                <a:xfrm>
                  <a:off x="5791320" y="342900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3" name=""/>
                <p:cNvSpPr/>
                <p:nvPr/>
              </p:nvSpPr>
              <p:spPr>
                <a:xfrm>
                  <a:off x="5867640" y="350496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4" name=""/>
              <p:cNvGrpSpPr/>
              <p:nvPr/>
            </p:nvGrpSpPr>
            <p:grpSpPr>
              <a:xfrm>
                <a:off x="5791320" y="3733920"/>
                <a:ext cx="304920" cy="304560"/>
                <a:chOff x="5791320" y="3733920"/>
                <a:chExt cx="304920" cy="304560"/>
              </a:xfrm>
            </p:grpSpPr>
            <p:sp>
              <p:nvSpPr>
                <p:cNvPr id="1345" name=""/>
                <p:cNvSpPr/>
                <p:nvPr/>
              </p:nvSpPr>
              <p:spPr>
                <a:xfrm>
                  <a:off x="5791320" y="37339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5867640" y="3809880"/>
                  <a:ext cx="15228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7" name=""/>
              <p:cNvGrpSpPr/>
              <p:nvPr/>
            </p:nvGrpSpPr>
            <p:grpSpPr>
              <a:xfrm>
                <a:off x="6096240" y="2819520"/>
                <a:ext cx="304560" cy="304560"/>
                <a:chOff x="6096240" y="2819520"/>
                <a:chExt cx="304560" cy="304560"/>
              </a:xfrm>
            </p:grpSpPr>
            <p:sp>
              <p:nvSpPr>
                <p:cNvPr id="1348" name=""/>
                <p:cNvSpPr/>
                <p:nvPr/>
              </p:nvSpPr>
              <p:spPr>
                <a:xfrm>
                  <a:off x="6096240" y="28195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6172200" y="28954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6096240" y="3124080"/>
                <a:ext cx="304560" cy="304560"/>
                <a:chOff x="6096240" y="3124080"/>
                <a:chExt cx="304560" cy="30456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6096240" y="31240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172200" y="320004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096240" y="3429000"/>
                <a:ext cx="304560" cy="304560"/>
                <a:chOff x="6096240" y="3429000"/>
                <a:chExt cx="304560" cy="30456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096240" y="342900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172200" y="350496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6" name=""/>
              <p:cNvGrpSpPr/>
              <p:nvPr/>
            </p:nvGrpSpPr>
            <p:grpSpPr>
              <a:xfrm>
                <a:off x="6096240" y="3733920"/>
                <a:ext cx="304560" cy="304560"/>
                <a:chOff x="6096240" y="3733920"/>
                <a:chExt cx="304560" cy="304560"/>
              </a:xfrm>
            </p:grpSpPr>
            <p:sp>
              <p:nvSpPr>
                <p:cNvPr id="1357" name=""/>
                <p:cNvSpPr/>
                <p:nvPr/>
              </p:nvSpPr>
              <p:spPr>
                <a:xfrm>
                  <a:off x="6096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6172200" y="3809880"/>
                  <a:ext cx="151920" cy="15264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fc0128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59" name=""/>
            <p:cNvSpPr/>
            <p:nvPr/>
          </p:nvSpPr>
          <p:spPr>
            <a:xfrm>
              <a:off x="3200400" y="24098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0" name=""/>
          <p:cNvGrpSpPr/>
          <p:nvPr/>
        </p:nvGrpSpPr>
        <p:grpSpPr>
          <a:xfrm>
            <a:off x="3200400" y="3629160"/>
            <a:ext cx="3200400" cy="1628640"/>
            <a:chOff x="3200400" y="3629160"/>
            <a:chExt cx="3200400" cy="1628640"/>
          </a:xfrm>
        </p:grpSpPr>
        <p:grpSp>
          <p:nvGrpSpPr>
            <p:cNvPr id="1361" name=""/>
            <p:cNvGrpSpPr/>
            <p:nvPr/>
          </p:nvGrpSpPr>
          <p:grpSpPr>
            <a:xfrm>
              <a:off x="3962520" y="4038480"/>
              <a:ext cx="2438280" cy="1219320"/>
              <a:chOff x="3962520" y="4038480"/>
              <a:chExt cx="2438280" cy="1219320"/>
            </a:xfrm>
          </p:grpSpPr>
          <p:grpSp>
            <p:nvGrpSpPr>
              <p:cNvPr id="1362" name=""/>
              <p:cNvGrpSpPr/>
              <p:nvPr/>
            </p:nvGrpSpPr>
            <p:grpSpPr>
              <a:xfrm>
                <a:off x="3962520" y="4038480"/>
                <a:ext cx="304920" cy="304920"/>
                <a:chOff x="3962520" y="4038480"/>
                <a:chExt cx="304920" cy="304920"/>
              </a:xfrm>
            </p:grpSpPr>
            <p:sp>
              <p:nvSpPr>
                <p:cNvPr id="1363" name=""/>
                <p:cNvSpPr/>
                <p:nvPr/>
              </p:nvSpPr>
              <p:spPr>
                <a:xfrm>
                  <a:off x="39625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40388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65" name=""/>
              <p:cNvSpPr/>
              <p:nvPr/>
            </p:nvSpPr>
            <p:spPr>
              <a:xfrm>
                <a:off x="3962520" y="40384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66" name=""/>
              <p:cNvGrpSpPr/>
              <p:nvPr/>
            </p:nvGrpSpPr>
            <p:grpSpPr>
              <a:xfrm>
                <a:off x="3962520" y="4343400"/>
                <a:ext cx="304920" cy="304920"/>
                <a:chOff x="3962520" y="4343400"/>
                <a:chExt cx="304920" cy="3049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39625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40388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9" name=""/>
              <p:cNvGrpSpPr/>
              <p:nvPr/>
            </p:nvGrpSpPr>
            <p:grpSpPr>
              <a:xfrm>
                <a:off x="3962520" y="4648320"/>
                <a:ext cx="304920" cy="304560"/>
                <a:chOff x="3962520" y="4648320"/>
                <a:chExt cx="304920" cy="30456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39625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40388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962520" y="4952880"/>
                <a:ext cx="304920" cy="304920"/>
                <a:chOff x="3962520" y="4952880"/>
                <a:chExt cx="304920" cy="30492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9625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0388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5" name=""/>
              <p:cNvGrpSpPr/>
              <p:nvPr/>
            </p:nvGrpSpPr>
            <p:grpSpPr>
              <a:xfrm>
                <a:off x="4267440" y="4038480"/>
                <a:ext cx="304560" cy="304920"/>
                <a:chOff x="4267440" y="4038480"/>
                <a:chExt cx="304560" cy="304920"/>
              </a:xfrm>
            </p:grpSpPr>
            <p:sp>
              <p:nvSpPr>
                <p:cNvPr id="1376" name=""/>
                <p:cNvSpPr/>
                <p:nvPr/>
              </p:nvSpPr>
              <p:spPr>
                <a:xfrm>
                  <a:off x="42674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43434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8" name=""/>
              <p:cNvGrpSpPr/>
              <p:nvPr/>
            </p:nvGrpSpPr>
            <p:grpSpPr>
              <a:xfrm>
                <a:off x="4267440" y="4343400"/>
                <a:ext cx="304560" cy="304920"/>
                <a:chOff x="4267440" y="4343400"/>
                <a:chExt cx="304560" cy="304920"/>
              </a:xfrm>
            </p:grpSpPr>
            <p:sp>
              <p:nvSpPr>
                <p:cNvPr id="1379" name=""/>
                <p:cNvSpPr/>
                <p:nvPr/>
              </p:nvSpPr>
              <p:spPr>
                <a:xfrm>
                  <a:off x="42674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0" name=""/>
                <p:cNvSpPr/>
                <p:nvPr/>
              </p:nvSpPr>
              <p:spPr>
                <a:xfrm>
                  <a:off x="43434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1" name=""/>
              <p:cNvGrpSpPr/>
              <p:nvPr/>
            </p:nvGrpSpPr>
            <p:grpSpPr>
              <a:xfrm>
                <a:off x="4267440" y="4648320"/>
                <a:ext cx="304560" cy="304560"/>
                <a:chOff x="4267440" y="4648320"/>
                <a:chExt cx="304560" cy="304560"/>
              </a:xfrm>
            </p:grpSpPr>
            <p:sp>
              <p:nvSpPr>
                <p:cNvPr id="1382" name=""/>
                <p:cNvSpPr/>
                <p:nvPr/>
              </p:nvSpPr>
              <p:spPr>
                <a:xfrm>
                  <a:off x="42674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3434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4" name=""/>
              <p:cNvGrpSpPr/>
              <p:nvPr/>
            </p:nvGrpSpPr>
            <p:grpSpPr>
              <a:xfrm>
                <a:off x="4267440" y="4952880"/>
                <a:ext cx="304560" cy="304920"/>
                <a:chOff x="4267440" y="4952880"/>
                <a:chExt cx="304560" cy="3049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42674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43434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7" name=""/>
              <p:cNvGrpSpPr/>
              <p:nvPr/>
            </p:nvGrpSpPr>
            <p:grpSpPr>
              <a:xfrm>
                <a:off x="4572000" y="4038480"/>
                <a:ext cx="304920" cy="304920"/>
                <a:chOff x="4572000" y="4038480"/>
                <a:chExt cx="304920" cy="304920"/>
              </a:xfrm>
            </p:grpSpPr>
            <p:sp>
              <p:nvSpPr>
                <p:cNvPr id="1388" name=""/>
                <p:cNvSpPr/>
                <p:nvPr/>
              </p:nvSpPr>
              <p:spPr>
                <a:xfrm>
                  <a:off x="45720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46483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0" name=""/>
              <p:cNvGrpSpPr/>
              <p:nvPr/>
            </p:nvGrpSpPr>
            <p:grpSpPr>
              <a:xfrm>
                <a:off x="4572000" y="4343400"/>
                <a:ext cx="304920" cy="304920"/>
                <a:chOff x="4572000" y="4343400"/>
                <a:chExt cx="304920" cy="304920"/>
              </a:xfrm>
            </p:grpSpPr>
            <p:sp>
              <p:nvSpPr>
                <p:cNvPr id="1391" name=""/>
                <p:cNvSpPr/>
                <p:nvPr/>
              </p:nvSpPr>
              <p:spPr>
                <a:xfrm>
                  <a:off x="45720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46483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4572000" y="4648320"/>
                <a:ext cx="304920" cy="304560"/>
                <a:chOff x="4572000" y="4648320"/>
                <a:chExt cx="304920" cy="30456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45720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46483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6" name=""/>
              <p:cNvGrpSpPr/>
              <p:nvPr/>
            </p:nvGrpSpPr>
            <p:grpSpPr>
              <a:xfrm>
                <a:off x="4572000" y="4952880"/>
                <a:ext cx="304920" cy="304920"/>
                <a:chOff x="4572000" y="4952880"/>
                <a:chExt cx="304920" cy="3049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45720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46483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9" name=""/>
              <p:cNvGrpSpPr/>
              <p:nvPr/>
            </p:nvGrpSpPr>
            <p:grpSpPr>
              <a:xfrm>
                <a:off x="4876920" y="4038480"/>
                <a:ext cx="304920" cy="304920"/>
                <a:chOff x="4876920" y="4038480"/>
                <a:chExt cx="304920" cy="304920"/>
              </a:xfrm>
            </p:grpSpPr>
            <p:sp>
              <p:nvSpPr>
                <p:cNvPr id="1400" name=""/>
                <p:cNvSpPr/>
                <p:nvPr/>
              </p:nvSpPr>
              <p:spPr>
                <a:xfrm>
                  <a:off x="48769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1" name=""/>
                <p:cNvSpPr/>
                <p:nvPr/>
              </p:nvSpPr>
              <p:spPr>
                <a:xfrm>
                  <a:off x="49532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2" name=""/>
              <p:cNvGrpSpPr/>
              <p:nvPr/>
            </p:nvGrpSpPr>
            <p:grpSpPr>
              <a:xfrm>
                <a:off x="4876920" y="4343400"/>
                <a:ext cx="304920" cy="304920"/>
                <a:chOff x="4876920" y="4343400"/>
                <a:chExt cx="304920" cy="304920"/>
              </a:xfrm>
            </p:grpSpPr>
            <p:sp>
              <p:nvSpPr>
                <p:cNvPr id="1403" name=""/>
                <p:cNvSpPr/>
                <p:nvPr/>
              </p:nvSpPr>
              <p:spPr>
                <a:xfrm>
                  <a:off x="48769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49532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5" name=""/>
              <p:cNvGrpSpPr/>
              <p:nvPr/>
            </p:nvGrpSpPr>
            <p:grpSpPr>
              <a:xfrm>
                <a:off x="4876920" y="4648320"/>
                <a:ext cx="304920" cy="304560"/>
                <a:chOff x="4876920" y="4648320"/>
                <a:chExt cx="304920" cy="304560"/>
              </a:xfrm>
            </p:grpSpPr>
            <p:sp>
              <p:nvSpPr>
                <p:cNvPr id="1406" name=""/>
                <p:cNvSpPr/>
                <p:nvPr/>
              </p:nvSpPr>
              <p:spPr>
                <a:xfrm>
                  <a:off x="48769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49532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8" name=""/>
              <p:cNvGrpSpPr/>
              <p:nvPr/>
            </p:nvGrpSpPr>
            <p:grpSpPr>
              <a:xfrm>
                <a:off x="4876920" y="4952880"/>
                <a:ext cx="304920" cy="304920"/>
                <a:chOff x="4876920" y="4952880"/>
                <a:chExt cx="304920" cy="304920"/>
              </a:xfrm>
            </p:grpSpPr>
            <p:sp>
              <p:nvSpPr>
                <p:cNvPr id="1409" name=""/>
                <p:cNvSpPr/>
                <p:nvPr/>
              </p:nvSpPr>
              <p:spPr>
                <a:xfrm>
                  <a:off x="48769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49532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1" name=""/>
              <p:cNvGrpSpPr/>
              <p:nvPr/>
            </p:nvGrpSpPr>
            <p:grpSpPr>
              <a:xfrm>
                <a:off x="5181840" y="4038480"/>
                <a:ext cx="304560" cy="304920"/>
                <a:chOff x="5181840" y="4038480"/>
                <a:chExt cx="304560" cy="304920"/>
              </a:xfrm>
            </p:grpSpPr>
            <p:sp>
              <p:nvSpPr>
                <p:cNvPr id="1412" name=""/>
                <p:cNvSpPr/>
                <p:nvPr/>
              </p:nvSpPr>
              <p:spPr>
                <a:xfrm>
                  <a:off x="5181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52578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5181840" y="4343400"/>
                <a:ext cx="304560" cy="304920"/>
                <a:chOff x="5181840" y="4343400"/>
                <a:chExt cx="304560" cy="30492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5181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52578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7" name=""/>
              <p:cNvGrpSpPr/>
              <p:nvPr/>
            </p:nvGrpSpPr>
            <p:grpSpPr>
              <a:xfrm>
                <a:off x="5181840" y="4648320"/>
                <a:ext cx="304560" cy="304560"/>
                <a:chOff x="5181840" y="4648320"/>
                <a:chExt cx="304560" cy="30456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5181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52578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0" name=""/>
              <p:cNvGrpSpPr/>
              <p:nvPr/>
            </p:nvGrpSpPr>
            <p:grpSpPr>
              <a:xfrm>
                <a:off x="5181840" y="4952880"/>
                <a:ext cx="304560" cy="304920"/>
                <a:chOff x="5181840" y="4952880"/>
                <a:chExt cx="304560" cy="304920"/>
              </a:xfrm>
            </p:grpSpPr>
            <p:sp>
              <p:nvSpPr>
                <p:cNvPr id="1421" name=""/>
                <p:cNvSpPr/>
                <p:nvPr/>
              </p:nvSpPr>
              <p:spPr>
                <a:xfrm>
                  <a:off x="5181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52578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3" name=""/>
              <p:cNvGrpSpPr/>
              <p:nvPr/>
            </p:nvGrpSpPr>
            <p:grpSpPr>
              <a:xfrm>
                <a:off x="5486400" y="4038480"/>
                <a:ext cx="304920" cy="304920"/>
                <a:chOff x="5486400" y="4038480"/>
                <a:chExt cx="304920" cy="304920"/>
              </a:xfrm>
            </p:grpSpPr>
            <p:sp>
              <p:nvSpPr>
                <p:cNvPr id="1424" name=""/>
                <p:cNvSpPr/>
                <p:nvPr/>
              </p:nvSpPr>
              <p:spPr>
                <a:xfrm>
                  <a:off x="548640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556272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6" name=""/>
              <p:cNvGrpSpPr/>
              <p:nvPr/>
            </p:nvGrpSpPr>
            <p:grpSpPr>
              <a:xfrm>
                <a:off x="5486400" y="4343400"/>
                <a:ext cx="304920" cy="304920"/>
                <a:chOff x="5486400" y="4343400"/>
                <a:chExt cx="304920" cy="30492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548640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556272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9" name=""/>
              <p:cNvGrpSpPr/>
              <p:nvPr/>
            </p:nvGrpSpPr>
            <p:grpSpPr>
              <a:xfrm>
                <a:off x="5486400" y="4648320"/>
                <a:ext cx="304920" cy="304560"/>
                <a:chOff x="5486400" y="4648320"/>
                <a:chExt cx="304920" cy="30456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548640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556272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2" name=""/>
              <p:cNvGrpSpPr/>
              <p:nvPr/>
            </p:nvGrpSpPr>
            <p:grpSpPr>
              <a:xfrm>
                <a:off x="5486400" y="4952880"/>
                <a:ext cx="304920" cy="304920"/>
                <a:chOff x="5486400" y="4952880"/>
                <a:chExt cx="304920" cy="304920"/>
              </a:xfrm>
            </p:grpSpPr>
            <p:sp>
              <p:nvSpPr>
                <p:cNvPr id="1433" name=""/>
                <p:cNvSpPr/>
                <p:nvPr/>
              </p:nvSpPr>
              <p:spPr>
                <a:xfrm>
                  <a:off x="548640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56272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5" name=""/>
              <p:cNvGrpSpPr/>
              <p:nvPr/>
            </p:nvGrpSpPr>
            <p:grpSpPr>
              <a:xfrm>
                <a:off x="5791320" y="4038480"/>
                <a:ext cx="304920" cy="304920"/>
                <a:chOff x="5791320" y="4038480"/>
                <a:chExt cx="304920" cy="304920"/>
              </a:xfrm>
            </p:grpSpPr>
            <p:sp>
              <p:nvSpPr>
                <p:cNvPr id="1436" name=""/>
                <p:cNvSpPr/>
                <p:nvPr/>
              </p:nvSpPr>
              <p:spPr>
                <a:xfrm>
                  <a:off x="5791320" y="40384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7" name=""/>
                <p:cNvSpPr/>
                <p:nvPr/>
              </p:nvSpPr>
              <p:spPr>
                <a:xfrm>
                  <a:off x="5867640" y="41148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8" name=""/>
              <p:cNvGrpSpPr/>
              <p:nvPr/>
            </p:nvGrpSpPr>
            <p:grpSpPr>
              <a:xfrm>
                <a:off x="5791320" y="4343400"/>
                <a:ext cx="304920" cy="304920"/>
                <a:chOff x="5791320" y="4343400"/>
                <a:chExt cx="304920" cy="3049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5791320" y="434340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5867640" y="441972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1" name=""/>
              <p:cNvGrpSpPr/>
              <p:nvPr/>
            </p:nvGrpSpPr>
            <p:grpSpPr>
              <a:xfrm>
                <a:off x="5791320" y="4648320"/>
                <a:ext cx="304920" cy="304560"/>
                <a:chOff x="5791320" y="4648320"/>
                <a:chExt cx="304920" cy="304560"/>
              </a:xfrm>
            </p:grpSpPr>
            <p:sp>
              <p:nvSpPr>
                <p:cNvPr id="1442" name=""/>
                <p:cNvSpPr/>
                <p:nvPr/>
              </p:nvSpPr>
              <p:spPr>
                <a:xfrm>
                  <a:off x="5791320" y="464832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3" name=""/>
                <p:cNvSpPr/>
                <p:nvPr/>
              </p:nvSpPr>
              <p:spPr>
                <a:xfrm>
                  <a:off x="5867640" y="4724280"/>
                  <a:ext cx="15228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4" name=""/>
              <p:cNvGrpSpPr/>
              <p:nvPr/>
            </p:nvGrpSpPr>
            <p:grpSpPr>
              <a:xfrm>
                <a:off x="5791320" y="4952880"/>
                <a:ext cx="304920" cy="304920"/>
                <a:chOff x="5791320" y="4952880"/>
                <a:chExt cx="304920" cy="304920"/>
              </a:xfrm>
            </p:grpSpPr>
            <p:sp>
              <p:nvSpPr>
                <p:cNvPr id="1445" name=""/>
                <p:cNvSpPr/>
                <p:nvPr/>
              </p:nvSpPr>
              <p:spPr>
                <a:xfrm>
                  <a:off x="5791320" y="4952880"/>
                  <a:ext cx="30492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5867640" y="5029200"/>
                  <a:ext cx="15228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7" name=""/>
              <p:cNvGrpSpPr/>
              <p:nvPr/>
            </p:nvGrpSpPr>
            <p:grpSpPr>
              <a:xfrm>
                <a:off x="6096240" y="4038480"/>
                <a:ext cx="304560" cy="304920"/>
                <a:chOff x="6096240" y="4038480"/>
                <a:chExt cx="304560" cy="304920"/>
              </a:xfrm>
            </p:grpSpPr>
            <p:sp>
              <p:nvSpPr>
                <p:cNvPr id="1448" name=""/>
                <p:cNvSpPr/>
                <p:nvPr/>
              </p:nvSpPr>
              <p:spPr>
                <a:xfrm>
                  <a:off x="6096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6172200" y="41148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6096240" y="4343400"/>
                <a:ext cx="304560" cy="304920"/>
                <a:chOff x="6096240" y="4343400"/>
                <a:chExt cx="304560" cy="30492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6096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6172200" y="441972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3" name=""/>
              <p:cNvGrpSpPr/>
              <p:nvPr/>
            </p:nvGrpSpPr>
            <p:grpSpPr>
              <a:xfrm>
                <a:off x="6096240" y="4648320"/>
                <a:ext cx="304560" cy="304560"/>
                <a:chOff x="6096240" y="4648320"/>
                <a:chExt cx="304560" cy="304560"/>
              </a:xfrm>
            </p:grpSpPr>
            <p:sp>
              <p:nvSpPr>
                <p:cNvPr id="1454" name=""/>
                <p:cNvSpPr/>
                <p:nvPr/>
              </p:nvSpPr>
              <p:spPr>
                <a:xfrm>
                  <a:off x="6096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172200" y="4724280"/>
                  <a:ext cx="151920" cy="15192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6" name=""/>
              <p:cNvGrpSpPr/>
              <p:nvPr/>
            </p:nvGrpSpPr>
            <p:grpSpPr>
              <a:xfrm>
                <a:off x="6096240" y="4952880"/>
                <a:ext cx="304560" cy="304920"/>
                <a:chOff x="6096240" y="4952880"/>
                <a:chExt cx="304560" cy="304920"/>
              </a:xfrm>
            </p:grpSpPr>
            <p:sp>
              <p:nvSpPr>
                <p:cNvPr id="1457" name=""/>
                <p:cNvSpPr/>
                <p:nvPr/>
              </p:nvSpPr>
              <p:spPr>
                <a:xfrm>
                  <a:off x="6096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8" name=""/>
                <p:cNvSpPr/>
                <p:nvPr/>
              </p:nvSpPr>
              <p:spPr>
                <a:xfrm>
                  <a:off x="6172200" y="5029200"/>
                  <a:ext cx="151920" cy="152280"/>
                </a:xfrm>
                <a:custGeom>
                  <a:avLst/>
                  <a:gdLst/>
                  <a:ahLst/>
                  <a:rect l="l" t="t" r="r" b="b"/>
                  <a:pathLst>
                    <a:path w="96" h="96">
                      <a:moveTo>
                        <a:pt x="0" y="96"/>
                      </a:moveTo>
                      <a:lnTo>
                        <a:pt x="96" y="96"/>
                      </a:lnTo>
                      <a:lnTo>
                        <a:pt x="48" y="0"/>
                      </a:lnTo>
                      <a:lnTo>
                        <a:pt x="0" y="96"/>
                      </a:lnTo>
                      <a:close/>
                    </a:path>
                  </a:pathLst>
                </a:custGeom>
                <a:solidFill>
                  <a:srgbClr val="9966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59" name=""/>
            <p:cNvSpPr/>
            <p:nvPr/>
          </p:nvSpPr>
          <p:spPr>
            <a:xfrm>
              <a:off x="3200400" y="362916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0" name=""/>
          <p:cNvGrpSpPr/>
          <p:nvPr/>
        </p:nvGrpSpPr>
        <p:grpSpPr>
          <a:xfrm>
            <a:off x="5638680" y="2791080"/>
            <a:ext cx="3200400" cy="1552320"/>
            <a:chOff x="5638680" y="2791080"/>
            <a:chExt cx="3200400" cy="1552320"/>
          </a:xfrm>
        </p:grpSpPr>
        <p:grpSp>
          <p:nvGrpSpPr>
            <p:cNvPr id="1461" name=""/>
            <p:cNvGrpSpPr/>
            <p:nvPr/>
          </p:nvGrpSpPr>
          <p:grpSpPr>
            <a:xfrm>
              <a:off x="6400800" y="3124080"/>
              <a:ext cx="2438280" cy="1219320"/>
              <a:chOff x="6400800" y="3124080"/>
              <a:chExt cx="2438280" cy="1219320"/>
            </a:xfrm>
          </p:grpSpPr>
          <p:sp>
            <p:nvSpPr>
              <p:cNvPr id="1462" name=""/>
              <p:cNvSpPr/>
              <p:nvPr/>
            </p:nvSpPr>
            <p:spPr>
              <a:xfrm>
                <a:off x="6400800" y="312408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3" name=""/>
              <p:cNvGrpSpPr/>
              <p:nvPr/>
            </p:nvGrpSpPr>
            <p:grpSpPr>
              <a:xfrm>
                <a:off x="6400800" y="3124080"/>
                <a:ext cx="304560" cy="304920"/>
                <a:chOff x="6400800" y="3124080"/>
                <a:chExt cx="304560" cy="304920"/>
              </a:xfrm>
            </p:grpSpPr>
            <p:sp>
              <p:nvSpPr>
                <p:cNvPr id="1464" name=""/>
                <p:cNvSpPr/>
                <p:nvPr/>
              </p:nvSpPr>
              <p:spPr>
                <a:xfrm>
                  <a:off x="640080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5" name=""/>
                <p:cNvSpPr/>
                <p:nvPr/>
              </p:nvSpPr>
              <p:spPr>
                <a:xfrm>
                  <a:off x="647676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6" name=""/>
              <p:cNvGrpSpPr/>
              <p:nvPr/>
            </p:nvGrpSpPr>
            <p:grpSpPr>
              <a:xfrm>
                <a:off x="6400800" y="3429000"/>
                <a:ext cx="304560" cy="304920"/>
                <a:chOff x="6400800" y="3429000"/>
                <a:chExt cx="304560" cy="3049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640080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47676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9" name=""/>
              <p:cNvGrpSpPr/>
              <p:nvPr/>
            </p:nvGrpSpPr>
            <p:grpSpPr>
              <a:xfrm>
                <a:off x="6400800" y="3733920"/>
                <a:ext cx="304560" cy="304560"/>
                <a:chOff x="6400800" y="3733920"/>
                <a:chExt cx="304560" cy="304560"/>
              </a:xfrm>
            </p:grpSpPr>
            <p:sp>
              <p:nvSpPr>
                <p:cNvPr id="1470" name=""/>
                <p:cNvSpPr/>
                <p:nvPr/>
              </p:nvSpPr>
              <p:spPr>
                <a:xfrm>
                  <a:off x="640080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1" name=""/>
                <p:cNvSpPr/>
                <p:nvPr/>
              </p:nvSpPr>
              <p:spPr>
                <a:xfrm>
                  <a:off x="647676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2" name=""/>
              <p:cNvGrpSpPr/>
              <p:nvPr/>
            </p:nvGrpSpPr>
            <p:grpSpPr>
              <a:xfrm>
                <a:off x="6400800" y="4038480"/>
                <a:ext cx="304560" cy="304920"/>
                <a:chOff x="6400800" y="4038480"/>
                <a:chExt cx="304560" cy="304920"/>
              </a:xfrm>
            </p:grpSpPr>
            <p:sp>
              <p:nvSpPr>
                <p:cNvPr id="1473" name=""/>
                <p:cNvSpPr/>
                <p:nvPr/>
              </p:nvSpPr>
              <p:spPr>
                <a:xfrm>
                  <a:off x="640080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647676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5" name=""/>
              <p:cNvGrpSpPr/>
              <p:nvPr/>
            </p:nvGrpSpPr>
            <p:grpSpPr>
              <a:xfrm>
                <a:off x="6705360" y="3124080"/>
                <a:ext cx="304560" cy="304920"/>
                <a:chOff x="6705360" y="3124080"/>
                <a:chExt cx="304560" cy="304920"/>
              </a:xfrm>
            </p:grpSpPr>
            <p:sp>
              <p:nvSpPr>
                <p:cNvPr id="1476" name=""/>
                <p:cNvSpPr/>
                <p:nvPr/>
              </p:nvSpPr>
              <p:spPr>
                <a:xfrm>
                  <a:off x="67053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67813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6705360" y="3429000"/>
                <a:ext cx="304560" cy="304920"/>
                <a:chOff x="6705360" y="3429000"/>
                <a:chExt cx="304560" cy="30492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67053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7813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1" name=""/>
              <p:cNvGrpSpPr/>
              <p:nvPr/>
            </p:nvGrpSpPr>
            <p:grpSpPr>
              <a:xfrm>
                <a:off x="6705360" y="3733920"/>
                <a:ext cx="304560" cy="304560"/>
                <a:chOff x="6705360" y="3733920"/>
                <a:chExt cx="304560" cy="304560"/>
              </a:xfrm>
            </p:grpSpPr>
            <p:sp>
              <p:nvSpPr>
                <p:cNvPr id="1482" name=""/>
                <p:cNvSpPr/>
                <p:nvPr/>
              </p:nvSpPr>
              <p:spPr>
                <a:xfrm>
                  <a:off x="67053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67813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4" name=""/>
              <p:cNvGrpSpPr/>
              <p:nvPr/>
            </p:nvGrpSpPr>
            <p:grpSpPr>
              <a:xfrm>
                <a:off x="6705360" y="4038480"/>
                <a:ext cx="304560" cy="304920"/>
                <a:chOff x="6705360" y="4038480"/>
                <a:chExt cx="304560" cy="304920"/>
              </a:xfrm>
            </p:grpSpPr>
            <p:sp>
              <p:nvSpPr>
                <p:cNvPr id="1485" name=""/>
                <p:cNvSpPr/>
                <p:nvPr/>
              </p:nvSpPr>
              <p:spPr>
                <a:xfrm>
                  <a:off x="67053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6" name=""/>
                <p:cNvSpPr/>
                <p:nvPr/>
              </p:nvSpPr>
              <p:spPr>
                <a:xfrm>
                  <a:off x="67813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7" name=""/>
              <p:cNvGrpSpPr/>
              <p:nvPr/>
            </p:nvGrpSpPr>
            <p:grpSpPr>
              <a:xfrm>
                <a:off x="7010280" y="3124080"/>
                <a:ext cx="304200" cy="304920"/>
                <a:chOff x="7010280" y="3124080"/>
                <a:chExt cx="304200" cy="3049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70102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70862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0" name=""/>
              <p:cNvGrpSpPr/>
              <p:nvPr/>
            </p:nvGrpSpPr>
            <p:grpSpPr>
              <a:xfrm>
                <a:off x="7010280" y="3429000"/>
                <a:ext cx="304200" cy="304920"/>
                <a:chOff x="7010280" y="3429000"/>
                <a:chExt cx="304200" cy="304920"/>
              </a:xfrm>
            </p:grpSpPr>
            <p:sp>
              <p:nvSpPr>
                <p:cNvPr id="1491" name=""/>
                <p:cNvSpPr/>
                <p:nvPr/>
              </p:nvSpPr>
              <p:spPr>
                <a:xfrm>
                  <a:off x="70102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2" name=""/>
                <p:cNvSpPr/>
                <p:nvPr/>
              </p:nvSpPr>
              <p:spPr>
                <a:xfrm>
                  <a:off x="70862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3" name=""/>
              <p:cNvGrpSpPr/>
              <p:nvPr/>
            </p:nvGrpSpPr>
            <p:grpSpPr>
              <a:xfrm>
                <a:off x="7010280" y="3733920"/>
                <a:ext cx="304200" cy="304560"/>
                <a:chOff x="7010280" y="3733920"/>
                <a:chExt cx="304200" cy="304560"/>
              </a:xfrm>
            </p:grpSpPr>
            <p:sp>
              <p:nvSpPr>
                <p:cNvPr id="1494" name=""/>
                <p:cNvSpPr/>
                <p:nvPr/>
              </p:nvSpPr>
              <p:spPr>
                <a:xfrm>
                  <a:off x="70102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70862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6" name=""/>
              <p:cNvGrpSpPr/>
              <p:nvPr/>
            </p:nvGrpSpPr>
            <p:grpSpPr>
              <a:xfrm>
                <a:off x="7010280" y="4038480"/>
                <a:ext cx="304200" cy="304920"/>
                <a:chOff x="7010280" y="4038480"/>
                <a:chExt cx="304200" cy="304920"/>
              </a:xfrm>
            </p:grpSpPr>
            <p:sp>
              <p:nvSpPr>
                <p:cNvPr id="1497" name=""/>
                <p:cNvSpPr/>
                <p:nvPr/>
              </p:nvSpPr>
              <p:spPr>
                <a:xfrm>
                  <a:off x="70102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70862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9" name=""/>
              <p:cNvGrpSpPr/>
              <p:nvPr/>
            </p:nvGrpSpPr>
            <p:grpSpPr>
              <a:xfrm>
                <a:off x="7314840" y="3124080"/>
                <a:ext cx="304560" cy="304920"/>
                <a:chOff x="7314840" y="3124080"/>
                <a:chExt cx="304560" cy="304920"/>
              </a:xfrm>
            </p:grpSpPr>
            <p:sp>
              <p:nvSpPr>
                <p:cNvPr id="1500" name=""/>
                <p:cNvSpPr/>
                <p:nvPr/>
              </p:nvSpPr>
              <p:spPr>
                <a:xfrm>
                  <a:off x="73148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1" name=""/>
                <p:cNvSpPr/>
                <p:nvPr/>
              </p:nvSpPr>
              <p:spPr>
                <a:xfrm>
                  <a:off x="73908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2" name=""/>
              <p:cNvGrpSpPr/>
              <p:nvPr/>
            </p:nvGrpSpPr>
            <p:grpSpPr>
              <a:xfrm>
                <a:off x="7314840" y="3429000"/>
                <a:ext cx="304560" cy="304920"/>
                <a:chOff x="7314840" y="3429000"/>
                <a:chExt cx="304560" cy="304920"/>
              </a:xfrm>
            </p:grpSpPr>
            <p:sp>
              <p:nvSpPr>
                <p:cNvPr id="1503" name=""/>
                <p:cNvSpPr/>
                <p:nvPr/>
              </p:nvSpPr>
              <p:spPr>
                <a:xfrm>
                  <a:off x="73148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73908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5" name=""/>
              <p:cNvGrpSpPr/>
              <p:nvPr/>
            </p:nvGrpSpPr>
            <p:grpSpPr>
              <a:xfrm>
                <a:off x="7314840" y="3733920"/>
                <a:ext cx="304560" cy="304560"/>
                <a:chOff x="7314840" y="3733920"/>
                <a:chExt cx="304560" cy="304560"/>
              </a:xfrm>
            </p:grpSpPr>
            <p:sp>
              <p:nvSpPr>
                <p:cNvPr id="1506" name=""/>
                <p:cNvSpPr/>
                <p:nvPr/>
              </p:nvSpPr>
              <p:spPr>
                <a:xfrm>
                  <a:off x="73148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7" name=""/>
                <p:cNvSpPr/>
                <p:nvPr/>
              </p:nvSpPr>
              <p:spPr>
                <a:xfrm>
                  <a:off x="73908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8" name=""/>
              <p:cNvGrpSpPr/>
              <p:nvPr/>
            </p:nvGrpSpPr>
            <p:grpSpPr>
              <a:xfrm>
                <a:off x="7314840" y="4038480"/>
                <a:ext cx="304560" cy="304920"/>
                <a:chOff x="7314840" y="4038480"/>
                <a:chExt cx="304560" cy="3049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73148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73908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1" name=""/>
              <p:cNvGrpSpPr/>
              <p:nvPr/>
            </p:nvGrpSpPr>
            <p:grpSpPr>
              <a:xfrm>
                <a:off x="7619760" y="3124080"/>
                <a:ext cx="304560" cy="304920"/>
                <a:chOff x="7619760" y="3124080"/>
                <a:chExt cx="304560" cy="304920"/>
              </a:xfrm>
            </p:grpSpPr>
            <p:sp>
              <p:nvSpPr>
                <p:cNvPr id="1512" name=""/>
                <p:cNvSpPr/>
                <p:nvPr/>
              </p:nvSpPr>
              <p:spPr>
                <a:xfrm>
                  <a:off x="76197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76957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7619760" y="3429000"/>
                <a:ext cx="304560" cy="304920"/>
                <a:chOff x="7619760" y="3429000"/>
                <a:chExt cx="304560" cy="30492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76197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76957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7" name=""/>
              <p:cNvGrpSpPr/>
              <p:nvPr/>
            </p:nvGrpSpPr>
            <p:grpSpPr>
              <a:xfrm>
                <a:off x="7619760" y="3733920"/>
                <a:ext cx="304560" cy="304560"/>
                <a:chOff x="7619760" y="3733920"/>
                <a:chExt cx="304560" cy="304560"/>
              </a:xfrm>
            </p:grpSpPr>
            <p:sp>
              <p:nvSpPr>
                <p:cNvPr id="1518" name=""/>
                <p:cNvSpPr/>
                <p:nvPr/>
              </p:nvSpPr>
              <p:spPr>
                <a:xfrm>
                  <a:off x="76197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76957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0" name=""/>
              <p:cNvGrpSpPr/>
              <p:nvPr/>
            </p:nvGrpSpPr>
            <p:grpSpPr>
              <a:xfrm>
                <a:off x="7619760" y="4038480"/>
                <a:ext cx="304560" cy="304920"/>
                <a:chOff x="7619760" y="4038480"/>
                <a:chExt cx="304560" cy="304920"/>
              </a:xfrm>
            </p:grpSpPr>
            <p:sp>
              <p:nvSpPr>
                <p:cNvPr id="1521" name=""/>
                <p:cNvSpPr/>
                <p:nvPr/>
              </p:nvSpPr>
              <p:spPr>
                <a:xfrm>
                  <a:off x="76197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2" name=""/>
                <p:cNvSpPr/>
                <p:nvPr/>
              </p:nvSpPr>
              <p:spPr>
                <a:xfrm>
                  <a:off x="76957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3" name=""/>
              <p:cNvGrpSpPr/>
              <p:nvPr/>
            </p:nvGrpSpPr>
            <p:grpSpPr>
              <a:xfrm>
                <a:off x="7924680" y="3124080"/>
                <a:ext cx="304200" cy="304920"/>
                <a:chOff x="7924680" y="3124080"/>
                <a:chExt cx="304200" cy="304920"/>
              </a:xfrm>
            </p:grpSpPr>
            <p:sp>
              <p:nvSpPr>
                <p:cNvPr id="1524" name=""/>
                <p:cNvSpPr/>
                <p:nvPr/>
              </p:nvSpPr>
              <p:spPr>
                <a:xfrm>
                  <a:off x="7924680" y="31240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800064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6" name=""/>
              <p:cNvGrpSpPr/>
              <p:nvPr/>
            </p:nvGrpSpPr>
            <p:grpSpPr>
              <a:xfrm>
                <a:off x="7924680" y="3429000"/>
                <a:ext cx="304200" cy="304920"/>
                <a:chOff x="7924680" y="3429000"/>
                <a:chExt cx="304200" cy="3049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7924680" y="34290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800064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9" name=""/>
              <p:cNvGrpSpPr/>
              <p:nvPr/>
            </p:nvGrpSpPr>
            <p:grpSpPr>
              <a:xfrm>
                <a:off x="7924680" y="3733920"/>
                <a:ext cx="304200" cy="304560"/>
                <a:chOff x="7924680" y="3733920"/>
                <a:chExt cx="304200" cy="304560"/>
              </a:xfrm>
            </p:grpSpPr>
            <p:sp>
              <p:nvSpPr>
                <p:cNvPr id="1530" name=""/>
                <p:cNvSpPr/>
                <p:nvPr/>
              </p:nvSpPr>
              <p:spPr>
                <a:xfrm>
                  <a:off x="7924680" y="37339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800064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2" name=""/>
              <p:cNvGrpSpPr/>
              <p:nvPr/>
            </p:nvGrpSpPr>
            <p:grpSpPr>
              <a:xfrm>
                <a:off x="7924680" y="4038480"/>
                <a:ext cx="304200" cy="304920"/>
                <a:chOff x="7924680" y="4038480"/>
                <a:chExt cx="304200" cy="304920"/>
              </a:xfrm>
            </p:grpSpPr>
            <p:sp>
              <p:nvSpPr>
                <p:cNvPr id="1533" name=""/>
                <p:cNvSpPr/>
                <p:nvPr/>
              </p:nvSpPr>
              <p:spPr>
                <a:xfrm>
                  <a:off x="7924680" y="40384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800064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8229240" y="3124080"/>
                <a:ext cx="304560" cy="304920"/>
                <a:chOff x="8229240" y="3124080"/>
                <a:chExt cx="304560" cy="30492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822924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830520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8" name=""/>
              <p:cNvGrpSpPr/>
              <p:nvPr/>
            </p:nvGrpSpPr>
            <p:grpSpPr>
              <a:xfrm>
                <a:off x="8229240" y="3429000"/>
                <a:ext cx="304560" cy="304920"/>
                <a:chOff x="8229240" y="3429000"/>
                <a:chExt cx="304560" cy="3049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822924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830520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1" name=""/>
              <p:cNvGrpSpPr/>
              <p:nvPr/>
            </p:nvGrpSpPr>
            <p:grpSpPr>
              <a:xfrm>
                <a:off x="8229240" y="3733920"/>
                <a:ext cx="304560" cy="304560"/>
                <a:chOff x="8229240" y="3733920"/>
                <a:chExt cx="304560" cy="304560"/>
              </a:xfrm>
            </p:grpSpPr>
            <p:sp>
              <p:nvSpPr>
                <p:cNvPr id="1542" name=""/>
                <p:cNvSpPr/>
                <p:nvPr/>
              </p:nvSpPr>
              <p:spPr>
                <a:xfrm>
                  <a:off x="822924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3" name=""/>
                <p:cNvSpPr/>
                <p:nvPr/>
              </p:nvSpPr>
              <p:spPr>
                <a:xfrm>
                  <a:off x="830520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4" name=""/>
              <p:cNvGrpSpPr/>
              <p:nvPr/>
            </p:nvGrpSpPr>
            <p:grpSpPr>
              <a:xfrm>
                <a:off x="8229240" y="4038480"/>
                <a:ext cx="304560" cy="304920"/>
                <a:chOff x="8229240" y="4038480"/>
                <a:chExt cx="304560" cy="304920"/>
              </a:xfrm>
            </p:grpSpPr>
            <p:sp>
              <p:nvSpPr>
                <p:cNvPr id="1545" name=""/>
                <p:cNvSpPr/>
                <p:nvPr/>
              </p:nvSpPr>
              <p:spPr>
                <a:xfrm>
                  <a:off x="822924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830520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7" name=""/>
              <p:cNvGrpSpPr/>
              <p:nvPr/>
            </p:nvGrpSpPr>
            <p:grpSpPr>
              <a:xfrm>
                <a:off x="8534160" y="3124080"/>
                <a:ext cx="304560" cy="304920"/>
                <a:chOff x="8534160" y="3124080"/>
                <a:chExt cx="304560" cy="304920"/>
              </a:xfrm>
            </p:grpSpPr>
            <p:sp>
              <p:nvSpPr>
                <p:cNvPr id="1548" name=""/>
                <p:cNvSpPr/>
                <p:nvPr/>
              </p:nvSpPr>
              <p:spPr>
                <a:xfrm>
                  <a:off x="8534160" y="31240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9" name=""/>
                <p:cNvSpPr/>
                <p:nvPr/>
              </p:nvSpPr>
              <p:spPr>
                <a:xfrm>
                  <a:off x="8610120" y="32004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0" name=""/>
              <p:cNvGrpSpPr/>
              <p:nvPr/>
            </p:nvGrpSpPr>
            <p:grpSpPr>
              <a:xfrm>
                <a:off x="8534160" y="3429000"/>
                <a:ext cx="304560" cy="304920"/>
                <a:chOff x="8534160" y="3429000"/>
                <a:chExt cx="304560" cy="304920"/>
              </a:xfrm>
            </p:grpSpPr>
            <p:sp>
              <p:nvSpPr>
                <p:cNvPr id="1551" name=""/>
                <p:cNvSpPr/>
                <p:nvPr/>
              </p:nvSpPr>
              <p:spPr>
                <a:xfrm>
                  <a:off x="8534160" y="34290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8610120" y="350532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3" name=""/>
              <p:cNvGrpSpPr/>
              <p:nvPr/>
            </p:nvGrpSpPr>
            <p:grpSpPr>
              <a:xfrm>
                <a:off x="8534160" y="3733920"/>
                <a:ext cx="304560" cy="304560"/>
                <a:chOff x="8534160" y="3733920"/>
                <a:chExt cx="304560" cy="304560"/>
              </a:xfrm>
            </p:grpSpPr>
            <p:sp>
              <p:nvSpPr>
                <p:cNvPr id="1554" name=""/>
                <p:cNvSpPr/>
                <p:nvPr/>
              </p:nvSpPr>
              <p:spPr>
                <a:xfrm>
                  <a:off x="8534160" y="37339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8610120" y="3809880"/>
                  <a:ext cx="151920" cy="15192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534160" y="4038480"/>
                <a:ext cx="304560" cy="304920"/>
                <a:chOff x="8534160" y="4038480"/>
                <a:chExt cx="304560" cy="30492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534160" y="40384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610120" y="4114800"/>
                  <a:ext cx="151920" cy="152280"/>
                </a:xfrm>
                <a:prstGeom prst="rect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59" name=""/>
            <p:cNvSpPr/>
            <p:nvPr/>
          </p:nvSpPr>
          <p:spPr>
            <a:xfrm>
              <a:off x="5638680" y="279108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0" name=""/>
          <p:cNvGrpSpPr/>
          <p:nvPr/>
        </p:nvGrpSpPr>
        <p:grpSpPr>
          <a:xfrm>
            <a:off x="5638680" y="4010040"/>
            <a:ext cx="3200400" cy="1552680"/>
            <a:chOff x="5638680" y="4010040"/>
            <a:chExt cx="3200400" cy="1552680"/>
          </a:xfrm>
        </p:grpSpPr>
        <p:grpSp>
          <p:nvGrpSpPr>
            <p:cNvPr id="1561" name=""/>
            <p:cNvGrpSpPr/>
            <p:nvPr/>
          </p:nvGrpSpPr>
          <p:grpSpPr>
            <a:xfrm>
              <a:off x="6400800" y="4343400"/>
              <a:ext cx="2438280" cy="1219320"/>
              <a:chOff x="6400800" y="4343400"/>
              <a:chExt cx="2438280" cy="1219320"/>
            </a:xfrm>
          </p:grpSpPr>
          <p:sp>
            <p:nvSpPr>
              <p:cNvPr id="1562" name=""/>
              <p:cNvSpPr/>
              <p:nvPr/>
            </p:nvSpPr>
            <p:spPr>
              <a:xfrm>
                <a:off x="6400800" y="4343400"/>
                <a:ext cx="2438280" cy="12193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3" name=""/>
              <p:cNvGrpSpPr/>
              <p:nvPr/>
            </p:nvGrpSpPr>
            <p:grpSpPr>
              <a:xfrm>
                <a:off x="6400800" y="4343400"/>
                <a:ext cx="304560" cy="304920"/>
                <a:chOff x="6400800" y="4343400"/>
                <a:chExt cx="304560" cy="30492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640080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47676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6" name=""/>
              <p:cNvGrpSpPr/>
              <p:nvPr/>
            </p:nvGrpSpPr>
            <p:grpSpPr>
              <a:xfrm>
                <a:off x="6400800" y="4648320"/>
                <a:ext cx="304560" cy="304560"/>
                <a:chOff x="6400800" y="4648320"/>
                <a:chExt cx="304560" cy="30456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640080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647676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6400800" y="4952880"/>
                <a:ext cx="304560" cy="304920"/>
                <a:chOff x="6400800" y="4952880"/>
                <a:chExt cx="304560" cy="30492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640080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47676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2" name=""/>
              <p:cNvGrpSpPr/>
              <p:nvPr/>
            </p:nvGrpSpPr>
            <p:grpSpPr>
              <a:xfrm>
                <a:off x="6400800" y="5257800"/>
                <a:ext cx="304560" cy="304920"/>
                <a:chOff x="6400800" y="5257800"/>
                <a:chExt cx="304560" cy="304920"/>
              </a:xfrm>
            </p:grpSpPr>
            <p:sp>
              <p:nvSpPr>
                <p:cNvPr id="1573" name=""/>
                <p:cNvSpPr/>
                <p:nvPr/>
              </p:nvSpPr>
              <p:spPr>
                <a:xfrm>
                  <a:off x="640080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647676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5" name=""/>
              <p:cNvGrpSpPr/>
              <p:nvPr/>
            </p:nvGrpSpPr>
            <p:grpSpPr>
              <a:xfrm>
                <a:off x="6705360" y="4343400"/>
                <a:ext cx="304560" cy="304920"/>
                <a:chOff x="6705360" y="4343400"/>
                <a:chExt cx="304560" cy="304920"/>
              </a:xfrm>
            </p:grpSpPr>
            <p:sp>
              <p:nvSpPr>
                <p:cNvPr id="1576" name=""/>
                <p:cNvSpPr/>
                <p:nvPr/>
              </p:nvSpPr>
              <p:spPr>
                <a:xfrm>
                  <a:off x="67053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67813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6705360" y="4648320"/>
                <a:ext cx="304560" cy="304560"/>
                <a:chOff x="6705360" y="4648320"/>
                <a:chExt cx="304560" cy="30456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67053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67813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1" name=""/>
              <p:cNvGrpSpPr/>
              <p:nvPr/>
            </p:nvGrpSpPr>
            <p:grpSpPr>
              <a:xfrm>
                <a:off x="6705360" y="4952880"/>
                <a:ext cx="304560" cy="304920"/>
                <a:chOff x="6705360" y="4952880"/>
                <a:chExt cx="304560" cy="304920"/>
              </a:xfrm>
            </p:grpSpPr>
            <p:sp>
              <p:nvSpPr>
                <p:cNvPr id="1582" name=""/>
                <p:cNvSpPr/>
                <p:nvPr/>
              </p:nvSpPr>
              <p:spPr>
                <a:xfrm>
                  <a:off x="67053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67813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4" name=""/>
              <p:cNvGrpSpPr/>
              <p:nvPr/>
            </p:nvGrpSpPr>
            <p:grpSpPr>
              <a:xfrm>
                <a:off x="6705360" y="5257800"/>
                <a:ext cx="304560" cy="304920"/>
                <a:chOff x="6705360" y="5257800"/>
                <a:chExt cx="304560" cy="304920"/>
              </a:xfrm>
            </p:grpSpPr>
            <p:sp>
              <p:nvSpPr>
                <p:cNvPr id="1585" name=""/>
                <p:cNvSpPr/>
                <p:nvPr/>
              </p:nvSpPr>
              <p:spPr>
                <a:xfrm>
                  <a:off x="67053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67813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7" name=""/>
              <p:cNvGrpSpPr/>
              <p:nvPr/>
            </p:nvGrpSpPr>
            <p:grpSpPr>
              <a:xfrm>
                <a:off x="7010280" y="4343400"/>
                <a:ext cx="304200" cy="304920"/>
                <a:chOff x="7010280" y="4343400"/>
                <a:chExt cx="304200" cy="3049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70102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70862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0" name=""/>
              <p:cNvGrpSpPr/>
              <p:nvPr/>
            </p:nvGrpSpPr>
            <p:grpSpPr>
              <a:xfrm>
                <a:off x="7010280" y="4648320"/>
                <a:ext cx="304200" cy="304560"/>
                <a:chOff x="7010280" y="4648320"/>
                <a:chExt cx="304200" cy="304560"/>
              </a:xfrm>
            </p:grpSpPr>
            <p:sp>
              <p:nvSpPr>
                <p:cNvPr id="1591" name=""/>
                <p:cNvSpPr/>
                <p:nvPr/>
              </p:nvSpPr>
              <p:spPr>
                <a:xfrm>
                  <a:off x="70102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2" name=""/>
                <p:cNvSpPr/>
                <p:nvPr/>
              </p:nvSpPr>
              <p:spPr>
                <a:xfrm>
                  <a:off x="70862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3" name=""/>
              <p:cNvGrpSpPr/>
              <p:nvPr/>
            </p:nvGrpSpPr>
            <p:grpSpPr>
              <a:xfrm>
                <a:off x="7010280" y="4952880"/>
                <a:ext cx="304200" cy="304920"/>
                <a:chOff x="7010280" y="4952880"/>
                <a:chExt cx="304200" cy="304920"/>
              </a:xfrm>
            </p:grpSpPr>
            <p:sp>
              <p:nvSpPr>
                <p:cNvPr id="1594" name=""/>
                <p:cNvSpPr/>
                <p:nvPr/>
              </p:nvSpPr>
              <p:spPr>
                <a:xfrm>
                  <a:off x="70102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70862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6" name=""/>
              <p:cNvGrpSpPr/>
              <p:nvPr/>
            </p:nvGrpSpPr>
            <p:grpSpPr>
              <a:xfrm>
                <a:off x="7010280" y="5257800"/>
                <a:ext cx="304200" cy="304920"/>
                <a:chOff x="7010280" y="5257800"/>
                <a:chExt cx="304200" cy="304920"/>
              </a:xfrm>
            </p:grpSpPr>
            <p:sp>
              <p:nvSpPr>
                <p:cNvPr id="1597" name=""/>
                <p:cNvSpPr/>
                <p:nvPr/>
              </p:nvSpPr>
              <p:spPr>
                <a:xfrm>
                  <a:off x="70102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70862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7314840" y="4343400"/>
                <a:ext cx="304560" cy="304920"/>
                <a:chOff x="7314840" y="4343400"/>
                <a:chExt cx="304560" cy="30492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73148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73908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2" name=""/>
              <p:cNvGrpSpPr/>
              <p:nvPr/>
            </p:nvGrpSpPr>
            <p:grpSpPr>
              <a:xfrm>
                <a:off x="7314840" y="4648320"/>
                <a:ext cx="304560" cy="304560"/>
                <a:chOff x="7314840" y="4648320"/>
                <a:chExt cx="304560" cy="304560"/>
              </a:xfrm>
            </p:grpSpPr>
            <p:sp>
              <p:nvSpPr>
                <p:cNvPr id="1603" name=""/>
                <p:cNvSpPr/>
                <p:nvPr/>
              </p:nvSpPr>
              <p:spPr>
                <a:xfrm>
                  <a:off x="73148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3908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5" name=""/>
              <p:cNvGrpSpPr/>
              <p:nvPr/>
            </p:nvGrpSpPr>
            <p:grpSpPr>
              <a:xfrm>
                <a:off x="7314840" y="4952880"/>
                <a:ext cx="304560" cy="304920"/>
                <a:chOff x="7314840" y="4952880"/>
                <a:chExt cx="304560" cy="304920"/>
              </a:xfrm>
            </p:grpSpPr>
            <p:sp>
              <p:nvSpPr>
                <p:cNvPr id="1606" name=""/>
                <p:cNvSpPr/>
                <p:nvPr/>
              </p:nvSpPr>
              <p:spPr>
                <a:xfrm>
                  <a:off x="73148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73908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7314840" y="5257800"/>
                <a:ext cx="304560" cy="304920"/>
                <a:chOff x="7314840" y="5257800"/>
                <a:chExt cx="304560" cy="3049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73148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73908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619760" y="4343400"/>
                <a:ext cx="304560" cy="304920"/>
                <a:chOff x="7619760" y="4343400"/>
                <a:chExt cx="304560" cy="304920"/>
              </a:xfrm>
            </p:grpSpPr>
            <p:sp>
              <p:nvSpPr>
                <p:cNvPr id="1612" name=""/>
                <p:cNvSpPr/>
                <p:nvPr/>
              </p:nvSpPr>
              <p:spPr>
                <a:xfrm>
                  <a:off x="76197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>
                  <a:off x="76957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4" name=""/>
              <p:cNvGrpSpPr/>
              <p:nvPr/>
            </p:nvGrpSpPr>
            <p:grpSpPr>
              <a:xfrm>
                <a:off x="7619760" y="4648320"/>
                <a:ext cx="304560" cy="304560"/>
                <a:chOff x="7619760" y="4648320"/>
                <a:chExt cx="304560" cy="304560"/>
              </a:xfrm>
            </p:grpSpPr>
            <p:sp>
              <p:nvSpPr>
                <p:cNvPr id="1615" name=""/>
                <p:cNvSpPr/>
                <p:nvPr/>
              </p:nvSpPr>
              <p:spPr>
                <a:xfrm>
                  <a:off x="76197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76957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7" name=""/>
              <p:cNvGrpSpPr/>
              <p:nvPr/>
            </p:nvGrpSpPr>
            <p:grpSpPr>
              <a:xfrm>
                <a:off x="7619760" y="4952880"/>
                <a:ext cx="304560" cy="304920"/>
                <a:chOff x="7619760" y="4952880"/>
                <a:chExt cx="304560" cy="304920"/>
              </a:xfrm>
            </p:grpSpPr>
            <p:sp>
              <p:nvSpPr>
                <p:cNvPr id="1618" name=""/>
                <p:cNvSpPr/>
                <p:nvPr/>
              </p:nvSpPr>
              <p:spPr>
                <a:xfrm>
                  <a:off x="76197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6957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7619760" y="5257800"/>
                <a:ext cx="304560" cy="304920"/>
                <a:chOff x="7619760" y="5257800"/>
                <a:chExt cx="304560" cy="30492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76197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76957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3" name=""/>
              <p:cNvGrpSpPr/>
              <p:nvPr/>
            </p:nvGrpSpPr>
            <p:grpSpPr>
              <a:xfrm>
                <a:off x="7924680" y="4343400"/>
                <a:ext cx="304200" cy="304920"/>
                <a:chOff x="7924680" y="4343400"/>
                <a:chExt cx="304200" cy="304920"/>
              </a:xfrm>
            </p:grpSpPr>
            <p:sp>
              <p:nvSpPr>
                <p:cNvPr id="1624" name=""/>
                <p:cNvSpPr/>
                <p:nvPr/>
              </p:nvSpPr>
              <p:spPr>
                <a:xfrm>
                  <a:off x="7924680" y="43434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800064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6" name=""/>
              <p:cNvGrpSpPr/>
              <p:nvPr/>
            </p:nvGrpSpPr>
            <p:grpSpPr>
              <a:xfrm>
                <a:off x="7924680" y="4648320"/>
                <a:ext cx="304200" cy="304560"/>
                <a:chOff x="7924680" y="4648320"/>
                <a:chExt cx="304200" cy="304560"/>
              </a:xfrm>
            </p:grpSpPr>
            <p:sp>
              <p:nvSpPr>
                <p:cNvPr id="1627" name=""/>
                <p:cNvSpPr/>
                <p:nvPr/>
              </p:nvSpPr>
              <p:spPr>
                <a:xfrm>
                  <a:off x="7924680" y="4648320"/>
                  <a:ext cx="30420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8" name=""/>
                <p:cNvSpPr/>
                <p:nvPr/>
              </p:nvSpPr>
              <p:spPr>
                <a:xfrm>
                  <a:off x="800064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9" name=""/>
              <p:cNvGrpSpPr/>
              <p:nvPr/>
            </p:nvGrpSpPr>
            <p:grpSpPr>
              <a:xfrm>
                <a:off x="7924680" y="4952880"/>
                <a:ext cx="304200" cy="304920"/>
                <a:chOff x="7924680" y="4952880"/>
                <a:chExt cx="304200" cy="3049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7924680" y="495288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0064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2" name=""/>
              <p:cNvGrpSpPr/>
              <p:nvPr/>
            </p:nvGrpSpPr>
            <p:grpSpPr>
              <a:xfrm>
                <a:off x="7924680" y="5257800"/>
                <a:ext cx="304200" cy="304920"/>
                <a:chOff x="7924680" y="5257800"/>
                <a:chExt cx="304200" cy="30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7924680" y="5257800"/>
                  <a:ext cx="30420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00064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5" name=""/>
              <p:cNvGrpSpPr/>
              <p:nvPr/>
            </p:nvGrpSpPr>
            <p:grpSpPr>
              <a:xfrm>
                <a:off x="8229240" y="4343400"/>
                <a:ext cx="304560" cy="304920"/>
                <a:chOff x="8229240" y="4343400"/>
                <a:chExt cx="304560" cy="304920"/>
              </a:xfrm>
            </p:grpSpPr>
            <p:sp>
              <p:nvSpPr>
                <p:cNvPr id="1636" name=""/>
                <p:cNvSpPr/>
                <p:nvPr/>
              </p:nvSpPr>
              <p:spPr>
                <a:xfrm>
                  <a:off x="822924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830520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8" name=""/>
              <p:cNvGrpSpPr/>
              <p:nvPr/>
            </p:nvGrpSpPr>
            <p:grpSpPr>
              <a:xfrm>
                <a:off x="8229240" y="4648320"/>
                <a:ext cx="304560" cy="304560"/>
                <a:chOff x="8229240" y="4648320"/>
                <a:chExt cx="304560" cy="304560"/>
              </a:xfrm>
            </p:grpSpPr>
            <p:sp>
              <p:nvSpPr>
                <p:cNvPr id="1639" name=""/>
                <p:cNvSpPr/>
                <p:nvPr/>
              </p:nvSpPr>
              <p:spPr>
                <a:xfrm>
                  <a:off x="822924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830520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1" name=""/>
              <p:cNvGrpSpPr/>
              <p:nvPr/>
            </p:nvGrpSpPr>
            <p:grpSpPr>
              <a:xfrm>
                <a:off x="8229240" y="4952880"/>
                <a:ext cx="304560" cy="304920"/>
                <a:chOff x="8229240" y="4952880"/>
                <a:chExt cx="304560" cy="304920"/>
              </a:xfrm>
            </p:grpSpPr>
            <p:sp>
              <p:nvSpPr>
                <p:cNvPr id="1642" name=""/>
                <p:cNvSpPr/>
                <p:nvPr/>
              </p:nvSpPr>
              <p:spPr>
                <a:xfrm>
                  <a:off x="822924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3" name=""/>
                <p:cNvSpPr/>
                <p:nvPr/>
              </p:nvSpPr>
              <p:spPr>
                <a:xfrm>
                  <a:off x="830520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4" name=""/>
              <p:cNvGrpSpPr/>
              <p:nvPr/>
            </p:nvGrpSpPr>
            <p:grpSpPr>
              <a:xfrm>
                <a:off x="8229240" y="5257800"/>
                <a:ext cx="304560" cy="304920"/>
                <a:chOff x="8229240" y="5257800"/>
                <a:chExt cx="304560" cy="3049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822924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830520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7" name=""/>
              <p:cNvGrpSpPr/>
              <p:nvPr/>
            </p:nvGrpSpPr>
            <p:grpSpPr>
              <a:xfrm>
                <a:off x="8534160" y="4343400"/>
                <a:ext cx="304560" cy="304920"/>
                <a:chOff x="8534160" y="4343400"/>
                <a:chExt cx="304560" cy="304920"/>
              </a:xfrm>
            </p:grpSpPr>
            <p:sp>
              <p:nvSpPr>
                <p:cNvPr id="1648" name=""/>
                <p:cNvSpPr/>
                <p:nvPr/>
              </p:nvSpPr>
              <p:spPr>
                <a:xfrm>
                  <a:off x="8534160" y="43434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8610120" y="44197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0" name=""/>
              <p:cNvGrpSpPr/>
              <p:nvPr/>
            </p:nvGrpSpPr>
            <p:grpSpPr>
              <a:xfrm>
                <a:off x="8534160" y="4648320"/>
                <a:ext cx="304560" cy="304560"/>
                <a:chOff x="8534160" y="4648320"/>
                <a:chExt cx="304560" cy="30456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8534160" y="464832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8610120" y="4724280"/>
                  <a:ext cx="151920" cy="15192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3" name=""/>
              <p:cNvGrpSpPr/>
              <p:nvPr/>
            </p:nvGrpSpPr>
            <p:grpSpPr>
              <a:xfrm>
                <a:off x="8534160" y="4952880"/>
                <a:ext cx="304560" cy="304920"/>
                <a:chOff x="8534160" y="4952880"/>
                <a:chExt cx="304560" cy="304920"/>
              </a:xfrm>
            </p:grpSpPr>
            <p:sp>
              <p:nvSpPr>
                <p:cNvPr id="1654" name=""/>
                <p:cNvSpPr/>
                <p:nvPr/>
              </p:nvSpPr>
              <p:spPr>
                <a:xfrm>
                  <a:off x="8534160" y="495288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8610120" y="502920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8534160" y="5257800"/>
                <a:ext cx="304560" cy="304920"/>
                <a:chOff x="8534160" y="5257800"/>
                <a:chExt cx="304560" cy="30492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8534160" y="5257800"/>
                  <a:ext cx="304560" cy="3049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8610120" y="5334120"/>
                  <a:ext cx="151920" cy="152280"/>
                </a:xfrm>
                <a:prstGeom prst="rect">
                  <a:avLst/>
                </a:prstGeom>
                <a:solidFill>
                  <a:srgbClr val="ff00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9" name=""/>
            <p:cNvSpPr/>
            <p:nvPr/>
          </p:nvSpPr>
          <p:spPr>
            <a:xfrm>
              <a:off x="5638680" y="4010040"/>
              <a:ext cx="762120" cy="7970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0" name=""/>
          <p:cNvSpPr/>
          <p:nvPr/>
        </p:nvSpPr>
        <p:spPr>
          <a:xfrm>
            <a:off x="2058120" y="19803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a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4342680" y="1980360"/>
            <a:ext cx="170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ply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7010280" y="198036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 Un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28600" y="28954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0040" y="312336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38080" y="5079960"/>
            <a:ext cx="1447920" cy="1160280"/>
          </a:xfrm>
          <a:prstGeom prst="rightArrow">
            <a:avLst>
              <a:gd name="adj1" fmla="val 50000"/>
              <a:gd name="adj2" fmla="val 31198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nstruction iss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19240" y="6323760"/>
            <a:ext cx="84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lete 24 operations/cycle while issuing 1 short instruction/cyc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 of a supercomput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est machine in world at given tas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device to turn a compute-bound problem into an I/O bound problem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costing $30M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y machine designed by Seymour Cr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DC6600 (Cray, 1964) regarded as first supercompu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1066320" y="988200"/>
            <a:ext cx="5753160" cy="75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version of register bypass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roduced with Cray-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9" name=""/>
          <p:cNvGrpSpPr/>
          <p:nvPr/>
        </p:nvGrpSpPr>
        <p:grpSpPr>
          <a:xfrm>
            <a:off x="2895480" y="2209680"/>
            <a:ext cx="1548000" cy="3733920"/>
            <a:chOff x="2895480" y="2209680"/>
            <a:chExt cx="1548000" cy="3733920"/>
          </a:xfrm>
        </p:grpSpPr>
        <p:sp>
          <p:nvSpPr>
            <p:cNvPr id="1670" name=""/>
            <p:cNvSpPr/>
            <p:nvPr/>
          </p:nvSpPr>
          <p:spPr>
            <a:xfrm>
              <a:off x="2895480" y="5486400"/>
              <a:ext cx="1219320" cy="457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62520" y="2209680"/>
              <a:ext cx="48096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2971800" y="4496400"/>
              <a:ext cx="1133640" cy="70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ad Uni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V="1">
              <a:off x="3581280" y="3504960"/>
              <a:ext cx="639720" cy="99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V="1">
              <a:off x="3505320" y="5181120"/>
              <a:ext cx="144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5" name=""/>
          <p:cNvGrpSpPr/>
          <p:nvPr/>
        </p:nvGrpSpPr>
        <p:grpSpPr>
          <a:xfrm>
            <a:off x="3886200" y="2209680"/>
            <a:ext cx="2514600" cy="3810240"/>
            <a:chOff x="3886200" y="2209680"/>
            <a:chExt cx="2514600" cy="3810240"/>
          </a:xfrm>
        </p:grpSpPr>
        <p:grpSp>
          <p:nvGrpSpPr>
            <p:cNvPr id="1676" name=""/>
            <p:cNvGrpSpPr/>
            <p:nvPr/>
          </p:nvGrpSpPr>
          <p:grpSpPr>
            <a:xfrm>
              <a:off x="4952880" y="4572000"/>
              <a:ext cx="1143000" cy="1447920"/>
              <a:chOff x="4952880" y="4572000"/>
              <a:chExt cx="1143000" cy="1447920"/>
            </a:xfrm>
          </p:grpSpPr>
          <p:sp>
            <p:nvSpPr>
              <p:cNvPr id="1677" name=""/>
              <p:cNvSpPr/>
              <p:nvPr/>
            </p:nvSpPr>
            <p:spPr>
              <a:xfrm>
                <a:off x="495288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78" name=""/>
              <p:cNvGrpSpPr/>
              <p:nvPr/>
            </p:nvGrpSpPr>
            <p:grpSpPr>
              <a:xfrm>
                <a:off x="4952880" y="5715000"/>
                <a:ext cx="993960" cy="76320"/>
                <a:chOff x="4952880" y="5715000"/>
                <a:chExt cx="993960" cy="76320"/>
              </a:xfrm>
            </p:grpSpPr>
            <p:sp>
              <p:nvSpPr>
                <p:cNvPr id="1679" name=""/>
                <p:cNvSpPr/>
                <p:nvPr/>
              </p:nvSpPr>
              <p:spPr>
                <a:xfrm>
                  <a:off x="4952880" y="5715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5791320" y="5715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5870520" y="575316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2" name=""/>
              <p:cNvGrpSpPr/>
              <p:nvPr/>
            </p:nvGrpSpPr>
            <p:grpSpPr>
              <a:xfrm>
                <a:off x="4952880" y="4952880"/>
                <a:ext cx="993960" cy="76320"/>
                <a:chOff x="4952880" y="4952880"/>
                <a:chExt cx="993960" cy="76320"/>
              </a:xfrm>
            </p:grpSpPr>
            <p:sp>
              <p:nvSpPr>
                <p:cNvPr id="1683" name=""/>
                <p:cNvSpPr/>
                <p:nvPr/>
              </p:nvSpPr>
              <p:spPr>
                <a:xfrm>
                  <a:off x="495288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579132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5" name=""/>
                <p:cNvSpPr/>
                <p:nvPr/>
              </p:nvSpPr>
              <p:spPr>
                <a:xfrm>
                  <a:off x="5870520" y="499104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6" name=""/>
              <p:cNvGrpSpPr/>
              <p:nvPr/>
            </p:nvGrpSpPr>
            <p:grpSpPr>
              <a:xfrm>
                <a:off x="4952880" y="5334120"/>
                <a:ext cx="993960" cy="75960"/>
                <a:chOff x="4952880" y="5334120"/>
                <a:chExt cx="993960" cy="75960"/>
              </a:xfrm>
            </p:grpSpPr>
            <p:sp>
              <p:nvSpPr>
                <p:cNvPr id="1687" name=""/>
                <p:cNvSpPr/>
                <p:nvPr/>
              </p:nvSpPr>
              <p:spPr>
                <a:xfrm>
                  <a:off x="4952880" y="5334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5791320" y="5334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5870520" y="5371920"/>
                  <a:ext cx="763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0" name=""/>
              <p:cNvSpPr/>
              <p:nvPr/>
            </p:nvSpPr>
            <p:spPr>
              <a:xfrm>
                <a:off x="571500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105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41008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986000" y="5028120"/>
                <a:ext cx="773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Mult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4" name=""/>
            <p:cNvSpPr/>
            <p:nvPr/>
          </p:nvSpPr>
          <p:spPr>
            <a:xfrm>
              <a:off x="3886200" y="4038480"/>
              <a:ext cx="1219320" cy="5335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541008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571500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5943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V="1">
              <a:off x="6095880" y="3504960"/>
              <a:ext cx="7632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4267800" y="396144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0" name=""/>
          <p:cNvGrpSpPr/>
          <p:nvPr/>
        </p:nvGrpSpPr>
        <p:grpSpPr>
          <a:xfrm>
            <a:off x="6095880" y="2209680"/>
            <a:ext cx="2133720" cy="3810240"/>
            <a:chOff x="6095880" y="2209680"/>
            <a:chExt cx="2133720" cy="3810240"/>
          </a:xfrm>
        </p:grpSpPr>
        <p:grpSp>
          <p:nvGrpSpPr>
            <p:cNvPr id="1701" name=""/>
            <p:cNvGrpSpPr/>
            <p:nvPr/>
          </p:nvGrpSpPr>
          <p:grpSpPr>
            <a:xfrm>
              <a:off x="6629400" y="4572000"/>
              <a:ext cx="1143000" cy="1447920"/>
              <a:chOff x="6629400" y="4572000"/>
              <a:chExt cx="1143000" cy="1447920"/>
            </a:xfrm>
          </p:grpSpPr>
          <p:sp>
            <p:nvSpPr>
              <p:cNvPr id="1702" name=""/>
              <p:cNvSpPr/>
              <p:nvPr/>
            </p:nvSpPr>
            <p:spPr>
              <a:xfrm>
                <a:off x="6629400" y="48006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3" name=""/>
              <p:cNvGrpSpPr/>
              <p:nvPr/>
            </p:nvGrpSpPr>
            <p:grpSpPr>
              <a:xfrm>
                <a:off x="6629400" y="5715000"/>
                <a:ext cx="993240" cy="76320"/>
                <a:chOff x="6629400" y="5715000"/>
                <a:chExt cx="993240" cy="763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6629400" y="57150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7467480" y="57150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7546680" y="575316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7" name=""/>
              <p:cNvGrpSpPr/>
              <p:nvPr/>
            </p:nvGrpSpPr>
            <p:grpSpPr>
              <a:xfrm>
                <a:off x="6629400" y="4952880"/>
                <a:ext cx="993240" cy="76320"/>
                <a:chOff x="6629400" y="4952880"/>
                <a:chExt cx="993240" cy="76320"/>
              </a:xfrm>
            </p:grpSpPr>
            <p:sp>
              <p:nvSpPr>
                <p:cNvPr id="1708" name=""/>
                <p:cNvSpPr/>
                <p:nvPr/>
              </p:nvSpPr>
              <p:spPr>
                <a:xfrm>
                  <a:off x="6629400" y="49528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467480" y="49528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7546680" y="499104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1" name=""/>
              <p:cNvGrpSpPr/>
              <p:nvPr/>
            </p:nvGrpSpPr>
            <p:grpSpPr>
              <a:xfrm>
                <a:off x="6629400" y="5334120"/>
                <a:ext cx="993240" cy="75960"/>
                <a:chOff x="6629400" y="5334120"/>
                <a:chExt cx="993240" cy="75960"/>
              </a:xfrm>
            </p:grpSpPr>
            <p:sp>
              <p:nvSpPr>
                <p:cNvPr id="1712" name=""/>
                <p:cNvSpPr/>
                <p:nvPr/>
              </p:nvSpPr>
              <p:spPr>
                <a:xfrm>
                  <a:off x="6629400" y="53341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3" name=""/>
                <p:cNvSpPr/>
                <p:nvPr/>
              </p:nvSpPr>
              <p:spPr>
                <a:xfrm>
                  <a:off x="7467480" y="53341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4" name=""/>
                <p:cNvSpPr/>
                <p:nvPr/>
              </p:nvSpPr>
              <p:spPr>
                <a:xfrm>
                  <a:off x="7546680" y="5371920"/>
                  <a:ext cx="759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5" name=""/>
              <p:cNvSpPr/>
              <p:nvPr/>
            </p:nvSpPr>
            <p:spPr>
              <a:xfrm>
                <a:off x="739152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6781680" y="45720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7086600" y="4572000"/>
                <a:ext cx="685800" cy="1447920"/>
              </a:xfrm>
              <a:custGeom>
                <a:avLst/>
                <a:gdLst/>
                <a:ahLst/>
                <a:rect l="l" t="t" r="r" b="b"/>
                <a:pathLst>
                  <a:path w="432" h="912">
                    <a:moveTo>
                      <a:pt x="0" y="816"/>
                    </a:moveTo>
                    <a:lnTo>
                      <a:pt x="0" y="912"/>
                    </a:lnTo>
                    <a:lnTo>
                      <a:pt x="432" y="912"/>
                    </a:lnTo>
                    <a:lnTo>
                      <a:pt x="432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6782400" y="5028120"/>
                <a:ext cx="67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19" name=""/>
            <p:cNvSpPr/>
            <p:nvPr/>
          </p:nvSpPr>
          <p:spPr>
            <a:xfrm>
              <a:off x="70866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772400" y="2209680"/>
              <a:ext cx="457200" cy="1305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095880" y="4191120"/>
              <a:ext cx="685800" cy="38088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391520" y="3505320"/>
              <a:ext cx="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V="1">
              <a:off x="7772400" y="3504960"/>
              <a:ext cx="228600" cy="10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48880" y="4037760"/>
              <a:ext cx="887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c0128"/>
                  </a:solidFill>
                  <a:latin typeface="Arial"/>
                </a:rPr>
                <a:t>Ch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5" name=""/>
          <p:cNvSpPr/>
          <p:nvPr/>
        </p:nvSpPr>
        <p:spPr>
          <a:xfrm>
            <a:off x="534960" y="2659680"/>
            <a:ext cx="2466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  v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ULV v3,v1,v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 v5, v3, v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1676520" y="297180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1676520" y="3429000"/>
            <a:ext cx="30456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haining Advant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9" name=""/>
          <p:cNvGrpSpPr/>
          <p:nvPr/>
        </p:nvGrpSpPr>
        <p:grpSpPr>
          <a:xfrm>
            <a:off x="304920" y="3884760"/>
            <a:ext cx="8534160" cy="2230200"/>
            <a:chOff x="304920" y="3884760"/>
            <a:chExt cx="8534160" cy="2230200"/>
          </a:xfrm>
        </p:grpSpPr>
        <p:sp>
          <p:nvSpPr>
            <p:cNvPr id="1730" name=""/>
            <p:cNvSpPr/>
            <p:nvPr/>
          </p:nvSpPr>
          <p:spPr>
            <a:xfrm>
              <a:off x="304920" y="388476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 chaining, can start dependent instruction as soon as first result app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1" name=""/>
            <p:cNvGrpSpPr/>
            <p:nvPr/>
          </p:nvGrpSpPr>
          <p:grpSpPr>
            <a:xfrm>
              <a:off x="1295280" y="4952880"/>
              <a:ext cx="3276720" cy="1162080"/>
              <a:chOff x="1295280" y="4952880"/>
              <a:chExt cx="3276720" cy="1162080"/>
            </a:xfrm>
          </p:grpSpPr>
          <p:sp>
            <p:nvSpPr>
              <p:cNvPr id="1732" name=""/>
              <p:cNvSpPr/>
              <p:nvPr/>
            </p:nvSpPr>
            <p:spPr>
              <a:xfrm>
                <a:off x="1295280" y="4952880"/>
                <a:ext cx="2438640" cy="381240"/>
              </a:xfrm>
              <a:prstGeom prst="rect">
                <a:avLst/>
              </a:prstGeom>
              <a:solidFill>
                <a:srgbClr val="9999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Loa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1752480" y="5334120"/>
                <a:ext cx="2438640" cy="3808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Mul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2133720" y="5715000"/>
                <a:ext cx="2438280" cy="399960"/>
              </a:xfrm>
              <a:prstGeom prst="rect">
                <a:avLst/>
              </a:prstGeom>
              <a:solidFill>
                <a:srgbClr val="fc0128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Ad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5" name=""/>
          <p:cNvGrpSpPr/>
          <p:nvPr/>
        </p:nvGrpSpPr>
        <p:grpSpPr>
          <a:xfrm>
            <a:off x="304920" y="1294200"/>
            <a:ext cx="8534160" cy="2153880"/>
            <a:chOff x="304920" y="1294200"/>
            <a:chExt cx="8534160" cy="2153880"/>
          </a:xfrm>
        </p:grpSpPr>
        <p:grpSp>
          <p:nvGrpSpPr>
            <p:cNvPr id="1736" name=""/>
            <p:cNvGrpSpPr/>
            <p:nvPr/>
          </p:nvGrpSpPr>
          <p:grpSpPr>
            <a:xfrm>
              <a:off x="990720" y="2286000"/>
              <a:ext cx="7315200" cy="1162080"/>
              <a:chOff x="990720" y="2286000"/>
              <a:chExt cx="7315200" cy="1162080"/>
            </a:xfrm>
          </p:grpSpPr>
          <p:grpSp>
            <p:nvGrpSpPr>
              <p:cNvPr id="1737" name=""/>
              <p:cNvGrpSpPr/>
              <p:nvPr/>
            </p:nvGrpSpPr>
            <p:grpSpPr>
              <a:xfrm>
                <a:off x="990720" y="2286000"/>
                <a:ext cx="7315200" cy="1162080"/>
                <a:chOff x="990720" y="2286000"/>
                <a:chExt cx="7315200" cy="1162080"/>
              </a:xfrm>
            </p:grpSpPr>
            <p:sp>
              <p:nvSpPr>
                <p:cNvPr id="1738" name=""/>
                <p:cNvSpPr/>
                <p:nvPr/>
              </p:nvSpPr>
              <p:spPr>
                <a:xfrm>
                  <a:off x="990720" y="2286000"/>
                  <a:ext cx="2438280" cy="380880"/>
                </a:xfrm>
                <a:prstGeom prst="rect">
                  <a:avLst/>
                </a:prstGeom>
                <a:solidFill>
                  <a:srgbClr val="9999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Loa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9" name=""/>
                <p:cNvSpPr/>
                <p:nvPr/>
              </p:nvSpPr>
              <p:spPr>
                <a:xfrm>
                  <a:off x="3429000" y="2666880"/>
                  <a:ext cx="2438280" cy="3812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Mu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5867280" y="3048120"/>
                  <a:ext cx="2438640" cy="399960"/>
                </a:xfrm>
                <a:prstGeom prst="rect">
                  <a:avLst/>
                </a:prstGeom>
                <a:solidFill>
                  <a:srgbClr val="fc0128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Add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1" name=""/>
              <p:cNvGrpSpPr/>
              <p:nvPr/>
            </p:nvGrpSpPr>
            <p:grpSpPr>
              <a:xfrm>
                <a:off x="1747440" y="3000960"/>
                <a:ext cx="1300680" cy="398880"/>
                <a:chOff x="1747440" y="3000960"/>
                <a:chExt cx="1300680" cy="398880"/>
              </a:xfrm>
            </p:grpSpPr>
            <p:sp>
              <p:nvSpPr>
                <p:cNvPr id="1742" name=""/>
                <p:cNvSpPr/>
                <p:nvPr/>
              </p:nvSpPr>
              <p:spPr>
                <a:xfrm>
                  <a:off x="2514600" y="3200400"/>
                  <a:ext cx="533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1747440" y="3000960"/>
                  <a:ext cx="773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Tim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44" name=""/>
            <p:cNvSpPr/>
            <p:nvPr/>
          </p:nvSpPr>
          <p:spPr>
            <a:xfrm>
              <a:off x="304920" y="1294200"/>
              <a:ext cx="85341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ithout chaining, must wait for last element of result to be written before starting dependent instruc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tartu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682920"/>
            <a:ext cx="7924680" cy="133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components of vector startup penal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nctional unit latency (time through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d time or recovery time (time before another vector instruction can start down pipelin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685800" y="2819520"/>
            <a:ext cx="1904760" cy="380880"/>
            <a:chOff x="685800" y="2819520"/>
            <a:chExt cx="1904760" cy="380880"/>
          </a:xfrm>
        </p:grpSpPr>
        <p:sp>
          <p:nvSpPr>
            <p:cNvPr id="1748" name=""/>
            <p:cNvSpPr/>
            <p:nvPr/>
          </p:nvSpPr>
          <p:spPr>
            <a:xfrm>
              <a:off x="685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066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447560" y="2819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82880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209680" y="2819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3" name=""/>
          <p:cNvGrpSpPr/>
          <p:nvPr/>
        </p:nvGrpSpPr>
        <p:grpSpPr>
          <a:xfrm>
            <a:off x="1066680" y="3200400"/>
            <a:ext cx="1904760" cy="380880"/>
            <a:chOff x="1066680" y="3200400"/>
            <a:chExt cx="1904760" cy="380880"/>
          </a:xfrm>
        </p:grpSpPr>
        <p:sp>
          <p:nvSpPr>
            <p:cNvPr id="1754" name=""/>
            <p:cNvSpPr/>
            <p:nvPr/>
          </p:nvSpPr>
          <p:spPr>
            <a:xfrm>
              <a:off x="1066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447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28440" y="3200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0968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2590560" y="3200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1447920" y="3581280"/>
            <a:ext cx="1904760" cy="380880"/>
            <a:chOff x="1447920" y="3581280"/>
            <a:chExt cx="1904760" cy="380880"/>
          </a:xfrm>
        </p:grpSpPr>
        <p:sp>
          <p:nvSpPr>
            <p:cNvPr id="1760" name=""/>
            <p:cNvSpPr/>
            <p:nvPr/>
          </p:nvSpPr>
          <p:spPr>
            <a:xfrm>
              <a:off x="1447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828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209680" y="3581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59092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71800" y="3581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5" name=""/>
          <p:cNvGrpSpPr/>
          <p:nvPr/>
        </p:nvGrpSpPr>
        <p:grpSpPr>
          <a:xfrm>
            <a:off x="1828800" y="3962520"/>
            <a:ext cx="1904760" cy="380880"/>
            <a:chOff x="1828800" y="3962520"/>
            <a:chExt cx="1904760" cy="380880"/>
          </a:xfrm>
        </p:grpSpPr>
        <p:sp>
          <p:nvSpPr>
            <p:cNvPr id="1766" name=""/>
            <p:cNvSpPr/>
            <p:nvPr/>
          </p:nvSpPr>
          <p:spPr>
            <a:xfrm>
              <a:off x="1828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209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590560" y="3962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97180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352680" y="3962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1" name=""/>
          <p:cNvGrpSpPr/>
          <p:nvPr/>
        </p:nvGrpSpPr>
        <p:grpSpPr>
          <a:xfrm>
            <a:off x="2209680" y="4343400"/>
            <a:ext cx="1904760" cy="380880"/>
            <a:chOff x="2209680" y="4343400"/>
            <a:chExt cx="1904760" cy="380880"/>
          </a:xfrm>
        </p:grpSpPr>
        <p:sp>
          <p:nvSpPr>
            <p:cNvPr id="1772" name=""/>
            <p:cNvSpPr/>
            <p:nvPr/>
          </p:nvSpPr>
          <p:spPr>
            <a:xfrm>
              <a:off x="2209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2590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2971440" y="434340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335268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33560" y="434340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7" name=""/>
          <p:cNvGrpSpPr/>
          <p:nvPr/>
        </p:nvGrpSpPr>
        <p:grpSpPr>
          <a:xfrm>
            <a:off x="2590920" y="4724280"/>
            <a:ext cx="1904760" cy="380880"/>
            <a:chOff x="2590920" y="4724280"/>
            <a:chExt cx="1904760" cy="380880"/>
          </a:xfrm>
        </p:grpSpPr>
        <p:sp>
          <p:nvSpPr>
            <p:cNvPr id="1778" name=""/>
            <p:cNvSpPr/>
            <p:nvPr/>
          </p:nvSpPr>
          <p:spPr>
            <a:xfrm>
              <a:off x="2590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2971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3352680" y="472428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373392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114800" y="472428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2971800" y="5105520"/>
            <a:ext cx="1904760" cy="380880"/>
            <a:chOff x="2971800" y="5105520"/>
            <a:chExt cx="1904760" cy="380880"/>
          </a:xfrm>
        </p:grpSpPr>
        <p:sp>
          <p:nvSpPr>
            <p:cNvPr id="1784" name=""/>
            <p:cNvSpPr/>
            <p:nvPr/>
          </p:nvSpPr>
          <p:spPr>
            <a:xfrm>
              <a:off x="2971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352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733560" y="5105520"/>
              <a:ext cx="38124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411480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4495680" y="5105520"/>
              <a:ext cx="380880" cy="38088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9" name=""/>
          <p:cNvGrpSpPr/>
          <p:nvPr/>
        </p:nvGrpSpPr>
        <p:grpSpPr>
          <a:xfrm>
            <a:off x="3352680" y="5486400"/>
            <a:ext cx="1904760" cy="380880"/>
            <a:chOff x="3352680" y="5486400"/>
            <a:chExt cx="1904760" cy="380880"/>
          </a:xfrm>
        </p:grpSpPr>
        <p:sp>
          <p:nvSpPr>
            <p:cNvPr id="1790" name=""/>
            <p:cNvSpPr/>
            <p:nvPr/>
          </p:nvSpPr>
          <p:spPr>
            <a:xfrm>
              <a:off x="3352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3733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114440" y="548640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9568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876560" y="548640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3733920" y="5867280"/>
            <a:ext cx="1904760" cy="380880"/>
            <a:chOff x="3733920" y="5867280"/>
            <a:chExt cx="1904760" cy="380880"/>
          </a:xfrm>
        </p:grpSpPr>
        <p:sp>
          <p:nvSpPr>
            <p:cNvPr id="1796" name=""/>
            <p:cNvSpPr/>
            <p:nvPr/>
          </p:nvSpPr>
          <p:spPr>
            <a:xfrm>
              <a:off x="3733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114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495680" y="586728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87692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257800" y="586728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1" name=""/>
          <p:cNvGrpSpPr/>
          <p:nvPr/>
        </p:nvGrpSpPr>
        <p:grpSpPr>
          <a:xfrm>
            <a:off x="4114800" y="6248520"/>
            <a:ext cx="1904760" cy="380880"/>
            <a:chOff x="4114800" y="6248520"/>
            <a:chExt cx="1904760" cy="380880"/>
          </a:xfrm>
        </p:grpSpPr>
        <p:sp>
          <p:nvSpPr>
            <p:cNvPr id="1802" name=""/>
            <p:cNvSpPr/>
            <p:nvPr/>
          </p:nvSpPr>
          <p:spPr>
            <a:xfrm>
              <a:off x="4114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495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876560" y="6248520"/>
              <a:ext cx="38124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525780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5638680" y="6248520"/>
              <a:ext cx="380880" cy="380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a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7" name=""/>
          <p:cNvSpPr/>
          <p:nvPr/>
        </p:nvSpPr>
        <p:spPr>
          <a:xfrm>
            <a:off x="68580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25909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>
            <a:off x="685800" y="25909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19400" y="2133360"/>
            <a:ext cx="247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al Unit Laten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828800" y="4419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352680" y="59436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8288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2033640" y="579096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6400800" y="2819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6400800" y="396252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6400800" y="5410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6400800" y="655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7238880" y="28195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7238880" y="3962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7238880" y="541008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6026400" y="3200040"/>
            <a:ext cx="240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First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33600" y="5790960"/>
            <a:ext cx="27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ae00"/>
                </a:solidFill>
                <a:latin typeface="Arial"/>
              </a:rPr>
              <a:t>Second Vector Instru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32640" y="4495320"/>
            <a:ext cx="12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ad Time and Short Vecto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914400" y="1371600"/>
            <a:ext cx="304920" cy="304920"/>
            <a:chOff x="914400" y="1371600"/>
            <a:chExt cx="304920" cy="304920"/>
          </a:xfrm>
        </p:grpSpPr>
        <p:sp>
          <p:nvSpPr>
            <p:cNvPr id="1827" name=""/>
            <p:cNvSpPr/>
            <p:nvPr/>
          </p:nvSpPr>
          <p:spPr>
            <a:xfrm>
              <a:off x="914400" y="13716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990720" y="14479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219320" y="1371600"/>
            <a:ext cx="304560" cy="304920"/>
            <a:chOff x="1219320" y="1371600"/>
            <a:chExt cx="304560" cy="304920"/>
          </a:xfrm>
        </p:grpSpPr>
        <p:sp>
          <p:nvSpPr>
            <p:cNvPr id="1830" name=""/>
            <p:cNvSpPr/>
            <p:nvPr/>
          </p:nvSpPr>
          <p:spPr>
            <a:xfrm>
              <a:off x="1219320" y="13716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295280" y="14479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2" name=""/>
          <p:cNvGrpSpPr/>
          <p:nvPr/>
        </p:nvGrpSpPr>
        <p:grpSpPr>
          <a:xfrm>
            <a:off x="914400" y="1676520"/>
            <a:ext cx="304920" cy="304560"/>
            <a:chOff x="914400" y="1676520"/>
            <a:chExt cx="304920" cy="304560"/>
          </a:xfrm>
        </p:grpSpPr>
        <p:sp>
          <p:nvSpPr>
            <p:cNvPr id="1833" name=""/>
            <p:cNvSpPr/>
            <p:nvPr/>
          </p:nvSpPr>
          <p:spPr>
            <a:xfrm>
              <a:off x="914400" y="16765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990720" y="1752480"/>
              <a:ext cx="15228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5" name=""/>
          <p:cNvGrpSpPr/>
          <p:nvPr/>
        </p:nvGrpSpPr>
        <p:grpSpPr>
          <a:xfrm>
            <a:off x="1219320" y="1676520"/>
            <a:ext cx="304560" cy="304560"/>
            <a:chOff x="1219320" y="1676520"/>
            <a:chExt cx="304560" cy="304560"/>
          </a:xfrm>
        </p:grpSpPr>
        <p:sp>
          <p:nvSpPr>
            <p:cNvPr id="1836" name=""/>
            <p:cNvSpPr/>
            <p:nvPr/>
          </p:nvSpPr>
          <p:spPr>
            <a:xfrm>
              <a:off x="1219320" y="16765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295280" y="1752480"/>
              <a:ext cx="151920" cy="15192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8" name=""/>
          <p:cNvGrpSpPr/>
          <p:nvPr/>
        </p:nvGrpSpPr>
        <p:grpSpPr>
          <a:xfrm>
            <a:off x="914400" y="1981080"/>
            <a:ext cx="304920" cy="304920"/>
            <a:chOff x="914400" y="1981080"/>
            <a:chExt cx="304920" cy="304920"/>
          </a:xfrm>
        </p:grpSpPr>
        <p:sp>
          <p:nvSpPr>
            <p:cNvPr id="1839" name=""/>
            <p:cNvSpPr/>
            <p:nvPr/>
          </p:nvSpPr>
          <p:spPr>
            <a:xfrm>
              <a:off x="914400" y="198108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990720" y="205740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1" name=""/>
          <p:cNvGrpSpPr/>
          <p:nvPr/>
        </p:nvGrpSpPr>
        <p:grpSpPr>
          <a:xfrm>
            <a:off x="1219320" y="1981080"/>
            <a:ext cx="304560" cy="304920"/>
            <a:chOff x="1219320" y="1981080"/>
            <a:chExt cx="304560" cy="304920"/>
          </a:xfrm>
        </p:grpSpPr>
        <p:sp>
          <p:nvSpPr>
            <p:cNvPr id="1842" name=""/>
            <p:cNvSpPr/>
            <p:nvPr/>
          </p:nvSpPr>
          <p:spPr>
            <a:xfrm>
              <a:off x="1219320" y="198108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95280" y="205740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4" name=""/>
          <p:cNvGrpSpPr/>
          <p:nvPr/>
        </p:nvGrpSpPr>
        <p:grpSpPr>
          <a:xfrm>
            <a:off x="914400" y="2286000"/>
            <a:ext cx="304920" cy="304920"/>
            <a:chOff x="914400" y="2286000"/>
            <a:chExt cx="304920" cy="304920"/>
          </a:xfrm>
        </p:grpSpPr>
        <p:sp>
          <p:nvSpPr>
            <p:cNvPr id="1845" name=""/>
            <p:cNvSpPr/>
            <p:nvPr/>
          </p:nvSpPr>
          <p:spPr>
            <a:xfrm>
              <a:off x="914400" y="2286000"/>
              <a:ext cx="30492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990720" y="2362320"/>
              <a:ext cx="15228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1219320" y="2286000"/>
            <a:ext cx="304560" cy="304920"/>
            <a:chOff x="1219320" y="2286000"/>
            <a:chExt cx="304560" cy="304920"/>
          </a:xfrm>
        </p:grpSpPr>
        <p:sp>
          <p:nvSpPr>
            <p:cNvPr id="1848" name=""/>
            <p:cNvSpPr/>
            <p:nvPr/>
          </p:nvSpPr>
          <p:spPr>
            <a:xfrm>
              <a:off x="1219320" y="2286000"/>
              <a:ext cx="304560" cy="3049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295280" y="2362320"/>
              <a:ext cx="151920" cy="152280"/>
            </a:xfrm>
            <a:prstGeom prst="ellipse">
              <a:avLst/>
            </a:prstGeom>
            <a:solidFill>
              <a:srgbClr val="fc012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0" name=""/>
          <p:cNvSpPr/>
          <p:nvPr/>
        </p:nvSpPr>
        <p:spPr>
          <a:xfrm>
            <a:off x="914400" y="1143000"/>
            <a:ext cx="609480" cy="1447920"/>
          </a:xfrm>
          <a:custGeom>
            <a:avLst/>
            <a:gdLst/>
            <a:ahLst/>
            <a:rect l="l" t="t" r="r" b="b"/>
            <a:pathLst>
              <a:path w="384" h="912">
                <a:moveTo>
                  <a:pt x="0" y="0"/>
                </a:moveTo>
                <a:lnTo>
                  <a:pt x="0" y="912"/>
                </a:lnTo>
                <a:lnTo>
                  <a:pt x="384" y="912"/>
                </a:lnTo>
                <a:lnTo>
                  <a:pt x="384" y="4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1" name=""/>
          <p:cNvGrpSpPr/>
          <p:nvPr/>
        </p:nvGrpSpPr>
        <p:grpSpPr>
          <a:xfrm>
            <a:off x="914400" y="2590920"/>
            <a:ext cx="304920" cy="304560"/>
            <a:chOff x="914400" y="2590920"/>
            <a:chExt cx="304920" cy="304560"/>
          </a:xfrm>
        </p:grpSpPr>
        <p:sp>
          <p:nvSpPr>
            <p:cNvPr id="1852" name=""/>
            <p:cNvSpPr/>
            <p:nvPr/>
          </p:nvSpPr>
          <p:spPr>
            <a:xfrm>
              <a:off x="914400" y="25909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990720" y="26668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4" name=""/>
          <p:cNvGrpSpPr/>
          <p:nvPr/>
        </p:nvGrpSpPr>
        <p:grpSpPr>
          <a:xfrm>
            <a:off x="1219320" y="2590920"/>
            <a:ext cx="304560" cy="304560"/>
            <a:chOff x="1219320" y="2590920"/>
            <a:chExt cx="304560" cy="304560"/>
          </a:xfrm>
        </p:grpSpPr>
        <p:sp>
          <p:nvSpPr>
            <p:cNvPr id="1855" name=""/>
            <p:cNvSpPr/>
            <p:nvPr/>
          </p:nvSpPr>
          <p:spPr>
            <a:xfrm>
              <a:off x="1219320" y="25909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295280" y="26668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7" name=""/>
          <p:cNvGrpSpPr/>
          <p:nvPr/>
        </p:nvGrpSpPr>
        <p:grpSpPr>
          <a:xfrm>
            <a:off x="914400" y="2895480"/>
            <a:ext cx="304920" cy="304920"/>
            <a:chOff x="914400" y="2895480"/>
            <a:chExt cx="304920" cy="304920"/>
          </a:xfrm>
        </p:grpSpPr>
        <p:sp>
          <p:nvSpPr>
            <p:cNvPr id="1858" name=""/>
            <p:cNvSpPr/>
            <p:nvPr/>
          </p:nvSpPr>
          <p:spPr>
            <a:xfrm>
              <a:off x="914400" y="289548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990720" y="297180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0" name=""/>
          <p:cNvGrpSpPr/>
          <p:nvPr/>
        </p:nvGrpSpPr>
        <p:grpSpPr>
          <a:xfrm>
            <a:off x="1219320" y="2895480"/>
            <a:ext cx="304560" cy="304920"/>
            <a:chOff x="1219320" y="2895480"/>
            <a:chExt cx="304560" cy="304920"/>
          </a:xfrm>
        </p:grpSpPr>
        <p:sp>
          <p:nvSpPr>
            <p:cNvPr id="1861" name=""/>
            <p:cNvSpPr/>
            <p:nvPr/>
          </p:nvSpPr>
          <p:spPr>
            <a:xfrm>
              <a:off x="1219320" y="289548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295280" y="297180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914400" y="3200400"/>
            <a:ext cx="304920" cy="304920"/>
            <a:chOff x="914400" y="3200400"/>
            <a:chExt cx="304920" cy="304920"/>
          </a:xfrm>
        </p:grpSpPr>
        <p:sp>
          <p:nvSpPr>
            <p:cNvPr id="1864" name=""/>
            <p:cNvSpPr/>
            <p:nvPr/>
          </p:nvSpPr>
          <p:spPr>
            <a:xfrm>
              <a:off x="914400" y="3200400"/>
              <a:ext cx="30492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990720" y="3276720"/>
              <a:ext cx="15228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6" name=""/>
          <p:cNvGrpSpPr/>
          <p:nvPr/>
        </p:nvGrpSpPr>
        <p:grpSpPr>
          <a:xfrm>
            <a:off x="1219320" y="3200400"/>
            <a:ext cx="304560" cy="304920"/>
            <a:chOff x="1219320" y="3200400"/>
            <a:chExt cx="304560" cy="304920"/>
          </a:xfrm>
        </p:grpSpPr>
        <p:sp>
          <p:nvSpPr>
            <p:cNvPr id="1867" name=""/>
            <p:cNvSpPr/>
            <p:nvPr/>
          </p:nvSpPr>
          <p:spPr>
            <a:xfrm>
              <a:off x="1219320" y="3200400"/>
              <a:ext cx="304560" cy="30492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295280" y="3276720"/>
              <a:ext cx="151920" cy="15228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9" name=""/>
          <p:cNvGrpSpPr/>
          <p:nvPr/>
        </p:nvGrpSpPr>
        <p:grpSpPr>
          <a:xfrm>
            <a:off x="914400" y="3505320"/>
            <a:ext cx="304920" cy="304560"/>
            <a:chOff x="914400" y="3505320"/>
            <a:chExt cx="304920" cy="304560"/>
          </a:xfrm>
        </p:grpSpPr>
        <p:sp>
          <p:nvSpPr>
            <p:cNvPr id="1870" name=""/>
            <p:cNvSpPr/>
            <p:nvPr/>
          </p:nvSpPr>
          <p:spPr>
            <a:xfrm>
              <a:off x="914400" y="3505320"/>
              <a:ext cx="30492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990720" y="3581280"/>
              <a:ext cx="15228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2" name=""/>
          <p:cNvGrpSpPr/>
          <p:nvPr/>
        </p:nvGrpSpPr>
        <p:grpSpPr>
          <a:xfrm>
            <a:off x="1219320" y="3505320"/>
            <a:ext cx="304560" cy="304560"/>
            <a:chOff x="1219320" y="3505320"/>
            <a:chExt cx="304560" cy="304560"/>
          </a:xfrm>
        </p:grpSpPr>
        <p:sp>
          <p:nvSpPr>
            <p:cNvPr id="1873" name=""/>
            <p:cNvSpPr/>
            <p:nvPr/>
          </p:nvSpPr>
          <p:spPr>
            <a:xfrm>
              <a:off x="1219320" y="3505320"/>
              <a:ext cx="304560" cy="304560"/>
            </a:xfrm>
            <a:prstGeom prst="rect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295280" y="3581280"/>
              <a:ext cx="151920" cy="151920"/>
            </a:xfrm>
            <a:prstGeom prst="ellipse">
              <a:avLst/>
            </a:prstGeom>
            <a:solidFill>
              <a:srgbClr val="cecece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5" name=""/>
          <p:cNvGrpSpPr/>
          <p:nvPr/>
        </p:nvGrpSpPr>
        <p:grpSpPr>
          <a:xfrm>
            <a:off x="914400" y="3809880"/>
            <a:ext cx="304920" cy="304560"/>
            <a:chOff x="914400" y="3809880"/>
            <a:chExt cx="304920" cy="304560"/>
          </a:xfrm>
        </p:grpSpPr>
        <p:sp>
          <p:nvSpPr>
            <p:cNvPr id="1876" name=""/>
            <p:cNvSpPr/>
            <p:nvPr/>
          </p:nvSpPr>
          <p:spPr>
            <a:xfrm>
              <a:off x="914400" y="3809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990720" y="3885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8" name=""/>
          <p:cNvGrpSpPr/>
          <p:nvPr/>
        </p:nvGrpSpPr>
        <p:grpSpPr>
          <a:xfrm>
            <a:off x="1219320" y="3809880"/>
            <a:ext cx="304560" cy="304560"/>
            <a:chOff x="1219320" y="3809880"/>
            <a:chExt cx="304560" cy="304560"/>
          </a:xfrm>
        </p:grpSpPr>
        <p:sp>
          <p:nvSpPr>
            <p:cNvPr id="1879" name=""/>
            <p:cNvSpPr/>
            <p:nvPr/>
          </p:nvSpPr>
          <p:spPr>
            <a:xfrm>
              <a:off x="1219320" y="3809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295280" y="3885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1" name=""/>
          <p:cNvGrpSpPr/>
          <p:nvPr/>
        </p:nvGrpSpPr>
        <p:grpSpPr>
          <a:xfrm>
            <a:off x="1219320" y="4114800"/>
            <a:ext cx="304560" cy="304560"/>
            <a:chOff x="1219320" y="4114800"/>
            <a:chExt cx="304560" cy="304560"/>
          </a:xfrm>
        </p:grpSpPr>
        <p:sp>
          <p:nvSpPr>
            <p:cNvPr id="1882" name=""/>
            <p:cNvSpPr/>
            <p:nvPr/>
          </p:nvSpPr>
          <p:spPr>
            <a:xfrm>
              <a:off x="1219320" y="4114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295280" y="4190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4" name=""/>
          <p:cNvGrpSpPr/>
          <p:nvPr/>
        </p:nvGrpSpPr>
        <p:grpSpPr>
          <a:xfrm>
            <a:off x="914400" y="4114800"/>
            <a:ext cx="304920" cy="304560"/>
            <a:chOff x="914400" y="4114800"/>
            <a:chExt cx="304920" cy="304560"/>
          </a:xfrm>
        </p:grpSpPr>
        <p:sp>
          <p:nvSpPr>
            <p:cNvPr id="1885" name=""/>
            <p:cNvSpPr/>
            <p:nvPr/>
          </p:nvSpPr>
          <p:spPr>
            <a:xfrm>
              <a:off x="914400" y="4114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990720" y="4190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7" name=""/>
          <p:cNvGrpSpPr/>
          <p:nvPr/>
        </p:nvGrpSpPr>
        <p:grpSpPr>
          <a:xfrm>
            <a:off x="1219320" y="4419720"/>
            <a:ext cx="304560" cy="304560"/>
            <a:chOff x="1219320" y="4419720"/>
            <a:chExt cx="304560" cy="304560"/>
          </a:xfrm>
        </p:grpSpPr>
        <p:sp>
          <p:nvSpPr>
            <p:cNvPr id="1888" name=""/>
            <p:cNvSpPr/>
            <p:nvPr/>
          </p:nvSpPr>
          <p:spPr>
            <a:xfrm>
              <a:off x="1219320" y="44197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295280" y="44956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914400" y="4419720"/>
            <a:ext cx="304920" cy="304560"/>
            <a:chOff x="914400" y="4419720"/>
            <a:chExt cx="304920" cy="304560"/>
          </a:xfrm>
        </p:grpSpPr>
        <p:sp>
          <p:nvSpPr>
            <p:cNvPr id="1891" name=""/>
            <p:cNvSpPr/>
            <p:nvPr/>
          </p:nvSpPr>
          <p:spPr>
            <a:xfrm>
              <a:off x="914400" y="44197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990720" y="44956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3" name=""/>
          <p:cNvGrpSpPr/>
          <p:nvPr/>
        </p:nvGrpSpPr>
        <p:grpSpPr>
          <a:xfrm>
            <a:off x="914400" y="4724280"/>
            <a:ext cx="304920" cy="304560"/>
            <a:chOff x="914400" y="4724280"/>
            <a:chExt cx="304920" cy="304560"/>
          </a:xfrm>
        </p:grpSpPr>
        <p:sp>
          <p:nvSpPr>
            <p:cNvPr id="1894" name=""/>
            <p:cNvSpPr/>
            <p:nvPr/>
          </p:nvSpPr>
          <p:spPr>
            <a:xfrm>
              <a:off x="914400" y="47242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990720" y="48002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6" name=""/>
          <p:cNvGrpSpPr/>
          <p:nvPr/>
        </p:nvGrpSpPr>
        <p:grpSpPr>
          <a:xfrm>
            <a:off x="1219320" y="4724280"/>
            <a:ext cx="304560" cy="304560"/>
            <a:chOff x="1219320" y="4724280"/>
            <a:chExt cx="304560" cy="304560"/>
          </a:xfrm>
        </p:grpSpPr>
        <p:sp>
          <p:nvSpPr>
            <p:cNvPr id="1897" name=""/>
            <p:cNvSpPr/>
            <p:nvPr/>
          </p:nvSpPr>
          <p:spPr>
            <a:xfrm>
              <a:off x="1219320" y="47242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295280" y="48002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9" name=""/>
          <p:cNvGrpSpPr/>
          <p:nvPr/>
        </p:nvGrpSpPr>
        <p:grpSpPr>
          <a:xfrm>
            <a:off x="1219320" y="5029200"/>
            <a:ext cx="304560" cy="304560"/>
            <a:chOff x="1219320" y="5029200"/>
            <a:chExt cx="304560" cy="304560"/>
          </a:xfrm>
        </p:grpSpPr>
        <p:sp>
          <p:nvSpPr>
            <p:cNvPr id="1900" name=""/>
            <p:cNvSpPr/>
            <p:nvPr/>
          </p:nvSpPr>
          <p:spPr>
            <a:xfrm>
              <a:off x="1219320" y="50292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295280" y="51051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2" name=""/>
          <p:cNvGrpSpPr/>
          <p:nvPr/>
        </p:nvGrpSpPr>
        <p:grpSpPr>
          <a:xfrm>
            <a:off x="914400" y="5029200"/>
            <a:ext cx="304920" cy="304560"/>
            <a:chOff x="914400" y="5029200"/>
            <a:chExt cx="304920" cy="304560"/>
          </a:xfrm>
        </p:grpSpPr>
        <p:sp>
          <p:nvSpPr>
            <p:cNvPr id="1903" name=""/>
            <p:cNvSpPr/>
            <p:nvPr/>
          </p:nvSpPr>
          <p:spPr>
            <a:xfrm>
              <a:off x="914400" y="50292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990720" y="51051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5" name=""/>
          <p:cNvGrpSpPr/>
          <p:nvPr/>
        </p:nvGrpSpPr>
        <p:grpSpPr>
          <a:xfrm>
            <a:off x="1219320" y="5334120"/>
            <a:ext cx="304560" cy="304560"/>
            <a:chOff x="1219320" y="5334120"/>
            <a:chExt cx="304560" cy="304560"/>
          </a:xfrm>
        </p:grpSpPr>
        <p:sp>
          <p:nvSpPr>
            <p:cNvPr id="1906" name=""/>
            <p:cNvSpPr/>
            <p:nvPr/>
          </p:nvSpPr>
          <p:spPr>
            <a:xfrm>
              <a:off x="1219320" y="533412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295280" y="541008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8" name=""/>
          <p:cNvGrpSpPr/>
          <p:nvPr/>
        </p:nvGrpSpPr>
        <p:grpSpPr>
          <a:xfrm>
            <a:off x="914400" y="5334120"/>
            <a:ext cx="304920" cy="304560"/>
            <a:chOff x="914400" y="5334120"/>
            <a:chExt cx="304920" cy="304560"/>
          </a:xfrm>
        </p:grpSpPr>
        <p:sp>
          <p:nvSpPr>
            <p:cNvPr id="1909" name=""/>
            <p:cNvSpPr/>
            <p:nvPr/>
          </p:nvSpPr>
          <p:spPr>
            <a:xfrm>
              <a:off x="914400" y="533412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990720" y="541008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1" name=""/>
          <p:cNvSpPr/>
          <p:nvPr/>
        </p:nvSpPr>
        <p:spPr>
          <a:xfrm>
            <a:off x="914400" y="3809880"/>
            <a:ext cx="609480" cy="2133720"/>
          </a:xfrm>
          <a:custGeom>
            <a:avLst/>
            <a:gdLst/>
            <a:ahLst/>
            <a:rect l="l" t="t" r="r" b="b"/>
            <a:pathLst>
              <a:path w="384" h="1344">
                <a:moveTo>
                  <a:pt x="0" y="1296"/>
                </a:moveTo>
                <a:lnTo>
                  <a:pt x="0" y="0"/>
                </a:lnTo>
                <a:lnTo>
                  <a:pt x="384" y="0"/>
                </a:lnTo>
                <a:lnTo>
                  <a:pt x="384" y="134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2209680" y="5486400"/>
            <a:ext cx="281952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ray C90, Two 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4 cycle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aximum efficiency 94% with 128 element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1600200" y="3809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160020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1752480" y="25909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1832760" y="3047760"/>
            <a:ext cx="19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cycles dead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4690440" y="2209680"/>
            <a:ext cx="4301280" cy="2007000"/>
            <a:chOff x="4690440" y="2209680"/>
            <a:chExt cx="4301280" cy="2007000"/>
          </a:xfrm>
        </p:grpSpPr>
        <p:grpSp>
          <p:nvGrpSpPr>
            <p:cNvPr id="1918" name=""/>
            <p:cNvGrpSpPr/>
            <p:nvPr/>
          </p:nvGrpSpPr>
          <p:grpSpPr>
            <a:xfrm>
              <a:off x="6400800" y="2209680"/>
              <a:ext cx="2438280" cy="609480"/>
              <a:chOff x="6400800" y="2209680"/>
              <a:chExt cx="2438280" cy="609480"/>
            </a:xfrm>
          </p:grpSpPr>
          <p:grpSp>
            <p:nvGrpSpPr>
              <p:cNvPr id="1919" name=""/>
              <p:cNvGrpSpPr/>
              <p:nvPr/>
            </p:nvGrpSpPr>
            <p:grpSpPr>
              <a:xfrm>
                <a:off x="6400800" y="2209680"/>
                <a:ext cx="304920" cy="304560"/>
                <a:chOff x="6400800" y="2209680"/>
                <a:chExt cx="304920" cy="304560"/>
              </a:xfrm>
            </p:grpSpPr>
            <p:sp>
              <p:nvSpPr>
                <p:cNvPr id="1920" name=""/>
                <p:cNvSpPr/>
                <p:nvPr/>
              </p:nvSpPr>
              <p:spPr>
                <a:xfrm>
                  <a:off x="64008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1" name=""/>
                <p:cNvSpPr/>
                <p:nvPr/>
              </p:nvSpPr>
              <p:spPr>
                <a:xfrm>
                  <a:off x="64771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2" name=""/>
              <p:cNvGrpSpPr/>
              <p:nvPr/>
            </p:nvGrpSpPr>
            <p:grpSpPr>
              <a:xfrm>
                <a:off x="6705720" y="2209680"/>
                <a:ext cx="304560" cy="304560"/>
                <a:chOff x="6705720" y="2209680"/>
                <a:chExt cx="304560" cy="3045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67057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67816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5" name=""/>
              <p:cNvGrpSpPr/>
              <p:nvPr/>
            </p:nvGrpSpPr>
            <p:grpSpPr>
              <a:xfrm>
                <a:off x="7620120" y="2209680"/>
                <a:ext cx="304560" cy="304560"/>
                <a:chOff x="7620120" y="2209680"/>
                <a:chExt cx="304560" cy="304560"/>
              </a:xfrm>
            </p:grpSpPr>
            <p:sp>
              <p:nvSpPr>
                <p:cNvPr id="1926" name=""/>
                <p:cNvSpPr/>
                <p:nvPr/>
              </p:nvSpPr>
              <p:spPr>
                <a:xfrm>
                  <a:off x="76201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7" name=""/>
                <p:cNvSpPr/>
                <p:nvPr/>
              </p:nvSpPr>
              <p:spPr>
                <a:xfrm>
                  <a:off x="76960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8" name=""/>
              <p:cNvGrpSpPr/>
              <p:nvPr/>
            </p:nvGrpSpPr>
            <p:grpSpPr>
              <a:xfrm>
                <a:off x="7924680" y="2209680"/>
                <a:ext cx="304920" cy="304560"/>
                <a:chOff x="7924680" y="2209680"/>
                <a:chExt cx="304920" cy="304560"/>
              </a:xfrm>
            </p:grpSpPr>
            <p:sp>
              <p:nvSpPr>
                <p:cNvPr id="1929" name=""/>
                <p:cNvSpPr/>
                <p:nvPr/>
              </p:nvSpPr>
              <p:spPr>
                <a:xfrm>
                  <a:off x="79246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0" name=""/>
                <p:cNvSpPr/>
                <p:nvPr/>
              </p:nvSpPr>
              <p:spPr>
                <a:xfrm>
                  <a:off x="80010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1" name=""/>
              <p:cNvGrpSpPr/>
              <p:nvPr/>
            </p:nvGrpSpPr>
            <p:grpSpPr>
              <a:xfrm>
                <a:off x="7010280" y="2209680"/>
                <a:ext cx="304920" cy="304560"/>
                <a:chOff x="7010280" y="2209680"/>
                <a:chExt cx="304920" cy="304560"/>
              </a:xfrm>
            </p:grpSpPr>
            <p:sp>
              <p:nvSpPr>
                <p:cNvPr id="1932" name=""/>
                <p:cNvSpPr/>
                <p:nvPr/>
              </p:nvSpPr>
              <p:spPr>
                <a:xfrm>
                  <a:off x="701028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3" name=""/>
                <p:cNvSpPr/>
                <p:nvPr/>
              </p:nvSpPr>
              <p:spPr>
                <a:xfrm>
                  <a:off x="708660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4" name=""/>
              <p:cNvGrpSpPr/>
              <p:nvPr/>
            </p:nvGrpSpPr>
            <p:grpSpPr>
              <a:xfrm>
                <a:off x="7315200" y="2209680"/>
                <a:ext cx="304920" cy="304560"/>
                <a:chOff x="7315200" y="2209680"/>
                <a:chExt cx="304920" cy="30456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73152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73915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7" name=""/>
              <p:cNvGrpSpPr/>
              <p:nvPr/>
            </p:nvGrpSpPr>
            <p:grpSpPr>
              <a:xfrm>
                <a:off x="8229600" y="2209680"/>
                <a:ext cx="304920" cy="304560"/>
                <a:chOff x="8229600" y="2209680"/>
                <a:chExt cx="304920" cy="3045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8229600" y="220968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8305920" y="2285640"/>
                  <a:ext cx="15228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0" name=""/>
              <p:cNvGrpSpPr/>
              <p:nvPr/>
            </p:nvGrpSpPr>
            <p:grpSpPr>
              <a:xfrm>
                <a:off x="8534520" y="2209680"/>
                <a:ext cx="304560" cy="304560"/>
                <a:chOff x="8534520" y="2209680"/>
                <a:chExt cx="304560" cy="304560"/>
              </a:xfrm>
            </p:grpSpPr>
            <p:sp>
              <p:nvSpPr>
                <p:cNvPr id="1941" name=""/>
                <p:cNvSpPr/>
                <p:nvPr/>
              </p:nvSpPr>
              <p:spPr>
                <a:xfrm>
                  <a:off x="8534520" y="220968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8610480" y="2285640"/>
                  <a:ext cx="151920" cy="151920"/>
                </a:xfrm>
                <a:prstGeom prst="ellipse">
                  <a:avLst/>
                </a:prstGeom>
                <a:solidFill>
                  <a:srgbClr val="fc012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>
                <a:off x="6400800" y="2209680"/>
                <a:ext cx="2438280" cy="30456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4" name=""/>
              <p:cNvGrpSpPr/>
              <p:nvPr/>
            </p:nvGrpSpPr>
            <p:grpSpPr>
              <a:xfrm>
                <a:off x="6400800" y="2514240"/>
                <a:ext cx="304920" cy="304560"/>
                <a:chOff x="6400800" y="2514240"/>
                <a:chExt cx="304920" cy="304560"/>
              </a:xfrm>
            </p:grpSpPr>
            <p:sp>
              <p:nvSpPr>
                <p:cNvPr id="1945" name=""/>
                <p:cNvSpPr/>
                <p:nvPr/>
              </p:nvSpPr>
              <p:spPr>
                <a:xfrm>
                  <a:off x="64008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64771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7" name=""/>
              <p:cNvGrpSpPr/>
              <p:nvPr/>
            </p:nvGrpSpPr>
            <p:grpSpPr>
              <a:xfrm>
                <a:off x="6705720" y="2514240"/>
                <a:ext cx="304560" cy="304560"/>
                <a:chOff x="6705720" y="2514240"/>
                <a:chExt cx="304560" cy="3045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67057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67816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0" name=""/>
              <p:cNvGrpSpPr/>
              <p:nvPr/>
            </p:nvGrpSpPr>
            <p:grpSpPr>
              <a:xfrm>
                <a:off x="7010280" y="2514240"/>
                <a:ext cx="304920" cy="304560"/>
                <a:chOff x="7010280" y="2514240"/>
                <a:chExt cx="304920" cy="304560"/>
              </a:xfrm>
            </p:grpSpPr>
            <p:sp>
              <p:nvSpPr>
                <p:cNvPr id="1951" name=""/>
                <p:cNvSpPr/>
                <p:nvPr/>
              </p:nvSpPr>
              <p:spPr>
                <a:xfrm>
                  <a:off x="70102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2" name=""/>
                <p:cNvSpPr/>
                <p:nvPr/>
              </p:nvSpPr>
              <p:spPr>
                <a:xfrm>
                  <a:off x="70866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3" name=""/>
              <p:cNvGrpSpPr/>
              <p:nvPr/>
            </p:nvGrpSpPr>
            <p:grpSpPr>
              <a:xfrm>
                <a:off x="7315200" y="2514240"/>
                <a:ext cx="304920" cy="304560"/>
                <a:chOff x="7315200" y="2514240"/>
                <a:chExt cx="304920" cy="30456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73152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73915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6" name=""/>
              <p:cNvGrpSpPr/>
              <p:nvPr/>
            </p:nvGrpSpPr>
            <p:grpSpPr>
              <a:xfrm>
                <a:off x="7620120" y="2514240"/>
                <a:ext cx="304560" cy="304560"/>
                <a:chOff x="7620120" y="2514240"/>
                <a:chExt cx="304560" cy="30456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76201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76960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9" name=""/>
              <p:cNvGrpSpPr/>
              <p:nvPr/>
            </p:nvGrpSpPr>
            <p:grpSpPr>
              <a:xfrm>
                <a:off x="7924680" y="2514240"/>
                <a:ext cx="304920" cy="304560"/>
                <a:chOff x="7924680" y="2514240"/>
                <a:chExt cx="304920" cy="304560"/>
              </a:xfrm>
            </p:grpSpPr>
            <p:sp>
              <p:nvSpPr>
                <p:cNvPr id="1960" name=""/>
                <p:cNvSpPr/>
                <p:nvPr/>
              </p:nvSpPr>
              <p:spPr>
                <a:xfrm>
                  <a:off x="792468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1" name=""/>
                <p:cNvSpPr/>
                <p:nvPr/>
              </p:nvSpPr>
              <p:spPr>
                <a:xfrm>
                  <a:off x="800100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2" name=""/>
              <p:cNvGrpSpPr/>
              <p:nvPr/>
            </p:nvGrpSpPr>
            <p:grpSpPr>
              <a:xfrm>
                <a:off x="8229600" y="2514240"/>
                <a:ext cx="304920" cy="304560"/>
                <a:chOff x="8229600" y="2514240"/>
                <a:chExt cx="304920" cy="3045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8229600" y="2514240"/>
                  <a:ext cx="30492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8305920" y="2590200"/>
                  <a:ext cx="15228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5" name=""/>
              <p:cNvGrpSpPr/>
              <p:nvPr/>
            </p:nvGrpSpPr>
            <p:grpSpPr>
              <a:xfrm>
                <a:off x="8534520" y="2514240"/>
                <a:ext cx="304560" cy="304560"/>
                <a:chOff x="8534520" y="2514240"/>
                <a:chExt cx="304560" cy="304560"/>
              </a:xfrm>
            </p:grpSpPr>
            <p:sp>
              <p:nvSpPr>
                <p:cNvPr id="1966" name=""/>
                <p:cNvSpPr/>
                <p:nvPr/>
              </p:nvSpPr>
              <p:spPr>
                <a:xfrm>
                  <a:off x="8534520" y="2514240"/>
                  <a:ext cx="304560" cy="30456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7" name=""/>
                <p:cNvSpPr/>
                <p:nvPr/>
              </p:nvSpPr>
              <p:spPr>
                <a:xfrm>
                  <a:off x="8610480" y="2590200"/>
                  <a:ext cx="151920" cy="152640"/>
                </a:xfrm>
                <a:prstGeom prst="ellipse">
                  <a:avLst/>
                </a:prstGeom>
                <a:solidFill>
                  <a:srgbClr val="00ae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8" name=""/>
              <p:cNvSpPr/>
              <p:nvPr/>
            </p:nvSpPr>
            <p:spPr>
              <a:xfrm>
                <a:off x="6400800" y="2514240"/>
                <a:ext cx="2438280" cy="304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9" name=""/>
            <p:cNvSpPr/>
            <p:nvPr/>
          </p:nvSpPr>
          <p:spPr>
            <a:xfrm>
              <a:off x="5791320" y="3047760"/>
              <a:ext cx="320040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0, Eight la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100% efficiency with 8 element vecto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4690440" y="2361960"/>
              <a:ext cx="145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o dead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6172200" y="251460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1219320" y="6095880"/>
            <a:ext cx="304560" cy="304560"/>
            <a:chOff x="1219320" y="6095880"/>
            <a:chExt cx="304560" cy="304560"/>
          </a:xfrm>
        </p:grpSpPr>
        <p:sp>
          <p:nvSpPr>
            <p:cNvPr id="1973" name=""/>
            <p:cNvSpPr/>
            <p:nvPr/>
          </p:nvSpPr>
          <p:spPr>
            <a:xfrm>
              <a:off x="1219320" y="609588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295280" y="617184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5" name=""/>
          <p:cNvGrpSpPr/>
          <p:nvPr/>
        </p:nvGrpSpPr>
        <p:grpSpPr>
          <a:xfrm>
            <a:off x="914400" y="6095880"/>
            <a:ext cx="304920" cy="304560"/>
            <a:chOff x="914400" y="6095880"/>
            <a:chExt cx="304920" cy="304560"/>
          </a:xfrm>
        </p:grpSpPr>
        <p:sp>
          <p:nvSpPr>
            <p:cNvPr id="1976" name=""/>
            <p:cNvSpPr/>
            <p:nvPr/>
          </p:nvSpPr>
          <p:spPr>
            <a:xfrm>
              <a:off x="914400" y="609588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990720" y="617184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8" name=""/>
          <p:cNvGrpSpPr/>
          <p:nvPr/>
        </p:nvGrpSpPr>
        <p:grpSpPr>
          <a:xfrm>
            <a:off x="1219320" y="6400800"/>
            <a:ext cx="304560" cy="304560"/>
            <a:chOff x="1219320" y="6400800"/>
            <a:chExt cx="304560" cy="304560"/>
          </a:xfrm>
        </p:grpSpPr>
        <p:sp>
          <p:nvSpPr>
            <p:cNvPr id="1979" name=""/>
            <p:cNvSpPr/>
            <p:nvPr/>
          </p:nvSpPr>
          <p:spPr>
            <a:xfrm>
              <a:off x="1219320" y="6400800"/>
              <a:ext cx="30456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295280" y="6476760"/>
              <a:ext cx="15192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1" name=""/>
          <p:cNvGrpSpPr/>
          <p:nvPr/>
        </p:nvGrpSpPr>
        <p:grpSpPr>
          <a:xfrm>
            <a:off x="914400" y="6400800"/>
            <a:ext cx="304920" cy="304560"/>
            <a:chOff x="914400" y="6400800"/>
            <a:chExt cx="304920" cy="304560"/>
          </a:xfrm>
        </p:grpSpPr>
        <p:sp>
          <p:nvSpPr>
            <p:cNvPr id="1982" name=""/>
            <p:cNvSpPr/>
            <p:nvPr/>
          </p:nvSpPr>
          <p:spPr>
            <a:xfrm>
              <a:off x="914400" y="6400800"/>
              <a:ext cx="304920" cy="304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90720" y="6476760"/>
              <a:ext cx="152280" cy="152640"/>
            </a:xfrm>
            <a:prstGeom prst="ellipse">
              <a:avLst/>
            </a:prstGeom>
            <a:solidFill>
              <a:srgbClr val="00ae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4" name=""/>
          <p:cNvSpPr/>
          <p:nvPr/>
        </p:nvSpPr>
        <p:spPr>
          <a:xfrm>
            <a:off x="914400" y="5943600"/>
            <a:ext cx="60948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0" y="480"/>
                </a:lnTo>
                <a:lnTo>
                  <a:pt x="384" y="480"/>
                </a:lnTo>
                <a:lnTo>
                  <a:pt x="384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1600200" y="6705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1752480" y="38098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1832040" y="4876560"/>
            <a:ext cx="171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 cycles a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>
            <a:off x="1219320" y="57150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533520" y="1642680"/>
            <a:ext cx="8229600" cy="39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nt to vectorize loops with indirect accesse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 + C[D[i]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exed load instruction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ath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D, rD       # Load indices in D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I vC, rC, vD  # Load indirect from rC b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V vB, rB       # Load B vec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DDV.D vA, vB, vC # Do ad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V vA, rA       # Store resul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Scatter/Gath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235080" y="1347120"/>
            <a:ext cx="8686800" cy="45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tter examp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[B[i]]++;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following a correct translation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 vB, rB       # Load indices in B v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VI vA, rA, vB  # Gather initial A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DDV vA, vA, 1  # Incr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VI vA, rA, vB  # Scatter incremented valu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nditional Execu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457200" y="1035720"/>
            <a:ext cx="830268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Want to vectorize loops with conditional co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A[i]&gt;0) t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[i] = B[i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2960" indent="-1713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Add vect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a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regi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version of predicate registers, 1 bit per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askab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vector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ctor operation becomes NOP at elements where mask bit is cl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VM             # Turn on all eleme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A       # Load entire A v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GTVS.D vA, F0  # Set bits in mask register where A&gt;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V vA, r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Load B vector into A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V vA, rA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# Store A back to memory under m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ked Vector Instr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6" name=""/>
          <p:cNvGrpSpPr/>
          <p:nvPr/>
        </p:nvGrpSpPr>
        <p:grpSpPr>
          <a:xfrm>
            <a:off x="4267080" y="1065240"/>
            <a:ext cx="4724640" cy="4148640"/>
            <a:chOff x="4267080" y="1065240"/>
            <a:chExt cx="4724640" cy="4148640"/>
          </a:xfrm>
        </p:grpSpPr>
        <p:grpSp>
          <p:nvGrpSpPr>
            <p:cNvPr id="1997" name=""/>
            <p:cNvGrpSpPr/>
            <p:nvPr/>
          </p:nvGrpSpPr>
          <p:grpSpPr>
            <a:xfrm>
              <a:off x="4879440" y="2209320"/>
              <a:ext cx="3767040" cy="3004560"/>
              <a:chOff x="4879440" y="2209320"/>
              <a:chExt cx="3767040" cy="3004560"/>
            </a:xfrm>
          </p:grpSpPr>
          <p:sp>
            <p:nvSpPr>
              <p:cNvPr id="1998" name=""/>
              <p:cNvSpPr/>
              <p:nvPr/>
            </p:nvSpPr>
            <p:spPr>
              <a:xfrm>
                <a:off x="6705720" y="3200400"/>
                <a:ext cx="914400" cy="106668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9" name=""/>
              <p:cNvGrpSpPr/>
              <p:nvPr/>
            </p:nvGrpSpPr>
            <p:grpSpPr>
              <a:xfrm>
                <a:off x="6705720" y="4114800"/>
                <a:ext cx="993240" cy="76320"/>
                <a:chOff x="6705720" y="4114800"/>
                <a:chExt cx="993240" cy="76320"/>
              </a:xfrm>
            </p:grpSpPr>
            <p:sp>
              <p:nvSpPr>
                <p:cNvPr id="2000" name=""/>
                <p:cNvSpPr/>
                <p:nvPr/>
              </p:nvSpPr>
              <p:spPr>
                <a:xfrm>
                  <a:off x="6705720" y="411480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7543800" y="411480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7623000" y="415296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3" name=""/>
              <p:cNvGrpSpPr/>
              <p:nvPr/>
            </p:nvGrpSpPr>
            <p:grpSpPr>
              <a:xfrm>
                <a:off x="6705720" y="3352680"/>
                <a:ext cx="993240" cy="76320"/>
                <a:chOff x="6705720" y="3352680"/>
                <a:chExt cx="993240" cy="76320"/>
              </a:xfrm>
            </p:grpSpPr>
            <p:sp>
              <p:nvSpPr>
                <p:cNvPr id="2004" name=""/>
                <p:cNvSpPr/>
                <p:nvPr/>
              </p:nvSpPr>
              <p:spPr>
                <a:xfrm>
                  <a:off x="6705720" y="3352680"/>
                  <a:ext cx="91404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7543800" y="3352680"/>
                  <a:ext cx="7560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7623000" y="339084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07" name=""/>
              <p:cNvGrpSpPr/>
              <p:nvPr/>
            </p:nvGrpSpPr>
            <p:grpSpPr>
              <a:xfrm>
                <a:off x="6705720" y="3733920"/>
                <a:ext cx="993240" cy="75960"/>
                <a:chOff x="6705720" y="3733920"/>
                <a:chExt cx="993240" cy="75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6705720" y="3733920"/>
                  <a:ext cx="91404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7543800" y="3733920"/>
                  <a:ext cx="7560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7623000" y="3771720"/>
                  <a:ext cx="7596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11" name=""/>
              <p:cNvSpPr/>
              <p:nvPr/>
            </p:nvSpPr>
            <p:spPr>
              <a:xfrm>
                <a:off x="6860880" y="3733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6860880" y="3352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7186320" y="4495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7183440" y="426708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746748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6858000" y="297180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7036200" y="487656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64796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7165440" y="25905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487944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487944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487944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487944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4879440" y="37335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4879440" y="40381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4879440" y="43430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487944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715000" y="4191120"/>
                <a:ext cx="1295280" cy="38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638680" y="3276720"/>
                <a:ext cx="106704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638680" y="2971800"/>
                <a:ext cx="914400" cy="60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715000" y="2438280"/>
                <a:ext cx="762120" cy="304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2" name=""/>
            <p:cNvSpPr/>
            <p:nvPr/>
          </p:nvSpPr>
          <p:spPr>
            <a:xfrm>
              <a:off x="4267080" y="1065240"/>
              <a:ext cx="472464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nsity-Tim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can mask vector and only execute elements with non-zero mask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-380880" y="1065240"/>
            <a:ext cx="4952880" cy="4986720"/>
            <a:chOff x="-380880" y="1065240"/>
            <a:chExt cx="4952880" cy="4986720"/>
          </a:xfrm>
        </p:grpSpPr>
        <p:grpSp>
          <p:nvGrpSpPr>
            <p:cNvPr id="2034" name=""/>
            <p:cNvGrpSpPr/>
            <p:nvPr/>
          </p:nvGrpSpPr>
          <p:grpSpPr>
            <a:xfrm>
              <a:off x="536040" y="2209320"/>
              <a:ext cx="3060720" cy="3842640"/>
              <a:chOff x="536040" y="2209320"/>
              <a:chExt cx="3060720" cy="3842640"/>
            </a:xfrm>
          </p:grpSpPr>
          <p:sp>
            <p:nvSpPr>
              <p:cNvPr id="2035" name=""/>
              <p:cNvSpPr/>
              <p:nvPr/>
            </p:nvSpPr>
            <p:spPr>
              <a:xfrm>
                <a:off x="1655640" y="4038480"/>
                <a:ext cx="914400" cy="1067040"/>
              </a:xfrm>
              <a:custGeom>
                <a:avLst/>
                <a:gdLst/>
                <a:ahLst/>
                <a:rect l="l" t="t" r="r" b="b"/>
                <a:pathLst>
                  <a:path w="576" h="672">
                    <a:moveTo>
                      <a:pt x="0" y="0"/>
                    </a:moveTo>
                    <a:lnTo>
                      <a:pt x="144" y="672"/>
                    </a:lnTo>
                    <a:lnTo>
                      <a:pt x="450" y="672"/>
                    </a:lnTo>
                    <a:lnTo>
                      <a:pt x="576" y="0"/>
                    </a:lnTo>
                    <a:lnTo>
                      <a:pt x="336" y="0"/>
                    </a:lnTo>
                    <a:lnTo>
                      <a:pt x="288" y="96"/>
                    </a:lnTo>
                    <a:lnTo>
                      <a:pt x="240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6" name=""/>
              <p:cNvGrpSpPr/>
              <p:nvPr/>
            </p:nvGrpSpPr>
            <p:grpSpPr>
              <a:xfrm>
                <a:off x="1655640" y="4952880"/>
                <a:ext cx="993960" cy="76320"/>
                <a:chOff x="1655640" y="4952880"/>
                <a:chExt cx="993960" cy="7632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1655640" y="495288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2494080" y="495288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2573280" y="499104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655640" y="4191120"/>
                <a:ext cx="993960" cy="75960"/>
                <a:chOff x="1655640" y="4191120"/>
                <a:chExt cx="993960" cy="7596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655640" y="4191120"/>
                  <a:ext cx="914400" cy="7596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160" bIns="2916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2494080" y="4191120"/>
                  <a:ext cx="75960" cy="7596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240" bIns="3024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2573280" y="422892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4" name=""/>
              <p:cNvGrpSpPr/>
              <p:nvPr/>
            </p:nvGrpSpPr>
            <p:grpSpPr>
              <a:xfrm>
                <a:off x="1655640" y="4572000"/>
                <a:ext cx="993960" cy="76320"/>
                <a:chOff x="1655640" y="4572000"/>
                <a:chExt cx="993960" cy="763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1655640" y="4572000"/>
                  <a:ext cx="914400" cy="7632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9520" bIns="2952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2494080" y="4572000"/>
                  <a:ext cx="75960" cy="76320"/>
                </a:xfrm>
                <a:custGeom>
                  <a:avLst/>
                  <a:gdLst/>
                  <a:ahLst/>
                  <a:rect l="l" t="t" r="r" b="b"/>
                  <a:pathLst>
                    <a:path w="48" h="96">
                      <a:moveTo>
                        <a:pt x="48" y="96"/>
                      </a:moveTo>
                      <a:lnTo>
                        <a:pt x="0" y="48"/>
                      </a:lnTo>
                      <a:lnTo>
                        <a:pt x="48" y="0"/>
                      </a:lnTo>
                      <a:lnTo>
                        <a:pt x="48" y="9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0600" bIns="306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2573280" y="4610160"/>
                  <a:ext cx="763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8" name=""/>
              <p:cNvSpPr/>
              <p:nvPr/>
            </p:nvSpPr>
            <p:spPr>
              <a:xfrm>
                <a:off x="1810800" y="4571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1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810800" y="4190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2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136240" y="53337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C[0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133720" y="5105520"/>
                <a:ext cx="0" cy="68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41776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1808280" y="3809880"/>
                <a:ext cx="0" cy="228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14299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2115720" y="34286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3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4299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115720" y="31237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4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14299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115720" y="281916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5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14299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115720" y="251424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6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612000" y="3428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12000" y="31237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612000" y="28191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612000" y="25142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612000" y="4190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12000" y="457164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12000" y="533376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1447920" y="5486400"/>
                <a:ext cx="152280" cy="304920"/>
              </a:xfrm>
              <a:custGeom>
                <a:avLst/>
                <a:gdLst/>
                <a:ahLst/>
                <a:rect l="l" t="t" r="r" b="b"/>
                <a:pathLst>
                  <a:path w="240" h="192">
                    <a:moveTo>
                      <a:pt x="0" y="0"/>
                    </a:moveTo>
                    <a:lnTo>
                      <a:pt x="240" y="0"/>
                    </a:lnTo>
                    <a:lnTo>
                      <a:pt x="240" y="192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1986480" y="5714640"/>
                <a:ext cx="161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data por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36040" y="5714640"/>
                <a:ext cx="140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Write Enabl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14299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2115720" y="2209320"/>
                <a:ext cx="57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B[7]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612000" y="2209320"/>
                <a:ext cx="828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5" name=""/>
            <p:cNvSpPr/>
            <p:nvPr/>
          </p:nvSpPr>
          <p:spPr>
            <a:xfrm>
              <a:off x="-380880" y="1065240"/>
              <a:ext cx="4952880" cy="100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85840" indent="-285840" algn="ctr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mple Implement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9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ecute all N operations, turn off result writeback according to mas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ress/Expand Oper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380520" y="680040"/>
            <a:ext cx="815364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ress packs non-masked elements from one vector register contiguously at start of destination vector regi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pulation count of mask vector gives packed vector leng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and performs inverse op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8" name=""/>
          <p:cNvGrpSpPr/>
          <p:nvPr/>
        </p:nvGrpSpPr>
        <p:grpSpPr>
          <a:xfrm>
            <a:off x="1985040" y="2744280"/>
            <a:ext cx="1717200" cy="2470680"/>
            <a:chOff x="1985040" y="2744280"/>
            <a:chExt cx="1717200" cy="2470680"/>
          </a:xfrm>
        </p:grpSpPr>
        <p:grpSp>
          <p:nvGrpSpPr>
            <p:cNvPr id="2079" name=""/>
            <p:cNvGrpSpPr/>
            <p:nvPr/>
          </p:nvGrpSpPr>
          <p:grpSpPr>
            <a:xfrm>
              <a:off x="1985040" y="2744280"/>
              <a:ext cx="828360" cy="2470680"/>
              <a:chOff x="1985040" y="2744280"/>
              <a:chExt cx="828360" cy="2470680"/>
            </a:xfrm>
          </p:grpSpPr>
          <p:sp>
            <p:nvSpPr>
              <p:cNvPr id="2080" name=""/>
              <p:cNvSpPr/>
              <p:nvPr/>
            </p:nvSpPr>
            <p:spPr>
              <a:xfrm>
                <a:off x="1985040" y="39632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1985040" y="36583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985040" y="33534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1985040" y="30488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1985040" y="42678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985040" y="45727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85040" y="487764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850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8" name=""/>
            <p:cNvGrpSpPr/>
            <p:nvPr/>
          </p:nvGrpSpPr>
          <p:grpSpPr>
            <a:xfrm>
              <a:off x="2819520" y="2744280"/>
              <a:ext cx="882720" cy="2470680"/>
              <a:chOff x="2819520" y="2744280"/>
              <a:chExt cx="882720" cy="2470680"/>
            </a:xfrm>
          </p:grpSpPr>
          <p:grpSp>
            <p:nvGrpSpPr>
              <p:cNvPr id="2089" name=""/>
              <p:cNvGrpSpPr/>
              <p:nvPr/>
            </p:nvGrpSpPr>
            <p:grpSpPr>
              <a:xfrm>
                <a:off x="3128400" y="2744280"/>
                <a:ext cx="573840" cy="2470680"/>
                <a:chOff x="3128400" y="2744280"/>
                <a:chExt cx="573840" cy="2470680"/>
              </a:xfrm>
            </p:grpSpPr>
            <p:sp>
              <p:nvSpPr>
                <p:cNvPr id="2090" name=""/>
                <p:cNvSpPr/>
                <p:nvPr/>
              </p:nvSpPr>
              <p:spPr>
                <a:xfrm>
                  <a:off x="3128400" y="39632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3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>
                  <a:off x="3128400" y="36583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4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>
                  <a:off x="3128400" y="33534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5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3128400" y="30488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6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3128400" y="274428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7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>
                  <a:off x="3128400" y="487764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0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3128400" y="457272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1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3128400" y="4267800"/>
                  <a:ext cx="573840" cy="3373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A[2]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8" name=""/>
              <p:cNvSpPr/>
              <p:nvPr/>
            </p:nvSpPr>
            <p:spPr>
              <a:xfrm>
                <a:off x="2819520" y="47242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819520" y="38098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819520" y="350496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819520" y="2895480"/>
                <a:ext cx="304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02" name=""/>
          <p:cNvGrpSpPr/>
          <p:nvPr/>
        </p:nvGrpSpPr>
        <p:grpSpPr>
          <a:xfrm>
            <a:off x="4649040" y="2744280"/>
            <a:ext cx="2507760" cy="2987640"/>
            <a:chOff x="4649040" y="2744280"/>
            <a:chExt cx="2507760" cy="2987640"/>
          </a:xfrm>
        </p:grpSpPr>
        <p:grpSp>
          <p:nvGrpSpPr>
            <p:cNvPr id="2103" name=""/>
            <p:cNvGrpSpPr/>
            <p:nvPr/>
          </p:nvGrpSpPr>
          <p:grpSpPr>
            <a:xfrm>
              <a:off x="6328440" y="2744280"/>
              <a:ext cx="828360" cy="2471040"/>
              <a:chOff x="6328440" y="2744280"/>
              <a:chExt cx="828360" cy="2471040"/>
            </a:xfrm>
          </p:grpSpPr>
          <p:sp>
            <p:nvSpPr>
              <p:cNvPr id="2104" name=""/>
              <p:cNvSpPr/>
              <p:nvPr/>
            </p:nvSpPr>
            <p:spPr>
              <a:xfrm>
                <a:off x="6328440" y="39636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3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328440" y="36586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4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6328440" y="33541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5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328440" y="30492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6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6328440" y="426852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2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6328440" y="45730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1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6328440" y="487800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0]=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6328440" y="2744280"/>
                <a:ext cx="828360" cy="3373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[7]=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2" name=""/>
            <p:cNvGrpSpPr/>
            <p:nvPr/>
          </p:nvGrpSpPr>
          <p:grpSpPr>
            <a:xfrm>
              <a:off x="4649040" y="2744280"/>
              <a:ext cx="1675440" cy="2987640"/>
              <a:chOff x="4649040" y="2744280"/>
              <a:chExt cx="1675440" cy="2987640"/>
            </a:xfrm>
          </p:grpSpPr>
          <p:grpSp>
            <p:nvGrpSpPr>
              <p:cNvPr id="2113" name=""/>
              <p:cNvGrpSpPr/>
              <p:nvPr/>
            </p:nvGrpSpPr>
            <p:grpSpPr>
              <a:xfrm>
                <a:off x="4724280" y="2744280"/>
                <a:ext cx="1600200" cy="2471040"/>
                <a:chOff x="4724280" y="2744280"/>
                <a:chExt cx="1600200" cy="2471040"/>
              </a:xfrm>
            </p:grpSpPr>
            <p:sp>
              <p:nvSpPr>
                <p:cNvPr id="2114" name=""/>
                <p:cNvSpPr/>
                <p:nvPr/>
              </p:nvSpPr>
              <p:spPr>
                <a:xfrm flipV="1">
                  <a:off x="4800600" y="2895840"/>
                  <a:ext cx="609480" cy="12189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 flipV="1">
                  <a:off x="4800600" y="3505320"/>
                  <a:ext cx="60948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 flipV="1">
                  <a:off x="4724280" y="3810240"/>
                  <a:ext cx="685800" cy="9144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 flipV="1">
                  <a:off x="4800600" y="4724640"/>
                  <a:ext cx="609480" cy="304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18" name=""/>
                <p:cNvGrpSpPr/>
                <p:nvPr/>
              </p:nvGrpSpPr>
              <p:grpSpPr>
                <a:xfrm>
                  <a:off x="5414400" y="2744280"/>
                  <a:ext cx="910080" cy="2471040"/>
                  <a:chOff x="5414400" y="2744280"/>
                  <a:chExt cx="910080" cy="2471040"/>
                </a:xfrm>
              </p:grpSpPr>
              <p:grpSp>
                <p:nvGrpSpPr>
                  <p:cNvPr id="2119" name=""/>
                  <p:cNvGrpSpPr/>
                  <p:nvPr/>
                </p:nvGrpSpPr>
                <p:grpSpPr>
                  <a:xfrm>
                    <a:off x="5414400" y="2744280"/>
                    <a:ext cx="573840" cy="2471040"/>
                    <a:chOff x="5414400" y="2744280"/>
                    <a:chExt cx="573840" cy="2471040"/>
                  </a:xfrm>
                </p:grpSpPr>
                <p:sp>
                  <p:nvSpPr>
                    <p:cNvPr id="2120" name=""/>
                    <p:cNvSpPr/>
                    <p:nvPr/>
                  </p:nvSpPr>
                  <p:spPr>
                    <a:xfrm>
                      <a:off x="5414400" y="39636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3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>
                      <a:off x="5414400" y="36586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>
                      <a:off x="5414400" y="33541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5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>
                      <a:off x="5414400" y="30492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>
                      <a:off x="5414400" y="27442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>
                      <a:off x="5414400" y="487800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>
                      <a:off x="5414400" y="457308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[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7" name=""/>
                    <p:cNvSpPr/>
                    <p:nvPr/>
                  </p:nvSpPr>
                  <p:spPr>
                    <a:xfrm>
                      <a:off x="5414400" y="4268520"/>
                      <a:ext cx="573840" cy="337320"/>
                    </a:xfrm>
                    <a:prstGeom prst="rect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[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28" name=""/>
                  <p:cNvSpPr/>
                  <p:nvPr/>
                </p:nvSpPr>
                <p:spPr>
                  <a:xfrm flipH="1">
                    <a:off x="6019920" y="47246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flipH="1">
                    <a:off x="6019920" y="38102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0" name=""/>
                  <p:cNvSpPr/>
                  <p:nvPr/>
                </p:nvSpPr>
                <p:spPr>
                  <a:xfrm flipH="1">
                    <a:off x="6019920" y="350532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1" name=""/>
                  <p:cNvSpPr/>
                  <p:nvPr/>
                </p:nvSpPr>
                <p:spPr>
                  <a:xfrm flipH="1">
                    <a:off x="6019920" y="2895840"/>
                    <a:ext cx="304560" cy="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132" name=""/>
              <p:cNvSpPr/>
              <p:nvPr/>
            </p:nvSpPr>
            <p:spPr>
              <a:xfrm>
                <a:off x="4649040" y="5333040"/>
                <a:ext cx="1099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Arial"/>
                  </a:rPr>
                  <a:t>Expan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3" name=""/>
          <p:cNvGrpSpPr/>
          <p:nvPr/>
        </p:nvGrpSpPr>
        <p:grpSpPr>
          <a:xfrm>
            <a:off x="3048480" y="2667960"/>
            <a:ext cx="1720800" cy="3063600"/>
            <a:chOff x="3048480" y="2667960"/>
            <a:chExt cx="1720800" cy="3063600"/>
          </a:xfrm>
        </p:grpSpPr>
        <p:sp>
          <p:nvSpPr>
            <p:cNvPr id="2134" name=""/>
            <p:cNvSpPr/>
            <p:nvPr/>
          </p:nvSpPr>
          <p:spPr>
            <a:xfrm>
              <a:off x="4195440" y="39632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195440" y="48776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195440" y="45727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195440" y="42681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733920" y="4724280"/>
              <a:ext cx="4572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33920" y="380988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733920" y="3504960"/>
              <a:ext cx="457200" cy="9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33920" y="2895480"/>
              <a:ext cx="457200" cy="1295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48480" y="5332680"/>
              <a:ext cx="1425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ompr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195440" y="26679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7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195440" y="358236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1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195440" y="327744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4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195440" y="2972520"/>
              <a:ext cx="573840" cy="337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[5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7" name=""/>
          <p:cNvSpPr/>
          <p:nvPr/>
        </p:nvSpPr>
        <p:spPr>
          <a:xfrm>
            <a:off x="685800" y="586620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d for density-time conditionals and also for general selec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1629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Redu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190440" y="1202400"/>
            <a:ext cx="8763120" cy="51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Loop-carried dependence on reduction varia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= 0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 (i=0; i&lt;N; i++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 += A[i];  # Loop-carried dependence on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: Re-associate operations if possible, use binary tree to perform re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Rearrange 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= 0                 # Vector of VL partial su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(i=0; i&lt;N; i+=VL)            # Stripmine VL-sized chu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A[i:i+VL-1]; # Vector su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# Now have VL partial sums in one vector reg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 {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L = VL/2;                    # Halve vector leng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um[0:VL-1] += sum[VL:2*VL-1] # Halve no. of parti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while (VL&gt;1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ercomputer Applica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371600"/>
            <a:ext cx="82296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ypical application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litary research (nuclear weapons, cryptograph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ientific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ather fore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il expl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ustrial design (car crash simul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volve huge computations on large data s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 70s-80s, Supercomputer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Vector Mach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odern Vector Super: NEC SX-6 (200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151920" y="835920"/>
            <a:ext cx="6629400" cy="56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MOS 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0 MHz CPU, fits on single chip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DRAM main memory (up to 64G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la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-way superscalar with out-of-order and speculative execu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4KB I-cache and 64KB data cach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ctor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foreground VRegs + 64 background VRegs (256x64-bit elements/VReg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multiply unit, 1 divide unit, 1 add/shift unit, 1 logical unit, 1 mask un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lanes (8 GFLOPS peak, 16 FLOP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load &amp; store unit (32x8 byte accesses/cyc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 GB/s memory bandwidth per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P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 CPUs connected to memory through crossba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56 GB/s shared memory bandwidth (4096 interleaved bank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2" name="" descr=""/>
          <p:cNvPicPr/>
          <p:nvPr/>
        </p:nvPicPr>
        <p:blipFill>
          <a:blip r:embed="rId1"/>
          <a:stretch/>
        </p:blipFill>
        <p:spPr>
          <a:xfrm>
            <a:off x="6858000" y="685800"/>
            <a:ext cx="190980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ultimedia Exten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304560" y="1263600"/>
            <a:ext cx="8631000" cy="463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short vectors added to existing ISAs for micr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64-bit registers split into 2x32b or 4x16b or 8x8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er designs have 128-bit registers (Altivec, SSE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instruction s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vector length contro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rided load/store or scatter/g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t-stride loads must be aligned to 64/128-bit bounda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ed vector register leng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superscalar dispatch to keep multiply/add/load units bus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 unrolling to hide latencies increases register press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end towards fuller vector support in microprocess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ctor Supercomput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95280" y="13716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pitomized by Cray-1, 1976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alar Unit + Vector Exten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/Stor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Regis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ctor Instru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rdwired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ly Pipelined Functional Uni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leaved Memory Syste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Data Cach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Virtual Mem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cray1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8675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ay-1 (1976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901800"/>
            <a:ext cx="1753920" cy="481464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87600"/>
            <a:ext cx="182880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gle 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 banks of 64-bit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bit SEC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MW/sec data load/s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0MW/sec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ffer refi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55720" y="5702400"/>
            <a:ext cx="247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Instruction Buff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960640" y="5143680"/>
            <a:ext cx="432000" cy="482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36960" y="55371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12920" y="546084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9240" y="53848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265560" y="530856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70120" y="50925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5168880"/>
            <a:ext cx="88884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17840" y="524520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41520" y="5321160"/>
            <a:ext cx="889200" cy="3556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14160" y="5332320"/>
            <a:ext cx="954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4-bitx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503440" y="5613480"/>
            <a:ext cx="4320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03440" y="5460840"/>
            <a:ext cx="5842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03440" y="5308560"/>
            <a:ext cx="73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03440" y="5156280"/>
            <a:ext cx="889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920" y="5321160"/>
            <a:ext cx="838440" cy="20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600520" y="5268960"/>
            <a:ext cx="478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8920" y="5702400"/>
            <a:ext cx="812880" cy="20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00160" y="56498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999120" y="5268960"/>
            <a:ext cx="812520" cy="302040"/>
            <a:chOff x="6999120" y="5268960"/>
            <a:chExt cx="812520" cy="302040"/>
          </a:xfrm>
        </p:grpSpPr>
        <p:sp>
          <p:nvSpPr>
            <p:cNvPr id="78" name=""/>
            <p:cNvSpPr/>
            <p:nvPr/>
          </p:nvSpPr>
          <p:spPr>
            <a:xfrm>
              <a:off x="6999120" y="5321520"/>
              <a:ext cx="812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200360" y="5268960"/>
              <a:ext cx="478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 flipV="1">
            <a:off x="4560840" y="5295600"/>
            <a:ext cx="203400" cy="253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371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55920" y="55371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332240" y="546084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08560" y="5397480"/>
            <a:ext cx="279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84520" y="5308560"/>
            <a:ext cx="279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18040" y="5397480"/>
            <a:ext cx="370080" cy="370080"/>
          </a:xfrm>
          <a:custGeom>
            <a:avLst/>
            <a:gdLst/>
            <a:ahLst/>
            <a:rect l="l" t="t" r="r" b="b"/>
            <a:pathLst>
              <a:path w="241" h="241">
                <a:moveTo>
                  <a:pt x="0" y="0"/>
                </a:move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37360" y="5397480"/>
            <a:ext cx="7617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19360" y="288432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2503440" y="317664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32240" y="303516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331880" y="332892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19800" y="288288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03080" y="271944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98520" y="242568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79400" y="2836800"/>
            <a:ext cx="9435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19360" y="4332240"/>
            <a:ext cx="812880" cy="584280"/>
          </a:xfrm>
          <a:prstGeom prst="rect">
            <a:avLst/>
          </a:prstGeom>
          <a:solidFill>
            <a:srgbClr val="cecec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503440" y="4624560"/>
            <a:ext cx="10159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7800" y="4471920"/>
            <a:ext cx="8125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331880" y="4776840"/>
            <a:ext cx="863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19800" y="4330800"/>
            <a:ext cx="48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503080" y="4167360"/>
            <a:ext cx="26924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98520" y="3873600"/>
            <a:ext cx="13248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 (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+ j k m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67520" y="4297320"/>
            <a:ext cx="9676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 Re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189400" y="2319480"/>
            <a:ext cx="901800" cy="1307880"/>
            <a:chOff x="5189400" y="2319480"/>
            <a:chExt cx="901800" cy="1307880"/>
          </a:xfrm>
        </p:grpSpPr>
        <p:sp>
          <p:nvSpPr>
            <p:cNvPr id="105" name=""/>
            <p:cNvSpPr/>
            <p:nvPr/>
          </p:nvSpPr>
          <p:spPr>
            <a:xfrm>
              <a:off x="5195880" y="235116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89400" y="24908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189400" y="26431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9400" y="2795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189400" y="2948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189400" y="3100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89400" y="3252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189400" y="3405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61200" y="23194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61200" y="24717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61200" y="26240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461200" y="27766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61200" y="29289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1200" y="3081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461200" y="323388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61200" y="338616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189400" y="3767040"/>
            <a:ext cx="901800" cy="1308240"/>
            <a:chOff x="5189400" y="3767040"/>
            <a:chExt cx="901800" cy="1308240"/>
          </a:xfrm>
        </p:grpSpPr>
        <p:sp>
          <p:nvSpPr>
            <p:cNvPr id="122" name=""/>
            <p:cNvSpPr/>
            <p:nvPr/>
          </p:nvSpPr>
          <p:spPr>
            <a:xfrm>
              <a:off x="5195880" y="3799080"/>
              <a:ext cx="888840" cy="1193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9400" y="39387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9400" y="40910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9400" y="42433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9400" y="43959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9400" y="454824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9400" y="470052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9400" y="4853160"/>
              <a:ext cx="901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460840" y="37670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460840" y="39196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460840" y="40719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60840" y="42242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60840" y="43768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60840" y="452916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0840" y="468144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460840" y="4834080"/>
              <a:ext cx="3430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624200" y="27306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26360" y="3035160"/>
            <a:ext cx="376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24200" y="417816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27080" y="4483080"/>
            <a:ext cx="3963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1969920"/>
            <a:ext cx="965160" cy="88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442280" y="1968480"/>
            <a:ext cx="803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41560" y="2273400"/>
            <a:ext cx="765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41200" y="2577960"/>
            <a:ext cx="943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P Rec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5560" y="226224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05560" y="25671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405560" y="2959200"/>
            <a:ext cx="965160" cy="1216440"/>
            <a:chOff x="7405560" y="2959200"/>
            <a:chExt cx="965160" cy="1216440"/>
          </a:xfrm>
        </p:grpSpPr>
        <p:sp>
          <p:nvSpPr>
            <p:cNvPr id="149" name=""/>
            <p:cNvSpPr/>
            <p:nvPr/>
          </p:nvSpPr>
          <p:spPr>
            <a:xfrm>
              <a:off x="7405560" y="2960640"/>
              <a:ext cx="965160" cy="1194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41920" y="2959200"/>
              <a:ext cx="794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Ad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1200" y="3264120"/>
              <a:ext cx="923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40480" y="356868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 Shif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5560" y="325296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05560" y="355752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41560" y="3873600"/>
              <a:ext cx="862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op C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05560" y="3862440"/>
              <a:ext cx="965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6084720" y="2273400"/>
            <a:ext cx="1297080" cy="306360"/>
          </a:xfrm>
          <a:custGeom>
            <a:avLst/>
            <a:gdLst/>
            <a:ahLst/>
            <a:rect l="l" t="t" r="r" b="b"/>
            <a:pathLst>
              <a:path w="817" h="193">
                <a:moveTo>
                  <a:pt x="0" y="192"/>
                </a:moveTo>
                <a:lnTo>
                  <a:pt x="288" y="192"/>
                </a:lnTo>
                <a:lnTo>
                  <a:pt x="288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41920" y="2577960"/>
            <a:ext cx="839880" cy="839880"/>
          </a:xfrm>
          <a:custGeom>
            <a:avLst/>
            <a:gdLst/>
            <a:ahLst/>
            <a:rect l="l" t="t" r="r" b="b"/>
            <a:pathLst>
              <a:path w="529" h="529">
                <a:moveTo>
                  <a:pt x="0" y="0"/>
                </a:moveTo>
                <a:lnTo>
                  <a:pt x="0" y="528"/>
                </a:lnTo>
                <a:lnTo>
                  <a:pt x="528" y="52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84720" y="2425680"/>
            <a:ext cx="1297080" cy="458640"/>
          </a:xfrm>
          <a:custGeom>
            <a:avLst/>
            <a:gdLst/>
            <a:ahLst/>
            <a:rect l="l" t="t" r="r" b="b"/>
            <a:pathLst>
              <a:path w="817" h="289">
                <a:moveTo>
                  <a:pt x="0" y="288"/>
                </a:moveTo>
                <a:lnTo>
                  <a:pt x="384" y="288"/>
                </a:lnTo>
                <a:lnTo>
                  <a:pt x="384" y="0"/>
                </a:lnTo>
                <a:lnTo>
                  <a:pt x="8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94560" y="2882880"/>
            <a:ext cx="687240" cy="687240"/>
          </a:xfrm>
          <a:custGeom>
            <a:avLst/>
            <a:gdLst/>
            <a:ahLst/>
            <a:rect l="l" t="t" r="r" b="b"/>
            <a:pathLst>
              <a:path w="433" h="433">
                <a:moveTo>
                  <a:pt x="0" y="0"/>
                </a:moveTo>
                <a:lnTo>
                  <a:pt x="0" y="432"/>
                </a:lnTo>
                <a:lnTo>
                  <a:pt x="432" y="43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577960"/>
            <a:ext cx="1297080" cy="611280"/>
          </a:xfrm>
          <a:custGeom>
            <a:avLst/>
            <a:gdLst/>
            <a:ahLst/>
            <a:rect l="l" t="t" r="r" b="b"/>
            <a:pathLst>
              <a:path w="817" h="385">
                <a:moveTo>
                  <a:pt x="816" y="0"/>
                </a:moveTo>
                <a:lnTo>
                  <a:pt x="480" y="0"/>
                </a:lnTo>
                <a:lnTo>
                  <a:pt x="480" y="384"/>
                </a:lnTo>
                <a:lnTo>
                  <a:pt x="0" y="384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6840" y="3187800"/>
            <a:ext cx="534960" cy="534960"/>
          </a:xfrm>
          <a:custGeom>
            <a:avLst/>
            <a:gdLst/>
            <a:ahLst/>
            <a:rect l="l" t="t" r="r" b="b"/>
            <a:pathLst>
              <a:path w="337" h="337">
                <a:moveTo>
                  <a:pt x="336" y="336"/>
                </a:moveTo>
                <a:lnTo>
                  <a:pt x="0" y="336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24400" y="2273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24400" y="28828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25480" y="2577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05560" y="4332240"/>
            <a:ext cx="965160" cy="58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42280" y="4330800"/>
            <a:ext cx="9907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A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41560" y="4635360"/>
            <a:ext cx="952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 M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05560" y="4624560"/>
            <a:ext cx="96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10280" y="43959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10280" y="4624560"/>
            <a:ext cx="1270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084360" y="485316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529320" y="41022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529320" y="4559400"/>
            <a:ext cx="3384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30400" y="4330800"/>
            <a:ext cx="367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08640" y="6172200"/>
            <a:ext cx="7533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emory bank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 ns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cessor cycl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.5 ns (80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84320" y="901800"/>
            <a:ext cx="3200400" cy="1225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84320" y="10447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84320" y="12016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84320" y="1357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84320" y="1514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84320" y="167148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84320" y="1827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84320" y="19843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475600" y="868320"/>
            <a:ext cx="335520" cy="1307880"/>
            <a:chOff x="5475600" y="868320"/>
            <a:chExt cx="335520" cy="1307880"/>
          </a:xfrm>
        </p:grpSpPr>
        <p:sp>
          <p:nvSpPr>
            <p:cNvPr id="186" name=""/>
            <p:cNvSpPr/>
            <p:nvPr/>
          </p:nvSpPr>
          <p:spPr>
            <a:xfrm>
              <a:off x="5475600" y="8683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475600" y="10206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75600" y="11732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75600" y="13255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75600" y="14778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475600" y="163044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75600" y="178272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475600" y="1935000"/>
              <a:ext cx="335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V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 flipH="1">
            <a:off x="2514240" y="1512720"/>
            <a:ext cx="376200" cy="50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6846840" y="1130040"/>
            <a:ext cx="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6084360" y="11304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4720" y="1434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41920" y="1739880"/>
            <a:ext cx="0" cy="533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84720" y="17398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694560" y="143496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63560" y="1434960"/>
            <a:ext cx="358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162480" y="113040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62480" y="825480"/>
            <a:ext cx="32904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7388280" y="901800"/>
            <a:ext cx="974520" cy="302040"/>
            <a:chOff x="7388280" y="901800"/>
            <a:chExt cx="974520" cy="302040"/>
          </a:xfrm>
        </p:grpSpPr>
        <p:sp>
          <p:nvSpPr>
            <p:cNvPr id="205" name=""/>
            <p:cNvSpPr/>
            <p:nvPr/>
          </p:nvSpPr>
          <p:spPr>
            <a:xfrm>
              <a:off x="7388280" y="954360"/>
              <a:ext cx="974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453080" y="901800"/>
              <a:ext cx="846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Mas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7379280" y="1282680"/>
            <a:ext cx="992160" cy="302040"/>
            <a:chOff x="7379280" y="1282680"/>
            <a:chExt cx="992160" cy="302040"/>
          </a:xfrm>
        </p:grpSpPr>
        <p:sp>
          <p:nvSpPr>
            <p:cNvPr id="208" name=""/>
            <p:cNvSpPr/>
            <p:nvPr/>
          </p:nvSpPr>
          <p:spPr>
            <a:xfrm>
              <a:off x="7395120" y="1335240"/>
              <a:ext cx="956520" cy="203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79280" y="1282680"/>
              <a:ext cx="992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. Leng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122640" y="117252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4 Element Vector 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6668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Programming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28600" y="3123360"/>
            <a:ext cx="8686800" cy="1677240"/>
            <a:chOff x="228600" y="3123360"/>
            <a:chExt cx="8686800" cy="1677240"/>
          </a:xfrm>
        </p:grpSpPr>
        <p:sp>
          <p:nvSpPr>
            <p:cNvPr id="213" name=""/>
            <p:cNvSpPr/>
            <p:nvPr/>
          </p:nvSpPr>
          <p:spPr>
            <a:xfrm>
              <a:off x="3809880" y="4191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809880" y="32767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35053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3809880" y="4191120"/>
              <a:ext cx="3429000" cy="75960"/>
              <a:chOff x="3809880" y="4191120"/>
              <a:chExt cx="3429000" cy="75960"/>
            </a:xfrm>
          </p:grpSpPr>
          <p:sp>
            <p:nvSpPr>
              <p:cNvPr id="217" name=""/>
              <p:cNvSpPr/>
              <p:nvPr/>
            </p:nvSpPr>
            <p:spPr>
              <a:xfrm>
                <a:off x="38098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1814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72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553080" y="4191120"/>
                <a:ext cx="685800" cy="759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" name=""/>
            <p:cNvSpPr/>
            <p:nvPr/>
          </p:nvSpPr>
          <p:spPr>
            <a:xfrm>
              <a:off x="7238880" y="4191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09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956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1814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672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530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238880" y="35053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09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956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1814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8672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30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38880" y="32767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4038480" y="3352680"/>
              <a:ext cx="304920" cy="838440"/>
              <a:chOff x="4038480" y="3352680"/>
              <a:chExt cx="304920" cy="838440"/>
            </a:xfrm>
          </p:grpSpPr>
          <p:sp>
            <p:nvSpPr>
              <p:cNvPr id="236" name=""/>
              <p:cNvSpPr/>
              <p:nvPr/>
            </p:nvSpPr>
            <p:spPr>
              <a:xfrm>
                <a:off x="4038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38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267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191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724280" y="3352680"/>
              <a:ext cx="304920" cy="838440"/>
              <a:chOff x="4724280" y="3352680"/>
              <a:chExt cx="304920" cy="838440"/>
            </a:xfrm>
          </p:grpSpPr>
          <p:sp>
            <p:nvSpPr>
              <p:cNvPr id="241" name=""/>
              <p:cNvSpPr/>
              <p:nvPr/>
            </p:nvSpPr>
            <p:spPr>
              <a:xfrm>
                <a:off x="47242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42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49528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8769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5410080" y="3352680"/>
              <a:ext cx="304920" cy="838440"/>
              <a:chOff x="5410080" y="3352680"/>
              <a:chExt cx="304920" cy="838440"/>
            </a:xfrm>
          </p:grpSpPr>
          <p:sp>
            <p:nvSpPr>
              <p:cNvPr id="246" name=""/>
              <p:cNvSpPr/>
              <p:nvPr/>
            </p:nvSpPr>
            <p:spPr>
              <a:xfrm>
                <a:off x="54100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4100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56386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5627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6095880" y="3352680"/>
              <a:ext cx="304920" cy="838440"/>
              <a:chOff x="6095880" y="3352680"/>
              <a:chExt cx="304920" cy="838440"/>
            </a:xfrm>
          </p:grpSpPr>
          <p:sp>
            <p:nvSpPr>
              <p:cNvPr id="251" name=""/>
              <p:cNvSpPr/>
              <p:nvPr/>
            </p:nvSpPr>
            <p:spPr>
              <a:xfrm>
                <a:off x="60958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0958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63244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6781680" y="3352680"/>
              <a:ext cx="304920" cy="838440"/>
              <a:chOff x="6781680" y="3352680"/>
              <a:chExt cx="304920" cy="838440"/>
            </a:xfrm>
          </p:grpSpPr>
          <p:sp>
            <p:nvSpPr>
              <p:cNvPr id="256" name=""/>
              <p:cNvSpPr/>
              <p:nvPr/>
            </p:nvSpPr>
            <p:spPr>
              <a:xfrm>
                <a:off x="67816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816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70102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343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7467480" y="3352680"/>
              <a:ext cx="304920" cy="838440"/>
              <a:chOff x="7467480" y="3352680"/>
              <a:chExt cx="304920" cy="838440"/>
            </a:xfrm>
          </p:grpSpPr>
          <p:sp>
            <p:nvSpPr>
              <p:cNvPr id="261" name=""/>
              <p:cNvSpPr/>
              <p:nvPr/>
            </p:nvSpPr>
            <p:spPr>
              <a:xfrm>
                <a:off x="7467480" y="3733920"/>
                <a:ext cx="293760" cy="3045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467480" y="3581280"/>
                <a:ext cx="7632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7696080" y="3352680"/>
                <a:ext cx="76320" cy="381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620120" y="4038480"/>
                <a:ext cx="0" cy="152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39636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649400" y="434232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5960" y="434232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3272400"/>
              <a:ext cx="274320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Arithmetic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DV v3, v1, 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354120" y="40377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354120" y="33519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4120" y="312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8600" y="3200400"/>
              <a:ext cx="8686800" cy="16002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28600" y="837720"/>
            <a:ext cx="8686800" cy="2210400"/>
            <a:chOff x="228600" y="837720"/>
            <a:chExt cx="8686800" cy="2210400"/>
          </a:xfrm>
        </p:grpSpPr>
        <p:grpSp>
          <p:nvGrpSpPr>
            <p:cNvPr id="274" name=""/>
            <p:cNvGrpSpPr/>
            <p:nvPr/>
          </p:nvGrpSpPr>
          <p:grpSpPr>
            <a:xfrm>
              <a:off x="1219320" y="1219320"/>
              <a:ext cx="680760" cy="990000"/>
              <a:chOff x="1219320" y="1219320"/>
              <a:chExt cx="680760" cy="990000"/>
            </a:xfrm>
          </p:grpSpPr>
          <p:sp>
            <p:nvSpPr>
              <p:cNvPr id="275" name=""/>
              <p:cNvSpPr/>
              <p:nvPr/>
            </p:nvSpPr>
            <p:spPr>
              <a:xfrm>
                <a:off x="1219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19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19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219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219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219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219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19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19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219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219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219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219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460080" y="837720"/>
              <a:ext cx="177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Scala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74080" y="1980360"/>
              <a:ext cx="421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21440" y="1065960"/>
              <a:ext cx="56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803840" y="837720"/>
              <a:ext cx="1791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Regis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39720" y="1980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87080" y="1065960"/>
              <a:ext cx="60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2819520" y="1219320"/>
              <a:ext cx="680760" cy="990000"/>
              <a:chOff x="2819520" y="1219320"/>
              <a:chExt cx="680760" cy="990000"/>
            </a:xfrm>
          </p:grpSpPr>
          <p:sp>
            <p:nvSpPr>
              <p:cNvPr id="298" name=""/>
              <p:cNvSpPr/>
              <p:nvPr/>
            </p:nvSpPr>
            <p:spPr>
              <a:xfrm>
                <a:off x="2819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819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819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819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819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19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819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2819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19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819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819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2819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819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819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819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819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29142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3505320" y="1219320"/>
              <a:ext cx="680760" cy="990000"/>
              <a:chOff x="3505320" y="1219320"/>
              <a:chExt cx="680760" cy="990000"/>
            </a:xfrm>
          </p:grpSpPr>
          <p:sp>
            <p:nvSpPr>
              <p:cNvPr id="316" name=""/>
              <p:cNvSpPr/>
              <p:nvPr/>
            </p:nvSpPr>
            <p:spPr>
              <a:xfrm>
                <a:off x="3505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505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505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505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505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505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505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505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505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505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505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505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505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505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36000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4191120" y="1219320"/>
              <a:ext cx="680760" cy="990000"/>
              <a:chOff x="4191120" y="1219320"/>
              <a:chExt cx="680760" cy="990000"/>
            </a:xfrm>
          </p:grpSpPr>
          <p:sp>
            <p:nvSpPr>
              <p:cNvPr id="334" name=""/>
              <p:cNvSpPr/>
              <p:nvPr/>
            </p:nvSpPr>
            <p:spPr>
              <a:xfrm>
                <a:off x="4191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91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191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191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191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191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191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191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191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191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191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191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191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191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91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285800" y="2132640"/>
              <a:ext cx="49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2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876920" y="1219320"/>
              <a:ext cx="680760" cy="990000"/>
              <a:chOff x="4876920" y="1219320"/>
              <a:chExt cx="680760" cy="990000"/>
            </a:xfrm>
          </p:grpSpPr>
          <p:sp>
            <p:nvSpPr>
              <p:cNvPr id="352" name=""/>
              <p:cNvSpPr/>
              <p:nvPr/>
            </p:nvSpPr>
            <p:spPr>
              <a:xfrm>
                <a:off x="48769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8769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8769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8769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8769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769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8769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69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8769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8769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8769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8769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8769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769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8769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8769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"/>
            <p:cNvSpPr/>
            <p:nvPr/>
          </p:nvSpPr>
          <p:spPr>
            <a:xfrm>
              <a:off x="51246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5562720" y="1219320"/>
              <a:ext cx="680760" cy="990000"/>
              <a:chOff x="5562720" y="1219320"/>
              <a:chExt cx="680760" cy="990000"/>
            </a:xfrm>
          </p:grpSpPr>
          <p:sp>
            <p:nvSpPr>
              <p:cNvPr id="370" name=""/>
              <p:cNvSpPr/>
              <p:nvPr/>
            </p:nvSpPr>
            <p:spPr>
              <a:xfrm>
                <a:off x="55627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5627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5627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5627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5627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5627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5627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5627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5627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627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5627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5627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5627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5627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5627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5627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6" name=""/>
            <p:cNvSpPr/>
            <p:nvPr/>
          </p:nvSpPr>
          <p:spPr>
            <a:xfrm>
              <a:off x="58104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6248520" y="1219320"/>
              <a:ext cx="680760" cy="990000"/>
              <a:chOff x="6248520" y="1219320"/>
              <a:chExt cx="680760" cy="990000"/>
            </a:xfrm>
          </p:grpSpPr>
          <p:sp>
            <p:nvSpPr>
              <p:cNvPr id="388" name=""/>
              <p:cNvSpPr/>
              <p:nvPr/>
            </p:nvSpPr>
            <p:spPr>
              <a:xfrm>
                <a:off x="62485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2485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2485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2485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2485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2485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2485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2485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2485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2485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2485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2485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2485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2485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2485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2485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4962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934320" y="1219320"/>
              <a:ext cx="680760" cy="990000"/>
              <a:chOff x="6934320" y="1219320"/>
              <a:chExt cx="680760" cy="990000"/>
            </a:xfrm>
          </p:grpSpPr>
          <p:sp>
            <p:nvSpPr>
              <p:cNvPr id="406" name=""/>
              <p:cNvSpPr/>
              <p:nvPr/>
            </p:nvSpPr>
            <p:spPr>
              <a:xfrm>
                <a:off x="69343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343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343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69343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9343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9343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343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43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9343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9343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9343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9343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9343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9343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9343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9343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2" name=""/>
            <p:cNvSpPr/>
            <p:nvPr/>
          </p:nvSpPr>
          <p:spPr>
            <a:xfrm>
              <a:off x="7182000" y="213372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7620120" y="1219320"/>
              <a:ext cx="680760" cy="990000"/>
              <a:chOff x="7620120" y="1219320"/>
              <a:chExt cx="680760" cy="990000"/>
            </a:xfrm>
          </p:grpSpPr>
          <p:sp>
            <p:nvSpPr>
              <p:cNvPr id="424" name=""/>
              <p:cNvSpPr/>
              <p:nvPr/>
            </p:nvSpPr>
            <p:spPr>
              <a:xfrm>
                <a:off x="7620120" y="12193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20120" y="12808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620120" y="13428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20120" y="140472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620120" y="14666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20120" y="15285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0120" y="159048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620120" y="165240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620120" y="17143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620120" y="177624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20120" y="183816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20120" y="190008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620120" y="196200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0120" y="202392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620120" y="2085840"/>
                <a:ext cx="680760" cy="61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620120" y="2147760"/>
                <a:ext cx="680760" cy="6156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7085880" y="2132640"/>
              <a:ext cx="16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[VLRMAX-1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24480" y="2743200"/>
              <a:ext cx="1143000" cy="237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L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28600" y="838080"/>
              <a:ext cx="8686800" cy="221004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91240" y="2666520"/>
              <a:ext cx="240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Vector Length Regi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228600" y="4872600"/>
            <a:ext cx="8686800" cy="1850040"/>
            <a:chOff x="228600" y="4872600"/>
            <a:chExt cx="8686800" cy="1850040"/>
          </a:xfrm>
        </p:grpSpPr>
        <p:sp>
          <p:nvSpPr>
            <p:cNvPr id="445" name=""/>
            <p:cNvSpPr/>
            <p:nvPr/>
          </p:nvSpPr>
          <p:spPr>
            <a:xfrm>
              <a:off x="4419720" y="5334120"/>
              <a:ext cx="4114800" cy="75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419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7913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771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1629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848720" y="5334120"/>
              <a:ext cx="685800" cy="759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990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676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62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733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19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055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7913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4771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162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487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371600" y="5409720"/>
              <a:ext cx="34290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43200" y="5409720"/>
              <a:ext cx="266688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114800" y="5409720"/>
              <a:ext cx="20574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5410080" y="5409720"/>
              <a:ext cx="13716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6781680" y="5409720"/>
              <a:ext cx="68580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8153280" y="5409720"/>
              <a:ext cx="0" cy="685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63600" y="510444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0880" y="4872600"/>
              <a:ext cx="2667240" cy="10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ector Load and Store Instruc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V v1, r1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990720" y="617184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34240" y="6323760"/>
              <a:ext cx="1171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ase, r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3623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33920" y="6248520"/>
              <a:ext cx="0" cy="228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362320" y="6324480"/>
              <a:ext cx="137160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438280" y="6323760"/>
              <a:ext cx="128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ride, r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28600" y="4876920"/>
              <a:ext cx="8686800" cy="1828800"/>
            </a:xfrm>
            <a:prstGeom prst="roundRect">
              <a:avLst>
                <a:gd name="adj" fmla="val 16667"/>
              </a:avLst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88920" y="6171480"/>
              <a:ext cx="105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920" y="6095880"/>
              <a:ext cx="685800" cy="76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235120" y="495216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Vector Regis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Code Examp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352680" y="1600200"/>
            <a:ext cx="2743200" cy="4038480"/>
            <a:chOff x="3352680" y="1600200"/>
            <a:chExt cx="2743200" cy="4038480"/>
          </a:xfrm>
        </p:grpSpPr>
        <p:sp>
          <p:nvSpPr>
            <p:cNvPr id="483" name=""/>
            <p:cNvSpPr/>
            <p:nvPr/>
          </p:nvSpPr>
          <p:spPr>
            <a:xfrm>
              <a:off x="3352680" y="1600200"/>
              <a:ext cx="27432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354120" y="1650240"/>
              <a:ext cx="2649600" cy="39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Scala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R4, 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oop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0, 0(R1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.D F2, 0(R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.D F4, F2, F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.D F4, 0(R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1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2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ADDIU R3, 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DSUBIU R4,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BNEZ R4, loo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6021720" y="1600200"/>
            <a:ext cx="2786760" cy="4038480"/>
            <a:chOff x="6021720" y="1600200"/>
            <a:chExt cx="2786760" cy="4038480"/>
          </a:xfrm>
        </p:grpSpPr>
        <p:sp>
          <p:nvSpPr>
            <p:cNvPr id="486" name=""/>
            <p:cNvSpPr/>
            <p:nvPr/>
          </p:nvSpPr>
          <p:spPr>
            <a:xfrm>
              <a:off x="6095880" y="1600200"/>
              <a:ext cx="266724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021720" y="1664280"/>
              <a:ext cx="2786760" cy="19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Vecto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I VLR, 64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1, R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LV V2, R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ADDV.D V3, V1, V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SV V3, R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380880" y="1600200"/>
            <a:ext cx="3063240" cy="4038480"/>
            <a:chOff x="380880" y="1600200"/>
            <a:chExt cx="3063240" cy="4038480"/>
          </a:xfrm>
        </p:grpSpPr>
        <p:sp>
          <p:nvSpPr>
            <p:cNvPr id="489" name=""/>
            <p:cNvSpPr/>
            <p:nvPr/>
          </p:nvSpPr>
          <p:spPr>
            <a:xfrm>
              <a:off x="380880" y="1600200"/>
              <a:ext cx="2971800" cy="40384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83040" y="1747080"/>
              <a:ext cx="3061080" cy="9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# C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for (i=0; i&lt;64; i++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C[i] = A[i] + B[i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316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 Instruction Set Advantag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58160"/>
            <a:ext cx="8305920" cy="426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short instruction encodes N oper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ressive, tells hardware that these N oper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same functional un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disjoint regist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registers in the same pattern as previous instru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a contiguous block of memory (unit-stride load/stor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 memory in a known pattern (strided load/store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run same object code on more parallel pipelines or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3-29T11:45:20Z</dcterms:created>
  <dc:creator>Krste</dc:creator>
  <dc:description/>
  <dc:language>en-US</dc:language>
  <cp:lastModifiedBy>Krste Asanovic</cp:lastModifiedBy>
  <cp:lastPrinted>1998-02-10T18:55:42Z</cp:lastPrinted>
  <dcterms:modified xsi:type="dcterms:W3CDTF">2006-02-26T02:17:20Z</dcterms:modified>
  <cp:revision>419</cp:revision>
  <dc:subject>6.823 Spring 2001, Lecture 15</dc:subject>
  <dc:title>Vector Computers</dc:title>
</cp:coreProperties>
</file>