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376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162320" y="2340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376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162320" y="9148320"/>
            <a:ext cx="3176640" cy="428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0400"/>
                <a:tab algn="l" pos="1720800"/>
                <a:tab algn="l" pos="2581200"/>
                <a:tab algn="l" pos="3441600"/>
                <a:tab algn="l" pos="4302000"/>
                <a:tab algn="l" pos="5162400"/>
                <a:tab algn="l" pos="6022800"/>
                <a:tab algn="l" pos="6883560"/>
                <a:tab algn="l" pos="7743960"/>
                <a:tab algn="l" pos="8604360"/>
                <a:tab algn="l" pos="9464760"/>
                <a:tab algn="l" pos="10325160"/>
              </a:tabLst>
            </a:pPr>
            <a:fld id="{3ABE858D-BEEF-4E57-85F5-930D5D0E51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3240" y="9147240"/>
            <a:ext cx="13654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E64288C7-546A-40DD-8097-6090D26680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527120" y="921960"/>
            <a:ext cx="4262400" cy="319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and New Testament by Kleir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ret skipping as grad stu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Queue called waiting line, System called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ldImg"/>
          </p:nvPr>
        </p:nvSpPr>
        <p:spPr>
          <a:xfrm>
            <a:off x="1258920" y="720720"/>
            <a:ext cx="4800600" cy="36003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1595-C9EA-44E1-9397-F0647047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B6E6-16D6-4814-B63F-EAF18343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59E5-33FA-468D-9643-263462DD2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77B3-E5D6-4F8A-8F3E-18DE5739E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339F-0827-475E-A558-59EE67B7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6D63-EEFF-4D3B-BC1E-262DB1C4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2B14-142E-44BD-892A-41EDA0194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31C-3D89-46B1-B83E-7242D818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C1E-A734-422A-894F-81845F18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3C45-3AF7-4BC7-BD0E-1308190B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2ADD-B842-46A1-8DE9-4B0391F7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97F-3DAE-4D73-A3B0-1BC2E1DF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7C9F9-F4BD-43F8-95FD-F4AF98B31CE4}" type="datetime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bba0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D628-493A-4A84-AEB1-C4FF71014AF3}" type="slidenum">
              <a:rPr b="1" lang="en-US" sz="1400" spc="-1" strike="noStrike">
                <a:solidFill>
                  <a:srgbClr val="fbba0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133720"/>
            <a:ext cx="8077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18 – Storag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quared Coefficient of Variance (C</a:t>
            </a:r>
            <a:r>
              <a:rPr b="1" lang="en-US" sz="3200" spc="-1" strike="noStrike" baseline="30000">
                <a:solidFill>
                  <a:srgbClr val="0332b7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Variance / WA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 = sqrt(Variance)/WAM = StDev/W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tless meas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ing to characterize random events, but need distribution of random events with tractable m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st popular such distribution is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exponential distributio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here C =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using constant to characterize variability about the mea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ariance of C over tim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history of events has no impact on probability of an event occurring no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1" i="1" lang="en-US" sz="1800" spc="-1" strike="noStrike">
                <a:solidFill>
                  <a:srgbClr val="fc0128"/>
                </a:solidFill>
                <a:latin typeface="Arial"/>
              </a:rPr>
              <a:t>memoryless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n important assumption to predict behavior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uppose not; then have to worry about the exact arrival times of requests relative to each other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ke math not tractable!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262F-C807-49FF-A944-D0075A42A72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9E1FDA-B48D-4BB2-BC0B-BB92636BCB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isson Distrib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widely used exponential distribution is Poiss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d by probability mass func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just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ability (k) = 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-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x 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k!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re a = Rate of events x Elapsed ti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interarrival times exponentially distributed &amp; use arrival rate from above for rate of events, number of arrivals in time interv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Poisson proc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7584-6538-4838-8822-B3D47D16E8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8D748-11F7-4FDD-A178-9AE1568E00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 new task must wait for server to complete a task assuming server bus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it’s a Poiss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verage residual service tim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 ½ x Arithmetic mean x (1 + 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not random &amp; all values = averag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tandard deviation is 0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half average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en distribution is random &amp; Poiss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 is 1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weighted arithmetic m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44FA-5DA8-4E22-BF96-D674DDDC2CC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6909C-E97B-4B0E-85E6-1A6D60F6F8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tasks in queue (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head of new task must be completed before task can be servic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task takes on average Time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8080" indent="-21924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sk at server takes average residual service time to complet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ce server is busy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er utiliza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xpected time for service is 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Server utilization x Average residual servic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stituting definitions for Lengt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residual service time, &amp; rearranging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BE7F-D7E0-4A54-BD90-E5B7586C539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1C21B-FFA3-4973-A0FB-19E1E8FD2E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Arrival rate x Time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tle’s La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ed to the components of the black box since they must also be in equilibri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iv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000"/>
            </a:b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r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Server utilization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br>
              <a:rPr sz="2800"/>
            </a:b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/(1-Server utilization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n no. requests in queue slide 6? (50%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ngt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= (0.5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/ (1-0.5) = 0.25/0.5 = 0.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5 requests on average in 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D01E-3FCD-4C91-A5F8-5F79FF4685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56497-1104-41E9-AE4F-9D32711A9C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/M/1 Queuing Mode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7696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is in equilibriu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s between 2 successive requests arriving,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618ffd"/>
                </a:solidFill>
                <a:latin typeface="Arial"/>
              </a:rPr>
              <a:t>interarrival times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are exponentially distrib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ber of sources of requests is unlimited </a:t>
            </a: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“infinite population model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can start next job immedia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queue, no limit to length of queue, and FIFO discipline, so all tasks in line must be comple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re is one 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M/M/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(book also derives M/M/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request arrival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nentially random service time (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 ser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just">
              <a:lnSpc>
                <a:spcPct val="70000"/>
              </a:lnSpc>
              <a:spcBef>
                <a:spcPts val="751"/>
              </a:spcBef>
              <a:spcAft>
                <a:spcPts val="4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anding for Markov, mathematician who defined and analyzed the memoryless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ADF7-A0FE-4ADB-90D3-180A6B9F459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829CF7-9D48-47A8-8AD2-D881EE22B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n talking during Pizza last Wedne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Update Meeting Wednesday 4/19, 10 to 12: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35 Soda. Meeting signup onl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day 4/24 Quiz 2 5-8 PM in roo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Mainly Ch 4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 4/26 Bad Career Advice / Bad Talk Advice ? / Goodbye to Computer Architecture / Your Cal Cultural Histo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resentations Monday 5/1 (all da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Posters 5/3 Wednesday (11-1 in So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8840" indent="-438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al Papers due Friday 5/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8240" indent="-329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Archana, who will post papers on class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C17-5EB8-493F-B28A-EEC13FE4CE1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F3C75-A6BE-4D84-B072-4DFEFD9E09C8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disk I/Os / sec, requests are exponentially distributed, and average service time is 2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0.02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2 = 0.8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20 ms x 0.8/(1-0.8) = 20 x 4 = 8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80+20 ms = 100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A9D-AF04-4262-AA8D-76F3680082D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B087C0-1F99-42D0-85A4-88C53537CE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much better with 2X faster disk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service time i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rival rate/sec = 40,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0.01 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average, how utilized is the disk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Arrival rat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= 40 x 0.01 = 0.4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40%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time spent in the queu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10 ms x 0.4/(1-0.4) = 10 x 2/3 = 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average response time for a disk request, inclu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queuing time and disk service ti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.7+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s = 16.7 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6X faster response time with 2X faster disk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8A1D-826E-4CD1-BDBE-1A35148320D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9A730-F6BD-4379-AFCA-56EDBAD837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alue of Queueing Theory in practi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 quickly do not try to utilize resource 100% but how far should back of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designers to decide impact of faster hardware on utilization and hence on res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ks surprisingly we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7341-4E7B-48B8-9440-F79E8B2392A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E0B419-F089-4A14-AE55-86A71C7A59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ks: Arial Density now 30%/yr vs. 100%/yr in 2000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PC: price performance as normalizing configuration fea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diting to ensure no foul pl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roughput with restricted response time is normal mea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ul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atent errors in syste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ailure in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ten fail slowl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systems: problems in maintenance, operation as well as hardware, softw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74DF-13E9-4A4E-B133-A3F5A502125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0A8B68-BF5F-4340-9C4E-42D3C6958910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ross cutting Issues: </a:t>
            </a:r>
            <a:br>
              <a:rPr sz="2800"/>
            </a:b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Buses </a:t>
            </a:r>
            <a:r>
              <a:rPr b="1" lang="en-US" sz="2800" spc="-1" strike="noStrike">
                <a:solidFill>
                  <a:srgbClr val="0332b7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 point-to-point links and switches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80880" y="762120"/>
          <a:ext cx="8458200" cy="3165480"/>
        </p:xfrm>
        <a:graphic>
          <a:graphicData uri="http://schemas.openxmlformats.org/drawingml/2006/table">
            <a:tbl>
              <a:tblPr/>
              <a:tblGrid>
                <a:gridCol w="2716200"/>
                <a:gridCol w="854280"/>
                <a:gridCol w="1001520"/>
                <a:gridCol w="1897200"/>
                <a:gridCol w="893880"/>
                <a:gridCol w="1095120"/>
              </a:tblGrid>
              <a:tr h="103284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tand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id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ock 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B/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arallel)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 MHz (DD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rial Attach SC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/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 / 66 M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CI Exp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5 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 G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"/>
          <p:cNvSpPr/>
          <p:nvPr/>
        </p:nvSpPr>
        <p:spPr>
          <a:xfrm>
            <a:off x="457200" y="4343400"/>
            <a:ext cx="8153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. bits and BW is per direction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2X for both directions (not shown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e fewer wires, commonly increase BW  via versions with 2X-12X the number of wires and B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06800" indent="-40680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4161-E06E-4E04-BBF2-21A77E3873C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72D43B-7630-4090-80BC-935D2C7256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Storage Example: Internet Archiv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 of making a historical record of the Interne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net Archive began in 199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yback Machine interface perform time travel to see what the website at a URL looked like in the p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contains over a petabyte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, and is growing by 20 terabytes (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ytes) of new data per mon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addition to storing the historical record, the same hardware is used to crawl the Web every few months to get snapshots of the Inter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A005-7706-49A2-9529-B82B284004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A1C988-BA90-4621-A66D-EA1909272F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332b7"/>
                </a:solidFill>
                <a:latin typeface="Arial"/>
              </a:rPr>
              <a:t>Internet Archive Clust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6476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U storage node PetaBox GB2000 from Capricorn Technologi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ins 4 500 GB Parallel ATA (PATA) disk drives, 512 MB of DDR266 DRAM, one 10/100/1000 Ethernet interface, and a 1 GHz C3 Processor from VIA (80x86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 dissipate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watt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GB2000s in a standard VME rack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80 TB of raw storage capacit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0 nodes are connected with a 48-port 10/100 or 10/100/1000 Ethernet swit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ck dissipates about 3 KW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etaByte = 12 rac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0120" y="1523880"/>
            <a:ext cx="1222200" cy="410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E2FF-E207-4AA3-A3FF-8CB7D7A94BA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2A653-A67E-4910-A4C6-4FF90593DB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Cos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a processor, 512 MB of DDR266 DRAM, ATA disk controller, power supply, fans, and enclosure = $5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00 RPM Parallel ATA drives holds 500 GB = $375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8-port 10/100/1000 Ethernet switch and all cables for a rack = $3000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 $84,500 for a 80-TB rack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0 Disks ar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60% of the c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4A7-8970-469D-AFAB-134419170C7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FFEC1-D8CE-4AF6-AD31-75BB3E7B4B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7619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200 RPM Parallel ATA drives holds 500 GB, has an average time seek of 8.5 ms, transfers at 50 MB/second from the disk. The PATA link speed is 133 MB/secon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 of the VIA processor is 1000 MIP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ng system uses 50,000 CPU instructions for a disk I/O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twork protocol stacks uses 100,000 CPU instructions to transmit a data block between the cluster and the external worl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A controller overhead is  0.1 ms to perform a disk I/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erage I/O size is 16 KB for accesses to the historical record via the Wayback interface, and 50 KB when collecting a new snapsho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ks are limit: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75 I/Os/s per disk, 300/s per node, 12000/s per rack, or about 200 to 600 Mbytes / sec Bandwidth per r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75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tch needs to support 1.6 to 3.8 Gbits/second over 40 Gbit/sec lin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 algn="just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D577-9F9C-44DA-9462-9EEB7A0AF1E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66E62-6D6E-4984-97EB-4134B102C6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stimated Reli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/memory/enclosur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Disk MTTF is 125,000 hours (x 16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ontroller MTTF is 5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thernet Switch MTTF is 500,000 hours (x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supply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n MTTF is 2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A cable MTTF is 1,000,000 hours (x 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TTF for the system is 531 hours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3 week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0% of time failures are di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 of time failures are fans or power suppl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62A-1E6A-4E22-BA4B-D301C88BCD6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DD561-C615-4AD1-9546-440197269C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as main motivation for RAID in pap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d prediction of processor performance and disk capacity hol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the performance figures of merit to compare RAID leve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RAID groups sizes were in the paper? Are they realistic? Wh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y would RAID 2 (ECC) have lower predicted MTTF than RAID 3 (Parity)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7F06-0325-4FF7-916A-CF690FD84B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551910-F954-4A4C-8309-44A0B6E9CE32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AID Paper Discuss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85000"/>
              </a:lnSpc>
              <a:spcBef>
                <a:spcPts val="1576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79246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propose balance performance and capacity of RAID 1 to RAID 5? What do you think of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were some of the open issues?  Which were signific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, what do you think were important contribu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did the authors get wro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4160" indent="-4341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retrospec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ID in Hardware vs. RAID in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ed MTTF vs. in th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nchronization of disks in an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C ($10B sales in 2005) and RAI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59960" indent="-3258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o invented RAID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85E-B7B6-4CCE-85B5-CD7751F1A7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8FEA2-F81D-46F1-B42A-7152EB6B0896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3236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59056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Mean number customers = arrival rate x mean service tim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preciation for relationship of latency and utiliza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yst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 Server utilization/(1-Server utilizat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usters for storage as well as compu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ID paper: Its reliability, not performance, that matters for stor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9520" y="4876920"/>
            <a:ext cx="88264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057400" y="1219320"/>
            <a:ext cx="4559400" cy="1285920"/>
            <a:chOff x="2057400" y="1219320"/>
            <a:chExt cx="4559400" cy="1285920"/>
          </a:xfrm>
        </p:grpSpPr>
        <p:sp>
          <p:nvSpPr>
            <p:cNvPr id="140" name=""/>
            <p:cNvSpPr/>
            <p:nvPr/>
          </p:nvSpPr>
          <p:spPr>
            <a:xfrm>
              <a:off x="3270240" y="145728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57400" y="182556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139840" y="207324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05320" y="197820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10868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956040" y="196524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25840" y="123516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954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6920" y="190188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82680" y="207324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67080" y="220032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34800" y="207324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220032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15000" y="197820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89040" y="161928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67000" y="156852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23600" y="121932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E19D-611A-46B3-8403-700C55E4582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D80B1-517A-427C-9CBF-0194D5893B04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roduction to Queueing Theo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3047760"/>
            <a:ext cx="769644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interested in long term, steady state than in startup =&gt; Arrivals = Depar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Little’s Law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: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Mean number tasks in system = arrival rate x mean reponse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2320" indent="-18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ed by many, Little was first to pro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4360" indent="-234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es to any system in equilibrium, as long as black box not creating or destroying tas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20960" y="1892160"/>
            <a:ext cx="1301760" cy="95904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5476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2495520"/>
            <a:ext cx="10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91400" y="2016000"/>
            <a:ext cx="103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riv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263560" y="2016000"/>
            <a:ext cx="1385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part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49C3-6956-4F6A-9259-34B3B4E7E15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1A4D62-14E5-4B90-B8E3-C15E752021E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riving Little’s Law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elapsed time that observe a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umber of (overlapping) tasks during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um of elapsed times for each tas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ae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ing RHS of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ccumulat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ask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bserv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get Little’s Law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8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Mean number tasks in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Arrival 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ae00"/>
                </a:solidFill>
                <a:latin typeface="Arial"/>
              </a:rPr>
              <a:t>Mean response 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124080"/>
            <a:ext cx="533520" cy="1447920"/>
          </a:xfrm>
          <a:custGeom>
            <a:avLst/>
            <a:gdLst/>
            <a:ahLst/>
            <a:rect l="l" t="t" r="r" b="b"/>
            <a:pathLst>
              <a:path w="1632" h="896">
                <a:moveTo>
                  <a:pt x="1632" y="896"/>
                </a:moveTo>
                <a:cubicBezTo>
                  <a:pt x="1576" y="576"/>
                  <a:pt x="1520" y="256"/>
                  <a:pt x="1248" y="128"/>
                </a:cubicBezTo>
                <a:cubicBezTo>
                  <a:pt x="976" y="0"/>
                  <a:pt x="488" y="64"/>
                  <a:pt x="0" y="128"/>
                </a:cubicBezTo>
              </a:path>
            </a:pathLst>
          </a:custGeom>
          <a:noFill/>
          <a:ln w="38160">
            <a:solidFill>
              <a:srgbClr val="00ae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4038480"/>
            <a:ext cx="1676160" cy="1143000"/>
          </a:xfrm>
          <a:custGeom>
            <a:avLst/>
            <a:gdLst/>
            <a:ahLst/>
            <a:rect l="l" t="t" r="r" b="b"/>
            <a:pathLst>
              <a:path w="2208" h="720">
                <a:moveTo>
                  <a:pt x="2208" y="720"/>
                </a:moveTo>
                <a:cubicBezTo>
                  <a:pt x="1888" y="708"/>
                  <a:pt x="1568" y="696"/>
                  <a:pt x="1200" y="576"/>
                </a:cubicBezTo>
                <a:cubicBezTo>
                  <a:pt x="832" y="456"/>
                  <a:pt x="416" y="228"/>
                  <a:pt x="0" y="0"/>
                </a:cubicBezTo>
              </a:path>
            </a:pathLst>
          </a:custGeom>
          <a:noFill/>
          <a:ln w="38160">
            <a:solidFill>
              <a:srgbClr val="0332b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3276720"/>
            <a:ext cx="4267080" cy="1295280"/>
          </a:xfrm>
          <a:custGeom>
            <a:avLst/>
            <a:gdLst/>
            <a:ahLst/>
            <a:rect l="l" t="t" r="r" b="b"/>
            <a:pathLst>
              <a:path w="2688" h="816">
                <a:moveTo>
                  <a:pt x="0" y="816"/>
                </a:moveTo>
                <a:cubicBezTo>
                  <a:pt x="760" y="740"/>
                  <a:pt x="1520" y="664"/>
                  <a:pt x="1968" y="528"/>
                </a:cubicBezTo>
                <a:cubicBezTo>
                  <a:pt x="2416" y="392"/>
                  <a:pt x="2552" y="196"/>
                  <a:pt x="2688" y="0"/>
                </a:cubicBezTo>
              </a:path>
            </a:pathLst>
          </a:custGeom>
          <a:noFill/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F62-FA4C-4695-A02E-11EDBA36DC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635E9-DE65-4CF6-A2EA-FBA4BA71AC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8880" y="132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Little Queuing Theory: No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1920" y="2228400"/>
            <a:ext cx="8915400" cy="4095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ation:</a:t>
            </a:r>
            <a:br>
              <a:rPr sz="28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 to service a task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verage service ra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1 /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traditionally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µ)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time/task in system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Arrival ra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g no. of arriving tasks/sec (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length of queue </a:t>
            </a:r>
            <a:br>
              <a:rPr sz="2400"/>
            </a:b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erage number of tasks in servi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=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+ 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ttle’s Law: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r>
              <a:rPr b="1" i="1" lang="en-US" sz="2800" spc="-1" strike="noStrike">
                <a:solidFill>
                  <a:srgbClr val="fc0128"/>
                </a:solidFill>
                <a:latin typeface="Arial"/>
              </a:rPr>
              <a:t> = Arrival rate x Time</a:t>
            </a:r>
            <a:r>
              <a:rPr b="1" i="1" lang="en-US" sz="28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ean number tasks = arrival rate x mean service tim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146320" y="1228680"/>
            <a:ext cx="4559400" cy="1285920"/>
            <a:chOff x="2146320" y="1228680"/>
            <a:chExt cx="4559400" cy="1285920"/>
          </a:xfrm>
        </p:grpSpPr>
        <p:sp>
          <p:nvSpPr>
            <p:cNvPr id="70" name=""/>
            <p:cNvSpPr/>
            <p:nvPr/>
          </p:nvSpPr>
          <p:spPr>
            <a:xfrm>
              <a:off x="3359160" y="1466640"/>
              <a:ext cx="3333960" cy="104796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146320" y="1834920"/>
              <a:ext cx="825480" cy="673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28760" y="2082600"/>
              <a:ext cx="635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94240" y="1987560"/>
              <a:ext cx="74916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19760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4044960" y="1974600"/>
              <a:ext cx="0" cy="3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14760" y="1244520"/>
              <a:ext cx="838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844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965840" y="1911240"/>
              <a:ext cx="596880" cy="596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71600" y="2082600"/>
              <a:ext cx="5342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O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56000" y="2209680"/>
              <a:ext cx="597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823720" y="2082600"/>
              <a:ext cx="8618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3360" rIns="63360" tIns="25560" bIns="2556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evi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75320" y="2209680"/>
              <a:ext cx="216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803920" y="1987560"/>
              <a:ext cx="901800" cy="444240"/>
            </a:xfrm>
            <a:prstGeom prst="roundRect">
              <a:avLst>
                <a:gd name="adj" fmla="val 12495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77960" y="1628640"/>
              <a:ext cx="893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55920" y="1577880"/>
              <a:ext cx="864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12520" y="1228680"/>
              <a:ext cx="992160" cy="3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307-3712-46EC-9743-67B480B4A0C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088BD-0EEA-4A44-9FE5-E0C44973BC99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er Utiliz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single server, service rate =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/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st be between 0 and 1, since system is in equilibrium (arrivals = departures); often called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traffic intensit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traditionally </a:t>
            </a:r>
            <a:r>
              <a:rPr b="1" lang="el-GR" sz="2400" spc="-1" strike="noStrike">
                <a:solidFill>
                  <a:srgbClr val="fc0128"/>
                </a:solidFill>
                <a:latin typeface="Arial"/>
                <a:ea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Server utilizatio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mean number tasks in service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Arrival rate x Time</a:t>
            </a:r>
            <a:r>
              <a:rPr b="1" lang="en-US" sz="2400" spc="-1" strike="noStrike" baseline="-25000">
                <a:solidFill>
                  <a:srgbClr val="fc0128"/>
                </a:solidFill>
                <a:latin typeface="Arial"/>
              </a:rPr>
              <a:t>ser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disk utilization if get 50 I/O requests per second for disk and average disk service time is 10 ms (0.01 sec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er utilization = 50/sec x 0.01 sec = 0.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server is busy on average 50% of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1618-542B-4D5D-9173-1C8A590A5F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16EFCA-9B94-4FC1-92E8-6FF25A63F3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ime in Queue vs. Length of Queu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assume First In First Out (FIFO) que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tionship of time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to mean number of tasks in queue (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Length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queue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x Time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server </a:t>
            </a:r>
            <a:br>
              <a:rPr sz="2400"/>
            </a:b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i="1" lang="en-US" sz="2400" spc="-1" strike="noStrike" baseline="-25000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 “Mean time to complete service of task when new task arrives if server is busy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task can arrive at any instant; how predict last par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predict performance, need to know sometime about distribution of ev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68D-1267-4E0E-AAD0-BDB5EC92ECD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E3A7F-7C0D-41B1-9237-32DE1B68DE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istribution of Random Variabl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variable is random if it takes one of a specified set of values with a specified prob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not know exactly next value, but may know probability of all possible val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/O Requests can be modeled by a random variable because OS normally switching between several processes generating independent I/O 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 given probabilistic nature of disks in seek and rotational delay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racterize distribution of values of a random variable with discrete values using a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histogra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s range between the min &amp; max values into </a:t>
            </a:r>
            <a:r>
              <a:rPr b="0" i="1" lang="en-US" sz="1800" spc="-1" strike="noStrike">
                <a:solidFill>
                  <a:srgbClr val="fc0128"/>
                </a:solidFill>
                <a:latin typeface="Arial"/>
              </a:rPr>
              <a:t>bucket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stograms then plot the number in each bucket as colum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s for discrete values e.g., number of I/O requ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bout if not discrete? Very fine bucke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955E-0B7B-434E-A090-3191130CA4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EE7731-A3A0-4991-9A21-C4B8550613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Characterizing distribution of a random variable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ed mean time and a measure of vari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mean, use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(WAM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frequency of task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 = time for tasks 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eighted arithmetic mean </a:t>
            </a:r>
            <a:br>
              <a:rPr sz="2400"/>
            </a:b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variance, instead of standard deviation, use Variance (square of standard deviation) for WA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Vari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 – WA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time is miliseconds, Variance units are square milliseconds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t a unitless measure of vari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Storag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47B3-AEF0-4D1F-9FE7-D0C09CED88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A6F895-6D4E-4023-A31A-4DA93F80FC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9T00:18:59Z</dcterms:created>
  <dc:creator>David E. Culler</dc:creator>
  <dc:description/>
  <cp:keywords/>
  <dc:language>en-US</dc:language>
  <cp:lastModifiedBy>EECS</cp:lastModifiedBy>
  <cp:lastPrinted>1999-02-05T18:32:54Z</cp:lastPrinted>
  <dcterms:modified xsi:type="dcterms:W3CDTF">2006-04-16T15:33:09Z</dcterms:modified>
  <cp:revision>162</cp:revision>
  <dc:subject/>
  <dc:title>Perspective on Parallel Programm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2</vt:r8>
  </property>
  <property fmtid="{D5CDD505-2E9C-101B-9397-08002B2CF9AE}" pid="8" name="HomePage">
    <vt:lpwstr>http://www.cs.berkeley.edu/~culler/cs258-s99/</vt:lpwstr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David E. Culler UC Berkeley
CS258 Parallel Computer Architecture
Lecture 5</vt:lpwstr>
  </property>
  <property fmtid="{D5CDD505-2E9C-101B-9397-08002B2CF9AE}" pid="13" name="OutputDir">
    <vt:lpwstr>U:\public_html\cs258-s99\slide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