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CB59E63-2947-43A4-AC27-13ABB34A43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7520" y="9148680"/>
            <a:ext cx="14634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67075C-8B8F-42B5-AD6B-8AF99F2B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5556E5E-863A-4237-8324-FCB7523431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273320" y="619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34B-CA3B-4AEE-9A10-5F834EAA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ED3-D0FE-4CA9-9A4A-E1B9C660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D30-EA69-4E06-B3E3-52615459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A3E-9CDC-4DDB-85BE-58D65CDF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4FF-9D5F-46AA-A055-A9BEEE69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BA4-AB3E-4AAC-92B6-6FABD338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A34-FA69-4B76-AEC2-0B8ABC88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74D-933B-42BB-B453-34C5D3E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BBA-D1EE-47E3-BD18-7CD30EE3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71D-D46C-4679-970E-AB6956D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A1A-1DF0-4FA5-BA3F-9E3964E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E9D-8EF8-490D-A821-01EF768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7D6-D233-4082-B60C-8F197B692581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A2FA-AA64-47FF-9BB2-E9D3EE1B750D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3 – Performance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+ Pipeline Review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6C1-9525-4682-B0AF-CA8C0EBBFA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9DA89-1B9A-4992-8B02-17A463793C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8040" y="2362320"/>
            <a:ext cx="2755800" cy="3013560"/>
            <a:chOff x="3848040" y="2362320"/>
            <a:chExt cx="2755800" cy="3013560"/>
          </a:xfrm>
        </p:grpSpPr>
        <p:sp>
          <p:nvSpPr>
            <p:cNvPr id="93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234-3340-423F-A061-1266797227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24FF6-16A0-4BA4-8113-21ED403B47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93920" y="4597560"/>
            <a:ext cx="3941280" cy="778320"/>
            <a:chOff x="2293920" y="4597560"/>
            <a:chExt cx="3941280" cy="778320"/>
          </a:xfrm>
        </p:grpSpPr>
        <p:sp>
          <p:nvSpPr>
            <p:cNvPr id="105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4673520"/>
              <a:ext cx="1681200" cy="577800"/>
            </a:xfrm>
            <a:custGeom>
              <a:avLst/>
              <a:gdLst/>
              <a:ahLst/>
              <a:rect l="l" t="t" r="r" b="b"/>
              <a:pathLst>
                <a:path w="1083" h="364">
                  <a:moveTo>
                    <a:pt x="1083" y="312"/>
                  </a:moveTo>
                  <a:cubicBezTo>
                    <a:pt x="696" y="338"/>
                    <a:pt x="310" y="364"/>
                    <a:pt x="155" y="312"/>
                  </a:cubicBezTo>
                  <a:cubicBezTo>
                    <a:pt x="0" y="260"/>
                    <a:pt x="77" y="130"/>
                    <a:pt x="155" y="0"/>
                  </a:cubicBezTo>
                </a:path>
              </a:pathLst>
            </a:custGeom>
            <a:noFill/>
            <a:ln w="12600">
              <a:solidFill>
                <a:srgbClr val="fc0128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34B-B182-4670-AC08-1A5DE1C51A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4E0B6-34A1-4E30-9DBE-1DC4602E58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8631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Ratios 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results are quite compatible with a lognormal distribution (expect 68% for 1 StDe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26C-EF9E-4B3C-9591-CFDAECE350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2C2CA-E009-47B1-892F-D5416147A9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ommonly held miscon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iscussing a fallacy, we try to give a counterexamp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asily made mistak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generalizations of principles true in limited con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 Fallacies and Pitfalls to help you avoid these err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: Benchmarks remain vali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benchmarks from the 5 SPEC releases. 70% were dropped from the next release since no longer 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: A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of thumb for fault tolerant systems: make sure that every component was redundant so that no single component failure could bring down the whole system (e.g, power supp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FA1-5BD2-4ADF-8A1E-7C73F5E7B5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9D70C-D9EA-458C-A6B2-E25CAA7C6D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91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 - Rated MTTF of disks is 1,200,000 hours or</a:t>
            </a:r>
            <a:br>
              <a:rPr sz="2400"/>
            </a:b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140 years, so disks practically never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isk lifetime is 5 year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ace a disk every 5 years; on average, 28 replacements wouldn't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nit: % that fail (1.2M MTTF = 833 FI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 over lifetime: if had 1000 disks for 5 yea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00*(5*365*24)*833 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,485,000 /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% (37/1000) fail over 5 yr lifetime (1.2M hr M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s under pristine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vibration, narrow temperature ran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power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: 3% to 6% of SCSI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6800 FIT or 150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% to 7% of ATA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8000 FIT or 125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806-2E90-4D38-AB35-80C0BFC638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246A5-69D3-4873-A09C-38A8DE6FC4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2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Memory Hierarchy Basics Appendix C (handout) for Mon 1/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Wed 2/1: Great ISA debate (3 papers) + Prerequisite Qu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68A-FCA3-4968-B2CD-E52170C69F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F9C78-7937-4BD8-B3DC-88E15E7EAA4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DEE-FE79-4D72-B46C-F6385AC66A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50812-D6E3-41DB-AD84-CB9D93E39E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"Typical" RISC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7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fixed format instruction (3 forma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32-bit GPR (R0 contains zero, DP take pa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address, reg-reg arithmetic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address mode for load/stor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ranch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1400" y="5207040"/>
            <a:ext cx="6398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B10-1F3F-4CE7-B86F-85B470E0E8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083C5-385E-4E20-BAB8-46B1F1A21786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 (­ MIP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0824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964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7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57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93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0372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7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09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45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47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6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0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24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57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964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7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576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17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0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964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7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757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372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017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9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45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947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6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0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24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2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832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81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38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6112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" y="1244520"/>
            <a:ext cx="2108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0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64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235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49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800" y="2495520"/>
            <a:ext cx="241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0824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7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57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49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93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0372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17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9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45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947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6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0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24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34600" y="42544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7920" y="3591000"/>
            <a:ext cx="9428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2280" y="4753080"/>
            <a:ext cx="13618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562-1BF9-45E8-8F9C-67E517E07A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5D4AE-AFCE-4FBF-8092-A6350474413B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400"/>
            <a:ext cx="801216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Cost (vs. Pr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(Are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Learning curve, volume, commodity, mar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 vs. FIT), Availability (MTTF/(MTTF+MT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AE9-0508-4410-BD50-56A9849C58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78253-F96D-44DC-B534-15C407F8B4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1515960"/>
            <a:ext cx="1952640" cy="3146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path vs Contro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3880" y="5037120"/>
            <a:ext cx="76676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path: Storage, FU, interconnect sufficient to perform the desir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s are Control P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s are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: State machine to orchestrate operation on the data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desired function and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3240" y="11620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887480"/>
            <a:ext cx="108576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664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936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8320" y="3808440"/>
            <a:ext cx="976320" cy="496800"/>
          </a:xfrm>
          <a:custGeom>
            <a:avLst/>
            <a:gdLst>
              <a:gd name="textAreaLeft" fmla="*/ 214560 w 976320"/>
              <a:gd name="textAreaRight" fmla="*/ 761760 w 976320"/>
              <a:gd name="textAreaTop" fmla="*/ 109080 h 496800"/>
              <a:gd name="textAreaBottom" fmla="*/ 3877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23920" y="1731960"/>
            <a:ext cx="1090800" cy="2743200"/>
            <a:chOff x="2023920" y="1731960"/>
            <a:chExt cx="1090800" cy="2743200"/>
          </a:xfrm>
        </p:grpSpPr>
        <p:sp>
          <p:nvSpPr>
            <p:cNvPr id="199" name=""/>
            <p:cNvSpPr/>
            <p:nvPr/>
          </p:nvSpPr>
          <p:spPr>
            <a:xfrm>
              <a:off x="2030400" y="292572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600" y="293508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3920" y="345924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9120" y="346860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0320" y="1731960"/>
              <a:ext cx="914400" cy="274320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30" y="1621"/>
                  </a:moveTo>
                  <a:lnTo>
                    <a:pt x="39" y="1728"/>
                  </a:lnTo>
                  <a:lnTo>
                    <a:pt x="576" y="1728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20" y="73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361120" y="1519200"/>
            <a:ext cx="1890720" cy="327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99440" y="1165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36800" y="2681280"/>
            <a:ext cx="299088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98720" y="3363840"/>
            <a:ext cx="291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1360" y="4106880"/>
            <a:ext cx="330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5760" y="1743120"/>
            <a:ext cx="1100160" cy="2695680"/>
            <a:chOff x="5765760" y="1743120"/>
            <a:chExt cx="1100160" cy="2695680"/>
          </a:xfrm>
        </p:grpSpPr>
        <p:sp>
          <p:nvSpPr>
            <p:cNvPr id="210" name=""/>
            <p:cNvSpPr/>
            <p:nvPr/>
          </p:nvSpPr>
          <p:spPr>
            <a:xfrm>
              <a:off x="5765760" y="2441520"/>
              <a:ext cx="9144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1743120"/>
              <a:ext cx="83664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08600" y="2793960"/>
              <a:ext cx="836640" cy="1644840"/>
            </a:xfrm>
            <a:custGeom>
              <a:avLst/>
              <a:gdLst>
                <a:gd name="textAreaLeft" fmla="*/ 40680 w 836640"/>
                <a:gd name="textAreaRight" fmla="*/ 795960 w 83664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57">
                  <a:moveTo>
                    <a:pt x="3600" y="0"/>
                  </a:moveTo>
                  <a:arcTo wR="3600" hR="3600" stAng="16200000" swAng="-5400000"/>
                  <a:lnTo>
                    <a:pt x="0" y="38857"/>
                  </a:lnTo>
                  <a:arcTo wR="3600" hR="3600" stAng="10800000" swAng="-5400000"/>
                  <a:lnTo>
                    <a:pt x="18000" y="424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83360" y="2216160"/>
              <a:ext cx="1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9200" y="260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3360" y="1968480"/>
              <a:ext cx="682560" cy="69696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0" y="439"/>
                  </a:moveTo>
                  <a:lnTo>
                    <a:pt x="430" y="439"/>
                  </a:lnTo>
                  <a:lnTo>
                    <a:pt x="430" y="0"/>
                  </a:lnTo>
                  <a:lnTo>
                    <a:pt x="2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01440" y="414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97120" y="2076480"/>
            <a:ext cx="3130560" cy="1844640"/>
            <a:chOff x="2697120" y="2076480"/>
            <a:chExt cx="3130560" cy="1844640"/>
          </a:xfrm>
        </p:grpSpPr>
        <p:sp>
          <p:nvSpPr>
            <p:cNvPr id="218" name=""/>
            <p:cNvSpPr/>
            <p:nvPr/>
          </p:nvSpPr>
          <p:spPr>
            <a:xfrm flipV="1">
              <a:off x="2697120" y="2076480"/>
              <a:ext cx="3130560" cy="1844640"/>
            </a:xfrm>
            <a:prstGeom prst="line">
              <a:avLst/>
            </a:prstGeom>
            <a:ln w="3816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5240" y="21891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FE0-FB4B-4748-AA1F-2E876D4FFE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D4E4E-6E34-415B-9974-CF028AAB8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pproaching an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4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s set of operations, instruction format, hardware supported data types, named storage, addressing modes, sequen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 of each instruction is described by RTL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ed regi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technology constraints assemble adequate data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ed storage mapped to actual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units to do all the requir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dditional storage (eg. MAR, MBR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 to move information among regs and F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each instruction to sequence of R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te sequences into symbolic controller state transition diagram (ST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ymbolic STD to control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0C2-AB65-4858-BA83-F9BB08DD92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ED03E-5D55-417A-9A2E-633A7F4AC5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012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" y="18540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600" y="1136520"/>
            <a:ext cx="205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9528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7880" y="1290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4000" y="132228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92600" y="1290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1080" y="129060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1290600"/>
            <a:ext cx="1427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45400" y="3808440"/>
            <a:ext cx="203040" cy="92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4640" y="3352320"/>
            <a:ext cx="449640" cy="1095480"/>
            <a:chOff x="5714640" y="3352320"/>
            <a:chExt cx="449640" cy="1095480"/>
          </a:xfrm>
        </p:grpSpPr>
        <p:grpSp>
          <p:nvGrpSpPr>
            <p:cNvPr id="233" name=""/>
            <p:cNvGrpSpPr/>
            <p:nvPr/>
          </p:nvGrpSpPr>
          <p:grpSpPr>
            <a:xfrm>
              <a:off x="5714640" y="3352320"/>
              <a:ext cx="449640" cy="1095480"/>
              <a:chOff x="5714640" y="3352320"/>
              <a:chExt cx="449640" cy="10954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5403600" y="3687120"/>
                <a:ext cx="1095480" cy="425520"/>
              </a:xfrm>
              <a:custGeom>
                <a:avLst/>
                <a:gdLst>
                  <a:gd name="textAreaLeft" fmla="*/ 240840 w 1095480"/>
                  <a:gd name="textAreaRight" fmla="*/ 854640 w 109548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651280" y="3748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647320" y="3732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5400000">
              <a:off x="5660640" y="3758760"/>
              <a:ext cx="32868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0280" y="2081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33764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2630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2560" y="3100320"/>
            <a:ext cx="59076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5440" y="330048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440" y="3909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971800"/>
            <a:ext cx="674640" cy="68580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4240" y="3681360"/>
            <a:ext cx="53316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191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9560" y="4660920"/>
            <a:ext cx="447840" cy="67608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12920" y="2309760"/>
            <a:ext cx="914400" cy="992160"/>
            <a:chOff x="1312920" y="2309760"/>
            <a:chExt cx="914400" cy="992160"/>
          </a:xfrm>
        </p:grpSpPr>
        <p:sp>
          <p:nvSpPr>
            <p:cNvPr id="249" name=""/>
            <p:cNvSpPr/>
            <p:nvPr/>
          </p:nvSpPr>
          <p:spPr>
            <a:xfrm>
              <a:off x="1312920" y="2842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531080" y="2527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699200" y="2610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608840" y="2607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1708560" y="2621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97180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219320"/>
            <a:ext cx="0" cy="5333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32480" y="1236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748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743200"/>
            <a:ext cx="304812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0"/>
                </a:moveTo>
                <a:lnTo>
                  <a:pt x="1584" y="0"/>
                </a:lnTo>
                <a:lnTo>
                  <a:pt x="1584" y="432"/>
                </a:lnTo>
                <a:lnTo>
                  <a:pt x="1920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63840" y="38019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3271680"/>
            <a:ext cx="758520" cy="16732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4103280"/>
            <a:ext cx="704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7086600" cy="181296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88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7800" y="2498760"/>
            <a:ext cx="30456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198520"/>
            <a:ext cx="2276640" cy="54468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0" y="3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02000"/>
            <a:ext cx="838080" cy="6508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52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09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53316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341960"/>
            <a:ext cx="5486400" cy="1220760"/>
          </a:xfrm>
          <a:custGeom>
            <a:avLst/>
            <a:gdLst/>
            <a:ahLst/>
            <a:rect l="l" t="t" r="r" b="b"/>
            <a:pathLst>
              <a:path w="3456" h="769">
                <a:moveTo>
                  <a:pt x="3306" y="97"/>
                </a:moveTo>
                <a:lnTo>
                  <a:pt x="3456" y="97"/>
                </a:lnTo>
                <a:lnTo>
                  <a:pt x="3456" y="769"/>
                </a:lnTo>
                <a:lnTo>
                  <a:pt x="0" y="769"/>
                </a:lnTo>
                <a:lnTo>
                  <a:pt x="0" y="1"/>
                </a:lnTo>
                <a:lnTo>
                  <a:pt x="3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11480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0" y="0"/>
                </a:moveTo>
                <a:lnTo>
                  <a:pt x="0" y="288"/>
                </a:lnTo>
                <a:lnTo>
                  <a:pt x="134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8800" y="2437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3040" y="3228840"/>
            <a:ext cx="304560" cy="1228680"/>
            <a:chOff x="743040" y="3228840"/>
            <a:chExt cx="304560" cy="1228680"/>
          </a:xfrm>
        </p:grpSpPr>
        <p:sp>
          <p:nvSpPr>
            <p:cNvPr id="283" name=""/>
            <p:cNvSpPr/>
            <p:nvPr/>
          </p:nvSpPr>
          <p:spPr>
            <a:xfrm>
              <a:off x="743040" y="3228840"/>
              <a:ext cx="30456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280" y="4228920"/>
              <a:ext cx="277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71840" y="19800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4760" y="55616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76760" y="270972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15080" y="407844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69000" y="3844800"/>
            <a:ext cx="748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352728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407340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1680" y="3460680"/>
            <a:ext cx="276480" cy="685800"/>
            <a:chOff x="2641680" y="3460680"/>
            <a:chExt cx="276480" cy="685800"/>
          </a:xfrm>
        </p:grpSpPr>
        <p:grpSp>
          <p:nvGrpSpPr>
            <p:cNvPr id="293" name=""/>
            <p:cNvGrpSpPr/>
            <p:nvPr/>
          </p:nvGrpSpPr>
          <p:grpSpPr>
            <a:xfrm>
              <a:off x="2679840" y="3460680"/>
              <a:ext cx="203040" cy="685800"/>
              <a:chOff x="2679840" y="3460680"/>
              <a:chExt cx="203040" cy="68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2679840" y="3460680"/>
                <a:ext cx="20304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2520" y="3994200"/>
                <a:ext cx="165960" cy="1522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5400000">
              <a:off x="2533680" y="3665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2280" y="388548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30474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67800" y="3355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360" y="4923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6720" y="4878360"/>
            <a:ext cx="188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080" y="5716440"/>
            <a:ext cx="441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57C-685C-4DE6-9967-C257FFAACE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5EFB9-8D6B-4E1D-AB0A-BD0A53EABDA3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31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31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35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35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37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396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560" y="4495680"/>
            <a:ext cx="200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600" y="5257800"/>
            <a:ext cx="2027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40" y="5867280"/>
            <a:ext cx="216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slt &lt;= A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560" y="652140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160" y="6172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WB &lt;= r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9BB-3009-4CF4-B4BD-8218F3EA84E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21FD5-2240-40B6-A608-BDFAC7DC9E70}" type="datetime1">
              <a:rPr lang="en-US"/>
              <a:t>07/29/2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. Set Processor Controll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6248160"/>
            <a:ext cx="7683480" cy="33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4600" y="1473120"/>
            <a:ext cx="178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4040" y="2692440"/>
            <a:ext cx="17992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8480" y="3835440"/>
            <a:ext cx="155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 &lt;= A o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IRop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5800" y="54864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3400" y="4648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WB &lt;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1447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2480" y="161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9880" y="26780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Fetch-D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2590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6483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5410080"/>
            <a:ext cx="1752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37720" y="3429000"/>
            <a:ext cx="3505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666520" y="3429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3260880"/>
            <a:ext cx="2895480" cy="1235160"/>
            <a:chOff x="0" y="3260880"/>
            <a:chExt cx="2895480" cy="1235160"/>
          </a:xfrm>
        </p:grpSpPr>
        <p:grpSp>
          <p:nvGrpSpPr>
            <p:cNvPr id="428" name=""/>
            <p:cNvGrpSpPr/>
            <p:nvPr/>
          </p:nvGrpSpPr>
          <p:grpSpPr>
            <a:xfrm>
              <a:off x="1523880" y="3733920"/>
              <a:ext cx="1371600" cy="533160"/>
              <a:chOff x="1523880" y="3733920"/>
              <a:chExt cx="1371600" cy="533160"/>
            </a:xfrm>
          </p:grpSpPr>
          <p:sp>
            <p:nvSpPr>
              <p:cNvPr id="429" name=""/>
              <p:cNvSpPr/>
              <p:nvPr/>
            </p:nvSpPr>
            <p:spPr>
              <a:xfrm>
                <a:off x="1538640" y="3835440"/>
                <a:ext cx="1346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PC &lt;=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jad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3880" y="3733920"/>
                <a:ext cx="137160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60" y="3835440"/>
              <a:ext cx="147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if bop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PC &lt;= PC+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3733920"/>
              <a:ext cx="13716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240" y="3336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3560" y="32608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795480" y="3489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67080" y="3429000"/>
            <a:ext cx="2667240" cy="2438280"/>
            <a:chOff x="4267080" y="3429000"/>
            <a:chExt cx="2667240" cy="2438280"/>
          </a:xfrm>
        </p:grpSpPr>
        <p:grpSp>
          <p:nvGrpSpPr>
            <p:cNvPr id="437" name=""/>
            <p:cNvGrpSpPr/>
            <p:nvPr/>
          </p:nvGrpSpPr>
          <p:grpSpPr>
            <a:xfrm>
              <a:off x="4893840" y="3708360"/>
              <a:ext cx="1887840" cy="533520"/>
              <a:chOff x="4893840" y="3708360"/>
              <a:chExt cx="1887840" cy="533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893840" y="3809880"/>
                <a:ext cx="1835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op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Rop</a:t>
                </a: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880" y="3708360"/>
                <a:ext cx="182880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18688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4480" y="464832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4648320"/>
              <a:ext cx="12956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410080"/>
              <a:ext cx="1752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42900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267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10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429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19720" y="3336840"/>
            <a:ext cx="4495680" cy="2530440"/>
            <a:chOff x="4419720" y="3336840"/>
            <a:chExt cx="4495680" cy="2530440"/>
          </a:xfrm>
        </p:grpSpPr>
        <p:grpSp>
          <p:nvGrpSpPr>
            <p:cNvPr id="449" name=""/>
            <p:cNvGrpSpPr/>
            <p:nvPr/>
          </p:nvGrpSpPr>
          <p:grpSpPr>
            <a:xfrm>
              <a:off x="6934320" y="3657600"/>
              <a:ext cx="1752480" cy="533520"/>
              <a:chOff x="6934320" y="3657600"/>
              <a:chExt cx="1752480" cy="533520"/>
            </a:xfrm>
          </p:grpSpPr>
          <p:sp>
            <p:nvSpPr>
              <p:cNvPr id="450" name=""/>
              <p:cNvSpPr/>
              <p:nvPr/>
            </p:nvSpPr>
            <p:spPr>
              <a:xfrm>
                <a:off x="7016040" y="3759120"/>
                <a:ext cx="1479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+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657600"/>
                <a:ext cx="175248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10280" y="464832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Mem[r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45720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6832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5410080"/>
              <a:ext cx="175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3429000"/>
              <a:ext cx="3504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4191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240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4680" y="33368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520120" y="2955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00" y="2743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8600" y="2879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A41-132F-4DCC-99D7-5254C79323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D4AD0-9C43-4313-A7AB-7D70E06FF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47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47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51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51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53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8520" y="5921280"/>
            <a:ext cx="7486560" cy="75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station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cal decode for each instruction phase / pipelin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557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A81-4B60-4792-BFBD-F1B454229B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83187-43D4-445D-B9B0-0200D79CE1A9}" type="datetime1">
              <a:rPr lang="en-US"/>
              <a:t>07/29/26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ualizing Pipelin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8920" y="2209680"/>
            <a:ext cx="3492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28600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4600" y="127944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7480" y="1314360"/>
            <a:ext cx="1447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676520"/>
            <a:ext cx="6850800" cy="4572000"/>
            <a:chOff x="1295280" y="1676520"/>
            <a:chExt cx="6850800" cy="4572000"/>
          </a:xfrm>
        </p:grpSpPr>
        <p:sp>
          <p:nvSpPr>
            <p:cNvPr id="569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579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613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A2A-C8E0-45B8-A86E-79EAE38843B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AC36E-F43E-4C99-9551-22C54F4B8E32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ing is not quite that easy!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pipelining: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W cannot support this combination of instructions (single person to fold and put clothes aw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 (missing s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C7E-EA07-41B5-B660-E0672982BE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72A85-1EDB-4C82-ABDA-FA0BBB39AF4D}" type="datetime1">
              <a:rPr lang="en-US"/>
              <a:t>07/29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4, Page A-14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280" y="259092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2096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18520" y="152388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080" y="259092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720" y="33368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5480" y="41306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" y="488160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000" y="56624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9320" y="19810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10000" y="2603520"/>
            <a:ext cx="447480" cy="369720"/>
            <a:chOff x="2610000" y="2603520"/>
            <a:chExt cx="447480" cy="369720"/>
          </a:xfrm>
        </p:grpSpPr>
        <p:grpSp>
          <p:nvGrpSpPr>
            <p:cNvPr id="734" name=""/>
            <p:cNvGrpSpPr/>
            <p:nvPr/>
          </p:nvGrpSpPr>
          <p:grpSpPr>
            <a:xfrm>
              <a:off x="2610000" y="2603520"/>
              <a:ext cx="447480" cy="369720"/>
              <a:chOff x="2610000" y="2603520"/>
              <a:chExt cx="447480" cy="369720"/>
            </a:xfrm>
          </p:grpSpPr>
          <p:sp>
            <p:nvSpPr>
              <p:cNvPr id="735" name=""/>
              <p:cNvSpPr/>
              <p:nvPr/>
            </p:nvSpPr>
            <p:spPr>
              <a:xfrm>
                <a:off x="2833920" y="2603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10000" y="2603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25480" y="2642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060720" y="2678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60720" y="2898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6800" y="2494080"/>
            <a:ext cx="403200" cy="588960"/>
            <a:chOff x="3466800" y="2494080"/>
            <a:chExt cx="403200" cy="588960"/>
          </a:xfrm>
        </p:grpSpPr>
        <p:sp>
          <p:nvSpPr>
            <p:cNvPr id="741" name=""/>
            <p:cNvSpPr/>
            <p:nvPr/>
          </p:nvSpPr>
          <p:spPr>
            <a:xfrm rot="16200000">
              <a:off x="3386160" y="2599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3472560" y="2687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3485520" y="2710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3517560" y="2631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3875040" y="2789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34000" y="278928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53040" y="2604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77440" y="26442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91120" y="2789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1640" y="2900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2678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76520" y="2604960"/>
            <a:ext cx="557280" cy="368280"/>
            <a:chOff x="1676520" y="2604960"/>
            <a:chExt cx="557280" cy="368280"/>
          </a:xfrm>
        </p:grpSpPr>
        <p:sp>
          <p:nvSpPr>
            <p:cNvPr id="753" name=""/>
            <p:cNvSpPr/>
            <p:nvPr/>
          </p:nvSpPr>
          <p:spPr>
            <a:xfrm>
              <a:off x="1730160" y="2604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264348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322360" y="2438280"/>
            <a:ext cx="2635200" cy="700200"/>
            <a:chOff x="2322360" y="2438280"/>
            <a:chExt cx="2635200" cy="700200"/>
          </a:xfrm>
        </p:grpSpPr>
        <p:sp>
          <p:nvSpPr>
            <p:cNvPr id="756" name=""/>
            <p:cNvSpPr/>
            <p:nvPr/>
          </p:nvSpPr>
          <p:spPr>
            <a:xfrm>
              <a:off x="317052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684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236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8680" y="2442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087520" y="2590920"/>
            <a:ext cx="452520" cy="369720"/>
            <a:chOff x="5087520" y="2590920"/>
            <a:chExt cx="452520" cy="369720"/>
          </a:xfrm>
        </p:grpSpPr>
        <p:grpSp>
          <p:nvGrpSpPr>
            <p:cNvPr id="761" name=""/>
            <p:cNvGrpSpPr/>
            <p:nvPr/>
          </p:nvGrpSpPr>
          <p:grpSpPr>
            <a:xfrm>
              <a:off x="5087520" y="2590920"/>
              <a:ext cx="452520" cy="369720"/>
              <a:chOff x="5087520" y="2590920"/>
              <a:chExt cx="452520" cy="36972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087520" y="2590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087160" y="2590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flipH="1">
              <a:off x="5107320" y="2629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30440" y="3200400"/>
            <a:ext cx="3862800" cy="699840"/>
            <a:chOff x="2530440" y="3200400"/>
            <a:chExt cx="3862800" cy="699840"/>
          </a:xfrm>
        </p:grpSpPr>
        <p:grpSp>
          <p:nvGrpSpPr>
            <p:cNvPr id="766" name=""/>
            <p:cNvGrpSpPr/>
            <p:nvPr/>
          </p:nvGrpSpPr>
          <p:grpSpPr>
            <a:xfrm>
              <a:off x="3462840" y="3365280"/>
              <a:ext cx="448920" cy="370080"/>
              <a:chOff x="3462840" y="3365280"/>
              <a:chExt cx="448920" cy="370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462840" y="3365280"/>
                <a:ext cx="448920" cy="370080"/>
                <a:chOff x="3462840" y="3365280"/>
                <a:chExt cx="448920" cy="370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687480" y="33652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62840" y="33652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479040" y="3403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913920" y="34401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13920" y="36604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19640" y="3255840"/>
              <a:ext cx="404280" cy="588960"/>
              <a:chOff x="4319640" y="3255840"/>
              <a:chExt cx="404280" cy="588960"/>
            </a:xfrm>
          </p:grpSpPr>
          <p:sp>
            <p:nvSpPr>
              <p:cNvPr id="774" name=""/>
              <p:cNvSpPr/>
              <p:nvPr/>
            </p:nvSpPr>
            <p:spPr>
              <a:xfrm rot="16200000">
                <a:off x="4239720" y="33606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325760" y="34488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4339080" y="34722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4371480" y="33930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28240" y="35510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7920" y="35510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030640" y="3367080"/>
              <a:ext cx="592200" cy="368280"/>
              <a:chOff x="5030640" y="3367080"/>
              <a:chExt cx="592200" cy="36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105520" y="33670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0640" y="3405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5045400" y="35510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5920" y="36622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5080" y="34401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30440" y="3367080"/>
              <a:ext cx="557280" cy="368280"/>
              <a:chOff x="2530440" y="3367080"/>
              <a:chExt cx="557280" cy="36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2584080" y="33670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30440" y="3405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176280" y="3200400"/>
              <a:ext cx="2634480" cy="699840"/>
              <a:chOff x="3176280" y="3200400"/>
              <a:chExt cx="2634480" cy="699840"/>
            </a:xfrm>
          </p:grpSpPr>
          <p:sp>
            <p:nvSpPr>
              <p:cNvPr id="790" name=""/>
              <p:cNvSpPr/>
              <p:nvPr/>
            </p:nvSpPr>
            <p:spPr>
              <a:xfrm>
                <a:off x="4024440" y="32004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004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7628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2240" y="32043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40720" y="3352680"/>
              <a:ext cx="452520" cy="369720"/>
              <a:chOff x="5940720" y="3352680"/>
              <a:chExt cx="452520" cy="36972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5940720" y="3352680"/>
                <a:ext cx="452520" cy="369720"/>
                <a:chOff x="5940720" y="3352680"/>
                <a:chExt cx="452520" cy="3697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5940720" y="33526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5940360" y="33526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H="1">
                <a:off x="5960520" y="3391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3368520" y="3962520"/>
            <a:ext cx="3863160" cy="699840"/>
            <a:chOff x="3368520" y="3962520"/>
            <a:chExt cx="3863160" cy="699840"/>
          </a:xfrm>
        </p:grpSpPr>
        <p:grpSp>
          <p:nvGrpSpPr>
            <p:cNvPr id="800" name=""/>
            <p:cNvGrpSpPr/>
            <p:nvPr/>
          </p:nvGrpSpPr>
          <p:grpSpPr>
            <a:xfrm>
              <a:off x="4300920" y="4127400"/>
              <a:ext cx="448920" cy="370080"/>
              <a:chOff x="4300920" y="4127400"/>
              <a:chExt cx="448920" cy="37008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300920" y="4127400"/>
                <a:ext cx="448920" cy="370080"/>
                <a:chOff x="4300920" y="4127400"/>
                <a:chExt cx="448920" cy="370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525560" y="4127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300920" y="4127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17120" y="4165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752000" y="4202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000" y="4422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158080" y="4017960"/>
              <a:ext cx="404280" cy="588960"/>
              <a:chOff x="5158080" y="4017960"/>
              <a:chExt cx="404280" cy="588960"/>
            </a:xfrm>
          </p:grpSpPr>
          <p:sp>
            <p:nvSpPr>
              <p:cNvPr id="808" name=""/>
              <p:cNvSpPr/>
              <p:nvPr/>
            </p:nvSpPr>
            <p:spPr>
              <a:xfrm rot="16200000">
                <a:off x="5078160" y="4122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5164200" y="4210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400000">
                <a:off x="5177520" y="4234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5209920" y="4155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566680" y="4313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6360" y="4313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869080" y="4129200"/>
              <a:ext cx="592200" cy="368280"/>
              <a:chOff x="5869080" y="4129200"/>
              <a:chExt cx="592200" cy="368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9439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9080" y="4167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883480" y="4313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4000" y="4424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73160" y="4202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68520" y="4129200"/>
              <a:ext cx="557280" cy="368280"/>
              <a:chOff x="3368520" y="4129200"/>
              <a:chExt cx="557280" cy="36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4221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68520" y="4167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014360" y="3962520"/>
              <a:ext cx="2634480" cy="699840"/>
              <a:chOff x="4014360" y="3962520"/>
              <a:chExt cx="2634480" cy="699840"/>
            </a:xfrm>
          </p:grpSpPr>
          <p:sp>
            <p:nvSpPr>
              <p:cNvPr id="824" name=""/>
              <p:cNvSpPr/>
              <p:nvPr/>
            </p:nvSpPr>
            <p:spPr>
              <a:xfrm>
                <a:off x="4862520" y="3962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812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436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0320" y="3966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779160" y="4114800"/>
              <a:ext cx="452520" cy="369720"/>
              <a:chOff x="6779160" y="4114800"/>
              <a:chExt cx="452520" cy="369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779160" y="4114800"/>
                <a:ext cx="452520" cy="369720"/>
                <a:chOff x="6779160" y="4114800"/>
                <a:chExt cx="452520" cy="36972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6779160" y="4114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778800" y="4114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H="1">
                <a:off x="6798960" y="4153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140440" y="4889520"/>
            <a:ext cx="447480" cy="369720"/>
            <a:chOff x="5140440" y="4889520"/>
            <a:chExt cx="447480" cy="369720"/>
          </a:xfrm>
        </p:grpSpPr>
        <p:grpSp>
          <p:nvGrpSpPr>
            <p:cNvPr id="834" name=""/>
            <p:cNvGrpSpPr/>
            <p:nvPr/>
          </p:nvGrpSpPr>
          <p:grpSpPr>
            <a:xfrm>
              <a:off x="5140440" y="4889520"/>
              <a:ext cx="447480" cy="369720"/>
              <a:chOff x="5140440" y="4889520"/>
              <a:chExt cx="447480" cy="369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64360" y="4889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40440" y="4889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155920" y="4928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591160" y="4964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91160" y="5184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997240" y="4780080"/>
            <a:ext cx="403200" cy="588960"/>
            <a:chOff x="5997240" y="4780080"/>
            <a:chExt cx="403200" cy="588960"/>
          </a:xfrm>
        </p:grpSpPr>
        <p:sp>
          <p:nvSpPr>
            <p:cNvPr id="841" name=""/>
            <p:cNvSpPr/>
            <p:nvPr/>
          </p:nvSpPr>
          <p:spPr>
            <a:xfrm rot="16200000">
              <a:off x="5916600" y="4885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6003000" y="4973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6015960" y="4996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048000" y="4917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5480" y="5075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4440" y="50752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08240" y="4890960"/>
            <a:ext cx="592200" cy="368280"/>
            <a:chOff x="6708240" y="4890960"/>
            <a:chExt cx="592200" cy="368280"/>
          </a:xfrm>
        </p:grpSpPr>
        <p:sp>
          <p:nvSpPr>
            <p:cNvPr id="848" name=""/>
            <p:cNvSpPr/>
            <p:nvPr/>
          </p:nvSpPr>
          <p:spPr>
            <a:xfrm>
              <a:off x="6782760" y="4890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08240" y="4929480"/>
              <a:ext cx="59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21560" y="5075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2080" y="5186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11600" y="4964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0960" y="4890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06960" y="4930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853160" y="4724280"/>
            <a:ext cx="2634840" cy="700200"/>
            <a:chOff x="4853160" y="4724280"/>
            <a:chExt cx="2634840" cy="700200"/>
          </a:xfrm>
        </p:grpSpPr>
        <p:sp>
          <p:nvSpPr>
            <p:cNvPr id="856" name=""/>
            <p:cNvSpPr/>
            <p:nvPr/>
          </p:nvSpPr>
          <p:spPr>
            <a:xfrm>
              <a:off x="570132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28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5316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49120" y="4728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17960" y="4876920"/>
            <a:ext cx="452520" cy="369720"/>
            <a:chOff x="7617960" y="4876920"/>
            <a:chExt cx="452520" cy="369720"/>
          </a:xfrm>
        </p:grpSpPr>
        <p:grpSp>
          <p:nvGrpSpPr>
            <p:cNvPr id="861" name=""/>
            <p:cNvGrpSpPr/>
            <p:nvPr/>
          </p:nvGrpSpPr>
          <p:grpSpPr>
            <a:xfrm>
              <a:off x="7617960" y="4876920"/>
              <a:ext cx="452520" cy="369720"/>
              <a:chOff x="7617960" y="4876920"/>
              <a:chExt cx="452520" cy="36972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617960" y="4876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617600" y="4876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H="1">
              <a:off x="7637760" y="4915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50480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2056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85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5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8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0672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54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056200" y="5504040"/>
            <a:ext cx="3862800" cy="699840"/>
            <a:chOff x="5056200" y="5504040"/>
            <a:chExt cx="3862800" cy="699840"/>
          </a:xfrm>
        </p:grpSpPr>
        <p:grpSp>
          <p:nvGrpSpPr>
            <p:cNvPr id="873" name=""/>
            <p:cNvGrpSpPr/>
            <p:nvPr/>
          </p:nvGrpSpPr>
          <p:grpSpPr>
            <a:xfrm>
              <a:off x="5988600" y="5668920"/>
              <a:ext cx="448920" cy="370080"/>
              <a:chOff x="5988600" y="5668920"/>
              <a:chExt cx="448920" cy="3700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988600" y="5668920"/>
                <a:ext cx="448920" cy="370080"/>
                <a:chOff x="5988600" y="5668920"/>
                <a:chExt cx="448920" cy="3700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13240" y="566892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988600" y="56689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004800" y="5707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439680" y="57438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39680" y="59641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845400" y="5559480"/>
              <a:ext cx="404280" cy="588960"/>
              <a:chOff x="6845400" y="5559480"/>
              <a:chExt cx="404280" cy="588960"/>
            </a:xfrm>
          </p:grpSpPr>
          <p:sp>
            <p:nvSpPr>
              <p:cNvPr id="881" name=""/>
              <p:cNvSpPr/>
              <p:nvPr/>
            </p:nvSpPr>
            <p:spPr>
              <a:xfrm rot="16200000">
                <a:off x="6765480" y="566424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6851520" y="57524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5400000">
                <a:off x="6864840" y="577584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897240" y="569664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7254000" y="58546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13680" y="5854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7556400" y="5670720"/>
              <a:ext cx="592200" cy="368280"/>
              <a:chOff x="7556400" y="5670720"/>
              <a:chExt cx="592200" cy="36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7631280" y="567072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56400" y="5709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7571160" y="585468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21680" y="59659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60840" y="57438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56200" y="5670720"/>
              <a:ext cx="557280" cy="368280"/>
              <a:chOff x="5056200" y="5670720"/>
              <a:chExt cx="557280" cy="368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109840" y="567072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6200" y="5709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02040" y="5504040"/>
              <a:ext cx="2634480" cy="699840"/>
              <a:chOff x="5702040" y="5504040"/>
              <a:chExt cx="2634480" cy="699840"/>
            </a:xfrm>
          </p:grpSpPr>
          <p:sp>
            <p:nvSpPr>
              <p:cNvPr id="897" name=""/>
              <p:cNvSpPr/>
              <p:nvPr/>
            </p:nvSpPr>
            <p:spPr>
              <a:xfrm>
                <a:off x="6550200" y="550404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24580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0204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98000" y="550800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466480" y="5656320"/>
              <a:ext cx="452520" cy="369720"/>
              <a:chOff x="8466480" y="5656320"/>
              <a:chExt cx="452520" cy="3697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8466480" y="5656320"/>
                <a:ext cx="452520" cy="369720"/>
                <a:chOff x="8466480" y="5656320"/>
                <a:chExt cx="452520" cy="369720"/>
              </a:xfrm>
            </p:grpSpPr>
            <p:sp>
              <p:nvSpPr>
                <p:cNvPr id="903" name=""/>
                <p:cNvSpPr/>
                <p:nvPr/>
              </p:nvSpPr>
              <p:spPr>
                <a:xfrm flipH="1">
                  <a:off x="8466480" y="565632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466120" y="56563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>
                <a:off x="8486280" y="56948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"/>
          <p:cNvSpPr/>
          <p:nvPr/>
        </p:nvSpPr>
        <p:spPr>
          <a:xfrm>
            <a:off x="23623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29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3084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7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A3A-88AF-402F-BEE9-9B489FA2BC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71957-1671-4A4B-A9B7-6DEA49D4F291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Figure A.5, Page A-15)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1280" y="220968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8520" y="114300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080" y="220968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720" y="29559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5480" y="37497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5200" y="4500720"/>
            <a:ext cx="109584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3000" y="52815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924" name="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925" name="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625480" y="2261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931" name=""/>
            <p:cNvSpPr/>
            <p:nvPr/>
          </p:nvSpPr>
          <p:spPr>
            <a:xfrm rot="16200000">
              <a:off x="3386160" y="221796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3485520" y="232920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3517560" y="22500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77440" y="22629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91120" y="2408400"/>
            <a:ext cx="674640" cy="29340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676520" y="2224080"/>
            <a:ext cx="557280" cy="368280"/>
            <a:chOff x="1676520" y="2224080"/>
            <a:chExt cx="557280" cy="368280"/>
          </a:xfrm>
        </p:grpSpPr>
        <p:sp>
          <p:nvSpPr>
            <p:cNvPr id="943" name=""/>
            <p:cNvSpPr/>
            <p:nvPr/>
          </p:nvSpPr>
          <p:spPr>
            <a:xfrm>
              <a:off x="1730160" y="222408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520" y="226260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946" name="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951" name="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952" name="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107320" y="224820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30440" y="2819520"/>
            <a:ext cx="3862800" cy="699840"/>
            <a:chOff x="2530440" y="2819520"/>
            <a:chExt cx="3862800" cy="699840"/>
          </a:xfrm>
        </p:grpSpPr>
        <p:grpSp>
          <p:nvGrpSpPr>
            <p:cNvPr id="956" name=""/>
            <p:cNvGrpSpPr/>
            <p:nvPr/>
          </p:nvGrpSpPr>
          <p:grpSpPr>
            <a:xfrm>
              <a:off x="3462840" y="2984400"/>
              <a:ext cx="448920" cy="370080"/>
              <a:chOff x="3462840" y="2984400"/>
              <a:chExt cx="448920" cy="3700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3462840" y="2984400"/>
                <a:ext cx="448920" cy="370080"/>
                <a:chOff x="3462840" y="2984400"/>
                <a:chExt cx="448920" cy="37008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687480" y="2984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46284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3479040" y="3022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913920" y="3059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13920" y="3279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964" name=""/>
              <p:cNvSpPr/>
              <p:nvPr/>
            </p:nvSpPr>
            <p:spPr>
              <a:xfrm rot="16200000">
                <a:off x="4239720" y="2979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5400000">
                <a:off x="4339080" y="3091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4371480" y="3012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87920" y="31701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030640" y="2986200"/>
              <a:ext cx="592200" cy="368280"/>
              <a:chOff x="5030640" y="2986200"/>
              <a:chExt cx="592200" cy="368280"/>
            </a:xfrm>
          </p:grpSpPr>
          <p:sp>
            <p:nvSpPr>
              <p:cNvPr id="971" name=""/>
              <p:cNvSpPr/>
              <p:nvPr/>
            </p:nvSpPr>
            <p:spPr>
              <a:xfrm>
                <a:off x="5105520" y="298620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030640" y="3024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045400" y="3170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9592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3508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2530440" y="2986200"/>
              <a:ext cx="557280" cy="368280"/>
              <a:chOff x="2530440" y="2986200"/>
              <a:chExt cx="557280" cy="368280"/>
            </a:xfrm>
          </p:grpSpPr>
          <p:sp>
            <p:nvSpPr>
              <p:cNvPr id="977" name=""/>
              <p:cNvSpPr/>
              <p:nvPr/>
            </p:nvSpPr>
            <p:spPr>
              <a:xfrm>
                <a:off x="258408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530440" y="3024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6280" y="2819520"/>
              <a:ext cx="2634480" cy="699840"/>
              <a:chOff x="3176280" y="2819520"/>
              <a:chExt cx="2634480" cy="699840"/>
            </a:xfrm>
          </p:grpSpPr>
          <p:sp>
            <p:nvSpPr>
              <p:cNvPr id="980" name=""/>
              <p:cNvSpPr/>
              <p:nvPr/>
            </p:nvSpPr>
            <p:spPr>
              <a:xfrm>
                <a:off x="4024440" y="2819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7628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2240" y="2823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H="1">
                <a:off x="5960520" y="3010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368520" y="3581280"/>
            <a:ext cx="3863880" cy="699840"/>
            <a:chOff x="3368520" y="3581280"/>
            <a:chExt cx="3863880" cy="699840"/>
          </a:xfrm>
        </p:grpSpPr>
        <p:grpSp>
          <p:nvGrpSpPr>
            <p:cNvPr id="990" name="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4317480" y="37846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998" name=""/>
              <p:cNvSpPr/>
              <p:nvPr/>
            </p:nvSpPr>
            <p:spPr>
              <a:xfrm rot="16200000">
                <a:off x="5078520" y="3741840"/>
                <a:ext cx="588960" cy="3783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160 h 378360"/>
                  <a:gd name="textAreaBottom" fmla="*/ 29520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400000">
                <a:off x="5177880" y="3853080"/>
                <a:ext cx="167040" cy="155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5209920" y="3773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869800" y="3747960"/>
              <a:ext cx="592200" cy="368280"/>
              <a:chOff x="5869800" y="3747960"/>
              <a:chExt cx="592200" cy="368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9800" y="37864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5883120" y="3931920"/>
              <a:ext cx="6750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68520" y="3747960"/>
              <a:ext cx="557280" cy="368280"/>
              <a:chOff x="3368520" y="3747960"/>
              <a:chExt cx="557280" cy="368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42216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68520" y="37864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020" name="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 flipH="1">
                <a:off x="6799680" y="37720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50480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2056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5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35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68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60672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54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056200" y="5122800"/>
            <a:ext cx="3862800" cy="699840"/>
            <a:chOff x="5056200" y="5122800"/>
            <a:chExt cx="3862800" cy="699840"/>
          </a:xfrm>
        </p:grpSpPr>
        <p:grpSp>
          <p:nvGrpSpPr>
            <p:cNvPr id="1031" name=""/>
            <p:cNvGrpSpPr/>
            <p:nvPr/>
          </p:nvGrpSpPr>
          <p:grpSpPr>
            <a:xfrm>
              <a:off x="5988600" y="5287680"/>
              <a:ext cx="448920" cy="370080"/>
              <a:chOff x="5988600" y="5287680"/>
              <a:chExt cx="448920" cy="3700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5988600" y="5287680"/>
                <a:ext cx="448920" cy="370080"/>
                <a:chOff x="5988600" y="5287680"/>
                <a:chExt cx="448920" cy="370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213240" y="52876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8860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04800" y="5326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439680" y="53625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9680" y="55828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6765480" y="52830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6864840" y="53946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897240" y="5315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13680" y="54734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556400" y="5289480"/>
              <a:ext cx="592200" cy="368280"/>
              <a:chOff x="7556400" y="5289480"/>
              <a:chExt cx="59220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31280" y="52894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56400" y="5328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7571160" y="54734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2168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6084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056200" y="5289480"/>
              <a:ext cx="557280" cy="368280"/>
              <a:chOff x="5056200" y="5289480"/>
              <a:chExt cx="557280" cy="368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984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6200" y="5328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702040" y="5122800"/>
              <a:ext cx="2634480" cy="699840"/>
              <a:chOff x="5702040" y="5122800"/>
              <a:chExt cx="2634480" cy="699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50200" y="51228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70204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98000" y="51267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 flipH="1">
                <a:off x="8486280" y="53136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072" name="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973440" y="6259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71B-DA6B-43E3-B973-7445ACA1D5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3E1C9-58A9-41DE-89EB-034908C82049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4DB-9A72-426E-B845-9F73F46DC5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4ED8D-BF21-4E0F-8B69-8CF125ACC0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ed Up Equation for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609480" y="3048120"/>
                <a:ext cx="8269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609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10480" y="4266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20C-FA57-4A92-ADBD-23A55A5938F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BAFA0-6130-42C2-978D-C81045C8537B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Dual-port vs. Single-por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1440" y="1371600"/>
            <a:ext cx="8782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: Dual ported memory (“Harvard Architecture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B: Single ported memory, but its pipelined implementation has a 1.05 times faster 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CPI = 1 for bo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are 40% of instruction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.4 x 1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1.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Pipeline Depth/1.4) x  1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75 x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0.75 x Pipeline Depth)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 is 1.33 times fas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AC4-B40E-4B99-A189-2829AF676C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B6E4A-456C-4407-894C-851BBC8A510B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103680" y="2143080"/>
            <a:ext cx="9024120" cy="4047480"/>
            <a:chOff x="103680" y="2143080"/>
            <a:chExt cx="9024120" cy="4047480"/>
          </a:xfrm>
        </p:grpSpPr>
        <p:grpSp>
          <p:nvGrpSpPr>
            <p:cNvPr id="1091" name=""/>
            <p:cNvGrpSpPr/>
            <p:nvPr/>
          </p:nvGrpSpPr>
          <p:grpSpPr>
            <a:xfrm>
              <a:off x="103680" y="2143080"/>
              <a:ext cx="3393000" cy="3962520"/>
              <a:chOff x="103680" y="2143080"/>
              <a:chExt cx="3393000" cy="396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3680" y="2219400"/>
                <a:ext cx="36720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8800" y="2295360"/>
                <a:ext cx="23760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dd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8800" y="317196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8800" y="40100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8800" y="48672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4920" y="5638680"/>
                <a:ext cx="274176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xor r10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070080" y="2163600"/>
              <a:ext cx="6057720" cy="4026960"/>
              <a:chOff x="3070080" y="2163600"/>
              <a:chExt cx="6057720" cy="40269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4465800" y="3839760"/>
                <a:ext cx="3258000" cy="699840"/>
                <a:chOff x="4465800" y="3839760"/>
                <a:chExt cx="3258000" cy="6998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5258520" y="4004640"/>
                  <a:ext cx="420120" cy="370080"/>
                  <a:chOff x="5258520" y="4004640"/>
                  <a:chExt cx="420120" cy="37008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279760" y="4004640"/>
                    <a:ext cx="370800" cy="370080"/>
                    <a:chOff x="5279760" y="4004640"/>
                    <a:chExt cx="370800" cy="3700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46516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79760" y="40046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5258520" y="40431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"/>
                <p:cNvSpPr/>
                <p:nvPr/>
              </p:nvSpPr>
              <p:spPr>
                <a:xfrm>
                  <a:off x="565164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65164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5986080" y="3895200"/>
                  <a:ext cx="345960" cy="588960"/>
                  <a:chOff x="5986080" y="3895200"/>
                  <a:chExt cx="345960" cy="5889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6200000">
                    <a:off x="5868720" y="40327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5400000">
                    <a:off x="597456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5400000">
                    <a:off x="5987160" y="41248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6200000">
                    <a:off x="5991120" y="40323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4" name=""/>
                <p:cNvSpPr/>
                <p:nvPr/>
              </p:nvSpPr>
              <p:spPr>
                <a:xfrm>
                  <a:off x="632268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03116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522120" y="4006440"/>
                  <a:ext cx="592200" cy="368280"/>
                  <a:chOff x="6522120" y="4006440"/>
                  <a:chExt cx="592200" cy="36828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633720" y="40064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22120" y="40449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584040" y="41904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94920" y="43016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844880" y="40795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465800" y="4006440"/>
                  <a:ext cx="557280" cy="368280"/>
                  <a:chOff x="4465800" y="4006440"/>
                  <a:chExt cx="557280" cy="368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555080" y="40064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465800" y="40449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5043960" y="3839760"/>
                  <a:ext cx="2171160" cy="699840"/>
                  <a:chOff x="5043960" y="3839760"/>
                  <a:chExt cx="2171160" cy="699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5742720" y="38397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14024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04396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41480" y="38437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303680" y="3992040"/>
                  <a:ext cx="420120" cy="369720"/>
                  <a:chOff x="7303680" y="3992040"/>
                  <a:chExt cx="420120" cy="3697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7332840" y="3992040"/>
                    <a:ext cx="373320" cy="369720"/>
                    <a:chOff x="7332840" y="3992040"/>
                    <a:chExt cx="373320" cy="36972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7332840" y="39920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7332480" y="39920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03320" y="40305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5" name=""/>
              <p:cNvGrpSpPr/>
              <p:nvPr/>
            </p:nvGrpSpPr>
            <p:grpSpPr>
              <a:xfrm>
                <a:off x="3762720" y="2989080"/>
                <a:ext cx="3259440" cy="699840"/>
                <a:chOff x="3762720" y="2989080"/>
                <a:chExt cx="3259440" cy="699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555080" y="3153960"/>
                  <a:ext cx="420120" cy="370080"/>
                  <a:chOff x="4555080" y="3153960"/>
                  <a:chExt cx="420120" cy="370080"/>
                </a:xfrm>
              </p:grpSpPr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4576320" y="3153960"/>
                    <a:ext cx="370800" cy="370080"/>
                    <a:chOff x="4576320" y="3153960"/>
                    <a:chExt cx="370800" cy="37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76172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576320" y="31539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555080" y="31924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1" name=""/>
                <p:cNvSpPr/>
                <p:nvPr/>
              </p:nvSpPr>
              <p:spPr>
                <a:xfrm>
                  <a:off x="494856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94856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5283000" y="3044520"/>
                  <a:ext cx="345960" cy="588960"/>
                  <a:chOff x="5283000" y="3044520"/>
                  <a:chExt cx="345960" cy="5889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rot="16200000">
                    <a:off x="5165640" y="31820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rot="5400000">
                    <a:off x="527148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5400000">
                    <a:off x="5284080" y="32742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6200000">
                    <a:off x="5288040" y="31831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8" name=""/>
                <p:cNvSpPr/>
                <p:nvPr/>
              </p:nvSpPr>
              <p:spPr>
                <a:xfrm>
                  <a:off x="561960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32772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819040" y="3155760"/>
                  <a:ext cx="592200" cy="368280"/>
                  <a:chOff x="5819040" y="3155760"/>
                  <a:chExt cx="592200" cy="368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930640" y="31557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819040" y="31942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3" name=""/>
                <p:cNvSpPr/>
                <p:nvPr/>
              </p:nvSpPr>
              <p:spPr>
                <a:xfrm>
                  <a:off x="5880600" y="33397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1840" y="34509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41800" y="32288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3762720" y="3155760"/>
                  <a:ext cx="557280" cy="368280"/>
                  <a:chOff x="3762720" y="3155760"/>
                  <a:chExt cx="557280" cy="36828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3852000" y="31557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762720" y="31942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340880" y="2989080"/>
                  <a:ext cx="2170800" cy="699840"/>
                  <a:chOff x="4340880" y="2989080"/>
                  <a:chExt cx="2170800" cy="6998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5039640" y="29890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43680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34088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38040" y="29930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602040" y="3141360"/>
                  <a:ext cx="420120" cy="369720"/>
                  <a:chOff x="6602040" y="3141360"/>
                  <a:chExt cx="420120" cy="3697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632640" y="3141360"/>
                    <a:ext cx="373680" cy="369720"/>
                    <a:chOff x="6632640" y="3141360"/>
                    <a:chExt cx="373680" cy="3697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663228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663264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8" name=""/>
                  <p:cNvSpPr/>
                  <p:nvPr/>
                </p:nvSpPr>
                <p:spPr>
                  <a:xfrm flipH="1">
                    <a:off x="6601680" y="31798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3070080" y="2163600"/>
                <a:ext cx="3257640" cy="699840"/>
                <a:chOff x="3070080" y="2163600"/>
                <a:chExt cx="3257640" cy="69984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3862440" y="2328480"/>
                  <a:ext cx="420120" cy="370080"/>
                  <a:chOff x="3862440" y="2328480"/>
                  <a:chExt cx="420120" cy="37008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885480" y="2328480"/>
                    <a:ext cx="370440" cy="370080"/>
                    <a:chOff x="3885480" y="2328480"/>
                    <a:chExt cx="370440" cy="37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070880" y="23284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85480" y="23284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862440" y="2367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25736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25736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7" name=""/>
                <p:cNvGrpSpPr/>
                <p:nvPr/>
              </p:nvGrpSpPr>
              <p:grpSpPr>
                <a:xfrm>
                  <a:off x="4591800" y="2219040"/>
                  <a:ext cx="345960" cy="588960"/>
                  <a:chOff x="4591800" y="2219040"/>
                  <a:chExt cx="345960" cy="58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6200000">
                    <a:off x="4474440" y="23565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5400000">
                    <a:off x="458028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5400000">
                    <a:off x="4592880" y="24487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rot="16200000">
                    <a:off x="4596840" y="23576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" name=""/>
                <p:cNvSpPr/>
                <p:nvPr/>
              </p:nvSpPr>
              <p:spPr>
                <a:xfrm>
                  <a:off x="492840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63688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5126400" y="2330280"/>
                  <a:ext cx="592200" cy="368280"/>
                  <a:chOff x="5126400" y="2330280"/>
                  <a:chExt cx="592200" cy="3682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523944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126400" y="23688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5189760" y="25142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501000" y="26254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50600" y="24033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3070080" y="2330280"/>
                  <a:ext cx="557280" cy="368280"/>
                  <a:chOff x="3070080" y="2330280"/>
                  <a:chExt cx="557280" cy="36828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3161880" y="23302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70080" y="23688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3649680" y="2163600"/>
                  <a:ext cx="2171160" cy="699840"/>
                  <a:chOff x="3649680" y="2163600"/>
                  <a:chExt cx="2171160" cy="6998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48440" y="21636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74596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64968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047200" y="21675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907600" y="2315880"/>
                  <a:ext cx="420120" cy="369720"/>
                  <a:chOff x="5907600" y="2315880"/>
                  <a:chExt cx="420120" cy="369720"/>
                </a:xfrm>
              </p:grpSpPr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5934960" y="2315880"/>
                    <a:ext cx="373680" cy="369720"/>
                    <a:chOff x="5934960" y="2315880"/>
                    <a:chExt cx="373680" cy="3697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593460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593496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 flipH="1">
                    <a:off x="5907240" y="2354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3" name=""/>
              <p:cNvGrpSpPr/>
              <p:nvPr/>
            </p:nvGrpSpPr>
            <p:grpSpPr>
              <a:xfrm>
                <a:off x="5168520" y="4678200"/>
                <a:ext cx="3256200" cy="699840"/>
                <a:chOff x="5168520" y="4678200"/>
                <a:chExt cx="3256200" cy="69984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55840" y="4843080"/>
                  <a:ext cx="420120" cy="370080"/>
                  <a:chOff x="5955840" y="4843080"/>
                  <a:chExt cx="420120" cy="37008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5982120" y="4843080"/>
                    <a:ext cx="370440" cy="370080"/>
                    <a:chOff x="5982120" y="4843080"/>
                    <a:chExt cx="370440" cy="3700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167520" y="48430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5982120" y="48430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8" name=""/>
                  <p:cNvSpPr/>
                  <p:nvPr/>
                </p:nvSpPr>
                <p:spPr>
                  <a:xfrm>
                    <a:off x="5955840" y="48816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635436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35436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6688800" y="4733640"/>
                  <a:ext cx="345960" cy="588960"/>
                  <a:chOff x="6688800" y="4733640"/>
                  <a:chExt cx="345960" cy="5889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rot="16200000">
                    <a:off x="6571440" y="48711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rot="5400000">
                    <a:off x="667728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rot="5400000">
                    <a:off x="6689880" y="49633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6200000">
                    <a:off x="6693840" y="48722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02540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338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7223400" y="4844880"/>
                  <a:ext cx="592200" cy="368280"/>
                  <a:chOff x="7223400" y="4844880"/>
                  <a:chExt cx="592200" cy="3682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733644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223400" y="48834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286400" y="50288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597640" y="51400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547600" y="49179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4" name=""/>
                <p:cNvGrpSpPr/>
                <p:nvPr/>
              </p:nvGrpSpPr>
              <p:grpSpPr>
                <a:xfrm>
                  <a:off x="5168520" y="4844880"/>
                  <a:ext cx="557280" cy="368280"/>
                  <a:chOff x="5168520" y="4844880"/>
                  <a:chExt cx="557280" cy="3682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257800" y="48448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168520" y="48834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746680" y="4678200"/>
                  <a:ext cx="2171160" cy="699840"/>
                  <a:chOff x="5746680" y="4678200"/>
                  <a:chExt cx="2171160" cy="6998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445440" y="46782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84296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74668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144200" y="46821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8004600" y="4830480"/>
                  <a:ext cx="420120" cy="369720"/>
                  <a:chOff x="8004600" y="4830480"/>
                  <a:chExt cx="420120" cy="369720"/>
                </a:xfrm>
              </p:grpSpPr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8031960" y="4830480"/>
                    <a:ext cx="373680" cy="369720"/>
                    <a:chOff x="8031960" y="4830480"/>
                    <a:chExt cx="373680" cy="36972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80316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80319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6" name=""/>
                  <p:cNvSpPr/>
                  <p:nvPr/>
                </p:nvSpPr>
                <p:spPr>
                  <a:xfrm flipH="1">
                    <a:off x="8004240" y="4869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5871600" y="5490720"/>
                <a:ext cx="3256200" cy="699840"/>
                <a:chOff x="5871600" y="5490720"/>
                <a:chExt cx="3256200" cy="69984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661440" y="5655600"/>
                  <a:ext cx="420120" cy="370080"/>
                  <a:chOff x="6661440" y="5655600"/>
                  <a:chExt cx="420120" cy="37008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685200" y="5655600"/>
                    <a:ext cx="370440" cy="370080"/>
                    <a:chOff x="6685200" y="5655600"/>
                    <a:chExt cx="370440" cy="37008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68706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852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2" name=""/>
                  <p:cNvSpPr/>
                  <p:nvPr/>
                </p:nvSpPr>
                <p:spPr>
                  <a:xfrm>
                    <a:off x="6661440" y="56941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>
                  <a:off x="705744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05744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" name=""/>
                <p:cNvGrpSpPr/>
                <p:nvPr/>
              </p:nvGrpSpPr>
              <p:grpSpPr>
                <a:xfrm>
                  <a:off x="7391880" y="5546160"/>
                  <a:ext cx="345960" cy="588960"/>
                  <a:chOff x="7391880" y="5546160"/>
                  <a:chExt cx="345960" cy="5889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rot="16200000">
                    <a:off x="7274520" y="56836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5400000">
                    <a:off x="73803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5400000">
                    <a:off x="7392960" y="57758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rot="16200000">
                    <a:off x="7396920" y="56847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0" name=""/>
                <p:cNvSpPr/>
                <p:nvPr/>
              </p:nvSpPr>
              <p:spPr>
                <a:xfrm>
                  <a:off x="77284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43696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7926480" y="5657400"/>
                  <a:ext cx="592200" cy="368280"/>
                  <a:chOff x="7926480" y="5657400"/>
                  <a:chExt cx="592200" cy="3682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0395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926480" y="56959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7989480" y="58413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300720" y="59526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250680" y="57304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5871600" y="5657400"/>
                  <a:ext cx="557280" cy="368280"/>
                  <a:chOff x="5871600" y="5657400"/>
                  <a:chExt cx="557280" cy="3682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960880" y="56574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871600" y="56959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6449760" y="5490720"/>
                  <a:ext cx="2171160" cy="699840"/>
                  <a:chOff x="6449760" y="5490720"/>
                  <a:chExt cx="2171160" cy="69984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7148520" y="54907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854604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44976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847280" y="549468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8707680" y="5643000"/>
                  <a:ext cx="420120" cy="369720"/>
                  <a:chOff x="8707680" y="5643000"/>
                  <a:chExt cx="420120" cy="369720"/>
                </a:xfrm>
              </p:grpSpPr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8735040" y="5643000"/>
                    <a:ext cx="373680" cy="369720"/>
                    <a:chOff x="8735040" y="5643000"/>
                    <a:chExt cx="373680" cy="3697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>
                      <a:off x="873468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>
                      <a:off x="873504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0" name=""/>
                  <p:cNvSpPr/>
                  <p:nvPr/>
                </p:nvSpPr>
                <p:spPr>
                  <a:xfrm flipH="1">
                    <a:off x="8707320" y="56815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66320" y="73080"/>
            <a:ext cx="71629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on R1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6, Page A-17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2200" y="11430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148920" y="1752480"/>
            <a:ext cx="3205080" cy="369720"/>
            <a:chOff x="3148920" y="1752480"/>
            <a:chExt cx="3205080" cy="369720"/>
          </a:xfrm>
        </p:grpSpPr>
        <p:sp>
          <p:nvSpPr>
            <p:cNvPr id="1275" name=""/>
            <p:cNvSpPr/>
            <p:nvPr/>
          </p:nvSpPr>
          <p:spPr>
            <a:xfrm>
              <a:off x="3148920" y="1758960"/>
              <a:ext cx="39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12960" y="175896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89840" y="1752480"/>
              <a:ext cx="46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97880" y="1755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800" y="17542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52E-38F7-47D7-998A-CECFEFCD489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17026-3DCC-49E5-916E-2980B89C22EE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After Write (R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ies to read operand before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a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n compiler nomenclature).  This hazard results from an actual need for commun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add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: sub r4,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828080" y="3047400"/>
            <a:ext cx="824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34" y="100"/>
                </a:moveTo>
                <a:arcTo wR="10800" hR="10800" stAng="-5868132" swAng="11596748"/>
                <a:lnTo>
                  <a:pt x="10800" y="10800"/>
                </a:lnTo>
                <a:close/>
              </a:path>
              <a:path fill="none" w="21600" h="21600">
                <a:moveTo>
                  <a:pt x="9334" y="100"/>
                </a:moveTo>
                <a:arcTo wR="10800" hR="10800" stAng="-5868132" swAng="1159674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747-0190-41B7-BE58-9AB34DA8B6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89756-9809-4764-A17C-43CE5B5611AA}" type="datetime1">
              <a:rPr lang="en-US"/>
              <a:t>07/29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Read (W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ti-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sults from reuse of the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re always in stage 2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133360" y="2362320"/>
            <a:ext cx="3810240" cy="1186200"/>
            <a:chOff x="2133360" y="2362320"/>
            <a:chExt cx="3810240" cy="1186200"/>
          </a:xfrm>
        </p:grpSpPr>
        <p:sp>
          <p:nvSpPr>
            <p:cNvPr id="1290" name=""/>
            <p:cNvSpPr/>
            <p:nvPr/>
          </p:nvSpPr>
          <p:spPr>
            <a:xfrm>
              <a:off x="2590920" y="236232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133000" y="251388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A83-ACF4-41FF-9A3C-D93C1AA0FD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9E59C-500A-42EA-B21B-C9D7E88B15AA}" type="datetime1">
              <a:rPr lang="en-US"/>
              <a:t>07/29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24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Write (W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utput 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results from the reuse of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ee WAR and WAW in more complicated pi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296" name="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2133000" y="243792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190-73F3-49DF-AE78-4E82696B33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50DE3-8855-4D0A-B712-CC80CB324A30}" type="datetime1">
              <a:rPr lang="en-US"/>
              <a:t>07/29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warding to Avoid Data Hazard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7, Page A-1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302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nd r6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ae00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919240" y="1922400"/>
            <a:ext cx="6057360" cy="4026960"/>
            <a:chOff x="2919240" y="1922400"/>
            <a:chExt cx="6057360" cy="4026960"/>
          </a:xfrm>
        </p:grpSpPr>
        <p:grpSp>
          <p:nvGrpSpPr>
            <p:cNvPr id="1311" name=""/>
            <p:cNvGrpSpPr/>
            <p:nvPr/>
          </p:nvGrpSpPr>
          <p:grpSpPr>
            <a:xfrm>
              <a:off x="2919240" y="1922400"/>
              <a:ext cx="6057360" cy="4026960"/>
              <a:chOff x="2919240" y="1922400"/>
              <a:chExt cx="6057360" cy="402696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4314600" y="3598560"/>
                <a:ext cx="3257640" cy="699840"/>
                <a:chOff x="4314600" y="3598560"/>
                <a:chExt cx="3257640" cy="69984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5107320" y="3763440"/>
                  <a:ext cx="420120" cy="370080"/>
                  <a:chOff x="5107320" y="3763440"/>
                  <a:chExt cx="420120" cy="37008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5128560" y="3763440"/>
                    <a:ext cx="370800" cy="370080"/>
                    <a:chOff x="5128560" y="3763440"/>
                    <a:chExt cx="370800" cy="37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31396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5128560" y="37634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7" name=""/>
                  <p:cNvSpPr/>
                  <p:nvPr/>
                </p:nvSpPr>
                <p:spPr>
                  <a:xfrm>
                    <a:off x="5107320" y="38019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550044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044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5834880" y="3654000"/>
                  <a:ext cx="345960" cy="588960"/>
                  <a:chOff x="5834880" y="3654000"/>
                  <a:chExt cx="345960" cy="5889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5717520" y="37915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5400000">
                    <a:off x="582336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5400000">
                    <a:off x="5835960" y="38836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5839920" y="37911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617148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7960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6370920" y="3765240"/>
                  <a:ext cx="592200" cy="368280"/>
                  <a:chOff x="6370920" y="3765240"/>
                  <a:chExt cx="592200" cy="3682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6482520" y="37652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70920" y="38037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6432480" y="39492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43720" y="40604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693680" y="38383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314600" y="3765240"/>
                  <a:ext cx="557280" cy="368280"/>
                  <a:chOff x="4314600" y="3765240"/>
                  <a:chExt cx="557280" cy="3682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4403880" y="37652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314600" y="38037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4892760" y="3598560"/>
                  <a:ext cx="2171160" cy="699840"/>
                  <a:chOff x="4892760" y="3598560"/>
                  <a:chExt cx="2171160" cy="6998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591520" y="35985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8904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89276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90280" y="36025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52120" y="3750840"/>
                  <a:ext cx="420120" cy="369720"/>
                  <a:chOff x="7152120" y="3750840"/>
                  <a:chExt cx="420120" cy="369720"/>
                </a:xfrm>
              </p:grpSpPr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7181280" y="3750840"/>
                    <a:ext cx="373320" cy="369720"/>
                    <a:chOff x="7181280" y="3750840"/>
                    <a:chExt cx="373320" cy="36972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 flipH="1">
                      <a:off x="7181280" y="37508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H="1">
                      <a:off x="7180920" y="37508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5" name=""/>
                  <p:cNvSpPr/>
                  <p:nvPr/>
                </p:nvSpPr>
                <p:spPr>
                  <a:xfrm flipH="1">
                    <a:off x="7151760" y="37893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3611880" y="2747880"/>
                <a:ext cx="3259440" cy="699840"/>
                <a:chOff x="3611880" y="2747880"/>
                <a:chExt cx="3259440" cy="69984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4404240" y="2912760"/>
                  <a:ext cx="420120" cy="370080"/>
                  <a:chOff x="4404240" y="2912760"/>
                  <a:chExt cx="420120" cy="370080"/>
                </a:xfrm>
              </p:grpSpPr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4425480" y="2912760"/>
                    <a:ext cx="370800" cy="370080"/>
                    <a:chOff x="4425480" y="2912760"/>
                    <a:chExt cx="370800" cy="3700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61088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425480" y="29127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1" name=""/>
                  <p:cNvSpPr/>
                  <p:nvPr/>
                </p:nvSpPr>
                <p:spPr>
                  <a:xfrm>
                    <a:off x="4404240" y="29512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479772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9772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5132160" y="2803320"/>
                  <a:ext cx="345960" cy="588960"/>
                  <a:chOff x="5132160" y="2803320"/>
                  <a:chExt cx="345960" cy="588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rot="16200000">
                    <a:off x="5014800" y="29408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rot="5400000">
                    <a:off x="512064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5400000">
                    <a:off x="5133240" y="30330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16200000">
                    <a:off x="5137200" y="29419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546876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17688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5668200" y="2914560"/>
                  <a:ext cx="592200" cy="368280"/>
                  <a:chOff x="5668200" y="2914560"/>
                  <a:chExt cx="592200" cy="36828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5779800" y="29145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668200" y="29530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4" name=""/>
                <p:cNvSpPr/>
                <p:nvPr/>
              </p:nvSpPr>
              <p:spPr>
                <a:xfrm>
                  <a:off x="5729760" y="30985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41000" y="32097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990960" y="2987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3611880" y="2914560"/>
                  <a:ext cx="557280" cy="368280"/>
                  <a:chOff x="3611880" y="2914560"/>
                  <a:chExt cx="557280" cy="3682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3701160" y="29145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3611880" y="29530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190040" y="2747880"/>
                  <a:ext cx="2170800" cy="699840"/>
                  <a:chOff x="4190040" y="2747880"/>
                  <a:chExt cx="2170800" cy="699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888800" y="27478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19004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587200" y="27518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6451200" y="2900160"/>
                  <a:ext cx="420120" cy="369720"/>
                  <a:chOff x="6451200" y="2900160"/>
                  <a:chExt cx="420120" cy="3697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6481800" y="2900160"/>
                    <a:ext cx="373680" cy="369720"/>
                    <a:chOff x="6481800" y="2900160"/>
                    <a:chExt cx="373680" cy="36972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>
                      <a:off x="648144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648180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6450840" y="29386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0" name=""/>
              <p:cNvGrpSpPr/>
              <p:nvPr/>
            </p:nvGrpSpPr>
            <p:grpSpPr>
              <a:xfrm>
                <a:off x="2919240" y="1922400"/>
                <a:ext cx="3257280" cy="699840"/>
                <a:chOff x="2919240" y="1922400"/>
                <a:chExt cx="3257280" cy="69984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3711240" y="2087280"/>
                  <a:ext cx="420120" cy="370080"/>
                  <a:chOff x="3711240" y="2087280"/>
                  <a:chExt cx="420120" cy="37008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3734280" y="2087280"/>
                    <a:ext cx="370440" cy="370080"/>
                    <a:chOff x="3734280" y="2087280"/>
                    <a:chExt cx="370440" cy="3700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3919680" y="20872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3734280" y="20872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5" name=""/>
                  <p:cNvSpPr/>
                  <p:nvPr/>
                </p:nvSpPr>
                <p:spPr>
                  <a:xfrm>
                    <a:off x="3711240" y="2125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410652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10652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4440600" y="1977840"/>
                  <a:ext cx="345960" cy="588960"/>
                  <a:chOff x="4440600" y="1977840"/>
                  <a:chExt cx="345960" cy="5889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4323240" y="21153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5400000">
                    <a:off x="442908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5400000">
                    <a:off x="4441680" y="22075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rot="16200000">
                    <a:off x="4445640" y="21164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477756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48568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975200" y="2089080"/>
                  <a:ext cx="592200" cy="368280"/>
                  <a:chOff x="4975200" y="2089080"/>
                  <a:chExt cx="592200" cy="36828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08824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75200" y="21276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5038560" y="22730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349800" y="23842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9976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1" name=""/>
                <p:cNvGrpSpPr/>
                <p:nvPr/>
              </p:nvGrpSpPr>
              <p:grpSpPr>
                <a:xfrm>
                  <a:off x="2919240" y="2089080"/>
                  <a:ext cx="557280" cy="368280"/>
                  <a:chOff x="2919240" y="2089080"/>
                  <a:chExt cx="557280" cy="3682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30110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919240" y="21276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3498840" y="1922400"/>
                  <a:ext cx="2170800" cy="699840"/>
                  <a:chOff x="3498840" y="1922400"/>
                  <a:chExt cx="2170800" cy="6998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4197600" y="19224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59476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49884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896000" y="19263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5756400" y="2074680"/>
                  <a:ext cx="420120" cy="369720"/>
                  <a:chOff x="5756400" y="2074680"/>
                  <a:chExt cx="420120" cy="36972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5783760" y="2074680"/>
                    <a:ext cx="373680" cy="369720"/>
                    <a:chOff x="5783760" y="2074680"/>
                    <a:chExt cx="373680" cy="36972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78340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>
                      <a:off x="578376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3" name=""/>
                  <p:cNvSpPr/>
                  <p:nvPr/>
                </p:nvSpPr>
                <p:spPr>
                  <a:xfrm flipH="1">
                    <a:off x="5756040" y="21132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4" name=""/>
              <p:cNvGrpSpPr/>
              <p:nvPr/>
            </p:nvGrpSpPr>
            <p:grpSpPr>
              <a:xfrm>
                <a:off x="5017680" y="4437000"/>
                <a:ext cx="3255840" cy="699840"/>
                <a:chOff x="5017680" y="4437000"/>
                <a:chExt cx="3255840" cy="69984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5806800" y="4601880"/>
                  <a:ext cx="420120" cy="370080"/>
                  <a:chOff x="5806800" y="4601880"/>
                  <a:chExt cx="420120" cy="370080"/>
                </a:xfrm>
              </p:grpSpPr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5831280" y="4601880"/>
                    <a:ext cx="370800" cy="370080"/>
                    <a:chOff x="5831280" y="4601880"/>
                    <a:chExt cx="370800" cy="37008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1668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5831280" y="460188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806800" y="4640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203160" y="46767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03160" y="48970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537600" y="4492440"/>
                  <a:ext cx="345960" cy="588960"/>
                  <a:chOff x="6537600" y="4492440"/>
                  <a:chExt cx="345960" cy="58896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rot="16200000">
                    <a:off x="6420240" y="46299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rot="5400000">
                    <a:off x="6526080" y="47030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rot="5400000">
                    <a:off x="6538680" y="47221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rot="16200000">
                    <a:off x="6542640" y="46310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687420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7072200" y="4603680"/>
                  <a:ext cx="592200" cy="368280"/>
                  <a:chOff x="7072200" y="4603680"/>
                  <a:chExt cx="592200" cy="3682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718524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072200" y="46422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2" name=""/>
                <p:cNvSpPr/>
                <p:nvPr/>
              </p:nvSpPr>
              <p:spPr>
                <a:xfrm>
                  <a:off x="7135560" y="47876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446800" y="48988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396760" y="46767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5" name=""/>
                <p:cNvGrpSpPr/>
                <p:nvPr/>
              </p:nvGrpSpPr>
              <p:grpSpPr>
                <a:xfrm>
                  <a:off x="5017680" y="4603680"/>
                  <a:ext cx="557280" cy="368280"/>
                  <a:chOff x="5017680" y="4603680"/>
                  <a:chExt cx="557280" cy="3682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5106960" y="46036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017680" y="46422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5595480" y="4437000"/>
                  <a:ext cx="2170800" cy="699840"/>
                  <a:chOff x="5595480" y="4437000"/>
                  <a:chExt cx="2170800" cy="6998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294240" y="44370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69140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59548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992640" y="44409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7853400" y="4589280"/>
                  <a:ext cx="420120" cy="369720"/>
                  <a:chOff x="7853400" y="4589280"/>
                  <a:chExt cx="420120" cy="369720"/>
                </a:xfrm>
              </p:grpSpPr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 flipH="1">
                    <a:off x="7853040" y="4627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720760" y="5249520"/>
                <a:ext cx="3255840" cy="699840"/>
                <a:chOff x="5720760" y="5249520"/>
                <a:chExt cx="3255840" cy="699840"/>
              </a:xfrm>
            </p:grpSpPr>
            <p:grpSp>
              <p:nvGrpSpPr>
                <p:cNvPr id="1449" name=""/>
                <p:cNvGrpSpPr/>
                <p:nvPr/>
              </p:nvGrpSpPr>
              <p:grpSpPr>
                <a:xfrm>
                  <a:off x="6510600" y="5414400"/>
                  <a:ext cx="420120" cy="370080"/>
                  <a:chOff x="6510600" y="5414400"/>
                  <a:chExt cx="420120" cy="370080"/>
                </a:xfrm>
              </p:grpSpPr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6534360" y="5414400"/>
                    <a:ext cx="370440" cy="370080"/>
                    <a:chOff x="6534360" y="5414400"/>
                    <a:chExt cx="370440" cy="37008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671976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653436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3" name=""/>
                  <p:cNvSpPr/>
                  <p:nvPr/>
                </p:nvSpPr>
                <p:spPr>
                  <a:xfrm>
                    <a:off x="6510600" y="54529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6906240" y="5489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06240" y="57096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6" name=""/>
                <p:cNvGrpSpPr/>
                <p:nvPr/>
              </p:nvGrpSpPr>
              <p:grpSpPr>
                <a:xfrm>
                  <a:off x="7240680" y="5304960"/>
                  <a:ext cx="345960" cy="588960"/>
                  <a:chOff x="7240680" y="5304960"/>
                  <a:chExt cx="345960" cy="588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6200000">
                    <a:off x="7123320" y="54424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5400000">
                    <a:off x="7229160" y="55155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5400000">
                    <a:off x="7241760" y="55346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7245720" y="54435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757728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28576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7775280" y="5416200"/>
                  <a:ext cx="592200" cy="368280"/>
                  <a:chOff x="7775280" y="5416200"/>
                  <a:chExt cx="592200" cy="3682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775280" y="54547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6" name=""/>
                <p:cNvSpPr/>
                <p:nvPr/>
              </p:nvSpPr>
              <p:spPr>
                <a:xfrm>
                  <a:off x="7838640" y="56001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49880" y="57114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099840" y="54892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5720760" y="5416200"/>
                  <a:ext cx="557280" cy="368280"/>
                  <a:chOff x="5720760" y="5416200"/>
                  <a:chExt cx="557280" cy="36828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5810040" y="54162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720760" y="54547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6298560" y="5249520"/>
                  <a:ext cx="2170800" cy="699840"/>
                  <a:chOff x="6298560" y="5249520"/>
                  <a:chExt cx="2170800" cy="6998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6997320" y="52495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29856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695720" y="525348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8556480" y="5401800"/>
                  <a:ext cx="420120" cy="369720"/>
                  <a:chOff x="8556480" y="5401800"/>
                  <a:chExt cx="420120" cy="36972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8583840" y="5401800"/>
                    <a:ext cx="373680" cy="369720"/>
                    <a:chOff x="8583840" y="5401800"/>
                    <a:chExt cx="373680" cy="3697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 flipH="1">
                      <a:off x="858348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 flipH="1">
                      <a:off x="858384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1" name=""/>
                  <p:cNvSpPr/>
                  <p:nvPr/>
                </p:nvSpPr>
                <p:spPr>
                  <a:xfrm flipH="1">
                    <a:off x="8556120" y="54403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82" name=""/>
            <p:cNvSpPr/>
            <p:nvPr/>
          </p:nvSpPr>
          <p:spPr>
            <a:xfrm>
              <a:off x="4944960" y="2271600"/>
              <a:ext cx="187200" cy="717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1560" y="2252520"/>
              <a:ext cx="240840" cy="1523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6040" y="2226960"/>
              <a:ext cx="80280" cy="243864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DE5-711A-418A-AB86-EC40B0A4977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1C180-03C3-47A8-9436-AD5F8364036E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Change for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3, Page A-37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492" name=""/>
            <p:cNvSpPr/>
            <p:nvPr/>
          </p:nvSpPr>
          <p:spPr>
            <a:xfrm>
              <a:off x="3409920" y="2340000"/>
              <a:ext cx="635040" cy="1469520"/>
            </a:xfrm>
            <a:custGeom>
              <a:avLst/>
              <a:gdLst/>
              <a:ahLst/>
              <a:rect l="l" t="t" r="r" b="b"/>
              <a:pathLst>
                <a:path w="468" h="816">
                  <a:moveTo>
                    <a:pt x="0" y="0"/>
                  </a:moveTo>
                  <a:lnTo>
                    <a:pt x="468" y="252"/>
                  </a:lnTo>
                  <a:lnTo>
                    <a:pt x="468" y="588"/>
                  </a:lnTo>
                  <a:lnTo>
                    <a:pt x="0" y="816"/>
                  </a:lnTo>
                  <a:lnTo>
                    <a:pt x="0" y="576"/>
                  </a:lnTo>
                  <a:lnTo>
                    <a:pt x="168" y="420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3531240" y="2921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4840" y="16761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39840" y="1828800"/>
            <a:ext cx="60984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144" y="0"/>
                </a:lnTo>
                <a:lnTo>
                  <a:pt x="144" y="480"/>
                </a:lnTo>
                <a:lnTo>
                  <a:pt x="384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6880" y="40003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39840" y="3575160"/>
            <a:ext cx="609840" cy="615960"/>
          </a:xfrm>
          <a:custGeom>
            <a:avLst/>
            <a:gdLst/>
            <a:ahLst/>
            <a:rect l="l" t="t" r="r" b="b"/>
            <a:pathLst>
              <a:path w="384" h="388">
                <a:moveTo>
                  <a:pt x="0" y="388"/>
                </a:moveTo>
                <a:lnTo>
                  <a:pt x="76" y="384"/>
                </a:lnTo>
                <a:lnTo>
                  <a:pt x="76" y="0"/>
                </a:lnTo>
                <a:lnTo>
                  <a:pt x="384" y="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68440" y="3429000"/>
            <a:ext cx="2133720" cy="7621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0"/>
                </a:moveTo>
                <a:lnTo>
                  <a:pt x="0" y="624"/>
                </a:lnTo>
                <a:lnTo>
                  <a:pt x="1344" y="6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195880" y="312408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520" name=""/>
            <p:cNvSpPr/>
            <p:nvPr/>
          </p:nvSpPr>
          <p:spPr>
            <a:xfrm>
              <a:off x="2570400" y="3962160"/>
              <a:ext cx="2633400" cy="1066680"/>
            </a:xfrm>
            <a:custGeom>
              <a:avLst/>
              <a:gdLst/>
              <a:ahLst/>
              <a:rect l="l" t="t" r="r" b="b"/>
              <a:pathLst>
                <a:path w="1659" h="672">
                  <a:moveTo>
                    <a:pt x="1659" y="480"/>
                  </a:moveTo>
                  <a:lnTo>
                    <a:pt x="1659" y="672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114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60600" y="1219320"/>
              <a:ext cx="5562720" cy="2438280"/>
            </a:xfrm>
            <a:custGeom>
              <a:avLst/>
              <a:gdLst/>
              <a:ahLst/>
              <a:rect l="l" t="t" r="r" b="b"/>
              <a:pathLst>
                <a:path w="3504" h="1536">
                  <a:moveTo>
                    <a:pt x="3504" y="1536"/>
                  </a:moveTo>
                  <a:lnTo>
                    <a:pt x="3504" y="0"/>
                  </a:lnTo>
                  <a:lnTo>
                    <a:pt x="0" y="0"/>
                  </a:lnTo>
                  <a:lnTo>
                    <a:pt x="3" y="798"/>
                  </a:lnTo>
                  <a:lnTo>
                    <a:pt x="186" y="795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11360" y="3854160"/>
              <a:ext cx="5365800" cy="1517400"/>
            </a:xfrm>
            <a:custGeom>
              <a:avLst/>
              <a:gdLst/>
              <a:ahLst/>
              <a:rect l="l" t="t" r="r" b="b"/>
              <a:pathLst>
                <a:path w="3380" h="956">
                  <a:moveTo>
                    <a:pt x="3088" y="540"/>
                  </a:moveTo>
                  <a:lnTo>
                    <a:pt x="3380" y="540"/>
                  </a:lnTo>
                  <a:lnTo>
                    <a:pt x="3380" y="956"/>
                  </a:lnTo>
                  <a:lnTo>
                    <a:pt x="0" y="956"/>
                  </a:lnTo>
                  <a:lnTo>
                    <a:pt x="0" y="0"/>
                  </a:ln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48000" y="3657600"/>
              <a:ext cx="5575320" cy="1828440"/>
            </a:xfrm>
            <a:custGeom>
              <a:avLst/>
              <a:gdLst/>
              <a:ahLst/>
              <a:rect l="l" t="t" r="r" b="b"/>
              <a:pathLst>
                <a:path w="3512" h="1152">
                  <a:moveTo>
                    <a:pt x="3128" y="0"/>
                  </a:moveTo>
                  <a:lnTo>
                    <a:pt x="3512" y="0"/>
                  </a:lnTo>
                  <a:lnTo>
                    <a:pt x="3512" y="1152"/>
                  </a:lnTo>
                  <a:lnTo>
                    <a:pt x="0" y="1152"/>
                  </a:lnTo>
                  <a:lnTo>
                    <a:pt x="2" y="33"/>
                  </a:lnTo>
                  <a:lnTo>
                    <a:pt x="191" y="3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79760" y="1523880"/>
              <a:ext cx="2624040" cy="1599840"/>
            </a:xfrm>
            <a:custGeom>
              <a:avLst/>
              <a:gdLst/>
              <a:ahLst/>
              <a:rect l="l" t="t" r="r" b="b"/>
              <a:pathLst>
                <a:path w="1653" h="1008">
                  <a:moveTo>
                    <a:pt x="1653" y="1008"/>
                  </a:moveTo>
                  <a:lnTo>
                    <a:pt x="1653" y="0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117" y="432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36920" y="1371600"/>
              <a:ext cx="5334120" cy="3352320"/>
            </a:xfrm>
            <a:custGeom>
              <a:avLst/>
              <a:gdLst/>
              <a:ahLst/>
              <a:rect l="l" t="t" r="r" b="b"/>
              <a:pathLst>
                <a:path w="3360" h="2112">
                  <a:moveTo>
                    <a:pt x="3360" y="2112"/>
                  </a:moveTo>
                  <a:lnTo>
                    <a:pt x="3360" y="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144" y="624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280" y="3048120"/>
            <a:ext cx="8763120" cy="2590560"/>
          </a:xfrm>
          <a:custGeom>
            <a:avLst/>
            <a:gdLst/>
            <a:ahLst/>
            <a:rect l="l" t="t" r="r" b="b"/>
            <a:pathLst>
              <a:path w="5520" h="1632">
                <a:moveTo>
                  <a:pt x="5424" y="720"/>
                </a:moveTo>
                <a:lnTo>
                  <a:pt x="5520" y="720"/>
                </a:lnTo>
                <a:lnTo>
                  <a:pt x="5520" y="1632"/>
                </a:lnTo>
                <a:lnTo>
                  <a:pt x="0" y="163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4680" y="610704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F30-9C35-4402-8F37-52A9ED045C6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D6AE0-3586-4BAC-8196-108D90DA5E04}" type="datetime1">
              <a:rPr lang="en-US"/>
              <a:t>07/29/26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Forwarding to Avoid LW-SW Data Hazard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8, Page A-20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536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l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 0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12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9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19240" y="1922400"/>
            <a:ext cx="6057720" cy="4026960"/>
            <a:chOff x="2919240" y="1922400"/>
            <a:chExt cx="6057720" cy="4026960"/>
          </a:xfrm>
        </p:grpSpPr>
        <p:grpSp>
          <p:nvGrpSpPr>
            <p:cNvPr id="1545" name=""/>
            <p:cNvGrpSpPr/>
            <p:nvPr/>
          </p:nvGrpSpPr>
          <p:grpSpPr>
            <a:xfrm>
              <a:off x="4314960" y="3598560"/>
              <a:ext cx="3258000" cy="699840"/>
              <a:chOff x="4314960" y="3598560"/>
              <a:chExt cx="3258000" cy="6998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5107680" y="3763440"/>
                <a:ext cx="420120" cy="370080"/>
                <a:chOff x="5107680" y="3763440"/>
                <a:chExt cx="420120" cy="37008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128920" y="3763440"/>
                  <a:ext cx="370800" cy="370080"/>
                  <a:chOff x="5128920" y="3763440"/>
                  <a:chExt cx="370800" cy="37008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>
                    <a:off x="5314320" y="376344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5128920" y="376344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5107680" y="3801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550080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080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5835240" y="3654000"/>
                <a:ext cx="345960" cy="588960"/>
                <a:chOff x="5835240" y="3654000"/>
                <a:chExt cx="345960" cy="588960"/>
              </a:xfrm>
            </p:grpSpPr>
            <p:sp>
              <p:nvSpPr>
                <p:cNvPr id="1554" name=""/>
                <p:cNvSpPr/>
                <p:nvPr/>
              </p:nvSpPr>
              <p:spPr>
                <a:xfrm rot="16200000">
                  <a:off x="5717880" y="379152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5400000">
                  <a:off x="582372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5400000">
                  <a:off x="5836320" y="388368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200000">
                  <a:off x="5840280" y="3791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617184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032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371280" y="3765240"/>
                <a:ext cx="592200" cy="368280"/>
                <a:chOff x="6371280" y="3765240"/>
                <a:chExt cx="592200" cy="3682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482880" y="376524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71280" y="3803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6433200" y="394920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744080" y="406044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94040" y="383832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314960" y="3765240"/>
                <a:ext cx="557280" cy="368280"/>
                <a:chOff x="4314960" y="3765240"/>
                <a:chExt cx="557280" cy="368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404240" y="376524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14960" y="3803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893120" y="3598560"/>
                <a:ext cx="2171160" cy="699840"/>
                <a:chOff x="4893120" y="3598560"/>
                <a:chExt cx="2171160" cy="6998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591880" y="359856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8940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89312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290640" y="360252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152840" y="3750840"/>
                <a:ext cx="420120" cy="369720"/>
                <a:chOff x="7152840" y="3750840"/>
                <a:chExt cx="420120" cy="369720"/>
              </a:xfrm>
            </p:grpSpPr>
            <p:grpSp>
              <p:nvGrpSpPr>
                <p:cNvPr id="1575" name=""/>
                <p:cNvGrpSpPr/>
                <p:nvPr/>
              </p:nvGrpSpPr>
              <p:grpSpPr>
                <a:xfrm>
                  <a:off x="7182000" y="3750840"/>
                  <a:ext cx="373320" cy="369720"/>
                  <a:chOff x="7182000" y="3750840"/>
                  <a:chExt cx="373320" cy="3697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flipH="1">
                    <a:off x="7182000" y="3750840"/>
                    <a:ext cx="1864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7181640" y="3750840"/>
                    <a:ext cx="3733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8" name=""/>
                <p:cNvSpPr/>
                <p:nvPr/>
              </p:nvSpPr>
              <p:spPr>
                <a:xfrm flipH="1">
                  <a:off x="7152480" y="3789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3611880" y="2747880"/>
              <a:ext cx="3259440" cy="699840"/>
              <a:chOff x="3611880" y="2747880"/>
              <a:chExt cx="3259440" cy="6998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4404240" y="2912760"/>
                <a:ext cx="420120" cy="370080"/>
                <a:chOff x="4404240" y="2912760"/>
                <a:chExt cx="420120" cy="370080"/>
              </a:xfrm>
            </p:grpSpPr>
            <p:grpSp>
              <p:nvGrpSpPr>
                <p:cNvPr id="1581" name=""/>
                <p:cNvGrpSpPr/>
                <p:nvPr/>
              </p:nvGrpSpPr>
              <p:grpSpPr>
                <a:xfrm>
                  <a:off x="4425480" y="2912760"/>
                  <a:ext cx="370800" cy="370080"/>
                  <a:chOff x="4425480" y="2912760"/>
                  <a:chExt cx="370800" cy="3700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>
                    <a:off x="4610880" y="291276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425480" y="291276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4" name=""/>
                <p:cNvSpPr/>
                <p:nvPr/>
              </p:nvSpPr>
              <p:spPr>
                <a:xfrm>
                  <a:off x="4404240" y="2951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5" name=""/>
              <p:cNvSpPr/>
              <p:nvPr/>
            </p:nvSpPr>
            <p:spPr>
              <a:xfrm>
                <a:off x="479772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9772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5132160" y="2803320"/>
                <a:ext cx="345960" cy="588960"/>
                <a:chOff x="5132160" y="2803320"/>
                <a:chExt cx="345960" cy="588960"/>
              </a:xfrm>
            </p:grpSpPr>
            <p:sp>
              <p:nvSpPr>
                <p:cNvPr id="1588" name=""/>
                <p:cNvSpPr/>
                <p:nvPr/>
              </p:nvSpPr>
              <p:spPr>
                <a:xfrm rot="16200000">
                  <a:off x="5014800" y="294084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5400000">
                  <a:off x="512064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5400000">
                  <a:off x="5133240" y="303300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200000">
                  <a:off x="5137200" y="29419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546876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17688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668200" y="2914560"/>
                <a:ext cx="592200" cy="368280"/>
                <a:chOff x="5668200" y="2914560"/>
                <a:chExt cx="59220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779800" y="291456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668200" y="29530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5729760" y="309852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41000" y="320976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90960" y="298764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611880" y="2914560"/>
                <a:ext cx="557280" cy="368280"/>
                <a:chOff x="3611880" y="2914560"/>
                <a:chExt cx="557280" cy="3682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01160" y="291456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611880" y="29530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4190040" y="2747880"/>
                <a:ext cx="2170800" cy="699840"/>
                <a:chOff x="4190040" y="2747880"/>
                <a:chExt cx="2170800" cy="6998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4888800" y="274788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004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87200" y="2751840"/>
                  <a:ext cx="734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6451200" y="2900160"/>
                <a:ext cx="420120" cy="369720"/>
                <a:chOff x="6451200" y="2900160"/>
                <a:chExt cx="420120" cy="369720"/>
              </a:xfrm>
            </p:grpSpPr>
            <p:grpSp>
              <p:nvGrpSpPr>
                <p:cNvPr id="1609" name=""/>
                <p:cNvGrpSpPr/>
                <p:nvPr/>
              </p:nvGrpSpPr>
              <p:grpSpPr>
                <a:xfrm>
                  <a:off x="6481800" y="2900160"/>
                  <a:ext cx="373680" cy="369720"/>
                  <a:chOff x="6481800" y="2900160"/>
                  <a:chExt cx="373680" cy="36972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 flipH="1">
                    <a:off x="6481440" y="290016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648180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2" name=""/>
                <p:cNvSpPr/>
                <p:nvPr/>
              </p:nvSpPr>
              <p:spPr>
                <a:xfrm flipH="1">
                  <a:off x="6450840" y="2938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2919240" y="1922400"/>
              <a:ext cx="3257640" cy="699840"/>
              <a:chOff x="2919240" y="1922400"/>
              <a:chExt cx="3257640" cy="69984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3711600" y="2087280"/>
                <a:ext cx="420120" cy="370080"/>
                <a:chOff x="3711600" y="2087280"/>
                <a:chExt cx="420120" cy="370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3734640" y="2087280"/>
                  <a:ext cx="370440" cy="370080"/>
                  <a:chOff x="3734640" y="2087280"/>
                  <a:chExt cx="370440" cy="3700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920040" y="208728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734640" y="208728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3711600" y="2125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10652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0652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4440960" y="1977840"/>
                <a:ext cx="345960" cy="588960"/>
                <a:chOff x="4440960" y="1977840"/>
                <a:chExt cx="345960" cy="588960"/>
              </a:xfrm>
            </p:grpSpPr>
            <p:sp>
              <p:nvSpPr>
                <p:cNvPr id="1622" name=""/>
                <p:cNvSpPr/>
                <p:nvPr/>
              </p:nvSpPr>
              <p:spPr>
                <a:xfrm rot="16200000">
                  <a:off x="4323600" y="21153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5400000">
                  <a:off x="442944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5400000">
                  <a:off x="4442040" y="22075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200000">
                  <a:off x="4446000" y="2116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477756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8604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4975560" y="2089080"/>
                <a:ext cx="592200" cy="368280"/>
                <a:chOff x="4975560" y="2089080"/>
                <a:chExt cx="592200" cy="36828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508860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975560" y="2127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5038920" y="22730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50160" y="23842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9760" y="21621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2919240" y="2089080"/>
                <a:ext cx="557280" cy="368280"/>
                <a:chOff x="2919240" y="2089080"/>
                <a:chExt cx="557280" cy="36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011040" y="208908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919240" y="2127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3498840" y="1922400"/>
                <a:ext cx="2171160" cy="699840"/>
                <a:chOff x="3498840" y="1922400"/>
                <a:chExt cx="2171160" cy="6998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97600" y="19224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9512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884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896360" y="19263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756760" y="2074680"/>
                <a:ext cx="420120" cy="369720"/>
                <a:chOff x="5756760" y="2074680"/>
                <a:chExt cx="420120" cy="3697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5784120" y="2074680"/>
                  <a:ext cx="373680" cy="369720"/>
                  <a:chOff x="5784120" y="2074680"/>
                  <a:chExt cx="373680" cy="36972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flipH="1">
                    <a:off x="5783760" y="20746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578412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6" name=""/>
                <p:cNvSpPr/>
                <p:nvPr/>
              </p:nvSpPr>
              <p:spPr>
                <a:xfrm flipH="1">
                  <a:off x="5756400" y="2113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5017680" y="4437000"/>
              <a:ext cx="3256200" cy="699840"/>
              <a:chOff x="5017680" y="4437000"/>
              <a:chExt cx="3256200" cy="69984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5806800" y="4601880"/>
                <a:ext cx="420120" cy="370080"/>
                <a:chOff x="5806800" y="4601880"/>
                <a:chExt cx="420120" cy="37008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5831280" y="4601880"/>
                  <a:ext cx="370800" cy="370080"/>
                  <a:chOff x="5831280" y="4601880"/>
                  <a:chExt cx="370800" cy="37008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6016680" y="460188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31280" y="460188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5806800" y="4640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620352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20352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537960" y="4492440"/>
                <a:ext cx="345960" cy="588960"/>
                <a:chOff x="6537960" y="4492440"/>
                <a:chExt cx="345960" cy="588960"/>
              </a:xfrm>
            </p:grpSpPr>
            <p:sp>
              <p:nvSpPr>
                <p:cNvPr id="1656" name=""/>
                <p:cNvSpPr/>
                <p:nvPr/>
              </p:nvSpPr>
              <p:spPr>
                <a:xfrm rot="16200000">
                  <a:off x="6420600" y="46299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5400000">
                  <a:off x="652644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5400000">
                  <a:off x="6539040" y="47221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200000">
                  <a:off x="6543000" y="46310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7456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7072560" y="4603680"/>
                <a:ext cx="592200" cy="368280"/>
                <a:chOff x="7072560" y="4603680"/>
                <a:chExt cx="592200" cy="368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718560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072560" y="4642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7135560" y="47876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446800" y="48988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96760" y="46767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5017680" y="4603680"/>
                <a:ext cx="557280" cy="368280"/>
                <a:chOff x="5017680" y="4603680"/>
                <a:chExt cx="557280" cy="368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5106960" y="460368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017680" y="4642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595840" y="4437000"/>
                <a:ext cx="2171160" cy="699840"/>
                <a:chOff x="5595840" y="4437000"/>
                <a:chExt cx="2171160" cy="6998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294600" y="44370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69212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59584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993360" y="44409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7853760" y="4589280"/>
                <a:ext cx="420120" cy="369720"/>
                <a:chOff x="7853760" y="4589280"/>
                <a:chExt cx="420120" cy="36972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" name=""/>
                <p:cNvSpPr/>
                <p:nvPr/>
              </p:nvSpPr>
              <p:spPr>
                <a:xfrm flipH="1">
                  <a:off x="7853400" y="4627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1" name=""/>
            <p:cNvGrpSpPr/>
            <p:nvPr/>
          </p:nvGrpSpPr>
          <p:grpSpPr>
            <a:xfrm>
              <a:off x="5720760" y="5249520"/>
              <a:ext cx="3256200" cy="699840"/>
              <a:chOff x="5720760" y="5249520"/>
              <a:chExt cx="3256200" cy="69984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510600" y="5414400"/>
                <a:ext cx="420120" cy="370080"/>
                <a:chOff x="6510600" y="5414400"/>
                <a:chExt cx="420120" cy="3700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6534360" y="5414400"/>
                  <a:ext cx="370440" cy="370080"/>
                  <a:chOff x="6534360" y="5414400"/>
                  <a:chExt cx="370440" cy="3700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6719760" y="541440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53436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6" name=""/>
                <p:cNvSpPr/>
                <p:nvPr/>
              </p:nvSpPr>
              <p:spPr>
                <a:xfrm>
                  <a:off x="6510600" y="54529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>
                <a:off x="690660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0660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690" name="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200000">
                  <a:off x="7246080" y="54435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8612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6" name=""/>
              <p:cNvGrpSpPr/>
              <p:nvPr/>
            </p:nvGrpSpPr>
            <p:grpSpPr>
              <a:xfrm>
                <a:off x="7775640" y="5416200"/>
                <a:ext cx="592200" cy="368280"/>
                <a:chOff x="7775640" y="5416200"/>
                <a:chExt cx="592200" cy="3682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775640" y="54547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7838640" y="560016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49880" y="571140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99840" y="548928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2" name=""/>
              <p:cNvGrpSpPr/>
              <p:nvPr/>
            </p:nvGrpSpPr>
            <p:grpSpPr>
              <a:xfrm>
                <a:off x="5720760" y="5416200"/>
                <a:ext cx="557280" cy="368280"/>
                <a:chOff x="5720760" y="5416200"/>
                <a:chExt cx="557280" cy="3682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5810040" y="541620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720760" y="54547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298920" y="5249520"/>
                <a:ext cx="2171160" cy="699840"/>
                <a:chOff x="6298920" y="5249520"/>
                <a:chExt cx="2171160" cy="699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39520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29892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696440" y="525348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8556840" y="5401800"/>
                <a:ext cx="420120" cy="369720"/>
                <a:chOff x="8556840" y="5401800"/>
                <a:chExt cx="420120" cy="369720"/>
              </a:xfrm>
            </p:grpSpPr>
            <p:grpSp>
              <p:nvGrpSpPr>
                <p:cNvPr id="1711" name=""/>
                <p:cNvGrpSpPr/>
                <p:nvPr/>
              </p:nvGrpSpPr>
              <p:grpSpPr>
                <a:xfrm>
                  <a:off x="8584200" y="5401800"/>
                  <a:ext cx="373680" cy="369720"/>
                  <a:chOff x="8584200" y="5401800"/>
                  <a:chExt cx="373680" cy="369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flipH="1">
                    <a:off x="8583840" y="540180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>
                    <a:off x="858420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 flipH="1">
                  <a:off x="8556480" y="544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5" name="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37200" y="2576520"/>
            <a:ext cx="768240" cy="154944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54E-4390-40F3-A72D-65BDE405D29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D3A19-04D8-404B-932D-81E5BB788D4E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054080" y="234936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61840" y="19368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680" y="2760840"/>
            <a:ext cx="3165840" cy="3735000"/>
            <a:chOff x="103680" y="2760840"/>
            <a:chExt cx="3165840" cy="3735000"/>
          </a:xfrm>
        </p:grpSpPr>
        <p:sp>
          <p:nvSpPr>
            <p:cNvPr id="1722" name=""/>
            <p:cNvSpPr/>
            <p:nvPr/>
          </p:nvSpPr>
          <p:spPr>
            <a:xfrm>
              <a:off x="103680" y="2798640"/>
              <a:ext cx="36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200" y="2817720"/>
              <a:ext cx="0" cy="36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710640" y="2760840"/>
              <a:ext cx="2558880" cy="3735000"/>
              <a:chOff x="710640" y="2760840"/>
              <a:chExt cx="2558880" cy="3735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710640" y="27608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l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, 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0640" y="37324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40" y="46846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0640" y="56754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9, Page A-21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2982600" y="2651040"/>
            <a:ext cx="6030000" cy="3519360"/>
            <a:chOff x="2982600" y="2651040"/>
            <a:chExt cx="6030000" cy="3519360"/>
          </a:xfrm>
        </p:grpSpPr>
        <p:grpSp>
          <p:nvGrpSpPr>
            <p:cNvPr id="1731" name=""/>
            <p:cNvGrpSpPr/>
            <p:nvPr/>
          </p:nvGrpSpPr>
          <p:grpSpPr>
            <a:xfrm>
              <a:off x="2982600" y="2651040"/>
              <a:ext cx="3650760" cy="699840"/>
              <a:chOff x="2982600" y="2651040"/>
              <a:chExt cx="3650760" cy="69984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76480" y="2815920"/>
                <a:ext cx="422640" cy="370080"/>
                <a:chOff x="3876480" y="2815920"/>
                <a:chExt cx="422640" cy="37008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3876480" y="2815920"/>
                  <a:ext cx="422280" cy="370080"/>
                  <a:chOff x="3876480" y="2815920"/>
                  <a:chExt cx="422280" cy="37008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4087800" y="281592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876480" y="28159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>
                  <a:off x="3879000" y="2854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300920" y="28908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0920" y="31111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682520" y="2706480"/>
                <a:ext cx="380160" cy="588960"/>
                <a:chOff x="4682520" y="2706480"/>
                <a:chExt cx="380160" cy="588960"/>
              </a:xfrm>
            </p:grpSpPr>
            <p:sp>
              <p:nvSpPr>
                <p:cNvPr id="1740" name=""/>
                <p:cNvSpPr/>
                <p:nvPr/>
              </p:nvSpPr>
              <p:spPr>
                <a:xfrm rot="16200000">
                  <a:off x="4589640" y="282240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5400000">
                  <a:off x="4682520" y="29055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5400000">
                  <a:off x="4695840" y="292752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6200000">
                  <a:off x="4717800" y="28418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5067000" y="30016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75560" y="300168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5334840" y="2817720"/>
                <a:ext cx="592200" cy="368280"/>
                <a:chOff x="5334840" y="2817720"/>
                <a:chExt cx="592200" cy="3682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421960" y="28177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334840" y="28562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5365080" y="300168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37280" y="31129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380040" y="28908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2982600" y="2817720"/>
                <a:ext cx="557280" cy="368280"/>
                <a:chOff x="2982600" y="2817720"/>
                <a:chExt cx="557280" cy="3682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049200" y="281772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82600" y="28562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606840" y="2651040"/>
                <a:ext cx="2478240" cy="699840"/>
                <a:chOff x="3606840" y="2651040"/>
                <a:chExt cx="2478240" cy="6998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440460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99976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60684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202000" y="265500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202440" y="2803320"/>
                <a:ext cx="430920" cy="369720"/>
                <a:chOff x="6202440" y="2803320"/>
                <a:chExt cx="430920" cy="369720"/>
              </a:xfrm>
            </p:grpSpPr>
            <p:grpSp>
              <p:nvGrpSpPr>
                <p:cNvPr id="1761" name=""/>
                <p:cNvGrpSpPr/>
                <p:nvPr/>
              </p:nvGrpSpPr>
              <p:grpSpPr>
                <a:xfrm>
                  <a:off x="6207480" y="2803320"/>
                  <a:ext cx="425880" cy="369720"/>
                  <a:chOff x="6207480" y="2803320"/>
                  <a:chExt cx="425880" cy="36972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 flipH="1">
                    <a:off x="6207120" y="280332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6207120" y="280332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 flipH="1">
                  <a:off x="6202080" y="28418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3801600" y="3581280"/>
              <a:ext cx="3650400" cy="699840"/>
              <a:chOff x="3801600" y="3581280"/>
              <a:chExt cx="3650400" cy="69984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4695480" y="3746160"/>
                <a:ext cx="422640" cy="370080"/>
                <a:chOff x="4695480" y="3746160"/>
                <a:chExt cx="422640" cy="370080"/>
              </a:xfrm>
            </p:grpSpPr>
            <p:grpSp>
              <p:nvGrpSpPr>
                <p:cNvPr id="1767" name=""/>
                <p:cNvGrpSpPr/>
                <p:nvPr/>
              </p:nvGrpSpPr>
              <p:grpSpPr>
                <a:xfrm>
                  <a:off x="4695480" y="3746160"/>
                  <a:ext cx="422280" cy="370080"/>
                  <a:chOff x="4695480" y="3746160"/>
                  <a:chExt cx="422280" cy="3700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4906800" y="37461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4695480" y="37461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0" name=""/>
                <p:cNvSpPr/>
                <p:nvPr/>
              </p:nvSpPr>
              <p:spPr>
                <a:xfrm>
                  <a:off x="4698000" y="3784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5119560" y="38210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19560" y="40413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501520" y="3636720"/>
                <a:ext cx="380160" cy="588960"/>
                <a:chOff x="5501520" y="3636720"/>
                <a:chExt cx="380160" cy="588960"/>
              </a:xfrm>
            </p:grpSpPr>
            <p:sp>
              <p:nvSpPr>
                <p:cNvPr id="1774" name=""/>
                <p:cNvSpPr/>
                <p:nvPr/>
              </p:nvSpPr>
              <p:spPr>
                <a:xfrm rot="16200000">
                  <a:off x="5408640" y="37526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5400000">
                  <a:off x="5501520" y="38358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5400000">
                  <a:off x="5514840" y="38577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6200000">
                  <a:off x="5537520" y="3772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5885640" y="39319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94200" y="39319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6153480" y="3747960"/>
                <a:ext cx="592200" cy="368280"/>
                <a:chOff x="6153480" y="3747960"/>
                <a:chExt cx="592200" cy="3682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6240600" y="37479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153480" y="37864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183720" y="393192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55920" y="40431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99040" y="38210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801600" y="3747960"/>
                <a:ext cx="557280" cy="368280"/>
                <a:chOff x="3801600" y="3747960"/>
                <a:chExt cx="557280" cy="3682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868200" y="37479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801600" y="37864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4425840" y="3581280"/>
                <a:ext cx="2477880" cy="699840"/>
                <a:chOff x="4425840" y="3581280"/>
                <a:chExt cx="2477880" cy="6998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232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81840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4258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021000" y="358524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7021080" y="3733560"/>
                <a:ext cx="430920" cy="369720"/>
                <a:chOff x="7021080" y="3733560"/>
                <a:chExt cx="430920" cy="369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7026120" y="3733560"/>
                  <a:ext cx="425880" cy="369720"/>
                  <a:chOff x="7026120" y="3733560"/>
                  <a:chExt cx="425880" cy="369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 flipH="1">
                    <a:off x="7025760" y="373356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7025760" y="373356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 flipH="1">
                  <a:off x="7020720" y="3772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9" name=""/>
            <p:cNvGrpSpPr/>
            <p:nvPr/>
          </p:nvGrpSpPr>
          <p:grpSpPr>
            <a:xfrm>
              <a:off x="4593240" y="4497480"/>
              <a:ext cx="3649680" cy="699840"/>
              <a:chOff x="4593240" y="4497480"/>
              <a:chExt cx="3649680" cy="6998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5487120" y="4662360"/>
                <a:ext cx="422640" cy="370080"/>
                <a:chOff x="5487120" y="4662360"/>
                <a:chExt cx="422640" cy="370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5487120" y="4662360"/>
                  <a:ext cx="422280" cy="370080"/>
                  <a:chOff x="5487120" y="4662360"/>
                  <a:chExt cx="422280" cy="37008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5698440" y="46623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7120" y="466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4" name=""/>
                <p:cNvSpPr/>
                <p:nvPr/>
              </p:nvSpPr>
              <p:spPr>
                <a:xfrm>
                  <a:off x="5489640" y="4700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911200" y="47372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911200" y="49575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6292800" y="4552920"/>
                <a:ext cx="380160" cy="588960"/>
                <a:chOff x="6292800" y="4552920"/>
                <a:chExt cx="380160" cy="588960"/>
              </a:xfrm>
            </p:grpSpPr>
            <p:sp>
              <p:nvSpPr>
                <p:cNvPr id="1808" name=""/>
                <p:cNvSpPr/>
                <p:nvPr/>
              </p:nvSpPr>
              <p:spPr>
                <a:xfrm rot="16200000">
                  <a:off x="6199920" y="46688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rot="5400000">
                  <a:off x="6292800" y="475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5400000">
                  <a:off x="6306120" y="47739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6200000">
                  <a:off x="6328800" y="46717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676920" y="48481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85120" y="484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945480" y="4664160"/>
                <a:ext cx="592200" cy="368280"/>
                <a:chOff x="6945480" y="4664160"/>
                <a:chExt cx="592200" cy="3682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7031520" y="466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945480" y="4702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7" name=""/>
              <p:cNvSpPr/>
              <p:nvPr/>
            </p:nvSpPr>
            <p:spPr>
              <a:xfrm>
                <a:off x="6975000" y="4848120"/>
                <a:ext cx="63396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47920" y="49593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990680" y="47372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4593240" y="4664160"/>
                <a:ext cx="557280" cy="368280"/>
                <a:chOff x="4593240" y="4664160"/>
                <a:chExt cx="557280" cy="3682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4660200" y="46641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593240" y="4702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217840" y="4497480"/>
                <a:ext cx="2476800" cy="699840"/>
                <a:chOff x="5217840" y="4497480"/>
                <a:chExt cx="2476800" cy="6998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6015240" y="4497480"/>
                  <a:ext cx="849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0932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784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812280" y="4501440"/>
                  <a:ext cx="838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7814520" y="4649760"/>
                <a:ext cx="428400" cy="369720"/>
                <a:chOff x="7814520" y="4649760"/>
                <a:chExt cx="428400" cy="369720"/>
              </a:xfrm>
            </p:grpSpPr>
            <p:grpSp>
              <p:nvGrpSpPr>
                <p:cNvPr id="1829" name=""/>
                <p:cNvGrpSpPr/>
                <p:nvPr/>
              </p:nvGrpSpPr>
              <p:grpSpPr>
                <a:xfrm>
                  <a:off x="7817400" y="4649760"/>
                  <a:ext cx="425520" cy="369720"/>
                  <a:chOff x="7817400" y="4649760"/>
                  <a:chExt cx="425520" cy="3697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 flipH="1">
                    <a:off x="7817760" y="4649760"/>
                    <a:ext cx="21240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7817400" y="4649760"/>
                    <a:ext cx="425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2" name=""/>
                <p:cNvSpPr/>
                <p:nvPr/>
              </p:nvSpPr>
              <p:spPr>
                <a:xfrm flipH="1">
                  <a:off x="7814160" y="4688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5362200" y="5470560"/>
              <a:ext cx="3650400" cy="699840"/>
              <a:chOff x="5362200" y="5470560"/>
              <a:chExt cx="3650400" cy="6998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6256080" y="5635440"/>
                <a:ext cx="422640" cy="370080"/>
                <a:chOff x="6256080" y="5635440"/>
                <a:chExt cx="422640" cy="37008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6256080" y="5635440"/>
                  <a:ext cx="422280" cy="370080"/>
                  <a:chOff x="6256080" y="5635440"/>
                  <a:chExt cx="422280" cy="3700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6467400" y="563544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6256080" y="56354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8" name=""/>
                <p:cNvSpPr/>
                <p:nvPr/>
              </p:nvSpPr>
              <p:spPr>
                <a:xfrm>
                  <a:off x="6258600" y="5673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680160" y="5710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0160" y="59306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7062120" y="5526000"/>
                <a:ext cx="380160" cy="588960"/>
                <a:chOff x="7062120" y="5526000"/>
                <a:chExt cx="380160" cy="58896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6969240" y="564192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5400000">
                  <a:off x="7062120" y="57250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5400000">
                  <a:off x="7075440" y="574704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7097400" y="56613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7446240" y="5821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254800" y="582120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7714080" y="5637240"/>
                <a:ext cx="592200" cy="368280"/>
                <a:chOff x="7714080" y="5637240"/>
                <a:chExt cx="592200" cy="368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7801200" y="56372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714080" y="5675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7744320" y="582120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16520" y="59324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59640" y="57103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5362200" y="5637240"/>
                <a:ext cx="557280" cy="368280"/>
                <a:chOff x="5362200" y="5637240"/>
                <a:chExt cx="557280" cy="368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428800" y="563724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362200" y="5675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986440" y="5470560"/>
                <a:ext cx="2477880" cy="699840"/>
                <a:chOff x="5986440" y="5470560"/>
                <a:chExt cx="2477880" cy="6998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7838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37900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9864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581600" y="547452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8581680" y="5622840"/>
                <a:ext cx="430920" cy="369720"/>
                <a:chOff x="8581680" y="5622840"/>
                <a:chExt cx="430920" cy="36972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586720" y="5622840"/>
                  <a:ext cx="425880" cy="369720"/>
                  <a:chOff x="8586720" y="5622840"/>
                  <a:chExt cx="425880" cy="36972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 flipH="1">
                    <a:off x="8586360" y="562284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H="1">
                    <a:off x="8586360" y="562284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 flipH="1">
                  <a:off x="8581320" y="5661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7" name="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19920" y="2971800"/>
            <a:ext cx="304560" cy="1752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2971800"/>
            <a:ext cx="76320" cy="2743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0FA-515A-4560-8064-70936E92C53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76F14-C2E4-464C-AEFE-C2077A9C601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58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63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BC7-301D-4488-90C7-0F37C75E1E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11E3F-75BB-406F-95D5-219CFA6EEBC0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6212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milar to Figure A.10, Page A-2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6200" y="1749600"/>
            <a:ext cx="201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5432400"/>
            <a:ext cx="17769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r8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1520" y="2178000"/>
            <a:ext cx="3459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8880" y="216864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36680" y="212400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6040" y="2577960"/>
            <a:ext cx="17096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,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07840" y="356868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r4,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7840" y="450216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6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2733120" y="2475000"/>
            <a:ext cx="3651120" cy="699840"/>
            <a:chOff x="2733120" y="2475000"/>
            <a:chExt cx="3651120" cy="699840"/>
          </a:xfrm>
        </p:grpSpPr>
        <p:grpSp>
          <p:nvGrpSpPr>
            <p:cNvPr id="1880" name=""/>
            <p:cNvGrpSpPr/>
            <p:nvPr/>
          </p:nvGrpSpPr>
          <p:grpSpPr>
            <a:xfrm>
              <a:off x="3627000" y="2639880"/>
              <a:ext cx="422640" cy="370080"/>
              <a:chOff x="3627000" y="2639880"/>
              <a:chExt cx="422640" cy="370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3627000" y="2639880"/>
                <a:ext cx="422280" cy="370080"/>
                <a:chOff x="3627000" y="2639880"/>
                <a:chExt cx="422280" cy="3700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838320" y="2639880"/>
                  <a:ext cx="2109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627000" y="263988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29520" y="26784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4051440" y="271476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51440" y="293508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4433400" y="2530440"/>
              <a:ext cx="380160" cy="588960"/>
              <a:chOff x="4433400" y="2530440"/>
              <a:chExt cx="380160" cy="58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4340520" y="2646360"/>
                <a:ext cx="588960" cy="3567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6760"/>
                  <a:gd name="textAreaBottom" fmla="*/ 278280 h 35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433400" y="272952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5400000">
                <a:off x="4446720" y="2751480"/>
                <a:ext cx="167040" cy="146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6200000">
                <a:off x="4468680" y="26658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4817520" y="2825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26440" y="282564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5360" y="2641680"/>
              <a:ext cx="592200" cy="368280"/>
              <a:chOff x="5085360" y="2641680"/>
              <a:chExt cx="592200" cy="368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5172480" y="264168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5360" y="26802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5115600" y="2825640"/>
              <a:ext cx="63432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87800" y="293688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30560" y="271476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733120" y="2641680"/>
              <a:ext cx="557280" cy="368280"/>
              <a:chOff x="2733120" y="2641680"/>
              <a:chExt cx="557280" cy="368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2799720" y="2641680"/>
                <a:ext cx="4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33120" y="26802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357720" y="2475000"/>
              <a:ext cx="2478240" cy="699840"/>
              <a:chOff x="3357720" y="2475000"/>
              <a:chExt cx="2478240" cy="699840"/>
            </a:xfrm>
          </p:grpSpPr>
          <p:sp>
            <p:nvSpPr>
              <p:cNvPr id="1904" name=""/>
              <p:cNvSpPr/>
              <p:nvPr/>
            </p:nvSpPr>
            <p:spPr>
              <a:xfrm>
                <a:off x="415548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75064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5772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52880" y="2478960"/>
                <a:ext cx="8424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5953320" y="2627280"/>
              <a:ext cx="430920" cy="369720"/>
              <a:chOff x="5953320" y="2627280"/>
              <a:chExt cx="430920" cy="3697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5958360" y="2627280"/>
                <a:ext cx="425880" cy="369720"/>
                <a:chOff x="5958360" y="2627280"/>
                <a:chExt cx="425880" cy="3697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5958000" y="2627280"/>
                  <a:ext cx="2127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5958000" y="2627280"/>
                  <a:ext cx="425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 flipH="1">
                <a:off x="5952960" y="2665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3552840" y="3408480"/>
            <a:ext cx="4439520" cy="701640"/>
            <a:chOff x="3552840" y="3408480"/>
            <a:chExt cx="4439520" cy="701640"/>
          </a:xfrm>
        </p:grpSpPr>
        <p:grpSp>
          <p:nvGrpSpPr>
            <p:cNvPr id="1914" name=""/>
            <p:cNvGrpSpPr/>
            <p:nvPr/>
          </p:nvGrpSpPr>
          <p:grpSpPr>
            <a:xfrm>
              <a:off x="4446720" y="3570480"/>
              <a:ext cx="422640" cy="369720"/>
              <a:chOff x="4446720" y="3570480"/>
              <a:chExt cx="422640" cy="369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4446720" y="3570480"/>
                <a:ext cx="422280" cy="369720"/>
                <a:chOff x="4446720" y="3570480"/>
                <a:chExt cx="422280" cy="36972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4658040" y="3570480"/>
                  <a:ext cx="2109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446720" y="357048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449240" y="36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4870440" y="364500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42000" y="3870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06800" y="3867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49560" y="3645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3552840" y="3571920"/>
              <a:ext cx="557280" cy="368280"/>
              <a:chOff x="3552840" y="3571920"/>
              <a:chExt cx="557280" cy="368280"/>
            </a:xfrm>
          </p:grpSpPr>
          <p:sp>
            <p:nvSpPr>
              <p:cNvPr id="1924" name=""/>
              <p:cNvSpPr/>
              <p:nvPr/>
            </p:nvSpPr>
            <p:spPr>
              <a:xfrm>
                <a:off x="3619440" y="35719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552840" y="36104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497520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7672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041520" y="3408480"/>
              <a:ext cx="1950840" cy="699840"/>
              <a:chOff x="6041520" y="3408480"/>
              <a:chExt cx="1950840" cy="699840"/>
            </a:xfrm>
          </p:grpSpPr>
          <p:sp>
            <p:nvSpPr>
              <p:cNvPr id="1929" name=""/>
              <p:cNvSpPr/>
              <p:nvPr/>
            </p:nvSpPr>
            <p:spPr>
              <a:xfrm rot="16200000">
                <a:off x="5949720" y="3578760"/>
                <a:ext cx="588600" cy="357120"/>
              </a:xfrm>
              <a:custGeom>
                <a:avLst/>
                <a:gdLst>
                  <a:gd name="textAreaLeft" fmla="*/ 129240 w 588600"/>
                  <a:gd name="textAreaRight" fmla="*/ 459360 w 58860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5400000">
                <a:off x="6042240" y="366264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6056280" y="3684240"/>
                <a:ext cx="16632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6078240" y="35985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2600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3384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79880" y="357480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93480" y="36133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724440" y="3759120"/>
                <a:ext cx="633240" cy="29304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59480" y="3408480"/>
                <a:ext cx="8568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561000" y="3412800"/>
                <a:ext cx="85680" cy="69012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7567200" y="3560400"/>
                <a:ext cx="425160" cy="369720"/>
                <a:chOff x="7567200" y="3560400"/>
                <a:chExt cx="425160" cy="3697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567200" y="3560400"/>
                  <a:ext cx="21240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7566840" y="356040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flipH="1">
                <a:off x="7561800" y="35992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5756400" y="34099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02280" y="343080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46640" y="4300560"/>
            <a:ext cx="4439520" cy="712800"/>
            <a:chOff x="4346640" y="4300560"/>
            <a:chExt cx="4439520" cy="712800"/>
          </a:xfrm>
        </p:grpSpPr>
        <p:sp>
          <p:nvSpPr>
            <p:cNvPr id="1947" name=""/>
            <p:cNvSpPr/>
            <p:nvPr/>
          </p:nvSpPr>
          <p:spPr>
            <a:xfrm>
              <a:off x="5664240" y="454824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35800" y="4773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0600" y="477036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743360" y="45482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346640" y="4475160"/>
              <a:ext cx="557280" cy="368280"/>
              <a:chOff x="4346640" y="4475160"/>
              <a:chExt cx="557280" cy="3682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240" y="447516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346640" y="45136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576900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7052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6835320" y="4311720"/>
              <a:ext cx="1950840" cy="700200"/>
              <a:chOff x="6835320" y="4311720"/>
              <a:chExt cx="1950840" cy="700200"/>
            </a:xfrm>
          </p:grpSpPr>
          <p:sp>
            <p:nvSpPr>
              <p:cNvPr id="1957" name=""/>
              <p:cNvSpPr/>
              <p:nvPr/>
            </p:nvSpPr>
            <p:spPr>
              <a:xfrm rot="16200000">
                <a:off x="6743520" y="4483080"/>
                <a:ext cx="588960" cy="35712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5400000">
                <a:off x="6836040" y="456660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5400000">
                <a:off x="6849720" y="45878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872040" y="4502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1980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02764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73680" y="447840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87280" y="45172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518240" y="4662720"/>
                <a:ext cx="633240" cy="29340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53280" y="4311720"/>
                <a:ext cx="8568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54800" y="4316400"/>
                <a:ext cx="856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8361000" y="4464000"/>
                <a:ext cx="425160" cy="370080"/>
                <a:chOff x="8361000" y="4464000"/>
                <a:chExt cx="425160" cy="37008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8361000" y="4464000"/>
                  <a:ext cx="21240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8360640" y="446400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 flipH="1">
                <a:off x="8355600" y="4503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6550200" y="431316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22800" y="430056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5999040" y="4470480"/>
              <a:ext cx="428400" cy="369720"/>
              <a:chOff x="5999040" y="4470480"/>
              <a:chExt cx="428400" cy="369720"/>
            </a:xfrm>
          </p:grpSpPr>
          <p:sp>
            <p:nvSpPr>
              <p:cNvPr id="1975" name=""/>
              <p:cNvSpPr/>
              <p:nvPr/>
            </p:nvSpPr>
            <p:spPr>
              <a:xfrm>
                <a:off x="5999040" y="447048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210000" y="4470480"/>
                <a:ext cx="211320" cy="365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99040" y="447048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01920" y="45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9" name=""/>
          <p:cNvSpPr/>
          <p:nvPr/>
        </p:nvSpPr>
        <p:spPr>
          <a:xfrm>
            <a:off x="6450120" y="540216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21320" y="5627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86480" y="562464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9240" y="5402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937120" y="5313240"/>
            <a:ext cx="557280" cy="368280"/>
            <a:chOff x="5937120" y="5313240"/>
            <a:chExt cx="557280" cy="368280"/>
          </a:xfrm>
        </p:grpSpPr>
        <p:sp>
          <p:nvSpPr>
            <p:cNvPr id="1984" name=""/>
            <p:cNvSpPr/>
            <p:nvPr/>
          </p:nvSpPr>
          <p:spPr>
            <a:xfrm>
              <a:off x="6003720" y="5313240"/>
              <a:ext cx="425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37120" y="53517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5488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5640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6200000">
            <a:off x="7529400" y="5337360"/>
            <a:ext cx="588960" cy="357120"/>
          </a:xfrm>
          <a:custGeom>
            <a:avLst/>
            <a:gdLst>
              <a:gd name="textAreaLeft" fmla="*/ 129240 w 588960"/>
              <a:gd name="textAreaRight" fmla="*/ 459720 w 588960"/>
              <a:gd name="textAreaTop" fmla="*/ 78480 h 357120"/>
              <a:gd name="textAreaBottom" fmla="*/ 2786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21920" y="542052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7635600" y="5441760"/>
            <a:ext cx="166680" cy="1476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657920" y="535680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005680" y="5516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469360" y="55357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59920" y="533232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73520" y="53715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140680" y="5170320"/>
            <a:ext cx="85680" cy="690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335720" y="5167440"/>
            <a:ext cx="85680" cy="699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13440" y="516564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6784920" y="5324400"/>
            <a:ext cx="428400" cy="370080"/>
            <a:chOff x="6784920" y="5324400"/>
            <a:chExt cx="428400" cy="370080"/>
          </a:xfrm>
        </p:grpSpPr>
        <p:sp>
          <p:nvSpPr>
            <p:cNvPr id="2000" name=""/>
            <p:cNvSpPr/>
            <p:nvPr/>
          </p:nvSpPr>
          <p:spPr>
            <a:xfrm>
              <a:off x="6784920" y="5324400"/>
              <a:ext cx="428400" cy="36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95880" y="5324400"/>
              <a:ext cx="211320" cy="365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84920" y="5324400"/>
              <a:ext cx="422280" cy="370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787800" y="53636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32360" y="2803680"/>
            <a:ext cx="22860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137280" y="2803680"/>
            <a:ext cx="76320" cy="1828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91920" y="6084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w is this det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221-F5E2-402C-B755-DD4178C8CFE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5367C-65BB-46EA-B951-6C05A6C3415C}" type="datetime1">
              <a:rPr lang="en-US"/>
              <a:t>07/29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oftware Scheduling to Avoid Load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ast c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,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,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,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,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141920" y="6156360"/>
            <a:ext cx="65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r optimizes for performance.  Hardware checks for saf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569-99C2-4E7C-BFCA-75E7B465B3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47410-9210-4B15-A752-40449BAE1D1E}" type="datetime1">
              <a:rPr lang="en-US"/>
              <a:t>07/29/26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F19-2ADA-4386-B47F-3643C262F7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DE918-2A20-41D4-A69E-0358C74E23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trol Hazard on Branches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Stage Stal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427120" y="129528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54320" y="1447920"/>
            <a:ext cx="3480480" cy="3797640"/>
            <a:chOff x="454320" y="1447920"/>
            <a:chExt cx="3480480" cy="3797640"/>
          </a:xfrm>
        </p:grpSpPr>
        <p:sp>
          <p:nvSpPr>
            <p:cNvPr id="2018" name=""/>
            <p:cNvSpPr/>
            <p:nvPr/>
          </p:nvSpPr>
          <p:spPr>
            <a:xfrm>
              <a:off x="454680" y="1447920"/>
              <a:ext cx="310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4320" y="2324160"/>
              <a:ext cx="32904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4680" y="316224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4680" y="401940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520" y="4790880"/>
              <a:ext cx="34732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2286000" y="1819440"/>
            <a:ext cx="1447920" cy="3057480"/>
          </a:xfrm>
          <a:custGeom>
            <a:avLst/>
            <a:gdLst/>
            <a:ahLst/>
            <a:rect l="l" t="t" r="r" b="b"/>
            <a:pathLst>
              <a:path w="960" h="1920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1728"/>
                </a:lnTo>
                <a:lnTo>
                  <a:pt x="48" y="1728"/>
                </a:lnTo>
                <a:lnTo>
                  <a:pt x="48" y="19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809880" y="1295280"/>
            <a:ext cx="5791320" cy="4057200"/>
            <a:chOff x="3809880" y="1295280"/>
            <a:chExt cx="5791320" cy="4057200"/>
          </a:xfrm>
        </p:grpSpPr>
        <p:grpSp>
          <p:nvGrpSpPr>
            <p:cNvPr id="2025" name=""/>
            <p:cNvGrpSpPr/>
            <p:nvPr/>
          </p:nvGrpSpPr>
          <p:grpSpPr>
            <a:xfrm>
              <a:off x="5159160" y="3001680"/>
              <a:ext cx="3113280" cy="699840"/>
              <a:chOff x="5159160" y="3001680"/>
              <a:chExt cx="3113280" cy="6998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912280" y="3166560"/>
                <a:ext cx="420120" cy="370080"/>
                <a:chOff x="5912280" y="3166560"/>
                <a:chExt cx="420120" cy="370080"/>
              </a:xfrm>
            </p:grpSpPr>
            <p:grpSp>
              <p:nvGrpSpPr>
                <p:cNvPr id="2027" name=""/>
                <p:cNvGrpSpPr/>
                <p:nvPr/>
              </p:nvGrpSpPr>
              <p:grpSpPr>
                <a:xfrm>
                  <a:off x="5942520" y="3166560"/>
                  <a:ext cx="351360" cy="370080"/>
                  <a:chOff x="5942520" y="3166560"/>
                  <a:chExt cx="351360" cy="370080"/>
                </a:xfrm>
              </p:grpSpPr>
              <p:sp>
                <p:nvSpPr>
                  <p:cNvPr id="2028" name=""/>
                  <p:cNvSpPr/>
                  <p:nvPr/>
                </p:nvSpPr>
                <p:spPr>
                  <a:xfrm>
                    <a:off x="6118200" y="3166560"/>
                    <a:ext cx="1756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5942520" y="3166560"/>
                    <a:ext cx="3513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0" name=""/>
                <p:cNvSpPr/>
                <p:nvPr/>
              </p:nvSpPr>
              <p:spPr>
                <a:xfrm>
                  <a:off x="5912280" y="3205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1" name=""/>
              <p:cNvSpPr/>
              <p:nvPr/>
            </p:nvSpPr>
            <p:spPr>
              <a:xfrm>
                <a:off x="6294960" y="32414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94960" y="3461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11400" y="3057120"/>
                <a:ext cx="336600" cy="588960"/>
                <a:chOff x="6611400" y="3057120"/>
                <a:chExt cx="336600" cy="588960"/>
              </a:xfrm>
            </p:grpSpPr>
            <p:sp>
              <p:nvSpPr>
                <p:cNvPr id="2034" name=""/>
                <p:cNvSpPr/>
                <p:nvPr/>
              </p:nvSpPr>
              <p:spPr>
                <a:xfrm rot="16200000">
                  <a:off x="6484320" y="320364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400000">
                  <a:off x="6595200" y="32724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5400000">
                  <a:off x="6608160" y="329076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6607080" y="31892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6930000" y="33523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600320" y="33523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7103880" y="3168360"/>
                <a:ext cx="592200" cy="368280"/>
                <a:chOff x="7103880" y="3168360"/>
                <a:chExt cx="592200" cy="368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7224120" y="316836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03880" y="32068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7177320" y="335232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78920" y="34635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31400" y="32414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5159160" y="3168360"/>
                <a:ext cx="557280" cy="368280"/>
                <a:chOff x="5159160" y="3168360"/>
                <a:chExt cx="557280" cy="368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256720" y="316836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59160" y="32068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5719680" y="3001680"/>
                <a:ext cx="2054880" cy="699840"/>
                <a:chOff x="5719680" y="3001680"/>
                <a:chExt cx="2054880" cy="6998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6381000" y="300168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0364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71968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042320" y="300564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7852320" y="3153960"/>
                <a:ext cx="420120" cy="369720"/>
                <a:chOff x="7852320" y="3153960"/>
                <a:chExt cx="420120" cy="369720"/>
              </a:xfrm>
            </p:grpSpPr>
            <p:grpSp>
              <p:nvGrpSpPr>
                <p:cNvPr id="2055" name=""/>
                <p:cNvGrpSpPr/>
                <p:nvPr/>
              </p:nvGrpSpPr>
              <p:grpSpPr>
                <a:xfrm>
                  <a:off x="7896960" y="3153960"/>
                  <a:ext cx="353520" cy="369720"/>
                  <a:chOff x="7896960" y="3153960"/>
                  <a:chExt cx="353520" cy="36972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 flipH="1">
                    <a:off x="7896600" y="315396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7896960" y="315396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H="1">
                  <a:off x="7851960" y="31924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9" name=""/>
            <p:cNvGrpSpPr/>
            <p:nvPr/>
          </p:nvGrpSpPr>
          <p:grpSpPr>
            <a:xfrm>
              <a:off x="4491720" y="2151000"/>
              <a:ext cx="3115440" cy="699840"/>
              <a:chOff x="4491720" y="2151000"/>
              <a:chExt cx="3115440" cy="69984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5245560" y="2315880"/>
                <a:ext cx="420120" cy="370080"/>
                <a:chOff x="5245560" y="2315880"/>
                <a:chExt cx="420120" cy="37008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5277600" y="2315880"/>
                  <a:ext cx="350640" cy="370080"/>
                  <a:chOff x="5277600" y="2315880"/>
                  <a:chExt cx="350640" cy="37008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5452920" y="231588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5277600" y="23158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4" name=""/>
                <p:cNvSpPr/>
                <p:nvPr/>
              </p:nvSpPr>
              <p:spPr>
                <a:xfrm>
                  <a:off x="5245560" y="2354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>
                <a:off x="5628600" y="2390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8600" y="26110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5945760" y="2206440"/>
                <a:ext cx="330120" cy="588960"/>
                <a:chOff x="5945760" y="2206440"/>
                <a:chExt cx="330120" cy="588960"/>
              </a:xfrm>
            </p:grpSpPr>
            <p:sp>
              <p:nvSpPr>
                <p:cNvPr id="2068" name=""/>
                <p:cNvSpPr/>
                <p:nvPr/>
              </p:nvSpPr>
              <p:spPr>
                <a:xfrm rot="16200000">
                  <a:off x="5818320" y="235296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5400000">
                  <a:off x="5929560" y="242208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5400000">
                  <a:off x="5942160" y="244008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rot="16200000">
                  <a:off x="5934960" y="23418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6264000" y="25016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934320" y="25016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4" name=""/>
              <p:cNvGrpSpPr/>
              <p:nvPr/>
            </p:nvGrpSpPr>
            <p:grpSpPr>
              <a:xfrm>
                <a:off x="6437520" y="2317680"/>
                <a:ext cx="592200" cy="368280"/>
                <a:chOff x="6437520" y="2317680"/>
                <a:chExt cx="592200" cy="36828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557760" y="231768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37520" y="2356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6510960" y="250164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912920" y="261288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65400" y="23907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4491720" y="2317680"/>
                <a:ext cx="557280" cy="368280"/>
                <a:chOff x="4491720" y="2317680"/>
                <a:chExt cx="557280" cy="36828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4591800" y="231768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491720" y="2356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5053680" y="2151000"/>
                <a:ext cx="2054520" cy="699840"/>
                <a:chOff x="5053680" y="2151000"/>
                <a:chExt cx="2054520" cy="69984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715000" y="215100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0372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0536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375960" y="215496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7187040" y="2303280"/>
                <a:ext cx="420120" cy="369720"/>
                <a:chOff x="7187040" y="2303280"/>
                <a:chExt cx="420120" cy="36972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7232400" y="2303280"/>
                  <a:ext cx="353880" cy="369720"/>
                  <a:chOff x="7232400" y="2303280"/>
                  <a:chExt cx="353880" cy="36972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>
                    <a:off x="7232040" y="230328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7232040" y="2303280"/>
                    <a:ext cx="353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 flipH="1">
                  <a:off x="7186680" y="2341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3" name=""/>
            <p:cNvGrpSpPr/>
            <p:nvPr/>
          </p:nvGrpSpPr>
          <p:grpSpPr>
            <a:xfrm>
              <a:off x="3837960" y="1325160"/>
              <a:ext cx="3113280" cy="699840"/>
              <a:chOff x="3837960" y="1325160"/>
              <a:chExt cx="3113280" cy="699840"/>
            </a:xfrm>
          </p:grpSpPr>
          <p:grpSp>
            <p:nvGrpSpPr>
              <p:cNvPr id="2094" name=""/>
              <p:cNvGrpSpPr/>
              <p:nvPr/>
            </p:nvGrpSpPr>
            <p:grpSpPr>
              <a:xfrm>
                <a:off x="4590720" y="1490040"/>
                <a:ext cx="420120" cy="370080"/>
                <a:chOff x="4590720" y="1490040"/>
                <a:chExt cx="420120" cy="37008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4622760" y="1490040"/>
                  <a:ext cx="351000" cy="370080"/>
                  <a:chOff x="4622760" y="1490040"/>
                  <a:chExt cx="351000" cy="3700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4798440" y="149004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22760" y="149004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8" name=""/>
                <p:cNvSpPr/>
                <p:nvPr/>
              </p:nvSpPr>
              <p:spPr>
                <a:xfrm>
                  <a:off x="4590720" y="15285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4975200" y="15649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75200" y="17852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5291640" y="1380600"/>
                <a:ext cx="333360" cy="588960"/>
                <a:chOff x="5291640" y="1380600"/>
                <a:chExt cx="333360" cy="588960"/>
              </a:xfrm>
            </p:grpSpPr>
            <p:sp>
              <p:nvSpPr>
                <p:cNvPr id="2102" name=""/>
                <p:cNvSpPr/>
                <p:nvPr/>
              </p:nvSpPr>
              <p:spPr>
                <a:xfrm rot="16200000">
                  <a:off x="5164560" y="1526760"/>
                  <a:ext cx="588960" cy="29628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5160 h 296280"/>
                    <a:gd name="textAreaBottom" fmla="*/ 231120 h 29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5400000">
                  <a:off x="5275440" y="159588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5400000">
                  <a:off x="5288040" y="1613880"/>
                  <a:ext cx="167040" cy="1220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5284080" y="1514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610240" y="167580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280560" y="167580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5783040" y="1491840"/>
                <a:ext cx="592200" cy="368280"/>
                <a:chOff x="5783040" y="1491840"/>
                <a:chExt cx="592200" cy="3682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904360" y="149184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783040" y="15303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57560" y="167580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59160" y="178704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11640" y="15649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3837960" y="1491840"/>
                <a:ext cx="557280" cy="368280"/>
                <a:chOff x="3837960" y="1491840"/>
                <a:chExt cx="557280" cy="36828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3937680" y="149184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837960" y="15303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4399920" y="1325160"/>
                <a:ext cx="2054880" cy="699840"/>
                <a:chOff x="4399920" y="1325160"/>
                <a:chExt cx="2054880" cy="69984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061240" y="132516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8388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39992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722560" y="132912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6531120" y="1477440"/>
                <a:ext cx="420120" cy="369720"/>
                <a:chOff x="6531120" y="1477440"/>
                <a:chExt cx="420120" cy="36972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6574320" y="1477440"/>
                  <a:ext cx="353520" cy="369720"/>
                  <a:chOff x="6574320" y="1477440"/>
                  <a:chExt cx="353520" cy="3697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 flipH="1">
                    <a:off x="6573960" y="147744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6574320" y="147744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 flipH="1">
                  <a:off x="6530760" y="1515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7" name=""/>
            <p:cNvGrpSpPr/>
            <p:nvPr/>
          </p:nvGrpSpPr>
          <p:grpSpPr>
            <a:xfrm>
              <a:off x="6573240" y="4005000"/>
              <a:ext cx="420120" cy="370080"/>
              <a:chOff x="6573240" y="4005000"/>
              <a:chExt cx="420120" cy="37008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6607440" y="4005000"/>
                <a:ext cx="351360" cy="370080"/>
                <a:chOff x="6607440" y="4005000"/>
                <a:chExt cx="351360" cy="37008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783120" y="4005000"/>
                  <a:ext cx="1756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607440" y="4005000"/>
                  <a:ext cx="3513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6573240" y="40435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960240" y="407952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0240" y="43002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7277040" y="3895560"/>
              <a:ext cx="333000" cy="588960"/>
              <a:chOff x="7277040" y="3895560"/>
              <a:chExt cx="333000" cy="588960"/>
            </a:xfrm>
          </p:grpSpPr>
          <p:sp>
            <p:nvSpPr>
              <p:cNvPr id="2135" name=""/>
              <p:cNvSpPr/>
              <p:nvPr/>
            </p:nvSpPr>
            <p:spPr>
              <a:xfrm rot="16200000">
                <a:off x="7149240" y="4042440"/>
                <a:ext cx="588960" cy="29520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64800 h 295200"/>
                  <a:gd name="textAreaBottom" fmla="*/ 230400 h 29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5400000">
                <a:off x="7260840" y="411120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5400000">
                <a:off x="7273440" y="4129200"/>
                <a:ext cx="167040" cy="1216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7269120" y="4030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7594920" y="419076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65600" y="4190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7767000" y="4006440"/>
              <a:ext cx="592200" cy="368640"/>
              <a:chOff x="7767000" y="4006440"/>
              <a:chExt cx="592200" cy="368640"/>
            </a:xfrm>
          </p:grpSpPr>
          <p:sp>
            <p:nvSpPr>
              <p:cNvPr id="2142" name=""/>
              <p:cNvSpPr/>
              <p:nvPr/>
            </p:nvSpPr>
            <p:spPr>
              <a:xfrm>
                <a:off x="7889400" y="400644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767000" y="40449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7842960" y="4190760"/>
              <a:ext cx="5256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44200" y="43020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97400" y="407952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"/>
            <p:cNvGrpSpPr/>
            <p:nvPr/>
          </p:nvGrpSpPr>
          <p:grpSpPr>
            <a:xfrm>
              <a:off x="5821920" y="4006440"/>
              <a:ext cx="557280" cy="368640"/>
              <a:chOff x="5821920" y="4006440"/>
              <a:chExt cx="557280" cy="368640"/>
            </a:xfrm>
          </p:grpSpPr>
          <p:sp>
            <p:nvSpPr>
              <p:cNvPr id="2148" name=""/>
              <p:cNvSpPr/>
              <p:nvPr/>
            </p:nvSpPr>
            <p:spPr>
              <a:xfrm>
                <a:off x="5923080" y="4006440"/>
                <a:ext cx="3531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21920" y="40449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70473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685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86400" y="3839760"/>
              <a:ext cx="6984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07600" y="3844800"/>
              <a:ext cx="69840" cy="69048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8514720" y="3992400"/>
              <a:ext cx="420120" cy="369720"/>
              <a:chOff x="8514720" y="3992400"/>
              <a:chExt cx="420120" cy="36972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8556120" y="3992400"/>
                <a:ext cx="354600" cy="369720"/>
                <a:chOff x="8556120" y="3992400"/>
                <a:chExt cx="354600" cy="369720"/>
              </a:xfrm>
            </p:grpSpPr>
            <p:sp>
              <p:nvSpPr>
                <p:cNvPr id="2156" name=""/>
                <p:cNvSpPr/>
                <p:nvPr/>
              </p:nvSpPr>
              <p:spPr>
                <a:xfrm flipH="1">
                  <a:off x="8556120" y="3992400"/>
                  <a:ext cx="17712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555760" y="3992400"/>
                  <a:ext cx="354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 flipH="1">
                <a:off x="8514360" y="403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6489720" y="4652640"/>
              <a:ext cx="3111480" cy="699840"/>
              <a:chOff x="6489720" y="4652640"/>
              <a:chExt cx="3111480" cy="69984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7239600" y="4817520"/>
                <a:ext cx="420120" cy="370080"/>
                <a:chOff x="7239600" y="4817520"/>
                <a:chExt cx="420120" cy="37008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7273440" y="4817520"/>
                  <a:ext cx="351000" cy="370080"/>
                  <a:chOff x="7273440" y="4817520"/>
                  <a:chExt cx="351000" cy="370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7449120" y="481752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273440" y="481752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4" name=""/>
                <p:cNvSpPr/>
                <p:nvPr/>
              </p:nvSpPr>
              <p:spPr>
                <a:xfrm>
                  <a:off x="7239600" y="48560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"/>
              <p:cNvSpPr/>
              <p:nvPr/>
            </p:nvSpPr>
            <p:spPr>
              <a:xfrm>
                <a:off x="7625160" y="48924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625160" y="51127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7942320" y="4708080"/>
                <a:ext cx="330120" cy="588960"/>
                <a:chOff x="7942320" y="4708080"/>
                <a:chExt cx="330120" cy="588960"/>
              </a:xfrm>
            </p:grpSpPr>
            <p:sp>
              <p:nvSpPr>
                <p:cNvPr id="2168" name=""/>
                <p:cNvSpPr/>
                <p:nvPr/>
              </p:nvSpPr>
              <p:spPr>
                <a:xfrm rot="16200000">
                  <a:off x="7814880" y="485460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5400000">
                  <a:off x="7926120" y="492372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5400000">
                  <a:off x="7938720" y="494172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6200000">
                  <a:off x="7931520" y="4843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2" name=""/>
              <p:cNvSpPr/>
              <p:nvPr/>
            </p:nvSpPr>
            <p:spPr>
              <a:xfrm>
                <a:off x="8260560" y="50032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930880" y="50032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4" name=""/>
              <p:cNvGrpSpPr/>
              <p:nvPr/>
            </p:nvGrpSpPr>
            <p:grpSpPr>
              <a:xfrm>
                <a:off x="8432280" y="4819320"/>
                <a:ext cx="592200" cy="368280"/>
                <a:chOff x="8432280" y="4819320"/>
                <a:chExt cx="592200" cy="368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554320" y="48193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432280" y="48578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"/>
              <p:cNvSpPr/>
              <p:nvPr/>
            </p:nvSpPr>
            <p:spPr>
              <a:xfrm>
                <a:off x="8507520" y="500328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909480" y="51145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861960" y="48924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6489720" y="4819320"/>
                <a:ext cx="557280" cy="368280"/>
                <a:chOff x="6489720" y="4819320"/>
                <a:chExt cx="557280" cy="368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6587280" y="481932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489720" y="48578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7050240" y="4652640"/>
                <a:ext cx="2054520" cy="699840"/>
                <a:chOff x="7050240" y="4652640"/>
                <a:chExt cx="2054520" cy="6998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7711560" y="465264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90338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0502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372520" y="465660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81080" y="4804920"/>
                <a:ext cx="420120" cy="369720"/>
                <a:chOff x="9181080" y="4804920"/>
                <a:chExt cx="420120" cy="3697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9224280" y="4804920"/>
                  <a:ext cx="353520" cy="369720"/>
                  <a:chOff x="9224280" y="4804920"/>
                  <a:chExt cx="353520" cy="369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flipH="1">
                    <a:off x="9223920" y="480492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9224280" y="48049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 flipH="1">
                  <a:off x="9180720" y="4843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3" name=""/>
            <p:cNvSpPr/>
            <p:nvPr/>
          </p:nvSpPr>
          <p:spPr>
            <a:xfrm>
              <a:off x="6413040" y="463860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2680" y="1676160"/>
              <a:ext cx="598680" cy="3276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33880" y="297144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86600" y="211752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09880" y="129528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548640" y="5486400"/>
            <a:ext cx="512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at do you do with the 3 instructions in betwe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How do you do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ere is the “commi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C92-32E0-488F-B501-0440336C945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091FB-DE66-4E3D-839A-66F07067F0EF}" type="datetime1">
              <a:rPr lang="en-US"/>
              <a:t>07/29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ranch Stall Impac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PI = 1, 30% branch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 3 cycles =&gt; new CPI = 1.9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t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branch taken or not sooner,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taken branch address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branch tests if register = 0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Zero test to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r to calculate new PC in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cycle penalty for branch versu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405-DD82-4DD9-9683-8DE0C4E865A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6675A-8207-44AD-BD06-122DEC248303}" type="datetime1">
              <a:rPr lang="en-US"/>
              <a:t>07/29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 rot="16200000">
            <a:off x="3206520" y="2377440"/>
            <a:ext cx="771480" cy="434880"/>
          </a:xfrm>
          <a:custGeom>
            <a:avLst/>
            <a:gdLst>
              <a:gd name="textAreaLeft" fmla="*/ 169560 w 771480"/>
              <a:gd name="textAreaRight" fmla="*/ 601920 w 771480"/>
              <a:gd name="textAreaTop" fmla="*/ 95400 h 434880"/>
              <a:gd name="textAreaBottom" fmla="*/ 33948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rot="5400000">
            <a:off x="3205800" y="24332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207" name="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4, page A-3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219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220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2760" y="1819440"/>
            <a:ext cx="3936960" cy="1812600"/>
          </a:xfrm>
          <a:custGeom>
            <a:avLst/>
            <a:gdLst/>
            <a:ahLst/>
            <a:rect l="l" t="t" r="r" b="b"/>
            <a:pathLst>
              <a:path w="2480" h="1142">
                <a:moveTo>
                  <a:pt x="2234" y="288"/>
                </a:moveTo>
                <a:lnTo>
                  <a:pt x="2480" y="288"/>
                </a:lnTo>
                <a:lnTo>
                  <a:pt x="2480" y="0"/>
                </a:lnTo>
                <a:lnTo>
                  <a:pt x="0" y="4"/>
                </a:lnTo>
                <a:lnTo>
                  <a:pt x="2" y="1142"/>
                </a:lnTo>
                <a:lnTo>
                  <a:pt x="171" y="1142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029200" y="3952800"/>
            <a:ext cx="208296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252" name="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255" name="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826160" y="4114800"/>
            <a:ext cx="457200" cy="7524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149640" y="4867200"/>
            <a:ext cx="149868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58920" y="2057400"/>
            <a:ext cx="1903320" cy="523800"/>
          </a:xfrm>
          <a:custGeom>
            <a:avLst/>
            <a:gdLst/>
            <a:ahLst/>
            <a:rect l="l" t="t" r="r" b="b"/>
            <a:pathLst>
              <a:path w="1199" h="330">
                <a:moveTo>
                  <a:pt x="0" y="330"/>
                </a:moveTo>
                <a:lnTo>
                  <a:pt x="173" y="330"/>
                </a:lnTo>
                <a:lnTo>
                  <a:pt x="173" y="0"/>
                </a:lnTo>
                <a:lnTo>
                  <a:pt x="1199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2264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895480" y="1818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8520" y="5921280"/>
            <a:ext cx="748656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283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5400000">
            <a:off x="3340080" y="2494080"/>
            <a:ext cx="231840" cy="18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4382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48" y="96"/>
                </a:lnTo>
                <a:lnTo>
                  <a:pt x="4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294" name="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419720" y="2743200"/>
            <a:ext cx="152280" cy="609480"/>
          </a:xfrm>
          <a:custGeom>
            <a:avLst/>
            <a:gdLst/>
            <a:ahLst/>
            <a:rect l="l" t="t" r="r" b="b"/>
            <a:pathLst>
              <a:path w="96" h="768">
                <a:moveTo>
                  <a:pt x="96" y="768"/>
                </a:move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48120" y="2819520"/>
            <a:ext cx="1371600" cy="2666880"/>
          </a:xfrm>
          <a:custGeom>
            <a:avLst/>
            <a:gdLst/>
            <a:ahLst/>
            <a:rect l="l" t="t" r="r" b="b"/>
            <a:pathLst>
              <a:path w="864" h="1680">
                <a:moveTo>
                  <a:pt x="864" y="1296"/>
                </a:moveTo>
                <a:lnTo>
                  <a:pt x="864" y="1680"/>
                </a:lnTo>
                <a:lnTo>
                  <a:pt x="0" y="1680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313-2BA5-4198-BF86-AF0DB2A5FA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51A79-CD6D-4606-B606-D19DC0198A47}" type="datetime1">
              <a:rPr lang="en-US"/>
              <a:t>07/29/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: Stall until branch direction is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: Predict Branch Not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successor instructions in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sh” instructions in pipeline if branch actually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 of late pipeline stat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% MIPS branches not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+4 already calculated, so use it to get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: Predict Branch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MIPS branches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But haven’t calculated branch target address in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still incurs 1 cycle branch penal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chines: branch target known before outc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17C-7E8C-44E8-879F-08530C755C8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583BE-25A4-4A4C-A1D3-601308FE1692}" type="datetime1">
              <a:rPr lang="en-US"/>
              <a:t>07/29/26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841320" y="1933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844200" y="1980720"/>
            <a:ext cx="7543800" cy="33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: 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ranch to take plac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llowing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lot delay allows proper decision and branch target address in 5 stag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uses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526360" y="3616200"/>
            <a:ext cx="297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 delay of length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407-133A-4949-B243-7603D84A9B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EEAE0-10C0-413B-A986-0D1FBE563959}" type="datetime1">
              <a:rPr lang="en-US"/>
              <a:t>07/29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Scheduling Branch Delay Slots (Fig A.14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5334120"/>
            <a:ext cx="8788680" cy="12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s the best choice, fills delay slot &amp; reduces instruction count (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 may need to be copied, increasing 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 and C, must be okay to exec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branch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621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0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144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5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4290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3244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68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24382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5053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5812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576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100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4097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48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3244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4008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1532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83818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0773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5812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244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685800" y="2971800"/>
            <a:ext cx="1143000" cy="439200"/>
            <a:chOff x="685800" y="2971800"/>
            <a:chExt cx="1143000" cy="439200"/>
          </a:xfrm>
        </p:grpSpPr>
        <p:sp>
          <p:nvSpPr>
            <p:cNvPr id="2332" name=""/>
            <p:cNvSpPr/>
            <p:nvPr/>
          </p:nvSpPr>
          <p:spPr>
            <a:xfrm>
              <a:off x="18288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858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3581280" y="2971800"/>
            <a:ext cx="1143000" cy="439200"/>
            <a:chOff x="3581280" y="2971800"/>
            <a:chExt cx="1143000" cy="439200"/>
          </a:xfrm>
        </p:grpSpPr>
        <p:sp>
          <p:nvSpPr>
            <p:cNvPr id="2335" name=""/>
            <p:cNvSpPr/>
            <p:nvPr/>
          </p:nvSpPr>
          <p:spPr>
            <a:xfrm>
              <a:off x="47242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812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324480" y="2971800"/>
            <a:ext cx="1143000" cy="439200"/>
            <a:chOff x="6324480" y="2971800"/>
            <a:chExt cx="1143000" cy="439200"/>
          </a:xfrm>
        </p:grpSpPr>
        <p:sp>
          <p:nvSpPr>
            <p:cNvPr id="2338" name=""/>
            <p:cNvSpPr/>
            <p:nvPr/>
          </p:nvSpPr>
          <p:spPr>
            <a:xfrm>
              <a:off x="7467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24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62120" y="3338640"/>
            <a:ext cx="2286000" cy="1842480"/>
            <a:chOff x="762120" y="3338640"/>
            <a:chExt cx="2286000" cy="1842480"/>
          </a:xfrm>
        </p:grpSpPr>
        <p:sp>
          <p:nvSpPr>
            <p:cNvPr id="2341" name=""/>
            <p:cNvSpPr/>
            <p:nvPr/>
          </p:nvSpPr>
          <p:spPr>
            <a:xfrm>
              <a:off x="7621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380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44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68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954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4382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505320" y="3338640"/>
            <a:ext cx="2286000" cy="1828800"/>
            <a:chOff x="3505320" y="3338640"/>
            <a:chExt cx="2286000" cy="1828800"/>
          </a:xfrm>
        </p:grpSpPr>
        <p:sp>
          <p:nvSpPr>
            <p:cNvPr id="2348" name=""/>
            <p:cNvSpPr/>
            <p:nvPr/>
          </p:nvSpPr>
          <p:spPr>
            <a:xfrm>
              <a:off x="35053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812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576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386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8006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48520" y="3338640"/>
            <a:ext cx="2286000" cy="1842480"/>
            <a:chOff x="6248520" y="3338640"/>
            <a:chExt cx="2286000" cy="1842480"/>
          </a:xfrm>
        </p:grpSpPr>
        <p:sp>
          <p:nvSpPr>
            <p:cNvPr id="2355" name=""/>
            <p:cNvSpPr/>
            <p:nvPr/>
          </p:nvSpPr>
          <p:spPr>
            <a:xfrm>
              <a:off x="62485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244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008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2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3818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2385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406-3FBF-4152-B0C5-DA0F06622D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A9AF1-3F2E-4E66-A46B-472F1F7D43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layed Bran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effectiveness for single branch delay sl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s about 60% of branch delay s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80% of instructions executed in branch delay slots useful in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50% (60% x 80%) of slots usefully fi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 downside: As processor go to deeper pipelines and multiple issue, the branch delay grows and need more than one delay s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 branching has lost popularity compared to more expensive but more flexible dynamic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in available transistors has made dynamic approaches relatively che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CBD-C30E-441F-B151-83C0063C23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CAE34-0E05-4F72-AF67-2CBEF514EFB6}" type="datetime1">
              <a:rPr lang="en-US"/>
              <a:t>07/29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--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2AF-3E55-40A3-9692-F27045E6C8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824DC-4115-46CB-A9D4-FD399C6432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valuating Branch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4764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4% unconditional branch, 6% conditional branch- untaken, 10% conditional branch-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che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enalt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pipeline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l pip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no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 bra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5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CE7-663D-4B78-AD0C-A50C3C1038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2F1F5-D4F2-41F2-AC38-64FA05C487AF}" type="datetime1">
              <a:rPr lang="en-US"/>
              <a:t>07/29/26</a:t>
            </a:fld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unusual event happens to an instruction during its execution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divide by zero, undefined op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rru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Hardware signal to switch the processor to a new instruction strea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 sound card interrupts when it needs more audio output samples (an audio “click” happens if it is left wai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t must appear that the exception or interrupt must appear between 2 instructions (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all instructions up to and including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otalling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f any instruction after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ake 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rupt (exception) handler either aborts program or restarts at instructio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12B-55C4-47D7-844F-9C8A84BC7C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98755-BFC8-4732-B0A0-166EBB51ED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97000" y="-11520"/>
            <a:ext cx="8240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ecise Exceptions in Static Pipeli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846440" y="1116000"/>
            <a:ext cx="5287680" cy="573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57360" y="5483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observation: architected state only change in memory and register writ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63520" y="228240"/>
            <a:ext cx="8701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:  Control and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A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VI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e Mach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cro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overlap tasks; easy if tasks 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U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peline Depth; if ideal CPI is 1, the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 limit performance on comput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: need more HW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(RAW,WAR,WAW): need forwarding, compiler schedu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: delayed branch, predi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, Interrupts add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C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723960" y="343836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954-BC12-47D3-8FD4-E9F6EDDEBE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900E1-8877-47ED-B315-65911A0B84FD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CB5-EDF2-4DB1-93B0-0614319F2E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4DA9E-1F94-44D3-BD79-185E802891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D67-D9C5-4AB8-BE84-1B9FC8403E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C5F26-D555-471F-9E32-D9D6EAC1A6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E16-3139-40A6-A825-0143C76B59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9EBDD-ACF3-4130-B6EC-3EEDF5BADB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457-6F58-421F-9CC4-5FBBF3D992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CFE9C-3745-4903-B946-3D780DB497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5T15:09:01Z</dcterms:modified>
  <cp:revision>111</cp:revision>
  <dc:subject/>
  <dc:title>EECS 252 Graduate Computer Architecture   Lec 01 - Introduction  </dc:title>
</cp:coreProperties>
</file>