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1CB-AC7A-46E5-B25C-C7E014A8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EF4-FDC4-4B53-984A-7388E670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A21-0DD2-4A4B-9EB1-50364857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9B5-DFA8-4E96-9630-EA8B046C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0D7-7183-4D4C-9407-61ADB321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8EC-ED98-4EFE-AB8C-31BA64F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068-3313-44C9-81F7-B9132F4F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9A5-A4A7-4F58-97FF-65627364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040-08E3-4ADB-B669-33564764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672-28CF-4DF8-A192-29C67333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76B-B62C-4666-97A0-D612373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5C2-A9BE-4485-83D7-EF12FC07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229D-DE4E-42C3-9A7F-859F5B35A888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B4B0-855E-4401-A18E-539A63786FBA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1.png"/><Relationship Id="rId46" Type="http://schemas.openxmlformats.org/officeDocument/2006/relationships/image" Target="../media/image10.png"/><Relationship Id="rId47" Type="http://schemas.openxmlformats.org/officeDocument/2006/relationships/image" Target="../media/image11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0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0.png"/><Relationship Id="rId60" Type="http://schemas.openxmlformats.org/officeDocument/2006/relationships/image" Target="../media/image12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9 – Limits to ILP  and Simultaneous Multithreading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501920"/>
          <a:ext cx="8915400" cy="52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1920"/>
                    <a:ext cx="891540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from Infinite window 2048, 512, 128, 3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3400" y="12952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9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3320" y="289548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8 - 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086-F3D5-4344-83EE-965BCE97F8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7B7BD-CB93-4015-B114-00DB917F8BAF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s. 8K Tournament vs. 512 2-bit vs. profile vs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5D2-1CCB-41E2-AA47-4898C8DCDE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F47C1-8E3E-4DFB-B4A8-F1DE9BB24E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9480" y="1244520"/>
          <a:ext cx="820440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44520"/>
                    <a:ext cx="820440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99600"/>
            <a:ext cx="84772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Branch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3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0800" y="971280"/>
            <a:ext cx="3886200" cy="20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from Infinite window to examine to 2048 and maximum issue of 64 instructions per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2400" y="64674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50000" y="6467400"/>
            <a:ext cx="124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BHT (5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04480" y="646740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ourn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64440" y="646740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6840" y="6505560"/>
            <a:ext cx="165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0081"/>
                </a:solidFill>
                <a:latin typeface="Arial"/>
              </a:rPr>
              <a:t>No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23480" y="10144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5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1480" y="309096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0C1-2902-49B5-87F7-818DB06D2D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E1BD0-9F78-49E8-BC1F-17878C257729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isprediction Rat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066680"/>
          <a:ext cx="9144000" cy="51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462-B31A-459C-B412-727A4CBA17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B35F3-98C1-4F48-A638-0AB864D96A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04920" y="1143000"/>
          <a:ext cx="8229600" cy="511956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. 256, 128, 64, 32, non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 Branch Predi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0B4-C9CC-4FCD-8D56-6C3EDB328B8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949BE-1437-4DFC-9585-8CFD856B69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68280" y="1157400"/>
          <a:ext cx="8178840" cy="53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157400"/>
                    <a:ext cx="8178840" cy="53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820000" cy="1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naming Register Impact (N int + N fp) 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3.5</a:t>
            </a:r>
            <a:endParaRPr b="1" lang="en-US" sz="1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90680" y="1619280"/>
            <a:ext cx="361944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656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4160" y="638964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780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1480" y="638964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500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144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000" y="34290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5 -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2600" y="112860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1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900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E28-6107-4F49-8E2D-5E41618A3D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EDB33-1AA0-4D2B-8DC8-7EC7388334A1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04920" y="1143000"/>
          <a:ext cx="8229600" cy="53182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5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256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. Stack v. Inspect v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940-928F-4FE7-B5AE-D1E2306AABA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9FB2A-F91B-4DA1-A701-1A23A5DFC8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5040" y="927000"/>
            <a:ext cx="8496360" cy="5384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emory Address Alias Imp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6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36576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, 256 renaming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18760" y="609768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6960" y="6097680"/>
            <a:ext cx="2792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Global/Stack perf;</a:t>
            </a: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eap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1760" y="6097680"/>
            <a:ext cx="121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4880" y="6097680"/>
            <a:ext cx="1265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spec.</a:t>
            </a:r>
            <a:br>
              <a:rPr sz="2400"/>
            </a:b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ss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1800" y="1795320"/>
            <a:ext cx="153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4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e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69800" y="3262320"/>
            <a:ext cx="199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4 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464-2762-419D-813D-C59D1C434B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E6ED5-797B-4390-9C58-E48436F63A39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143000"/>
          <a:ext cx="8229600" cy="50734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 (no restrict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s. 256, 128, 64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64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1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 disambig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30E-3F8A-400A-BD5D-3FDE62BF5E2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175E4-E4A8-49BE-9C82-4DCB4C07F3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4160" y="993600"/>
            <a:ext cx="8623080" cy="5524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628200"/>
            <a:ext cx="88963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7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05792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disambiguation (HW), 1K Selective Prediction, 16 entry return, 64 registers, issue as many a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48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50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124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7200" y="635148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9952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152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456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2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7560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7480" y="37386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1360" y="200484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8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28800" y="360756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DE6-70ED-4A58-9F75-58BE1900A4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47F7F-3086-433F-BFE8-9108A24F6F19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55C-03A4-4AA0-8CF6-2CBF2B5B80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71CD9-ECA5-4E52-88A9-D57BC45051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mework Assignment due Fri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Friday Reading Assignment: “Simultaneous Multithreading: A Platform for Next-generation Processors,” Susan J. Eggers et al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EEE 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What performance advantages claimed? For what workload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mpare to Wall’s ILP limit clai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906-8D98-4813-A9BB-FD5BC98555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18585-DD65-44B2-8DD2-6F7D70F55913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7B3-51E6-4A35-B131-7B4BCCF4E8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3B089-18FE-469D-900A-0CDD5AAE67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9246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to Exceed ILP Limits of this study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not laws of physics; just practical limits for today, and perhaps overcome via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and ISA advances could chang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and WAW hazards through memory: eliminated WAW and WAR hazards through register renaming, but not in memory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t conflicts via allocation of stack frames as a called procedure reuses the memory addresses of a previous frame on the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6C1-971A-4A9D-A71F-98D73104B6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4C1AE-8E9C-4B98-AA8C-DF90E2715F79}" type="datetime1">
              <a:rPr lang="en-US"/>
              <a:t>07/29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v. SW to increase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disambiguation: HW b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ul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best when dynamic branch prediction better than compile tim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easier for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doesn’t need bookkeeping code or compensatio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complicated to ge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: SW can look ahead to schedule b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 independence: does not require new compiler, recompilation to run w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293-4DC9-4588-9BB7-1DA3EB7A58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F782C-9C7D-4201-8FDD-2CC472FB49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Performance beyond single thread ILP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can be much higher natural parallelism in some appli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.g., Database or Scientific cod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Level Paralle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rocess with own instructions an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 may be a process part of a parallel program of multiple processes, or it may be an independent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has all the state (instructions, data, PC, register state, and so on) necessary to allow it to exe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ata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erform identical operations on data, and lots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56F-CF31-4EA7-B548-3E14BFFDCB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D01ED-4A5B-44D5-ABA2-B4C4B5CD90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ad Level Parallelism (TLP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P exploits implicit parallel operations within a loop or straight-line code seg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explicitly represented by the use of multiple threads of execution that are inherently parall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Use multiple instruction streams to impro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 of computers that run many progra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time of multi-threaded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could be more cost-effective to exploit than I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3C3-E8DA-4F39-A207-D896D62BF2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A6CC9-6C56-4D55-88CB-FD45492C9F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Approach: Mulithreaded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threading: multiple threads to share the functional units of 1 processor via overla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or must duplicate independent state of each thread e.g., a separate copy of register file, a separate PC, and for running independent programs, a separate page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shared through the virtual memory mechanisms, which already support multiple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W for fast thread switch; much faster than full process swit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00s to 1000s of c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swit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instruction per thread (fin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thread is stalled, perhaps for a cache miss, another thread can be executed (coars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368-3223-4A86-B8DA-D76FC7CE740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489D2-37F3-4E34-815B-5FC03BF9A39F}" type="datetime1">
              <a:rPr lang="en-US"/>
              <a:t>07/29/26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in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between threads on each instruction, causing the execution of multiples threads to be interlea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done in a round-robin fashion, skipping any stalled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be able to switch threads every c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 is it can hide both short and long stalls, since instructions from other threads executed when one thread stal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it slows down execution of individual threads, since a thread ready to execute without stalls will be delayed by instructions from other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on Sun’s Niagara (will see la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5BF-1CBB-45E8-B87D-FB3E609E2F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D6E86-CE03-4806-850C-B45B37BF69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urs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threads only on costly stalls, such as L2 cache mi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ves need to have very fast thread-swi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slow down thread, since instructions from other threads issued only when the thread encounters a costly st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hard to overcome throughput losses from shorter stalls, due to pipeline start-up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CPU issues instructions from 1 thread, when a stall occurs, the pipeline must be emptied or froz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hread must fill pipeline before instructions can comple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 start-up overhead, coarse-grained multithreading is better for reducing penalty of high cost stalls, where pipeline refill &lt;&lt; stall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IBM AS/4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CE7-5CA1-4B88-8E73-9E50D23DFA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B07AC-5477-48D7-AC77-63E9E2D10F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92520" y="-360"/>
            <a:ext cx="94870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 most apps, most execution units lie id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7920" y="880920"/>
            <a:ext cx="5918040" cy="5977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5097600"/>
            <a:ext cx="1817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From: Tullsen, Eggers, and Lev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Simultaneous Multithreading: Maximizing On-chip Parallelism, ISCA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990720"/>
            <a:ext cx="188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053de8"/>
                </a:solidFill>
                <a:latin typeface="Arial"/>
              </a:rPr>
              <a:t>For an 8-way superscala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7CD-D7FF-4E70-94F6-A256A38BD8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5A6E7-063E-4394-AFEB-0B76E79CCE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o both ILP and TLP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and ILP exploit two different kinds of parallel structure in a progra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a processor oriented at ILP to exploit TL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units are often idle in data path designed for ILP because of either stalls or dependences in the cod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he TLP be used as a source of independent instructions that might keep the processor busy during stall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LP be used to employ the functional units that would otherwise lie idle when insufficient ILP exist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436-1840-4340-B56B-AEFED77B2A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88C57-995C-4989-8D4B-4002170628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-threading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3480" y="167940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085760" y="137160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4920" y="13716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1371600"/>
            <a:ext cx="41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3840" y="1371600"/>
            <a:ext cx="43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8300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296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6840" y="1371600"/>
            <a:ext cx="4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14840" y="137160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760" y="136044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990720"/>
            <a:ext cx="402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thread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6960" y="6389640"/>
            <a:ext cx="853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M = Load/Store, FX = Fixed Point, FP = Floating Point, BR = Branch, CC = 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92720" y="174132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5703840" y="143352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3000" y="14335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11960" y="1433520"/>
            <a:ext cx="41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11920" y="143352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1080" y="1433520"/>
            <a:ext cx="43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01040" y="14335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4920" y="1433520"/>
            <a:ext cx="4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31120" y="14335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142236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066680"/>
            <a:ext cx="4194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hreads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18080" y="701640"/>
            <a:ext cx="0" cy="56008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threading (SMT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(SMT): insight that dynamically scheduled processor already has many HW mechanisms to support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set of virtual registers that can be used to hold the register sets of independent threa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 provides unique register identifiers, so instructions from multiple threads can be mixed in datapath without confusing sources and destinations across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order completion allows the threads to execute out of order, and get better utilization of the H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adding a per thread renaming table and keeping separate P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commitment can be supported by logically keeping a separate reorder buffer for each thr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25280" y="6019200"/>
            <a:ext cx="271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Micrprocessor Report, December 6, 199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“Compaq Chooses SMT for Alph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BC3-C864-4617-82EB-7758D9C090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09313-86FB-43C4-88FF-90D619DCC8A9}" type="datetime1">
              <a:rPr lang="en-US"/>
              <a:t>07/29/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15920" y="330120"/>
            <a:ext cx="65167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threaded Categori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90720" y="1447920"/>
            <a:ext cx="1143000" cy="3581280"/>
            <a:chOff x="990720" y="1447920"/>
            <a:chExt cx="1143000" cy="3581280"/>
          </a:xfrm>
        </p:grpSpPr>
        <p:sp>
          <p:nvSpPr>
            <p:cNvPr id="185" name=""/>
            <p:cNvSpPr/>
            <p:nvPr/>
          </p:nvSpPr>
          <p:spPr>
            <a:xfrm>
              <a:off x="9907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6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5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6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5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512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6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5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72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6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05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90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564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5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5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907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64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56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9072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64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56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512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9564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005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05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564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56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07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64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056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51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07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64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5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51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64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05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514600" y="1447920"/>
            <a:ext cx="1143000" cy="3581280"/>
            <a:chOff x="2514600" y="1447920"/>
            <a:chExt cx="1143000" cy="3581280"/>
          </a:xfrm>
        </p:grpSpPr>
        <p:sp>
          <p:nvSpPr>
            <p:cNvPr id="234" name=""/>
            <p:cNvSpPr/>
            <p:nvPr/>
          </p:nvSpPr>
          <p:spPr>
            <a:xfrm>
              <a:off x="2514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95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4600" y="1752480"/>
              <a:ext cx="22860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1752480"/>
              <a:ext cx="22860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460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952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4600" y="2362320"/>
              <a:ext cx="2286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9520" y="2362320"/>
              <a:ext cx="2286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666880"/>
              <a:ext cx="22860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9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4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90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3276720"/>
              <a:ext cx="22860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276720"/>
              <a:ext cx="22860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3276720"/>
              <a:ext cx="22860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240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5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4600" y="4191120"/>
              <a:ext cx="228600" cy="228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4191120"/>
              <a:ext cx="22860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4080" y="4191120"/>
              <a:ext cx="22860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4191120"/>
              <a:ext cx="228600" cy="228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460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240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38480" y="1447920"/>
            <a:ext cx="1143000" cy="3581280"/>
            <a:chOff x="4038480" y="1447920"/>
            <a:chExt cx="1143000" cy="3581280"/>
          </a:xfrm>
        </p:grpSpPr>
        <p:sp>
          <p:nvSpPr>
            <p:cNvPr id="283" name=""/>
            <p:cNvSpPr/>
            <p:nvPr/>
          </p:nvSpPr>
          <p:spPr>
            <a:xfrm>
              <a:off x="4038480" y="2666880"/>
              <a:ext cx="228600" cy="228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040" y="2666880"/>
              <a:ext cx="228600" cy="228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8480" y="2971800"/>
              <a:ext cx="228600" cy="228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3040" y="2971800"/>
              <a:ext cx="228600" cy="228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7960" y="2971800"/>
              <a:ext cx="228600" cy="2286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38480" y="3276720"/>
              <a:ext cx="228600" cy="228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43040" y="3276720"/>
              <a:ext cx="228600" cy="228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7960" y="3276720"/>
              <a:ext cx="228600" cy="228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3848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04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79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04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4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04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796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28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4495680"/>
              <a:ext cx="228600" cy="228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040" y="4495680"/>
              <a:ext cx="228600" cy="2286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79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28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4800600"/>
              <a:ext cx="228600" cy="2286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4304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79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528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30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79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384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30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479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84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430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79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28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0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479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28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38680" y="1295280"/>
            <a:ext cx="1143000" cy="3962520"/>
            <a:chOff x="5638680" y="1295280"/>
            <a:chExt cx="1143000" cy="3962520"/>
          </a:xfrm>
        </p:grpSpPr>
        <p:sp>
          <p:nvSpPr>
            <p:cNvPr id="332" name=""/>
            <p:cNvSpPr/>
            <p:nvPr/>
          </p:nvSpPr>
          <p:spPr>
            <a:xfrm>
              <a:off x="563868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36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48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386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360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8520" y="2971800"/>
              <a:ext cx="228600" cy="2286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2971800"/>
              <a:ext cx="228600" cy="228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386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3276720"/>
              <a:ext cx="228600" cy="2286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68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360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8520" y="3581280"/>
              <a:ext cx="228600" cy="228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581280"/>
              <a:ext cx="228600" cy="228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3868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436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48520" y="3886200"/>
              <a:ext cx="228600" cy="2286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3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4360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85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308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386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436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4495680"/>
              <a:ext cx="228600" cy="2286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30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86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36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4800600"/>
              <a:ext cx="228600" cy="2286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3080" y="4800600"/>
              <a:ext cx="228600" cy="228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386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8520" y="1447920"/>
              <a:ext cx="228600" cy="2286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53080" y="1447920"/>
              <a:ext cx="228600" cy="2286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36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8520" y="1752480"/>
              <a:ext cx="228600" cy="2286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1752480"/>
              <a:ext cx="228600" cy="2286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360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8520" y="2057400"/>
              <a:ext cx="228600" cy="228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386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360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8520" y="2362320"/>
              <a:ext cx="228600" cy="2286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53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10360" y="1295280"/>
              <a:ext cx="0" cy="3962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238880" y="2666880"/>
            <a:ext cx="228600" cy="2286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2666880"/>
            <a:ext cx="228600" cy="2286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2666880"/>
            <a:ext cx="228600" cy="2286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3280" y="2666880"/>
            <a:ext cx="228600" cy="22860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8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48720" y="3276720"/>
            <a:ext cx="228600" cy="228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53280" y="3276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35812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581280"/>
            <a:ext cx="228600" cy="228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848720" y="35812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3581280"/>
            <a:ext cx="228600" cy="228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48720" y="3886200"/>
            <a:ext cx="228600" cy="228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53280" y="3886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41911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4191120"/>
            <a:ext cx="228600" cy="228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4191120"/>
            <a:ext cx="228600" cy="228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153280" y="41911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44956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495680"/>
            <a:ext cx="228600" cy="228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4495680"/>
            <a:ext cx="228600" cy="2286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4495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4800600"/>
            <a:ext cx="22860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4800600"/>
            <a:ext cx="228600" cy="2286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48720" y="4800600"/>
            <a:ext cx="228600" cy="228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53280" y="4800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1447920"/>
            <a:ext cx="228600" cy="228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53280" y="1447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7524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17524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1752480"/>
            <a:ext cx="228600" cy="228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53280" y="1752480"/>
            <a:ext cx="228600" cy="2286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2057400"/>
            <a:ext cx="228600" cy="22860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4380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84872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2057400"/>
            <a:ext cx="228600" cy="2286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3888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380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48720" y="2362320"/>
            <a:ext cx="228600" cy="2286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53280" y="2362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26800" y="1135440"/>
            <a:ext cx="6678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ime (processor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7720" y="107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er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54480" y="10764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43280" y="1076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76960" y="1055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17560" y="84780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th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09680" y="54864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867280"/>
            <a:ext cx="228600" cy="2286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5867280"/>
            <a:ext cx="228600" cy="2286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5486400"/>
            <a:ext cx="228600" cy="2286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5867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14880" y="539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2100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1672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672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9780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1120" y="57913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dle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9B4-4BBE-45A8-95A2-AEA126DD063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EF9E5-587C-443D-B337-3CBBAC9DD5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Challenges in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SMT makes sense only with fine-grained implementation, impact of fine-grained scheduling on single thread perform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eferred thread approach sacrifices neither throughput nor single-thread performance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fortunately, with a preferred thread, the processor is likely to sacrifice some throughput, when preferred thread st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register file needed to hold multiple contex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ffecting clock cycle time, especially 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issue - more candidate instructions need to be conside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mpletion - choosing which instructions to commit may be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ing that cache and TLB conflicts generated by SMT do not degrad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0C9-DAD6-48F9-B4D8-BA28F9858B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65589-4304-44C0-9F63-5D0DF313CC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79200" y="10800"/>
            <a:ext cx="9555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792840" y="744480"/>
            <a:ext cx="1973160" cy="20732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49400" y="2916360"/>
            <a:ext cx="8638920" cy="326376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239760" y="835200"/>
            <a:ext cx="6367320" cy="2799720"/>
            <a:chOff x="239760" y="835200"/>
            <a:chExt cx="6367320" cy="2799720"/>
          </a:xfrm>
        </p:grpSpPr>
        <p:sp>
          <p:nvSpPr>
            <p:cNvPr id="454" name=""/>
            <p:cNvSpPr/>
            <p:nvPr/>
          </p:nvSpPr>
          <p:spPr>
            <a:xfrm>
              <a:off x="239760" y="835200"/>
              <a:ext cx="636732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ingle-threaded predecessor to Power 5.  8 execution units 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ut-of-order engine, each m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ssue an instruction each cyc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6280" y="2766600"/>
              <a:ext cx="1200240" cy="868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50920" y="12600"/>
            <a:ext cx="8640720" cy="3265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25440" y="3279600"/>
            <a:ext cx="8475840" cy="34592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442880" y="2376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89280" y="328140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7560" y="434988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50800" y="489744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1480" y="5086080"/>
            <a:ext cx="285840" cy="468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78800" y="5371920"/>
            <a:ext cx="903240" cy="20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58240" y="4510080"/>
            <a:ext cx="7254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00960" y="4000680"/>
            <a:ext cx="0" cy="46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760" y="5638680"/>
            <a:ext cx="29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fetch (PC),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initial de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9718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ommits (architected register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0760" y="10800"/>
            <a:ext cx="75106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data flow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9600" y="1185840"/>
            <a:ext cx="9036000" cy="34783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69960" y="4861080"/>
            <a:ext cx="77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only 2 threads? With 4, one of the shared resources (physical registers, cache, memory bandwidth) would be prone to bottlene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7440" y="11160"/>
            <a:ext cx="8390160" cy="75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thread performance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571920" y="1081080"/>
            <a:ext cx="4508280" cy="5776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114800" y="2160720"/>
            <a:ext cx="1463760" cy="66348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17920" y="2595240"/>
            <a:ext cx="2171520" cy="105084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143000"/>
            <a:ext cx="2895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priority of each thread controllable in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3683160"/>
            <a:ext cx="291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alanced operation, both threads run slower than if they “owned” the mach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hanges in  Power 5 to support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associativity of L1 instruction cache and the instruction address translation buff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er thread load and store que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ize of the L2 (1.92 vs. 1.44 MB) and L3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separate instruction prefetch and buffering per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number of virtual registers from 152 to 2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size of several issue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wer5 core is about 24% larger than the Power4 core because of the addition of SM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6B3-C52F-46C4-9EDA-8FE4667AB4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8DDC8-3931-4F7C-8E3F-CA124C26B5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ing studies of am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chmarks (vectorized Fortran FP vs. integer C progra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ILP is available using existing mechanisms with increasing HW budge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e need to invent new HW/SW mechanisms to keep on processor performance cur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MMX, SSE (Streaming SIMD Extensions): 64 bit i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SSE2: 128 bit, including 2 64-bit Fl. Pt. per c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ola AltaVec: 128 bit ints and F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sparc Multimedia op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E00-EDA7-4F7B-B847-82F70C59BE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5E4B3-C7E8-4EF0-A830-D7272FFFBF54}" type="datetime1">
              <a:rPr lang="en-US"/>
              <a:t>07/29/26</a:t>
            </a:fld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itial Performance of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 Extreme SMT yields 1.01 speedup for SPECint_rate benchmark and 1.07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4 is dual threaded SM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Rate requires that each SPEC benchmark be run against a vendor-selected number of copies of the same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on Pentium 4 each of 26 SPEC benchmarks paired with every other (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ns) speed-ups from 0.90 to 1.58; average was 1.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, 8 processor server 1.23 faster for SPECint_rate with SMT, 1.16 faster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 running 2 copies of each app speedup between 0.89 and 1.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gained s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.Pt. apps had most cache conflicts and least ga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61C-A831-46AE-9A94-D264C35C21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5B610-01AE-47DE-A841-6DAD858F11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28600" y="1066680"/>
          <a:ext cx="8686800" cy="4959360"/>
        </p:xfrm>
        <a:graphic>
          <a:graphicData uri="http://schemas.openxmlformats.org/drawingml/2006/table">
            <a:tbl>
              <a:tblPr/>
              <a:tblGrid>
                <a:gridCol w="1380960"/>
                <a:gridCol w="2621160"/>
                <a:gridCol w="1193760"/>
                <a:gridCol w="893880"/>
                <a:gridCol w="811080"/>
                <a:gridCol w="947880"/>
                <a:gridCol w="83808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tch / Issue / 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ck Rate (G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-tor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Pentium 4 Extr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deeply pipelined; SM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int. 1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M    122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D Athlon 64 FX-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3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M 115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Power5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CPU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SMT;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PU cores/c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 300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W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l Itaniu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cally schedul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IW-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/5/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2 M 42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57200" y="304920"/>
            <a:ext cx="7292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ead to Head ILP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A07-7177-4125-B6F9-8BD602CC0F4E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D7D41-BAA1-4945-9915-8365252D7B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int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990720"/>
          <a:ext cx="105156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10515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50B-E40A-498C-B917-8CEBBDC494E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20F26-E48D-4D21-A0F5-D0501998EB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fp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609480"/>
          <a:ext cx="838188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D50-F8DF-403F-8F5A-943DB09A1D1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1B6F6-8341-4B28-8672-7B7C95DC56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rmalized Performance: Efficienc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685800"/>
          <a:ext cx="746784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46784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477120" y="1219320"/>
          <a:ext cx="2438280" cy="4525920"/>
        </p:xfrm>
        <a:graphic>
          <a:graphicData uri="http://schemas.openxmlformats.org/drawingml/2006/table">
            <a:tbl>
              <a:tblPr/>
              <a:tblGrid>
                <a:gridCol w="1066680"/>
                <a:gridCol w="293760"/>
                <a:gridCol w="358560"/>
                <a:gridCol w="360360"/>
                <a:gridCol w="358920"/>
              </a:tblGrid>
              <a:tr h="179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iu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129-C31F-42AA-B834-F6AE8E48E2B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404AF-8061-4427-A7DB-3B02D88FDD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 Silver Bullet for ILP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bvious over all leader i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D Athlon leads on SPECInt performance followed by the Pentium 4, Itanium 2, and Power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and Power5, which perform similarly on SPECFP, clearly dominate the Athlon and Pentium 4 on SPECF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is the most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cessor both for Fl. Pt. and integer code for all but one efficiency measure (SPECFP/Wat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lon and Pentium 4 both make good use of transistors and area in terms of efficiency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Power5 is the most effective user of energy on SPECFP and essentially tied on SPEC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6B5-556B-4922-B41D-1AB91234C5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D0283-DB94-4269-9D42-3A2BF29621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ing issue rates above today’s 3-6 instructions per clock, say to 6 to 12 instructions, probably requires a processor 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3 or 4 data memory access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2 or 3 branch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me and access more than 20 registers per cycle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12 to 24 instructions per cyc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lexities of implementing these capabilities is likely to mean sacrifices in the maximum clock r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,  widest issue processor is the Itanium 2, but it also has the slowest clock rate, despite the fact that it consumes the most pow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37E-D5C5-4CC0-8029-85B92560BD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19CD0-7B1E-41A7-9F31-0B83C30C86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techniques for increasing performance increase power consump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ey question is whether a technique is </a:t>
            </a:r>
            <a:r>
              <a:rPr b="1" i="1" lang="en-US" sz="2000" spc="-1" strike="noStrike">
                <a:solidFill>
                  <a:srgbClr val="114ffb"/>
                </a:solidFill>
                <a:latin typeface="Arial"/>
              </a:rPr>
              <a:t>energy effici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does it increase power consumption faster than it increases performance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issue processors techniques all are energy inefficie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ing multiple instructions incurs some overhead in logic that grows faster than the issue rate g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ing gap between peak issue rates and sustain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transistors switching = f(peak issue rate), and performance = f( sustained rate)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gap between peak and sustained performan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reasing energy per unit of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6C8-0FC3-4606-9964-44264F037C5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8F012-5265-491D-AF84-840E339F21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nium architecture does </a:t>
            </a: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resent a significant breakthrough in scaling ILP or in avoiding the problems of complexity and power consum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 of pursuing more ILP, architects are increasingly focusing on TLP implemented with single-chip multiprocesso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0, IBM announced the 1st commercial single-chip, general-purpose multiprocessor, the Power4, which contains 2 Power3 processors and an integrated L2 cac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n, Sun Microsystems, AMD, and Intel have switch to a focus on single-chip multiprocessors rather than more aggressive uniprocesso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balance of ILP and TLP is unclear 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haps right choice for server market, which can exploit more TLP, may differ from desktop, where single-thread performance may continue to be a primary requir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825-A994-4B58-B942-773084D7851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9B353-893A-4E0C-905F-24F1AE0A43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power efficiency, compilers, dependencies …) seem to limit to 3 to 6 issue for practical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ly parallel (Data level parallelism or Thread level parallelism) is next step to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rse grain vs. Fine grained multi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big stall vs. every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if fine grained multithreading based on OOO superscalar micro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 of replicating registers, reuse rename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/EPIC/VLIW is not a breakthrough in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ILP and TLP decided in market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4F5-5994-4925-B298-667FDED189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ACFF5-BC78-4966-AC52-C3A02A04BA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vercoming Limi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s in compiler technology + significantly new and different hardware techniques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m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able to overcome limitations assumed in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unlikely such advances when coupled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with realistic hardw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overcome these limits in near fut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844-2074-47DB-B7AA-BEF697B4F7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83064-8B80-4C55-A81A-7A889CBD7C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677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W Model here; MIPS compil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for ideal/perfect machine to sta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Register renam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infinite virtual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all register WAW &amp; WAR hazards are avoi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ranch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perfect; no mispredic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Jump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ll jumps perfectly predicted (returns, case statements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&amp; 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 control dependencies; perfect speculation &amp; an unbounded buffer of instruction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emory-address alias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ddresses known &amp; a load can be moved before a store provided addresses not equal; 1&amp;4 eliminates all but R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: perfect caches; 1 cycle latency for all instructions (FP *,/); unlimited instructions issued/clock cycle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E09-E95B-4020-BB66-758C1E7E08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6ED07-117E-4824-A04D-ADC175614F63}" type="datetime1">
              <a:rPr lang="en-US"/>
              <a:t>07/29/26</a:t>
            </a:fld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2120" y="1219320"/>
          <a:ext cx="7696080" cy="50544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4E8-B821-472B-92DD-E851D344359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66D28-DC11-4EC5-916A-B643F2A21B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Upper Limit to ILP: Ideal Machine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359000"/>
            <a:ext cx="8331120" cy="549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13280" y="2424240"/>
            <a:ext cx="233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18 -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3480" y="1871640"/>
            <a:ext cx="187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75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693800" y="3641400"/>
            <a:ext cx="449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s Per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527-92BB-436B-A27D-F4F5122DBE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2DA9F-7975-4253-90F6-C807BFA292BB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, 2K, 512, 128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140-E1A2-4825-A34A-403347BED8C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4165D-5139-42D2-BC70-CB3264BFBD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4T14:25:54Z</dcterms:modified>
  <cp:revision>84</cp:revision>
  <dc:subject/>
  <dc:title>EECS 252 Graduate Computer Architecture   Lec XX - TOPIC  </dc:title>
</cp:coreProperties>
</file>