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DA7DE3C-7ECC-4576-80B6-0D7866364F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1139C2-6A92-47FE-A99B-731DD8FA1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8AB321B-0A12-4B4D-AF41-48048A2621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39C754C-7729-45F1-9031-71C44C9B2B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6594107-1C8F-4C5D-89DA-DF50A015EB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F553570-3E07-4556-A6CB-69062A732E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78E5862-6AAB-402E-A926-5BAF970EF8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01866FB-680B-40E5-99E2-D42A865472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B7BA697-9463-4D0C-88CF-535F3C5398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9BED961-DC70-4E89-B201-0D034A77AE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81E-4D17-4B09-94BB-F501D0E2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897-CDAE-4556-AF7D-84A5F2D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225-7503-4BE2-94E1-AD30711D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758-FD8F-4117-AE31-0AC6A25C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6DE-AC06-4F5B-B379-CAE7896D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07C-7925-4BA9-8535-335E144B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33F-362E-4A7E-B77C-B781026D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B27-7542-4E03-B0E5-65D6F40A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3E1-0253-44A3-84BE-FA5FC9C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737-A7DA-4A34-B987-EABAFED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F7A-4B57-444F-AC37-4C671315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066-CD96-488C-BB94-D01FAF2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6843-C72C-4F2B-B707-65830E09081C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1DC0-41A4-4675-8C7E-ECFC5D5CC3E5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67D-468B-48A2-9565-44E0DF9118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429BF-89FF-4799-B0CE-5FF9BD4E3E26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AE9-DA3A-4109-8A06-B48EECA1AA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3E089-6902-490F-81D5-F96B5CE48387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AD4-BE3F-4E0A-A1C8-A0613B4C99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B969A-B6B2-4CEC-9FA8-0532AAD480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E4E-8513-4A77-AEE0-32D217D101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75E7F-9FC3-4794-B168-593CB71F2FF2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855-1F9F-4056-A337-FA113833F2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9EFF8-5403-4162-968F-E32E23D9A710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7F7-8BCF-4481-BD7F-4317197648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9977-6CCA-49B7-87BC-D071A96F96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909-8E42-4D5F-9363-5C399A4996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2C42D-EA6F-47FA-A055-0E3D4CF5C31F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488-56BC-4BA6-99B1-168BFD824C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87040-AD68-43C5-B426-49DED3DD5C8F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851-C30A-47C8-8B73-0BD8B04372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F2719-EC1F-4F9C-A08C-D09D8D1B5B37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5A3-79E4-4841-B2AA-7897B1FB74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4E194-0408-41AA-9E2A-2B6DCFABAB5A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490-80B1-4BB3-8E76-76963F8830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2EF3C-46BA-45F4-8F4C-F4BADFAC79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8EB-36F4-4949-A4AC-B518228593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F37C0-AD58-45BD-8DA1-6A74D471D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811-86BC-4EA0-8E1F-9C8BE7C025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55C75-55E7-4BB4-ABA9-B8A265D1219B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332-4ED4-4472-9547-8F058710E7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35D6E-3448-4C90-B688-16D066CBAAB2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5B2-B282-42B3-A02F-BBA073D478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78EAF-CC06-4A44-AEBC-D3C96E9422BC}" type="datetime1">
              <a:rPr lang="en-US"/>
              <a:t>07/29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580-47CA-4C86-A90C-ABAC04C2F3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7DB66-D479-4548-A448-9AA168FBD366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68B-6ADC-4F50-8BF0-DFE2C3C7B4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21A4-0424-45F6-8F68-F66C501226C5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CD1-5029-4824-B8F4-2B4D51E8F7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C8A60-E7D9-4966-A108-35B5A655D1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102-2F49-4593-8FE0-7584EC6AD08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73BAE-C2A5-4A9B-A522-573FEBA638AF}" type="datetime1">
              <a:rPr lang="en-US"/>
              <a:t>07/29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2AC-3DD8-46B1-B0A6-DA3B9EA6C8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571EE-F050-4715-BC90-571D83F1CDBD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EF7-CAB9-459D-8D99-255BCC442EB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56212-669B-42D7-8F37-8C67A823A6F9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481-3750-4AA0-8B7C-8761B8B246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F41D6-6A1F-445C-AFCC-8B494A338D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21C-4752-44CB-896A-D3D0ED9ED9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C1558-16CD-4C27-A402-E5EFDBCF7A5D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2B5-A2F8-4996-A78E-2BAA4D77CBA9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69FDD-C59C-4903-87BF-50D640C7D0F1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CAB-17D5-424B-99AD-37908A0A17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676DF-0540-40F8-8ECE-003FE9654A20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916-BB46-447A-8513-05AE42E0A5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1C7D1-25B2-44EC-B18E-434D112BDA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E06-C1CB-4BC2-A3BE-B10992FDAA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6D79A-11EE-4733-B37D-C8B49CB02A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A50-62FB-4974-8165-B195F23FC0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0D6CD-F507-400B-B211-79A949F00C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11A-2DB7-46A3-9B2B-B58366C98F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596B9-3B89-4CA8-9CC4-9C06C05373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87E-D14D-4999-8034-FE65CC2F8A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D1A5C-737C-4D5A-B6E1-738E0698A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64F-9000-41B6-BED7-CFB4A469287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7B002-1510-42DA-8E4E-34E6FC42AC81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C9C-A502-4596-B6D9-D611D12BF4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AF96D-4B1F-4C69-8B2F-FE1339B8821C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251-7176-4742-84FB-DA04A782BB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3C7C6-2A71-4F24-A606-98F99082C734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6B2-FF25-4E74-8BAD-71F95C7F51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1BFA1-F58E-4ABC-93D5-5F15C9AEF4AB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836-576A-4C34-BC91-6D7F83310F6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50A9D-CB2C-47C9-A0DC-327BDD4F3ED8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3F0-4F82-460C-8C7E-4B44EE194B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995B4-693C-43EF-9B38-04D4455129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FD0-913D-4AB8-9EDC-AD74471CD4B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32076-83F2-4EE6-B9D7-05371A91B53B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3AC-79DE-43D1-859A-D208EA1967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3FEBB-2F95-43F5-8DE1-89F62084D6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B02-A184-470D-A235-64F44F282D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7A799-D87B-4B25-BC0C-660F633C4BA8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239-F9EA-4C6C-A2FF-5130224743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2E76E-31E2-4EED-AB09-562F01287A17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D3C-C076-47C3-B9C2-16B49E9A79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616FC-8A6B-4807-A21B-65D00B512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5D1-2EB8-418C-940E-81F7F6A97E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8102A-370E-49F1-AC1E-441E581D7D16}" type="datetime1">
              <a:rPr lang="en-US"/>
              <a:t>07/29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79C-A6D1-4738-BCE8-2658496814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25814-7FA3-4572-9A26-3E87BE85C488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8E4-BA69-49AA-9402-712EE2E532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60BC2-A330-4831-A3DF-93352BB64FF5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51E-6E2D-4B5A-B0AF-7964866DA1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14B69-913F-4998-8EF3-5CBFFD0A6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0CE-0E39-470A-943E-0EF0E27E61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8F8AB-16D0-4B70-882D-A97B2CB81E4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