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69B5B60B-6E6F-4410-8430-CE51AA202D63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eb Servic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v 26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TT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ng static cont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ng dynamic cont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7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818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natomy of an HTTP Transa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6320" y="1206360"/>
            <a:ext cx="87271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telnet www.aol.com 8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lient: open connection to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rying 205.188.146.23...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Telnet prints 3 lines to the termin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ed to aol.com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 / HTTP/1.1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lient: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quest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ost: www.aol.com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lient: required HTTP/1.1 HOST 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lient: empty line terminates headers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TTP/1.0 200 OK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sponse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IME-Version: 1.0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followed by fiv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sponse head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ate: Mon, 08 Jan 2001 04:59:42 GM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: NaviServer/2.0 AOLserver/2.3.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tent-Type: text/html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expect HTML in the </a:t>
            </a: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response bod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tent-Length: 42092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expect 42,092 bytes in the resp bod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empty line (“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\r\n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”) terminates hd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html&gt; 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first HTML line in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sponse bod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    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766 lines of HTML not shown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/html&gt;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last HTML line in response bod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closed by foreign host.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: closes conn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&gt;  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lient: closes connection and termina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5888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TTP Reques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TTP request i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quest lin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followed by zero or mo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quest head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quest line: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&lt;method&gt; &lt;uri&gt; &lt;version&gt;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version&gt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HTTP version of request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/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/1.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uri&gt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typically URL for proxies, URL suffix for server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lt;method&gt;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either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GET, POST, OPTIONS, HEAD, PUT, DELETE,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TRAC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86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TTP Request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63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TTP method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Retrieve static or dynamic cont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guments for dynamic content are in UR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orkhorse method (99% of request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O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Retrieve dynamic cont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guments for dynamic content are in the request bod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TION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Get server or file attribu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EA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Lik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ut no data in response bod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U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Write a file to the server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ELE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Delete a file on the server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RA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Echo request in response bod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ful for debugging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86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TTP Request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quest headers: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&lt;header name&gt;: &lt;header dat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&gt;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vide additional information to the serv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jor differences between HTTP/1.1 and HTTP/1.0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TTP/1.0 uses a new connection for each transac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TTP/1.1 also support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ersistent connection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ltiple transactions over the same conne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onnection: Keep-Al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TTP/1.1 require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ea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Host: kittyhawk.cmcl.cs.cmu.ed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TTP/1.1 adds additional support for cac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154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TTP Respon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86994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TTP response i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ponse lin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ollowed by zero or mo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ponse header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04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ponse line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04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&lt;version&gt; &lt;status code&gt; &lt;status msg&gt;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&lt;version&gt; is HTTP version of the respons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&lt;status code&gt; is numeric statu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&lt;status msg&gt; is corresponding English tex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K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quest was handled without err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03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rbidden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ver lacks permission to access fi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0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foun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ver couldn’t find the fil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ponse headers: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&lt;header name&gt;: &lt;header data&gt;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vide additional information about respon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tent-Type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ME type of content in response bod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tent-Length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ngth of content in response bod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382240" cy="111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GE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quest to Apache Server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om IE Brows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88920" y="2141280"/>
            <a:ext cx="7534440" cy="2038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GET /test.html HTTP/1.1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Accept: *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Accept-Language: en-u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Accept-Encoding: gzip, deflat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User-Agent: Mozilla/4.0 (compatible; MSIE 4.01; Windows 98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Host: euro.ecom.cmu.edu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Connection: Keep-Al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CRLF (\r\n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GE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sponse From Apache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88920" y="1831320"/>
            <a:ext cx="5935680" cy="3985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TTP/1.1 200 O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ate: Thu, 22 Jul 1999 04:02:15 GM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: Apache/1.3.3 Ben-SSL/1.28 (Unix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ast-Modified: Thu, 22 Jul 1999 03:33:21 GM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Tag: "48bb2-4f-37969101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ccept-Ranges: by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tent-Length: 7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eep-Alive: timeout=15, max=1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: Keep-Al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tent-Type: text/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RL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head&gt;&lt;title&gt;Test page&lt;/title&gt;&lt;/head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h1&gt;Test page&lt;/h1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096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48320" y="2662200"/>
            <a:ext cx="10652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26160" y="2662200"/>
            <a:ext cx="10652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2760" y="1969560"/>
            <a:ext cx="4287960" cy="445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ent sends request to ser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request URI contains the string “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/cgi-bi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”, then the server assumes that the request is for dynamic content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13560" y="3117960"/>
            <a:ext cx="912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92120" y="2130480"/>
            <a:ext cx="402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 /cgi-bin/env.pl HTTP/1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7772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73560" y="1901880"/>
            <a:ext cx="10670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53200" y="1901880"/>
            <a:ext cx="10652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2760" y="1969920"/>
            <a:ext cx="4287960" cy="18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creates a child process and runs the program identified by the URI in that proc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59680" y="3498840"/>
            <a:ext cx="10652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nv.p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684920" y="2890440"/>
            <a:ext cx="0" cy="6080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52520" y="301176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/exe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73560" y="1825560"/>
            <a:ext cx="10670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53200" y="1825560"/>
            <a:ext cx="10652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2760" y="1969560"/>
            <a:ext cx="4287960" cy="445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child runs and generates the dynamic conten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captures the content of the child and forwards it without modification to the cli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59680" y="3422520"/>
            <a:ext cx="1065240" cy="989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nv.p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684920" y="2814120"/>
            <a:ext cx="0" cy="608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16880" y="2967120"/>
            <a:ext cx="1047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02440" y="2267280"/>
            <a:ext cx="1047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240240" y="2281320"/>
            <a:ext cx="912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4648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eb Hist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45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nnevar Bush, “As we may think”, Atlantic Monthly, July, 1945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scribes the idea of a distributed hypertext system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“memex” that mimics the “web of trails” in our mind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9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 Berners-Lee (CERN) writes internal proposal to develop a distributed hypertext system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nects “a web of notes with links.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nded to help CERN physicists in large projects share and manage information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0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 BL writes a graphical browser for Next machin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830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ssues in Serving Dynamic Cont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9440" y="1595160"/>
            <a:ext cx="536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es the client pass program arguments to the server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es the server pass these arguments to the chil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es the server pass other info relevant to the request to the chil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es the server capture the content produced by the chil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se issues are addressed by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mon Gateway Interface (CGI)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pecificati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59400" y="1825560"/>
            <a:ext cx="106524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37600" y="1825560"/>
            <a:ext cx="1066680" cy="988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61240" y="2814120"/>
            <a:ext cx="0" cy="6843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15080" y="2967120"/>
            <a:ext cx="1047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86480" y="2130480"/>
            <a:ext cx="1047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524640" y="2462040"/>
            <a:ext cx="9129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10880" y="1673280"/>
            <a:ext cx="1084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447960" y="2054160"/>
            <a:ext cx="10652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218440" y="2738520"/>
            <a:ext cx="0" cy="6840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81720" y="2967120"/>
            <a:ext cx="89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43720" y="3422520"/>
            <a:ext cx="1067040" cy="989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nv.p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66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GI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ecause the children are written according to the CGI spec, they are often call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GI program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ecause many CGI programs are written in Perl, they are often call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GI script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ever, CGI really defines a simple standard for transferring information between the client (browser), the server, and the child proces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306000"/>
            <a:ext cx="8991720" cy="114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.com: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Internet addition portal!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0520" y="1940040"/>
            <a:ext cx="830736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er need to add two numbers together and you just can’t find your calculator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y Dr. Dave’s addition service at “add.com: THE Internet addition portal!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kes as input the two numbers you want to add togeth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their sum in a tasteful personalized messag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fter the IPO we’ll expand to multiplication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94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add.com Experie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57" name="capture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7907400" cy="44082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1524600" y="106668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put UR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1371600"/>
            <a:ext cx="53352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520" y="390060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utput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6248160" y="3885840"/>
            <a:ext cx="533160" cy="152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1066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5720" y="1066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r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83240" y="10666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GI prog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93680" y="10666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g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137160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1371600"/>
            <a:ext cx="76212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00800" y="1447920"/>
            <a:ext cx="68580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696080" y="1447920"/>
            <a:ext cx="7632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With G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795672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How does the client pass arguments to the server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he arguments are appended to the URI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n be encoded directly in a URL typed to a browser or a URL in an HTML link 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://add.com/cgi-bin/adder?1&amp;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e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the CGI program on the server that will do the addi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gument list starts with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“?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guments separated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“&amp;”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aces represented by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“+” or “%20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n also be generated by an HTML 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6249240"/>
            <a:ext cx="7532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form method=get action="http://add.com/cgi-bin/postadder"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With G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RL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://add.com/cgi-bin/adder?1&amp;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ult displayed on browser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32200" y="3276720"/>
            <a:ext cx="6509880" cy="192060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elcome to add.com: THE Internet addition port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answer is: 1 + 2 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anks for visiting! Tell your friend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With G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220760"/>
            <a:ext cx="7804440" cy="22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Questio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How does the server pass these arguments to the chil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n environment variable QUERY_ST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single string containing everything after the “?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add.com: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QUERY_STR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&amp;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82880" y="3657600"/>
            <a:ext cx="6276600" cy="2284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hild code that accesses the argument lis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buf = getenv("QUERY_STRING")) == NULL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xtract arg1 and arg2 from buf and conver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1 = atoi(arg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2 = atoi(arg2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With G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How does the server pass other info relevant to the request to the chil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n a collection of environment variables defined by the CGI spec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me CGI Environment Variab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ERVER_SOFT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ERVER_NA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ATEWAY_INTERFA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CGI vers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quest-specif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ERVER_POR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QUEST_METHO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O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et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QUERY_STR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contain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rg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MOTE_HO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domain name of clien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MOTE_ADD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IP address of clien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TENT_TYP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O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type of data in message body, 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ext/htm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TENT_LENG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length in byt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me CGI Environment Variab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 addition, the value of each header of typ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yp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received from the client is placed in environment variab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HTTP_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yp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HTTP_ACCEP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HTTP_HO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HTTP_USER_AGE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(any “-” is changed to “_”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5943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eb History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2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CSA server relea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6 WWW servers worldw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3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c Andreessen releases first version of NCSA Mosaic brows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aic version released for (Windows, Mac, Unix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b (port 80) traffic at 1% of NSFNET backbone traffic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 200 WWW servers worldwi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4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spcAft>
                <a:spcPts val="499"/>
              </a:spcAft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reessen and colleagues leave NCSA to form "Mosaic Communications Corp" (now Netscape)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With G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8699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00"/>
                </a:solidFill>
                <a:uFillTx/>
                <a:latin typeface="Arial"/>
              </a:rPr>
              <a:t>Question: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How does the server capture the content produced by the child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00"/>
                </a:solidFill>
                <a:uFillTx/>
                <a:latin typeface="Arial"/>
              </a:rPr>
              <a:t>Answer: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The child generates its output on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stdou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.  Server uses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dup2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o redirect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stdout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o its connected socket. 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ice that only the child knows the type and size of the content. Thus the child (not the server) must generate the corresponding header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0520" y="3505320"/>
            <a:ext cx="8593200" cy="2770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hild generates the result string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printf(content, "Welcome to add.com: THE Internet addition portal\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p&gt;The answer is: %d + %d = %d\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p&gt;Thanks for visiting!\r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1, n2, n1+n2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hild generates the headers and dynamic conten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Content-length: %d\r\n", strlen(conte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Content-type: text/html\r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\r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%s", conte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ng Dynamic Content With GET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5160" y="1066680"/>
            <a:ext cx="6154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./tiny 8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 /cgi-bin/adder?1&amp;2 HTTP/1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ost: bass.cmcl.cs.cmu.edu:8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CRLF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telnet bass 8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rying 128.2.222.85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ed to BASS.CMCL.CS.CMU.EDU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 /cgi-bin/adder?1&amp;2 HTTP/1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ost: bass.cmcl.cs.cmu.edu:8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CRLF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TTP/1.1 200 O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: Tiny Web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tent-length: 10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tent-type: text/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CRLF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elcome to add.com: THE Internet addition portal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p&gt;The answer is: 1 + 2 = 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p&gt;Thanks for visiting!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closed by foreign hos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0" y="1143000"/>
            <a:ext cx="29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 request received b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ny Web 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68040" y="351936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 request sent by 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72360" y="3962520"/>
            <a:ext cx="33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 response generated b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4572000"/>
            <a:ext cx="83822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133720"/>
            <a:ext cx="845820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4038480"/>
            <a:ext cx="845820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8200" y="4540320"/>
            <a:ext cx="33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 response generated b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CGI prog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6019920"/>
            <a:ext cx="845820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x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396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x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n intermediary between a client and 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rigin serve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lient, the proxy acts like a serv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server, the proxy acts like a clie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3324240"/>
            <a:ext cx="1065240" cy="988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3324240"/>
            <a:ext cx="1065240" cy="9889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x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30840" y="3322800"/>
            <a:ext cx="1065240" cy="988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600200" y="3124080"/>
            <a:ext cx="2057400" cy="427320"/>
            <a:chOff x="1600200" y="3124080"/>
            <a:chExt cx="2057400" cy="427320"/>
          </a:xfrm>
        </p:grpSpPr>
        <p:sp>
          <p:nvSpPr>
            <p:cNvPr id="204" name=""/>
            <p:cNvSpPr/>
            <p:nvPr/>
          </p:nvSpPr>
          <p:spPr>
            <a:xfrm>
              <a:off x="1600200" y="3551400"/>
              <a:ext cx="20574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92160" y="3124080"/>
              <a:ext cx="149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648320" y="3138480"/>
            <a:ext cx="2057400" cy="412920"/>
            <a:chOff x="4648320" y="3138480"/>
            <a:chExt cx="2057400" cy="412920"/>
          </a:xfrm>
        </p:grpSpPr>
        <p:sp>
          <p:nvSpPr>
            <p:cNvPr id="207" name=""/>
            <p:cNvSpPr/>
            <p:nvPr/>
          </p:nvSpPr>
          <p:spPr>
            <a:xfrm>
              <a:off x="4648320" y="3551400"/>
              <a:ext cx="20574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00320" y="3138480"/>
              <a:ext cx="149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572000" y="4008600"/>
            <a:ext cx="2057400" cy="413280"/>
            <a:chOff x="4572000" y="4008600"/>
            <a:chExt cx="2057400" cy="413280"/>
          </a:xfrm>
        </p:grpSpPr>
        <p:sp>
          <p:nvSpPr>
            <p:cNvPr id="210" name=""/>
            <p:cNvSpPr/>
            <p:nvPr/>
          </p:nvSpPr>
          <p:spPr>
            <a:xfrm>
              <a:off x="4572000" y="4008600"/>
              <a:ext cx="20574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55400" y="408456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23880" y="4008600"/>
            <a:ext cx="2057400" cy="413280"/>
            <a:chOff x="1523880" y="4008600"/>
            <a:chExt cx="2057400" cy="413280"/>
          </a:xfrm>
        </p:grpSpPr>
        <p:sp>
          <p:nvSpPr>
            <p:cNvPr id="213" name=""/>
            <p:cNvSpPr/>
            <p:nvPr/>
          </p:nvSpPr>
          <p:spPr>
            <a:xfrm>
              <a:off x="1523880" y="4008600"/>
              <a:ext cx="20574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30960" y="408456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324400" y="3406680"/>
            <a:ext cx="2322720" cy="141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7680" y="2846520"/>
            <a:ext cx="4800600" cy="3335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Proxies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65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perform useful functions as requests and responses pass b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s: Caching, logging, anonymiz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8560" y="3000240"/>
            <a:ext cx="1065240" cy="98928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76680" y="3808440"/>
            <a:ext cx="1065240" cy="9889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x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45480" y="3716280"/>
            <a:ext cx="1065240" cy="988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724040" y="3170160"/>
            <a:ext cx="2243520" cy="738360"/>
            <a:chOff x="1724040" y="3170160"/>
            <a:chExt cx="2243520" cy="738360"/>
          </a:xfrm>
        </p:grpSpPr>
        <p:sp>
          <p:nvSpPr>
            <p:cNvPr id="223" name=""/>
            <p:cNvSpPr/>
            <p:nvPr/>
          </p:nvSpPr>
          <p:spPr>
            <a:xfrm>
              <a:off x="1724040" y="3419640"/>
              <a:ext cx="2157480" cy="488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56600" y="3170160"/>
              <a:ext cx="201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quest 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foo.htm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707000" y="3719520"/>
            <a:ext cx="3187800" cy="337320"/>
            <a:chOff x="4707000" y="3719520"/>
            <a:chExt cx="3187800" cy="337320"/>
          </a:xfrm>
        </p:grpSpPr>
        <p:sp>
          <p:nvSpPr>
            <p:cNvPr id="226" name=""/>
            <p:cNvSpPr/>
            <p:nvPr/>
          </p:nvSpPr>
          <p:spPr>
            <a:xfrm>
              <a:off x="4707000" y="4035600"/>
              <a:ext cx="3187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09440" y="3719520"/>
              <a:ext cx="201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quest 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foo.htm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667400" y="4213080"/>
            <a:ext cx="3220920" cy="337320"/>
            <a:chOff x="4667400" y="4213080"/>
            <a:chExt cx="3220920" cy="337320"/>
          </a:xfrm>
        </p:grpSpPr>
        <p:sp>
          <p:nvSpPr>
            <p:cNvPr id="229" name=""/>
            <p:cNvSpPr/>
            <p:nvPr/>
          </p:nvSpPr>
          <p:spPr>
            <a:xfrm>
              <a:off x="4667400" y="4492800"/>
              <a:ext cx="3220920" cy="18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7000" bIns="-27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32160" y="421308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foo.htm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579680" y="3666960"/>
            <a:ext cx="2097000" cy="615960"/>
            <a:chOff x="1579680" y="3666960"/>
            <a:chExt cx="2097000" cy="615960"/>
          </a:xfrm>
        </p:grpSpPr>
        <p:sp>
          <p:nvSpPr>
            <p:cNvPr id="232" name=""/>
            <p:cNvSpPr/>
            <p:nvPr/>
          </p:nvSpPr>
          <p:spPr>
            <a:xfrm>
              <a:off x="1579680" y="3817800"/>
              <a:ext cx="2097000" cy="46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27080" y="366696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foo.htm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28560" y="4983120"/>
            <a:ext cx="1065240" cy="988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70840" y="4443120"/>
            <a:ext cx="2793240" cy="685800"/>
            <a:chOff x="870840" y="4443120"/>
            <a:chExt cx="2793240" cy="685800"/>
          </a:xfrm>
        </p:grpSpPr>
        <p:sp>
          <p:nvSpPr>
            <p:cNvPr id="236" name=""/>
            <p:cNvSpPr/>
            <p:nvPr/>
          </p:nvSpPr>
          <p:spPr>
            <a:xfrm flipV="1">
              <a:off x="1552680" y="4443120"/>
              <a:ext cx="21114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70840" y="4489560"/>
              <a:ext cx="201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quest 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foo.htm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703520" y="4801680"/>
            <a:ext cx="2361960" cy="793440"/>
            <a:chOff x="1703520" y="4801680"/>
            <a:chExt cx="2361960" cy="793440"/>
          </a:xfrm>
        </p:grpSpPr>
        <p:sp>
          <p:nvSpPr>
            <p:cNvPr id="239" name=""/>
            <p:cNvSpPr/>
            <p:nvPr/>
          </p:nvSpPr>
          <p:spPr>
            <a:xfrm flipV="1">
              <a:off x="1703520" y="4801680"/>
              <a:ext cx="2361960" cy="77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73200" y="525780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foo.htm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245600" y="6183360"/>
            <a:ext cx="31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ast inexpensive local netw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43720" y="4792680"/>
            <a:ext cx="169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lower mor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pens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lobal netw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586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 More Inform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udy the Tiny Web server described in your tex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ny is a sequential Web serv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es static and dynamic content to real browser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xt files, HTML files, GIF and JPEG imag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20 lines of commented C co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so comes with an implementation of the CGI script for the add.com addition porta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net Hos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86" name="hosts" descr=""/>
          <p:cNvPicPr/>
          <p:nvPr/>
        </p:nvPicPr>
        <p:blipFill>
          <a:blip r:embed="rId1"/>
          <a:stretch/>
        </p:blipFill>
        <p:spPr>
          <a:xfrm>
            <a:off x="603360" y="1219320"/>
            <a:ext cx="80071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3733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eb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4400" y="2666880"/>
            <a:ext cx="1368720" cy="1287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07080" y="2967120"/>
            <a:ext cx="17492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25720" y="2586240"/>
            <a:ext cx="182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 reques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59360" y="3575160"/>
            <a:ext cx="14464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3640" y="3702240"/>
            <a:ext cx="196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 respon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conten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3120" y="1598760"/>
            <a:ext cx="3821040" cy="468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lients and servers communicate using  the HyperText Transfer Protocol (HTTP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 and server establish TCP conne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 requests conten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 responds with requested conten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 and server close connection (usually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urrent version is HTTP/1.1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FC 2616, June, 1999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89560" y="2666880"/>
            <a:ext cx="1369800" cy="1287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browser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5646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eb Cont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8534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b servers retur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te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to cli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ontent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sequence of bytes with an associated MIME (Multipurpose Internet Mail Extensions)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 MIME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ext/htm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HTML docu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ext/pla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Unformatted 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pplication/postscrip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ostcript docu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mage/gif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Binary image encoded in GIF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mage/jpe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Binary image encoded in JPE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077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tic and Dynamic Cont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content returned in HTTP responses can be eith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ic content: content stored in files and retrieved in response to an HTTP requ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s: HTML files, images, audio clip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ynamic content: content produced on-the-fly in response to an HTTP requ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: content produced by a program executed by the server on behalf of the client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ttom line: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All Web content is associated with a file that is managed by the ser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3657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R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file managed by a server has a unique name called a URL (Universal Resource Locator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RLs for static content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://www.cs.cmu.edu:80/index.htm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://www.cs.cmu.edu/index.htm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://www.cs.cmu.ed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ntifies a file calle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dex.html,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managed by a Web server a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ww.cs.cmu.ed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hat is listening on port 80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RLs for dynamic content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tp://www.cs.cmu.edu:8000/cgi-bin/adder?15000&amp;2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ntifies an executable file calle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dd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 managed by a Web server a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ww.cs.cmu.edu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hat is listening on port 8000, that should be called with two argument strings: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5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213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ow Clients and Servers Use UR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 URL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http://www.aol.com:80</a:t>
            </a:r>
            <a:r>
              <a:rPr b="1" lang="en-US" sz="2400" spc="-1" strike="noStrike">
                <a:solidFill>
                  <a:srgbClr val="00ffff"/>
                </a:solidFill>
                <a:latin typeface="Courier New"/>
              </a:rPr>
              <a:t>/index.htm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ents 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http://www.aol.com:80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to infer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kind of server to contact (Web serve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re the server is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ww.aol.co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port it is listening on (80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s 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ffix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ffff"/>
                </a:solidFill>
                <a:latin typeface="Courier New"/>
              </a:rPr>
              <a:t>/index.htm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to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rmine if request is for static or dynamic conte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hard and fast rules for thi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vention: executables reside i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gi-bi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rect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d file on file system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itial “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/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 in suffix denotes home directory for requested content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nimal suffix is “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/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, which all servers expand to some default home page (e.g.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dex.htm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1-13T18:41:52Z</dcterms:modified>
  <cp:revision>514</cp:revision>
  <dc:subject/>
  <dc:title>Web Services</dc:title>
</cp:coreProperties>
</file>