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493B713D-6597-4144-B036-9DA73AD92227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stem-Level I/O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14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bust reading and wri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file meta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ing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redir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I/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sing a file informs the kernel that you are finished accessing that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sing an already closed file is a recipe for disaster in threaded programs (more on this later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ral: Always check return codes, even for seemingly benign functions such a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lose(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225520"/>
            <a:ext cx="6324840" cy="179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retval; /* return valu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retval = close(fd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clos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496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0520" y="1142640"/>
            <a:ext cx="83073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ing a file copies bytes from the current file position to memory, and then updates file posi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number of bytes read from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to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hort coun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sizeof(buf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) are possible and are not erro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5480" y="2009880"/>
            <a:ext cx="6032880" cy="2527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Open file fd ... 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en read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up to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512 bytes from file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bytes = read(fd, buf, sizeof(buf)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read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63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rit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990720"/>
            <a:ext cx="854856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iting a file copies bytes from memory to the current file position, and then updates current file posi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number of bytes written from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o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with reads, short counts are possible and are not erro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fers up to 512 bytes from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o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2160" y="1905120"/>
            <a:ext cx="6520320" cy="2527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Open the file fd ...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en writ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up to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512 bytes from buf to file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bytes = write(fd, buf, sizeof(buf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writ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pying standard input to standard output one byte at a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e the use of error handling wrappers for read and write (Appendix B)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0160" y="2286000"/>
            <a:ext cx="5212800" cy="2282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voi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Read(STDIN_FILENO, &amp;c, 1) !=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(STDOUT_FILENO, &amp;c, 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ling with Short Cou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ort counts can occur in these situa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untering (end-of-file) EOF on 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text lines from a termin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network sockets or Unix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ort counts never occur in these situa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from disk files (except for EOF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ing to disk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should you deal with short counts in your code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RIO (Robust I/O) package from your textbook’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sapp.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le (Appendix B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RIO Pack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IO is a set of wrappers that provide efficient and robust I/O in applications such as network programs that are subject to short count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IO provides two different kinds of functio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buffered input and output of binary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n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write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ffered input of binary data and text lin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lineb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nb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leans up some problems with Stevens’s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adlin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adn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function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like the Stevens routines, the buffered RIO routines ar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thread-saf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can be interleaved arbitrarily on the same descriptor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ownload from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csapp.cs.cmu.edu/public/ics/code/src/csapp.c csapp.cs.cmu.edu/public/ics/code/include/csapp.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buffered RIO Input and Outpu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1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ame interface as Unix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rea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wri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specially useful for transferring data on network socke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short count only it encounters EOF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ever returns a short cou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interleaved arbitrarily on the same descript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7000" y="2762280"/>
            <a:ext cx="8321760" cy="1407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(int fd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writen(nt fd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turn: num. bytes transferred if OK,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on EOF (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only), -1 on error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ation of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io_read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0160" y="990720"/>
            <a:ext cx="7163640" cy="534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rio_readn - robustly read n bytes (unbuffer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(int fd, void *usrbuf, size_t n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_t nleft = 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bufp = usrbuf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nleft &g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read = read(fd, bufp, nleft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errno == EINTR) /* interrupted by sig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ndler retur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read = 0;      /* and call read() agai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     /* errno set by read(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if (nread ==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              /* EO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left -=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ufp +=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(n - nleft);         /* return &gt;= 0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ed RIO Input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0736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fficiently read text lines and binary data from a file partially cached in an internal memory buff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ads a text line of up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x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from fi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stores the line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srbu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useful for reading text lines from network socke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ads up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from fi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interleaved arbitrarily on the same descript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rning: Don’t interleave with calls 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io_read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200" y="4132440"/>
            <a:ext cx="921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1040" y="2209680"/>
            <a:ext cx="7651080" cy="184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rio_readinitb(rio_t *rp, int 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lineb(rio_t *rp, void *usrbuf, size_t max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b(rio_t *rp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turn: num. bytes read if OK, 0 on EOF, -1 on err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IO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pying the lines of a text file from standard input to standard outpu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6000" y="2362320"/>
            <a:ext cx="6919920" cy="2939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MAXLINE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STDIN_FILEN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(n = Rio_readlineb(&amp;rio, buf, MAXLINE)) !=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STDOUT_FILENO, buf,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137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Typical Hardware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80320" y="289548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56080" y="3048120"/>
            <a:ext cx="1492560" cy="533160"/>
          </a:xfrm>
          <a:prstGeom prst="leftRightArrow">
            <a:avLst>
              <a:gd name="adj1" fmla="val 50000"/>
              <a:gd name="adj2" fmla="val 5573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41680" y="307980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84400" y="3048120"/>
            <a:ext cx="1452600" cy="533160"/>
          </a:xfrm>
          <a:prstGeom prst="leftRightArrow">
            <a:avLst>
              <a:gd name="adj1" fmla="val 50000"/>
              <a:gd name="adj2" fmla="val 54238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4320" y="3079800"/>
            <a:ext cx="187308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00160" y="17524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00160" y="19051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00160" y="20574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00160" y="22096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00160" y="23623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3440" y="17524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683800" y="213372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18040" y="1600200"/>
            <a:ext cx="53316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22240" y="1431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75040" y="259092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32040" y="137160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1160" y="10663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68920" y="236196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750840" y="2666880"/>
            <a:ext cx="685800" cy="457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0280" y="236196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37200" y="2666880"/>
            <a:ext cx="0" cy="457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65600" y="37339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7044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51400" y="5194440"/>
            <a:ext cx="129564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4016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1120" y="5194440"/>
            <a:ext cx="129528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6364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20920" y="5181480"/>
            <a:ext cx="114300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952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6800" y="59432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94320" y="59432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692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13720" y="5943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571500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07080" y="6095880"/>
            <a:ext cx="609480" cy="60984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5720" y="4254480"/>
            <a:ext cx="7277040" cy="393840"/>
          </a:xfrm>
          <a:prstGeom prst="leftRightArrow">
            <a:avLst>
              <a:gd name="adj1" fmla="val 48611"/>
              <a:gd name="adj2" fmla="val 95465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32120" y="4424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08280" y="4414680"/>
            <a:ext cx="166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2160" y="4405320"/>
            <a:ext cx="161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3120" y="45590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32280" y="434340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23000" y="426708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27920" y="426708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32840" y="4267080"/>
            <a:ext cx="12672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17600" y="4649400"/>
            <a:ext cx="219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pansion slots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ther devices su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s network adapter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ile Meta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etadat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data about data, in this case file data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tained by kernel, accessed by users with 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a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sta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unc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9240" y="2612880"/>
            <a:ext cx="8227440" cy="3987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etadata returned by the stat and fstat function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tat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v_t         st_dev;      /* devic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o_t         st_ino;      /* inod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de_t        st_mode;     /* protection and file typ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link_t       st_nlink;    /* number of hard link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id_t         st_uid;      /* user ID of own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id_t         st_gid;      /* group ID of own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v_t         st_rdev;     /* device type (if inode device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ff_t         st_size;     /* total size, in byte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long st_blksize;  /* blocksize for filesystem I/O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long st_blocks;   /* number of blocks allocate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atime;    /* time of last acc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mtime;    /* time of last modificatio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ctime;    /* time of last chang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of Accessing File Meta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8480" y="1143000"/>
            <a:ext cx="7895160" cy="5128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statcheck.c - Querying and manipulating a file’s meta data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 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ta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type, *reado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(argv[1], &amp;sta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_ISREG(stat.st_mode)) /* file type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regular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if (S_ISDIR(stat.st_mode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directory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other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stat.st_mode &amp; S_IRUSR)) /* OK to read?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ok = "yes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ok = "no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type: %s, read: %s\n", type, readok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4920" y="1752480"/>
            <a:ext cx="3627720" cy="11883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./statcheck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: regular, read: y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chmod 000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./statcheck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: regular, read: 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the Unix Kernel Represents Open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90520" y="140508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descriptors referencing two distinct open disk files. Descriptor 1 (stdout) points to terminal, and descriptor 4 points to open disk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06600" y="3517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6600" y="3746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06600" y="3975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06600" y="4203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06600" y="4432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96760" y="35179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96760" y="37465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96760" y="3975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96760" y="42037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96760" y="44323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20" y="2638440"/>
            <a:ext cx="240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one table per proces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52080" y="2590920"/>
            <a:ext cx="26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shared by all processe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65040" y="2590920"/>
            <a:ext cx="26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shared by all processe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68560" y="38098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68560" y="41148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68560" y="44197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905120" y="3504960"/>
            <a:ext cx="1963440" cy="352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707000" y="5076360"/>
            <a:ext cx="1465200" cy="257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8560" y="35053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68560" y="54864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68560" y="57913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68560" y="60958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68560" y="51814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55880" y="4530600"/>
            <a:ext cx="1930320" cy="6987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9320" y="3932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er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9320" y="370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ou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5520" y="34754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786200" y="3489120"/>
            <a:ext cx="1398600" cy="1537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97760" y="3476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97760" y="43909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97760" y="3781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97760" y="40863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97760" y="50767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97760" y="5991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97760" y="53816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97760" y="56865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48520" y="320004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 (termina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8600" y="48765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 (disk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96080" y="3733920"/>
            <a:ext cx="9144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Info in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43800" y="3505320"/>
            <a:ext cx="76320" cy="121896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ile Shar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distinct descriptors sharing the same disk file through two distinct open file table entr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Call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e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ice with the sam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lenam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71480" y="37749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71480" y="40035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71480" y="42321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71480" y="44607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1480" y="46893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2000" y="37749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2000" y="40035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62000" y="42321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2000" y="44607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2000" y="46893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13840" y="260424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48320" y="259164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59880" y="259164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3800" y="40672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33800" y="43718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33800" y="46767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120760" y="3762360"/>
            <a:ext cx="1913040" cy="32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871880" y="3819240"/>
            <a:ext cx="1436760" cy="1771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3800" y="37623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3800" y="5743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3800" y="60483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3800" y="63532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33800" y="54388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20760" y="4788000"/>
            <a:ext cx="193068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951440" y="3753000"/>
            <a:ext cx="1366920" cy="147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37440" y="3759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37440" y="4673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7440" y="40640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43689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11280" y="34761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11280" y="51526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Processes Share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76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child process inherits its parent’s open files. Here is the situation immediately after a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or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95520" y="33656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95520" y="35942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95520" y="38228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95520" y="40514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95520" y="42800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85680" y="33656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85680" y="35942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85680" y="38228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85680" y="40514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85680" y="42800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44720" y="2238480"/>
            <a:ext cx="170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72000" y="218196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83560" y="218196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57480" y="36576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57480" y="39625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57480" y="42670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044800" y="3352320"/>
            <a:ext cx="1912680" cy="327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95920" y="4924440"/>
            <a:ext cx="1465200" cy="25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57480" y="3352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57480" y="53341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57480" y="5638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57480" y="59436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57480" y="5029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44800" y="4378320"/>
            <a:ext cx="193032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875120" y="3323880"/>
            <a:ext cx="1386000" cy="166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7680" y="300312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rent's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95520" y="5076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95520" y="5305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95520" y="5533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95520" y="5762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95520" y="5991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85680" y="50767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85680" y="53053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85680" y="55339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85680" y="57625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85680" y="5991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11760" y="471456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hild's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070000" y="3425400"/>
            <a:ext cx="1892520" cy="1978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070000" y="5127120"/>
            <a:ext cx="1879560" cy="939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73720" y="33242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273720" y="42386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73720" y="362916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73720" y="393372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73720" y="49244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73720" y="58388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3720" y="522936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73720" y="553392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47920" y="30668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00040" y="47397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estion: How does a shell implement I/O redirectio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x&gt; ls &gt; foo.t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swer: By calling 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oldfd, newfd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un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ies (per-process) descriptor table entr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ld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entr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ewf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09880" y="428292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09880" y="462744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09880" y="497196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09880" y="531648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09880" y="566100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90440" y="428292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90440" y="462744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90440" y="497196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90440" y="531648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0440" y="566100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75040" y="327672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up2(4,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49960" y="428292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49960" y="462744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49960" y="497196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49960" y="531648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9960" y="566100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2320" y="428292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2320" y="462744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2320" y="497196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2320" y="531648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2320" y="566100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95400" y="327600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ft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up2(4,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33920" y="4800600"/>
            <a:ext cx="1295280" cy="457200"/>
          </a:xfrm>
          <a:prstGeom prst="rightArrow">
            <a:avLst>
              <a:gd name="adj1" fmla="val 50000"/>
              <a:gd name="adj2" fmla="val 70827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06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fore call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4,1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stdout (descriptor 1) points to a terminal and descriptor 4 points to an open disk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35200" y="35942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35200" y="38228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35200" y="40514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35200" y="42800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35200" y="45086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25360" y="35942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25360" y="38228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25360" y="40514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25360" y="42800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25360" y="45086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77560" y="242316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11680" y="241056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23240" y="241056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97160" y="3886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097160" y="41911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97160" y="4495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133720" y="3580920"/>
            <a:ext cx="1963440" cy="352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935600" y="5153040"/>
            <a:ext cx="1465200" cy="25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97160" y="35812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97160" y="55627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097160" y="58672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97160" y="6172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97160" y="52578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184480" y="4606920"/>
            <a:ext cx="193032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920" y="4008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er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7920" y="37803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ou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120" y="35517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014800" y="3565440"/>
            <a:ext cx="1398600" cy="1540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26360" y="35528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26360" y="44672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26360" y="38577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26360" y="41623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26360" y="51530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26360" y="6067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26360" y="54579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26360" y="5762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2040" y="33080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62040" y="50004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8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fter call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4,1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stdout is now redirected to the disk file pointed at by descriptor 4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28760" y="3517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28760" y="3746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28760" y="3975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328760" y="4203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28760" y="4432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19280" y="35179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19280" y="37465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9280" y="39751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9280" y="42037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19280" y="44323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1120" y="234720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05240" y="233424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17160" y="233424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91080" y="380988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91080" y="411480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91080" y="441972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727280" y="3857760"/>
            <a:ext cx="1942920" cy="1346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529160" y="5076360"/>
            <a:ext cx="1465200" cy="257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91080" y="350532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91080" y="548640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91080" y="579132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91080" y="609588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91080" y="518148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78040" y="4530600"/>
            <a:ext cx="1892160" cy="762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608360" y="3489120"/>
            <a:ext cx="1398600" cy="1537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19920" y="347652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19920" y="439092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78144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19920" y="408636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50767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5991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19920" y="53816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9920" y="56865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55960" y="323172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55600" y="49240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 standard library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bc.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contains a collection of higher-leve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ndard I/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cumented in Appendix B of K&amp;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of standard I/O fun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ing and closing fil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p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clo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byt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wri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text lin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ge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u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atted reading and writing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can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rint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Stre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29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models open files 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re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ion for a file descriptor and a buffer in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programs begin life with three open streams (defined in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dio.h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inpu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outpu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erro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55000" y="4267080"/>
            <a:ext cx="7130160" cy="184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in;  /* standard input (descriptor 0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out; /* standard output (descriptor 1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err; /* standard error (descriptor 2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out, “Hello, world\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41280"/>
            <a:ext cx="7543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39960" y="1220760"/>
            <a:ext cx="3233880" cy="4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6732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4344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904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7176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87520" y="16002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87520" y="17524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87520" y="19051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7520" y="20574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87520" y="22096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044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171880" y="1981080"/>
            <a:ext cx="444240" cy="381240"/>
          </a:xfrm>
          <a:prstGeom prst="rightArrow">
            <a:avLst>
              <a:gd name="adj1" fmla="val 50000"/>
              <a:gd name="adj2" fmla="val 2913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504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0960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2040" y="2438280"/>
            <a:ext cx="60984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04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5296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25780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3876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27520" y="4317120"/>
            <a:ext cx="495000" cy="685800"/>
          </a:xfrm>
          <a:prstGeom prst="upArrow">
            <a:avLst>
              <a:gd name="adj1" fmla="val 36667"/>
              <a:gd name="adj2" fmla="val 4489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812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25100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792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3652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9864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416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8168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9392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0108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99000" y="556272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5943600"/>
            <a:ext cx="60984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3080" y="4102200"/>
            <a:ext cx="6972120" cy="393480"/>
          </a:xfrm>
          <a:prstGeom prst="leftRightArrow">
            <a:avLst>
              <a:gd name="adj1" fmla="val 48611"/>
              <a:gd name="adj2" fmla="val 91549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1912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9564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2916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328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1964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2160" y="3137040"/>
            <a:ext cx="201276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08560" y="3137040"/>
            <a:ext cx="0" cy="11350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7040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05480" y="4259160"/>
            <a:ext cx="0" cy="78264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" y="2927520"/>
            <a:ext cx="187308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PU initiates a disk read by writing a command, logical block number, and destination memory address to a port (address) associated with disk controll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ing in Standard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functions use buffered I/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84680" y="2023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h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5740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1460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8954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526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098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\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814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2438280"/>
            <a:ext cx="0" cy="1676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41880" y="2252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743200" y="2590920"/>
            <a:ext cx="0" cy="1523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23120" y="2482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95680" y="3581280"/>
            <a:ext cx="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99320" y="2743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62520" y="3352680"/>
            <a:ext cx="0" cy="762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0200" y="30160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o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67640" y="32767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\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24080" y="2819520"/>
            <a:ext cx="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3048120"/>
            <a:ext cx="0" cy="1066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52680" y="4419720"/>
            <a:ext cx="0" cy="1143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486600" y="47815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67400" y="3146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47920" y="3581280"/>
            <a:ext cx="6094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60360" y="56959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rite(1, buf += 6, 6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Buffering in A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You can see this buffering in action for yourself, using the always fascinating Unix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a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progra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200400" y="2987640"/>
            <a:ext cx="5562720" cy="2040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strace ./hell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ecve("./hello", ["hello"], [/* ... */]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(1, "hello\n", 6...)               = 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_exit(0)                                = ?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" y="2209680"/>
            <a:ext cx="2590920" cy="325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e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 vs. Standard I/O vs. RI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and RIO are implemented using low-level Unix I/O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ich ones should you use in your program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33840" y="2913120"/>
            <a:ext cx="4041720" cy="157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33840" y="4491000"/>
            <a:ext cx="404172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x I/O function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accessed via system call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33840" y="3805200"/>
            <a:ext cx="1447560" cy="685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ndard I/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47520" y="3211560"/>
            <a:ext cx="23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 application progra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1200" y="2451240"/>
            <a:ext cx="1989360" cy="2040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pen  fdop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ad  fwrite fscanf fprintf  sscanf sprintf fgets  fputs fflush fse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0000" y="4419720"/>
            <a:ext cx="1643760" cy="824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  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  lse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   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230560" y="4840200"/>
            <a:ext cx="474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149960" y="3490920"/>
            <a:ext cx="1841760" cy="13107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7000" y="3805200"/>
            <a:ext cx="144792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I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2260080" y="3339720"/>
            <a:ext cx="482760" cy="74916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794640" y="4152960"/>
            <a:ext cx="3682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Unix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 is the most general and lowest overhead form of I/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other I/O packages are implemented using Unix I/O function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 provides functions for accessing file metadat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aling with short counts is tricky and error pro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icient reading of text lines requires some form of buffering, also tricky and error pro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of these issues are addressed by the standard I/O and RIO packag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ffering increases efficiency by decreasing the number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ri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ystem cal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rt counts are handled automatical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s no function for accessing file meta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I/O is not appropriate for input and output on network so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are poorly documented restrictions on streams that interact badly with restrictions on so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trictions on stream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riction 1: input function cannot follow output function without intervening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flus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e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tpo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w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atter three functions all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see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change file posi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riction 2: output function cannot follow an input function with intervening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e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tpo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w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triction on socket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ou are not allowed to change the file position of a sock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3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around for restriction 1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ush stream after every outpu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around for restriction 2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 two streams on the same descriptor, one for reading and one for writing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ever, this requires you to close the same descriptor twice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deadly race in concurrent threaded program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14400" y="3203640"/>
            <a:ext cx="4800600" cy="96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ILE *fpin, *fpou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in = fdopen(sockfd, “r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out = fdopen(sockfd, “w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14400" y="5237280"/>
            <a:ext cx="4800600" cy="531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(fp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(fp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878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oosing I/O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l rule: Use the highest-level I/O functions you ca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C programmers are able to do all of their work using the standard I/O fun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standard I/O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working with disk or terminal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raw Unix I/O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you need to fetch file metadat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rare cases when you need absolute highest performanc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RIO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you are reading and writing network sockets or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ver use standard I/O or raw Unix I/O on sockets or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Further Inform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Unix bibl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. Richard  Stevens, Advanced Programming in the Unix Environment, Addison Wesley, 1993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what dated, but still usefu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vens is arguably the best technical writer e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d authoritative works in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programm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CP/IP (the protocol that makes the Internet work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network programm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IPC programming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gically, Stevens died Sept 1, 1999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92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5148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276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1320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559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1680" y="16002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71680" y="17524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1680" y="190512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71680" y="20574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1680" y="22096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446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549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8920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937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62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2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371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419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2292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9113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9228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235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208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06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8280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83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658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780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852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786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68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798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33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174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038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4560" y="3137040"/>
            <a:ext cx="196524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92720" y="3137040"/>
            <a:ext cx="0" cy="11350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9640" y="4272120"/>
            <a:ext cx="0" cy="16714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5480" y="2927520"/>
            <a:ext cx="187344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1095480"/>
            <a:ext cx="439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 controller reads the sector and performs a direct memory access (DMA) transfer into main memor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341280"/>
            <a:ext cx="6959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5148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276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1320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559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71680" y="16002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71680" y="17524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71680" y="190512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1680" y="20574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71680" y="22096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446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549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8920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937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462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2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371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419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2292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9113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228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235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208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06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8280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83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658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780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852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3160" y="556272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68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032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798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33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174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038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400560" y="2451240"/>
            <a:ext cx="101736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92720" y="2438280"/>
            <a:ext cx="0" cy="183384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5456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483160" y="4272120"/>
            <a:ext cx="6480" cy="78264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480" y="2927520"/>
            <a:ext cx="187344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the DMA transfer completes, the disk controller notifies the CPU with an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terrup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i.e., asserts a special “interrupt” pin on the CP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2514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Unix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 sequence of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yt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. 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, .... 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m-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I/O devices are represented as fi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sda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us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isk parti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tty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(terminal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n the kernel is represented as a fil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km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(kernel memory image)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pr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(kernel data structur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5824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File Typ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600" y="11430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ular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or text fil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does not know the difference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rectory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hat contains the names and locations of other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 special and block special fi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inals (character special) and disks ( block special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O (named pi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ype used for interprocess comun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ck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ype used for network communication between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elegant mapping of files to devices allows kernel to export simple interface called Unix I/O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Unix idea: All input and output is handled in a consistent and uniform wa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Unix I/O operations (system calls): 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ing and closing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open(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lose(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anging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urrent file posi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eek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see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(not discussed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a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ead(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rite(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496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en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624880" cy="57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ning a file informs the kernel that you are getting ready to access that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a small identifying integ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le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 == 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process created by a Unix shell begins life with three open files associated with a terminal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: standard in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: standard out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: standard err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073240"/>
            <a:ext cx="6324840" cy="155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fd = open(“/etc/hosts”, O_RDONLY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ope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06T20:47:48Z</dcterms:modified>
  <cp:revision>325</cp:revision>
  <dc:subject/>
  <dc:title>System-Level I/O</dc:title>
</cp:coreProperties>
</file>