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06A9BF69-3628-469C-A6E3-6B78E7FFD09B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e Measurement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24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sca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val coun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ycle coun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-best measurement sche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8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99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uracy of Interval Count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3120" y="3352680"/>
            <a:ext cx="8282160" cy="28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st Cas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r Interval 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ocess segment measurement can be off by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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bound on error for multiple seg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uld consistently underestimate, or consistently overestim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89840" y="2631960"/>
            <a:ext cx="107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172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792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444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238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889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683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334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128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780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559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210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004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656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446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801720" y="1057320"/>
            <a:ext cx="2754360" cy="1376280"/>
            <a:chOff x="801720" y="1057320"/>
            <a:chExt cx="2754360" cy="1376280"/>
          </a:xfrm>
        </p:grpSpPr>
        <p:sp>
          <p:nvSpPr>
            <p:cNvPr id="328" name=""/>
            <p:cNvSpPr/>
            <p:nvPr/>
          </p:nvSpPr>
          <p:spPr>
            <a:xfrm>
              <a:off x="80172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4444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8896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3348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7800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2108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6560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0976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5428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2097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876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32640" y="118440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32640" y="175752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68760" y="990720"/>
            <a:ext cx="13780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61360" y="1241280"/>
            <a:ext cx="9259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60640" y="1722600"/>
            <a:ext cx="989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9840" y="2631960"/>
            <a:ext cx="107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172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792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444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238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889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683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334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128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780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559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210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004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656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446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172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4444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889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334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7800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2108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6560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97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542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0172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4444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89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334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7800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2108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6560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097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542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097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8696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95480" y="1171440"/>
            <a:ext cx="2144520" cy="3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1920" y="118440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1746360"/>
            <a:ext cx="2667240" cy="345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31920" y="175752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68760" y="990720"/>
            <a:ext cx="13780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61360" y="1241280"/>
            <a:ext cx="9259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59560" y="1722600"/>
            <a:ext cx="989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29200" y="1143000"/>
            <a:ext cx="3581280" cy="120276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uted time = 70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n Actual = 60 +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x Actual = 80 –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99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uracy of Int. Cntg.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3120" y="3429000"/>
            <a:ext cx="8282160" cy="27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verage Cas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/underestimates tend to balance o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long as total run time is sufficiently lar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 run time ~1 secon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 timer interv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istently miss 4% overhead due to timer interrup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89840" y="2631960"/>
            <a:ext cx="107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0172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792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4444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238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4889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683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334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128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780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4559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210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004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656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446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01720" y="1057320"/>
            <a:ext cx="2754360" cy="1376280"/>
            <a:chOff x="801720" y="1057320"/>
            <a:chExt cx="2754360" cy="1376280"/>
          </a:xfrm>
        </p:grpSpPr>
        <p:sp>
          <p:nvSpPr>
            <p:cNvPr id="407" name=""/>
            <p:cNvSpPr/>
            <p:nvPr/>
          </p:nvSpPr>
          <p:spPr>
            <a:xfrm>
              <a:off x="80172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4444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8896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348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7800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2108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65600" y="1057320"/>
              <a:ext cx="144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976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54280" y="1057320"/>
              <a:ext cx="1800" cy="137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2097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876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2640" y="118440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32640" y="175752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68760" y="990720"/>
            <a:ext cx="13780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61360" y="1241280"/>
            <a:ext cx="9259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60640" y="1722600"/>
            <a:ext cx="989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89840" y="2631960"/>
            <a:ext cx="107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172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7928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444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238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889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683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334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128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780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5592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2108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0044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65600" y="2548080"/>
            <a:ext cx="690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4460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172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444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889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334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7800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2108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6560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097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542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172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444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889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334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17800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2108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65600" y="1057320"/>
            <a:ext cx="144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0976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54280" y="1057320"/>
            <a:ext cx="1800" cy="137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09760" y="2548080"/>
            <a:ext cx="69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86960" y="2631960"/>
            <a:ext cx="2142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95480" y="1171440"/>
            <a:ext cx="2144520" cy="3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31920" y="118440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38080" y="1746360"/>
            <a:ext cx="2667240" cy="345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31920" y="1757520"/>
            <a:ext cx="203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68760" y="990720"/>
            <a:ext cx="137808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61360" y="1241280"/>
            <a:ext cx="9259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59560" y="1722600"/>
            <a:ext cx="989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1143000"/>
            <a:ext cx="3581280" cy="120276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uted time = 70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n Actual = 60 +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x Actual = 80 –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34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ycle Coun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3120" y="1371240"/>
            <a:ext cx="8282160" cy="11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lvl="1" marL="290160" indent="-95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modern systems have built in registers that are incremented every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46760" indent="-92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ery fine grai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446760" indent="-92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intained as part of process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623880" indent="-889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 Linux, counts elapsed global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90160" indent="-95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ecial assembly code instruction to ac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90160" indent="-95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(recent model) Intel machine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46760" indent="-92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4 bit counte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446760" indent="-92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DTSC instruction set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high order 32-bits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low order 32-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34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ycle Counter Perio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3120" y="1371240"/>
            <a:ext cx="8282160" cy="11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8000"/>
          </a:bodyPr>
          <a:p>
            <a:pPr marL="14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ap Around Times for 550 MHz mach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82600" indent="-93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w order 32 bits wrap around every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3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/ (550 * 10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= 7.8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2600" indent="-93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order 64 bits wrap around every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6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/ (550 * 10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= 33539534679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35240" indent="-903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65 yea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4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2 GHz mach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82600" indent="-93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w order 32-bits every 2.1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2600" indent="-93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order 64 bits every 293 yea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246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ing with Cycle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3120" y="1142640"/>
            <a:ext cx="8282160" cy="14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marL="235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53960" indent="-149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current value of cycle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99120" indent="-145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as pair of unsigned’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yc_h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yc_l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3960" indent="-149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omet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-149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new value of cycle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-149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 double precision subtraction to get elapsed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35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35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3657600"/>
            <a:ext cx="7162560" cy="2284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Keep track of most recent reading of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unsigned cyc_hi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unsigned cyc_lo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start_counter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urrent value of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ccess_counter(&amp;cyc_hi, &amp;cyc_l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the Cycle Cntr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3120" y="1066320"/>
            <a:ext cx="8282160" cy="15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2000"/>
          </a:bodyPr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CC allows inline assembly code with mechanism for matching registers with program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only works on x86 machine compiling with GC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mit assembly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dts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tw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2286000"/>
            <a:ext cx="7162560" cy="2040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ccess_counter(unsigned *hi, unsigned 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"rdtsc; movl %%edx,%0; movl %%eax,%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=r" (*hi), "=r" (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/* No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Extended A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32763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8000"/>
          </a:bodyPr>
          <a:p>
            <a:pPr marL="14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 St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82600" indent="-93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ies of assembly comma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35240" indent="-903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parated by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 or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\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435240" indent="-903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%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 where normally would use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320" y="1143000"/>
            <a:ext cx="3352680" cy="131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“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struction String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ut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Clobbers Lis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05320" y="990720"/>
            <a:ext cx="5562360" cy="2284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ccess_cou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unsigned *hi, unsigned 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"rdtsc; movl %%edx,%0; movl %%eax,%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=r" (*hi), "=r" (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/* No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Extended A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2280" y="32000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8000"/>
          </a:bodyPr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08440" indent="-6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ions indicating destinations for valu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20760" indent="-66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losed in parenthe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20760" indent="-66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be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l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447840" indent="-637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 that can appear on LHS of assignme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08440" indent="-6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"=r"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symbolic value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etc.), should be replaced by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6320" y="1143000"/>
            <a:ext cx="3352680" cy="131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“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struction String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ut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Clobbers Lis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05320" y="990720"/>
            <a:ext cx="5562360" cy="2284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ccess_cou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unsigned *hi, unsigned 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"rdtsc; movl %%edx,%0; movl %%eax,%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"=r" (*hi), "=r" (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/* No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Extended A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32763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111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put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15640" indent="-71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ies of expressions indicating sources for valu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+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+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32280" indent="-687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losed in parenthe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32280" indent="-687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y expression returning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215640" indent="-71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"r"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symbolic value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etc.) will come from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1143000"/>
            <a:ext cx="3352680" cy="131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“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struction String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ut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Clobbers Lis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990720"/>
            <a:ext cx="5562360" cy="2284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ccess_cou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unsigned *hi, unsigned 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"rdtsc; movl %%edx,%0; movl %%eax,%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=r" (*hi), "=r" (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/* No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Extended A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2280" y="32763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6000"/>
          </a:bodyPr>
          <a:p>
            <a:pPr marL="13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bbers Li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67840" indent="-882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of register names that get altered by assembly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67840" indent="-882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will make sure doesn’t store something in one of these registers that must be preserved acro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s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12560" indent="-85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lue set before &amp; used af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3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320" y="1143000"/>
            <a:ext cx="3352680" cy="131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“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struction String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ut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put Li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Clobbers Lis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5320" y="990720"/>
            <a:ext cx="5562360" cy="22842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ccess_cou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unsigned *hi, unsigned 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sm("rdtsc; movl %%edx,%0; movl %%eax,%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"=r" (*hi), "=r" (*l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/* No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"%edx", "%eax"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34800"/>
            <a:ext cx="605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er Time Sca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4190760"/>
            <a:ext cx="405144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wo Fundamental Time Sca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or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–9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09760" indent="-202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ternal events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–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64280" indent="-1501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Keyboard inpu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764280" indent="-1501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isk seek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764280" indent="-1501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51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creen refres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44920" y="4190760"/>
            <a:ext cx="4076640" cy="22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mplic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 execute many instructions while waiting for external event to occu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 alternate among processes without anyone notic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838080" y="1219320"/>
            <a:ext cx="7696440" cy="2571480"/>
            <a:chOff x="838080" y="1219320"/>
            <a:chExt cx="7696440" cy="2571480"/>
          </a:xfrm>
        </p:grpSpPr>
        <p:sp>
          <p:nvSpPr>
            <p:cNvPr id="85" name=""/>
            <p:cNvSpPr/>
            <p:nvPr/>
          </p:nvSpPr>
          <p:spPr>
            <a:xfrm>
              <a:off x="838080" y="1219320"/>
              <a:ext cx="7696440" cy="2571480"/>
            </a:xfrm>
            <a:prstGeom prst="rect">
              <a:avLst/>
            </a:prstGeom>
            <a:solidFill>
              <a:srgbClr val="ff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219320"/>
              <a:ext cx="7696440" cy="2571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84400" y="1692360"/>
              <a:ext cx="6845040" cy="14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46160" y="2930400"/>
              <a:ext cx="763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22480" y="2751120"/>
              <a:ext cx="10152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50960" y="2751120"/>
              <a:ext cx="10152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22360" y="2751120"/>
              <a:ext cx="10188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27680" y="2751120"/>
              <a:ext cx="10152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04120" y="2751120"/>
              <a:ext cx="10152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40360" y="2751120"/>
              <a:ext cx="10188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81840" y="2751120"/>
              <a:ext cx="101520" cy="93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76840" y="1355760"/>
              <a:ext cx="26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 Scale (1 Ghz Machine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3680" y="328140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E-09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91760" y="328140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E-06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1000" y="328140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E-0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34240" y="3281400"/>
              <a:ext cx="57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E+0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12760" y="3352680"/>
              <a:ext cx="148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(seconds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3000" y="29336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01160" y="299232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n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59000" y="29336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00840" y="299412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37640" y="297648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18640" y="2994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45000" y="29336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48320" y="2992320"/>
              <a:ext cx="38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m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31000" y="29336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08840" y="2992320"/>
              <a:ext cx="24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8800" y="1943280"/>
              <a:ext cx="9716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47000" y="2001960"/>
              <a:ext cx="92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ger Ad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63720" y="2171880"/>
              <a:ext cx="9381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53360" y="2230560"/>
              <a:ext cx="88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P Multipl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49520" y="2400480"/>
              <a:ext cx="844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39880" y="2459160"/>
              <a:ext cx="77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P Divid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77920" y="209556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lnTo>
                    <a:pt x="96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97240" y="25527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11440" y="232416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288"/>
                  </a:moveTo>
                  <a:lnTo>
                    <a:pt x="96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16400" y="2247840"/>
              <a:ext cx="862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04960" y="230652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strok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04600" y="2489040"/>
              <a:ext cx="66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rup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07120" y="267192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87800" y="25527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69240" y="1943280"/>
              <a:ext cx="1014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57440" y="2001960"/>
              <a:ext cx="97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sk Acces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01000" y="2171880"/>
              <a:ext cx="12412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88120" y="2230560"/>
              <a:ext cx="1241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reen Refresh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97840" y="2400480"/>
              <a:ext cx="8618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86040" y="245916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strok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88000" y="209556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lnTo>
                    <a:pt x="96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45200" y="25527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92920" y="232416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288"/>
                  </a:moveTo>
                  <a:lnTo>
                    <a:pt x="96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77920" y="1714680"/>
              <a:ext cx="1676520" cy="228600"/>
            </a:xfrm>
            <a:custGeom>
              <a:avLst/>
              <a:gdLst/>
              <a:ahLst/>
              <a:rect l="l" t="t" r="r" b="b"/>
              <a:pathLst>
                <a:path w="1056" h="144">
                  <a:moveTo>
                    <a:pt x="1056" y="144"/>
                  </a:moveTo>
                  <a:lnTo>
                    <a:pt x="1054" y="129"/>
                  </a:lnTo>
                  <a:lnTo>
                    <a:pt x="1049" y="116"/>
                  </a:lnTo>
                  <a:lnTo>
                    <a:pt x="1041" y="104"/>
                  </a:lnTo>
                  <a:lnTo>
                    <a:pt x="1030" y="93"/>
                  </a:lnTo>
                  <a:lnTo>
                    <a:pt x="1017" y="84"/>
                  </a:lnTo>
                  <a:lnTo>
                    <a:pt x="1002" y="78"/>
                  </a:lnTo>
                  <a:lnTo>
                    <a:pt x="986" y="73"/>
                  </a:lnTo>
                  <a:lnTo>
                    <a:pt x="968" y="72"/>
                  </a:lnTo>
                  <a:lnTo>
                    <a:pt x="616" y="72"/>
                  </a:lnTo>
                  <a:lnTo>
                    <a:pt x="598" y="71"/>
                  </a:lnTo>
                  <a:lnTo>
                    <a:pt x="582" y="66"/>
                  </a:lnTo>
                  <a:lnTo>
                    <a:pt x="567" y="60"/>
                  </a:lnTo>
                  <a:lnTo>
                    <a:pt x="554" y="51"/>
                  </a:lnTo>
                  <a:lnTo>
                    <a:pt x="543" y="40"/>
                  </a:lnTo>
                  <a:lnTo>
                    <a:pt x="535" y="28"/>
                  </a:lnTo>
                  <a:lnTo>
                    <a:pt x="530" y="15"/>
                  </a:lnTo>
                  <a:lnTo>
                    <a:pt x="528" y="0"/>
                  </a:lnTo>
                  <a:lnTo>
                    <a:pt x="526" y="15"/>
                  </a:lnTo>
                  <a:lnTo>
                    <a:pt x="521" y="28"/>
                  </a:lnTo>
                  <a:lnTo>
                    <a:pt x="513" y="40"/>
                  </a:lnTo>
                  <a:lnTo>
                    <a:pt x="502" y="51"/>
                  </a:lnTo>
                  <a:lnTo>
                    <a:pt x="489" y="60"/>
                  </a:lnTo>
                  <a:lnTo>
                    <a:pt x="474" y="66"/>
                  </a:lnTo>
                  <a:lnTo>
                    <a:pt x="458" y="71"/>
                  </a:lnTo>
                  <a:lnTo>
                    <a:pt x="440" y="72"/>
                  </a:lnTo>
                  <a:lnTo>
                    <a:pt x="88" y="72"/>
                  </a:lnTo>
                  <a:lnTo>
                    <a:pt x="70" y="73"/>
                  </a:lnTo>
                  <a:lnTo>
                    <a:pt x="54" y="78"/>
                  </a:lnTo>
                  <a:lnTo>
                    <a:pt x="39" y="84"/>
                  </a:lnTo>
                  <a:lnTo>
                    <a:pt x="26" y="93"/>
                  </a:lnTo>
                  <a:lnTo>
                    <a:pt x="15" y="104"/>
                  </a:lnTo>
                  <a:lnTo>
                    <a:pt x="7" y="116"/>
                  </a:lnTo>
                  <a:lnTo>
                    <a:pt x="2" y="129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35720" y="1714680"/>
              <a:ext cx="1676520" cy="228600"/>
            </a:xfrm>
            <a:custGeom>
              <a:avLst/>
              <a:gdLst/>
              <a:ahLst/>
              <a:rect l="l" t="t" r="r" b="b"/>
              <a:pathLst>
                <a:path w="1056" h="144">
                  <a:moveTo>
                    <a:pt x="1056" y="144"/>
                  </a:moveTo>
                  <a:lnTo>
                    <a:pt x="1054" y="129"/>
                  </a:lnTo>
                  <a:lnTo>
                    <a:pt x="1049" y="116"/>
                  </a:lnTo>
                  <a:lnTo>
                    <a:pt x="1041" y="104"/>
                  </a:lnTo>
                  <a:lnTo>
                    <a:pt x="1030" y="93"/>
                  </a:lnTo>
                  <a:lnTo>
                    <a:pt x="1017" y="84"/>
                  </a:lnTo>
                  <a:lnTo>
                    <a:pt x="1002" y="78"/>
                  </a:lnTo>
                  <a:lnTo>
                    <a:pt x="986" y="73"/>
                  </a:lnTo>
                  <a:lnTo>
                    <a:pt x="968" y="72"/>
                  </a:lnTo>
                  <a:lnTo>
                    <a:pt x="616" y="72"/>
                  </a:lnTo>
                  <a:lnTo>
                    <a:pt x="598" y="71"/>
                  </a:lnTo>
                  <a:lnTo>
                    <a:pt x="582" y="66"/>
                  </a:lnTo>
                  <a:lnTo>
                    <a:pt x="567" y="60"/>
                  </a:lnTo>
                  <a:lnTo>
                    <a:pt x="554" y="51"/>
                  </a:lnTo>
                  <a:lnTo>
                    <a:pt x="543" y="40"/>
                  </a:lnTo>
                  <a:lnTo>
                    <a:pt x="535" y="28"/>
                  </a:lnTo>
                  <a:lnTo>
                    <a:pt x="530" y="15"/>
                  </a:lnTo>
                  <a:lnTo>
                    <a:pt x="528" y="0"/>
                  </a:lnTo>
                  <a:lnTo>
                    <a:pt x="526" y="15"/>
                  </a:lnTo>
                  <a:lnTo>
                    <a:pt x="521" y="28"/>
                  </a:lnTo>
                  <a:lnTo>
                    <a:pt x="513" y="40"/>
                  </a:lnTo>
                  <a:lnTo>
                    <a:pt x="502" y="51"/>
                  </a:lnTo>
                  <a:lnTo>
                    <a:pt x="489" y="60"/>
                  </a:lnTo>
                  <a:lnTo>
                    <a:pt x="474" y="66"/>
                  </a:lnTo>
                  <a:lnTo>
                    <a:pt x="458" y="71"/>
                  </a:lnTo>
                  <a:lnTo>
                    <a:pt x="440" y="72"/>
                  </a:lnTo>
                  <a:lnTo>
                    <a:pt x="88" y="72"/>
                  </a:lnTo>
                  <a:lnTo>
                    <a:pt x="70" y="73"/>
                  </a:lnTo>
                  <a:lnTo>
                    <a:pt x="54" y="78"/>
                  </a:lnTo>
                  <a:lnTo>
                    <a:pt x="39" y="84"/>
                  </a:lnTo>
                  <a:lnTo>
                    <a:pt x="26" y="93"/>
                  </a:lnTo>
                  <a:lnTo>
                    <a:pt x="15" y="104"/>
                  </a:lnTo>
                  <a:lnTo>
                    <a:pt x="7" y="116"/>
                  </a:lnTo>
                  <a:lnTo>
                    <a:pt x="2" y="129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92200" y="1387440"/>
              <a:ext cx="11224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80760" y="144612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icroscopi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57840" y="1409760"/>
              <a:ext cx="11811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46040" y="146844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acroscopi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4400" y="2930400"/>
              <a:ext cx="761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09720" y="2930400"/>
              <a:ext cx="752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62480" y="2930400"/>
              <a:ext cx="763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26040" y="2930400"/>
              <a:ext cx="761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87800" y="2930400"/>
              <a:ext cx="763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51360" y="2930400"/>
              <a:ext cx="752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04120" y="2930400"/>
              <a:ext cx="7635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67680" y="2930400"/>
              <a:ext cx="761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2360" y="290196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20" y="0"/>
                  </a:moveTo>
                  <a:lnTo>
                    <a:pt x="39" y="36"/>
                  </a:lnTo>
                  <a:lnTo>
                    <a:pt x="0" y="3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1628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7984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3224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4000" y="290196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20" y="0"/>
                  </a:moveTo>
                  <a:lnTo>
                    <a:pt x="39" y="36"/>
                  </a:lnTo>
                  <a:lnTo>
                    <a:pt x="0" y="3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57920" y="290196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9" y="0"/>
                  </a:moveTo>
                  <a:lnTo>
                    <a:pt x="39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2148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388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7440" y="2901960"/>
              <a:ext cx="60120" cy="572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0"/>
                  </a:moveTo>
                  <a:lnTo>
                    <a:pt x="38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99560" y="2901960"/>
              <a:ext cx="61920" cy="5724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9" y="0"/>
                  </a:moveTo>
                  <a:lnTo>
                    <a:pt x="39" y="36"/>
                  </a:lnTo>
                  <a:lnTo>
                    <a:pt x="0" y="3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the Cycle Cntr.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3120" y="1371600"/>
            <a:ext cx="82821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6000"/>
          </a:bodyPr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mitted Assembly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0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93320" indent="-6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h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replac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93320" indent="-6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l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replac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93320" indent="-6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us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value that must be carried across inserted assembl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2057400"/>
            <a:ext cx="7467480" cy="20142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si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h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i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AP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dtsc; movl %edx,%ecx; movl %eax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NO_AP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cx,(%esi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tore high bits at *h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di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tore low bits at *l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34800"/>
            <a:ext cx="7238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leting Measur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3120" y="1371600"/>
            <a:ext cx="828216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new value of cycle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 double precision subtraction to get elapsed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avoid overflow probl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14400" y="3048120"/>
            <a:ext cx="7162920" cy="30142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get_counter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ncyc_hi, ncyc_l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hi, lo, borrow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ccess_counter(&amp;ncyc_hi, &amp;ncyc_l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Do double precision subtractio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o = ncyc_lo - cyc_l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rrow = lo &gt; ncyc_l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i = ncyc_hi - cyc_hi - borrow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(double) hi * (1 &lt;&lt; 30) * 4 + l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334800"/>
            <a:ext cx="6662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ing With Cycle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termine Clock Rate of Process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unt number of cycles required for some fixed number of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ime Function 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attempt: Simply count cycles for one execution of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5029200"/>
            <a:ext cx="6553080" cy="10674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tsec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secs = get_counter() / (MHZ * 1e6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2514600"/>
            <a:ext cx="6553080" cy="13107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MHZ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leep_time = 1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leep(sleep_tim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HZ = get_counter()/(sleep_time * 1e6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6256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ement Pitfal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_counter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curs small amount of overhe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ant to measure long enough code sequence to compens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expected Cache Effec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tificial hits or mi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these measurements were taken with the Alpha cycle count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o1(array1, array2, array3)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/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68,829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cycles */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o2(array1, array2, array3)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/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23,337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cycles */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v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o2(array1, array2, array3)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/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70,513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cycles */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o1(array1, array2, array3)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/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23,203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cycles */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62080" y="334800"/>
            <a:ext cx="8881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Overhead &amp; Cache Effec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execute function once to “warm up”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doubling number of times execute P() until reach some threshol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CMIN = 5000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914400" y="2666880"/>
            <a:ext cx="7010280" cy="35010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nt = 1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cmeas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cycle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 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 = cn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);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Warm up cach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_counter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c-- &g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eas = get_counter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ycles = cmeas / cn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 += cn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while (cmeas &lt; CMIN);  /* Make sure have enough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cycles / (1e6 * MHZ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434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tasking Effec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ycle Counter Measures Elapsed Ti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s accumulating during periods of inactiv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ystem activ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unning other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ycle counter never underestimates program run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ssibly overestimates by large amou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-Best Measurement Sche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 up to N (e.g., 20) measurements of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if fastest K (e.g., 3) within some relative factor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0.001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90720" y="5729400"/>
            <a:ext cx="6400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81080" y="5653080"/>
            <a:ext cx="15264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0" y="5653080"/>
            <a:ext cx="15228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71800" y="5653080"/>
            <a:ext cx="15228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91120" y="5653080"/>
            <a:ext cx="15228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19720" y="5653080"/>
            <a:ext cx="15228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81480" y="5653080"/>
            <a:ext cx="15264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16200000">
            <a:off x="2095560" y="576684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990720" y="5652720"/>
            <a:ext cx="0" cy="1522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59200" y="6033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5653080"/>
            <a:ext cx="152280" cy="1522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2311560" cy="109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-Best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alid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90520" y="4800240"/>
            <a:ext cx="4076640" cy="14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ery good accuracy for &lt; 8m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thin one timer interva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ven when heavily load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21240" y="4800240"/>
            <a:ext cx="4076640" cy="14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ess accurate of &gt; 10m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-2235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ght load: ~4%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terval clock interrupt handlin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77160" indent="-2235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vy load: Very high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438280" y="152280"/>
          <a:ext cx="655344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2280"/>
                    <a:ext cx="655344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560" y="304560"/>
            <a:ext cx="302256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ensate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Timer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he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90520" y="4500360"/>
            <a:ext cx="4433760" cy="167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ubtract Timer Overhea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stimate overhead of single interrupt by measuring periods of inactivit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 interval timer to determine number of interrupts that have occurr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38760" y="4500360"/>
            <a:ext cx="4076640" cy="167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etter Accuracy for &gt; 10m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ght load: 0.2%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vy load: Still very high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971800" y="31680"/>
          <a:ext cx="6172200" cy="42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1680"/>
                    <a:ext cx="61722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1600200" cy="109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-Best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n 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5000760"/>
            <a:ext cx="4076640" cy="144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cceptable accuracy for &lt; 50m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cheduler allows process to run multiple interval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21240" y="5000760"/>
            <a:ext cx="4076640" cy="144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ess accurate of &gt; 10m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ght load: 2%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vy load: Generally very high erro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209680" y="0"/>
          <a:ext cx="6934320" cy="48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0"/>
                    <a:ext cx="69343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040" y="334800"/>
            <a:ext cx="5722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e of Day C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3120" y="1066320"/>
            <a:ext cx="8282160" cy="15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timeofday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elapsed time since reference time (Jan 1, 1970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87600" indent="-142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s interval counting on some machin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960120" indent="-1371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arse grain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687600" indent="-142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s cycle counter on oth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960120" indent="-1371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e grained, but significant overhead and only 1 microsecond resolu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31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066680" y="3809880"/>
            <a:ext cx="6553440" cy="2527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ys/time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unistd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timeval tstart, tfinish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tsec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timeofday(&amp;tstart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timeofday(&amp;tfinish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secs = (tfinish.tv_sec - tstart.tv_sec) +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e6 * (tfinish.tv_usec - tstart.tv_usec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ement Challen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Much Time Does Program X Requir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U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many total seconds are used when executing X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asure used for most appli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mall dependence on other system activit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ual (“Wall”)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many seconds elapse between the start and the completion of X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pends on system load, I/O times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founding Fa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oes time get measure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processes share computing resour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ient effects when switching from one process to ano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ddenly, the effects of alternating among processes become notice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269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K-Best Us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gettimeofd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160" y="5257800"/>
            <a:ext cx="43578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inu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 good as using cycle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times &gt; 10 microsecond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21240" y="5257800"/>
            <a:ext cx="407664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indow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54840" indent="-2163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emented by interval count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54840" indent="-2163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o coarse-grain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219320" y="685800"/>
          <a:ext cx="6553080" cy="45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65530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6624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ement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iming is highly case and system depend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s overall duration being measure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&gt; 1 second: interval counting is O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&lt;&lt; 1 second: must use cycle cou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what hardware / OS / OS versio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cessing cou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w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timeofda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implement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imer interrupt overh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heduling poli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vising a Measurement Metho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ng durations: use Unix timing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rt du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possible,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gettimeofd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wise must work with cycle cou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-best scheme most successfu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e” on a Computer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2680" y="1682640"/>
            <a:ext cx="55627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95200" y="1776240"/>
            <a:ext cx="241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l (wall clock) 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35728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70080" y="2233440"/>
            <a:ext cx="6669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user tim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(time executing instructions in the user proces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46320" y="4626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72680" y="465444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93880" y="4626000"/>
            <a:ext cx="889200" cy="355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44120" y="4654440"/>
            <a:ext cx="267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 real (wall clock) 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03840" y="5111640"/>
            <a:ext cx="546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We will use the word “time” to refer to user tim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1143000"/>
            <a:ext cx="279360" cy="355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1143000"/>
            <a:ext cx="279360" cy="355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1143000"/>
            <a:ext cx="279360" cy="355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119400"/>
            <a:ext cx="888840" cy="355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2995560"/>
            <a:ext cx="6669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system tim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(time executing instructions in kernel on behalf of user proces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20600" y="465444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1800" y="4626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06360" y="3835440"/>
            <a:ext cx="889200" cy="3556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57480" y="3711600"/>
            <a:ext cx="668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some other user’s tim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(time executing instructions in different user’s proces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13640" y="579132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umulative user 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888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tivity Periods: Light Lo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90520" y="4190760"/>
            <a:ext cx="4076640" cy="20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707040" indent="-2332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st of the time spent executing one proc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riodic interrupts every 10m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terval timer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Keep system from executing one process to exclusion of oth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21240" y="4190760"/>
            <a:ext cx="4076640" cy="20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ther interrup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ue to I/O activit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activity period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ystem time spent processing interrupt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~250,000 clock cycles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71440" y="2173320"/>
            <a:ext cx="55260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2404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2200" y="2173320"/>
            <a:ext cx="76176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2396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62120" y="2173320"/>
            <a:ext cx="33336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2173320"/>
            <a:ext cx="42876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2424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62400" y="2173320"/>
            <a:ext cx="77148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3388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72040" y="2173320"/>
            <a:ext cx="76176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3380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71960" y="2173320"/>
            <a:ext cx="54288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14840" y="2173320"/>
            <a:ext cx="22860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4344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81600" y="2173320"/>
            <a:ext cx="762120" cy="77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43720" y="2173320"/>
            <a:ext cx="38160" cy="77148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71440" y="3525840"/>
            <a:ext cx="646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171440" y="3525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981080" y="3525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790720" y="3525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00360" y="3525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410000" y="3525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210280" y="3525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019920" y="3525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829560" y="3525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39200" y="3525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71440" y="1592280"/>
            <a:ext cx="1800" cy="1933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5258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15922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69040" y="1697040"/>
            <a:ext cx="2176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Periods, Load =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59920" y="36590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520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2484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3448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412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4440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5404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6368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73320" y="36590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2487600"/>
            <a:ext cx="57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16880" y="3916440"/>
            <a:ext cx="843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(m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57440" y="2973240"/>
            <a:ext cx="11412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57360" y="2973240"/>
            <a:ext cx="11448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67000" y="2973240"/>
            <a:ext cx="11448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67280" y="2973240"/>
            <a:ext cx="11412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67200" y="2973240"/>
            <a:ext cx="11448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76840" y="2973240"/>
            <a:ext cx="11448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77120" y="2973240"/>
            <a:ext cx="114120" cy="228600"/>
          </a:xfrm>
          <a:custGeom>
            <a:avLst/>
            <a:gdLst/>
            <a:ahLst/>
            <a:rect l="l" t="t" r="r" b="b"/>
            <a:pathLst>
              <a:path w="72" h="144">
                <a:moveTo>
                  <a:pt x="36" y="0"/>
                </a:moveTo>
                <a:lnTo>
                  <a:pt x="0" y="144"/>
                </a:lnTo>
                <a:lnTo>
                  <a:pt x="72" y="144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62600" y="2239920"/>
            <a:ext cx="238320" cy="23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62600" y="2544840"/>
            <a:ext cx="238320" cy="23796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67520" y="2239920"/>
            <a:ext cx="695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13680" y="2297160"/>
            <a:ext cx="488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67520" y="2544840"/>
            <a:ext cx="819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15840" y="2602080"/>
            <a:ext cx="618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activ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tivity Periods: Heavy Lo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90520" y="4343400"/>
            <a:ext cx="8307360" cy="21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ing processor with one other active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om perspective of this process, system appears to be “inactive” for ~50% of th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process is execu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09640" y="1266840"/>
            <a:ext cx="7886520" cy="2516040"/>
            <a:chOff x="809640" y="1266840"/>
            <a:chExt cx="7886520" cy="2516040"/>
          </a:xfrm>
        </p:grpSpPr>
        <p:sp>
          <p:nvSpPr>
            <p:cNvPr id="250" name=""/>
            <p:cNvSpPr/>
            <p:nvPr/>
          </p:nvSpPr>
          <p:spPr>
            <a:xfrm>
              <a:off x="914400" y="1847880"/>
              <a:ext cx="77148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85880" y="1847880"/>
              <a:ext cx="38160" cy="771480"/>
            </a:xfrm>
            <a:prstGeom prst="rect">
              <a:avLst/>
            </a:pr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4040" y="1847880"/>
              <a:ext cx="12384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47880" y="1847880"/>
              <a:ext cx="64764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95520" y="1847880"/>
              <a:ext cx="838080" cy="771480"/>
            </a:xfrm>
            <a:prstGeom prst="rect">
              <a:avLst/>
            </a:pr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33600" y="1847880"/>
              <a:ext cx="30492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38520" y="1847880"/>
              <a:ext cx="46692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05440" y="1847880"/>
              <a:ext cx="847440" cy="771480"/>
            </a:xfrm>
            <a:prstGeom prst="rect">
              <a:avLst/>
            </a:pr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52880" y="1847880"/>
              <a:ext cx="77148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4360" y="1847880"/>
              <a:ext cx="838440" cy="771480"/>
            </a:xfrm>
            <a:prstGeom prst="rect">
              <a:avLst/>
            </a:pr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2800" y="1847880"/>
              <a:ext cx="35244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15240" y="1847880"/>
              <a:ext cx="419040" cy="77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34280" y="1847880"/>
              <a:ext cx="47520" cy="771480"/>
            </a:xfrm>
            <a:prstGeom prst="rect">
              <a:avLst/>
            </a:prstGeom>
            <a:solidFill>
              <a:srgbClr val="3333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4400" y="3200400"/>
              <a:ext cx="6467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914400" y="3200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724040" y="3200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533680" y="3200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343320" y="3200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152960" y="3200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52880" y="32004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762520" y="32004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572160" y="32004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381800" y="32004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14400" y="1266840"/>
              <a:ext cx="1440" cy="19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85960" y="32004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85960" y="12668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12000" y="1371600"/>
              <a:ext cx="2176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ity Periods, Load = 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02880" y="333360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5816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6780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744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8708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8700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9664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0628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15920" y="33336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9640" y="216216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59840" y="3591000"/>
              <a:ext cx="843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(ms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38360" y="264780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2647800"/>
              <a:ext cx="11448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7920" y="2647800"/>
              <a:ext cx="11448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48200" y="264780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48120" y="2647800"/>
              <a:ext cx="11448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57760" y="2647800"/>
              <a:ext cx="11448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58040" y="264780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7960" y="2647800"/>
              <a:ext cx="11448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36" y="0"/>
                  </a:moveTo>
                  <a:lnTo>
                    <a:pt x="0" y="144"/>
                  </a:lnTo>
                  <a:lnTo>
                    <a:pt x="72" y="1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72240" y="1914480"/>
              <a:ext cx="238320" cy="2383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72240" y="2219400"/>
              <a:ext cx="238320" cy="237960"/>
            </a:xfrm>
            <a:prstGeom prst="rect">
              <a:avLst/>
            </a:prstGeom>
            <a:solidFill>
              <a:srgbClr val="4d4d4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77160" y="1914480"/>
              <a:ext cx="6955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23320" y="1971720"/>
              <a:ext cx="488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77160" y="2219400"/>
              <a:ext cx="8190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25120" y="2276640"/>
              <a:ext cx="61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activ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6078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val Count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1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Measures Runtimes Using Interval Tim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intain 2 counts p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ystem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ime get timer interrupt, increment counter for executing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 time if running in user m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ystem time if running in kernel m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val Count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004320" cy="31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878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ime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Comman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90520" y="3200040"/>
            <a:ext cx="8307360" cy="32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82 seconds user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2 timer interv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30 seconds system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0 timer interv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32 seconds wall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4.8% of total was used running these processe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.82+0.3)/1.32 = .84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01160" y="1219320"/>
            <a:ext cx="700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 make osev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cc -O2 -Wall -g  -march=i486 -c clo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cc -O2 -Wall -g  -march=i486 -c options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cc -O2 -Wall -g  -march=i486 -c load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cc -O2 -Wall -g  -march=i486 -o osevent osevent.c 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.820u 0.300s 0:01.32 84.8%     0+0k 0+0io 4049pf+0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5:44Z</dcterms:modified>
  <cp:revision>124</cp:revision>
  <dc:subject/>
  <dc:title>Time Measurement</dc:title>
</cp:coreProperties>
</file>