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6406D72-4220-4313-B467-E6E4EDB0C2E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doubly-link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gregated free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arbage coll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-related perils and pit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41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ze cla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as its own collection of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4280" y="1949400"/>
            <a:ext cx="6779160" cy="3080520"/>
            <a:chOff x="764280" y="1949400"/>
            <a:chExt cx="6779160" cy="3080520"/>
          </a:xfrm>
        </p:grpSpPr>
        <p:sp>
          <p:nvSpPr>
            <p:cNvPr id="295" name=""/>
            <p:cNvSpPr/>
            <p:nvPr/>
          </p:nvSpPr>
          <p:spPr>
            <a:xfrm>
              <a:off x="14475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524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19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68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3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9076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19494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5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52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763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862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07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56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051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100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475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24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74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19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718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3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956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33210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0516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10080" y="33210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2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74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19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668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763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07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56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06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1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00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5000" y="40068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956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24480" y="40068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2448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9400" y="26352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33960" y="26352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7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24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74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619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668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63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07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956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051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469260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560" y="469260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6200" y="19494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-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8120" y="26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52280" y="330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16200" y="40068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-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4280" y="46926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9-1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74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862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862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19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0600" y="27874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812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6688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1956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0760" y="34732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0600" y="21016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38880" y="27874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9400" y="41590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000" y="3473280"/>
              <a:ext cx="304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484488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57200" y="52578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ten have separate size class for every small size (2,3,4,…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larger sizes typically have a size class for each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Segregated Sto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parate heap and free list for each size clas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 split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for size n is not empty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 (note, list can be implicit or explicit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free list is empty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t a new page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reate new free list from all blocks in pag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ocate first block on lis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tan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to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page is empty, return the page for use by another size (optional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deoff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st, but can fragment bad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gregated F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25516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of free lists, each one for some size cla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arch appropriate free list for block of size m &g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 appropriate block is found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lit block and place fragment on appropriate list (option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 block is found, try next larger cla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until block is fou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e and place on appropriate list (optio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deoff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ster search than sequential fits (i.e., log time for power of two size class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s fragmentation of simple segregated 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alescing can increase search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erred coalescing can hel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99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 on Alloca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3120" y="1447920"/>
            <a:ext cx="82821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. Knuth, “The Art of Computer Programming, Second Edition”, Addison Wesley, 197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lassic reference on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lson et al, “Dynamic Storage Allocation: A Survey and Critical Review”, Proc. 1995 Int’l Workshop on Memory Management, Kinross, Scotland, Sept, 1995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rehensive surv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CS:APP student site (csapp.cs.cmu.edu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0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Memory Management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3120" y="1872720"/>
            <a:ext cx="828216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arbage coll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tomatic reclamation of heap-allocated storage -- application never has to fre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41148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in functional languages, scripting languages, and modern object oriented languag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p, ML, Java, Perl, Mathematica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70440" indent="-3704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nts (conservative garbage collectors) exist for C and C+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collect all garb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4480" y="2819520"/>
            <a:ext cx="49356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 = malloc(128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 /* p block is now garba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arbage Coll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memory manager know when memory can be fr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 we cannot know what is going to be used in the future since it depends o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we can tell that certain blocks cannot be used if there are no pointers to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make certain assumptions about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nager can distinguish pointers from non-poi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pointers point to the start of a block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hide pointers (e.g., by coercing them to a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then back agai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88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assical GC algorith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4240" y="1371600"/>
            <a:ext cx="8318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rk and sweep collection (McCarthy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unless you also “compact”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 counting (Collins, 196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move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collection (Minsky, 196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s blocks (not discusse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rmation, se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Jones and Lin, “Garbage Collection: Algorithms for Automatic Dynamic Memory”, John Wiley &amp; Sons, 1996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3505320"/>
            <a:ext cx="5985000" cy="205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337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s a Grap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470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view memory as a directed grap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block is a node in the graph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er is an edge in the grap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tions not in the heap that contain pointers into the heap are calle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nodes  (e.g. registers, locations on the stack, global variable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2092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87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30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15640" y="3124080"/>
            <a:ext cx="38124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8000" y="28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4800" y="3581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p n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40240" y="3124080"/>
            <a:ext cx="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9200" y="3124080"/>
            <a:ext cx="53352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6372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76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164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330200" y="4267080"/>
            <a:ext cx="53352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779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68640" y="4267080"/>
            <a:ext cx="533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495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9040" y="434340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1640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7080" y="5105520"/>
            <a:ext cx="304920" cy="30456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809880" y="5028840"/>
            <a:ext cx="45720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809880" y="4571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46840" y="363204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46840" y="408924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1320" y="403848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ot-reachable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garbag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41040" y="3581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ch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9680" y="5638680"/>
            <a:ext cx="862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 node (block)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achable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if there is a path from any root to that nod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on-reachable node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rbage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never needed by the applicatio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53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 For This L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ew(n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pointer to new block with all locations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clear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(b,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ad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in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b,i,v)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to locatio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block will have a header wor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d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[-1]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a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d for different purposes in different collecto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s used by the Garbage Collec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s_ptr(p): 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termines whe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gth(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: returns the length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including the head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roots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returns all the roo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3244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5257800"/>
            <a:ext cx="3049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Collec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build on top of malloc/free pack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locate us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llo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ntil you “run out of spac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out of spac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extr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 the head of each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k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at roots and 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bi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 all reachabl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weep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an all blocks 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locks that ar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mar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403848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52880" y="401328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4572000"/>
            <a:ext cx="137160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9040" y="43178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8320" y="416556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76160" y="38545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1800" y="4419720"/>
            <a:ext cx="60948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4419720"/>
            <a:ext cx="60984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4419720"/>
            <a:ext cx="121896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4480" y="4419720"/>
            <a:ext cx="9144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34320" y="4419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876920"/>
            <a:ext cx="685800" cy="48240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485136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19520" y="5410080"/>
            <a:ext cx="1218960" cy="38124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7960" y="51562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ma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50036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525780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81280" y="525780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9112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25780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24480" y="525780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199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2940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5257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2320" y="5257800"/>
            <a:ext cx="30456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62520" y="571500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689440"/>
            <a:ext cx="1752840" cy="55908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19520" y="6248520"/>
            <a:ext cx="121896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1560" y="59943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swee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5842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6232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6095880"/>
            <a:ext cx="60984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24480" y="6095880"/>
            <a:ext cx="914400" cy="3049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60958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34320" y="609588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60958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00800" y="3733920"/>
            <a:ext cx="304920" cy="3045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32360" y="3733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rk bit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6095880"/>
            <a:ext cx="60948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666880"/>
            <a:ext cx="8458200" cy="1676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153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 (not discusse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556080"/>
            <a:ext cx="2438280" cy="48240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82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rk and Sweep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480" y="1447920"/>
            <a:ext cx="773964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mark(ptr 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is_ptr(p)) return;        // do nothing if not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markBitSet(p)) return      // check if already mark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tMarkBit(p);                 // set the mark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 &lt; length(p); i++)  // mark all childr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rk(p[i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 using depth-first traversal of the memory graph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3657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eep using lengths to find next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2160" y="4038480"/>
            <a:ext cx="432612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sweep(ptr p, ptr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p &lt; end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markBitSet(p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clearMarkBit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allocateBitSet(p)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length(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ervative Mark and Sweep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onservative  collector for C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s_ptr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termines if a word is a pointer by checking if it points to an allocated block of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 C pointers can point to the middle of a block.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 how do we find the beginning of the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balanced tree to keep track of all allocated blocks where the key is th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lanced tree pointers can be stored in header (use two additional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3352680"/>
            <a:ext cx="32004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1840" y="3048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7880" y="272736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3048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3352680"/>
            <a:ext cx="1371600" cy="3049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76920" y="3352680"/>
            <a:ext cx="3045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5759280"/>
            <a:ext cx="11430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5759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5759280"/>
            <a:ext cx="1828800" cy="3812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66040" y="5438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90120" y="54388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885840" y="5987880"/>
            <a:ext cx="3049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598788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60840" y="6369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f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8920" y="63691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95680" y="57848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566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-Related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referencing bad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uninitialized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writing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nonexistent variab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blocks multiple ti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fre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iling to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referencing Bad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assic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can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u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35120" y="2362320"/>
            <a:ext cx="2253240" cy="3373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canf(“%d”, va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Uninitialized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ing that heap data is initialized to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62320" y="2413080"/>
            <a:ext cx="4343400" cy="2770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return y = Ax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matvec(int **A, int *x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y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+= A[i][j]*x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the (possibly) wrong sized obje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6240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-by-one err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38720" y="2286000"/>
            <a:ext cx="408204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malloc(N*sizeof(int *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=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checking the max string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s for classic buffer overflow atta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8 Internet w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attacks on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/Microsoft IM w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62920" y="2286000"/>
            <a:ext cx="566712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s[8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s(s);  /* reads “123456789” from stdi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ing a pointer instead of the object it points t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2209680"/>
            <a:ext cx="591660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BinheapDelete(int **binheap, int *siz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pack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acket = binheap[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inheap[0] = binheap[*size - 1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size--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pify(binheap, *size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(pack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writing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understanding point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search(int *p, int val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*p &amp;&amp; *p != v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+= sizeof(i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data space for link 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doub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need boundary tags for coalesc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is important to realize that links are not necessarily in the same order as t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09320" y="1371600"/>
            <a:ext cx="4343760" cy="304920"/>
            <a:chOff x="2209320" y="1371600"/>
            <a:chExt cx="4343760" cy="304920"/>
          </a:xfrm>
        </p:grpSpPr>
        <p:sp>
          <p:nvSpPr>
            <p:cNvPr id="125" name=""/>
            <p:cNvSpPr/>
            <p:nvPr/>
          </p:nvSpPr>
          <p:spPr>
            <a:xfrm>
              <a:off x="2514600" y="1371600"/>
              <a:ext cx="8380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1371600"/>
              <a:ext cx="838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29200" y="1371600"/>
              <a:ext cx="11430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2680" y="14479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832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16002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52680" y="1600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2200" y="144792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09320" y="160020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14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3708360"/>
            <a:ext cx="5181480" cy="558720"/>
          </a:xfrm>
          <a:custGeom>
            <a:avLst/>
            <a:gdLst/>
            <a:ahLst/>
            <a:rect l="l" t="t" r="r" b="b"/>
            <a:pathLst>
              <a:path w="3264" h="352">
                <a:moveTo>
                  <a:pt x="0" y="352"/>
                </a:moveTo>
                <a:cubicBezTo>
                  <a:pt x="712" y="191"/>
                  <a:pt x="1424" y="31"/>
                  <a:pt x="1968" y="16"/>
                </a:cubicBezTo>
                <a:cubicBezTo>
                  <a:pt x="2511" y="0"/>
                  <a:pt x="2887" y="128"/>
                  <a:pt x="3264" y="2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32040"/>
            <a:ext cx="3352680" cy="635040"/>
          </a:xfrm>
          <a:custGeom>
            <a:avLst/>
            <a:gdLst/>
            <a:ahLst/>
            <a:rect l="l" t="t" r="r" b="b"/>
            <a:pathLst>
              <a:path w="2112" h="400">
                <a:moveTo>
                  <a:pt x="2112" y="400"/>
                </a:moveTo>
                <a:cubicBezTo>
                  <a:pt x="2072" y="216"/>
                  <a:pt x="2032" y="32"/>
                  <a:pt x="1680" y="16"/>
                </a:cubicBezTo>
                <a:cubicBezTo>
                  <a:pt x="1328" y="0"/>
                  <a:pt x="280" y="256"/>
                  <a:pt x="0" y="30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267080"/>
            <a:ext cx="6096240" cy="671760"/>
          </a:xfrm>
          <a:custGeom>
            <a:avLst/>
            <a:gdLst/>
            <a:ahLst/>
            <a:rect l="l" t="t" r="r" b="b"/>
            <a:pathLst>
              <a:path w="3840" h="423">
                <a:moveTo>
                  <a:pt x="3840" y="0"/>
                </a:moveTo>
                <a:cubicBezTo>
                  <a:pt x="3719" y="136"/>
                  <a:pt x="3599" y="272"/>
                  <a:pt x="3072" y="336"/>
                </a:cubicBezTo>
                <a:cubicBezTo>
                  <a:pt x="2544" y="399"/>
                  <a:pt x="1183" y="423"/>
                  <a:pt x="672" y="384"/>
                </a:cubicBezTo>
                <a:cubicBezTo>
                  <a:pt x="160" y="344"/>
                  <a:pt x="80" y="220"/>
                  <a:pt x="0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4267080"/>
            <a:ext cx="2438280" cy="480960"/>
          </a:xfrm>
          <a:custGeom>
            <a:avLst/>
            <a:gdLst/>
            <a:ahLst/>
            <a:rect l="l" t="t" r="r" b="b"/>
            <a:pathLst>
              <a:path w="1536" h="303">
                <a:moveTo>
                  <a:pt x="0" y="0"/>
                </a:moveTo>
                <a:cubicBezTo>
                  <a:pt x="280" y="136"/>
                  <a:pt x="560" y="272"/>
                  <a:pt x="816" y="288"/>
                </a:cubicBezTo>
                <a:cubicBezTo>
                  <a:pt x="1071" y="303"/>
                  <a:pt x="1303" y="199"/>
                  <a:pt x="1536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0640" y="34290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ward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4680" y="45655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 lin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75680" y="4184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645000"/>
            <a:ext cx="2971800" cy="622080"/>
          </a:xfrm>
          <a:custGeom>
            <a:avLst/>
            <a:gdLst/>
            <a:ahLst/>
            <a:rect l="l" t="t" r="r" b="b"/>
            <a:pathLst>
              <a:path w="1872" h="392">
                <a:moveTo>
                  <a:pt x="1872" y="392"/>
                </a:moveTo>
                <a:cubicBezTo>
                  <a:pt x="1499" y="251"/>
                  <a:pt x="1127" y="111"/>
                  <a:pt x="816" y="56"/>
                </a:cubicBezTo>
                <a:cubicBezTo>
                  <a:pt x="504" y="0"/>
                  <a:pt x="252" y="28"/>
                  <a:pt x="0" y="5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2670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cubicBezTo>
                  <a:pt x="448" y="96"/>
                  <a:pt x="416" y="192"/>
                  <a:pt x="336" y="240"/>
                </a:cubicBezTo>
                <a:cubicBezTo>
                  <a:pt x="256" y="288"/>
                  <a:pt x="128" y="288"/>
                  <a:pt x="0" y="28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5760" y="3803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5760" y="3809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240" y="4419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Nonexist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getting that local variables disappear when a function retu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38280" y="2432160"/>
            <a:ext cx="434340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foo 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Blocks Multiple Ti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sty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y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Freed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il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[i] = x[i]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ow, long-term killer!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666880"/>
            <a:ext cx="434340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 = malloc(N*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iling to Free Block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Memory Leak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ing only part of a data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38360" y="2333520"/>
            <a:ext cx="6134040" cy="3744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nex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list *head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sizeof(struct lis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val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ead-&gt;next =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eate and manipulate the rest of the lis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hea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al debugger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gdb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for finding  bad pointer de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detect the other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bugg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CSRI UToro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apper around conventiona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s memory bug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und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overwrites that corrupt heap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me instances of freeing blocks multiple tim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lea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etect all memory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es into the middle of allocat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eeing block twice that has been reallocated in the interi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freed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Memory Bug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translator (Atom, Purif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ful debugging and analysis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writes text section of executable object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etect all errors as debugg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also check each individual reference at run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d poi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wri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ferencing outside of allocated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arbage collection (Boehm-Weiser Conservative G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he system free blocks instead of the programm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ng From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08600" y="2360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4332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6720" y="1627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92840" y="1903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45800" y="162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3000" y="4417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24560" y="3960720"/>
            <a:ext cx="60300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7960" y="3685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92840" y="3960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45800" y="3685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4417920"/>
            <a:ext cx="91440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42600" y="2421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0280" y="423504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with splitt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45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Explicit Free Li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sertion polic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Where in the free list do you put a newly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FO (last-in-first-out)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 at the beginning of the free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imple and constant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studies suggest fragmentation is worse than address order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-ordered poli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ert freed blocks so that free list blocks are always in address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 addr(pred) &lt; addr(curr) &lt; addr(su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: requires sear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: studies suggest fragmentation is better than LIF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52880" y="5181480"/>
            <a:ext cx="373392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50532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1371600"/>
            <a:ext cx="373392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9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1: a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ert self at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2: a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next, coalesce self and next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8880" y="13708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 (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6440" y="1370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 (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555920"/>
            <a:ext cx="10666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21337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21337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73880" y="350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2800" y="350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26708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426708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9760" y="388620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8040" y="396216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73880" y="5271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2640" y="52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571500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7150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2760" y="54860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45616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029200" y="990720"/>
            <a:ext cx="3733920" cy="1218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362320"/>
            <a:ext cx="3733920" cy="99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886200"/>
            <a:ext cx="37339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410080"/>
            <a:ext cx="3733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79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eeing With a LIFO Policy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0160" y="1655280"/>
            <a:ext cx="3846600" cy="42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3: f-a-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, coalesce with self, and add to beginning of free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ase 4: f-a-f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lice out prev and next, coalesce with self, and add to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59240" y="913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8520" y="91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26040" y="12952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59440" y="13712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63840" y="2375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2960" y="237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2819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819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1600" y="26665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56068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008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8344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16400" y="46483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5012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4500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609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4360" y="42667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16400" y="5943600"/>
            <a:ext cx="316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520" y="57146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296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2224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716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23120" y="42670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064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1256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2224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560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icit List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ison to implicit li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is linear time in number of free blocks instead of total blocks  -- much faster allocates when most of the memory is full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ightly more complicated allocate and free since needs to splice blocks in and out of the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extra space for the links (2 extra  words needed for each bloc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 use of linked lists is in conjunction with segregated free lis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multiple linked lists of different size classes, or possibly for different types of obj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4495680"/>
            <a:ext cx="8458200" cy="7621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1:46:07Z</dcterms:modified>
  <cp:revision>226</cp:revision>
  <dc:subject/>
  <dc:title>Dynamic Memory Allocation II</dc:title>
</cp:coreProperties>
</file>