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32888" cy="68468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492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9968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16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492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9968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280" y="247320"/>
            <a:ext cx="87044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492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9968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16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492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89968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280" y="247320"/>
            <a:ext cx="87044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920" y="639000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BD21B4B7-5C4D-4EB5-8F42-9944D9480B2D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18400" y="6380640"/>
            <a:ext cx="7459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CS:AP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365040"/>
            <a:ext cx="7762680" cy="11397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1800" rIns="9180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673000" y="4216320"/>
            <a:ext cx="37850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andal E. Bryant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80760" y="5245200"/>
            <a:ext cx="59947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33"/>
                </a:solidFill>
                <a:latin typeface="Arial"/>
              </a:rPr>
              <a:t>Carnegie Mellon University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05720" y="6515280"/>
            <a:ext cx="78120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CS:AP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52920" y="1022400"/>
            <a:ext cx="2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98200" y="533520"/>
            <a:ext cx="5652000" cy="2629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54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S:APP Chapter 4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omputer Architecture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Arial"/>
              </a:rPr>
              <a:t>Wrap-Up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04120" y="5940360"/>
            <a:ext cx="3336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ttp://csapp.cs.cmu.ed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2660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re Realistic Fetch Logi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90160" y="3809520"/>
            <a:ext cx="8294760" cy="262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etch Box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grated into instruction cach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etches entire cache block (16 or 32 byte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lects current instruction from current blo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rks ahead to fetch next blo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s reaches end of current bloc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t branch targe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6651720" cy="292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cep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75438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ditions under which pipeline cannot continue normal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r" pos="75438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u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75438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lt instruct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(Current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75438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ad address for instruction or dat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(Previou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75438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valid instruct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(Previou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75438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ipeline control erro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(Previou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r" pos="75438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sired A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75438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lete some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5680" indent="-2235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75438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ither current or previous (depends on exception type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75438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scard oth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75438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 exception handl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5680" indent="-2235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75438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ke an unexpected procedure cal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20120" y="3962520"/>
            <a:ext cx="152280" cy="1066680"/>
          </a:xfrm>
          <a:custGeom>
            <a:avLst/>
            <a:gdLst/>
            <a:ahLst/>
            <a:rect l="l" t="t" r="r" b="b"/>
            <a:pathLst>
              <a:path w="192" h="672">
                <a:moveTo>
                  <a:pt x="0" y="672"/>
                </a:moveTo>
                <a:lnTo>
                  <a:pt x="192" y="672"/>
                </a:lnTo>
                <a:lnTo>
                  <a:pt x="192" y="0"/>
                </a:lnTo>
              </a:path>
            </a:pathLst>
          </a:custGeom>
          <a:noFill/>
          <a:ln w="19080">
            <a:solidFill>
              <a:srgbClr val="00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ception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294760" cy="147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tect in Fetch Stag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46483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rmovl $100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mmovl %eax,0x10000(%eax) # invalid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205740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$-1                   # Invalid jump targ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274320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byte 0xFF                # Invalid instruction code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342900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alt                      # Halt instruc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3962520"/>
            <a:ext cx="829476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tect in Memory Stag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ceptions in Pipeline Processor #1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90160" y="5181480"/>
            <a:ext cx="8294760" cy="117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sired Behavi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mmov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hould cause excep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1066680"/>
            <a:ext cx="815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demo-exc1.y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rmovl $100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mmovl %eax,0x10000(%eax) # Invalid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byte 0xFF                # Invalid instruction code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335268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0x000: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rmovl $100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38480" y="2971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2971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52880" y="2971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10080" y="2971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33526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5680" y="33526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52880" y="33526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10080" y="33526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95680" y="36576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52880" y="36576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0080" y="36576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365760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0x006: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mmovl %eax,0x1000(%eax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3962520"/>
            <a:ext cx="25905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0x00c: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no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426708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0x00d: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byte 0xF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52880" y="3962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10080" y="3962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10080" y="4267080"/>
            <a:ext cx="457200" cy="3049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867280" y="2971800"/>
            <a:ext cx="457200" cy="1600200"/>
            <a:chOff x="5867280" y="2971800"/>
            <a:chExt cx="457200" cy="1600200"/>
          </a:xfrm>
        </p:grpSpPr>
        <p:sp>
          <p:nvSpPr>
            <p:cNvPr id="219" name=""/>
            <p:cNvSpPr/>
            <p:nvPr/>
          </p:nvSpPr>
          <p:spPr>
            <a:xfrm>
              <a:off x="5867280" y="335268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67280" y="297180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67280" y="3657600"/>
              <a:ext cx="457200" cy="3049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67280" y="3962520"/>
              <a:ext cx="457200" cy="3045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67280" y="426708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248160" y="3241800"/>
            <a:ext cx="2873880" cy="492120"/>
            <a:chOff x="6248160" y="3241800"/>
            <a:chExt cx="2873880" cy="492120"/>
          </a:xfrm>
        </p:grpSpPr>
        <p:sp>
          <p:nvSpPr>
            <p:cNvPr id="225" name=""/>
            <p:cNvSpPr/>
            <p:nvPr/>
          </p:nvSpPr>
          <p:spPr>
            <a:xfrm flipH="1">
              <a:off x="6248160" y="3429000"/>
              <a:ext cx="685800" cy="30492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934320" y="3241800"/>
              <a:ext cx="21877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Exception detecte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895480" y="4495320"/>
            <a:ext cx="2590920" cy="417240"/>
            <a:chOff x="2895480" y="4495320"/>
            <a:chExt cx="2590920" cy="417240"/>
          </a:xfrm>
        </p:grpSpPr>
        <p:sp>
          <p:nvSpPr>
            <p:cNvPr id="228" name=""/>
            <p:cNvSpPr/>
            <p:nvPr/>
          </p:nvSpPr>
          <p:spPr>
            <a:xfrm flipV="1">
              <a:off x="5105520" y="4495320"/>
              <a:ext cx="380880" cy="22860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95480" y="4572000"/>
              <a:ext cx="21877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Exception detecte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ceptions in Pipeline Processor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90160" y="5181480"/>
            <a:ext cx="8294760" cy="117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sired Behavi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 exception should occu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990720"/>
            <a:ext cx="815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demo-exc2.y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0:    xorl %eax,%eax   # Set condition cod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2:    jne t            # Not tak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7:    irmovl $1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d:    irmovl $2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13:    hal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14: t: .byte 0xFF       # Targ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335268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x000:    xorl %eax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038480" y="2971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2971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52880" y="2971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38480" y="33526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33526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952880" y="33526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95680" y="36576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952880" y="36576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520" y="365760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x002:    jne 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3520" y="3962520"/>
            <a:ext cx="25905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x014: t: .byte 0xF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520" y="426708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x???: (I’m lost!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952880" y="3962520"/>
            <a:ext cx="457200" cy="304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733920" y="4191120"/>
            <a:ext cx="2187720" cy="1102320"/>
            <a:chOff x="3733920" y="4191120"/>
            <a:chExt cx="2187720" cy="1102320"/>
          </a:xfrm>
        </p:grpSpPr>
        <p:sp>
          <p:nvSpPr>
            <p:cNvPr id="247" name=""/>
            <p:cNvSpPr/>
            <p:nvPr/>
          </p:nvSpPr>
          <p:spPr>
            <a:xfrm flipV="1">
              <a:off x="5105520" y="4191120"/>
              <a:ext cx="75960" cy="76176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733920" y="4952880"/>
              <a:ext cx="21877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Exception detecte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533520" y="457200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x007:    irmovl $1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410080" y="2971800"/>
            <a:ext cx="457200" cy="1600200"/>
            <a:chOff x="5410080" y="2971800"/>
            <a:chExt cx="457200" cy="1600200"/>
          </a:xfrm>
        </p:grpSpPr>
        <p:sp>
          <p:nvSpPr>
            <p:cNvPr id="251" name=""/>
            <p:cNvSpPr/>
            <p:nvPr/>
          </p:nvSpPr>
          <p:spPr>
            <a:xfrm>
              <a:off x="5410080" y="297180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410080" y="335268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10080" y="3657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10080" y="4267080"/>
              <a:ext cx="457200" cy="3049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10080" y="3962520"/>
              <a:ext cx="457200" cy="3045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5867280" y="2971800"/>
            <a:ext cx="457200" cy="1905120"/>
            <a:chOff x="5867280" y="2971800"/>
            <a:chExt cx="457200" cy="1905120"/>
          </a:xfrm>
        </p:grpSpPr>
        <p:sp>
          <p:nvSpPr>
            <p:cNvPr id="257" name=""/>
            <p:cNvSpPr/>
            <p:nvPr/>
          </p:nvSpPr>
          <p:spPr>
            <a:xfrm>
              <a:off x="5867280" y="335268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67280" y="297180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867280" y="3657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867280" y="4267080"/>
              <a:ext cx="45720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867280" y="45720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867280" y="3962520"/>
              <a:ext cx="45720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324480" y="2971800"/>
            <a:ext cx="457200" cy="1905120"/>
            <a:chOff x="6324480" y="2971800"/>
            <a:chExt cx="457200" cy="1905120"/>
          </a:xfrm>
        </p:grpSpPr>
        <p:sp>
          <p:nvSpPr>
            <p:cNvPr id="264" name=""/>
            <p:cNvSpPr/>
            <p:nvPr/>
          </p:nvSpPr>
          <p:spPr>
            <a:xfrm>
              <a:off x="6324480" y="4267080"/>
              <a:ext cx="45720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24480" y="45720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324480" y="3962520"/>
              <a:ext cx="45720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324480" y="297180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781680" y="2971800"/>
            <a:ext cx="457200" cy="1905120"/>
            <a:chOff x="6781680" y="2971800"/>
            <a:chExt cx="457200" cy="1905120"/>
          </a:xfrm>
        </p:grpSpPr>
        <p:sp>
          <p:nvSpPr>
            <p:cNvPr id="269" name=""/>
            <p:cNvSpPr/>
            <p:nvPr/>
          </p:nvSpPr>
          <p:spPr>
            <a:xfrm>
              <a:off x="6781680" y="4267080"/>
              <a:ext cx="45720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781680" y="45720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781680" y="3962520"/>
              <a:ext cx="45720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781680" y="297180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7238880" y="2971800"/>
            <a:ext cx="457200" cy="1905120"/>
            <a:chOff x="7238880" y="2971800"/>
            <a:chExt cx="457200" cy="1905120"/>
          </a:xfrm>
        </p:grpSpPr>
        <p:sp>
          <p:nvSpPr>
            <p:cNvPr id="274" name=""/>
            <p:cNvSpPr/>
            <p:nvPr/>
          </p:nvSpPr>
          <p:spPr>
            <a:xfrm>
              <a:off x="7238880" y="4267080"/>
              <a:ext cx="45720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238880" y="45720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38880" y="297180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7696080" y="2971800"/>
            <a:ext cx="457200" cy="1905120"/>
            <a:chOff x="7696080" y="2971800"/>
            <a:chExt cx="457200" cy="1905120"/>
          </a:xfrm>
        </p:grpSpPr>
        <p:sp>
          <p:nvSpPr>
            <p:cNvPr id="278" name=""/>
            <p:cNvSpPr/>
            <p:nvPr/>
          </p:nvSpPr>
          <p:spPr>
            <a:xfrm>
              <a:off x="7696080" y="45720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96080" y="297180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intaining Exception Order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90160" y="4038480"/>
            <a:ext cx="8294760" cy="208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lvl="1" marL="690840" indent="-2271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 exception status field to pipeline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0840" indent="-2271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etch stage sets to either “AOK,” “ADR” (when bad fetch address), or “INS” (illegal instruction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0840" indent="-2271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code &amp; execute pass values throug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0840" indent="-2271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ory either passes through or sets to “ADR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0840" indent="-2271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ception triggered only when instruction hits write ba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066680" y="3352680"/>
            <a:ext cx="7086600" cy="381240"/>
            <a:chOff x="1066680" y="3352680"/>
            <a:chExt cx="7086600" cy="381240"/>
          </a:xfrm>
        </p:grpSpPr>
        <p:sp>
          <p:nvSpPr>
            <p:cNvPr id="283" name=""/>
            <p:cNvSpPr/>
            <p:nvPr/>
          </p:nvSpPr>
          <p:spPr>
            <a:xfrm>
              <a:off x="1066680" y="3352680"/>
              <a:ext cx="7086600" cy="381240"/>
            </a:xfrm>
            <a:prstGeom prst="rect">
              <a:avLst/>
            </a:prstGeom>
            <a:solidFill>
              <a:srgbClr val="4d4d4d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352680" y="3352680"/>
              <a:ext cx="91440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predPC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1066680" y="1219320"/>
            <a:ext cx="7086600" cy="380880"/>
            <a:chOff x="1066680" y="1219320"/>
            <a:chExt cx="7086600" cy="380880"/>
          </a:xfrm>
        </p:grpSpPr>
        <p:sp>
          <p:nvSpPr>
            <p:cNvPr id="286" name=""/>
            <p:cNvSpPr/>
            <p:nvPr/>
          </p:nvSpPr>
          <p:spPr>
            <a:xfrm>
              <a:off x="1066680" y="1219320"/>
              <a:ext cx="7086600" cy="380880"/>
            </a:xfrm>
            <a:prstGeom prst="rect">
              <a:avLst/>
            </a:prstGeom>
            <a:solidFill>
              <a:srgbClr val="4d4d4d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09680" y="121932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icode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038480" y="1219320"/>
              <a:ext cx="9144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valE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952880" y="1219320"/>
              <a:ext cx="9144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valM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324480" y="121932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dstE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781680" y="121932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dstM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447920" y="121932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exc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066680" y="1752480"/>
            <a:ext cx="7086600" cy="381240"/>
            <a:chOff x="1066680" y="1752480"/>
            <a:chExt cx="7086600" cy="381240"/>
          </a:xfrm>
        </p:grpSpPr>
        <p:sp>
          <p:nvSpPr>
            <p:cNvPr id="294" name=""/>
            <p:cNvSpPr/>
            <p:nvPr/>
          </p:nvSpPr>
          <p:spPr>
            <a:xfrm>
              <a:off x="1066680" y="1752480"/>
              <a:ext cx="7086600" cy="381240"/>
            </a:xfrm>
            <a:prstGeom prst="rect">
              <a:avLst/>
            </a:prstGeom>
            <a:solidFill>
              <a:srgbClr val="4d4d4d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24080" y="1752480"/>
              <a:ext cx="45720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Bch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209680" y="1752480"/>
              <a:ext cx="45720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icode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038480" y="1752480"/>
              <a:ext cx="91440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valE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52880" y="1752480"/>
              <a:ext cx="91440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valA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324480" y="1752480"/>
              <a:ext cx="45720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dstE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81680" y="1752480"/>
              <a:ext cx="45720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dstM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447920" y="1752480"/>
              <a:ext cx="45720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exc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1066680" y="2286000"/>
            <a:ext cx="7086600" cy="380880"/>
            <a:chOff x="1066680" y="2286000"/>
            <a:chExt cx="7086600" cy="380880"/>
          </a:xfrm>
        </p:grpSpPr>
        <p:sp>
          <p:nvSpPr>
            <p:cNvPr id="303" name=""/>
            <p:cNvSpPr/>
            <p:nvPr/>
          </p:nvSpPr>
          <p:spPr>
            <a:xfrm>
              <a:off x="1066680" y="2286000"/>
              <a:ext cx="7086600" cy="380880"/>
            </a:xfrm>
            <a:prstGeom prst="rect">
              <a:avLst/>
            </a:prstGeom>
            <a:solidFill>
              <a:srgbClr val="4d4d4d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209680" y="228600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icode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666880" y="228600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ifun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581280" y="2286000"/>
              <a:ext cx="9144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valC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495680" y="2286000"/>
              <a:ext cx="9144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valA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10080" y="2286000"/>
              <a:ext cx="9144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valB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24480" y="228600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dstE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781680" y="228600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dstM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38880" y="228600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srcA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96080" y="228600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srcB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447920" y="228600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exc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1066680" y="2819520"/>
            <a:ext cx="7086600" cy="380880"/>
            <a:chOff x="1066680" y="2819520"/>
            <a:chExt cx="7086600" cy="380880"/>
          </a:xfrm>
        </p:grpSpPr>
        <p:sp>
          <p:nvSpPr>
            <p:cNvPr id="315" name=""/>
            <p:cNvSpPr/>
            <p:nvPr/>
          </p:nvSpPr>
          <p:spPr>
            <a:xfrm>
              <a:off x="1066680" y="2819520"/>
              <a:ext cx="7086600" cy="380880"/>
            </a:xfrm>
            <a:prstGeom prst="rect">
              <a:avLst/>
            </a:prstGeom>
            <a:solidFill>
              <a:srgbClr val="4d4d4d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038480" y="281952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rB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95680" y="2819520"/>
              <a:ext cx="9144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valC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410080" y="2819520"/>
              <a:ext cx="9144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valP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09680" y="281952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icode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66880" y="281952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ifun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81280" y="281952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rA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447920" y="281952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exc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de Effects in Pipeline Processo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90160" y="5181480"/>
            <a:ext cx="8294760" cy="117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sired Behavi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0720" indent="-236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mmov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hould cause excep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36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 following instruction should have any effec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3520" y="124776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demo-exc3.y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rmovl $100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mmovl %eax,0x10000(%eax) # invalid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%ea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  # Sets condition cod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3520" y="335268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0x000: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rmovl $100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38480" y="2971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95680" y="2971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952880" y="2971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410080" y="2971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038480" y="33526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95680" y="33526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952880" y="33526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410080" y="33526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495680" y="36576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952880" y="36576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10080" y="36576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365760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0x006: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mmovl %eax,0x1000(%eax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3962520"/>
            <a:ext cx="25905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0x00c: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%eax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3962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10080" y="3962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867280" y="2971800"/>
            <a:ext cx="457200" cy="1295280"/>
            <a:chOff x="5867280" y="2971800"/>
            <a:chExt cx="457200" cy="1295280"/>
          </a:xfrm>
        </p:grpSpPr>
        <p:sp>
          <p:nvSpPr>
            <p:cNvPr id="343" name=""/>
            <p:cNvSpPr/>
            <p:nvPr/>
          </p:nvSpPr>
          <p:spPr>
            <a:xfrm>
              <a:off x="5867280" y="335268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867280" y="297180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867280" y="3657600"/>
              <a:ext cx="457200" cy="3049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867280" y="3962520"/>
              <a:ext cx="457200" cy="30456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6248160" y="3241800"/>
            <a:ext cx="2873880" cy="492120"/>
            <a:chOff x="6248160" y="3241800"/>
            <a:chExt cx="2873880" cy="492120"/>
          </a:xfrm>
        </p:grpSpPr>
        <p:sp>
          <p:nvSpPr>
            <p:cNvPr id="348" name=""/>
            <p:cNvSpPr/>
            <p:nvPr/>
          </p:nvSpPr>
          <p:spPr>
            <a:xfrm flipH="1">
              <a:off x="6248160" y="3429000"/>
              <a:ext cx="685800" cy="30492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934320" y="3241800"/>
              <a:ext cx="21877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Exception detecte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5104080" y="4190760"/>
            <a:ext cx="2152440" cy="950400"/>
            <a:chOff x="5104080" y="4190760"/>
            <a:chExt cx="2152440" cy="950400"/>
          </a:xfrm>
        </p:grpSpPr>
        <p:sp>
          <p:nvSpPr>
            <p:cNvPr id="351" name=""/>
            <p:cNvSpPr/>
            <p:nvPr/>
          </p:nvSpPr>
          <p:spPr>
            <a:xfrm flipV="1">
              <a:off x="6172200" y="4190760"/>
              <a:ext cx="0" cy="68580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104080" y="4800600"/>
              <a:ext cx="21524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ondition code se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voiding Side Effec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esence of Exception Should Disable State Updat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detect exception in memory stage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sable condition code setting in execu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ust happen in same clock cyc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exception passes to write-back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sable memory write in memory sta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sable condition code setting in execute sta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mplem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wired into the design of the PIPE simulat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You have no control over thi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st of Exception Handl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lling Exception Handl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ush PC onto sta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ither PC of faulting instruction or of next instruc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ually pass through pipeline along with exception statu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ump to handler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ually fixed addres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fined as part of IS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mplem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ven’t tried it yet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160" y="334800"/>
            <a:ext cx="7543800" cy="571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dern CPU Desig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752480" y="1143000"/>
            <a:ext cx="5589720" cy="51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vervie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rap-Up of PIPE Desig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formance analysi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etch stage desig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ceptional condi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dern High-Performance Process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t-of-order execu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6289920" cy="571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struction Control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90160" y="3029040"/>
            <a:ext cx="8294760" cy="340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64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Grabs Instruction Bytes From Memor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05600" indent="-2322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ased on Current PC + Predicted Targets for Predicted Branch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05600" indent="-2322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ardware dynamically guesses whether branches taken/not taken and (possibly) branch targe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Translates Instructions Into </a:t>
            </a: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Operation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05600" indent="-2322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imitive steps required to perform instruc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05600" indent="-2322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ypical instruction requires 1–3 operation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onverts Register References Into </a:t>
            </a: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Tag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05600" indent="-2322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bstract identifier linking destination of one operation with sources of later operation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1752480" y="914400"/>
            <a:ext cx="501012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ion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i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90160" y="3809520"/>
            <a:ext cx="8294760" cy="262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e functional un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ach can operate in independentl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tions performed as soon as operands avail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necessarily in program ord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thin limits of functional uni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rol log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sures behavior equivalent to sequential program execu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3045960" y="304920"/>
            <a:ext cx="5655240" cy="3396600"/>
            <a:chOff x="3045960" y="304920"/>
            <a:chExt cx="5655240" cy="3396600"/>
          </a:xfrm>
        </p:grpSpPr>
        <p:sp>
          <p:nvSpPr>
            <p:cNvPr id="365" name=""/>
            <p:cNvSpPr/>
            <p:nvPr/>
          </p:nvSpPr>
          <p:spPr>
            <a:xfrm>
              <a:off x="5726880" y="3379680"/>
              <a:ext cx="10018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19191"/>
                  </a:solidFill>
                  <a:latin typeface="Arial"/>
                </a:rPr>
                <a:t>Executio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652920" y="787320"/>
              <a:ext cx="5048280" cy="29142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37080" y="771480"/>
              <a:ext cx="5030640" cy="2896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85600" y="3352680"/>
              <a:ext cx="10018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ecutio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94280" y="1152360"/>
              <a:ext cx="4497120" cy="8395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823520" y="1401480"/>
              <a:ext cx="7063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unctional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179560" y="1584360"/>
              <a:ext cx="348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nits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70240" y="1304640"/>
              <a:ext cx="534960" cy="458640"/>
            </a:xfrm>
            <a:prstGeom prst="rect">
              <a:avLst/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250160" y="1390680"/>
              <a:ext cx="4291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eger/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263480" y="1542960"/>
              <a:ext cx="4014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ranch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389560" y="1304640"/>
              <a:ext cx="534960" cy="458640"/>
            </a:xfrm>
            <a:prstGeom prst="rect">
              <a:avLst/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602320" y="1390680"/>
              <a:ext cx="16236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570280" y="1542960"/>
              <a:ext cx="22464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d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999040" y="1304640"/>
              <a:ext cx="534960" cy="458640"/>
            </a:xfrm>
            <a:prstGeom prst="rect">
              <a:avLst/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211800" y="1390680"/>
              <a:ext cx="16236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064920" y="1542960"/>
              <a:ext cx="2383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ult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305760" y="1542960"/>
              <a:ext cx="2185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Div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608880" y="1304640"/>
              <a:ext cx="534960" cy="458640"/>
            </a:xfrm>
            <a:prstGeom prst="rect">
              <a:avLst/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761880" y="1466640"/>
              <a:ext cx="28116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218360" y="1304640"/>
              <a:ext cx="534960" cy="458640"/>
            </a:xfrm>
            <a:prstGeom prst="rect">
              <a:avLst/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60920" y="1466640"/>
              <a:ext cx="3024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ore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08880" y="2828880"/>
              <a:ext cx="1144440" cy="610920"/>
            </a:xfrm>
            <a:prstGeom prst="rect">
              <a:avLst/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051680" y="2963880"/>
              <a:ext cx="3236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992280" y="3146400"/>
              <a:ext cx="4428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6688080" y="1761840"/>
              <a:ext cx="147600" cy="1066320"/>
              <a:chOff x="6688080" y="1761840"/>
              <a:chExt cx="147600" cy="1066320"/>
            </a:xfrm>
          </p:grpSpPr>
          <p:sp>
            <p:nvSpPr>
              <p:cNvPr id="390" name=""/>
              <p:cNvSpPr/>
              <p:nvPr/>
            </p:nvSpPr>
            <p:spPr>
              <a:xfrm>
                <a:off x="6746760" y="1761840"/>
                <a:ext cx="28800" cy="9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688080" y="2682360"/>
                <a:ext cx="147600" cy="145800"/>
              </a:xfrm>
              <a:custGeom>
                <a:avLst/>
                <a:gdLst/>
                <a:ahLst/>
                <a:rect l="l" t="t" r="r" b="b"/>
                <a:pathLst>
                  <a:path w="93" h="92">
                    <a:moveTo>
                      <a:pt x="0" y="0"/>
                    </a:moveTo>
                    <a:lnTo>
                      <a:pt x="46" y="92"/>
                    </a:lnTo>
                    <a:lnTo>
                      <a:pt x="9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6905520" y="1761840"/>
              <a:ext cx="169920" cy="1066320"/>
              <a:chOff x="6905520" y="1761840"/>
              <a:chExt cx="169920" cy="1066320"/>
            </a:xfrm>
          </p:grpSpPr>
          <p:sp>
            <p:nvSpPr>
              <p:cNvPr id="393" name=""/>
              <p:cNvSpPr/>
              <p:nvPr/>
            </p:nvSpPr>
            <p:spPr>
              <a:xfrm>
                <a:off x="6970680" y="1928160"/>
                <a:ext cx="38160" cy="900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905520" y="1761840"/>
                <a:ext cx="169920" cy="171360"/>
              </a:xfrm>
              <a:custGeom>
                <a:avLst/>
                <a:gdLst/>
                <a:ahLst/>
                <a:rect l="l" t="t" r="r" b="b"/>
                <a:pathLst>
                  <a:path w="107" h="108">
                    <a:moveTo>
                      <a:pt x="107" y="108"/>
                    </a:moveTo>
                    <a:lnTo>
                      <a:pt x="53" y="0"/>
                    </a:lnTo>
                    <a:lnTo>
                      <a:pt x="0" y="108"/>
                    </a:lnTo>
                    <a:lnTo>
                      <a:pt x="107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7297560" y="1761840"/>
              <a:ext cx="147960" cy="1066320"/>
              <a:chOff x="7297560" y="1761840"/>
              <a:chExt cx="147960" cy="1066320"/>
            </a:xfrm>
          </p:grpSpPr>
          <p:sp>
            <p:nvSpPr>
              <p:cNvPr id="396" name=""/>
              <p:cNvSpPr/>
              <p:nvPr/>
            </p:nvSpPr>
            <p:spPr>
              <a:xfrm>
                <a:off x="7356600" y="1761840"/>
                <a:ext cx="28440" cy="9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297560" y="2682360"/>
                <a:ext cx="147960" cy="145800"/>
              </a:xfrm>
              <a:custGeom>
                <a:avLst/>
                <a:gdLst/>
                <a:ahLst/>
                <a:rect l="l" t="t" r="r" b="b"/>
                <a:pathLst>
                  <a:path w="93" h="92">
                    <a:moveTo>
                      <a:pt x="0" y="0"/>
                    </a:moveTo>
                    <a:lnTo>
                      <a:pt x="46" y="92"/>
                    </a:lnTo>
                    <a:lnTo>
                      <a:pt x="9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7515360" y="1761840"/>
              <a:ext cx="169560" cy="1066320"/>
              <a:chOff x="7515360" y="1761840"/>
              <a:chExt cx="169560" cy="1066320"/>
            </a:xfrm>
          </p:grpSpPr>
          <p:sp>
            <p:nvSpPr>
              <p:cNvPr id="399" name=""/>
              <p:cNvSpPr/>
              <p:nvPr/>
            </p:nvSpPr>
            <p:spPr>
              <a:xfrm>
                <a:off x="7580160" y="1761840"/>
                <a:ext cx="38160" cy="900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515360" y="2658600"/>
                <a:ext cx="169560" cy="169560"/>
              </a:xfrm>
              <a:custGeom>
                <a:avLst/>
                <a:gdLst/>
                <a:ahLst/>
                <a:rect l="l" t="t" r="r" b="b"/>
                <a:pathLst>
                  <a:path w="107" h="107">
                    <a:moveTo>
                      <a:pt x="0" y="0"/>
                    </a:moveTo>
                    <a:lnTo>
                      <a:pt x="53" y="107"/>
                    </a:lnTo>
                    <a:lnTo>
                      <a:pt x="10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4246560" y="342720"/>
              <a:ext cx="10526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307400" y="304920"/>
              <a:ext cx="872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ediction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381200" y="533160"/>
              <a:ext cx="375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K?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523280" y="2431800"/>
              <a:ext cx="4521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41720" y="2487600"/>
              <a:ext cx="26748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919920" y="2423880"/>
              <a:ext cx="4525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038720" y="2479680"/>
              <a:ext cx="26748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351480" y="2219040"/>
              <a:ext cx="4874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470280" y="2274840"/>
              <a:ext cx="26748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737040" y="2274840"/>
              <a:ext cx="3564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89760" y="2203200"/>
              <a:ext cx="4874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108560" y="2259000"/>
              <a:ext cx="26748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375320" y="2259000"/>
              <a:ext cx="3564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4414680" y="1076040"/>
              <a:ext cx="122400" cy="227880"/>
              <a:chOff x="4414680" y="1076040"/>
              <a:chExt cx="122400" cy="227880"/>
            </a:xfrm>
          </p:grpSpPr>
          <p:sp>
            <p:nvSpPr>
              <p:cNvPr id="415" name=""/>
              <p:cNvSpPr/>
              <p:nvPr/>
            </p:nvSpPr>
            <p:spPr>
              <a:xfrm>
                <a:off x="4465800" y="1076040"/>
                <a:ext cx="18720" cy="10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414680" y="1182240"/>
                <a:ext cx="122400" cy="12168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0" y="0"/>
                    </a:moveTo>
                    <a:lnTo>
                      <a:pt x="38" y="77"/>
                    </a:lnTo>
                    <a:lnTo>
                      <a:pt x="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5634000" y="1076040"/>
              <a:ext cx="122400" cy="227880"/>
              <a:chOff x="5634000" y="1076040"/>
              <a:chExt cx="122400" cy="227880"/>
            </a:xfrm>
          </p:grpSpPr>
          <p:sp>
            <p:nvSpPr>
              <p:cNvPr id="418" name=""/>
              <p:cNvSpPr/>
              <p:nvPr/>
            </p:nvSpPr>
            <p:spPr>
              <a:xfrm>
                <a:off x="5684760" y="1076040"/>
                <a:ext cx="19080" cy="10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634000" y="1182240"/>
                <a:ext cx="122400" cy="12168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0" y="0"/>
                    </a:moveTo>
                    <a:lnTo>
                      <a:pt x="38" y="77"/>
                    </a:lnTo>
                    <a:lnTo>
                      <a:pt x="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6243480" y="1076040"/>
              <a:ext cx="122400" cy="227880"/>
              <a:chOff x="6243480" y="1076040"/>
              <a:chExt cx="122400" cy="227880"/>
            </a:xfrm>
          </p:grpSpPr>
          <p:sp>
            <p:nvSpPr>
              <p:cNvPr id="421" name=""/>
              <p:cNvSpPr/>
              <p:nvPr/>
            </p:nvSpPr>
            <p:spPr>
              <a:xfrm>
                <a:off x="6294600" y="1076040"/>
                <a:ext cx="18720" cy="10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243480" y="1182240"/>
                <a:ext cx="122400" cy="12168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0" y="0"/>
                    </a:moveTo>
                    <a:lnTo>
                      <a:pt x="38" y="77"/>
                    </a:lnTo>
                    <a:lnTo>
                      <a:pt x="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853320" y="1076040"/>
              <a:ext cx="122040" cy="227880"/>
              <a:chOff x="6853320" y="1076040"/>
              <a:chExt cx="122040" cy="227880"/>
            </a:xfrm>
          </p:grpSpPr>
          <p:sp>
            <p:nvSpPr>
              <p:cNvPr id="424" name=""/>
              <p:cNvSpPr/>
              <p:nvPr/>
            </p:nvSpPr>
            <p:spPr>
              <a:xfrm>
                <a:off x="6904080" y="1076040"/>
                <a:ext cx="19080" cy="10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853320" y="1182240"/>
                <a:ext cx="122040" cy="12168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0" y="0"/>
                    </a:moveTo>
                    <a:lnTo>
                      <a:pt x="38" y="77"/>
                    </a:lnTo>
                    <a:lnTo>
                      <a:pt x="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7462800" y="1076040"/>
              <a:ext cx="122400" cy="227880"/>
              <a:chOff x="7462800" y="1076040"/>
              <a:chExt cx="122400" cy="227880"/>
            </a:xfrm>
          </p:grpSpPr>
          <p:sp>
            <p:nvSpPr>
              <p:cNvPr id="427" name=""/>
              <p:cNvSpPr/>
              <p:nvPr/>
            </p:nvSpPr>
            <p:spPr>
              <a:xfrm>
                <a:off x="7513560" y="1076040"/>
                <a:ext cx="19080" cy="10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462800" y="1182240"/>
                <a:ext cx="122400" cy="12168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0" y="0"/>
                    </a:moveTo>
                    <a:lnTo>
                      <a:pt x="38" y="77"/>
                    </a:lnTo>
                    <a:lnTo>
                      <a:pt x="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>
              <a:off x="4475160" y="1062000"/>
              <a:ext cx="3048120" cy="28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780080" y="1304640"/>
              <a:ext cx="534960" cy="458640"/>
            </a:xfrm>
            <a:prstGeom prst="rect">
              <a:avLst/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849560" y="1390680"/>
              <a:ext cx="45036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eral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77640" y="1542960"/>
              <a:ext cx="39384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5024520" y="1076040"/>
              <a:ext cx="122040" cy="227880"/>
              <a:chOff x="5024520" y="1076040"/>
              <a:chExt cx="122040" cy="227880"/>
            </a:xfrm>
          </p:grpSpPr>
          <p:sp>
            <p:nvSpPr>
              <p:cNvPr id="434" name=""/>
              <p:cNvSpPr/>
              <p:nvPr/>
            </p:nvSpPr>
            <p:spPr>
              <a:xfrm>
                <a:off x="5075280" y="1076040"/>
                <a:ext cx="19080" cy="10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024520" y="1182240"/>
                <a:ext cx="122040" cy="12168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0" y="0"/>
                    </a:moveTo>
                    <a:lnTo>
                      <a:pt x="38" y="77"/>
                    </a:lnTo>
                    <a:lnTo>
                      <a:pt x="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3789360" y="2133360"/>
              <a:ext cx="396252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4346640" y="1761840"/>
              <a:ext cx="106200" cy="380520"/>
              <a:chOff x="4346640" y="1761840"/>
              <a:chExt cx="106200" cy="380520"/>
            </a:xfrm>
          </p:grpSpPr>
          <p:sp>
            <p:nvSpPr>
              <p:cNvPr id="438" name=""/>
              <p:cNvSpPr/>
              <p:nvPr/>
            </p:nvSpPr>
            <p:spPr>
              <a:xfrm>
                <a:off x="4398840" y="1864800"/>
                <a:ext cx="1800" cy="17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346640" y="1761840"/>
                <a:ext cx="106200" cy="10764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7" y="68"/>
                    </a:moveTo>
                    <a:lnTo>
                      <a:pt x="33" y="0"/>
                    </a:lnTo>
                    <a:lnTo>
                      <a:pt x="0" y="68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346640" y="2036160"/>
                <a:ext cx="10620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3" y="67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5565600" y="1761840"/>
              <a:ext cx="106560" cy="380520"/>
              <a:chOff x="5565600" y="1761840"/>
              <a:chExt cx="106560" cy="380520"/>
            </a:xfrm>
          </p:grpSpPr>
          <p:sp>
            <p:nvSpPr>
              <p:cNvPr id="442" name=""/>
              <p:cNvSpPr/>
              <p:nvPr/>
            </p:nvSpPr>
            <p:spPr>
              <a:xfrm>
                <a:off x="5618160" y="1864800"/>
                <a:ext cx="1440" cy="17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565600" y="1761840"/>
                <a:ext cx="106560" cy="10764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7" y="68"/>
                    </a:moveTo>
                    <a:lnTo>
                      <a:pt x="33" y="0"/>
                    </a:lnTo>
                    <a:lnTo>
                      <a:pt x="0" y="68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565600" y="2036160"/>
                <a:ext cx="10656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3" y="67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6175440" y="1761840"/>
              <a:ext cx="106200" cy="380520"/>
              <a:chOff x="6175440" y="1761840"/>
              <a:chExt cx="106200" cy="380520"/>
            </a:xfrm>
          </p:grpSpPr>
          <p:sp>
            <p:nvSpPr>
              <p:cNvPr id="446" name=""/>
              <p:cNvSpPr/>
              <p:nvPr/>
            </p:nvSpPr>
            <p:spPr>
              <a:xfrm>
                <a:off x="6227640" y="1864800"/>
                <a:ext cx="1800" cy="17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175440" y="1761840"/>
                <a:ext cx="106200" cy="10764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7" y="68"/>
                    </a:moveTo>
                    <a:lnTo>
                      <a:pt x="33" y="0"/>
                    </a:lnTo>
                    <a:lnTo>
                      <a:pt x="0" y="68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175440" y="2036160"/>
                <a:ext cx="10620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3" y="67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6784920" y="1761840"/>
              <a:ext cx="106560" cy="380520"/>
              <a:chOff x="6784920" y="1761840"/>
              <a:chExt cx="106560" cy="380520"/>
            </a:xfrm>
          </p:grpSpPr>
          <p:sp>
            <p:nvSpPr>
              <p:cNvPr id="450" name=""/>
              <p:cNvSpPr/>
              <p:nvPr/>
            </p:nvSpPr>
            <p:spPr>
              <a:xfrm>
                <a:off x="6837480" y="1864800"/>
                <a:ext cx="1440" cy="17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784920" y="1761840"/>
                <a:ext cx="106560" cy="10764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7" y="68"/>
                    </a:moveTo>
                    <a:lnTo>
                      <a:pt x="33" y="0"/>
                    </a:lnTo>
                    <a:lnTo>
                      <a:pt x="0" y="68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784920" y="2036160"/>
                <a:ext cx="10656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3" y="67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7394400" y="1761840"/>
              <a:ext cx="106560" cy="380520"/>
              <a:chOff x="7394400" y="1761840"/>
              <a:chExt cx="106560" cy="380520"/>
            </a:xfrm>
          </p:grpSpPr>
          <p:sp>
            <p:nvSpPr>
              <p:cNvPr id="454" name=""/>
              <p:cNvSpPr/>
              <p:nvPr/>
            </p:nvSpPr>
            <p:spPr>
              <a:xfrm>
                <a:off x="7446960" y="1864800"/>
                <a:ext cx="1440" cy="17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394400" y="1761840"/>
                <a:ext cx="106560" cy="10764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7" y="68"/>
                    </a:moveTo>
                    <a:lnTo>
                      <a:pt x="33" y="0"/>
                    </a:lnTo>
                    <a:lnTo>
                      <a:pt x="0" y="68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394400" y="2036160"/>
                <a:ext cx="10656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3" y="67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4956120" y="1761840"/>
              <a:ext cx="106560" cy="380520"/>
              <a:chOff x="4956120" y="1761840"/>
              <a:chExt cx="106560" cy="380520"/>
            </a:xfrm>
          </p:grpSpPr>
          <p:sp>
            <p:nvSpPr>
              <p:cNvPr id="458" name=""/>
              <p:cNvSpPr/>
              <p:nvPr/>
            </p:nvSpPr>
            <p:spPr>
              <a:xfrm>
                <a:off x="5008680" y="1864800"/>
                <a:ext cx="1440" cy="17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956120" y="1761840"/>
                <a:ext cx="106560" cy="10764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7" y="68"/>
                    </a:moveTo>
                    <a:lnTo>
                      <a:pt x="33" y="0"/>
                    </a:lnTo>
                    <a:lnTo>
                      <a:pt x="0" y="68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956120" y="2036160"/>
                <a:ext cx="10656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3" y="67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4346640" y="1761840"/>
              <a:ext cx="106200" cy="380520"/>
              <a:chOff x="4346640" y="1761840"/>
              <a:chExt cx="106200" cy="380520"/>
            </a:xfrm>
          </p:grpSpPr>
          <p:sp>
            <p:nvSpPr>
              <p:cNvPr id="462" name=""/>
              <p:cNvSpPr/>
              <p:nvPr/>
            </p:nvSpPr>
            <p:spPr>
              <a:xfrm>
                <a:off x="4398840" y="1864800"/>
                <a:ext cx="1800" cy="17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346640" y="1761840"/>
                <a:ext cx="106200" cy="10764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7" y="68"/>
                    </a:moveTo>
                    <a:lnTo>
                      <a:pt x="33" y="0"/>
                    </a:lnTo>
                    <a:lnTo>
                      <a:pt x="0" y="68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346640" y="2036160"/>
                <a:ext cx="10620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3" y="67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5565600" y="1761840"/>
              <a:ext cx="106560" cy="380520"/>
              <a:chOff x="5565600" y="1761840"/>
              <a:chExt cx="106560" cy="380520"/>
            </a:xfrm>
          </p:grpSpPr>
          <p:sp>
            <p:nvSpPr>
              <p:cNvPr id="466" name=""/>
              <p:cNvSpPr/>
              <p:nvPr/>
            </p:nvSpPr>
            <p:spPr>
              <a:xfrm>
                <a:off x="5618160" y="1864800"/>
                <a:ext cx="1440" cy="17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565600" y="1761840"/>
                <a:ext cx="106560" cy="10764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7" y="68"/>
                    </a:moveTo>
                    <a:lnTo>
                      <a:pt x="33" y="0"/>
                    </a:lnTo>
                    <a:lnTo>
                      <a:pt x="0" y="68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565600" y="2036160"/>
                <a:ext cx="10656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3" y="67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6175440" y="1761840"/>
              <a:ext cx="106200" cy="380520"/>
              <a:chOff x="6175440" y="1761840"/>
              <a:chExt cx="106200" cy="380520"/>
            </a:xfrm>
          </p:grpSpPr>
          <p:sp>
            <p:nvSpPr>
              <p:cNvPr id="470" name=""/>
              <p:cNvSpPr/>
              <p:nvPr/>
            </p:nvSpPr>
            <p:spPr>
              <a:xfrm>
                <a:off x="6227640" y="1864800"/>
                <a:ext cx="1800" cy="17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175440" y="1761840"/>
                <a:ext cx="106200" cy="10764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7" y="68"/>
                    </a:moveTo>
                    <a:lnTo>
                      <a:pt x="33" y="0"/>
                    </a:lnTo>
                    <a:lnTo>
                      <a:pt x="0" y="68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175440" y="2036160"/>
                <a:ext cx="10620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3" y="67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6784920" y="1761840"/>
              <a:ext cx="106560" cy="380520"/>
              <a:chOff x="6784920" y="1761840"/>
              <a:chExt cx="106560" cy="380520"/>
            </a:xfrm>
          </p:grpSpPr>
          <p:sp>
            <p:nvSpPr>
              <p:cNvPr id="474" name=""/>
              <p:cNvSpPr/>
              <p:nvPr/>
            </p:nvSpPr>
            <p:spPr>
              <a:xfrm>
                <a:off x="6837480" y="1864800"/>
                <a:ext cx="1440" cy="17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784920" y="1761840"/>
                <a:ext cx="106560" cy="10764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7" y="68"/>
                    </a:moveTo>
                    <a:lnTo>
                      <a:pt x="33" y="0"/>
                    </a:lnTo>
                    <a:lnTo>
                      <a:pt x="0" y="68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784920" y="2036160"/>
                <a:ext cx="10656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3" y="67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7394400" y="1761840"/>
              <a:ext cx="106560" cy="380520"/>
              <a:chOff x="7394400" y="1761840"/>
              <a:chExt cx="106560" cy="380520"/>
            </a:xfrm>
          </p:grpSpPr>
          <p:sp>
            <p:nvSpPr>
              <p:cNvPr id="478" name=""/>
              <p:cNvSpPr/>
              <p:nvPr/>
            </p:nvSpPr>
            <p:spPr>
              <a:xfrm>
                <a:off x="7446960" y="1864800"/>
                <a:ext cx="1440" cy="17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394400" y="1761840"/>
                <a:ext cx="106560" cy="10764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7" y="68"/>
                    </a:moveTo>
                    <a:lnTo>
                      <a:pt x="33" y="0"/>
                    </a:lnTo>
                    <a:lnTo>
                      <a:pt x="0" y="68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394400" y="2036160"/>
                <a:ext cx="10656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3" y="67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4956120" y="1761840"/>
              <a:ext cx="106560" cy="380520"/>
              <a:chOff x="4956120" y="1761840"/>
              <a:chExt cx="106560" cy="380520"/>
            </a:xfrm>
          </p:grpSpPr>
          <p:sp>
            <p:nvSpPr>
              <p:cNvPr id="482" name=""/>
              <p:cNvSpPr/>
              <p:nvPr/>
            </p:nvSpPr>
            <p:spPr>
              <a:xfrm>
                <a:off x="5008680" y="1864800"/>
                <a:ext cx="1440" cy="17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56120" y="1761840"/>
                <a:ext cx="106560" cy="10764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7" y="68"/>
                    </a:moveTo>
                    <a:lnTo>
                      <a:pt x="33" y="0"/>
                    </a:lnTo>
                    <a:lnTo>
                      <a:pt x="0" y="68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956120" y="2036160"/>
                <a:ext cx="10656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3" y="67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>
              <a:off x="4627440" y="2143080"/>
              <a:ext cx="1197000" cy="2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745880" y="2198520"/>
              <a:ext cx="101268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eration Results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4080" y="326880"/>
              <a:ext cx="8953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3045960" y="304920"/>
              <a:ext cx="713880" cy="404280"/>
              <a:chOff x="3045960" y="304920"/>
              <a:chExt cx="713880" cy="404280"/>
            </a:xfrm>
          </p:grpSpPr>
          <p:sp>
            <p:nvSpPr>
              <p:cNvPr id="489" name=""/>
              <p:cNvSpPr/>
              <p:nvPr/>
            </p:nvSpPr>
            <p:spPr>
              <a:xfrm>
                <a:off x="3045960" y="304920"/>
                <a:ext cx="7138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egiste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057840" y="517320"/>
                <a:ext cx="7016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Updates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91" name=""/>
            <p:cNvSpPr/>
            <p:nvPr/>
          </p:nvSpPr>
          <p:spPr>
            <a:xfrm flipV="1">
              <a:off x="3886200" y="533160"/>
              <a:ext cx="0" cy="159984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4267080" y="533160"/>
              <a:ext cx="0" cy="761760"/>
            </a:xfrm>
            <a:prstGeom prst="line">
              <a:avLst/>
            </a:prstGeom>
            <a:ln w="19080">
              <a:solidFill>
                <a:srgbClr val="0033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943600" y="304920"/>
              <a:ext cx="0" cy="76176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83560" y="380880"/>
              <a:ext cx="9410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peration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3520" y="334800"/>
            <a:ext cx="7439040" cy="571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PU Capabilities of Pentium III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294400" cy="521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ultiple Instructions Can Execute in Parallel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 loa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 stor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 integer (one may be branch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 FP Addi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 FP Multiplication or Divis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ome Instructions Take &gt; 1 Cycle, but Can be Pipelined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ruction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atency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ycles/Issu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ad / Stor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teger Multiply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teger Divid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6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uble/Single FP Multiply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uble/Single FP Add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uble/Single FP Divid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8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8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ntiumPro Block Diagra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90520" y="1218960"/>
            <a:ext cx="35956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6 Microarchitectur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ntiumPr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ntium II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ntium III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822680" y="5791320"/>
            <a:ext cx="21412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icroprocessor Repor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2/16/9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4267080" y="1143000"/>
            <a:ext cx="4083120" cy="53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ntiumPro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lates instructions dynamically into “Uops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18 bits wi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lds operation, two sources, and destin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ecutes Uops with “Out of Order” engin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op executed whe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perands availa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unctional unit availa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ecution controlled by “Reservation Stations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Keeps track of data dependencies between uop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ocates resourc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ntiumPro Branch Predi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ritical to 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1–15 cycle penalty for mispredi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ranch Target Buff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12 entr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 bits of hist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aptive algorith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recognize repeated patterns, e.g., alternating taken–not take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andling BTB mis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tect in cycle 6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ict taken for negative offset, not taken for positiv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ops vs. conditional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ample Branch Predi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ranch History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ncode information about prior history of branch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ict whether or not branch will be take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ate Machin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time branch taken, transition to righ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not taken, transition to lef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ict branch taken when in state Yes! or Yes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821520" y="3048120"/>
            <a:ext cx="7259040" cy="1427400"/>
            <a:chOff x="821520" y="3048120"/>
            <a:chExt cx="7259040" cy="1427400"/>
          </a:xfrm>
        </p:grpSpPr>
        <p:sp>
          <p:nvSpPr>
            <p:cNvPr id="508" name=""/>
            <p:cNvSpPr/>
            <p:nvPr/>
          </p:nvSpPr>
          <p:spPr>
            <a:xfrm>
              <a:off x="2723760" y="4112280"/>
              <a:ext cx="321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169880" y="4112280"/>
              <a:ext cx="321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691600" y="4112280"/>
              <a:ext cx="321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784920" y="3462840"/>
              <a:ext cx="659160" cy="582840"/>
            </a:xfrm>
            <a:prstGeom prst="ellipse">
              <a:avLst/>
            </a:prstGeom>
            <a:noFill/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229400" y="3462840"/>
              <a:ext cx="659160" cy="582840"/>
            </a:xfrm>
            <a:prstGeom prst="ellipse">
              <a:avLst/>
            </a:prstGeom>
            <a:noFill/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9400" y="3380400"/>
              <a:ext cx="748440" cy="747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Yes!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201840" y="3380400"/>
              <a:ext cx="748080" cy="747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Yes?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723920" y="3380400"/>
              <a:ext cx="748080" cy="747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o?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245640" y="3380400"/>
              <a:ext cx="748440" cy="747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o!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358360" y="3526200"/>
              <a:ext cx="912960" cy="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358360" y="3982680"/>
              <a:ext cx="912960" cy="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80440" y="3526200"/>
              <a:ext cx="912960" cy="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880440" y="3982680"/>
              <a:ext cx="912960" cy="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402160" y="3526200"/>
              <a:ext cx="912960" cy="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402160" y="3982680"/>
              <a:ext cx="912960" cy="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571480" y="3048120"/>
              <a:ext cx="486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21520" y="3504240"/>
              <a:ext cx="321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017600" y="3048120"/>
              <a:ext cx="486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39680" y="3048120"/>
              <a:ext cx="486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594200" y="3580200"/>
              <a:ext cx="486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ntium 4 Block Diagra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90160" y="5333760"/>
            <a:ext cx="8294760" cy="109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xt generation microarchitect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30" name="art_2_fig4%5B1%5D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5635440" cy="372600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6551640" y="2133720"/>
            <a:ext cx="21146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tel Tech. Journ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Q1, 20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ntium 4 Featu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ce Cach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laces traditional instruction cach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ches instructions in decoded for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duces required rate for instruction decod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ouble-Pumped ALU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mple instructions (add) run at 2X clock ra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ery Deep Pipelin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0+ cycle branch penal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nables very high clock ra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lower than Pentium III for a given clock ra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2590920" y="1143000"/>
            <a:ext cx="5297040" cy="1447920"/>
            <a:chOff x="2590920" y="1143000"/>
            <a:chExt cx="5297040" cy="1447920"/>
          </a:xfrm>
        </p:grpSpPr>
        <p:sp>
          <p:nvSpPr>
            <p:cNvPr id="535" name=""/>
            <p:cNvSpPr/>
            <p:nvPr/>
          </p:nvSpPr>
          <p:spPr>
            <a:xfrm>
              <a:off x="2590920" y="1143000"/>
              <a:ext cx="1135080" cy="1055520"/>
            </a:xfrm>
            <a:prstGeom prst="rect">
              <a:avLst/>
            </a:prstGeom>
            <a:solidFill>
              <a:srgbClr val="99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2 Cach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419720" y="1143000"/>
              <a:ext cx="1135080" cy="1055520"/>
            </a:xfrm>
            <a:prstGeom prst="rect">
              <a:avLst/>
            </a:prstGeom>
            <a:solidFill>
              <a:srgbClr val="99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nstruct.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ecod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248520" y="1143000"/>
              <a:ext cx="1135080" cy="1055520"/>
            </a:xfrm>
            <a:prstGeom prst="rect">
              <a:avLst/>
            </a:prstGeom>
            <a:solidFill>
              <a:srgbClr val="99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rac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ach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733920" y="1676520"/>
              <a:ext cx="68580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731760" y="1143000"/>
              <a:ext cx="62856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IA32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Instrs.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562000" y="1219320"/>
              <a:ext cx="5158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uop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562720" y="1676520"/>
              <a:ext cx="68580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781680" y="2209680"/>
              <a:ext cx="0" cy="38124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855480" y="2209680"/>
              <a:ext cx="10324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Operation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cessor 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sign Techniqu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e uniform framework for all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ant to share hardware among instru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nect standard logic blocks with bits of control log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te held in memories and clocked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ation done by combinational log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ocking of registers/memories sufficient to control overall behavi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nhancing 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ipelining increases throughput and improves resource utiliz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make sure maintains ISA behavi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rformance Metric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ock rat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asured in Megahertz or Gigahertz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unction of stage partitioning and circuit desig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Keep amount of work per stage smal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ate at which instructions execute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PI: cycles per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 average, how many clock cycles does each instruction require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unction of pipeline design and benchmark program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how frequently are branches mispredicted?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PI for PIP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PI </a:t>
            </a:r>
            <a:r>
              <a:rPr b="1" lang="en-US" sz="2400" spc="-1" strike="noStrike">
                <a:solidFill>
                  <a:srgbClr val="0033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1.0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etch instruction each clock cyc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ffectively process new instruction almost every cyc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though each individual instruction has latency of 5 cycl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PI 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&gt;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1.0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metimes must stall or cancel branch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ing CPI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 clock cyc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 instructions executed to comple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 bubbles injected (C = I + B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PI   =   C/I   =   (I+B)/I   =  1.0 + B/I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actor B/I represents average penalty due to bubb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660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PI for PIPE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294400" cy="521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lvl="1" marL="782640" indent="0" algn="ctr">
              <a:spcBef>
                <a:spcPts val="624"/>
              </a:spcBef>
              <a:buNone/>
              <a:tabLst>
                <a:tab algn="l" pos="0"/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/I = LP + MP + R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82640" indent="-338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P: Penalty due to load/use hazard stall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304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raction of instructions that are load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0.25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304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raction of load instructions requiring stal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0.2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304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umber of bubbles injected each tim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P = 0.25 * 0.20 * 1 = 0.05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82640" indent="-338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P: Penalty due to mispredicted branch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304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raction of instructions that are cond. jump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0.2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304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raction of cond. jumps mispredicted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0.4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304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umber of bubbles injected each tim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P = 0.20 * 0.40 * 2 = 0.16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82640" indent="-338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P: Penalty due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t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304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raction of instructions that are return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0.0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304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umber of bubbles injected each tim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P = 0.02 * 3 = 0.06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82640" indent="-338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t effect of penalties 0.05 + 0.16 + 0.06 = 0.27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PI = 1.27    (Not bad!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7640" y="1143000"/>
            <a:ext cx="1680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Typical Valu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etch Logic Revisite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33670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uring Fetch Cyc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58880" indent="-260280">
              <a:spcBef>
                <a:spcPts val="624"/>
              </a:spcBef>
              <a:buClr>
                <a:srgbClr val="660033"/>
              </a:buClr>
              <a:buSzPct val="75000"/>
              <a:buFont typeface="Helvetic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lect P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58880" indent="-260280">
              <a:spcBef>
                <a:spcPts val="624"/>
              </a:spcBef>
              <a:buClr>
                <a:srgbClr val="660033"/>
              </a:buClr>
              <a:buSzPct val="75000"/>
              <a:buFont typeface="Helvetic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bytes from instruction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58880" indent="-260280">
              <a:spcBef>
                <a:spcPts val="624"/>
              </a:spcBef>
              <a:buClr>
                <a:srgbClr val="660033"/>
              </a:buClr>
              <a:buSzPct val="75000"/>
              <a:buFont typeface="Helvetic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ine icode to determine instruction lengt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58880" indent="-260280">
              <a:spcBef>
                <a:spcPts val="624"/>
              </a:spcBef>
              <a:buClr>
                <a:srgbClr val="660033"/>
              </a:buClr>
              <a:buSzPct val="75000"/>
              <a:buFont typeface="Helvetic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rement P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im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58880" indent="-260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eps 2 &amp; 4 require significant amount of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352680" y="914400"/>
            <a:ext cx="5886720" cy="482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ndard Fetch Tim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90160" y="3962160"/>
            <a:ext cx="8294760" cy="246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Perform Everything in Seque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’t compute incremented PC until know how much to increment it b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2286000"/>
            <a:ext cx="0" cy="76212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2438280"/>
            <a:ext cx="45720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73440" y="1546200"/>
            <a:ext cx="10278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lect 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91120" y="2286000"/>
            <a:ext cx="0" cy="30492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2438280"/>
            <a:ext cx="45720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2286000"/>
            <a:ext cx="0" cy="30492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1828800"/>
            <a:ext cx="76320" cy="533520"/>
          </a:xfrm>
          <a:prstGeom prst="line">
            <a:avLst/>
          </a:prstGeom>
          <a:ln w="1908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2520" y="2133720"/>
            <a:ext cx="1162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.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59600" y="2133720"/>
            <a:ext cx="1059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crem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50080" y="1447920"/>
            <a:ext cx="2411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eed_regids, need_val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1752480"/>
            <a:ext cx="76320" cy="609840"/>
          </a:xfrm>
          <a:prstGeom prst="line">
            <a:avLst/>
          </a:prstGeom>
          <a:ln w="1908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2286000"/>
            <a:ext cx="0" cy="76212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4000320" y="418680"/>
            <a:ext cx="381240" cy="5791320"/>
          </a:xfrm>
          <a:custGeom>
            <a:avLst/>
            <a:gdLst>
              <a:gd name="textAreaLeft" fmla="*/ 243720 w 381240"/>
              <a:gd name="textAreaRight" fmla="*/ 381600 w 381240"/>
              <a:gd name="textAreaTop" fmla="*/ 150840 h 5791320"/>
              <a:gd name="textAreaBottom" fmla="*/ 5640480 h 579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51680" y="3546360"/>
            <a:ext cx="15004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1 clock cyc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8320" y="2286000"/>
            <a:ext cx="0" cy="30492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2438280"/>
            <a:ext cx="243864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2438280"/>
            <a:ext cx="243828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Fast PC Increment Circuit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2971800"/>
            <a:ext cx="1676520" cy="865080"/>
          </a:xfrm>
          <a:prstGeom prst="rect">
            <a:avLst/>
          </a:prstGeom>
          <a:solidFill>
            <a:srgbClr val="99ffcc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-bit add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419720" y="3809520"/>
            <a:ext cx="0" cy="1143000"/>
          </a:xfrm>
          <a:prstGeom prst="line">
            <a:avLst/>
          </a:prstGeom>
          <a:ln w="19080">
            <a:solidFill>
              <a:srgbClr val="0033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648320" y="3809520"/>
            <a:ext cx="0" cy="1143000"/>
          </a:xfrm>
          <a:prstGeom prst="line">
            <a:avLst/>
          </a:prstGeom>
          <a:ln w="19080">
            <a:solidFill>
              <a:srgbClr val="0033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876920" y="3809520"/>
            <a:ext cx="0" cy="1143000"/>
          </a:xfrm>
          <a:prstGeom prst="line">
            <a:avLst/>
          </a:prstGeom>
          <a:ln w="19080">
            <a:solidFill>
              <a:srgbClr val="0033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334120" y="3809880"/>
            <a:ext cx="0" cy="914400"/>
          </a:xfrm>
          <a:prstGeom prst="line">
            <a:avLst/>
          </a:prstGeom>
          <a:ln w="19080">
            <a:solidFill>
              <a:srgbClr val="0033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562720" y="3809520"/>
            <a:ext cx="0" cy="685800"/>
          </a:xfrm>
          <a:prstGeom prst="line">
            <a:avLst/>
          </a:prstGeom>
          <a:ln w="19080">
            <a:solidFill>
              <a:srgbClr val="0033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791320" y="3809520"/>
            <a:ext cx="0" cy="381240"/>
          </a:xfrm>
          <a:prstGeom prst="line">
            <a:avLst/>
          </a:prstGeom>
          <a:ln w="19080">
            <a:solidFill>
              <a:srgbClr val="0033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81480" y="4724280"/>
            <a:ext cx="1128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eed_Val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39760" y="4183200"/>
            <a:ext cx="128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eed_regid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53280" y="4460760"/>
            <a:ext cx="218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2971800"/>
            <a:ext cx="1066680" cy="865080"/>
          </a:xfrm>
          <a:prstGeom prst="rect">
            <a:avLst/>
          </a:prstGeom>
          <a:solidFill>
            <a:srgbClr val="99ffcc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9-b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cre-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n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124080" y="3809520"/>
            <a:ext cx="0" cy="114300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2209680"/>
            <a:ext cx="1371600" cy="4572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U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2666880"/>
            <a:ext cx="914400" cy="1524240"/>
          </a:xfrm>
          <a:custGeom>
            <a:avLst/>
            <a:gdLst/>
            <a:ahLst/>
            <a:rect l="l" t="t" r="r" b="b"/>
            <a:pathLst>
              <a:path w="576" h="1008">
                <a:moveTo>
                  <a:pt x="576" y="1008"/>
                </a:moveTo>
                <a:lnTo>
                  <a:pt x="0" y="100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124080" y="2666520"/>
            <a:ext cx="0" cy="30492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43200" y="4952880"/>
            <a:ext cx="236232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962520" y="4952880"/>
            <a:ext cx="0" cy="457200"/>
          </a:xfrm>
          <a:prstGeom prst="line">
            <a:avLst/>
          </a:prstGeom>
          <a:ln w="572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800600" y="1828440"/>
            <a:ext cx="0" cy="1143000"/>
          </a:xfrm>
          <a:prstGeom prst="line">
            <a:avLst/>
          </a:prstGeom>
          <a:ln w="19080">
            <a:solidFill>
              <a:srgbClr val="0033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029200" y="1828440"/>
            <a:ext cx="0" cy="1143000"/>
          </a:xfrm>
          <a:prstGeom prst="line">
            <a:avLst/>
          </a:prstGeom>
          <a:ln w="19080">
            <a:solidFill>
              <a:srgbClr val="0033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257800" y="1828440"/>
            <a:ext cx="0" cy="1143000"/>
          </a:xfrm>
          <a:prstGeom prst="line">
            <a:avLst/>
          </a:prstGeom>
          <a:ln w="19080">
            <a:solidFill>
              <a:srgbClr val="0033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1828800"/>
            <a:ext cx="289548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038480" y="1371600"/>
            <a:ext cx="0" cy="457200"/>
          </a:xfrm>
          <a:prstGeom prst="line">
            <a:avLst/>
          </a:prstGeom>
          <a:ln w="572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1828800"/>
            <a:ext cx="0" cy="38088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43240" y="4648320"/>
            <a:ext cx="16178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High-order 29 bit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38280" y="4952880"/>
            <a:ext cx="14788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Low-order 3 bit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2438280"/>
            <a:ext cx="914400" cy="99072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576" y="672"/>
                </a:moveTo>
                <a:lnTo>
                  <a:pt x="384" y="672"/>
                </a:lnTo>
                <a:lnTo>
                  <a:pt x="384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86040" y="1905120"/>
            <a:ext cx="16178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High-order 29 bit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1960" y="1905120"/>
            <a:ext cx="14788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Low-order 3 bit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33360" y="2438280"/>
            <a:ext cx="1911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09600" y="2438280"/>
            <a:ext cx="1911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352680" y="5410080"/>
            <a:ext cx="1219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29000" y="1066680"/>
            <a:ext cx="1219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cr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930240" y="2819520"/>
            <a:ext cx="6232680" cy="1143000"/>
            <a:chOff x="930240" y="2819520"/>
            <a:chExt cx="6232680" cy="1143000"/>
          </a:xfrm>
        </p:grpSpPr>
        <p:grpSp>
          <p:nvGrpSpPr>
            <p:cNvPr id="148" name=""/>
            <p:cNvGrpSpPr/>
            <p:nvPr/>
          </p:nvGrpSpPr>
          <p:grpSpPr>
            <a:xfrm>
              <a:off x="930240" y="2819520"/>
              <a:ext cx="974880" cy="1143000"/>
              <a:chOff x="930240" y="2819520"/>
              <a:chExt cx="974880" cy="1143000"/>
            </a:xfrm>
          </p:grpSpPr>
          <p:sp>
            <p:nvSpPr>
              <p:cNvPr id="149" name=""/>
              <p:cNvSpPr/>
              <p:nvPr/>
            </p:nvSpPr>
            <p:spPr>
              <a:xfrm>
                <a:off x="1752480" y="2819520"/>
                <a:ext cx="152640" cy="1143000"/>
              </a:xfrm>
              <a:custGeom>
                <a:avLst/>
                <a:gdLst>
                  <a:gd name="textAreaLeft" fmla="*/ 97560 w 152640"/>
                  <a:gd name="textAreaRight" fmla="*/ 153000 w 152640"/>
                  <a:gd name="textAreaTop" fmla="*/ 29520 h 1143000"/>
                  <a:gd name="textAreaBottom" fmla="*/ 1113480 h 114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930240" y="3276720"/>
                <a:ext cx="74628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3300"/>
                    </a:solidFill>
                    <a:latin typeface="Arial"/>
                  </a:rPr>
                  <a:t>Slow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6248520" y="2819520"/>
              <a:ext cx="914400" cy="1143000"/>
              <a:chOff x="6248520" y="2819520"/>
              <a:chExt cx="914400" cy="1143000"/>
            </a:xfrm>
          </p:grpSpPr>
          <p:sp>
            <p:nvSpPr>
              <p:cNvPr id="152" name=""/>
              <p:cNvSpPr/>
              <p:nvPr/>
            </p:nvSpPr>
            <p:spPr>
              <a:xfrm flipH="1">
                <a:off x="6248520" y="2819520"/>
                <a:ext cx="152640" cy="1143000"/>
              </a:xfrm>
              <a:custGeom>
                <a:avLst/>
                <a:gdLst>
                  <a:gd name="textAreaLeft" fmla="*/ 97560 w 152640"/>
                  <a:gd name="textAreaRight" fmla="*/ 153000 w 152640"/>
                  <a:gd name="textAreaTop" fmla="*/ 29520 h 1143000"/>
                  <a:gd name="textAreaBottom" fmla="*/ 1113480 h 114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417000" y="3276720"/>
                <a:ext cx="7459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3300"/>
                    </a:solidFill>
                    <a:latin typeface="Arial"/>
                  </a:rPr>
                  <a:t>Fast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" name=""/>
          <p:cNvSpPr/>
          <p:nvPr/>
        </p:nvSpPr>
        <p:spPr>
          <a:xfrm>
            <a:off x="3663720" y="2133720"/>
            <a:ext cx="529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car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6600" y="22824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dified Fetch Tim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90160" y="3962160"/>
            <a:ext cx="8294760" cy="246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9-Bit Increment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ts as soon as PC selec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tput not needed until final MU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rks in parallel with memory rea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95280" y="2286000"/>
            <a:ext cx="0" cy="76212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2438280"/>
            <a:ext cx="45720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73440" y="1546200"/>
            <a:ext cx="10278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lect 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752480" y="2133360"/>
            <a:ext cx="0" cy="60948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52480" y="2209680"/>
            <a:ext cx="243864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2590920"/>
            <a:ext cx="243864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91120" y="2057400"/>
            <a:ext cx="0" cy="30492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91120" y="2209680"/>
            <a:ext cx="45720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48320" y="2057400"/>
            <a:ext cx="0" cy="30492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2209680"/>
            <a:ext cx="45720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05520" y="2057400"/>
            <a:ext cx="0" cy="68580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5520" y="2416320"/>
            <a:ext cx="45720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1828800"/>
            <a:ext cx="76320" cy="533520"/>
          </a:xfrm>
          <a:prstGeom prst="line">
            <a:avLst/>
          </a:prstGeom>
          <a:ln w="1908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49440" y="1927080"/>
            <a:ext cx="1162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.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03720" y="2595600"/>
            <a:ext cx="1252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cremen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50080" y="1219320"/>
            <a:ext cx="2411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eed_regids, need_val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1523880"/>
            <a:ext cx="76320" cy="609840"/>
          </a:xfrm>
          <a:prstGeom prst="line">
            <a:avLst/>
          </a:prstGeom>
          <a:ln w="1908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50680" y="1447920"/>
            <a:ext cx="934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3-bit ad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1676520"/>
            <a:ext cx="76320" cy="533160"/>
          </a:xfrm>
          <a:prstGeom prst="line">
            <a:avLst/>
          </a:prstGeom>
          <a:ln w="1908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95800" y="1981080"/>
            <a:ext cx="543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U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2263680"/>
            <a:ext cx="0" cy="152640"/>
          </a:xfrm>
          <a:prstGeom prst="line">
            <a:avLst/>
          </a:prstGeom>
          <a:ln w="1908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62720" y="2286000"/>
            <a:ext cx="0" cy="76212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6200000">
            <a:off x="3276360" y="1142280"/>
            <a:ext cx="304920" cy="42674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11240 h 4267440"/>
              <a:gd name="textAreaBottom" fmla="*/ 4156200 h 426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67600" y="3505320"/>
            <a:ext cx="15004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1 clock cyc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91120" y="2590920"/>
            <a:ext cx="914400" cy="0"/>
          </a:xfrm>
          <a:prstGeom prst="line">
            <a:avLst/>
          </a:prstGeom>
          <a:ln w="19080">
            <a:solidFill>
              <a:srgbClr val="00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86600" y="2286000"/>
            <a:ext cx="0" cy="76212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16840" y="3048120"/>
            <a:ext cx="17168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Standard cyc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3T17:17:57Z</dcterms:created>
  <dc:creator>Randal E. Bryant</dc:creator>
  <dc:description/>
  <dc:language>en-US</dc:language>
  <cp:lastModifiedBy>Randal E. Bryant</cp:lastModifiedBy>
  <cp:lastPrinted>1999-02-26T14:55:35Z</cp:lastPrinted>
  <dcterms:modified xsi:type="dcterms:W3CDTF">2002-06-06T15:58:23Z</dcterms:modified>
  <cp:revision>95</cp:revision>
  <dc:subject>SRC Review Slides</dc:subject>
  <dc:title>Formal Processor Verification</dc:title>
</cp:coreProperties>
</file>