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D2FB767-F351-4374-8874-5A0916F5E63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/Linux Memory System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3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6 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manag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page fault hand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p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tion of Virtual Address Sp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4114440"/>
            <a:ext cx="492120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pag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: Is entry in physical memor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: Has this part of VA space been mapp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65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49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572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500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576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520" y="334800"/>
            <a:ext cx="376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a valid (1) or invalid (0) TLB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entry a PDE (1) or a PTE (0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isambiguates entries cached in the same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E/P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age directory or page table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sets, 4 entries/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98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97280" y="5176800"/>
            <a:ext cx="3499200" cy="1222200"/>
            <a:chOff x="2897280" y="5176800"/>
            <a:chExt cx="3499200" cy="1222200"/>
          </a:xfrm>
        </p:grpSpPr>
        <p:sp>
          <p:nvSpPr>
            <p:cNvPr id="607" name=""/>
            <p:cNvSpPr/>
            <p:nvPr/>
          </p:nvSpPr>
          <p:spPr>
            <a:xfrm>
              <a:off x="289728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27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85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43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27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85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43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9728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27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85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43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728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27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85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43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1520" y="570852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26440" y="51768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35800" y="54054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480" y="56340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0480" y="609120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980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then build physical addres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1)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748120" y="1817280"/>
            <a:ext cx="2849400" cy="38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MU builds physical address and fetches data wor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-36648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3818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ceives the following arg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 that caused fa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 caused by non-present page or page-level protection vio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/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/supervi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ck for a legal virtual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TE through PD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ree physical page (swapping out current page if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virtual page from disk and copy to virtual p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exception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56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638680" y="11426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ly every page out requires update of disk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page table is swapped out, then swap out its data pages to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5341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had internal designation P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, superscala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ed to handle server ap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high performance memory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 (199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 (199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MMX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2 cache on same chi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 (1999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Streaming SIMD Exten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re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ap in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543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39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18148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408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L1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90520" y="4266720"/>
            <a:ext cx="854856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hat determine CI identical in virtual and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dex into cache while address translation taking pl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check with CT from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ly indexed, physically tagged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carefully sized to make this possi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Organizes VM as Collection of “Areas”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36576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ge directory add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/write permissions for this are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with other processes or private to this proc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Page Fault Handl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47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53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59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 is it in an area defined by a vm_area_struc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segmentation violation (e.g. (1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, can the process read/write this area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protection violation (e.g., (2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(3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55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 and page tables for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ea can be backed by (i.e., get its initial values from) 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ular file on disk (e.g., an executable object fi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come from a section of a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hing (e.g., bs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are zero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ty pages are swapped back and forth between a special swap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nown as “demand pag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ucial for time and space efficiency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725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-Level 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*mmap(void *start, int len,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prot, int flags, int fd, int offse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61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starting at off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f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the file specified by file descrip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preferably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usually 0 for don’t car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READ, MAP_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PRIVATE, MAP_SHAR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 pointer to the mapped are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fast fil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applications like Web servers that need to quickly copy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ma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file transfers without copying into user space.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6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m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) Example: Fast File Cop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54400" cy="5224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43400" y="1066680"/>
            <a:ext cx="4572000" cy="52657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i, fd, 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char *buf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/* open the file &amp; get its siz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d = open("./mmap.c", O_RDONL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ize = stat.st_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70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0510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run a new program p in the current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xec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vm_area_struct’s and page tables for old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’s and page tables for new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ck, bss, data, text, shared lib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and data backed by ELF executable object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ss and stack initialized to zer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C to entry point in .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 will swap in code and data page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205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Memory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8600"/>
            <a:ext cx="2971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2 bit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 KB page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, L2, and TLB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nst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i-cache and d-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2 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0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create a new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copies of the old process’s mm_struct, vm_area_struct’s, and page t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this point the two processes are sharing all of their p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separate spaces without copying all the virtual pages from one space to another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py on write” techniqu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y-on-wri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pages of  writeable areas read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ag vm_area_struct’s for these areas as private “copy-on-write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s by either process to these pages will cause page faul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 handler recognizes copy-on-write, makes a copy of the page, and restores write permiss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resul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827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System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ely a speed-up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invisible to application programmer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totally in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s many OS-related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re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ing childre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sk swit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&amp; software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management of tables, allo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access of t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caching of table entries (TL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68151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ew of Abbrevi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358640"/>
            <a:ext cx="830736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virtual address (V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I: TLB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T: TLB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O: virtual page offset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N: virtual page number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physical address (P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O: physical page offset (same as VPO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N: physical page numb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: byte offset within cache 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I: cache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T: cache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P6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27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2-level Page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directory entries (PDEs) that point to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age directory per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directory must be in memory when its process i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pointed to by PDB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table entries (PTEs) that point to p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s can be paged in and o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3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Directory Entry (PD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These bits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72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Entry (PT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6280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6 Page Tables Map Virtual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es to Physical 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30T21:21:02Z</dcterms:modified>
  <cp:revision>125</cp:revision>
  <dc:subject/>
  <dc:title>P6/Linux Memory System</dc:title>
</cp:coreProperties>
</file>