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3499A2D-F5C4-44BB-99C7-2A39538674F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2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eties of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97200" indent="-207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witch Stat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3716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3120" y="5229000"/>
            <a:ext cx="8282160" cy="85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backward branch to continue loo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take branch when “while” condition ho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25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0520" y="5176440"/>
            <a:ext cx="346392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752480"/>
            <a:ext cx="5486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Do-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any C stat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-148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compound statement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4360" indent="-200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xpression returning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5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 0 interpreted as fals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interpreted as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657600"/>
            <a:ext cx="2210040" cy="18471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59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ile” Loop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code equivalent to the do-while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jump out of loop if test f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61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ual “While” Loop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same inner loop as do-while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ards loop entry with extra t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31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property that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2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4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…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… · (…(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…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6876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6400" indent="-147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it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(lo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48320" y="5195520"/>
            <a:ext cx="1600200" cy="597240"/>
            <a:chOff x="4648320" y="5195520"/>
            <a:chExt cx="1600200" cy="597240"/>
          </a:xfrm>
        </p:grpSpPr>
        <p:sp>
          <p:nvSpPr>
            <p:cNvPr id="177" name=""/>
            <p:cNvSpPr/>
            <p:nvPr/>
          </p:nvSpPr>
          <p:spPr>
            <a:xfrm rot="16200000">
              <a:off x="5334120" y="450972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6080" y="54244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324480" y="5181480"/>
            <a:ext cx="2286000" cy="1202760"/>
          </a:xfrm>
          <a:prstGeom prst="rect">
            <a:avLst/>
          </a:prstGeom>
          <a:solidFill>
            <a:srgbClr val="33cc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74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ipwr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066680"/>
            <a:ext cx="69339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20560"/>
            <a:ext cx="657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</a:t>
            </a:r>
            <a:r>
              <a:rPr b="1" lang="en-US" sz="3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“Whil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8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ry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 Fl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Fl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icitly Set By Arithmetic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nalog: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 = a +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to detect unsigned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gt;0 &amp;&amp; t&lt;0) || (a&lt;0 &amp;&amp; b&lt;0 &amp;&amp; t&gt;=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085760"/>
                <a:tab algn="l" pos="4057560"/>
                <a:tab algn="l" pos="47433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210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213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216" name=""/>
            <p:cNvSpPr/>
            <p:nvPr/>
          </p:nvSpPr>
          <p:spPr>
            <a:xfrm>
              <a:off x="83808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92560" y="1218960"/>
            <a:ext cx="39751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if few ca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low if man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up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when cases are small integer consta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cks one based on case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g in examp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default gi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51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562000" y="1371600"/>
            <a:ext cx="2896200" cy="4952880"/>
            <a:chOff x="5562000" y="1371600"/>
            <a:chExt cx="2896200" cy="4952880"/>
          </a:xfrm>
        </p:grpSpPr>
        <p:grpSp>
          <p:nvGrpSpPr>
            <p:cNvPr id="229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230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67280" y="2362320"/>
              <a:ext cx="2590920" cy="838080"/>
              <a:chOff x="5867280" y="2362320"/>
              <a:chExt cx="2590920" cy="838080"/>
            </a:xfrm>
          </p:grpSpPr>
          <p:sp>
            <p:nvSpPr>
              <p:cNvPr id="233" name=""/>
              <p:cNvSpPr/>
              <p:nvPr/>
            </p:nvSpPr>
            <p:spPr>
              <a:xfrm>
                <a:off x="6858000" y="236232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7280" y="23623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67280" y="3352680"/>
              <a:ext cx="2590920" cy="838440"/>
              <a:chOff x="5867280" y="3352680"/>
              <a:chExt cx="2590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6858000" y="3352680"/>
                <a:ext cx="1600200" cy="8384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562000" y="5486400"/>
              <a:ext cx="2864520" cy="838080"/>
              <a:chOff x="5562000" y="5486400"/>
              <a:chExt cx="2864520" cy="838080"/>
            </a:xfrm>
          </p:grpSpPr>
          <p:sp>
            <p:nvSpPr>
              <p:cNvPr id="239" name=""/>
              <p:cNvSpPr/>
              <p:nvPr/>
            </p:nvSpPr>
            <p:spPr>
              <a:xfrm>
                <a:off x="6826320" y="54864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000" y="54864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66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6858000" y="4343400"/>
              <a:ext cx="16002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43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3975120" cy="41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34340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371600"/>
            <a:ext cx="51051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Setup Expla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s of for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L</a:t>
            </a:r>
            <a:r>
              <a:rPr b="1" i="1" lang="en-US" sz="2000" spc="-1" strike="noStrike">
                <a:solidFill>
                  <a:srgbClr val="003300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anslated into addresses by assemb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arget requires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addres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mp target is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of jump table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olds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scale by factor of 4 to get offset into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etch target from effective Addres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 + op*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5334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1295280"/>
            <a:ext cx="4251240" cy="502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94280" y="76212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39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Completion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value returned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in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beginning of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becomes the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o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way branch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544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75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13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n’t show up in disassembl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spect using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code-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gdb) x/6xw 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in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ecimal format “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s” (4-bytes each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elp 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to get format docu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 &lt;_fini+32&gt;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05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racting Jump Table from Bin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fixed values needed by your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code-examples –s –-section=.ro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 everything in indicated segm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ies shown with reversed 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30870408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ally means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73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3962520"/>
            <a:ext cx="883908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45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-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for unsigned comparis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==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a-b)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832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%esi,%es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oes no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ed to align instructions for better cach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1219320"/>
            <a:ext cx="89154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ching 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practical to use 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ld require 1000 ent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vious translation into if-then-else would have max. of 9 t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219320"/>
            <a:ext cx="4647960" cy="502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turn x/111 if x is multi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 &lt;= 999.  -1 otherwis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div111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x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  0: return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111: 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222: return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333: return 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444: return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555: return 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666: return 6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777: return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888: return 8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999: return 9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ault: return 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res x to possible cas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different places depending on outco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219320"/>
            <a:ext cx="4647960" cy="33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44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44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1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1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759040"/>
            <a:ext cx="2362320" cy="39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295280" y="3429000"/>
            <a:ext cx="609480" cy="721440"/>
            <a:chOff x="1295280" y="3429000"/>
            <a:chExt cx="609480" cy="721440"/>
          </a:xfrm>
        </p:grpSpPr>
        <p:sp>
          <p:nvSpPr>
            <p:cNvPr id="300" name=""/>
            <p:cNvSpPr/>
            <p:nvPr/>
          </p:nvSpPr>
          <p:spPr>
            <a:xfrm flipH="1">
              <a:off x="1599840" y="342900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380988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800600" y="4308480"/>
            <a:ext cx="609120" cy="721440"/>
            <a:chOff x="4800600" y="4308480"/>
            <a:chExt cx="609120" cy="721440"/>
          </a:xfrm>
        </p:grpSpPr>
        <p:sp>
          <p:nvSpPr>
            <p:cNvPr id="303" name=""/>
            <p:cNvSpPr/>
            <p:nvPr/>
          </p:nvSpPr>
          <p:spPr>
            <a:xfrm flipH="1">
              <a:off x="510516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4480" y="4308480"/>
            <a:ext cx="609480" cy="721440"/>
            <a:chOff x="6324480" y="4308480"/>
            <a:chExt cx="609480" cy="721440"/>
          </a:xfrm>
        </p:grpSpPr>
        <p:sp>
          <p:nvSpPr>
            <p:cNvPr id="306" name=""/>
            <p:cNvSpPr/>
            <p:nvPr/>
          </p:nvSpPr>
          <p:spPr>
            <a:xfrm flipH="1">
              <a:off x="6629040" y="4308480"/>
              <a:ext cx="30492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48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048120" y="4308480"/>
            <a:ext cx="609120" cy="721440"/>
            <a:chOff x="3048120" y="4308480"/>
            <a:chExt cx="609120" cy="721440"/>
          </a:xfrm>
        </p:grpSpPr>
        <p:sp>
          <p:nvSpPr>
            <p:cNvPr id="309" name=""/>
            <p:cNvSpPr/>
            <p:nvPr/>
          </p:nvSpPr>
          <p:spPr>
            <a:xfrm flipH="1">
              <a:off x="3352680" y="4308480"/>
              <a:ext cx="3045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6893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48640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971800" y="1676520"/>
            <a:ext cx="129528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1676520"/>
            <a:ext cx="114300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438280"/>
            <a:ext cx="11430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60984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81080" y="2438280"/>
            <a:ext cx="9144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9200" y="2514600"/>
            <a:ext cx="38088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429000"/>
            <a:ext cx="304560" cy="7621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zes cases as binary t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arithm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752480"/>
            <a:ext cx="0" cy="381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25146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4290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8640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4343400"/>
            <a:ext cx="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00200" y="1447920"/>
            <a:ext cx="5788080" cy="3054240"/>
            <a:chOff x="1600200" y="1447920"/>
            <a:chExt cx="5788080" cy="3054240"/>
          </a:xfrm>
        </p:grpSpPr>
        <p:sp>
          <p:nvSpPr>
            <p:cNvPr id="333" name=""/>
            <p:cNvSpPr/>
            <p:nvPr/>
          </p:nvSpPr>
          <p:spPr>
            <a:xfrm>
              <a:off x="3962520" y="1447920"/>
              <a:ext cx="682560" cy="4633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4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22096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8400" y="22096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7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732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2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444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5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81560" y="31240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8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900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1480" y="40384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6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0572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9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19360" y="37926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28605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20988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28954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47242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50532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59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25800" y="1828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5146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78640" y="25146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45120" y="26668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34210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69000" y="342108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3584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33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87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54200" y="26589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43434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4411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50460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97108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14440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61160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1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40766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-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i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al 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generate assembly code to implement more complex contro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038120" y="837720"/>
            <a:ext cx="45594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loops converted to do-while for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rge switch statements use jump tab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ISC machines generally have condition code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general registers to store condition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comparison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on Alpha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e $16,1,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ts register $1 to 1 when Register $16 &lt;= 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condition codes based on value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to have one of the operands be a ma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&amp;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0700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700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553392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8 addressable byt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within first 4 integer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ter remaining 3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finish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657600"/>
            <a:ext cx="38149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different part of code depending on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6520" y="152280"/>
            <a:ext cx="831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19720" y="1649160"/>
            <a:ext cx="4178160" cy="25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llows “goto” as means of transferring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r to machine-level programming sty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considered bad coding sty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26Z</dcterms:modified>
  <cp:revision>74</cp:revision>
  <dc:subject/>
  <dc:title>Machine Level Programming II</dc:title>
</cp:coreProperties>
</file>