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329ADD51-D306-435B-A89A-0AB6AAA92577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46600" cy="887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660033"/>
                </a:solidFill>
                <a:latin typeface="Arial"/>
              </a:rPr>
              <a:t>“The course that gives CMU its Zip!”</a:t>
            </a:r>
            <a:endParaRPr b="1" lang="en-US" sz="25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2437920"/>
            <a:ext cx="7162920" cy="336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umeric Encoding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signed &amp; Two’s comple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ming Implic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 promotion ru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ic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ition, negation, multiplication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ming Implic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sequences of overflow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ing shifts to perform power-of-2 multiply/divi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2800" y="6573960"/>
            <a:ext cx="9442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5-213 F’0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77480" y="6497640"/>
            <a:ext cx="1355040" cy="2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class03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4840" y="1219320"/>
            <a:ext cx="2921040" cy="109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ger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 3, 2002</a:t>
            </a:r>
            <a:endParaRPr b="0" lang="en-US" sz="3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323640"/>
            <a:ext cx="86868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lation Between Signed &amp; Unsign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90520" y="5923080"/>
            <a:ext cx="8307360" cy="52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371600"/>
                <a:tab algn="l" pos="18288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y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 2 * 32768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 6553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798560" y="966960"/>
          <a:ext cx="5545080" cy="49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8560" y="966960"/>
                    <a:ext cx="5545080" cy="49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323640"/>
            <a:ext cx="73231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ed vs. Unsigned in 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8534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 default are considered to be signed integ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signed if have “U” as suffi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0U, 4294967259U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t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licit casting between signed &amp; unsigned same as U2T and T2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int tx, ty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nsigned ux, uy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tx = (int) ux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y = (unsigned) ty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licit casting also occurs via assignments and procedure cal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tx = ux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y = ty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90520" y="3276720"/>
            <a:ext cx="8853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lvl="1" marL="659520" indent="-1796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0U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==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sig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59520" indent="-1796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-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59520" indent="-1796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-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0U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g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sig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59520" indent="-1796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2147483647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-2147483648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g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59520" indent="-1796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2147483647U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-2147483648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sig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59520" indent="-1796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-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-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g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59520" indent="-1796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unsigned) -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-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g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sig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59520" indent="-1796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2147483647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2147483648U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sig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59520" indent="-1796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2147483647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int) 2147483648U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g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323640"/>
            <a:ext cx="65246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asting Surpri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90160" y="914400"/>
            <a:ext cx="88534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335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pression Evalu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97600" indent="-162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mix unsigned and signed in single expression, signed values implicitly cast to unsign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7600" indent="-162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ing comparison operation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gt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=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lt;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gt;=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7600" indent="-162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s fo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5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tant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tant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lation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valu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97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U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7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7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U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7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2147483647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2147483648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7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2147483647U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2147483648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7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2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7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unsigned) -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2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7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2147483647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2147483648U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7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2857680"/>
                <a:tab algn="l" pos="554976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2147483647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int) 2147483648U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1636920" y="1523880"/>
            <a:ext cx="7201800" cy="5016240"/>
            <a:chOff x="1636920" y="1523880"/>
            <a:chExt cx="7201800" cy="5016240"/>
          </a:xfrm>
        </p:grpSpPr>
        <p:sp>
          <p:nvSpPr>
            <p:cNvPr id="226" name=""/>
            <p:cNvSpPr/>
            <p:nvPr/>
          </p:nvSpPr>
          <p:spPr>
            <a:xfrm>
              <a:off x="5675400" y="3124080"/>
              <a:ext cx="457200" cy="1828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98880" y="3124080"/>
              <a:ext cx="457200" cy="1828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98880" y="4952880"/>
              <a:ext cx="457200" cy="152388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75400" y="1599840"/>
              <a:ext cx="457200" cy="152424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3160800" y="1523880"/>
              <a:ext cx="4419000" cy="5016240"/>
              <a:chOff x="3160800" y="1523880"/>
              <a:chExt cx="4419000" cy="5016240"/>
            </a:xfrm>
          </p:grpSpPr>
          <p:sp>
            <p:nvSpPr>
              <p:cNvPr id="231" name=""/>
              <p:cNvSpPr/>
              <p:nvPr/>
            </p:nvSpPr>
            <p:spPr>
              <a:xfrm>
                <a:off x="4074840" y="4724280"/>
                <a:ext cx="151920" cy="152280"/>
              </a:xfrm>
              <a:prstGeom prst="ellipse">
                <a:avLst/>
              </a:prstGeom>
              <a:solidFill>
                <a:srgbClr val="800000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160800" y="464796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227120" y="4800240"/>
                <a:ext cx="16761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074840" y="3200040"/>
                <a:ext cx="151920" cy="152640"/>
              </a:xfrm>
              <a:prstGeom prst="ellipse">
                <a:avLst/>
              </a:prstGeom>
              <a:solidFill>
                <a:srgbClr val="800000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238200" y="3124080"/>
                <a:ext cx="75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TMax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227120" y="3276360"/>
                <a:ext cx="16761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074840" y="6248160"/>
                <a:ext cx="151920" cy="152280"/>
              </a:xfrm>
              <a:prstGeom prst="ellipse">
                <a:avLst/>
              </a:prstGeom>
              <a:solidFill>
                <a:srgbClr val="800000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225600" y="617184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TMi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074840" y="5028840"/>
                <a:ext cx="151920" cy="152640"/>
              </a:xfrm>
              <a:prstGeom prst="ellipse">
                <a:avLst/>
              </a:prstGeom>
              <a:solidFill>
                <a:srgbClr val="800000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160800" y="495288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–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074840" y="5333760"/>
                <a:ext cx="151920" cy="152280"/>
              </a:xfrm>
              <a:prstGeom prst="ellipse">
                <a:avLst/>
              </a:prstGeom>
              <a:solidFill>
                <a:srgbClr val="800000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160800" y="525744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–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903640" y="4724280"/>
                <a:ext cx="151920" cy="152280"/>
              </a:xfrm>
              <a:prstGeom prst="ellipse">
                <a:avLst/>
              </a:prstGeom>
              <a:solidFill>
                <a:srgbClr val="800000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903640" y="3200040"/>
                <a:ext cx="151920" cy="152640"/>
              </a:xfrm>
              <a:prstGeom prst="ellipse">
                <a:avLst/>
              </a:prstGeom>
              <a:solidFill>
                <a:srgbClr val="800000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903640" y="2895480"/>
                <a:ext cx="151920" cy="152280"/>
              </a:xfrm>
              <a:prstGeom prst="ellipse">
                <a:avLst/>
              </a:prstGeom>
              <a:solidFill>
                <a:srgbClr val="800000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903640" y="1676160"/>
                <a:ext cx="151920" cy="152280"/>
              </a:xfrm>
              <a:prstGeom prst="ellipse">
                <a:avLst/>
              </a:prstGeom>
              <a:solidFill>
                <a:srgbClr val="800000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903640" y="1981080"/>
                <a:ext cx="151920" cy="152280"/>
              </a:xfrm>
              <a:prstGeom prst="ellipse">
                <a:avLst/>
              </a:prstGeom>
              <a:solidFill>
                <a:srgbClr val="800000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227120" y="1752480"/>
                <a:ext cx="1676160" cy="3352680"/>
              </a:xfrm>
              <a:custGeom>
                <a:avLst/>
                <a:gdLst/>
                <a:ahLst/>
                <a:rect l="l" t="t" r="r" b="b"/>
                <a:pathLst>
                  <a:path w="1056" h="2112">
                    <a:moveTo>
                      <a:pt x="0" y="2112"/>
                    </a:moveTo>
                    <a:lnTo>
                      <a:pt x="144" y="2112"/>
                    </a:lnTo>
                    <a:lnTo>
                      <a:pt x="912" y="0"/>
                    </a:lnTo>
                    <a:lnTo>
                      <a:pt x="1056" y="0"/>
                    </a:lnTo>
                  </a:path>
                </a:pathLst>
              </a:custGeom>
              <a:noFill/>
              <a:ln w="255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227120" y="2057040"/>
                <a:ext cx="1676160" cy="3353040"/>
              </a:xfrm>
              <a:custGeom>
                <a:avLst/>
                <a:gdLst/>
                <a:ahLst/>
                <a:rect l="l" t="t" r="r" b="b"/>
                <a:pathLst>
                  <a:path w="1056" h="2112">
                    <a:moveTo>
                      <a:pt x="0" y="2112"/>
                    </a:moveTo>
                    <a:lnTo>
                      <a:pt x="144" y="2112"/>
                    </a:lnTo>
                    <a:lnTo>
                      <a:pt x="912" y="0"/>
                    </a:lnTo>
                    <a:lnTo>
                      <a:pt x="1056" y="0"/>
                    </a:lnTo>
                  </a:path>
                </a:pathLst>
              </a:custGeom>
              <a:noFill/>
              <a:ln w="255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227120" y="2971440"/>
                <a:ext cx="1676160" cy="3353040"/>
              </a:xfrm>
              <a:custGeom>
                <a:avLst/>
                <a:gdLst/>
                <a:ahLst/>
                <a:rect l="l" t="t" r="r" b="b"/>
                <a:pathLst>
                  <a:path w="1056" h="2112">
                    <a:moveTo>
                      <a:pt x="0" y="2112"/>
                    </a:moveTo>
                    <a:lnTo>
                      <a:pt x="144" y="2112"/>
                    </a:lnTo>
                    <a:lnTo>
                      <a:pt x="912" y="0"/>
                    </a:lnTo>
                    <a:lnTo>
                      <a:pt x="1056" y="0"/>
                    </a:lnTo>
                  </a:path>
                </a:pathLst>
              </a:custGeom>
              <a:noFill/>
              <a:ln w="255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208560" y="4647960"/>
                <a:ext cx="76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132240" y="1523880"/>
                <a:ext cx="91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UMax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132240" y="182844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UMax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 – 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210000" y="3124080"/>
                <a:ext cx="75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TMax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08920" y="2819160"/>
                <a:ext cx="12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TMax 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1636920" y="4343040"/>
              <a:ext cx="1326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2’s Comp.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Range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36760" y="3124080"/>
              <a:ext cx="152640" cy="3352680"/>
            </a:xfrm>
            <a:custGeom>
              <a:avLst/>
              <a:gdLst/>
              <a:ahLst/>
              <a:rect l="l" t="t" r="r" b="b"/>
              <a:pathLst>
                <a:path w="144" h="2160">
                  <a:moveTo>
                    <a:pt x="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44" y="0"/>
                  </a:lnTo>
                </a:path>
              </a:pathLst>
            </a:custGeom>
            <a:noFill/>
            <a:ln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274880" y="1599840"/>
              <a:ext cx="152280" cy="3353040"/>
            </a:xfrm>
            <a:custGeom>
              <a:avLst/>
              <a:gdLst/>
              <a:ahLst/>
              <a:rect l="l" t="t" r="r" b="b"/>
              <a:pathLst>
                <a:path w="144" h="2160">
                  <a:moveTo>
                    <a:pt x="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44" y="0"/>
                  </a:lnTo>
                </a:path>
              </a:pathLst>
            </a:custGeom>
            <a:noFill/>
            <a:ln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80520" y="2895480"/>
              <a:ext cx="1258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Unsigned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Range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323640"/>
            <a:ext cx="79452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planation of Casting Surpri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90160" y="1220400"/>
            <a:ext cx="4159080" cy="17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’s Comp. </a:t>
            </a:r>
            <a:r>
              <a:rPr b="1" lang="en-US" sz="24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Unsign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rdering Inver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gative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g Positi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61102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 Extens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2760" y="1220760"/>
            <a:ext cx="82947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sk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iven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bit signed intege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vert it to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bit integer with same val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ul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k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pies of sign bit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–1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…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–1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–1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–2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…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52480" y="3733920"/>
            <a:ext cx="1297080" cy="77760"/>
          </a:xfrm>
          <a:custGeom>
            <a:avLst/>
            <a:gdLst/>
            <a:ahLst/>
            <a:rect l="l" t="t" r="r" b="b"/>
            <a:pathLst>
              <a:path w="817" h="49">
                <a:moveTo>
                  <a:pt x="0" y="0"/>
                </a:moveTo>
                <a:lnTo>
                  <a:pt x="0" y="48"/>
                </a:lnTo>
                <a:lnTo>
                  <a:pt x="816" y="48"/>
                </a:lnTo>
                <a:lnTo>
                  <a:pt x="816" y="0"/>
                </a:lnTo>
              </a:path>
            </a:pathLst>
          </a:custGeom>
          <a:noFill/>
          <a:ln cap="rnd" w="255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50080" y="3962520"/>
            <a:ext cx="1746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copies of MS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896840" y="3887640"/>
            <a:ext cx="5189400" cy="2819520"/>
            <a:chOff x="1896840" y="3887640"/>
            <a:chExt cx="5189400" cy="2819520"/>
          </a:xfrm>
        </p:grpSpPr>
        <p:grpSp>
          <p:nvGrpSpPr>
            <p:cNvPr id="267" name=""/>
            <p:cNvGrpSpPr/>
            <p:nvPr/>
          </p:nvGrpSpPr>
          <p:grpSpPr>
            <a:xfrm>
              <a:off x="1896840" y="4281480"/>
              <a:ext cx="5189040" cy="1981080"/>
              <a:chOff x="1896840" y="4281480"/>
              <a:chExt cx="5189040" cy="198108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4343400" y="4357440"/>
                <a:ext cx="2742480" cy="228600"/>
                <a:chOff x="4343400" y="4357440"/>
                <a:chExt cx="2742480" cy="22860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4343400" y="4357440"/>
                  <a:ext cx="228240" cy="228600"/>
                </a:xfrm>
                <a:prstGeom prst="rect">
                  <a:avLst/>
                </a:prstGeom>
                <a:solidFill>
                  <a:srgbClr val="00ff99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571640" y="4357440"/>
                  <a:ext cx="22824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800240" y="4357440"/>
                  <a:ext cx="22824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400440" y="4357440"/>
                  <a:ext cx="22824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629040" y="4357440"/>
                  <a:ext cx="22824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857640" y="4357440"/>
                  <a:ext cx="22824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028840" y="4357440"/>
                  <a:ext cx="137124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• • •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3734640" y="4281480"/>
                <a:ext cx="39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896840" y="5881680"/>
                <a:ext cx="46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495680" y="4662360"/>
                <a:ext cx="0" cy="12952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4267080" y="4662360"/>
                <a:ext cx="228240" cy="12952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80" name=""/>
              <p:cNvGrpSpPr/>
              <p:nvPr/>
            </p:nvGrpSpPr>
            <p:grpSpPr>
              <a:xfrm>
                <a:off x="2590560" y="6033960"/>
                <a:ext cx="4494960" cy="228600"/>
                <a:chOff x="2590560" y="6033960"/>
                <a:chExt cx="4494960" cy="22860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047400" y="6033960"/>
                  <a:ext cx="838080" cy="228600"/>
                </a:xfrm>
                <a:prstGeom prst="rect">
                  <a:avLst/>
                </a:prstGeom>
                <a:solidFill>
                  <a:srgbClr val="00ff99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• • •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114440" y="6033960"/>
                  <a:ext cx="228240" cy="228600"/>
                </a:xfrm>
                <a:prstGeom prst="rect">
                  <a:avLst/>
                </a:prstGeom>
                <a:solidFill>
                  <a:srgbClr val="00ff99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885840" y="6033960"/>
                  <a:ext cx="228240" cy="228600"/>
                </a:xfrm>
                <a:prstGeom prst="rect">
                  <a:avLst/>
                </a:prstGeom>
                <a:solidFill>
                  <a:srgbClr val="00ff99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818800" y="6033960"/>
                  <a:ext cx="228240" cy="228600"/>
                </a:xfrm>
                <a:prstGeom prst="rect">
                  <a:avLst/>
                </a:prstGeom>
                <a:solidFill>
                  <a:srgbClr val="00ff99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590560" y="6033960"/>
                  <a:ext cx="228240" cy="228600"/>
                </a:xfrm>
                <a:prstGeom prst="rect">
                  <a:avLst/>
                </a:prstGeom>
                <a:solidFill>
                  <a:srgbClr val="00ff99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6" name=""/>
                <p:cNvGrpSpPr/>
                <p:nvPr/>
              </p:nvGrpSpPr>
              <p:grpSpPr>
                <a:xfrm>
                  <a:off x="4343040" y="6033960"/>
                  <a:ext cx="2742480" cy="228600"/>
                  <a:chOff x="4343040" y="6033960"/>
                  <a:chExt cx="2742480" cy="22860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>
                    <a:off x="4343040" y="6033960"/>
                    <a:ext cx="228240" cy="228600"/>
                  </a:xfrm>
                  <a:prstGeom prst="rect">
                    <a:avLst/>
                  </a:prstGeom>
                  <a:solidFill>
                    <a:srgbClr val="00ff99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4571280" y="6033960"/>
                    <a:ext cx="22824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4799880" y="6033960"/>
                    <a:ext cx="22824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400080" y="6033960"/>
                    <a:ext cx="22824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628680" y="6033960"/>
                    <a:ext cx="22824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857280" y="6033960"/>
                    <a:ext cx="22824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028480" y="6033960"/>
                    <a:ext cx="137124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• • •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94" name=""/>
              <p:cNvSpPr/>
              <p:nvPr/>
            </p:nvSpPr>
            <p:spPr>
              <a:xfrm flipH="1">
                <a:off x="4038120" y="4662360"/>
                <a:ext cx="456840" cy="12952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2971800" y="4662360"/>
                <a:ext cx="1523520" cy="12952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2742840" y="4662360"/>
                <a:ext cx="1752120" cy="12952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724280" y="4662360"/>
                <a:ext cx="0" cy="12952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952880" y="4662360"/>
                <a:ext cx="0" cy="12952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53080" y="4662360"/>
                <a:ext cx="0" cy="12952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81680" y="4662360"/>
                <a:ext cx="0" cy="12952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010280" y="4662360"/>
                <a:ext cx="0" cy="12952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429360" y="550044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4343400" y="4052880"/>
              <a:ext cx="2742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64160" y="3887640"/>
              <a:ext cx="345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43400" y="6491160"/>
              <a:ext cx="2742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64160" y="6325920"/>
              <a:ext cx="345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90560" y="6491160"/>
              <a:ext cx="17524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01840" y="6338880"/>
              <a:ext cx="295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323640"/>
            <a:ext cx="70056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 Extens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0520" y="4803480"/>
            <a:ext cx="8307360" cy="16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verting from smaller to larger integer data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automatically performs sign exten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1143000"/>
            <a:ext cx="4190760" cy="1191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nt x =  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     ix = (int) x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nt y = -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     iy = (int) 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109520" y="2863800"/>
            <a:ext cx="1908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082960" y="2863800"/>
            <a:ext cx="1728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38600" y="2863800"/>
            <a:ext cx="1908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355680" y="2844720"/>
            <a:ext cx="8431200" cy="1427400"/>
            <a:chOff x="355680" y="2844720"/>
            <a:chExt cx="8431200" cy="1427400"/>
          </a:xfrm>
        </p:grpSpPr>
        <p:sp>
          <p:nvSpPr>
            <p:cNvPr id="316" name=""/>
            <p:cNvSpPr/>
            <p:nvPr/>
          </p:nvSpPr>
          <p:spPr>
            <a:xfrm>
              <a:off x="1242360" y="2870280"/>
              <a:ext cx="8236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cim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65520" y="2870280"/>
              <a:ext cx="4060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988960" y="2870280"/>
              <a:ext cx="646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na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55680" y="28447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5680" y="28447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4760" y="2844720"/>
              <a:ext cx="7347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09520" y="28447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28600" y="2844720"/>
              <a:ext cx="954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82960" y="2844720"/>
              <a:ext cx="17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00240" y="2844720"/>
              <a:ext cx="1638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38600" y="28447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57680" y="2844720"/>
              <a:ext cx="501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767800" y="28447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67800" y="28447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55680" y="2863800"/>
              <a:ext cx="19080" cy="26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09520" y="2863800"/>
              <a:ext cx="19080" cy="26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82960" y="2863800"/>
              <a:ext cx="17280" cy="26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738600" y="2863800"/>
              <a:ext cx="19080" cy="26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767800" y="2863800"/>
              <a:ext cx="19080" cy="26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01840" y="3164040"/>
              <a:ext cx="1378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37480" y="3152880"/>
              <a:ext cx="6332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21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61800" y="3164040"/>
              <a:ext cx="6865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3B 6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45080" y="3164040"/>
              <a:ext cx="23324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0111011 011011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5680" y="31273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4760" y="3127320"/>
              <a:ext cx="7347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09520" y="31273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128600" y="3127320"/>
              <a:ext cx="9543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82960" y="3127320"/>
              <a:ext cx="17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00240" y="3127320"/>
              <a:ext cx="16383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738600" y="31273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57680" y="3127320"/>
              <a:ext cx="50101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767800" y="31273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5680" y="3146400"/>
              <a:ext cx="19080" cy="26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09520" y="3146400"/>
              <a:ext cx="19080" cy="26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82960" y="3146400"/>
              <a:ext cx="17280" cy="26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38600" y="3146400"/>
              <a:ext cx="19080" cy="26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767800" y="3146400"/>
              <a:ext cx="19080" cy="26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01480" y="3444840"/>
              <a:ext cx="275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37480" y="3435480"/>
              <a:ext cx="6332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21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37760" y="3444840"/>
              <a:ext cx="15094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0 00 3B 6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76920" y="3444840"/>
              <a:ext cx="48013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0000000 00000000 00111011 011011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5680" y="340848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74760" y="3408480"/>
              <a:ext cx="7347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09520" y="340848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28600" y="3408480"/>
              <a:ext cx="954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82960" y="3408480"/>
              <a:ext cx="172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100240" y="3408480"/>
              <a:ext cx="1638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38600" y="340848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57680" y="3408480"/>
              <a:ext cx="501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767800" y="340848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5680" y="3429000"/>
              <a:ext cx="19080" cy="26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09520" y="3429000"/>
              <a:ext cx="19080" cy="26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82960" y="3429000"/>
              <a:ext cx="17280" cy="26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38600" y="3429000"/>
              <a:ext cx="19080" cy="26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767800" y="3429000"/>
              <a:ext cx="19080" cy="26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1840" y="3727440"/>
              <a:ext cx="1378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361160" y="3716280"/>
              <a:ext cx="70956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521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61800" y="3727440"/>
              <a:ext cx="6865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C4 9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45080" y="3727440"/>
              <a:ext cx="23324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11000100 100100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5680" y="36910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4760" y="3691080"/>
              <a:ext cx="7347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09520" y="36910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28600" y="3691080"/>
              <a:ext cx="9543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82960" y="3691080"/>
              <a:ext cx="17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00240" y="3691080"/>
              <a:ext cx="16383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38600" y="36910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57680" y="3691080"/>
              <a:ext cx="50101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767800" y="36910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5680" y="3710160"/>
              <a:ext cx="19080" cy="26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09520" y="3710160"/>
              <a:ext cx="19080" cy="26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82960" y="3710160"/>
              <a:ext cx="17280" cy="26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8600" y="3710160"/>
              <a:ext cx="19080" cy="26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767800" y="3710160"/>
              <a:ext cx="19080" cy="26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0760" y="4010040"/>
              <a:ext cx="275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61160" y="3998880"/>
              <a:ext cx="70956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521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38480" y="4010040"/>
              <a:ext cx="15094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F FF C4 9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76920" y="4010040"/>
              <a:ext cx="48013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11111111 11111111 11000100 100100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5680" y="39736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4760" y="3973680"/>
              <a:ext cx="7347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109520" y="39736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128600" y="3973680"/>
              <a:ext cx="9543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082960" y="3973680"/>
              <a:ext cx="172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00240" y="3973680"/>
              <a:ext cx="16383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38600" y="39736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757680" y="3973680"/>
              <a:ext cx="50101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767800" y="39736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5680" y="3992400"/>
              <a:ext cx="19080" cy="26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5680" y="42530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5680" y="42530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74760" y="4253040"/>
              <a:ext cx="7347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09520" y="3992400"/>
              <a:ext cx="19080" cy="26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09520" y="42530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28600" y="4253040"/>
              <a:ext cx="954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2960" y="3992400"/>
              <a:ext cx="17280" cy="26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82960" y="4253040"/>
              <a:ext cx="17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00240" y="4253040"/>
              <a:ext cx="1638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738600" y="3992400"/>
              <a:ext cx="19080" cy="26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38600" y="42530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757680" y="4253040"/>
              <a:ext cx="501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767800" y="3992400"/>
              <a:ext cx="19080" cy="26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767800" y="42530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767800" y="42530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81536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Justification For Sign Extens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2760" y="1220760"/>
            <a:ext cx="8294760" cy="15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8000"/>
          </a:bodyPr>
          <a:p>
            <a:pPr marL="10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ve Correctness by Induction on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08440" indent="-68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uction Step: extending by single bit maintains val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0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0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0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0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0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08440" indent="0">
              <a:spcBef>
                <a:spcPts val="624"/>
              </a:spcBef>
              <a:buNone/>
              <a:tabLst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08440" indent="-68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y observation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=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+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08440" indent="-68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ok at weight of upper bits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207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–2</a:t>
            </a:r>
            <a:r>
              <a:rPr b="0" i="1" lang="en-US" sz="1800" spc="-1" strike="noStrike" baseline="30000">
                <a:solidFill>
                  <a:srgbClr val="000099"/>
                </a:solidFill>
                <a:latin typeface="Arial"/>
              </a:rPr>
              <a:t>w</a:t>
            </a:r>
            <a:r>
              <a:rPr b="0" lang="en-US" sz="1800" spc="-1" strike="noStrike" baseline="30000">
                <a:solidFill>
                  <a:srgbClr val="000099"/>
                </a:solidFill>
                <a:latin typeface="Arial"/>
              </a:rPr>
              <a:t>–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Arial"/>
              </a:rPr>
              <a:t>–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3207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549440"/>
                <a:tab algn="l" pos="400068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–2</a:t>
            </a:r>
            <a:r>
              <a:rPr b="0" i="1" lang="en-US" sz="1800" spc="-1" strike="noStrike" baseline="30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Arial"/>
              </a:rPr>
              <a:t>–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+ 2</a:t>
            </a:r>
            <a:r>
              <a:rPr b="0" i="1" lang="en-US" sz="1800" spc="-1" strike="noStrike" baseline="30000">
                <a:solidFill>
                  <a:srgbClr val="000099"/>
                </a:solidFill>
                <a:latin typeface="Arial"/>
              </a:rPr>
              <a:t>w</a:t>
            </a:r>
            <a:r>
              <a:rPr b="0" lang="en-US" sz="1800" spc="-1" strike="noStrike" baseline="30000">
                <a:solidFill>
                  <a:srgbClr val="000099"/>
                </a:solidFill>
                <a:latin typeface="Arial"/>
              </a:rPr>
              <a:t>–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Arial"/>
              </a:rPr>
              <a:t>–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–2</a:t>
            </a:r>
            <a:r>
              <a:rPr b="0" i="1" lang="en-US" sz="1800" spc="-1" strike="noStrike" baseline="30000">
                <a:solidFill>
                  <a:srgbClr val="000099"/>
                </a:solidFill>
                <a:latin typeface="Arial"/>
              </a:rPr>
              <a:t>w</a:t>
            </a:r>
            <a:r>
              <a:rPr b="0" lang="en-US" sz="1800" spc="-1" strike="noStrike" baseline="30000">
                <a:solidFill>
                  <a:srgbClr val="000099"/>
                </a:solidFill>
                <a:latin typeface="Arial"/>
              </a:rPr>
              <a:t>–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Arial"/>
              </a:rPr>
              <a:t>–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125440" y="2147760"/>
            <a:ext cx="3589560" cy="2806560"/>
            <a:chOff x="2125440" y="2147760"/>
            <a:chExt cx="3589560" cy="2806560"/>
          </a:xfrm>
        </p:grpSpPr>
        <p:sp>
          <p:nvSpPr>
            <p:cNvPr id="421" name=""/>
            <p:cNvSpPr/>
            <p:nvPr/>
          </p:nvSpPr>
          <p:spPr>
            <a:xfrm>
              <a:off x="2971800" y="2617560"/>
              <a:ext cx="228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200400" y="261756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429000" y="261756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29200" y="261756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257800" y="261756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86400" y="261756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657600" y="261756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363400" y="2541240"/>
              <a:ext cx="3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25440" y="414144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124080" y="292248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895120" y="2922480"/>
              <a:ext cx="22860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43200" y="4294080"/>
              <a:ext cx="228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971800" y="4294080"/>
              <a:ext cx="228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+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00400" y="42940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29000" y="42940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29200" y="42940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257800" y="42940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86400" y="42940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57600" y="429408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352680" y="292248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81280" y="292248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81480" y="292248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410080" y="292248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38680" y="292248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43200" y="4738320"/>
              <a:ext cx="2971800" cy="12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92920" y="4586040"/>
              <a:ext cx="605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71800" y="2312640"/>
              <a:ext cx="2743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92920" y="2147760"/>
              <a:ext cx="345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74502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y Should I Use Unsigned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on’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Use Just Because Number Nonzero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compilers on some machines generate less efficient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nsigned i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or (i = 1; i &lt; cnt; i++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[i] += a[i-1]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y to make mistak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or (i = cnt-2; i &gt;= 0; i--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[i] += a[i+1]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o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Use When Performing Modular Arithmet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recision arithme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ther esoteric stuff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o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Use When Need Extra Bit’s Worth of Ran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king right up to limit of word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77920" y="323640"/>
            <a:ext cx="88660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gating with Complement &amp; Incre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785484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aim: Following Holds for 2’s Compl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4720" indent="0">
              <a:spcBef>
                <a:spcPts val="624"/>
              </a:spcBef>
              <a:buNone/>
              <a:tabLst>
                <a:tab algn="l" pos="0"/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~x + 1 == -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l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bservation: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~x + x == 1111…11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= -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cr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4720" indent="-2260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~x + x + (-x + 1)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==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1 + (-x + 1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4720" indent="-2260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~x + 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==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arning: Be cautious treat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’s as integ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K he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3049560" y="3048120"/>
            <a:ext cx="2970360" cy="1602720"/>
            <a:chOff x="3049560" y="3048120"/>
            <a:chExt cx="2970360" cy="1602720"/>
          </a:xfrm>
        </p:grpSpPr>
        <p:grpSp>
          <p:nvGrpSpPr>
            <p:cNvPr id="454" name=""/>
            <p:cNvGrpSpPr/>
            <p:nvPr/>
          </p:nvGrpSpPr>
          <p:grpSpPr>
            <a:xfrm>
              <a:off x="3506760" y="3048120"/>
              <a:ext cx="2436840" cy="459720"/>
              <a:chOff x="3506760" y="3048120"/>
              <a:chExt cx="2436840" cy="459720"/>
            </a:xfrm>
          </p:grpSpPr>
          <p:sp>
            <p:nvSpPr>
              <p:cNvPr id="455" name=""/>
              <p:cNvSpPr/>
              <p:nvPr/>
            </p:nvSpPr>
            <p:spPr>
              <a:xfrm>
                <a:off x="4114800" y="3124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43400" y="3124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72000" y="3124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257800" y="3124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86400" y="3124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715000" y="3124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800600" y="3124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29200" y="3124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506760" y="30481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Courier New"/>
                  </a:rPr>
                  <a:t> 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Courier New"/>
                  </a:rPr>
                  <a:t>x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3506760" y="3581640"/>
              <a:ext cx="2436840" cy="459720"/>
              <a:chOff x="3506760" y="3581640"/>
              <a:chExt cx="2436840" cy="459720"/>
            </a:xfrm>
          </p:grpSpPr>
          <p:sp>
            <p:nvSpPr>
              <p:cNvPr id="465" name=""/>
              <p:cNvSpPr/>
              <p:nvPr/>
            </p:nvSpPr>
            <p:spPr>
              <a:xfrm>
                <a:off x="4114800" y="365796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343400" y="365796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72000" y="365796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257800" y="365796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86400" y="365796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715000" y="365796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800600" y="365796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29200" y="3657960"/>
                <a:ext cx="22860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506760" y="358164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Courier New"/>
                  </a:rPr>
                  <a:t>~x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3049560" y="3581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Courier New"/>
                </a:rPr>
                <a:t>+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24440" y="4115160"/>
              <a:ext cx="28954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3506760" y="4191120"/>
              <a:ext cx="2436840" cy="459720"/>
              <a:chOff x="3506760" y="4191120"/>
              <a:chExt cx="2436840" cy="459720"/>
            </a:xfrm>
          </p:grpSpPr>
          <p:sp>
            <p:nvSpPr>
              <p:cNvPr id="477" name=""/>
              <p:cNvSpPr/>
              <p:nvPr/>
            </p:nvSpPr>
            <p:spPr>
              <a:xfrm>
                <a:off x="4114800" y="4267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343400" y="4267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72000" y="4267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57800" y="4267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486400" y="4267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715000" y="4267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800600" y="4267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29200" y="4267440"/>
                <a:ext cx="2286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506760" y="419112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Courier New"/>
                  </a:rPr>
                  <a:t>-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6" name=""/>
          <p:cNvSpPr/>
          <p:nvPr/>
        </p:nvSpPr>
        <p:spPr>
          <a:xfrm flipV="1">
            <a:off x="1828800" y="5105520"/>
            <a:ext cx="304920" cy="3045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666880" y="5105520"/>
            <a:ext cx="304920" cy="3045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477120" y="5105520"/>
            <a:ext cx="304560" cy="3045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029200" y="5105520"/>
            <a:ext cx="304920" cy="30456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560" y="323640"/>
            <a:ext cx="72565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. &amp; Incr.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523880" y="1371600"/>
          <a:ext cx="5626080" cy="163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71600"/>
                    <a:ext cx="56260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1221480" y="99072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 = 15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1447920" y="3200400"/>
          <a:ext cx="5905440" cy="1359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200400"/>
                    <a:ext cx="590544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"/>
          <p:cNvSpPr/>
          <p:nvPr/>
        </p:nvSpPr>
        <p:spPr>
          <a:xfrm>
            <a:off x="1144800" y="28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 Puzz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ken from old exa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ume machine with 32 bit word size, two’s complement integ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each of the following C expressions, either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gue that is true for all argument valu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ive example where not tr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3048120"/>
            <a:ext cx="5257800" cy="37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2400480"/>
                <a:tab algn="l" pos="2857680"/>
                <a:tab algn="l" pos="3086280"/>
                <a:tab algn="r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lt;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(x*2) &lt; 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2400480"/>
                <a:tab algn="l" pos="2857680"/>
                <a:tab algn="l" pos="3086280"/>
                <a:tab algn="r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x &gt;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2400480"/>
                <a:tab algn="l" pos="2857680"/>
                <a:tab algn="l" pos="3086280"/>
                <a:tab algn="r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amp; 7 == 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x&lt;&lt;30) &lt;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2400480"/>
                <a:tab algn="l" pos="2857680"/>
                <a:tab algn="l" pos="3086280"/>
                <a:tab algn="r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x &gt; 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2400480"/>
                <a:tab algn="l" pos="2857680"/>
                <a:tab algn="l" pos="3086280"/>
                <a:tab algn="r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gt; y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x &lt; -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2400480"/>
                <a:tab algn="l" pos="2857680"/>
                <a:tab algn="l" pos="3086280"/>
                <a:tab algn="r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* x &gt;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2400480"/>
                <a:tab algn="l" pos="2857680"/>
                <a:tab algn="l" pos="3086280"/>
                <a:tab algn="r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gt; 0 &amp;&amp; y &gt;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+ y &gt;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2400480"/>
                <a:tab algn="l" pos="2857680"/>
                <a:tab algn="l" pos="3086280"/>
                <a:tab algn="r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g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x &lt;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2400480"/>
                <a:tab algn="l" pos="2857680"/>
                <a:tab algn="l" pos="3086280"/>
                <a:tab algn="r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l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x &gt;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4191120"/>
            <a:ext cx="2612880" cy="1614960"/>
          </a:xfrm>
          <a:prstGeom prst="rect">
            <a:avLst/>
          </a:prstGeom>
          <a:solidFill>
            <a:srgbClr val="ffff99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foo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 = bar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ux 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uy = 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2600" y="3657600"/>
            <a:ext cx="150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iz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160" y="323640"/>
            <a:ext cx="63817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signed Addi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79320" y="3533760"/>
            <a:ext cx="5150160" cy="16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31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00280"/>
                <a:tab algn="l" pos="1257480"/>
                <a:tab algn="l" pos="303516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ndard Addition Fun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4008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00280"/>
                <a:tab algn="l" pos="1257480"/>
                <a:tab algn="l" pos="303516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gnores carry outpu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1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00280"/>
                <a:tab algn="l" pos="1257480"/>
                <a:tab algn="l" pos="303516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s Modular Arithmet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40080" indent="0">
              <a:spcBef>
                <a:spcPts val="624"/>
              </a:spcBef>
              <a:buNone/>
              <a:tabLst>
                <a:tab algn="l" pos="0"/>
                <a:tab algn="l" pos="800280"/>
                <a:tab algn="l" pos="1257480"/>
                <a:tab algn="l" pos="303516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UAdd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mod 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2590920" y="5511960"/>
          <a:ext cx="4165560" cy="81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5511960"/>
                    <a:ext cx="4165560" cy="812520"/>
                  </a:xfrm>
                  <a:prstGeom prst="rect">
                    <a:avLst/>
                  </a:prstGeom>
                  <a:ln w="25560">
                    <a:solidFill>
                      <a:srgbClr val="8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01" name=""/>
          <p:cNvGrpSpPr/>
          <p:nvPr/>
        </p:nvGrpSpPr>
        <p:grpSpPr>
          <a:xfrm>
            <a:off x="4724280" y="1295280"/>
            <a:ext cx="2743200" cy="228600"/>
            <a:chOff x="4724280" y="1295280"/>
            <a:chExt cx="2743200" cy="228600"/>
          </a:xfrm>
        </p:grpSpPr>
        <p:sp>
          <p:nvSpPr>
            <p:cNvPr id="502" name=""/>
            <p:cNvSpPr/>
            <p:nvPr/>
          </p:nvSpPr>
          <p:spPr>
            <a:xfrm>
              <a:off x="47242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528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1814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7816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102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2388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10080" y="129528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4724280" y="1752480"/>
            <a:ext cx="2743200" cy="228600"/>
            <a:chOff x="4724280" y="1752480"/>
            <a:chExt cx="2743200" cy="228600"/>
          </a:xfrm>
        </p:grpSpPr>
        <p:sp>
          <p:nvSpPr>
            <p:cNvPr id="510" name=""/>
            <p:cNvSpPr/>
            <p:nvPr/>
          </p:nvSpPr>
          <p:spPr>
            <a:xfrm>
              <a:off x="47242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9528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814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816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0102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2388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10080" y="175248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4116240" y="12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116240" y="1676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733920" y="2057400"/>
            <a:ext cx="38862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3500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4495680" y="2209680"/>
            <a:ext cx="2971800" cy="228600"/>
            <a:chOff x="4495680" y="2209680"/>
            <a:chExt cx="2971800" cy="228600"/>
          </a:xfrm>
        </p:grpSpPr>
        <p:grpSp>
          <p:nvGrpSpPr>
            <p:cNvPr id="522" name=""/>
            <p:cNvGrpSpPr/>
            <p:nvPr/>
          </p:nvGrpSpPr>
          <p:grpSpPr>
            <a:xfrm>
              <a:off x="4724280" y="2209680"/>
              <a:ext cx="2743200" cy="228600"/>
              <a:chOff x="4724280" y="2209680"/>
              <a:chExt cx="2743200" cy="228600"/>
            </a:xfrm>
          </p:grpSpPr>
          <p:sp>
            <p:nvSpPr>
              <p:cNvPr id="523" name=""/>
              <p:cNvSpPr/>
              <p:nvPr/>
            </p:nvSpPr>
            <p:spPr>
              <a:xfrm>
                <a:off x="47242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528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1814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7816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0102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2388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10080" y="2209680"/>
                <a:ext cx="1371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4495680" y="2209680"/>
              <a:ext cx="228600" cy="22860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3733920" y="213372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+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724280" y="2666880"/>
            <a:ext cx="2743200" cy="228600"/>
            <a:chOff x="4724280" y="2666880"/>
            <a:chExt cx="2743200" cy="228600"/>
          </a:xfrm>
        </p:grpSpPr>
        <p:sp>
          <p:nvSpPr>
            <p:cNvPr id="533" name=""/>
            <p:cNvSpPr/>
            <p:nvPr/>
          </p:nvSpPr>
          <p:spPr>
            <a:xfrm>
              <a:off x="47242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9528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814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7816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102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2388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10080" y="266688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733920" y="2514600"/>
            <a:ext cx="38862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58640" y="205740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ue Sum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+1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9720" y="137160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perands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7200" y="26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card Carry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29400" y="2666880"/>
            <a:ext cx="137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UAdd</a:t>
            </a:r>
            <a:r>
              <a:rPr b="0" i="1" lang="en-US" sz="1800" spc="-1" strike="noStrike" baseline="-25000">
                <a:solidFill>
                  <a:srgbClr val="000066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,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3733920" y="1676520"/>
          <a:ext cx="4560840" cy="397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676520"/>
                    <a:ext cx="4560840" cy="39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23640"/>
            <a:ext cx="75405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Integer Addi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32907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ger Addi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3504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-bit integers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504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true sum Add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,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504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s increase linearly with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504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ms planar surf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262120" y="1219320"/>
            <a:ext cx="131040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Add</a:t>
            </a:r>
            <a:r>
              <a:rPr b="1" lang="en-US" sz="1800" spc="-1" strike="noStrike" baseline="-25000">
                <a:solidFill>
                  <a:srgbClr val="0033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43040" y="5105520"/>
            <a:ext cx="32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238880" y="45720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2" name=""/>
          <p:cNvGraphicFramePr/>
          <p:nvPr/>
        </p:nvGraphicFramePr>
        <p:xfrm>
          <a:off x="3809880" y="1828800"/>
          <a:ext cx="4560840" cy="39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560840" cy="39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323640"/>
            <a:ext cx="785340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Unsigned Addi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347652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raps Aroun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true sum ≥ 2</a:t>
            </a:r>
            <a:r>
              <a:rPr b="1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 most o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71400" y="3330720"/>
            <a:ext cx="1982880" cy="1734840"/>
            <a:chOff x="671400" y="3330720"/>
            <a:chExt cx="1982880" cy="1734840"/>
          </a:xfrm>
        </p:grpSpPr>
        <p:grpSp>
          <p:nvGrpSpPr>
            <p:cNvPr id="557" name=""/>
            <p:cNvGrpSpPr/>
            <p:nvPr/>
          </p:nvGrpSpPr>
          <p:grpSpPr>
            <a:xfrm>
              <a:off x="1231920" y="3505320"/>
              <a:ext cx="127080" cy="1371600"/>
              <a:chOff x="1231920" y="3505320"/>
              <a:chExt cx="127080" cy="1371600"/>
            </a:xfrm>
          </p:grpSpPr>
          <p:sp>
            <p:nvSpPr>
              <p:cNvPr id="558" name=""/>
              <p:cNvSpPr/>
              <p:nvPr/>
            </p:nvSpPr>
            <p:spPr>
              <a:xfrm>
                <a:off x="1295280" y="3517920"/>
                <a:ext cx="0" cy="13460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231920" y="487692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231920" y="419112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231920" y="350532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2527200" y="4191120"/>
              <a:ext cx="127080" cy="685800"/>
              <a:chOff x="2527200" y="4191120"/>
              <a:chExt cx="127080" cy="685800"/>
            </a:xfrm>
          </p:grpSpPr>
          <p:sp>
            <p:nvSpPr>
              <p:cNvPr id="563" name=""/>
              <p:cNvSpPr/>
              <p:nvPr/>
            </p:nvSpPr>
            <p:spPr>
              <a:xfrm>
                <a:off x="2590920" y="4203720"/>
                <a:ext cx="0" cy="660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527200" y="487692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527200" y="419112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1460520" y="4572000"/>
              <a:ext cx="9651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447920" y="3809880"/>
              <a:ext cx="992160" cy="534960"/>
            </a:xfrm>
            <a:custGeom>
              <a:avLst/>
              <a:gdLst/>
              <a:ahLst/>
              <a:rect l="l" t="t" r="r" b="b"/>
              <a:pathLst>
                <a:path w="625" h="337">
                  <a:moveTo>
                    <a:pt x="0" y="0"/>
                  </a:moveTo>
                  <a:lnTo>
                    <a:pt x="240" y="0"/>
                  </a:lnTo>
                  <a:lnTo>
                    <a:pt x="384" y="336"/>
                  </a:lnTo>
                  <a:lnTo>
                    <a:pt x="624" y="336"/>
                  </a:lnTo>
                </a:path>
              </a:pathLst>
            </a:custGeom>
            <a:noFill/>
            <a:ln cap="rnd"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1400" y="47023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8240" y="4016520"/>
              <a:ext cx="403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9400" y="3330720"/>
              <a:ext cx="554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Arial"/>
                </a:rPr>
                <a:t>w</a:t>
              </a:r>
              <a:r>
                <a:rPr b="0" lang="en-US" sz="1800" spc="-1" strike="noStrike" baseline="30000">
                  <a:solidFill>
                    <a:srgbClr val="000066"/>
                  </a:solidFill>
                  <a:latin typeface="Arial"/>
                </a:rPr>
                <a:t>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5414760" y="1905120"/>
            <a:ext cx="14749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UAdd</a:t>
            </a:r>
            <a:r>
              <a:rPr b="1" lang="en-US" sz="1800" spc="-1" strike="noStrike" baseline="-25000">
                <a:solidFill>
                  <a:srgbClr val="0033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239720" y="5205240"/>
            <a:ext cx="32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764480" y="451944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42440" y="3025800"/>
            <a:ext cx="123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ue S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61040" y="4930920"/>
            <a:ext cx="1630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odular S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526400" y="35053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verflo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83240" y="121932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verflo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010280" y="1676520"/>
            <a:ext cx="381240" cy="1295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323640"/>
            <a:ext cx="70545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hematical Propert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dular Addition Forms an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Abelian Gro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osed under add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  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 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  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 2</a:t>
            </a:r>
            <a:r>
              <a:rPr b="1" i="1" lang="en-US" sz="1800" spc="-1" strike="noStrike" baseline="30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–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utati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  =   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ociati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)  =   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)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additive ident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0)  =  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ry element has additive inver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t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Comp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)  = 2</a:t>
            </a:r>
            <a:r>
              <a:rPr b="1" i="1" lang="en-US" sz="1800" spc="-1" strike="noStrike" baseline="30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UComp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))  =  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323640"/>
            <a:ext cx="74739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wo’s Complement Addi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3600" y="3533760"/>
            <a:ext cx="7916760" cy="223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371600"/>
                <a:tab algn="l" pos="189216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dd and UAdd have Identical Bit-Level Behavi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371600"/>
                <a:tab algn="l" pos="189216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ed vs. unsigned addition in C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371600"/>
                <a:tab algn="l" pos="189216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s, t, u, v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371600"/>
                <a:tab algn="l" pos="189216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 = (int) ((unsigned) u + (unsigned) v)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371600"/>
                <a:tab algn="l" pos="189216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 = u + v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371600"/>
                <a:tab algn="l" pos="189216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ll give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s == 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4724280" y="1295280"/>
            <a:ext cx="2743200" cy="228600"/>
            <a:chOff x="4724280" y="1295280"/>
            <a:chExt cx="2743200" cy="228600"/>
          </a:xfrm>
        </p:grpSpPr>
        <p:sp>
          <p:nvSpPr>
            <p:cNvPr id="584" name=""/>
            <p:cNvSpPr/>
            <p:nvPr/>
          </p:nvSpPr>
          <p:spPr>
            <a:xfrm>
              <a:off x="47242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9528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1814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816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102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238880" y="12952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410080" y="129528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4724280" y="1752480"/>
            <a:ext cx="2743200" cy="228600"/>
            <a:chOff x="4724280" y="1752480"/>
            <a:chExt cx="2743200" cy="228600"/>
          </a:xfrm>
        </p:grpSpPr>
        <p:sp>
          <p:nvSpPr>
            <p:cNvPr id="592" name=""/>
            <p:cNvSpPr/>
            <p:nvPr/>
          </p:nvSpPr>
          <p:spPr>
            <a:xfrm>
              <a:off x="47242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528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814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816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102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38880" y="17524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410080" y="175248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4116240" y="12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116240" y="1676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33920" y="2057400"/>
            <a:ext cx="38862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73500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4495680" y="2209680"/>
            <a:ext cx="2971800" cy="228600"/>
            <a:chOff x="4495680" y="2209680"/>
            <a:chExt cx="2971800" cy="228600"/>
          </a:xfrm>
        </p:grpSpPr>
        <p:grpSp>
          <p:nvGrpSpPr>
            <p:cNvPr id="604" name=""/>
            <p:cNvGrpSpPr/>
            <p:nvPr/>
          </p:nvGrpSpPr>
          <p:grpSpPr>
            <a:xfrm>
              <a:off x="4724280" y="2209680"/>
              <a:ext cx="2743200" cy="228600"/>
              <a:chOff x="4724280" y="2209680"/>
              <a:chExt cx="2743200" cy="228600"/>
            </a:xfrm>
          </p:grpSpPr>
          <p:sp>
            <p:nvSpPr>
              <p:cNvPr id="605" name=""/>
              <p:cNvSpPr/>
              <p:nvPr/>
            </p:nvSpPr>
            <p:spPr>
              <a:xfrm>
                <a:off x="47242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528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1814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7816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0102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23888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410080" y="2209680"/>
                <a:ext cx="1371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12" name=""/>
            <p:cNvSpPr/>
            <p:nvPr/>
          </p:nvSpPr>
          <p:spPr>
            <a:xfrm>
              <a:off x="4495680" y="2209680"/>
              <a:ext cx="228600" cy="22860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3733920" y="213372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+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4724280" y="2666880"/>
            <a:ext cx="2743200" cy="228600"/>
            <a:chOff x="4724280" y="2666880"/>
            <a:chExt cx="2743200" cy="228600"/>
          </a:xfrm>
        </p:grpSpPr>
        <p:sp>
          <p:nvSpPr>
            <p:cNvPr id="615" name=""/>
            <p:cNvSpPr/>
            <p:nvPr/>
          </p:nvSpPr>
          <p:spPr>
            <a:xfrm>
              <a:off x="47242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9528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814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7816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0102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38880" y="266688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10080" y="266688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3733920" y="2514600"/>
            <a:ext cx="38862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58640" y="205740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ue Sum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+1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59720" y="137160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perands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57200" y="26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card Carry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54240" y="2666880"/>
            <a:ext cx="134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Add</a:t>
            </a:r>
            <a:r>
              <a:rPr b="0" i="1" lang="en-US" sz="1800" spc="-1" strike="noStrike" baseline="-25000">
                <a:solidFill>
                  <a:srgbClr val="000066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,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67597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haracterizing TAd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330984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nctional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ue sum requires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rop off MS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eat remaining bits as 2’s comp. integ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4188600" y="1143000"/>
            <a:ext cx="4194360" cy="3411360"/>
            <a:chOff x="4188600" y="1143000"/>
            <a:chExt cx="4194360" cy="3411360"/>
          </a:xfrm>
        </p:grpSpPr>
        <p:sp>
          <p:nvSpPr>
            <p:cNvPr id="630" name=""/>
            <p:cNvSpPr/>
            <p:nvPr/>
          </p:nvSpPr>
          <p:spPr>
            <a:xfrm>
              <a:off x="5063040" y="3581280"/>
              <a:ext cx="712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Arial"/>
                </a:rPr>
                <a:t>w </a:t>
              </a:r>
              <a:r>
                <a:rPr b="0" lang="en-US" sz="1800" spc="-1" strike="noStrike" baseline="30000">
                  <a:solidFill>
                    <a:srgbClr val="000066"/>
                  </a:solidFill>
                  <a:latin typeface="Arial"/>
                </a:rPr>
                <a:t>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049000" y="4191120"/>
              <a:ext cx="530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5125320" y="1523880"/>
              <a:ext cx="2051640" cy="2917800"/>
              <a:chOff x="5125320" y="1523880"/>
              <a:chExt cx="2051640" cy="2917800"/>
            </a:xfrm>
          </p:grpSpPr>
          <p:sp>
            <p:nvSpPr>
              <p:cNvPr id="633" name=""/>
              <p:cNvSpPr/>
              <p:nvPr/>
            </p:nvSpPr>
            <p:spPr>
              <a:xfrm>
                <a:off x="5818320" y="1711080"/>
                <a:ext cx="0" cy="13460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754600" y="307008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754600" y="238428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754600" y="169848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113600" y="2396880"/>
                <a:ext cx="0" cy="660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050240" y="3070080"/>
                <a:ext cx="12672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050240" y="2384280"/>
                <a:ext cx="12672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983200" y="2612880"/>
                <a:ext cx="9651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970600" y="2079360"/>
                <a:ext cx="992160" cy="1297080"/>
              </a:xfrm>
              <a:custGeom>
                <a:avLst/>
                <a:gdLst/>
                <a:ahLst/>
                <a:rect l="l" t="t" r="r" b="b"/>
                <a:pathLst>
                  <a:path w="625" h="817">
                    <a:moveTo>
                      <a:pt x="0" y="0"/>
                    </a:moveTo>
                    <a:lnTo>
                      <a:pt x="240" y="0"/>
                    </a:lnTo>
                    <a:lnTo>
                      <a:pt x="384" y="816"/>
                    </a:lnTo>
                    <a:lnTo>
                      <a:pt x="624" y="816"/>
                    </a:lnTo>
                  </a:path>
                </a:pathLst>
              </a:custGeom>
              <a:noFill/>
              <a:ln cap="rnd" w="255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194440" y="2895480"/>
                <a:ext cx="3078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215320" y="2209680"/>
                <a:ext cx="586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r>
                  <a:rPr b="0" i="1" lang="en-US" sz="1800" spc="-1" strike="noStrike" baseline="30000">
                    <a:solidFill>
                      <a:srgbClr val="000066"/>
                    </a:solidFill>
                    <a:latin typeface="Arial"/>
                  </a:rPr>
                  <a:t>w </a:t>
                </a:r>
                <a:r>
                  <a:rPr b="0" lang="en-US" sz="1800" spc="-1" strike="noStrike" baseline="30000">
                    <a:solidFill>
                      <a:srgbClr val="000066"/>
                    </a:solidFill>
                    <a:latin typeface="Arial"/>
                  </a:rPr>
                  <a:t>–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125320" y="1523880"/>
                <a:ext cx="6570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r>
                  <a:rPr b="0" i="1" lang="en-US" sz="1800" spc="-1" strike="noStrike" baseline="30000">
                    <a:solidFill>
                      <a:srgbClr val="000066"/>
                    </a:solidFill>
                    <a:latin typeface="Arial"/>
                  </a:rPr>
                  <a:t>w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–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818320" y="3082680"/>
                <a:ext cx="0" cy="13460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754600" y="444168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754600" y="375588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754600" y="3070080"/>
                <a:ext cx="12708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113600" y="3082680"/>
                <a:ext cx="0" cy="660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050240" y="3755880"/>
                <a:ext cx="12672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050240" y="3070080"/>
                <a:ext cx="12672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983200" y="3527280"/>
                <a:ext cx="9651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970600" y="2841480"/>
                <a:ext cx="992160" cy="1296720"/>
              </a:xfrm>
              <a:custGeom>
                <a:avLst/>
                <a:gdLst/>
                <a:ahLst/>
                <a:rect l="l" t="t" r="r" b="b"/>
                <a:pathLst>
                  <a:path w="625" h="817">
                    <a:moveTo>
                      <a:pt x="0" y="816"/>
                    </a:moveTo>
                    <a:lnTo>
                      <a:pt x="240" y="816"/>
                    </a:lnTo>
                    <a:lnTo>
                      <a:pt x="384" y="0"/>
                    </a:lnTo>
                    <a:lnTo>
                      <a:pt x="624" y="0"/>
                    </a:lnTo>
                  </a:path>
                </a:pathLst>
              </a:custGeom>
              <a:noFill/>
              <a:ln cap="rnd" w="255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5181120" y="1143000"/>
              <a:ext cx="1235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rue Su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854400" y="1905120"/>
              <a:ext cx="1528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Add Resul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88600" y="4237200"/>
              <a:ext cx="905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 000…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188600" y="3551400"/>
              <a:ext cx="905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 100…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188600" y="2865600"/>
              <a:ext cx="905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 000…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188600" y="2179800"/>
              <a:ext cx="905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 100…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88600" y="1494000"/>
              <a:ext cx="905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 111…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389720" y="3627360"/>
              <a:ext cx="75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100…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389720" y="2941560"/>
              <a:ext cx="75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00…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389720" y="2255760"/>
              <a:ext cx="75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11…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5866920" y="175248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osOve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943600" y="419112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egOve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3352680" y="4952880"/>
          <a:ext cx="5473800" cy="12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4952880"/>
                    <a:ext cx="5473800" cy="1201680"/>
                  </a:xfrm>
                  <a:prstGeom prst="rect">
                    <a:avLst/>
                  </a:prstGeom>
                  <a:ln w="25560">
                    <a:solidFill>
                      <a:srgbClr val="8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68" name=""/>
          <p:cNvSpPr/>
          <p:nvPr/>
        </p:nvSpPr>
        <p:spPr>
          <a:xfrm>
            <a:off x="7770600" y="49514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NegOver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846920" y="571356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PosOver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605160" y="3581280"/>
            <a:ext cx="2251080" cy="2669400"/>
            <a:chOff x="605160" y="3581280"/>
            <a:chExt cx="2251080" cy="2669400"/>
          </a:xfrm>
        </p:grpSpPr>
        <p:sp>
          <p:nvSpPr>
            <p:cNvPr id="671" name=""/>
            <p:cNvSpPr/>
            <p:nvPr/>
          </p:nvSpPr>
          <p:spPr>
            <a:xfrm>
              <a:off x="1143000" y="4267080"/>
              <a:ext cx="685800" cy="609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77600" y="56386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10920" y="4651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219320" y="548640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905120" y="548640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9480" y="4952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09480" y="434340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2120" y="5943600"/>
              <a:ext cx="89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NegOver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980720" y="3581280"/>
              <a:ext cx="8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PosOver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828800" y="4267080"/>
              <a:ext cx="685800" cy="609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143000" y="4876560"/>
              <a:ext cx="685800" cy="609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4876560"/>
              <a:ext cx="685800" cy="609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 rot="5400000">
              <a:off x="1866240" y="4228560"/>
              <a:ext cx="609480" cy="685800"/>
            </a:xfrm>
            <a:custGeom>
              <a:avLst/>
              <a:gdLst/>
              <a:ahLst/>
              <a:rect l="l" t="t" r="r" b="b"/>
              <a:pathLst>
                <a:path w="432" h="384">
                  <a:moveTo>
                    <a:pt x="0" y="0"/>
                  </a:moveTo>
                  <a:lnTo>
                    <a:pt x="432" y="384"/>
                  </a:lnTo>
                  <a:lnTo>
                    <a:pt x="4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99"/>
            </a:solidFill>
            <a:ln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rot="16200000">
              <a:off x="1179720" y="4838400"/>
              <a:ext cx="609840" cy="685800"/>
            </a:xfrm>
            <a:custGeom>
              <a:avLst/>
              <a:gdLst/>
              <a:ahLst/>
              <a:rect l="l" t="t" r="r" b="b"/>
              <a:pathLst>
                <a:path w="432" h="384">
                  <a:moveTo>
                    <a:pt x="0" y="0"/>
                  </a:moveTo>
                  <a:lnTo>
                    <a:pt x="432" y="384"/>
                  </a:lnTo>
                  <a:lnTo>
                    <a:pt x="4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99"/>
            </a:solidFill>
            <a:ln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1066680" y="5257440"/>
              <a:ext cx="22860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86000" y="3962160"/>
              <a:ext cx="0" cy="5335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5160" y="3809880"/>
              <a:ext cx="1377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TAdd(</a:t>
              </a:r>
              <a:r>
                <a:rPr b="1" i="1" lang="en-US" sz="1800" spc="-1" strike="noStrike">
                  <a:solidFill>
                    <a:srgbClr val="003300"/>
                  </a:solidFill>
                  <a:latin typeface="Arial"/>
                </a:rPr>
                <a:t>u</a:t>
              </a: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 , </a:t>
              </a:r>
              <a:r>
                <a:rPr b="1" i="1" lang="en-US" sz="1800" spc="-1" strike="noStrike">
                  <a:solidFill>
                    <a:srgbClr val="003300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8" name=""/>
          <p:cNvGraphicFramePr/>
          <p:nvPr/>
        </p:nvGraphicFramePr>
        <p:xfrm>
          <a:off x="3886200" y="2057400"/>
          <a:ext cx="4560840" cy="39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057400"/>
                    <a:ext cx="4560840" cy="39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79837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2’s Comp. Addi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3354480" cy="459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-bit two’s comp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nge from -8 to +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raps Aroun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sum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2</a:t>
            </a:r>
            <a:r>
              <a:rPr b="1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–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comes negat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 most o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sum &lt; –2</a:t>
            </a:r>
            <a:r>
              <a:rPr b="1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–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comes posit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 most o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642640" y="2133720"/>
            <a:ext cx="145080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Add</a:t>
            </a:r>
            <a:r>
              <a:rPr b="1" lang="en-US" sz="1800" spc="-1" strike="noStrike" baseline="-25000">
                <a:solidFill>
                  <a:srgbClr val="0033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647960" y="5562720"/>
            <a:ext cx="32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315200" y="50292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392240" y="55627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osO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430080" y="13716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gO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038480" y="1752480"/>
            <a:ext cx="838440" cy="175284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7543440" y="4191120"/>
            <a:ext cx="609480" cy="129528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480" y="323640"/>
            <a:ext cx="76406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tecting 2’s Comp. Overflo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09040" cy="468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s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ive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=  TAdd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termine 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dd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s, u, v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 = u + v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ai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flow iff either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&lt; 0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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NegOve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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0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&lt; 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PosOve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vf = (u&lt;0 == v&lt;0) &amp;&amp; (u&lt;0 != s&lt;0)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5265000" y="1371600"/>
            <a:ext cx="2051640" cy="2938680"/>
            <a:chOff x="5265000" y="1371600"/>
            <a:chExt cx="2051640" cy="2938680"/>
          </a:xfrm>
        </p:grpSpPr>
        <p:sp>
          <p:nvSpPr>
            <p:cNvPr id="702" name=""/>
            <p:cNvSpPr/>
            <p:nvPr/>
          </p:nvSpPr>
          <p:spPr>
            <a:xfrm>
              <a:off x="5957640" y="1558800"/>
              <a:ext cx="0" cy="13456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894280" y="2917440"/>
              <a:ext cx="1270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894280" y="2231640"/>
              <a:ext cx="1270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894280" y="1545840"/>
              <a:ext cx="1270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253280" y="2244600"/>
              <a:ext cx="0" cy="659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89560" y="2917440"/>
              <a:ext cx="1270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89560" y="2231640"/>
              <a:ext cx="1270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122880" y="2460240"/>
              <a:ext cx="9651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110280" y="1927080"/>
              <a:ext cx="992160" cy="1296360"/>
            </a:xfrm>
            <a:custGeom>
              <a:avLst/>
              <a:gdLst/>
              <a:ahLst/>
              <a:rect l="l" t="t" r="r" b="b"/>
              <a:pathLst>
                <a:path w="625" h="817">
                  <a:moveTo>
                    <a:pt x="0" y="0"/>
                  </a:moveTo>
                  <a:lnTo>
                    <a:pt x="240" y="0"/>
                  </a:lnTo>
                  <a:lnTo>
                    <a:pt x="384" y="816"/>
                  </a:lnTo>
                  <a:lnTo>
                    <a:pt x="624" y="816"/>
                  </a:lnTo>
                </a:path>
              </a:pathLst>
            </a:custGeom>
            <a:noFill/>
            <a:ln cap="rnd"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333760" y="27428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355000" y="2057040"/>
              <a:ext cx="58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Arial"/>
                </a:rPr>
                <a:t>w </a:t>
              </a:r>
              <a:r>
                <a:rPr b="0" lang="en-US" sz="1800" spc="-1" strike="noStrike" baseline="30000">
                  <a:solidFill>
                    <a:srgbClr val="000066"/>
                  </a:solidFill>
                  <a:latin typeface="Arial"/>
                </a:rPr>
                <a:t>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265000" y="1371600"/>
              <a:ext cx="657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Arial"/>
                </a:rPr>
                <a:t>w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957640" y="2930400"/>
              <a:ext cx="0" cy="13456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4280" y="4289040"/>
              <a:ext cx="1270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894280" y="3603240"/>
              <a:ext cx="1270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894280" y="2917440"/>
              <a:ext cx="1270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53280" y="2930400"/>
              <a:ext cx="0" cy="659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89560" y="3603240"/>
              <a:ext cx="1270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89560" y="2917440"/>
              <a:ext cx="1270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22880" y="3374640"/>
              <a:ext cx="9651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110280" y="2688840"/>
              <a:ext cx="992160" cy="1296720"/>
            </a:xfrm>
            <a:custGeom>
              <a:avLst/>
              <a:gdLst/>
              <a:ahLst/>
              <a:rect l="l" t="t" r="r" b="b"/>
              <a:pathLst>
                <a:path w="625" h="817">
                  <a:moveTo>
                    <a:pt x="0" y="816"/>
                  </a:moveTo>
                  <a:lnTo>
                    <a:pt x="240" y="816"/>
                  </a:lnTo>
                  <a:lnTo>
                    <a:pt x="384" y="0"/>
                  </a:lnTo>
                  <a:lnTo>
                    <a:pt x="624" y="0"/>
                  </a:lnTo>
                </a:path>
              </a:pathLst>
            </a:custGeom>
            <a:noFill/>
            <a:ln cap="rnd"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081120" y="1645920"/>
              <a:ext cx="876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PosOver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081480" y="4008240"/>
              <a:ext cx="894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NegOver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0880" y="323640"/>
            <a:ext cx="82375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hematical Properties of TAd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334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somorphic Algebra to UAd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Add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 =  U2T(UAdd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T2U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), T2U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)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nce both have identical bit patter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’s Complement Under TAdd Forms a Gro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osed, Commutative, Associative, 0 is additive ident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ry element has additive inver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t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Comp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)  =  U2T(UComp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T2U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)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TComp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))  =  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2590920" y="5105520"/>
          <a:ext cx="36068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5105520"/>
                    <a:ext cx="36068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59086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ultipli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ing Exact Product of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bit numbers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ither signed or unsign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ang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signed: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0 ≤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≤ (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– 1) 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=  2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– 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+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+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p to 2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b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’s complement min: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≥ (–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*(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1)  =  –2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2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 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p to 2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–1 b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’s complement max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≤ (–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=  2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p to 2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bits, but only for 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Min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en-US" sz="1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intaining Exact Resul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uld need to keep expanding word size with each product compu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ne in software by “arbitrary precision” arithmetic pack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323640"/>
            <a:ext cx="61164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ncoding Integ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2362320"/>
            <a:ext cx="3429000" cy="6426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nt x =  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nt y = -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hor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2 bytes lo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gn Bi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2’s complement, most significant bit indicates 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 for nonnegat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 for negat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800600" y="1523880"/>
          <a:ext cx="33400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523880"/>
                    <a:ext cx="3340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990720" y="1523880"/>
          <a:ext cx="21333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523880"/>
                    <a:ext cx="2133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992520" y="91440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sign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7280" y="99072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wo’s Complem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6629040" y="2057040"/>
            <a:ext cx="106668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847640" y="2590920"/>
            <a:ext cx="678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g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00200" y="3657600"/>
          <a:ext cx="5653080" cy="10177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3657600"/>
                    <a:ext cx="565308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80880" y="323640"/>
            <a:ext cx="76867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signed Multiplication in 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07800" y="3384720"/>
            <a:ext cx="5149800" cy="16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51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286000"/>
                <a:tab algn="l" pos="303516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ndard Multiplication Fun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828800"/>
                <a:tab algn="l" pos="2286000"/>
                <a:tab algn="l" pos="303516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gnores high order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1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286000"/>
                <a:tab algn="l" pos="303516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s Modular Arithmet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7716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286000"/>
                <a:tab algn="l" pos="303516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Mult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·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mod 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6172200" y="1219320"/>
            <a:ext cx="2743200" cy="228600"/>
            <a:chOff x="6172200" y="1219320"/>
            <a:chExt cx="2743200" cy="228600"/>
          </a:xfrm>
        </p:grpSpPr>
        <p:sp>
          <p:nvSpPr>
            <p:cNvPr id="734" name=""/>
            <p:cNvSpPr/>
            <p:nvPr/>
          </p:nvSpPr>
          <p:spPr>
            <a:xfrm>
              <a:off x="6172200" y="12193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400800" y="12193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29400" y="12193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229600" y="12193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458200" y="12193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686800" y="12193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58000" y="121932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6172200" y="1676520"/>
            <a:ext cx="2743200" cy="228600"/>
            <a:chOff x="6172200" y="1676520"/>
            <a:chExt cx="2743200" cy="228600"/>
          </a:xfrm>
        </p:grpSpPr>
        <p:sp>
          <p:nvSpPr>
            <p:cNvPr id="742" name=""/>
            <p:cNvSpPr/>
            <p:nvPr/>
          </p:nvSpPr>
          <p:spPr>
            <a:xfrm>
              <a:off x="6172200" y="16765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400800" y="16765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629400" y="16765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229600" y="16765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458200" y="16765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686800" y="16765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858000" y="167652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5564160" y="114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5638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743200" y="1981080"/>
            <a:ext cx="63244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182920" y="16002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6172200" y="2133720"/>
            <a:ext cx="2743200" cy="228600"/>
            <a:chOff x="6172200" y="2133720"/>
            <a:chExt cx="2743200" cy="228600"/>
          </a:xfrm>
        </p:grpSpPr>
        <p:sp>
          <p:nvSpPr>
            <p:cNvPr id="754" name=""/>
            <p:cNvSpPr/>
            <p:nvPr/>
          </p:nvSpPr>
          <p:spPr>
            <a:xfrm>
              <a:off x="6172200" y="21337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00800" y="21337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629400" y="21337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229600" y="21337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458200" y="21337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686800" y="21337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858000" y="213372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2729520" y="205740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·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6172200" y="2590920"/>
            <a:ext cx="2743200" cy="228600"/>
            <a:chOff x="6172200" y="2590920"/>
            <a:chExt cx="2743200" cy="228600"/>
          </a:xfrm>
        </p:grpSpPr>
        <p:sp>
          <p:nvSpPr>
            <p:cNvPr id="763" name=""/>
            <p:cNvSpPr/>
            <p:nvPr/>
          </p:nvSpPr>
          <p:spPr>
            <a:xfrm>
              <a:off x="6172200" y="25909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400800" y="25909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629400" y="25909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229600" y="25909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458200" y="25909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686800" y="259092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858000" y="2590920"/>
              <a:ext cx="1371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2743200" y="2438280"/>
            <a:ext cx="63244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0760" y="205740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ue Product: 2*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31120" y="137160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perands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" y="26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card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its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565880" y="2590920"/>
            <a:ext cx="142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UMult</a:t>
            </a:r>
            <a:r>
              <a:rPr b="0" i="1" lang="en-US" sz="1800" spc="-1" strike="noStrike" baseline="-25000">
                <a:solidFill>
                  <a:srgbClr val="000066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,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3429000" y="2133720"/>
            <a:ext cx="2743200" cy="228600"/>
            <a:chOff x="3429000" y="2133720"/>
            <a:chExt cx="2743200" cy="228600"/>
          </a:xfrm>
        </p:grpSpPr>
        <p:sp>
          <p:nvSpPr>
            <p:cNvPr id="776" name=""/>
            <p:cNvSpPr/>
            <p:nvPr/>
          </p:nvSpPr>
          <p:spPr>
            <a:xfrm>
              <a:off x="3429000" y="2133720"/>
              <a:ext cx="228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657600" y="2133720"/>
              <a:ext cx="228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886200" y="2133720"/>
              <a:ext cx="228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486400" y="2133720"/>
              <a:ext cx="228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715000" y="2133720"/>
              <a:ext cx="228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943600" y="2133720"/>
              <a:ext cx="228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114800" y="2133720"/>
              <a:ext cx="1371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80880" y="323640"/>
            <a:ext cx="84772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signed vs. Signed Multipli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signed Multipli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signed ux = (unsigned) x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signed uy = (unsigned) y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signed up = ux * u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uncates product to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bit number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p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Mult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dular arithmetic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u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u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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u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mod 2</a:t>
            </a:r>
            <a:r>
              <a:rPr b="1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’s Complement Multipli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x, y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p = x * y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exact product of two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bit numbers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uncate result to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bit number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= TMult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80880" y="323640"/>
            <a:ext cx="84772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signed vs. Signed Multipli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signed Multipli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signed ux = (unsigned) x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signed uy = (unsigned) y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signed up = ux * u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’s Complement Multipli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x, y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p = x * y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l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ed multiplication gives same bit-level result as unsign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p == (unsigned) 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323640"/>
            <a:ext cx="739944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wer-of-2 Multiply with Shif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 &lt;&lt; 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give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 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Both signed and unsign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 &lt;&lt; 3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==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 * 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 &lt;&lt; 5 - u &lt;&lt; 3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==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 * 2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ost machines shift and add much faster than multip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iler generates this code automatical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0">
              <a:spcBef>
                <a:spcPts val="624"/>
              </a:spcBef>
              <a:buNone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791320" y="275760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019920" y="275760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248520" y="275760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848720" y="275760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077320" y="275760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305920" y="275760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477120" y="2757600"/>
            <a:ext cx="1371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791320" y="32148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705720" y="32148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934320" y="3214800"/>
            <a:ext cx="228600" cy="22860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162920" y="32148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077320" y="32148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305920" y="32148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019920" y="32148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182920" y="2681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187600" y="31384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362320" y="3519360"/>
            <a:ext cx="63244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802040" y="3138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425040" y="3595680"/>
            <a:ext cx="6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· 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362320" y="3976560"/>
            <a:ext cx="63244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839160" y="3595680"/>
            <a:ext cx="25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ue Product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840600" y="29098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perands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838080" y="420516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card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its: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08680" y="4129200"/>
            <a:ext cx="149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UMult</a:t>
            </a:r>
            <a:r>
              <a:rPr b="0" i="1" lang="en-US" sz="1800" spc="-1" strike="noStrike" baseline="-25000">
                <a:solidFill>
                  <a:srgbClr val="000066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, 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391520" y="32148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859440" y="237636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4419720" y="3672000"/>
            <a:ext cx="2743200" cy="228600"/>
            <a:chOff x="4419720" y="3672000"/>
            <a:chExt cx="2743200" cy="228600"/>
          </a:xfrm>
        </p:grpSpPr>
        <p:sp>
          <p:nvSpPr>
            <p:cNvPr id="816" name=""/>
            <p:cNvSpPr/>
            <p:nvPr/>
          </p:nvSpPr>
          <p:spPr>
            <a:xfrm>
              <a:off x="4419720" y="36720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648320" y="36720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876920" y="36720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477120" y="36720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705720" y="36720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934320" y="36720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105520" y="3672000"/>
              <a:ext cx="1371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7162920" y="36720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8077320" y="36720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8305920" y="36720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391520" y="36720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125600" y="4510080"/>
            <a:ext cx="1469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Mult</a:t>
            </a:r>
            <a:r>
              <a:rPr b="0" i="1" lang="en-US" sz="1800" spc="-1" strike="noStrike" baseline="-25000">
                <a:solidFill>
                  <a:srgbClr val="000066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, 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162920" y="41292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8077320" y="41292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305920" y="41292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391520" y="41292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477120" y="412920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705720" y="412920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934320" y="412920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791320" y="4129200"/>
            <a:ext cx="6858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01400" y="323640"/>
            <a:ext cx="838188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signed Power-of-2 Divide with Shif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26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Quotient of Unsigned by Power of 2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 &gt;&gt; 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gives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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 /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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Uses logical shif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38" name=""/>
          <p:cNvGraphicFramePr/>
          <p:nvPr/>
        </p:nvGraphicFramePr>
        <p:xfrm>
          <a:off x="762120" y="4724280"/>
          <a:ext cx="7683480" cy="163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724280"/>
                    <a:ext cx="76834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"/>
          <p:cNvSpPr/>
          <p:nvPr/>
        </p:nvSpPr>
        <p:spPr>
          <a:xfrm>
            <a:off x="3962520" y="274320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91120" y="274320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105520" y="274320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962520" y="3200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76920" y="3200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105520" y="3200400"/>
            <a:ext cx="228600" cy="22860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334120" y="3200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248520" y="3200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477120" y="3200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191120" y="32004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354120" y="2666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358800" y="31240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209680" y="3505320"/>
            <a:ext cx="63248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973240" y="3124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053160" y="3581280"/>
            <a:ext cx="6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/ 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36040" y="3581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vision: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36040" y="28954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perands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562720" y="32004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030640" y="23623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419720" y="2743200"/>
            <a:ext cx="6858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5334120" y="2743200"/>
            <a:ext cx="1371600" cy="228600"/>
            <a:chOff x="5334120" y="2743200"/>
            <a:chExt cx="1371600" cy="228600"/>
          </a:xfrm>
        </p:grpSpPr>
        <p:sp>
          <p:nvSpPr>
            <p:cNvPr id="861" name=""/>
            <p:cNvSpPr/>
            <p:nvPr/>
          </p:nvSpPr>
          <p:spPr>
            <a:xfrm>
              <a:off x="5334120" y="27432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248520" y="27432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477120" y="27432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62720" y="2743200"/>
              <a:ext cx="6858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•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5334120" y="365760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562720" y="365760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477120" y="365760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791320" y="3657600"/>
            <a:ext cx="6858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962520" y="36576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876920" y="36576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105520" y="36576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191120" y="36576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6781680" y="3657600"/>
            <a:ext cx="1371600" cy="228600"/>
            <a:chOff x="6781680" y="3657600"/>
            <a:chExt cx="1371600" cy="228600"/>
          </a:xfrm>
        </p:grpSpPr>
        <p:sp>
          <p:nvSpPr>
            <p:cNvPr id="874" name=""/>
            <p:cNvSpPr/>
            <p:nvPr/>
          </p:nvSpPr>
          <p:spPr>
            <a:xfrm>
              <a:off x="6781680" y="36576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696080" y="36576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924680" y="3657600"/>
              <a:ext cx="2286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10280" y="3657600"/>
              <a:ext cx="6858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•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2209680" y="4038480"/>
            <a:ext cx="63248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913840" y="41338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Symbol"/>
                <a:ea typeface="Symbol"/>
              </a:rPr>
              <a:t></a:t>
            </a:r>
            <a:r>
              <a:rPr b="0" i="1" lang="en-U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/ 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 </a:t>
            </a:r>
            <a:r>
              <a:rPr b="0" lang="en-US" sz="1800" spc="-1" strike="noStrike">
                <a:solidFill>
                  <a:srgbClr val="003300"/>
                </a:solidFill>
                <a:latin typeface="Symbol"/>
                <a:ea typeface="Symbol"/>
              </a:rPr>
              <a:t>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334120" y="419112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562720" y="419112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477120" y="419112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791320" y="4191120"/>
            <a:ext cx="6858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35680" y="41148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sul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6308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934680" y="26668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inary Po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6781320" y="3048120"/>
            <a:ext cx="30492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962520" y="36576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962520" y="4191120"/>
            <a:ext cx="228600" cy="22860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876920" y="41911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105520" y="41911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191120" y="419112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962520" y="41911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14000" y="323640"/>
            <a:ext cx="835668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ed Power-of-2 Divide with Shif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26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Quotient of Signed by Power of 2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80680" indent="-1915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 &gt;&gt; 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gives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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 /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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Uses arithmetic shif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ounds wrong direction whe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 &lt;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535680" y="2581200"/>
            <a:ext cx="7998840" cy="2144880"/>
            <a:chOff x="535680" y="2581200"/>
            <a:chExt cx="7998840" cy="2144880"/>
          </a:xfrm>
        </p:grpSpPr>
        <p:sp>
          <p:nvSpPr>
            <p:cNvPr id="897" name=""/>
            <p:cNvSpPr/>
            <p:nvPr/>
          </p:nvSpPr>
          <p:spPr>
            <a:xfrm>
              <a:off x="3962520" y="2962440"/>
              <a:ext cx="2286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191120" y="2962440"/>
              <a:ext cx="22860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05520" y="2962440"/>
              <a:ext cx="22860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962520" y="341964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876920" y="341964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105520" y="3419640"/>
              <a:ext cx="228600" cy="22860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334120" y="341964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248520" y="341964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477120" y="341964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191120" y="3419640"/>
              <a:ext cx="6858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•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354120" y="288612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358800" y="3343320"/>
              <a:ext cx="35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209680" y="3724200"/>
              <a:ext cx="6324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973240" y="33433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/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65400" y="38005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/ 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36040" y="380052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ivision: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36040" y="311472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Operands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562720" y="3419640"/>
              <a:ext cx="6858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•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030640" y="258120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419720" y="2962440"/>
              <a:ext cx="68580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•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17" name=""/>
            <p:cNvGrpSpPr/>
            <p:nvPr/>
          </p:nvGrpSpPr>
          <p:grpSpPr>
            <a:xfrm>
              <a:off x="5334120" y="2962440"/>
              <a:ext cx="1371600" cy="228600"/>
              <a:chOff x="5334120" y="2962440"/>
              <a:chExt cx="1371600" cy="228600"/>
            </a:xfrm>
          </p:grpSpPr>
          <p:sp>
            <p:nvSpPr>
              <p:cNvPr id="918" name=""/>
              <p:cNvSpPr/>
              <p:nvPr/>
            </p:nvSpPr>
            <p:spPr>
              <a:xfrm>
                <a:off x="5334120" y="296244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248520" y="296244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477120" y="296244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562720" y="2962440"/>
                <a:ext cx="685800" cy="228600"/>
              </a:xfrm>
              <a:prstGeom prst="rect">
                <a:avLst/>
              </a:prstGeom>
              <a:solidFill>
                <a:srgbClr val="ff00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•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22" name=""/>
            <p:cNvSpPr/>
            <p:nvPr/>
          </p:nvSpPr>
          <p:spPr>
            <a:xfrm>
              <a:off x="5334120" y="3876840"/>
              <a:ext cx="2286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562720" y="3876840"/>
              <a:ext cx="22860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477120" y="3876840"/>
              <a:ext cx="22860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791320" y="3876840"/>
              <a:ext cx="68580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•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962520" y="3876840"/>
              <a:ext cx="228600" cy="228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876920" y="3876840"/>
              <a:ext cx="2286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105520" y="3876840"/>
              <a:ext cx="2286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191120" y="3876840"/>
              <a:ext cx="6858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•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30" name=""/>
            <p:cNvGrpSpPr/>
            <p:nvPr/>
          </p:nvGrpSpPr>
          <p:grpSpPr>
            <a:xfrm>
              <a:off x="6781680" y="3876840"/>
              <a:ext cx="1371600" cy="228600"/>
              <a:chOff x="6781680" y="3876840"/>
              <a:chExt cx="1371600" cy="228600"/>
            </a:xfrm>
          </p:grpSpPr>
          <p:sp>
            <p:nvSpPr>
              <p:cNvPr id="931" name=""/>
              <p:cNvSpPr/>
              <p:nvPr/>
            </p:nvSpPr>
            <p:spPr>
              <a:xfrm>
                <a:off x="6781680" y="387684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696080" y="387684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924680" y="387684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010280" y="3876840"/>
                <a:ext cx="685800" cy="228600"/>
              </a:xfrm>
              <a:prstGeom prst="rect">
                <a:avLst/>
              </a:prstGeom>
              <a:solidFill>
                <a:srgbClr val="ff00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•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35" name=""/>
            <p:cNvSpPr/>
            <p:nvPr/>
          </p:nvSpPr>
          <p:spPr>
            <a:xfrm>
              <a:off x="2209680" y="4257720"/>
              <a:ext cx="6324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843560" y="4357800"/>
              <a:ext cx="195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RoundDown(</a:t>
              </a: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/ 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34120" y="4410000"/>
              <a:ext cx="2286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562720" y="4410000"/>
              <a:ext cx="22860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77120" y="4410000"/>
              <a:ext cx="22860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791320" y="4410000"/>
              <a:ext cx="68580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•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35680" y="433404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esult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30840" y="38005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934680" y="288612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Binary Poin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6781320" y="3267000"/>
              <a:ext cx="30492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962520" y="3876840"/>
              <a:ext cx="2286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962520" y="4410000"/>
              <a:ext cx="2286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876920" y="4410000"/>
              <a:ext cx="2286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05520" y="4410000"/>
              <a:ext cx="2286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191120" y="4410000"/>
              <a:ext cx="6858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•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962520" y="4410000"/>
              <a:ext cx="228600" cy="2286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951" name=""/>
          <p:cNvGraphicFramePr/>
          <p:nvPr/>
        </p:nvGraphicFramePr>
        <p:xfrm>
          <a:off x="685800" y="4915080"/>
          <a:ext cx="7683480" cy="163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915080"/>
                    <a:ext cx="7683480" cy="16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80880" y="323640"/>
            <a:ext cx="708192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rrect Power-of-2 Divi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26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8000"/>
          </a:bodyPr>
          <a:p>
            <a:pPr marL="185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Quotient of Negative Number by Power of 2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57120" indent="-117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ant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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 /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en-US" sz="2000" spc="-1" strike="noStrike" baseline="30000">
                <a:solidFill>
                  <a:srgbClr val="000066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(Round Toward 0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57120" indent="-117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as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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x+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en-US" sz="20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1)/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en-US" sz="2000" spc="-1" strike="noStrike" baseline="30000">
                <a:solidFill>
                  <a:srgbClr val="000066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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50080" indent="-114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 C: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(x + (1&lt;&lt;k)-1) &gt;&gt; 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50080" indent="-114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iases dividend toward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500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85040" indent="0">
              <a:lnSpc>
                <a:spcPct val="100000"/>
              </a:lnSpc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 1: No round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840240" y="50292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visor: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65360" y="381312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vidend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114800" y="51055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029200" y="51055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257800" y="5105520"/>
            <a:ext cx="228600" cy="22860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486400" y="51055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400800" y="51055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629400" y="51055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343400" y="510552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506760" y="3813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511080" y="502920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362320" y="5410080"/>
            <a:ext cx="63244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125520" y="50292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848680" y="54100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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u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/ 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 </a:t>
            </a:r>
            <a:r>
              <a:rPr b="1" i="1" lang="en-US" sz="1800" spc="-1" strike="noStrike" baseline="30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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715000" y="510552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182920" y="34434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114800" y="388944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343400" y="388944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257800" y="388944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572000" y="3889440"/>
            <a:ext cx="6858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486400" y="388944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00800" y="388944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629400" y="388944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715000" y="388944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486400" y="55627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715000" y="556272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629400" y="556272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943600" y="5562720"/>
            <a:ext cx="6858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114800" y="55627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029200" y="55627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257800" y="55627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343400" y="556272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783120" y="54864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86960" y="45720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inary Po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6934320" y="4952880"/>
            <a:ext cx="30456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114800" y="55627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114800" y="42703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029200" y="42703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257800" y="42703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486400" y="42703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400800" y="42703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629400" y="42703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343400" y="427032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979360" y="41940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+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+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715000" y="427032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55627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924680" y="55627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8153280" y="55627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238880" y="556272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14600" y="4572000"/>
            <a:ext cx="63244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114800" y="472428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343400" y="472428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257800" y="472428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572000" y="4724280"/>
            <a:ext cx="6858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486400" y="472428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400800" y="472428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629400" y="472428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715000" y="472428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220400" y="6110280"/>
            <a:ext cx="27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iasing has no effec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78822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rrect Power-of-2 Divide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840240" y="3581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visor: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65360" y="16002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vidend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06360" y="98748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 2: Round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114800" y="36576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029200" y="36576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257800" y="3657600"/>
            <a:ext cx="228600" cy="22860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486400" y="36576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400800" y="36576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629400" y="36576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343400" y="36576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506400" y="16002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511080" y="35812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362320" y="3962520"/>
            <a:ext cx="63244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125520" y="3581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860920" y="3962520"/>
            <a:ext cx="9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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/ 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 </a:t>
            </a:r>
            <a:r>
              <a:rPr b="1" i="1" lang="en-US" sz="1800" spc="-1" strike="noStrike" baseline="30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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715000" y="36576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106600" y="1295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114800" y="16765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343400" y="167652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257800" y="1676520"/>
            <a:ext cx="2286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572000" y="1676520"/>
            <a:ext cx="68580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486400" y="167652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400800" y="167652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629400" y="1676520"/>
            <a:ext cx="2286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715000" y="1676520"/>
            <a:ext cx="685800" cy="2286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486400" y="41148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715000" y="4114800"/>
            <a:ext cx="228600" cy="22860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29400" y="4114800"/>
            <a:ext cx="228600" cy="22860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943600" y="4114800"/>
            <a:ext cx="685800" cy="22860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114800" y="41148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029200" y="41148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257800" y="41148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343400" y="41148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783120" y="4038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089120" y="31240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inary Po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6934320" y="3505320"/>
            <a:ext cx="30456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114800" y="41148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114800" y="2057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029200" y="2057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257800" y="2057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486400" y="2057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400800" y="2057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629400" y="20574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343400" y="20574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979360" y="198108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+2</a:t>
            </a:r>
            <a:r>
              <a:rPr b="0" i="1" lang="en-US" sz="1800" spc="-1" strike="noStrike" baseline="30000">
                <a:solidFill>
                  <a:srgbClr val="000066"/>
                </a:solidFill>
                <a:latin typeface="Times New Roman"/>
              </a:rPr>
              <a:t>k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+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715000" y="205740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514600" y="2359080"/>
            <a:ext cx="63244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114800" y="251136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343400" y="2511360"/>
            <a:ext cx="228600" cy="22860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257800" y="2511360"/>
            <a:ext cx="228600" cy="22860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572000" y="2511360"/>
            <a:ext cx="685800" cy="22860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486400" y="2511360"/>
            <a:ext cx="228600" cy="228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400800" y="2511360"/>
            <a:ext cx="228600" cy="228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629400" y="2511360"/>
            <a:ext cx="228600" cy="228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715000" y="2511360"/>
            <a:ext cx="685800" cy="228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828800" y="4646520"/>
            <a:ext cx="35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iasing adds 1 to final resu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010280" y="4114800"/>
            <a:ext cx="228600" cy="228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924680" y="4114800"/>
            <a:ext cx="228600" cy="228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8153280" y="4114800"/>
            <a:ext cx="228600" cy="228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238880" y="4114800"/>
            <a:ext cx="685800" cy="228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••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rot="16200000">
            <a:off x="4800600" y="236196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965040" y="312408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cremented by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rot="16200000">
            <a:off x="6172200" y="403812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336640" y="480060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cremented by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839340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perties of Unsigned Arithmet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signed Multiplication with Addition Forms Commutative R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ition is commutative grou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osed under multipli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  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 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  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 2</a:t>
            </a:r>
            <a:r>
              <a:rPr b="1" i="1" lang="en-US" sz="1800" spc="-1" strike="noStrike" baseline="30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–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Commutati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  =   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is Associati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)  =   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)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is multiplicative ident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1)  =  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distributes over add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)  =   UAdd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), UMult</a:t>
            </a:r>
            <a:r>
              <a:rPr b="1" i="1" lang="en-US" sz="1800" spc="-1" strike="noStrike" baseline="-25000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75520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perties of Two’s Comp. Arithmet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8680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somorphic Algebra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signed multiplication and add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uncating to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b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’s complement multiplication and add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uncating to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b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th Form Ring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omorphic to ring of integers mod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arison to Integer Arithmet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are ring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s obey ordering properties, e.g.,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&gt; 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+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&gt;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&gt; 0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&gt; 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·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se properties are not obeyed by two’s comp. arithme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Ma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 + 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==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TMi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15213 * 30426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==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-1003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(16-bit words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23640"/>
            <a:ext cx="651024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ncoding Example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990720"/>
            <a:ext cx="5410440" cy="6426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     15213: 00111011 01101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 =     -15213: 11000100 100100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922400" y="1779480"/>
          <a:ext cx="5545080" cy="49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0" y="1779480"/>
                    <a:ext cx="5545080" cy="49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61437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 Puzzle Answ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47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ume machine with 32 bit word size, two’s comp. integ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M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makes a good counterexample in many ca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09480" y="2133720"/>
            <a:ext cx="800100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lt;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(x*2) &lt; 0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lse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TM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x &g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ue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 =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UM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amp; 7 == 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x&lt;&lt;30) &lt;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ue: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x &gt; -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lse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gt; y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x &lt; -y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lse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TM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* x &g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lse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3042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gt; 0 &amp;&amp; y &gt;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+ y &gt;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lse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TMax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TM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g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x &l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ue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TMax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&lt;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l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x &gt;= 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lse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TM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09480" y="2133720"/>
            <a:ext cx="8001000" cy="37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lt;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(x*2) &lt; 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x &g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amp; 7 == 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x&lt;&lt;30) &lt;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x &gt; -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gt; y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x &lt; -y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* x &g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gt; 0 &amp;&amp; y &gt;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+ y &gt;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g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x &l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2463840"/>
                <a:tab algn="l" pos="3086280"/>
                <a:tab algn="l" pos="5207040"/>
                <a:tab algn="l" pos="612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&lt;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x &gt;= 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323640"/>
            <a:ext cx="582300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umeric Rang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407844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Unsigned Valu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82880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Mi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00…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82880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Ma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–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11…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9080" y="1220760"/>
            <a:ext cx="407844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714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wo’s Complement Valu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714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Mi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–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714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0…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714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Ma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–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714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11…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714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Other Valu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714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inus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714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11…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371600" y="4419720"/>
          <a:ext cx="5905440" cy="193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419720"/>
                    <a:ext cx="590544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369800" y="3962520"/>
            <a:ext cx="22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Values for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= 1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25000" y="323640"/>
            <a:ext cx="7309080" cy="10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alues for Different Word Siz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9120" y="3124080"/>
            <a:ext cx="4146480" cy="23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714680"/>
                <a:tab algn="l" pos="2171880"/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714680"/>
                <a:tab algn="l" pos="2171880"/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|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Min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|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Ma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+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14680"/>
                <a:tab algn="l" pos="2171880"/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symmetric ran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714680"/>
                <a:tab algn="l" pos="2171880"/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UMa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Ma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+ 1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3024360"/>
            <a:ext cx="47242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marL="312480" indent="-312480">
              <a:lnSpc>
                <a:spcPct val="95000"/>
              </a:lnSpc>
              <a:spcBef>
                <a:spcPts val="1500"/>
              </a:spcBef>
              <a:tabLst>
                <a:tab algn="l" pos="0"/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Programm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03000" indent="-1990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#include &lt;limits.h&gt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28440" indent="-192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&amp;R App. B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03000" indent="-1990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lares constants, e.g.,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28440" indent="-192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LONG_M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928440" indent="-192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ONG_M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928440" indent="-192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ONG_M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03000" indent="-1990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435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s platform-specifi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42800" y="1219320"/>
          <a:ext cx="8396280" cy="171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800" y="1219320"/>
                    <a:ext cx="839628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560" y="323640"/>
            <a:ext cx="8305920" cy="10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signed &amp; Signed Numeric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14440" y="1066320"/>
            <a:ext cx="445932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quivale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me encodings for nonnegative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iquen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ry bit pattern represents unique integer val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representable integer has unique bit enco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Invert Mapping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2B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 =  B2U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it pattern for unsigned integ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2B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 =  B2T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it pattern for two’s comp integ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3520" y="1066680"/>
            <a:ext cx="3111480" cy="5168880"/>
            <a:chOff x="533520" y="1066680"/>
            <a:chExt cx="3111480" cy="5168880"/>
          </a:xfrm>
        </p:grpSpPr>
        <p:sp>
          <p:nvSpPr>
            <p:cNvPr id="118" name=""/>
            <p:cNvSpPr/>
            <p:nvPr/>
          </p:nvSpPr>
          <p:spPr>
            <a:xfrm>
              <a:off x="533520" y="106668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6880" y="1066680"/>
              <a:ext cx="97812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2T(</a:t>
              </a:r>
              <a:r>
                <a:rPr b="1" i="1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1066680"/>
              <a:ext cx="97776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2U(</a:t>
              </a:r>
              <a:r>
                <a:rPr b="1" i="1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3520" y="1371240"/>
              <a:ext cx="113004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66880" y="1371240"/>
              <a:ext cx="978120" cy="29232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520" y="167616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66880" y="1676160"/>
              <a:ext cx="978120" cy="291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3520" y="198108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66880" y="1981080"/>
              <a:ext cx="978120" cy="291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3520" y="2285640"/>
              <a:ext cx="113004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0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66880" y="2285640"/>
              <a:ext cx="978120" cy="29232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520" y="259056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66880" y="2590560"/>
              <a:ext cx="978120" cy="291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3520" y="289548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1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66880" y="2895480"/>
              <a:ext cx="978120" cy="291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3520" y="3200040"/>
              <a:ext cx="113004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1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66880" y="3200040"/>
              <a:ext cx="978120" cy="29232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520" y="350496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01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66880" y="3504960"/>
              <a:ext cx="978120" cy="291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6880" y="3809880"/>
              <a:ext cx="97812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6520" y="3809880"/>
              <a:ext cx="97776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66880" y="4114440"/>
              <a:ext cx="97812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6520" y="4114440"/>
              <a:ext cx="97776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6880" y="4419360"/>
              <a:ext cx="97812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76520" y="4419360"/>
              <a:ext cx="97776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66880" y="4724280"/>
              <a:ext cx="97812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6520" y="4724280"/>
              <a:ext cx="97776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66880" y="5028840"/>
              <a:ext cx="97812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76520" y="5028840"/>
              <a:ext cx="97776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66880" y="5333760"/>
              <a:ext cx="97812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76520" y="5333760"/>
              <a:ext cx="97776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5638680"/>
              <a:ext cx="97812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76520" y="5638680"/>
              <a:ext cx="97776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66880" y="5943240"/>
              <a:ext cx="97812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6520" y="5943240"/>
              <a:ext cx="97776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520" y="380988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10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520" y="4114440"/>
              <a:ext cx="113004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10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3520" y="441936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10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520" y="472428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10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3520" y="5028840"/>
              <a:ext cx="113004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1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3520" y="533376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11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520" y="5638680"/>
              <a:ext cx="1130040" cy="29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11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520" y="5943240"/>
              <a:ext cx="113004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11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76520" y="1371240"/>
              <a:ext cx="977760" cy="29232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76520" y="1676160"/>
              <a:ext cx="977760" cy="291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76520" y="1981080"/>
              <a:ext cx="977760" cy="291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76520" y="2285640"/>
              <a:ext cx="977760" cy="29232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76520" y="2590560"/>
              <a:ext cx="977760" cy="291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76520" y="2895480"/>
              <a:ext cx="977760" cy="291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76520" y="3200040"/>
              <a:ext cx="977760" cy="29232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76520" y="3504960"/>
              <a:ext cx="977760" cy="291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9640" y="1072800"/>
              <a:ext cx="3098880" cy="27936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9640" y="1377720"/>
              <a:ext cx="3098880" cy="4851360"/>
            </a:xfrm>
            <a:prstGeom prst="rect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066680" y="1971720"/>
            <a:ext cx="6858000" cy="1191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nt           x =  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short int ux = (unsigned short)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nt           y  = -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short int uy = (unsigned short) 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23640"/>
            <a:ext cx="717048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asting Signed to Unsign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Allows Conversions from Signed to Unsign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sulting Valu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change in bit repres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nnegative values unchang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= 1521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gative values change into (large) positive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y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= 5032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608760" y="1730520"/>
            <a:ext cx="6315120" cy="1582200"/>
            <a:chOff x="608760" y="1730520"/>
            <a:chExt cx="6315120" cy="1582200"/>
          </a:xfrm>
        </p:grpSpPr>
        <p:sp>
          <p:nvSpPr>
            <p:cNvPr id="175" name=""/>
            <p:cNvSpPr/>
            <p:nvPr/>
          </p:nvSpPr>
          <p:spPr>
            <a:xfrm>
              <a:off x="3213000" y="1841400"/>
              <a:ext cx="2336760" cy="10414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2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17920" y="222264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2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60920" y="222264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2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27200" y="2362320"/>
              <a:ext cx="9651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70400" y="2362320"/>
              <a:ext cx="9651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27400" y="2362320"/>
              <a:ext cx="5079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8760" y="1752480"/>
              <a:ext cx="227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wo’s Complemen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99880" y="1730520"/>
              <a:ext cx="122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Unsign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81080" y="2949480"/>
              <a:ext cx="3000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aintain Same Bit Patter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42640" y="2187720"/>
              <a:ext cx="283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10080" y="2187720"/>
              <a:ext cx="39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u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76360" y="249228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62120" y="3429000"/>
            <a:ext cx="4343400" cy="1587600"/>
            <a:chOff x="762120" y="3429000"/>
            <a:chExt cx="4343400" cy="1587600"/>
          </a:xfrm>
        </p:grpSpPr>
        <p:grpSp>
          <p:nvGrpSpPr>
            <p:cNvPr id="188" name=""/>
            <p:cNvGrpSpPr/>
            <p:nvPr/>
          </p:nvGrpSpPr>
          <p:grpSpPr>
            <a:xfrm>
              <a:off x="1752840" y="3809880"/>
              <a:ext cx="2743200" cy="228600"/>
              <a:chOff x="1752840" y="3809880"/>
              <a:chExt cx="2743200" cy="228600"/>
            </a:xfrm>
          </p:grpSpPr>
          <p:sp>
            <p:nvSpPr>
              <p:cNvPr id="189" name=""/>
              <p:cNvSpPr/>
              <p:nvPr/>
            </p:nvSpPr>
            <p:spPr>
              <a:xfrm>
                <a:off x="1752840" y="38098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81440" y="38098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210040" y="38098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810240" y="38098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038840" y="38098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267440" y="38098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438640" y="3809880"/>
                <a:ext cx="1371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1752840" y="4267080"/>
              <a:ext cx="2743200" cy="228600"/>
              <a:chOff x="1752840" y="4267080"/>
              <a:chExt cx="2743200" cy="228600"/>
            </a:xfrm>
          </p:grpSpPr>
          <p:sp>
            <p:nvSpPr>
              <p:cNvPr id="197" name=""/>
              <p:cNvSpPr/>
              <p:nvPr/>
            </p:nvSpPr>
            <p:spPr>
              <a:xfrm>
                <a:off x="1752840" y="42670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-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981440" y="42670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210040" y="42670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810240" y="42670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038840" y="42670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267440" y="42670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438640" y="4267080"/>
                <a:ext cx="13716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1297080" y="373392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u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97080" y="419112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2120" y="4572000"/>
              <a:ext cx="3886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15840" y="41911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02360" y="342900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w</a:t>
              </a: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68880" y="3429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00560" y="46483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+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Times New Roman"/>
                </a:rPr>
                <a:t>w</a:t>
              </a:r>
              <a:r>
                <a:rPr b="0" lang="en-US" sz="1800" spc="-1" strike="noStrike" baseline="30000">
                  <a:solidFill>
                    <a:srgbClr val="000066"/>
                  </a:solidFill>
                  <a:latin typeface="Times New Roman"/>
                </a:rPr>
                <a:t>–1</a:t>
              </a: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 –  –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Times New Roman"/>
                </a:rPr>
                <a:t>w</a:t>
              </a:r>
              <a:r>
                <a:rPr b="0" lang="en-US" sz="1800" spc="-1" strike="noStrike" baseline="30000">
                  <a:solidFill>
                    <a:srgbClr val="000066"/>
                  </a:solidFill>
                  <a:latin typeface="Times New Roman"/>
                </a:rPr>
                <a:t>–1</a:t>
              </a: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  =  2*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Times New Roman"/>
                </a:rPr>
                <a:t>w</a:t>
              </a:r>
              <a:r>
                <a:rPr b="0" lang="en-US" sz="1800" spc="-1" strike="noStrike" baseline="30000">
                  <a:solidFill>
                    <a:srgbClr val="000066"/>
                  </a:solidFill>
                  <a:latin typeface="Times New Roman"/>
                </a:rPr>
                <a:t>–1</a:t>
              </a: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  =  2</a:t>
              </a:r>
              <a:r>
                <a:rPr b="0" i="1" lang="en-US" sz="1800" spc="-1" strike="noStrike" baseline="30000">
                  <a:solidFill>
                    <a:srgbClr val="000066"/>
                  </a:solidFill>
                  <a:latin typeface="Times New Roman"/>
                </a:rPr>
                <a:t>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105520" y="4495680"/>
            <a:ext cx="3352680" cy="1218960"/>
            <a:chOff x="5105520" y="4495680"/>
            <a:chExt cx="3352680" cy="1218960"/>
          </a:xfrm>
        </p:grpSpPr>
        <p:sp>
          <p:nvSpPr>
            <p:cNvPr id="212" name=""/>
            <p:cNvSpPr/>
            <p:nvPr/>
          </p:nvSpPr>
          <p:spPr>
            <a:xfrm>
              <a:off x="5105520" y="4495680"/>
              <a:ext cx="3352680" cy="12189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213" name=""/>
            <p:cNvGraphicFramePr/>
            <p:nvPr/>
          </p:nvGraphicFramePr>
          <p:xfrm>
            <a:off x="5562720" y="4724280"/>
            <a:ext cx="2209680" cy="609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62720" y="4724280"/>
                      <a:ext cx="220968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lation between Signed &amp; Unsign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23:35Z</dcterms:modified>
  <cp:revision>55</cp:revision>
  <dc:subject/>
  <dc:title>Integer Arithmetic</dc:title>
</cp:coreProperties>
</file>