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621C4517-5749-4ECC-8EA2-6CD6F8C3B402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che Memori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0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ic cache memory organiz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ect mapped ca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associative ca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act of caches on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4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Use Middle Bits as Index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56960" y="3156120"/>
            <a:ext cx="4383000" cy="298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High-Order Bit Index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jacent memory lines would map to same cache ent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or use of spatial localit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iddle-Order Bit Index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ecutive memory lines map to different cache lin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n hold C-byte region of address space in cache at one ti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52480" y="152388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1828800"/>
            <a:ext cx="12193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752480" y="2133720"/>
            <a:ext cx="1219320" cy="3045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752480" y="243828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51240" y="106668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-line 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160020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10080" y="1905120"/>
            <a:ext cx="1219320" cy="30456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10080" y="220968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10080" y="251460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10080" y="2819520"/>
            <a:ext cx="121932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10080" y="3124080"/>
            <a:ext cx="12193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410080" y="3429000"/>
            <a:ext cx="12193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3733920"/>
            <a:ext cx="121932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10080" y="4038480"/>
            <a:ext cx="121932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10080" y="4343400"/>
            <a:ext cx="121932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10080" y="4648320"/>
            <a:ext cx="1219320" cy="3045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10080" y="4952880"/>
            <a:ext cx="121932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525780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10080" y="5562720"/>
            <a:ext cx="1219320" cy="30456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0080" y="586728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410080" y="617220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258160" y="99072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igh-Ord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t Index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670880" y="1600200"/>
            <a:ext cx="121896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70880" y="1905120"/>
            <a:ext cx="121896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70880" y="2209680"/>
            <a:ext cx="121896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70880" y="2514600"/>
            <a:ext cx="121896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70880" y="2819520"/>
            <a:ext cx="1218960" cy="30456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70880" y="3124080"/>
            <a:ext cx="12189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70880" y="3429000"/>
            <a:ext cx="121896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70880" y="3733920"/>
            <a:ext cx="1218960" cy="30456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670880" y="4038480"/>
            <a:ext cx="121896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70880" y="4343400"/>
            <a:ext cx="12189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670880" y="4648320"/>
            <a:ext cx="1218960" cy="3045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670880" y="4952880"/>
            <a:ext cx="121896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70880" y="5257800"/>
            <a:ext cx="121896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70880" y="5562720"/>
            <a:ext cx="121896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670880" y="5867280"/>
            <a:ext cx="121896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70880" y="6172200"/>
            <a:ext cx="121896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462440" y="99072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ddle-Ord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t Index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19320" y="1523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19320" y="1828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19320" y="2133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19320" y="2438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76920" y="1600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76920" y="19051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76920" y="22096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76920" y="25146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87692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7692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876920" y="34290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876920" y="37339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76920" y="40384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4343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876920" y="4648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76920" y="4952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5257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76920" y="5562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5867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6920" y="6172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156440" y="1600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156440" y="19051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156440" y="22096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56440" y="25146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15644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15644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156440" y="34290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156440" y="37339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156440" y="40384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156440" y="4343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156440" y="4648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156440" y="4952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156440" y="5257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156440" y="5562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156440" y="5867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156440" y="6172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t Associative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racterized by more than one line per s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78160" y="2209680"/>
            <a:ext cx="4267080" cy="928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06760" y="23144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92560" y="23144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82640" y="2452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21560" y="2209680"/>
            <a:ext cx="144360" cy="92880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28800"/>
              <a:gd name="textAreaBottom" fmla="*/ 9046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24520" y="249660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=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lines per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374920" y="3276720"/>
            <a:ext cx="4267080" cy="9284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679400" y="3519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374920" y="4510080"/>
            <a:ext cx="4267080" cy="928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51160" y="4752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06960" y="420516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435560" y="23144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606760" y="26956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92560" y="26956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435560" y="2695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606760" y="33814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292560" y="33814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35560" y="33814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6760" y="376236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92560" y="376236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35560" y="376236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606760" y="46004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92560" y="46004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35560" y="46004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06760" y="49816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92560" y="49816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435560" y="4981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Set Associative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dentical to direct-mapped cach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500720" y="2111400"/>
            <a:ext cx="4267080" cy="928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9320" y="218772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9320" y="25830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415120" y="21877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415120" y="258300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05200" y="23540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97480" y="3178080"/>
            <a:ext cx="4267080" cy="9288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6080" y="325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726080" y="3649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411880" y="3254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11880" y="36496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01960" y="34207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97480" y="4411800"/>
            <a:ext cx="4267080" cy="9284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726080" y="448776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726080" y="4883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1880" y="448776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1880" y="48830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573720" y="4701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329520" y="4106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36680" y="475776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534680" y="475776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17760" y="50608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74760" y="50608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 0  0 0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1760" y="50608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460680" y="528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-1800" y="52887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647800" y="47721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6880" y="530532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352520" y="530532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44320" y="530532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16200000">
            <a:off x="1693800" y="424152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flipV="1">
            <a:off x="1842840" y="3634920"/>
            <a:ext cx="3240" cy="1063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46440" y="3635280"/>
            <a:ext cx="17906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32200" y="333036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7000" y="218772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07000" y="2568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507000" y="32544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507000" y="363528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507000" y="447372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07000" y="4854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Set Associative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e matching and word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compare the tag in each valid line in the selected se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114640" y="3040200"/>
            <a:ext cx="5816520" cy="925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41656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9572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343240" y="3541680"/>
            <a:ext cx="4572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29040" y="3541680"/>
            <a:ext cx="9144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55292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5936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6904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4820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30540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1184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826240" y="3540240"/>
            <a:ext cx="182880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4212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12128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36844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054240" y="31478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0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57848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98492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19460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7376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3096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73740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25960" y="512928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323960" y="51292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207040" y="543240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064040" y="543240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921040" y="543240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249960" y="56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25640" y="566028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37080" y="514368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96160" y="567684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41800" y="567684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33600" y="567684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95080" y="336996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 (i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2322720" y="2311200"/>
            <a:ext cx="3421800" cy="1229040"/>
            <a:chOff x="2322720" y="2311200"/>
            <a:chExt cx="3421800" cy="1229040"/>
          </a:xfrm>
        </p:grpSpPr>
        <p:sp>
          <p:nvSpPr>
            <p:cNvPr id="720" name=""/>
            <p:cNvSpPr/>
            <p:nvPr/>
          </p:nvSpPr>
          <p:spPr>
            <a:xfrm>
              <a:off x="2322720" y="2325600"/>
              <a:ext cx="53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1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2460600" y="268488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651040" y="2684880"/>
              <a:ext cx="0" cy="855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41840" y="2311200"/>
              <a:ext cx="29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1) The valid bit must be set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0" y="3449520"/>
            <a:ext cx="4032360" cy="1812960"/>
            <a:chOff x="0" y="3449520"/>
            <a:chExt cx="4032360" cy="1812960"/>
          </a:xfrm>
        </p:grpSpPr>
        <p:sp>
          <p:nvSpPr>
            <p:cNvPr id="725" name=""/>
            <p:cNvSpPr/>
            <p:nvPr/>
          </p:nvSpPr>
          <p:spPr>
            <a:xfrm rot="16200000">
              <a:off x="3400560" y="4561920"/>
              <a:ext cx="152280" cy="1111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8800 h 1111320"/>
                <a:gd name="textAreaBottom" fmla="*/ 1082520 h 111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51880" y="4349160"/>
              <a:ext cx="4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 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79760" y="4670280"/>
              <a:ext cx="0" cy="3700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0" y="4195080"/>
              <a:ext cx="3295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2) The tag bits in one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f the cache lines must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atch the tag bits 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h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22840" y="3830400"/>
              <a:ext cx="0" cy="5954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211560" y="3449520"/>
              <a:ext cx="0" cy="976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5238720" y="3858840"/>
            <a:ext cx="3828960" cy="1334880"/>
            <a:chOff x="5238720" y="3858840"/>
            <a:chExt cx="3828960" cy="1334880"/>
          </a:xfrm>
        </p:grpSpPr>
        <p:sp>
          <p:nvSpPr>
            <p:cNvPr id="732" name=""/>
            <p:cNvSpPr/>
            <p:nvPr/>
          </p:nvSpPr>
          <p:spPr>
            <a:xfrm>
              <a:off x="5791320" y="4705200"/>
              <a:ext cx="0" cy="3700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5238720" y="3858840"/>
              <a:ext cx="3828960" cy="1334880"/>
              <a:chOff x="5238720" y="3858840"/>
              <a:chExt cx="3828960" cy="1334880"/>
            </a:xfrm>
          </p:grpSpPr>
          <p:sp>
            <p:nvSpPr>
              <p:cNvPr id="734" name=""/>
              <p:cNvSpPr/>
              <p:nvPr/>
            </p:nvSpPr>
            <p:spPr>
              <a:xfrm rot="16200000">
                <a:off x="5718240" y="4561920"/>
                <a:ext cx="152280" cy="111132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8800 h 1111320"/>
                  <a:gd name="textAreaBottom" fmla="*/ 1082520 h 111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784840" y="4699080"/>
                <a:ext cx="31752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165720" y="4093560"/>
                <a:ext cx="290196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(3) If (1) and (2), then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cache hit, an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block  offset selects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tarting byte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02360" y="3858840"/>
                <a:ext cx="0" cy="839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8" name=""/>
          <p:cNvSpPr/>
          <p:nvPr/>
        </p:nvSpPr>
        <p:spPr>
          <a:xfrm>
            <a:off x="54450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2416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58136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878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19784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770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342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4064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-Level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ons: separat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t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struction cache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or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ified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40480" y="4191120"/>
            <a:ext cx="106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ee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/Mbyt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ine 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600560" y="4191120"/>
            <a:ext cx="777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00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895840" y="4191120"/>
            <a:ext cx="1005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-64 K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 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639040" y="4191120"/>
            <a:ext cx="170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28 MB D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0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1.50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 K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467480" y="4191120"/>
            <a:ext cx="1158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0 G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0.05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28800" y="5791320"/>
            <a:ext cx="641016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715040" y="531180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r, slower, cheap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44760" y="2243160"/>
            <a:ext cx="2197080" cy="17254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741760" y="3670200"/>
            <a:ext cx="93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45240" y="2305080"/>
            <a:ext cx="963360" cy="15717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827440" y="2419200"/>
            <a:ext cx="801720" cy="6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1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733400" y="2471760"/>
            <a:ext cx="650880" cy="4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287960" y="2281320"/>
            <a:ext cx="801720" cy="1633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fi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2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29160" y="2550960"/>
            <a:ext cx="658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52920" y="3683160"/>
            <a:ext cx="6220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3095640"/>
            <a:ext cx="6220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89600" y="3086280"/>
            <a:ext cx="7588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90880" y="2550960"/>
            <a:ext cx="1208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114800" y="4191120"/>
            <a:ext cx="1577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-4MB S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100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84280" y="2703600"/>
            <a:ext cx="443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836800" y="3209760"/>
            <a:ext cx="801720" cy="6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1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467480" y="2792520"/>
            <a:ext cx="1328760" cy="5968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1612800" y="1447920"/>
            <a:ext cx="3187800" cy="309852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or Chi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l Pentium Cache Hierarch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908440" y="1752480"/>
            <a:ext cx="1498320" cy="12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1 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 cycle latenc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6 K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4-way asso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rite-through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679840" y="3352680"/>
            <a:ext cx="1498320" cy="812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1 Instruc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6 KB, 4-wa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65440" y="1981080"/>
            <a:ext cx="583920" cy="12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g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374920" y="2197080"/>
            <a:ext cx="5079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374920" y="2654280"/>
            <a:ext cx="5079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029200" y="1905120"/>
            <a:ext cx="1270080" cy="23367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2 Unifie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28KB--2 M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4-way asso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rite-b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rite alloca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934320" y="1905120"/>
            <a:ext cx="1269720" cy="23367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p to 4G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432320" y="250200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03720" y="3797280"/>
            <a:ext cx="81288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24480" y="303516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che Performance Metric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ss Ra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action of memory references not found in cache (misses/referenc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number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-10% for L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be quite small (e.g., &lt; 1%) for L2, depending on size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t Tim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to deliver a line in the cache to the processor (includes time to determine whether the line is in the cach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number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clock cycle for L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-8 clock cycles for L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ss Penal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onal time required because of a mi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25-100 cycles for main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riting Cache Friendly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eated references to variables are good (temporal locality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ide-1 reference patterns are good (spatial locality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ld cache, 4-byte words, 4-word cache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4360" y="3575160"/>
            <a:ext cx="3960000" cy="22842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umarrayrows(int a[M][N]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j, sum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M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783680" y="3597120"/>
            <a:ext cx="3960000" cy="22842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umarraycols(int a[M][N]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j, sum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M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69680" y="5958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rate =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411520" y="5958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rate =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171880" y="5985000"/>
            <a:ext cx="1536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/4 = 25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751080" y="5985000"/>
            <a:ext cx="674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Memory Mountai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d throughput (read bandwidth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 of bytes read from memory per second (MB/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mountai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d read throughput as a function of spatial and temporal localit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act way to characterize memory system performanc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Mountain Test Fun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19320" y="1434960"/>
            <a:ext cx="8638920" cy="48870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The test function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void test(int elems, int stride) 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i, result = 0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volatile int sink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i = 0; i &lt; elems; i += stride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esult += data[i]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sink = result; /* So compiler doesn't optimize away the loop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Run test(elems, stride) and return read throughput (MB/s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double run(int size, int stride, double Mhz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double cycles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elems = size / sizeof(int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test(elems, stride);                     /* warm up the cache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ycles = fcyc2(test, elems, stride, 0);  /* call test(elems,stride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eturn (size / stride) / (cycles / Mhz); /* convert cycles to MB/s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433872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che Memo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36680" y="102708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che memories are small, fast SRAM-based memories managed automatically in hardware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ld frequently accessed blocks of ma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PU looks first for data in L1, then in L2, then in main memor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ypical bus structur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89760" y="5500800"/>
            <a:ext cx="819360" cy="823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16720" y="5637240"/>
            <a:ext cx="1344600" cy="480960"/>
          </a:xfrm>
          <a:prstGeom prst="leftRightArrow">
            <a:avLst>
              <a:gd name="adj1" fmla="val 50000"/>
              <a:gd name="adj2" fmla="val 55654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92680" y="5665680"/>
            <a:ext cx="81936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79760" y="5637240"/>
            <a:ext cx="1309680" cy="480960"/>
          </a:xfrm>
          <a:prstGeom prst="leftRightArrow">
            <a:avLst>
              <a:gd name="adj1" fmla="val 50000"/>
              <a:gd name="adj2" fmla="val 5420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68680" y="5665680"/>
            <a:ext cx="168732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4160" y="4470480"/>
            <a:ext cx="615960" cy="137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4608360"/>
            <a:ext cx="615960" cy="136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4745160"/>
            <a:ext cx="615960" cy="137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94160" y="4883040"/>
            <a:ext cx="615960" cy="136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4160" y="5019840"/>
            <a:ext cx="615960" cy="137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4470480"/>
            <a:ext cx="399960" cy="342720"/>
          </a:xfrm>
          <a:prstGeom prst="rightArrow">
            <a:avLst>
              <a:gd name="adj1" fmla="val 50000"/>
              <a:gd name="adj2" fmla="val 2917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109400" y="4813200"/>
            <a:ext cx="399960" cy="344520"/>
          </a:xfrm>
          <a:prstGeom prst="rightArrow">
            <a:avLst>
              <a:gd name="adj1" fmla="val 50000"/>
              <a:gd name="adj2" fmla="val 29023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01920" y="5637240"/>
            <a:ext cx="1166760" cy="480960"/>
          </a:xfrm>
          <a:prstGeom prst="leftRightArrow">
            <a:avLst>
              <a:gd name="adj1" fmla="val 50000"/>
              <a:gd name="adj2" fmla="val 48293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665680"/>
            <a:ext cx="887400" cy="5209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2 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91080" y="4334040"/>
            <a:ext cx="479520" cy="9601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81320" y="416520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0760" y="5226120"/>
            <a:ext cx="549360" cy="41112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32240" y="4127400"/>
            <a:ext cx="2676240" cy="21970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1480" y="383652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73880" y="50032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69960" y="5294160"/>
            <a:ext cx="412920" cy="412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00560" y="500328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ystem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070240" y="5294160"/>
            <a:ext cx="618840" cy="412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9280" y="50032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30880" y="5294160"/>
            <a:ext cx="0" cy="412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8680" y="4567320"/>
            <a:ext cx="657000" cy="5205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1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36720" y="5087880"/>
            <a:ext cx="549360" cy="54936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Mountain Main Rout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18960" y="1025640"/>
            <a:ext cx="8524800" cy="53434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mountain.c - Generate the memory mountain.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INBYTES (1 &lt;&lt; 10)  /* Working set size ranges from 1 KB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AXBYTES (1 &lt;&lt; 23)  /* ... up to 8 MB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AXSTRIDE 16        /* Strides range from 1 to 16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AXELEMS MAXBYTES/sizeof(int)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data[MAXELEMS];         /* The array we'll be traversing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size;        /* Working set size (in bytes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stride;      /* Stride (in array elements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double Mhz;      /* Clock frequency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it_data(data, MAXELEMS); /* Initialize each element in data to 1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Mhz = mhz(0);              /* Estimate the clock frequency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size = MAXBYTES; size &gt;= MINBYTES; size &gt;&gt;= 1) 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stride = 1; stride &lt;= MAXSTRIDE; stride++)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rintf("%.1f\t", run(size, stride, Mhz));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rintf("\n")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Memory Mountai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222120" y="1087560"/>
          <a:ext cx="868068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1087560"/>
                    <a:ext cx="868068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idges of Temporal Loc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lice through the memory mountain with stride=1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lluminates read throughputs of different caches and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1219320" y="2371680"/>
          <a:ext cx="651816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71680"/>
                    <a:ext cx="651816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lope of Spatial Loc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lice through memory mountain with size=256KB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ws cache block siz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644400" y="2057400"/>
          <a:ext cx="651852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400" y="2057400"/>
                    <a:ext cx="65185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ajor Cache Effects to Conside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tal cache siz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ploit temporal locality and keep the working set small (e.g., by using blocking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ock siz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ploit spatial localit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scriptio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ltiply N x N matric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(N3) total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ccess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 reads per source elemen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 values summed per destinatio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t may be able to hold in register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270320" y="2751120"/>
            <a:ext cx="4492800" cy="252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j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 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k=0; k&lt;n; k++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k] * b[k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i][j] =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088040" y="2714760"/>
            <a:ext cx="1676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Variable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s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held in regis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6248160" y="3733920"/>
            <a:ext cx="144756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695720" y="3276720"/>
            <a:ext cx="228600" cy="4442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iss Rate Analysis for Matrix Multip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um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 size = 32B (big enough for 4 64-bit word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trix dimension (N) is very lar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pproximate 1/N as 0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is not even big enough to hold multiple row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alysis Method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ok at access pattern of inner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867280" y="52578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1814400" y="4367160"/>
            <a:ext cx="1068480" cy="1307880"/>
            <a:chOff x="1814400" y="4367160"/>
            <a:chExt cx="1068480" cy="1307880"/>
          </a:xfrm>
        </p:grpSpPr>
        <p:sp>
          <p:nvSpPr>
            <p:cNvPr id="819" name=""/>
            <p:cNvSpPr/>
            <p:nvPr/>
          </p:nvSpPr>
          <p:spPr>
            <a:xfrm>
              <a:off x="213984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71600" y="53118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2146320" y="4367160"/>
              <a:ext cx="736560" cy="302040"/>
              <a:chOff x="2146320" y="4367160"/>
              <a:chExt cx="736560" cy="302040"/>
            </a:xfrm>
          </p:grpSpPr>
          <p:sp>
            <p:nvSpPr>
              <p:cNvPr id="822" name=""/>
              <p:cNvSpPr/>
              <p:nvPr/>
            </p:nvSpPr>
            <p:spPr>
              <a:xfrm>
                <a:off x="2146320" y="4495680"/>
                <a:ext cx="7365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271240" y="4367160"/>
                <a:ext cx="280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1814400" y="4737240"/>
              <a:ext cx="221040" cy="736560"/>
              <a:chOff x="1814400" y="4737240"/>
              <a:chExt cx="221040" cy="736560"/>
            </a:xfrm>
          </p:grpSpPr>
          <p:sp>
            <p:nvSpPr>
              <p:cNvPr id="825" name=""/>
              <p:cNvSpPr/>
              <p:nvPr/>
            </p:nvSpPr>
            <p:spPr>
              <a:xfrm>
                <a:off x="1924200" y="4737240"/>
                <a:ext cx="0" cy="7365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814400" y="48243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7" name=""/>
          <p:cNvGrpSpPr/>
          <p:nvPr/>
        </p:nvGrpSpPr>
        <p:grpSpPr>
          <a:xfrm>
            <a:off x="3566520" y="4367160"/>
            <a:ext cx="992880" cy="1307880"/>
            <a:chOff x="3566520" y="4367160"/>
            <a:chExt cx="992880" cy="1307880"/>
          </a:xfrm>
        </p:grpSpPr>
        <p:sp>
          <p:nvSpPr>
            <p:cNvPr id="828" name=""/>
            <p:cNvSpPr/>
            <p:nvPr/>
          </p:nvSpPr>
          <p:spPr>
            <a:xfrm>
              <a:off x="389268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024440" y="53118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3566520" y="4737240"/>
              <a:ext cx="271440" cy="736560"/>
              <a:chOff x="3566520" y="4737240"/>
              <a:chExt cx="271440" cy="736560"/>
            </a:xfrm>
          </p:grpSpPr>
          <p:sp>
            <p:nvSpPr>
              <p:cNvPr id="831" name=""/>
              <p:cNvSpPr/>
              <p:nvPr/>
            </p:nvSpPr>
            <p:spPr>
              <a:xfrm>
                <a:off x="3676680" y="4737240"/>
                <a:ext cx="0" cy="7365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566520" y="4824360"/>
                <a:ext cx="271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822840" y="4367160"/>
              <a:ext cx="736560" cy="302040"/>
              <a:chOff x="3822840" y="4367160"/>
              <a:chExt cx="736560" cy="302040"/>
            </a:xfrm>
          </p:grpSpPr>
          <p:sp>
            <p:nvSpPr>
              <p:cNvPr id="834" name=""/>
              <p:cNvSpPr/>
              <p:nvPr/>
            </p:nvSpPr>
            <p:spPr>
              <a:xfrm>
                <a:off x="3822840" y="4495680"/>
                <a:ext cx="7365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947400" y="4367160"/>
                <a:ext cx="2318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6" name=""/>
          <p:cNvGrpSpPr/>
          <p:nvPr/>
        </p:nvGrpSpPr>
        <p:grpSpPr>
          <a:xfrm>
            <a:off x="5396040" y="4367160"/>
            <a:ext cx="1068120" cy="1106640"/>
            <a:chOff x="5396040" y="4367160"/>
            <a:chExt cx="1068120" cy="1106640"/>
          </a:xfrm>
        </p:grpSpPr>
        <p:sp>
          <p:nvSpPr>
            <p:cNvPr id="837" name=""/>
            <p:cNvSpPr/>
            <p:nvPr/>
          </p:nvSpPr>
          <p:spPr>
            <a:xfrm>
              <a:off x="572148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38" name=""/>
            <p:cNvGrpSpPr/>
            <p:nvPr/>
          </p:nvGrpSpPr>
          <p:grpSpPr>
            <a:xfrm>
              <a:off x="5396040" y="4737240"/>
              <a:ext cx="221040" cy="736560"/>
              <a:chOff x="5396040" y="4737240"/>
              <a:chExt cx="221040" cy="736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505480" y="4737240"/>
                <a:ext cx="0" cy="7365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6040" y="48243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5727600" y="4367160"/>
              <a:ext cx="736560" cy="302040"/>
              <a:chOff x="5727600" y="4367160"/>
              <a:chExt cx="736560" cy="302040"/>
            </a:xfrm>
          </p:grpSpPr>
          <p:sp>
            <p:nvSpPr>
              <p:cNvPr id="842" name=""/>
              <p:cNvSpPr/>
              <p:nvPr/>
            </p:nvSpPr>
            <p:spPr>
              <a:xfrm>
                <a:off x="5727600" y="4495680"/>
                <a:ext cx="7365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853240" y="43671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ayout of C Arrays in Memory (review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arrays allocated in row-major ord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row in contiguous memory loc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ping through columns in one row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m += a[0][i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es successive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block size (B) &gt; 4 bytes, exploit spatial loc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lsory miss rate = 4 bytes / 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ping through rows in one colum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m += a[i][0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es distant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spatial locality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lsory miss rate = 1 (i.e. 100%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ijk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27040" y="1765440"/>
            <a:ext cx="4492800" cy="283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ijk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[i][j]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492880" y="2587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711840" y="2587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854840" y="2587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624640" y="3168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43600" y="3168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986600" y="31687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934320" y="2593800"/>
            <a:ext cx="0" cy="508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499000" y="296244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81840" y="27874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691320" y="22543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013600" y="2898720"/>
            <a:ext cx="5076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834320" y="255888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396760" y="179712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6435000" y="3592440"/>
            <a:ext cx="1042560" cy="1301040"/>
            <a:chOff x="6435000" y="3592440"/>
            <a:chExt cx="1042560" cy="1301040"/>
          </a:xfrm>
        </p:grpSpPr>
        <p:sp>
          <p:nvSpPr>
            <p:cNvPr id="862" name=""/>
            <p:cNvSpPr/>
            <p:nvPr/>
          </p:nvSpPr>
          <p:spPr>
            <a:xfrm>
              <a:off x="6435000" y="42559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991200" y="3592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5214600" y="4255920"/>
            <a:ext cx="116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ow-wi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772240" y="3592440"/>
            <a:ext cx="0" cy="627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7590240" y="3592440"/>
            <a:ext cx="739080" cy="1026720"/>
            <a:chOff x="7590240" y="3592440"/>
            <a:chExt cx="739080" cy="1026720"/>
          </a:xfrm>
        </p:grpSpPr>
        <p:sp>
          <p:nvSpPr>
            <p:cNvPr id="867" name=""/>
            <p:cNvSpPr/>
            <p:nvPr/>
          </p:nvSpPr>
          <p:spPr>
            <a:xfrm>
              <a:off x="7590240" y="42559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8147160" y="3592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290520" y="4964040"/>
            <a:ext cx="507348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jik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99880" y="1779480"/>
            <a:ext cx="4721400" cy="283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jik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[i][j] = s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568840" y="2654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88160" y="2654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31160" y="2654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700600" y="32353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919920" y="32353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139240" y="32353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010280" y="2660760"/>
            <a:ext cx="0" cy="507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575320" y="302904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157800" y="285444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67640" y="23209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089920" y="2965320"/>
            <a:ext cx="5076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910640" y="262584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549040" y="17874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5333760" y="3803760"/>
            <a:ext cx="1168920" cy="1027080"/>
            <a:chOff x="5333760" y="3803760"/>
            <a:chExt cx="1168920" cy="1027080"/>
          </a:xfrm>
        </p:grpSpPr>
        <p:sp>
          <p:nvSpPr>
            <p:cNvPr id="886" name=""/>
            <p:cNvSpPr/>
            <p:nvPr/>
          </p:nvSpPr>
          <p:spPr>
            <a:xfrm>
              <a:off x="5333760" y="44676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891040" y="380376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536520" y="3803760"/>
            <a:ext cx="1042560" cy="1301400"/>
            <a:chOff x="6536520" y="3803760"/>
            <a:chExt cx="1042560" cy="1301400"/>
          </a:xfrm>
        </p:grpSpPr>
        <p:sp>
          <p:nvSpPr>
            <p:cNvPr id="889" name=""/>
            <p:cNvSpPr/>
            <p:nvPr/>
          </p:nvSpPr>
          <p:spPr>
            <a:xfrm>
              <a:off x="6536520" y="446760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7093080" y="380376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7666200" y="3811680"/>
            <a:ext cx="739080" cy="1027080"/>
            <a:chOff x="7666200" y="3811680"/>
            <a:chExt cx="739080" cy="1027080"/>
          </a:xfrm>
        </p:grpSpPr>
        <p:sp>
          <p:nvSpPr>
            <p:cNvPr id="892" name=""/>
            <p:cNvSpPr/>
            <p:nvPr/>
          </p:nvSpPr>
          <p:spPr>
            <a:xfrm>
              <a:off x="7666200" y="44755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8223120" y="381168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44600" y="4869000"/>
            <a:ext cx="481320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kij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52520" y="1770120"/>
            <a:ext cx="4263840" cy="30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kij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a[i][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r * b[k][j]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34024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55956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72812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47200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69132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935840" y="29592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317080" y="257796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734240" y="275256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423040" y="2765520"/>
            <a:ext cx="5076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243400" y="234936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148520" y="234936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566040" y="2523960"/>
            <a:ext cx="583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83800" y="18162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6324480" y="3450960"/>
            <a:ext cx="1168920" cy="1027080"/>
            <a:chOff x="6324480" y="3450960"/>
            <a:chExt cx="1168920" cy="1027080"/>
          </a:xfrm>
        </p:grpSpPr>
        <p:sp>
          <p:nvSpPr>
            <p:cNvPr id="911" name=""/>
            <p:cNvSpPr/>
            <p:nvPr/>
          </p:nvSpPr>
          <p:spPr>
            <a:xfrm>
              <a:off x="6324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6881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7467480" y="3450960"/>
            <a:ext cx="1168920" cy="1027080"/>
            <a:chOff x="7467480" y="3450960"/>
            <a:chExt cx="1168920" cy="1027080"/>
          </a:xfrm>
        </p:grpSpPr>
        <p:sp>
          <p:nvSpPr>
            <p:cNvPr id="914" name=""/>
            <p:cNvSpPr/>
            <p:nvPr/>
          </p:nvSpPr>
          <p:spPr>
            <a:xfrm>
              <a:off x="7467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8024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075640" y="3459240"/>
            <a:ext cx="739080" cy="1026720"/>
            <a:chOff x="5075640" y="3459240"/>
            <a:chExt cx="739080" cy="1026720"/>
          </a:xfrm>
        </p:grpSpPr>
        <p:sp>
          <p:nvSpPr>
            <p:cNvPr id="917" name=""/>
            <p:cNvSpPr/>
            <p:nvPr/>
          </p:nvSpPr>
          <p:spPr>
            <a:xfrm>
              <a:off x="5075640" y="41227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5632560" y="34592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444600" y="4869000"/>
            <a:ext cx="49654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erting an L1 Cache  Between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CPU and Main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10080" y="2590920"/>
            <a:ext cx="1066680" cy="838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0080" y="4038480"/>
            <a:ext cx="1066680" cy="24386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6040" y="1371600"/>
            <a:ext cx="38088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6040" y="1523880"/>
            <a:ext cx="38088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6040" y="1676520"/>
            <a:ext cx="38088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6040" y="1828800"/>
            <a:ext cx="38088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86040" y="41911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 b c 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7600" y="419076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block 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86040" y="49528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 q r 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55000" y="49525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block 2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14640" y="5256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14640" y="44946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86040" y="57150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 x y z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7600" y="571464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block 3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35520" y="6018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6640" y="4755960"/>
            <a:ext cx="300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big slow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as room for many 4-wor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lock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57160" y="2664720"/>
            <a:ext cx="36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small fast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1 cache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as roo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r two  4-word block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28280" y="1371240"/>
            <a:ext cx="382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iny, very fast CPU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as room for four 4-byte word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86040" y="26668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86040" y="30481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43240" y="1981080"/>
            <a:ext cx="0" cy="6098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43240" y="3429000"/>
            <a:ext cx="0" cy="6094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1371600"/>
            <a:ext cx="304560" cy="609480"/>
          </a:xfrm>
          <a:custGeom>
            <a:avLst/>
            <a:gdLst>
              <a:gd name="textAreaLeft" fmla="*/ 0 w 304560"/>
              <a:gd name="textAreaRight" fmla="*/ 10980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259092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038480"/>
            <a:ext cx="304560" cy="2438640"/>
          </a:xfrm>
          <a:custGeom>
            <a:avLst/>
            <a:gdLst>
              <a:gd name="textAreaLeft" fmla="*/ 0 w 304560"/>
              <a:gd name="textAreaRight" fmla="*/ 109800 w 3045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65840" y="166068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280" y="3254040"/>
            <a:ext cx="27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ransfer unit betwe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cache and mai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ory is a 4-word b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16 bytes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760" y="1740960"/>
            <a:ext cx="308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ransfer unit betwe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CPU register file an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cache is a 4-byte block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048120" y="1981080"/>
            <a:ext cx="304560" cy="533520"/>
          </a:xfrm>
          <a:custGeom>
            <a:avLst/>
            <a:gdLst>
              <a:gd name="textAreaLeft" fmla="*/ 360 w 304560"/>
              <a:gd name="textAreaRight" fmla="*/ 110160 w 3045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048120" y="3429000"/>
            <a:ext cx="304560" cy="609480"/>
          </a:xfrm>
          <a:custGeom>
            <a:avLst/>
            <a:gdLst>
              <a:gd name="textAreaLeft" fmla="*/ 360 w 304560"/>
              <a:gd name="textAreaRight" fmla="*/ 11016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13840" y="263484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line 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3840" y="30157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line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ikj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90680" y="1757520"/>
            <a:ext cx="4314600" cy="251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ikj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a[i][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r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34024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55956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72812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47200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69132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935840" y="29592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317080" y="257796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734240" y="275256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423040" y="2765520"/>
            <a:ext cx="50760" cy="50760"/>
          </a:xfrm>
          <a:prstGeom prst="rect">
            <a:avLst/>
          </a:prstGeom>
          <a:solidFill>
            <a:srgbClr val="00006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272200" y="234936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148520" y="234936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566040" y="2523960"/>
            <a:ext cx="583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83800" y="18162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6324480" y="3450960"/>
            <a:ext cx="1168920" cy="1027080"/>
            <a:chOff x="6324480" y="3450960"/>
            <a:chExt cx="1168920" cy="1027080"/>
          </a:xfrm>
        </p:grpSpPr>
        <p:sp>
          <p:nvSpPr>
            <p:cNvPr id="936" name=""/>
            <p:cNvSpPr/>
            <p:nvPr/>
          </p:nvSpPr>
          <p:spPr>
            <a:xfrm>
              <a:off x="6324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6881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7467480" y="3450960"/>
            <a:ext cx="1168920" cy="1027080"/>
            <a:chOff x="7467480" y="3450960"/>
            <a:chExt cx="1168920" cy="1027080"/>
          </a:xfrm>
        </p:grpSpPr>
        <p:sp>
          <p:nvSpPr>
            <p:cNvPr id="939" name=""/>
            <p:cNvSpPr/>
            <p:nvPr/>
          </p:nvSpPr>
          <p:spPr>
            <a:xfrm>
              <a:off x="7467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8024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227920" y="4122720"/>
            <a:ext cx="73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5632560" y="3459240"/>
            <a:ext cx="0" cy="627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00" y="4869000"/>
            <a:ext cx="51940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jki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66640" y="1766880"/>
            <a:ext cx="4353120" cy="251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jki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a[i][k] * r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34024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55956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72812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47200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9132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935840" y="31878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56480" y="227340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692760" y="3006720"/>
            <a:ext cx="5112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475320" y="259092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269680" y="18288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5803920" y="26002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7886880" y="26128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522760" y="227340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5106240" y="3679560"/>
            <a:ext cx="1106640" cy="1301400"/>
            <a:chOff x="5106240" y="3679560"/>
            <a:chExt cx="1106640" cy="1301400"/>
          </a:xfrm>
        </p:grpSpPr>
        <p:sp>
          <p:nvSpPr>
            <p:cNvPr id="960" name=""/>
            <p:cNvSpPr/>
            <p:nvPr/>
          </p:nvSpPr>
          <p:spPr>
            <a:xfrm>
              <a:off x="5106240" y="4343400"/>
              <a:ext cx="1106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 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5662440" y="36795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7468560" y="3679560"/>
            <a:ext cx="1042560" cy="1301400"/>
            <a:chOff x="7468560" y="3679560"/>
            <a:chExt cx="1042560" cy="1301400"/>
          </a:xfrm>
        </p:grpSpPr>
        <p:sp>
          <p:nvSpPr>
            <p:cNvPr id="963" name=""/>
            <p:cNvSpPr/>
            <p:nvPr/>
          </p:nvSpPr>
          <p:spPr>
            <a:xfrm>
              <a:off x="7468560" y="434340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8024760" y="36795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6370920" y="3687840"/>
            <a:ext cx="739080" cy="1026720"/>
            <a:chOff x="6370920" y="3687840"/>
            <a:chExt cx="739080" cy="1026720"/>
          </a:xfrm>
        </p:grpSpPr>
        <p:sp>
          <p:nvSpPr>
            <p:cNvPr id="966" name=""/>
            <p:cNvSpPr/>
            <p:nvPr/>
          </p:nvSpPr>
          <p:spPr>
            <a:xfrm>
              <a:off x="6370920" y="43513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6927840" y="36878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444600" y="4869000"/>
            <a:ext cx="481320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kji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17400" y="1782720"/>
            <a:ext cx="4518000" cy="251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kji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a[i][k] * r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65776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87708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8045280" y="2606760"/>
            <a:ext cx="5972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78952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0884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253360" y="31878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74000" y="227340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010280" y="3006720"/>
            <a:ext cx="50760" cy="50760"/>
          </a:xfrm>
          <a:prstGeom prst="rect">
            <a:avLst/>
          </a:prstGeom>
          <a:solidFill>
            <a:srgbClr val="00006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792840" y="259092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87200" y="18288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6121440" y="26002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8204040" y="26128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840280" y="227340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6599520" y="3573360"/>
            <a:ext cx="739080" cy="1026720"/>
            <a:chOff x="6599520" y="3573360"/>
            <a:chExt cx="739080" cy="1026720"/>
          </a:xfrm>
        </p:grpSpPr>
        <p:sp>
          <p:nvSpPr>
            <p:cNvPr id="985" name=""/>
            <p:cNvSpPr/>
            <p:nvPr/>
          </p:nvSpPr>
          <p:spPr>
            <a:xfrm>
              <a:off x="6599520" y="423684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7156440" y="357336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5411160" y="3565440"/>
            <a:ext cx="1042560" cy="1301040"/>
            <a:chOff x="5411160" y="3565440"/>
            <a:chExt cx="1042560" cy="1301040"/>
          </a:xfrm>
        </p:grpSpPr>
        <p:sp>
          <p:nvSpPr>
            <p:cNvPr id="988" name=""/>
            <p:cNvSpPr/>
            <p:nvPr/>
          </p:nvSpPr>
          <p:spPr>
            <a:xfrm>
              <a:off x="5411160" y="42289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5967360" y="3565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7697160" y="3565440"/>
            <a:ext cx="1042560" cy="1301040"/>
            <a:chOff x="7697160" y="3565440"/>
            <a:chExt cx="1042560" cy="1301040"/>
          </a:xfrm>
        </p:grpSpPr>
        <p:sp>
          <p:nvSpPr>
            <p:cNvPr id="991" name=""/>
            <p:cNvSpPr/>
            <p:nvPr/>
          </p:nvSpPr>
          <p:spPr>
            <a:xfrm>
              <a:off x="7697160" y="42289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8253360" y="3565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444600" y="4869000"/>
            <a:ext cx="49654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 of Matrix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80880" y="2666880"/>
            <a:ext cx="2667240" cy="2785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i=0; i&lt;n; i++) 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um = 0.0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k=0; k&lt;n; k++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um += a[i][k] * b[k]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[i][j] = sum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76560" y="1371600"/>
            <a:ext cx="2457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jk (&amp; jik)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loads, 0 stor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2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200400" y="2666880"/>
            <a:ext cx="2362320" cy="2785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i=0; i&lt;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 = a[i][k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j=0; j&lt;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[i][j] += r * b[k][j];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638680" y="2666880"/>
            <a:ext cx="2438640" cy="2572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 = b[k]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i=0; i&lt;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[i][j] += a[i][k] * r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96748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ij (&amp; ikj)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48208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ki (&amp; kji)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Matrix Multiply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-360" y="1220760"/>
            <a:ext cx="893124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ss rates are helpful but not perfect predic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de scheduling matters, too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835200" y="2158920"/>
          <a:ext cx="8308800" cy="57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2158920"/>
                    <a:ext cx="8308800" cy="57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roving Temporal Locality by Block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: Blocked matrix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lock” (in this context) does not mean “cache block”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ead, it mean a sub-block within the matrix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: N = 8; sub-block size =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031760" y="5072040"/>
            <a:ext cx="4897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000080" y="3084480"/>
            <a:ext cx="80172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928800" y="3060720"/>
            <a:ext cx="215280" cy="838080"/>
            <a:chOff x="928800" y="3060720"/>
            <a:chExt cx="215280" cy="838080"/>
          </a:xfrm>
        </p:grpSpPr>
        <p:sp>
          <p:nvSpPr>
            <p:cNvPr id="1010" name=""/>
            <p:cNvSpPr/>
            <p:nvPr/>
          </p:nvSpPr>
          <p:spPr>
            <a:xfrm>
              <a:off x="928800" y="3073320"/>
              <a:ext cx="0" cy="812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941040" y="306072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941040" y="389880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842840" y="3060720"/>
            <a:ext cx="228960" cy="838080"/>
            <a:chOff x="1842840" y="3060720"/>
            <a:chExt cx="228960" cy="838080"/>
          </a:xfrm>
        </p:grpSpPr>
        <p:sp>
          <p:nvSpPr>
            <p:cNvPr id="1014" name=""/>
            <p:cNvSpPr/>
            <p:nvPr/>
          </p:nvSpPr>
          <p:spPr>
            <a:xfrm flipV="1">
              <a:off x="2071800" y="3060720"/>
              <a:ext cx="0" cy="838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1842840" y="38988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1842840" y="30607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2676240" y="3084480"/>
            <a:ext cx="80172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2604960" y="3060720"/>
            <a:ext cx="215640" cy="838080"/>
            <a:chOff x="2604960" y="3060720"/>
            <a:chExt cx="215640" cy="838080"/>
          </a:xfrm>
        </p:grpSpPr>
        <p:sp>
          <p:nvSpPr>
            <p:cNvPr id="1019" name=""/>
            <p:cNvSpPr/>
            <p:nvPr/>
          </p:nvSpPr>
          <p:spPr>
            <a:xfrm>
              <a:off x="2604960" y="3073320"/>
              <a:ext cx="0" cy="812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17560" y="306072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617560" y="389880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3443040" y="3060720"/>
            <a:ext cx="228960" cy="838080"/>
            <a:chOff x="3443040" y="3060720"/>
            <a:chExt cx="228960" cy="838080"/>
          </a:xfrm>
        </p:grpSpPr>
        <p:sp>
          <p:nvSpPr>
            <p:cNvPr id="1023" name=""/>
            <p:cNvSpPr/>
            <p:nvPr/>
          </p:nvSpPr>
          <p:spPr>
            <a:xfrm flipV="1">
              <a:off x="3672000" y="3060720"/>
              <a:ext cx="0" cy="838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3443040" y="38988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3443040" y="30607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2209680" y="33894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08800" y="3313080"/>
            <a:ext cx="335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=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276800" y="3084480"/>
            <a:ext cx="82044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4205160" y="3060720"/>
            <a:ext cx="215640" cy="838080"/>
            <a:chOff x="4205160" y="3060720"/>
            <a:chExt cx="215640" cy="838080"/>
          </a:xfrm>
        </p:grpSpPr>
        <p:sp>
          <p:nvSpPr>
            <p:cNvPr id="1030" name=""/>
            <p:cNvSpPr/>
            <p:nvPr/>
          </p:nvSpPr>
          <p:spPr>
            <a:xfrm>
              <a:off x="4205160" y="3073320"/>
              <a:ext cx="0" cy="812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217760" y="306072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17760" y="389880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5043240" y="3060720"/>
            <a:ext cx="228960" cy="838080"/>
            <a:chOff x="5043240" y="3060720"/>
            <a:chExt cx="228960" cy="838080"/>
          </a:xfrm>
        </p:grpSpPr>
        <p:sp>
          <p:nvSpPr>
            <p:cNvPr id="1034" name=""/>
            <p:cNvSpPr/>
            <p:nvPr/>
          </p:nvSpPr>
          <p:spPr>
            <a:xfrm flipV="1">
              <a:off x="5272200" y="3060720"/>
              <a:ext cx="0" cy="838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5043240" y="38988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5043240" y="30607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838080" y="4257720"/>
            <a:ext cx="6508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Key idea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Sub-blocks (i.e.,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x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can be treated just like scala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locked Matrix Multiply (bijk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920880" y="1336680"/>
            <a:ext cx="690084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j=0; jj&lt;n; jj+=bsize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jj; j &lt; min(jj+bsize,n)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[i][j] = 0.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k=0; kk&lt;n; kk+=bsize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j=jj; j &lt; min(jj+bsize,n); j++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= 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k=kk; k &lt; min(kk+bsize,n)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523880" y="3124080"/>
            <a:ext cx="230400" cy="1677960"/>
          </a:xfrm>
          <a:custGeom>
            <a:avLst/>
            <a:gdLst/>
            <a:ahLst/>
            <a:rect l="l" t="t" r="r" b="b"/>
            <a:pathLst>
              <a:path w="145" h="1057">
                <a:moveTo>
                  <a:pt x="96" y="0"/>
                </a:moveTo>
                <a:lnTo>
                  <a:pt x="0" y="0"/>
                </a:lnTo>
                <a:lnTo>
                  <a:pt x="0" y="1056"/>
                </a:lnTo>
                <a:lnTo>
                  <a:pt x="144" y="1056"/>
                </a:lnTo>
              </a:path>
            </a:pathLst>
          </a:custGeom>
          <a:noFill/>
          <a:ln cap="rnd" w="255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4146480" y="4610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locked Matrix Multiply Analysi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5485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nermost loop pair multiplies a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1 X bs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liver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a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size X bs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lock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accumulates int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1 X bs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liver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op ove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teps through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ow slivers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&amp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using sam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340240" y="4610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508800" y="4610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253040" y="5191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72000" y="5191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716880" y="51912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749840" y="6029280"/>
            <a:ext cx="2260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lock reused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imes in succes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3465360" y="4705200"/>
            <a:ext cx="636840" cy="982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46720" y="4616280"/>
            <a:ext cx="203040" cy="20340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06480" y="5749920"/>
            <a:ext cx="217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ow sliver access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siz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im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460840" y="4895640"/>
            <a:ext cx="0" cy="1143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872040" y="5648400"/>
            <a:ext cx="2095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pdate successi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lements of sli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 flipV="1">
            <a:off x="6807240" y="4768560"/>
            <a:ext cx="558720" cy="787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267080" y="4794120"/>
            <a:ext cx="0" cy="355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329000" y="48052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629400" y="4794120"/>
            <a:ext cx="0" cy="355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691320" y="48052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4937400" y="4565520"/>
            <a:ext cx="361440" cy="736560"/>
            <a:chOff x="4937400" y="4565520"/>
            <a:chExt cx="361440" cy="736560"/>
          </a:xfrm>
        </p:grpSpPr>
        <p:sp>
          <p:nvSpPr>
            <p:cNvPr id="1061" name=""/>
            <p:cNvSpPr/>
            <p:nvPr/>
          </p:nvSpPr>
          <p:spPr>
            <a:xfrm>
              <a:off x="5105520" y="4565520"/>
              <a:ext cx="0" cy="736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937400" y="465264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6515280" y="4692600"/>
            <a:ext cx="203040" cy="7632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152960" y="4692600"/>
            <a:ext cx="203040" cy="7632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4127400" y="4272120"/>
            <a:ext cx="736560" cy="302040"/>
            <a:chOff x="4127400" y="4272120"/>
            <a:chExt cx="736560" cy="302040"/>
          </a:xfrm>
        </p:grpSpPr>
        <p:sp>
          <p:nvSpPr>
            <p:cNvPr id="1066" name=""/>
            <p:cNvSpPr/>
            <p:nvPr/>
          </p:nvSpPr>
          <p:spPr>
            <a:xfrm>
              <a:off x="4127400" y="4400280"/>
              <a:ext cx="736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251600" y="427212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6489720" y="4272120"/>
            <a:ext cx="736560" cy="302040"/>
            <a:chOff x="6489720" y="4272120"/>
            <a:chExt cx="736560" cy="302040"/>
          </a:xfrm>
        </p:grpSpPr>
        <p:sp>
          <p:nvSpPr>
            <p:cNvPr id="1069" name=""/>
            <p:cNvSpPr/>
            <p:nvPr/>
          </p:nvSpPr>
          <p:spPr>
            <a:xfrm>
              <a:off x="6489720" y="4400280"/>
              <a:ext cx="736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615000" y="427212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5270400" y="4272120"/>
            <a:ext cx="736560" cy="302040"/>
            <a:chOff x="5270400" y="4272120"/>
            <a:chExt cx="736560" cy="302040"/>
          </a:xfrm>
        </p:grpSpPr>
        <p:sp>
          <p:nvSpPr>
            <p:cNvPr id="1072" name=""/>
            <p:cNvSpPr/>
            <p:nvPr/>
          </p:nvSpPr>
          <p:spPr>
            <a:xfrm>
              <a:off x="5270400" y="4400280"/>
              <a:ext cx="736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396040" y="427212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768240" y="2308320"/>
            <a:ext cx="6900840" cy="2557800"/>
            <a:chOff x="768240" y="2308320"/>
            <a:chExt cx="6900840" cy="2557800"/>
          </a:xfrm>
        </p:grpSpPr>
        <p:sp>
          <p:nvSpPr>
            <p:cNvPr id="1075" name=""/>
            <p:cNvSpPr/>
            <p:nvPr/>
          </p:nvSpPr>
          <p:spPr>
            <a:xfrm>
              <a:off x="768240" y="2308320"/>
              <a:ext cx="6900840" cy="25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or (i=0; i&lt;n; i++) {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j=jj; j &lt; min(jj+bsize,n); j++) {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= 0.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k=kk; k &lt; min(kk+bsize,n); k++) {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+= a[i][k] * b[k][j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c[i][j] += sum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47920" y="2648160"/>
              <a:ext cx="230040" cy="1982880"/>
            </a:xfrm>
            <a:custGeom>
              <a:avLst/>
              <a:gdLst/>
              <a:ahLst/>
              <a:rect l="l" t="t" r="r" b="b"/>
              <a:pathLst>
                <a:path w="145" h="1249">
                  <a:moveTo>
                    <a:pt x="96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144" y="1248"/>
                  </a:lnTo>
                </a:path>
              </a:pathLst>
            </a:custGeom>
            <a:noFill/>
            <a:ln cap="rnd"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 flipH="1">
            <a:off x="914400" y="3575160"/>
            <a:ext cx="533520" cy="4316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16000" y="4019400"/>
            <a:ext cx="1159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nermo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oop Pa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Blocked Matrix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ply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locking (bijk and bikj) improves performance by a factor of two over unblocked versions (ijk and jik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atively insensitive to array siz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81" name=""/>
          <p:cNvGraphicFramePr/>
          <p:nvPr/>
        </p:nvGraphicFramePr>
        <p:xfrm>
          <a:off x="533520" y="2505240"/>
          <a:ext cx="781524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05240"/>
                    <a:ext cx="78152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luding Observ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mer can optimize for cache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ata structures are organ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ata are acces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sted loop struct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locking is a general techniq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systems favor “cache friendly code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ting absolute optimum performance is very platform specif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che sizes, line sizes, associativities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get most of the advantage with generic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ep working set reasonably small (temporal localit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small strides (spatial localit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1520" y="228600"/>
            <a:ext cx="8940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Org of a Cache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35480" y="1738440"/>
            <a:ext cx="4267080" cy="1207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30960" y="18144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167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737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65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30960" y="24876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67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737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65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6408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6408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9880" y="1814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9880" y="24876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55800" y="2209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330960" y="595080"/>
            <a:ext cx="152280" cy="1981080"/>
          </a:xfrm>
          <a:custGeom>
            <a:avLst/>
            <a:gdLst>
              <a:gd name="textAreaLeft" fmla="*/ 0 w 152280"/>
              <a:gd name="textAreaRight" fmla="*/ 5508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01"/>
                </a:lnTo>
                <a:cubicBezTo>
                  <a:pt x="10800" y="10401"/>
                  <a:pt x="16200" y="11301"/>
                  <a:pt x="21600" y="11301"/>
                </a:cubicBezTo>
                <a:cubicBezTo>
                  <a:pt x="16200" y="11301"/>
                  <a:pt x="10800" y="12201"/>
                  <a:pt x="10800" y="1310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73960" y="976320"/>
            <a:ext cx="171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 = 2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by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78880" y="1738440"/>
            <a:ext cx="152280" cy="1207800"/>
          </a:xfrm>
          <a:custGeom>
            <a:avLst/>
            <a:gdLst>
              <a:gd name="textAreaLeft" fmla="*/ 0 w 152280"/>
              <a:gd name="textAreaRight" fmla="*/ 55080 w 152280"/>
              <a:gd name="textAreaTop" fmla="*/ 31320 h 1207800"/>
              <a:gd name="textAreaBottom" fmla="*/ 1176480 h 120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07400" y="2009880"/>
            <a:ext cx="94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line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44760" y="1814400"/>
            <a:ext cx="228600" cy="4281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1600 h 4281480"/>
              <a:gd name="textAreaBottom" fmla="*/ 4169880 h 42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10760" y="3777840"/>
            <a:ext cx="11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 = 2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4690800" y="11282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01"/>
                </a:lnTo>
                <a:cubicBezTo>
                  <a:pt x="10800" y="10401"/>
                  <a:pt x="16200" y="11301"/>
                  <a:pt x="21600" y="11301"/>
                </a:cubicBezTo>
                <a:cubicBezTo>
                  <a:pt x="16200" y="11301"/>
                  <a:pt x="10800" y="12201"/>
                  <a:pt x="10800" y="1310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05600" y="914400"/>
            <a:ext cx="102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t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 rot="16200000">
            <a:off x="3783960" y="1299240"/>
            <a:ext cx="190440" cy="533160"/>
          </a:xfrm>
          <a:custGeom>
            <a:avLst/>
            <a:gdLst>
              <a:gd name="textAreaLeft" fmla="*/ 121320 w 190440"/>
              <a:gd name="textAreaRight" fmla="*/ 190440 w 19044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23800" y="9288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valid b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0880" y="6216120"/>
            <a:ext cx="37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size: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 = B x E x S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by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13520" y="2157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32240" y="3124080"/>
            <a:ext cx="4267080" cy="12081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7720" y="32004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135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705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33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7720" y="3873600"/>
            <a:ext cx="6858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35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705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33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6084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6084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6640" y="3200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6640" y="387360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52560" y="3595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10280" y="3543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32240" y="4888080"/>
            <a:ext cx="4267080" cy="1207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27720" y="496404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35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705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33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7720" y="563724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35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05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133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6084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6084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6640" y="49640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6640" y="56372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52760" y="5358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10280" y="53071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64280" y="44956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" y="1143000"/>
            <a:ext cx="2151360" cy="22885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 is an arra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 set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set contai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ne or more line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line holds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ock of data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ing 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26200" y="133200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24200" y="133200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07280" y="171144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64280" y="171144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1280" y="1711440"/>
            <a:ext cx="1143000" cy="2318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0" y="13017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24640" y="1910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5880" y="191052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26560" y="2416320"/>
            <a:ext cx="72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&lt;tag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37200" y="2416320"/>
            <a:ext cx="129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&lt;set index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43560" y="241632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&lt;block offset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540180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54480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76412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43160" y="105372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Address A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273672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912080" y="2749680"/>
            <a:ext cx="0" cy="5778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8480" y="2001960"/>
            <a:ext cx="3087720" cy="8744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4040" y="2057400"/>
            <a:ext cx="4953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9400" y="2057400"/>
            <a:ext cx="3315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62120" y="205740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32000" y="205740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4040" y="2544840"/>
            <a:ext cx="4953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89400" y="2544840"/>
            <a:ext cx="3315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62120" y="254484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2000" y="254484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63720" y="205740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63720" y="254484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60520" y="2057400"/>
            <a:ext cx="6602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60520" y="2544840"/>
            <a:ext cx="6602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920" y="23104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84400" y="2305080"/>
            <a:ext cx="4968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7320" y="3022560"/>
            <a:ext cx="3089520" cy="874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0800" y="306072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87600" y="30607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60680" y="306072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28760" y="306072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0800" y="354816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87600" y="35481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60680" y="354816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28760" y="354816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61920" y="30607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61920" y="35481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7280" y="306072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57280" y="3548160"/>
            <a:ext cx="662040" cy="2206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040" y="331524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82960" y="3308400"/>
            <a:ext cx="495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5240" y="4281480"/>
            <a:ext cx="3089520" cy="874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0800" y="433692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87600" y="43369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60680" y="433692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28760" y="433692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0800" y="482436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87600" y="48243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60680" y="482436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28760" y="482436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61920" y="43369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61920" y="48243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57280" y="433692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57280" y="482436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-76680" y="4590000"/>
            <a:ext cx="82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-1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82960" y="4584600"/>
            <a:ext cx="495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0760" y="3997440"/>
            <a:ext cx="497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79800" y="3335400"/>
            <a:ext cx="0" cy="220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060720" y="3314880"/>
            <a:ext cx="4851360" cy="12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885840" y="3022560"/>
            <a:ext cx="28321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10160" y="3643200"/>
            <a:ext cx="4254480" cy="20142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word at address A is in the cache i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ag bits in one of the &lt;valid&gt; lines i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t &lt;set index&gt; match &lt;tag&gt;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word contents begin at offse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&lt;block offset&gt; bytes from the beginning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f the block.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rect-Mapped Cach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mplest kind of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racterized by exactly one line per se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38280" y="2805120"/>
            <a:ext cx="42674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3352680"/>
            <a:ext cx="42674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38280" y="4191120"/>
            <a:ext cx="42674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66880" y="288144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4290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42670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52680" y="288144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2680" y="34290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42670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5560" y="380952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43120" y="28634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39880" y="34286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87600" y="4266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81680" y="2805120"/>
            <a:ext cx="152640" cy="471600"/>
          </a:xfrm>
          <a:custGeom>
            <a:avLst/>
            <a:gdLst>
              <a:gd name="textAreaLeft" fmla="*/ 0 w 152640"/>
              <a:gd name="textAreaRight" fmla="*/ 55080 w 152640"/>
              <a:gd name="textAreaTop" fmla="*/ 12240 h 471600"/>
              <a:gd name="textAreaBottom" fmla="*/ 459360 h 4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85000" y="286344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=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lines per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288144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19720" y="3414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19720" y="425304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Direct-Mapped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the set index bits to determine the set of interes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65600" y="2768760"/>
            <a:ext cx="411480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65600" y="3316320"/>
            <a:ext cx="4114800" cy="4572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65600" y="4154400"/>
            <a:ext cx="411480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18240" y="28447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18240" y="339264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18240" y="42307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04040" y="284472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04040" y="339264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04040" y="423072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96560" y="37731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70440" y="28270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7200" y="3392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4230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8520" y="407196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96520" y="407196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79600" y="43750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6600" y="43750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 0  0 0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3600" y="43750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2520" y="460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1800" y="46029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09640" y="40863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8720" y="461952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14360" y="461952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06160" y="461952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1655640" y="355572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1804680" y="3558960"/>
            <a:ext cx="3240" cy="453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08280" y="3559320"/>
            <a:ext cx="2162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8600" y="3285720"/>
            <a:ext cx="13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58120" y="2857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58120" y="33908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58120" y="42292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Direct-Mapped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e matching and word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 match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Find a valid line in the selected set with a matching ta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ord sele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Then extract the wo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55880" y="3774960"/>
            <a:ext cx="584496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25780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3696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84480" y="3851280"/>
            <a:ext cx="4572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02120" y="532908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00120" y="53290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83200" y="563256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40200" y="563256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97200" y="563256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26120" y="5860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01800" y="586044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13240" y="534348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72320" y="587700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17960" y="587700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09760" y="587700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0920" y="381132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 (i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114880" y="4144680"/>
            <a:ext cx="3671280" cy="1655640"/>
            <a:chOff x="5114880" y="4144680"/>
            <a:chExt cx="3671280" cy="1655640"/>
          </a:xfrm>
        </p:grpSpPr>
        <p:sp>
          <p:nvSpPr>
            <p:cNvPr id="342" name=""/>
            <p:cNvSpPr/>
            <p:nvPr/>
          </p:nvSpPr>
          <p:spPr>
            <a:xfrm flipV="1">
              <a:off x="5667480" y="4144680"/>
              <a:ext cx="228600" cy="1066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5594400" y="4762080"/>
              <a:ext cx="152280" cy="1111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8800 h 1111320"/>
                <a:gd name="textAreaBottom" fmla="*/ 1082520 h 111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60280" y="4489560"/>
              <a:ext cx="22258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3) If (1) and (2), then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ache hit,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nd block offset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lect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tarting byte.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135520" y="3058920"/>
            <a:ext cx="3350520" cy="790920"/>
            <a:chOff x="2135520" y="3058920"/>
            <a:chExt cx="3350520" cy="790920"/>
          </a:xfrm>
        </p:grpSpPr>
        <p:sp>
          <p:nvSpPr>
            <p:cNvPr id="346" name=""/>
            <p:cNvSpPr/>
            <p:nvPr/>
          </p:nvSpPr>
          <p:spPr>
            <a:xfrm flipV="1">
              <a:off x="2400480" y="339264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35520" y="3058920"/>
              <a:ext cx="53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1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9880" y="3061800"/>
              <a:ext cx="284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1) The valid bit must be s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40560" y="4092480"/>
            <a:ext cx="3567960" cy="1301400"/>
            <a:chOff x="340560" y="4092480"/>
            <a:chExt cx="3567960" cy="1301400"/>
          </a:xfrm>
        </p:grpSpPr>
        <p:sp>
          <p:nvSpPr>
            <p:cNvPr id="350" name=""/>
            <p:cNvSpPr/>
            <p:nvPr/>
          </p:nvSpPr>
          <p:spPr>
            <a:xfrm rot="16200000">
              <a:off x="3276720" y="4762080"/>
              <a:ext cx="152280" cy="1111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8800 h 1111320"/>
                <a:gd name="textAreaBottom" fmla="*/ 1082520 h 111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102480" y="4549320"/>
              <a:ext cx="4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 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55920" y="4870440"/>
              <a:ext cx="0" cy="369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0560" y="4393440"/>
              <a:ext cx="2846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2) The tag bits in the cach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line must match th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ag bits in th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55920" y="4092480"/>
              <a:ext cx="0" cy="4971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2870280" y="3851280"/>
            <a:ext cx="9144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9416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0060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1028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8944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4664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308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67480" y="3849840"/>
            <a:ext cx="182880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3696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9416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0060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1028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8944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4664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5308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rect-Mapped Cache Simu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87760" y="1117440"/>
            <a:ext cx="6161040" cy="14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=16 byte addresses, B=2 bytes/block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=4 sets, E=1 entry/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 trace (reads)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0 [0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1 [0001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 13 [1101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 8 [1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 0 [0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60200" y="1577880"/>
            <a:ext cx="2046600" cy="549360"/>
            <a:chOff x="160200" y="1577880"/>
            <a:chExt cx="2046600" cy="549360"/>
          </a:xfrm>
        </p:grpSpPr>
        <p:sp>
          <p:nvSpPr>
            <p:cNvPr id="374" name=""/>
            <p:cNvSpPr/>
            <p:nvPr/>
          </p:nvSpPr>
          <p:spPr>
            <a:xfrm>
              <a:off x="16020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360" y="1577880"/>
              <a:ext cx="506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=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6240" y="1577880"/>
              <a:ext cx="556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s=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38360" y="157788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=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600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x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3180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001880" y="2936880"/>
            <a:ext cx="3065400" cy="1552680"/>
            <a:chOff x="1001880" y="2936880"/>
            <a:chExt cx="3065400" cy="1552680"/>
          </a:xfrm>
        </p:grpSpPr>
        <p:sp>
          <p:nvSpPr>
            <p:cNvPr id="381" name=""/>
            <p:cNvSpPr/>
            <p:nvPr/>
          </p:nvSpPr>
          <p:spPr>
            <a:xfrm>
              <a:off x="1568160" y="35877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25360" y="35877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58880" y="35877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86960" y="324180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68200" y="324180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30320" y="324180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68160" y="38163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25360" y="38163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58880" y="38163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68160" y="40449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25360" y="40449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58880" y="40449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68160" y="42735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25360" y="42735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58880" y="42735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02560" y="2936880"/>
              <a:ext cx="1764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 [0000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01880" y="385128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659480" y="2936880"/>
            <a:ext cx="2811600" cy="1552680"/>
            <a:chOff x="4659480" y="2936880"/>
            <a:chExt cx="2811600" cy="1552680"/>
          </a:xfrm>
        </p:grpSpPr>
        <p:sp>
          <p:nvSpPr>
            <p:cNvPr id="399" name=""/>
            <p:cNvSpPr/>
            <p:nvPr/>
          </p:nvSpPr>
          <p:spPr>
            <a:xfrm>
              <a:off x="5149800" y="35877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07000" y="35877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40520" y="35877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69320" y="324180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49840" y="324180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11960" y="324180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49800" y="38163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607000" y="38163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40520" y="38163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49800" y="40449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07000" y="40449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40520" y="40449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3] m[12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149800" y="42735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07000" y="42735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40520" y="42735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79640" y="2936880"/>
              <a:ext cx="1891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3 [1101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59480" y="385128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077840" y="5070600"/>
            <a:ext cx="2837520" cy="1551960"/>
            <a:chOff x="1077840" y="5070600"/>
            <a:chExt cx="2837520" cy="1551960"/>
          </a:xfrm>
        </p:grpSpPr>
        <p:sp>
          <p:nvSpPr>
            <p:cNvPr id="417" name=""/>
            <p:cNvSpPr/>
            <p:nvPr/>
          </p:nvSpPr>
          <p:spPr>
            <a:xfrm>
              <a:off x="1568520" y="57211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25720" y="57211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559240" y="57211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9] m[8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87320" y="537516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68560" y="537516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30680" y="537516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68520" y="59497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5720" y="59497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59240" y="59497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68520" y="61783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25720" y="61783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59240" y="61783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68520" y="64069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25720" y="64069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59240" y="64069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50640" y="5070600"/>
              <a:ext cx="1764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 [1000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7840" y="598464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4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659480" y="5070600"/>
            <a:ext cx="2836800" cy="1551960"/>
            <a:chOff x="4659480" y="5070600"/>
            <a:chExt cx="2836800" cy="1551960"/>
          </a:xfrm>
        </p:grpSpPr>
        <p:sp>
          <p:nvSpPr>
            <p:cNvPr id="435" name=""/>
            <p:cNvSpPr/>
            <p:nvPr/>
          </p:nvSpPr>
          <p:spPr>
            <a:xfrm>
              <a:off x="5149440" y="57211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06640" y="57211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40160" y="57211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68960" y="537516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49480" y="537516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600" y="537516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49440" y="59497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06640" y="59497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40160" y="59497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49440" y="61783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06640" y="61783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40160" y="61783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3] m[12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49440" y="64069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606640" y="64069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40160" y="64069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31560" y="5070600"/>
              <a:ext cx="1764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 [0000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59480" y="598464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5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562040" y="3581280"/>
            <a:ext cx="2121120" cy="901440"/>
            <a:chOff x="1562040" y="3581280"/>
            <a:chExt cx="2121120" cy="901440"/>
          </a:xfrm>
        </p:grpSpPr>
        <p:sp>
          <p:nvSpPr>
            <p:cNvPr id="453" name=""/>
            <p:cNvSpPr/>
            <p:nvPr/>
          </p:nvSpPr>
          <p:spPr>
            <a:xfrm>
              <a:off x="1562040" y="35812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19240" y="35812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52760" y="35812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62040" y="38098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19240" y="38098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52760" y="38098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562040" y="40384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19240" y="40384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52760" y="40384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62040" y="42670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19240" y="42670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52760" y="42670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143680" y="3581280"/>
            <a:ext cx="2120400" cy="901440"/>
            <a:chOff x="5143680" y="3581280"/>
            <a:chExt cx="2120400" cy="901440"/>
          </a:xfrm>
        </p:grpSpPr>
        <p:sp>
          <p:nvSpPr>
            <p:cNvPr id="466" name=""/>
            <p:cNvSpPr/>
            <p:nvPr/>
          </p:nvSpPr>
          <p:spPr>
            <a:xfrm>
              <a:off x="5143680" y="35812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00520" y="35812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34040" y="35812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43680" y="38098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00520" y="38098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34040" y="38098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143680" y="40384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00520" y="40384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34040" y="40384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43680" y="42670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600520" y="42670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134040" y="42670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562040" y="5715000"/>
            <a:ext cx="2121120" cy="901440"/>
            <a:chOff x="1562040" y="5715000"/>
            <a:chExt cx="2121120" cy="901440"/>
          </a:xfrm>
        </p:grpSpPr>
        <p:sp>
          <p:nvSpPr>
            <p:cNvPr id="479" name=""/>
            <p:cNvSpPr/>
            <p:nvPr/>
          </p:nvSpPr>
          <p:spPr>
            <a:xfrm>
              <a:off x="1562040" y="57150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019240" y="57150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52760" y="57150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62040" y="59436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19240" y="59436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52760" y="59436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62040" y="61722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19240" y="61722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52760" y="61722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62040" y="64008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9240" y="64008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52760" y="64008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143680" y="5715000"/>
            <a:ext cx="2120400" cy="901440"/>
            <a:chOff x="5143680" y="5715000"/>
            <a:chExt cx="2120400" cy="901440"/>
          </a:xfrm>
        </p:grpSpPr>
        <p:sp>
          <p:nvSpPr>
            <p:cNvPr id="492" name=""/>
            <p:cNvSpPr/>
            <p:nvPr/>
          </p:nvSpPr>
          <p:spPr>
            <a:xfrm>
              <a:off x="5143680" y="57150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00520" y="57150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134040" y="57150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43680" y="59436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00520" y="59436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34040" y="59436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143680" y="61722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00520" y="61722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134040" y="61722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43680" y="64008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00520" y="64008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34040" y="64008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714680" y="3537000"/>
            <a:ext cx="1650240" cy="312840"/>
            <a:chOff x="1714680" y="3537000"/>
            <a:chExt cx="1650240" cy="312840"/>
          </a:xfrm>
        </p:grpSpPr>
        <p:sp>
          <p:nvSpPr>
            <p:cNvPr id="505" name=""/>
            <p:cNvSpPr/>
            <p:nvPr/>
          </p:nvSpPr>
          <p:spPr>
            <a:xfrm>
              <a:off x="2193840" y="3537000"/>
              <a:ext cx="204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76960" y="3537000"/>
              <a:ext cx="687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M[0-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14680" y="3537000"/>
              <a:ext cx="204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714680" y="5661000"/>
            <a:ext cx="1766160" cy="784080"/>
            <a:chOff x="1714680" y="5661000"/>
            <a:chExt cx="1766160" cy="784080"/>
          </a:xfrm>
        </p:grpSpPr>
        <p:grpSp>
          <p:nvGrpSpPr>
            <p:cNvPr id="509" name=""/>
            <p:cNvGrpSpPr/>
            <p:nvPr/>
          </p:nvGrpSpPr>
          <p:grpSpPr>
            <a:xfrm>
              <a:off x="1714680" y="6132240"/>
              <a:ext cx="1766160" cy="312840"/>
              <a:chOff x="1714680" y="6132240"/>
              <a:chExt cx="1766160" cy="312840"/>
            </a:xfrm>
          </p:grpSpPr>
          <p:sp>
            <p:nvSpPr>
              <p:cNvPr id="510" name=""/>
              <p:cNvSpPr/>
              <p:nvPr/>
            </p:nvSpPr>
            <p:spPr>
              <a:xfrm>
                <a:off x="2193840" y="613224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567160" y="6132240"/>
                <a:ext cx="9136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12-1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714680" y="613224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1714680" y="5661000"/>
              <a:ext cx="1652040" cy="312840"/>
              <a:chOff x="1714680" y="5661000"/>
              <a:chExt cx="1652040" cy="312840"/>
            </a:xfrm>
          </p:grpSpPr>
          <p:sp>
            <p:nvSpPr>
              <p:cNvPr id="514" name=""/>
              <p:cNvSpPr/>
              <p:nvPr/>
            </p:nvSpPr>
            <p:spPr>
              <a:xfrm>
                <a:off x="2193840" y="5661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678760" y="5661000"/>
                <a:ext cx="68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8-9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714680" y="5661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7" name=""/>
          <p:cNvGrpSpPr/>
          <p:nvPr/>
        </p:nvGrpSpPr>
        <p:grpSpPr>
          <a:xfrm>
            <a:off x="5294160" y="5672160"/>
            <a:ext cx="1766160" cy="775080"/>
            <a:chOff x="5294160" y="5672160"/>
            <a:chExt cx="1766160" cy="775080"/>
          </a:xfrm>
        </p:grpSpPr>
        <p:grpSp>
          <p:nvGrpSpPr>
            <p:cNvPr id="518" name=""/>
            <p:cNvGrpSpPr/>
            <p:nvPr/>
          </p:nvGrpSpPr>
          <p:grpSpPr>
            <a:xfrm>
              <a:off x="5294160" y="6134400"/>
              <a:ext cx="1766160" cy="312840"/>
              <a:chOff x="5294160" y="6134400"/>
              <a:chExt cx="1766160" cy="312840"/>
            </a:xfrm>
          </p:grpSpPr>
          <p:sp>
            <p:nvSpPr>
              <p:cNvPr id="519" name=""/>
              <p:cNvSpPr/>
              <p:nvPr/>
            </p:nvSpPr>
            <p:spPr>
              <a:xfrm>
                <a:off x="5773320" y="61344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46640" y="6134400"/>
                <a:ext cx="9136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12-1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294160" y="61344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5294160" y="5672160"/>
              <a:ext cx="1653480" cy="312840"/>
              <a:chOff x="5294160" y="5672160"/>
              <a:chExt cx="1653480" cy="312840"/>
            </a:xfrm>
          </p:grpSpPr>
          <p:sp>
            <p:nvSpPr>
              <p:cNvPr id="523" name=""/>
              <p:cNvSpPr/>
              <p:nvPr/>
            </p:nvSpPr>
            <p:spPr>
              <a:xfrm>
                <a:off x="5773320" y="56721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59680" y="5672160"/>
                <a:ext cx="68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0-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294160" y="56721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5289480" y="3533760"/>
            <a:ext cx="1766160" cy="775080"/>
            <a:chOff x="5289480" y="3533760"/>
            <a:chExt cx="1766160" cy="775080"/>
          </a:xfrm>
        </p:grpSpPr>
        <p:grpSp>
          <p:nvGrpSpPr>
            <p:cNvPr id="527" name=""/>
            <p:cNvGrpSpPr/>
            <p:nvPr/>
          </p:nvGrpSpPr>
          <p:grpSpPr>
            <a:xfrm>
              <a:off x="5289480" y="3996000"/>
              <a:ext cx="1766160" cy="312840"/>
              <a:chOff x="5289480" y="3996000"/>
              <a:chExt cx="1766160" cy="312840"/>
            </a:xfrm>
          </p:grpSpPr>
          <p:sp>
            <p:nvSpPr>
              <p:cNvPr id="528" name=""/>
              <p:cNvSpPr/>
              <p:nvPr/>
            </p:nvSpPr>
            <p:spPr>
              <a:xfrm>
                <a:off x="5768640" y="3996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41960" y="3996000"/>
                <a:ext cx="9136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12-1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289480" y="3996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5289480" y="3533760"/>
              <a:ext cx="1653480" cy="312840"/>
              <a:chOff x="5289480" y="3533760"/>
              <a:chExt cx="1653480" cy="312840"/>
            </a:xfrm>
          </p:grpSpPr>
          <p:sp>
            <p:nvSpPr>
              <p:cNvPr id="532" name=""/>
              <p:cNvSpPr/>
              <p:nvPr/>
            </p:nvSpPr>
            <p:spPr>
              <a:xfrm>
                <a:off x="5768640" y="35337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255000" y="3533760"/>
                <a:ext cx="68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0-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289480" y="35337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E. Bryant and David R. O'Hallaron</dc:creator>
  <dc:description/>
  <dc:language>en-US</dc:language>
  <cp:lastModifiedBy>droh</cp:lastModifiedBy>
  <cp:lastPrinted>2001-10-04T12:22:59Z</cp:lastPrinted>
  <dcterms:modified xsi:type="dcterms:W3CDTF">2002-10-28T20:32:33Z</dcterms:modified>
  <cp:revision>278</cp:revision>
  <dc:subject/>
  <dc:title>Cache Memories</dc:title>
</cp:coreProperties>
</file>