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35FEBAC8-7B31-4886-8EAB-F7B49131BA6A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V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d Data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8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4267080"/>
            <a:ext cx="89917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ation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p_dig pgh[4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 equivalent to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pgh[4]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g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enotes  array of 4 elem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55840" indent="-2077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ed contiguous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element is an array of 5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55840" indent="-2077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ed contiguous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w-Major” ordering of all elements guarante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81080" y="838080"/>
            <a:ext cx="492444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PCOUNT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pgh[PCOUNT]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{1, 5, 2, 0, 6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1, 3 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1, 7 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2, 1 }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09120" y="2819520"/>
            <a:ext cx="7916400" cy="1282680"/>
            <a:chOff x="609120" y="2819520"/>
            <a:chExt cx="7916400" cy="1282680"/>
          </a:xfrm>
        </p:grpSpPr>
        <p:sp>
          <p:nvSpPr>
            <p:cNvPr id="340" name=""/>
            <p:cNvSpPr/>
            <p:nvPr/>
          </p:nvSpPr>
          <p:spPr>
            <a:xfrm>
              <a:off x="609120" y="289548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zip_di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gh[4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905840" y="2819520"/>
              <a:ext cx="6619680" cy="1282680"/>
              <a:chOff x="1905840" y="2819520"/>
              <a:chExt cx="6619680" cy="128268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2133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0584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3657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2972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518148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8520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705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40908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8229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93332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057040" y="2819520"/>
                <a:ext cx="6096240" cy="761760"/>
                <a:chOff x="2057040" y="2819520"/>
                <a:chExt cx="6096240" cy="76176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2057040" y="2819520"/>
                  <a:ext cx="1524240" cy="761760"/>
                  <a:chOff x="2057040" y="2819520"/>
                  <a:chExt cx="1524240" cy="7617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2057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361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666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971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276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6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3581280" y="2819520"/>
                  <a:ext cx="1523520" cy="761760"/>
                  <a:chOff x="3581280" y="2819520"/>
                  <a:chExt cx="1523520" cy="76176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35812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8858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419076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44953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8002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5105160" y="2819520"/>
                  <a:ext cx="1523520" cy="761760"/>
                  <a:chOff x="5105160" y="2819520"/>
                  <a:chExt cx="1523520" cy="7617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510516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4097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71464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01920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3241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629040" y="2819520"/>
                  <a:ext cx="1524240" cy="761760"/>
                  <a:chOff x="6629040" y="2819520"/>
                  <a:chExt cx="1524240" cy="7617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6629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933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238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543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848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"/>
                <p:cNvSpPr/>
                <p:nvPr/>
              </p:nvSpPr>
              <p:spPr>
                <a:xfrm>
                  <a:off x="2057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58128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10516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629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692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4434120" cy="336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la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[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ows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lum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 require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n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w-Major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724280" y="990720"/>
            <a:ext cx="4038120" cy="2209680"/>
            <a:chOff x="4724280" y="990720"/>
            <a:chExt cx="4038120" cy="2209680"/>
          </a:xfrm>
        </p:grpSpPr>
        <p:sp>
          <p:nvSpPr>
            <p:cNvPr id="384" name=""/>
            <p:cNvSpPr/>
            <p:nvPr/>
          </p:nvSpPr>
          <p:spPr>
            <a:xfrm>
              <a:off x="4876560" y="114300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67480" y="114300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[C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76560" y="266688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71840" y="114300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248160" y="266688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67480" y="266688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[C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3376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9608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2428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860976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188960" y="4343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57200" y="5029200"/>
            <a:ext cx="8229240" cy="990720"/>
            <a:chOff x="457200" y="5029200"/>
            <a:chExt cx="8229240" cy="990720"/>
          </a:xfrm>
        </p:grpSpPr>
        <p:grpSp>
          <p:nvGrpSpPr>
            <p:cNvPr id="396" name=""/>
            <p:cNvGrpSpPr/>
            <p:nvPr/>
          </p:nvGrpSpPr>
          <p:grpSpPr>
            <a:xfrm>
              <a:off x="457200" y="5029200"/>
              <a:ext cx="2133360" cy="990360"/>
              <a:chOff x="457200" y="5029200"/>
              <a:chExt cx="2133360" cy="990360"/>
            </a:xfrm>
          </p:grpSpPr>
          <p:sp>
            <p:nvSpPr>
              <p:cNvPr id="397" name=""/>
              <p:cNvSpPr/>
              <p:nvPr/>
            </p:nvSpPr>
            <p:spPr>
              <a:xfrm>
                <a:off x="45720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8108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5720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2590560" y="5029200"/>
              <a:ext cx="2133360" cy="990360"/>
              <a:chOff x="2590560" y="5029200"/>
              <a:chExt cx="2133360" cy="990360"/>
            </a:xfrm>
          </p:grpSpPr>
          <p:sp>
            <p:nvSpPr>
              <p:cNvPr id="401" name=""/>
              <p:cNvSpPr/>
              <p:nvPr/>
            </p:nvSpPr>
            <p:spPr>
              <a:xfrm>
                <a:off x="259056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1444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59056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553080" y="5029200"/>
              <a:ext cx="2133360" cy="990360"/>
              <a:chOff x="6553080" y="5029200"/>
              <a:chExt cx="2133360" cy="99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655308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07696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55308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724280" y="5029200"/>
              <a:ext cx="182880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  • 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57200" y="60958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686800" y="60958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05320" y="6095880"/>
            <a:ext cx="14475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*R*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791320" y="42670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933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Row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5043600" cy="145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w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i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rray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element of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+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657600" y="3733920"/>
            <a:ext cx="2133720" cy="1523520"/>
            <a:chOff x="3657600" y="3733920"/>
            <a:chExt cx="2133720" cy="1523520"/>
          </a:xfrm>
        </p:grpSpPr>
        <p:grpSp>
          <p:nvGrpSpPr>
            <p:cNvPr id="417" name=""/>
            <p:cNvGrpSpPr/>
            <p:nvPr/>
          </p:nvGrpSpPr>
          <p:grpSpPr>
            <a:xfrm>
              <a:off x="3657600" y="4267080"/>
              <a:ext cx="2133360" cy="990360"/>
              <a:chOff x="3657600" y="4267080"/>
              <a:chExt cx="2133360" cy="990360"/>
            </a:xfrm>
          </p:grpSpPr>
          <p:sp>
            <p:nvSpPr>
              <p:cNvPr id="418" name=""/>
              <p:cNvSpPr/>
              <p:nvPr/>
            </p:nvSpPr>
            <p:spPr>
              <a:xfrm>
                <a:off x="36576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18148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5760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365760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5760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913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396252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43400" y="3733920"/>
              <a:ext cx="8384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05720" y="3733920"/>
            <a:ext cx="2133360" cy="1523520"/>
            <a:chOff x="6705720" y="3733920"/>
            <a:chExt cx="2133360" cy="1523520"/>
          </a:xfrm>
        </p:grpSpPr>
        <p:grpSp>
          <p:nvGrpSpPr>
            <p:cNvPr id="427" name=""/>
            <p:cNvGrpSpPr/>
            <p:nvPr/>
          </p:nvGrpSpPr>
          <p:grpSpPr>
            <a:xfrm>
              <a:off x="6705720" y="4267080"/>
              <a:ext cx="2133360" cy="990360"/>
              <a:chOff x="6705720" y="4267080"/>
              <a:chExt cx="2133360" cy="990360"/>
            </a:xfrm>
          </p:grpSpPr>
          <p:sp>
            <p:nvSpPr>
              <p:cNvPr id="428" name=""/>
              <p:cNvSpPr/>
              <p:nvPr/>
            </p:nvSpPr>
            <p:spPr>
              <a:xfrm>
                <a:off x="670572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2296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70572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7057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3908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5720" y="39625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1160" y="37339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666880" y="42670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54864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609480" y="52430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733920" y="52574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3520" y="3733920"/>
            <a:ext cx="2133360" cy="1523520"/>
            <a:chOff x="533520" y="3733920"/>
            <a:chExt cx="2133360" cy="1523520"/>
          </a:xfrm>
        </p:grpSpPr>
        <p:grpSp>
          <p:nvGrpSpPr>
            <p:cNvPr id="440" name=""/>
            <p:cNvGrpSpPr/>
            <p:nvPr/>
          </p:nvGrpSpPr>
          <p:grpSpPr>
            <a:xfrm>
              <a:off x="533520" y="4267080"/>
              <a:ext cx="2133360" cy="990360"/>
              <a:chOff x="533520" y="4267080"/>
              <a:chExt cx="2133360" cy="990360"/>
            </a:xfrm>
          </p:grpSpPr>
          <p:sp>
            <p:nvSpPr>
              <p:cNvPr id="441" name=""/>
              <p:cNvSpPr/>
              <p:nvPr/>
            </p:nvSpPr>
            <p:spPr>
              <a:xfrm>
                <a:off x="53352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574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352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5335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520" y="39625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19320" y="37339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6688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31360" y="3200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5562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781680" y="52574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64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Row Access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96520" y="2527200"/>
            <a:ext cx="7404120" cy="19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w Vec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index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rray of 5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+20*inde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and returns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 + 4*(index+4*inde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914400"/>
            <a:ext cx="411480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get_pgh_zip(int 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5334120"/>
            <a:ext cx="678204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5 *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pgh(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gh + (20 * 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 • •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lement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524480" cy="23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i][j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element of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+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 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38098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3809880"/>
            <a:ext cx="609480" cy="99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5880" y="1295280"/>
            <a:ext cx="609840" cy="99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9132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57600" y="3505320"/>
            <a:ext cx="213372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32767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705720" y="3276720"/>
            <a:ext cx="2133360" cy="1523520"/>
            <a:chOff x="6705720" y="3276720"/>
            <a:chExt cx="2133360" cy="1523520"/>
          </a:xfrm>
        </p:grpSpPr>
        <p:grpSp>
          <p:nvGrpSpPr>
            <p:cNvPr id="469" name=""/>
            <p:cNvGrpSpPr/>
            <p:nvPr/>
          </p:nvGrpSpPr>
          <p:grpSpPr>
            <a:xfrm>
              <a:off x="6705720" y="3809880"/>
              <a:ext cx="2133360" cy="990360"/>
              <a:chOff x="6705720" y="3809880"/>
              <a:chExt cx="2133360" cy="990360"/>
            </a:xfrm>
          </p:grpSpPr>
          <p:sp>
            <p:nvSpPr>
              <p:cNvPr id="470" name=""/>
              <p:cNvSpPr/>
              <p:nvPr/>
            </p:nvSpPr>
            <p:spPr>
              <a:xfrm>
                <a:off x="67057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2296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7057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670572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83908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05720" y="35053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91160" y="32767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666880" y="38098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50292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09480" y="47858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733920" y="48002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33520" y="3276720"/>
            <a:ext cx="2133360" cy="1523520"/>
            <a:chOff x="533520" y="3276720"/>
            <a:chExt cx="2133360" cy="1523520"/>
          </a:xfrm>
        </p:grpSpPr>
        <p:grpSp>
          <p:nvGrpSpPr>
            <p:cNvPr id="482" name=""/>
            <p:cNvGrpSpPr/>
            <p:nvPr/>
          </p:nvGrpSpPr>
          <p:grpSpPr>
            <a:xfrm>
              <a:off x="533520" y="3809880"/>
              <a:ext cx="2133360" cy="990360"/>
              <a:chOff x="533520" y="3809880"/>
              <a:chExt cx="2133360" cy="990360"/>
            </a:xfrm>
          </p:grpSpPr>
          <p:sp>
            <p:nvSpPr>
              <p:cNvPr id="483" name=""/>
              <p:cNvSpPr/>
              <p:nvPr/>
            </p:nvSpPr>
            <p:spPr>
              <a:xfrm>
                <a:off x="5335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574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5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3352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3520" y="35053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19320" y="32767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6688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79080" y="2666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781680" y="48002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4800240"/>
            <a:ext cx="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i*C+j)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34680" y="228600"/>
            <a:ext cx="8280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lement Access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5751360" cy="24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index][dig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gh + 20*index + 4*di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gh + 4*dig + 4*(index+4*index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erforms memory refer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1828800"/>
            <a:ext cx="37335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520" y="4572000"/>
            <a:ext cx="800100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5*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pgh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(pgh + 4*dig + 20*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ange 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90520" y="2743200"/>
            <a:ext cx="8307360" cy="27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174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3][3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3+4*3 = 1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2][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2+4*5 = 13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2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2+4*-1 = 11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4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4+4*-1 = 15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0][19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0+4*19 = 15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0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0+4*-1 = 7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?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-173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does not do any bounds chec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-173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dering of elements within array guarante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61760" y="11430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gh[4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058480" y="1066680"/>
            <a:ext cx="6619680" cy="1282680"/>
            <a:chOff x="2058480" y="1066680"/>
            <a:chExt cx="6619680" cy="1282680"/>
          </a:xfrm>
        </p:grpSpPr>
        <p:sp>
          <p:nvSpPr>
            <p:cNvPr id="504" name=""/>
            <p:cNvSpPr/>
            <p:nvPr/>
          </p:nvSpPr>
          <p:spPr>
            <a:xfrm flipV="1">
              <a:off x="228600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58480" y="1981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7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80988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82360" y="1981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9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33412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784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85800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6172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3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38188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08596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2209680" y="1066680"/>
              <a:ext cx="6096240" cy="761760"/>
              <a:chOff x="2209680" y="1066680"/>
              <a:chExt cx="6096240" cy="76176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2209680" y="1066680"/>
                <a:ext cx="1524240" cy="761760"/>
                <a:chOff x="2209680" y="1066680"/>
                <a:chExt cx="1524240" cy="7617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2096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5146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8195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1240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4290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3733920" y="1066680"/>
                <a:ext cx="1523520" cy="761760"/>
                <a:chOff x="3733920" y="1066680"/>
                <a:chExt cx="1523520" cy="7617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7339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03848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343400" y="1066680"/>
                  <a:ext cx="30420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6479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95288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257800" y="1066680"/>
                <a:ext cx="1523520" cy="761760"/>
                <a:chOff x="5257800" y="1066680"/>
                <a:chExt cx="1523520" cy="7617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25780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5623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867280" y="1066680"/>
                  <a:ext cx="30420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17184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4767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6781680" y="1066680"/>
                <a:ext cx="1524240" cy="761760"/>
                <a:chOff x="6781680" y="1066680"/>
                <a:chExt cx="1524240" cy="7617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67816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866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3915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6960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0010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209680" y="1066680"/>
                <a:ext cx="152424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733920" y="1066680"/>
                <a:ext cx="152388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257800" y="1066680"/>
                <a:ext cx="152388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81680" y="1066680"/>
                <a:ext cx="152424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"/>
          <p:cNvSpPr/>
          <p:nvPr/>
        </p:nvSpPr>
        <p:spPr>
          <a:xfrm>
            <a:off x="6858000" y="313704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0" y="353232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0" y="39276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0" y="432288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0" y="471816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913440" y="5113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12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05280" y="1143000"/>
            <a:ext cx="35053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v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notes array of 3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element is a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ointer points to array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’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1482840"/>
            <a:ext cx="5257800" cy="911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2549520"/>
            <a:ext cx="525780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UCOUNT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univ[UCOUNT] = {mit, cmu, ucb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81600" y="3733920"/>
            <a:ext cx="8303760" cy="2591640"/>
            <a:chOff x="381600" y="3733920"/>
            <a:chExt cx="8303760" cy="2591640"/>
          </a:xfrm>
        </p:grpSpPr>
        <p:grpSp>
          <p:nvGrpSpPr>
            <p:cNvPr id="554" name=""/>
            <p:cNvGrpSpPr/>
            <p:nvPr/>
          </p:nvGrpSpPr>
          <p:grpSpPr>
            <a:xfrm>
              <a:off x="381600" y="4190760"/>
              <a:ext cx="1980360" cy="1523520"/>
              <a:chOff x="381600" y="4190760"/>
              <a:chExt cx="1980360" cy="1523520"/>
            </a:xfrm>
          </p:grpSpPr>
          <p:sp>
            <p:nvSpPr>
              <p:cNvPr id="555" name=""/>
              <p:cNvSpPr/>
              <p:nvPr/>
            </p:nvSpPr>
            <p:spPr>
              <a:xfrm>
                <a:off x="1447560" y="457164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990360" y="472392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97440" y="45097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47560" y="495252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47560" y="5333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990360" y="510480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990360" y="548604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81600" y="48762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81600" y="53334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47920" y="41907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981080" y="4723920"/>
                <a:ext cx="152280" cy="15192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981080" y="510480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981080" y="5486040"/>
                <a:ext cx="152280" cy="15192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3124800" y="3733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3658320" y="4038480"/>
              <a:ext cx="5027040" cy="748800"/>
              <a:chOff x="3658320" y="4038480"/>
              <a:chExt cx="5027040" cy="7488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3809880" y="4038480"/>
                <a:ext cx="4572000" cy="228240"/>
                <a:chOff x="3809880" y="4038480"/>
                <a:chExt cx="4572000" cy="22824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38098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7242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6386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5530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4674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 flipV="1">
                <a:off x="3885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658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48002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5727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57146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871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66290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015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75434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159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8457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230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3200760" y="4572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3642480" y="4814640"/>
              <a:ext cx="5027040" cy="748800"/>
              <a:chOff x="3642480" y="4814640"/>
              <a:chExt cx="5027040" cy="74880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3794040" y="4814640"/>
                <a:ext cx="4572000" cy="228240"/>
                <a:chOff x="3794040" y="4814640"/>
                <a:chExt cx="4572000" cy="2282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37940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7084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6228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5372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4516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 flipV="1">
                <a:off x="3870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642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47844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568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6988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712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66132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3856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75276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3000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8442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214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3124800" y="5271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3642480" y="5576760"/>
              <a:ext cx="5027040" cy="748800"/>
              <a:chOff x="3642480" y="5576760"/>
              <a:chExt cx="5027040" cy="748800"/>
            </a:xfrm>
          </p:grpSpPr>
          <p:grpSp>
            <p:nvGrpSpPr>
              <p:cNvPr id="610" name=""/>
              <p:cNvGrpSpPr/>
              <p:nvPr/>
            </p:nvGrpSpPr>
            <p:grpSpPr>
              <a:xfrm>
                <a:off x="3794040" y="5576760"/>
                <a:ext cx="4572000" cy="228240"/>
                <a:chOff x="3794040" y="5576760"/>
                <a:chExt cx="4572000" cy="2282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7940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7084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6228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5372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4516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"/>
              <p:cNvSpPr/>
              <p:nvPr/>
            </p:nvSpPr>
            <p:spPr>
              <a:xfrm flipV="1">
                <a:off x="3870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42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7844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568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56988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712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6132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3856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75276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000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8442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214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628" name=""/>
            <p:cNvCxnSpPr>
              <a:stCxn id="566" idx="0"/>
              <a:endCxn id="571" idx="1"/>
            </p:cNvCxnSpPr>
            <p:nvPr/>
          </p:nvCxnSpPr>
          <p:spPr>
            <a:xfrm flipH="1" flipV="1" rot="5400000">
              <a:off x="2457000" y="3751920"/>
              <a:ext cx="939960" cy="1740600"/>
            </a:xfrm>
            <a:prstGeom prst="curvedConnector2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565" idx="6"/>
              <a:endCxn id="591" idx="1"/>
            </p:cNvCxnSpPr>
            <p:nvPr/>
          </p:nvCxnSpPr>
          <p:spPr>
            <a:xfrm>
              <a:off x="2145960" y="4800600"/>
              <a:ext cx="1635840" cy="128880"/>
            </a:xfrm>
            <a:prstGeom prst="curvedConnector5">
              <a:avLst>
                <a:gd name="adj1" fmla="val 49988"/>
                <a:gd name="adj2" fmla="val 49859"/>
                <a:gd name="adj3" fmla="val 49988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567" idx="0"/>
              <a:endCxn id="611" idx="1"/>
            </p:cNvCxnSpPr>
            <p:nvPr/>
          </p:nvCxnSpPr>
          <p:spPr>
            <a:xfrm flipH="1" rot="16200000">
              <a:off x="2810160" y="4719960"/>
              <a:ext cx="218160" cy="1724760"/>
            </a:xfrm>
            <a:prstGeom prst="curvedConnector5">
              <a:avLst>
                <a:gd name="adj1" fmla="val -99173"/>
                <a:gd name="adj2" fmla="val 26283"/>
                <a:gd name="adj3" fmla="val -99173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33280" y="228600"/>
            <a:ext cx="8910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ement Access in Multi-Level Arr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90160" y="2220480"/>
            <a:ext cx="5272200" cy="32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ement acc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em[Mem[univ+4*index]+4*dig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two memory 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get pointer to row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n access element within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9480" y="4495680"/>
            <a:ext cx="723924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univ(%edx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univ+4*index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...+4*dig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62520" y="1066680"/>
            <a:ext cx="38862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Element Ac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214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ilar C referen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ested Arr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ment a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em[pgh+20*index+4*dig]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343400" y="1220760"/>
            <a:ext cx="45720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fferent address compu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ulti-Level Arr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ment a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em[Mem[univ+4*index]+4*dig]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2182680"/>
            <a:ext cx="37339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2182680"/>
            <a:ext cx="38862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419720" y="4952880"/>
            <a:ext cx="4176720" cy="13068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762120" y="5334120"/>
            <a:ext cx="334476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20560"/>
            <a:ext cx="616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asic Data Typ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584360"/>
            <a:ext cx="8307360" cy="48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r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&amp; operated on in general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 vs. unsigned depends on instructions u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cha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r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shor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 wor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oating Poi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&amp; operated on in floating point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lo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dou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tend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/1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 dou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ange 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90520" y="3614760"/>
            <a:ext cx="8307360" cy="217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1677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2][3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6+4*3  = 6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1][5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+4*5  = 3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2][-1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6+4*-1 = 5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3][-1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1][12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+4*12 = 6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-1666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 does not do any bounds check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-1666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dering of elements in different arrays not guarante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29320" y="838080"/>
            <a:ext cx="8303760" cy="2592360"/>
            <a:chOff x="229320" y="838080"/>
            <a:chExt cx="8303760" cy="2592360"/>
          </a:xfrm>
        </p:grpSpPr>
        <p:grpSp>
          <p:nvGrpSpPr>
            <p:cNvPr id="645" name=""/>
            <p:cNvGrpSpPr/>
            <p:nvPr/>
          </p:nvGrpSpPr>
          <p:grpSpPr>
            <a:xfrm>
              <a:off x="229320" y="1295280"/>
              <a:ext cx="1980360" cy="1524240"/>
              <a:chOff x="229320" y="1295280"/>
              <a:chExt cx="1980360" cy="1524240"/>
            </a:xfrm>
          </p:grpSpPr>
          <p:sp>
            <p:nvSpPr>
              <p:cNvPr id="646" name=""/>
              <p:cNvSpPr/>
              <p:nvPr/>
            </p:nvSpPr>
            <p:spPr>
              <a:xfrm>
                <a:off x="1295280" y="167652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38080" y="182880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45160" y="16146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295280" y="2057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295280" y="24382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38080" y="220968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38080" y="259092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2932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9320" y="24382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295640" y="129528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28800" y="182880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28800" y="2209680"/>
                <a:ext cx="152280" cy="15264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828800" y="259092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2972520" y="838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3506040" y="1143000"/>
              <a:ext cx="5027040" cy="749160"/>
              <a:chOff x="3506040" y="1143000"/>
              <a:chExt cx="5027040" cy="74916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3657600" y="1143000"/>
                <a:ext cx="4572000" cy="228600"/>
                <a:chOff x="3657600" y="1143000"/>
                <a:chExt cx="4572000" cy="22860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36576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720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4864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008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3152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 flipV="1">
                <a:off x="3733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506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46479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4204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55623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3348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64767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2492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73911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1636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8305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78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3048480" y="16765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3490200" y="1919160"/>
              <a:ext cx="5027040" cy="749160"/>
              <a:chOff x="3490200" y="1919160"/>
              <a:chExt cx="5027040" cy="74916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3641760" y="1919160"/>
                <a:ext cx="4572000" cy="228600"/>
                <a:chOff x="3641760" y="1919160"/>
                <a:chExt cx="4572000" cy="2286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36417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5561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4705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3849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72993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 flipV="1">
                <a:off x="3717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490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46321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046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55465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190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64609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334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73753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1478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8289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062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972520" y="23763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490200" y="2681280"/>
              <a:ext cx="5027040" cy="749160"/>
              <a:chOff x="3490200" y="2681280"/>
              <a:chExt cx="5027040" cy="74916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3641760" y="2681280"/>
                <a:ext cx="4572000" cy="228600"/>
                <a:chOff x="3641760" y="2681280"/>
                <a:chExt cx="4572000" cy="22860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6417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5561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4705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3849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2993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7" name=""/>
              <p:cNvSpPr/>
              <p:nvPr/>
            </p:nvSpPr>
            <p:spPr>
              <a:xfrm flipV="1">
                <a:off x="3717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90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46321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4046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55465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3190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4609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2334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73753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1478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8289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62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719" name=""/>
            <p:cNvCxnSpPr>
              <a:stCxn id="657" idx="0"/>
              <a:endCxn id="662" idx="1"/>
            </p:cNvCxnSpPr>
            <p:nvPr/>
          </p:nvCxnSpPr>
          <p:spPr>
            <a:xfrm flipH="1" flipV="1" rot="5400000">
              <a:off x="2304360" y="856800"/>
              <a:ext cx="940320" cy="1740600"/>
            </a:xfrm>
            <a:prstGeom prst="curvedConnector2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0" name=""/>
            <p:cNvCxnSpPr>
              <a:stCxn id="656" idx="6"/>
              <a:endCxn id="682" idx="1"/>
            </p:cNvCxnSpPr>
            <p:nvPr/>
          </p:nvCxnSpPr>
          <p:spPr>
            <a:xfrm>
              <a:off x="1993680" y="1904760"/>
              <a:ext cx="1635840" cy="12924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1" name=""/>
            <p:cNvCxnSpPr>
              <a:stCxn id="658" idx="0"/>
              <a:endCxn id="702" idx="1"/>
            </p:cNvCxnSpPr>
            <p:nvPr/>
          </p:nvCxnSpPr>
          <p:spPr>
            <a:xfrm flipH="1" rot="16200000">
              <a:off x="2657520" y="1823760"/>
              <a:ext cx="218520" cy="1724760"/>
            </a:xfrm>
            <a:prstGeom prst="curvedConnector5">
              <a:avLst>
                <a:gd name="adj1" fmla="val -99174"/>
                <a:gd name="adj2" fmla="val 26283"/>
                <a:gd name="adj3" fmla="val -99174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</p:grpSp>
      <p:sp>
        <p:nvSpPr>
          <p:cNvPr id="722" name=""/>
          <p:cNvSpPr/>
          <p:nvPr/>
        </p:nvSpPr>
        <p:spPr>
          <a:xfrm>
            <a:off x="7045560" y="4038480"/>
            <a:ext cx="497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95960" y="438480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472428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77240" y="507060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067520" y="541008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35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Nested Arr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114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compiler handles doubly subscripted array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s very efficien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oids multiply in index compu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works if have fixed arra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419720" y="990720"/>
            <a:ext cx="423864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N 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int fix_matrix[N]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419720" y="1828800"/>
            <a:ext cx="4343400" cy="338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xed matrix produc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ix_prod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fix_matrix a, fix_matrix b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, int 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 a[i][j]*b[j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85800" y="4818240"/>
            <a:ext cx="3456360" cy="1658520"/>
            <a:chOff x="685800" y="4818240"/>
            <a:chExt cx="3456360" cy="1658520"/>
          </a:xfrm>
        </p:grpSpPr>
        <p:sp>
          <p:nvSpPr>
            <p:cNvPr id="732" name=""/>
            <p:cNvSpPr/>
            <p:nvPr/>
          </p:nvSpPr>
          <p:spPr>
            <a:xfrm>
              <a:off x="1925640" y="515160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57400" y="573264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32120" y="5526360"/>
              <a:ext cx="583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12800" y="535176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274920" y="4818240"/>
              <a:ext cx="867240" cy="1277640"/>
              <a:chOff x="3274920" y="4818240"/>
              <a:chExt cx="867240" cy="1277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297240" y="515160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429000" y="573264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519360" y="5158080"/>
                <a:ext cx="0" cy="507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274920" y="481824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1602000" y="611352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200400" y="5732280"/>
              <a:ext cx="30492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5800" y="573264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1371600" y="5503680"/>
              <a:ext cx="39852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74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Nested Arr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90160" y="914040"/>
            <a:ext cx="421812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create matrix of arbitrar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index computation explici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ing single element cos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multipl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419720" y="990720"/>
            <a:ext cx="41907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 new_var_matrix(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int *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oc(sizeof(int), n*n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419720" y="2819520"/>
            <a:ext cx="41907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r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*a, int i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, 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[i*n+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952880"/>
            <a:ext cx="655308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20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*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*i+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a+4*(i*n+j)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099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Array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90160" y="1220400"/>
            <a:ext cx="3987720" cy="268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thout 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for subscrip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for array index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loop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1219320"/>
            <a:ext cx="4238640" cy="3655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ariable matrix produc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r_prod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*a, int *b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, int k, 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10560" y="4572000"/>
            <a:ext cx="3455280" cy="1658520"/>
            <a:chOff x="610560" y="4572000"/>
            <a:chExt cx="3455280" cy="1658520"/>
          </a:xfrm>
        </p:grpSpPr>
        <p:sp>
          <p:nvSpPr>
            <p:cNvPr id="754" name=""/>
            <p:cNvSpPr/>
            <p:nvPr/>
          </p:nvSpPr>
          <p:spPr>
            <a:xfrm>
              <a:off x="1849320" y="49053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981080" y="5486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855800" y="5280120"/>
              <a:ext cx="583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36480" y="510552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3198600" y="4572000"/>
              <a:ext cx="867240" cy="1277640"/>
              <a:chOff x="3198600" y="4572000"/>
              <a:chExt cx="867240" cy="1277640"/>
            </a:xfrm>
          </p:grpSpPr>
          <p:sp>
            <p:nvSpPr>
              <p:cNvPr id="759" name=""/>
              <p:cNvSpPr/>
              <p:nvPr/>
            </p:nvSpPr>
            <p:spPr>
              <a:xfrm>
                <a:off x="3220920" y="490536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352680" y="548640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443040" y="4911840"/>
                <a:ext cx="0" cy="507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8600" y="457200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1525680" y="586728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3124080" y="5486040"/>
              <a:ext cx="30492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0560" y="54864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1295280" y="5257440"/>
              <a:ext cx="39852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ing Dynamic Array Mult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20760"/>
            <a:ext cx="43434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when set optimization leve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O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*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computed outside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 Red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as effect of increment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*n+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can optimize regular access patter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0" y="946080"/>
            <a:ext cx="423864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3232080"/>
            <a:ext cx="4238640" cy="33807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Tn = i*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TnPk = k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Tn+j] * b[jTnP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TnPk += 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85800" y="2639880"/>
            <a:ext cx="2971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48320" y="4648320"/>
            <a:ext cx="3365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62520" y="5181480"/>
            <a:ext cx="487656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r] =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4651200"/>
            <a:ext cx="2968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_i(struct rec *r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-&gt;i 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244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3120" y="914040"/>
            <a:ext cx="7515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ly-allocated region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 to members within structure by na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bers may be of different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cessing Structure Memb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648320" y="2666880"/>
            <a:ext cx="336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Layo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952520" y="3276720"/>
            <a:ext cx="2741400" cy="779040"/>
            <a:chOff x="4952520" y="3276720"/>
            <a:chExt cx="2741400" cy="779040"/>
          </a:xfrm>
        </p:grpSpPr>
        <p:sp>
          <p:nvSpPr>
            <p:cNvPr id="779" name=""/>
            <p:cNvSpPr/>
            <p:nvPr/>
          </p:nvSpPr>
          <p:spPr>
            <a:xfrm>
              <a:off x="5132520" y="3276720"/>
              <a:ext cx="431640" cy="4316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589720" y="32767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61320" y="32767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525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097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80960" y="36925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8160" y="367524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609480" y="1066680"/>
            <a:ext cx="3133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47920" y="5029200"/>
            <a:ext cx="5089320" cy="118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ax,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+4*idx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48320" y="2895480"/>
            <a:ext cx="380988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nd_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truct rec *r, int i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&amp;r-&gt;a[idx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ting Pointer to Struct. Memb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90160" y="2889000"/>
            <a:ext cx="3924360" cy="35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ting Pointer to Array E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set of each structure member determined at compil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56200" y="144792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513400" y="1447920"/>
            <a:ext cx="1346040" cy="4316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85000" y="144792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876560" y="18637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333760" y="18637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705000" y="186372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43600" y="190512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88800" y="2286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+ 4 + 4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29200" y="10666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8000" y="685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67280" y="1447920"/>
            <a:ext cx="432000" cy="431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486400" y="1447920"/>
            <a:ext cx="1346040" cy="43164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04920" y="1755720"/>
            <a:ext cx="2971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4114800"/>
            <a:ext cx="541044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-&gt;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(r-&gt;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+4+4*(r-&gt;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16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Update r-&gt;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04920" y="3432240"/>
            <a:ext cx="2968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_p(struct rec *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-&gt;p 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r-&gt;a[r-&gt;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226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 Referencing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4571640" y="2057400"/>
            <a:ext cx="2440440" cy="1447920"/>
            <a:chOff x="4571640" y="2057400"/>
            <a:chExt cx="2440440" cy="1447920"/>
          </a:xfrm>
        </p:grpSpPr>
        <p:grpSp>
          <p:nvGrpSpPr>
            <p:cNvPr id="809" name=""/>
            <p:cNvGrpSpPr/>
            <p:nvPr/>
          </p:nvGrpSpPr>
          <p:grpSpPr>
            <a:xfrm>
              <a:off x="4571640" y="2286000"/>
              <a:ext cx="2440440" cy="779040"/>
              <a:chOff x="4571640" y="2286000"/>
              <a:chExt cx="2440440" cy="779040"/>
            </a:xfrm>
          </p:grpSpPr>
          <p:sp>
            <p:nvSpPr>
              <p:cNvPr id="810" name=""/>
              <p:cNvSpPr/>
              <p:nvPr/>
            </p:nvSpPr>
            <p:spPr>
              <a:xfrm>
                <a:off x="47516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208840" y="2286000"/>
                <a:ext cx="13460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804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716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0288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00080" y="2701800"/>
                <a:ext cx="45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6705720" y="2438280"/>
              <a:ext cx="15228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91320" y="2057400"/>
              <a:ext cx="99036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288"/>
                  </a:moveTo>
                  <a:lnTo>
                    <a:pt x="576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867280" y="27432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124080"/>
              <a:ext cx="1523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Element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4571640" y="1219320"/>
            <a:ext cx="2440440" cy="779040"/>
            <a:chOff x="4571640" y="1219320"/>
            <a:chExt cx="2440440" cy="779040"/>
          </a:xfrm>
        </p:grpSpPr>
        <p:sp>
          <p:nvSpPr>
            <p:cNvPr id="821" name=""/>
            <p:cNvSpPr/>
            <p:nvPr/>
          </p:nvSpPr>
          <p:spPr>
            <a:xfrm>
              <a:off x="47516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08840" y="12193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804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716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288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00080" y="16351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517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ign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igned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mitive data type requires K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must be multiple of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d on some machines; advised on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eated differently by Linux and Window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tivation for Aligning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accessed by (aligned) double or quad-wo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efficient to load or store datum that spans quad word boundar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rtual memory very tricky when datum spans 2 pag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s gaps in structure to ensure correct alignment of fiel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00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fic Cases of Align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 of Primitive Data Typ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1 by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restrictions on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2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o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est 1 bit of address must be 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4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etc.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8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ndows (and most other OS’s &amp; instruction sets)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3 bits of address must be 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, treated the same as a 4-byte primitive data typ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12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ong 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, treated the same as a 4-byte primitive data typ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8307360" cy="16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leng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ly allocated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zeof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82560" y="2590920"/>
            <a:ext cx="6099120" cy="839520"/>
            <a:chOff x="682560" y="2590920"/>
            <a:chExt cx="6099120" cy="839520"/>
          </a:xfrm>
        </p:grpSpPr>
        <p:sp>
          <p:nvSpPr>
            <p:cNvPr id="86" name=""/>
            <p:cNvSpPr/>
            <p:nvPr/>
          </p:nvSpPr>
          <p:spPr>
            <a:xfrm>
              <a:off x="682560" y="25909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har string[12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048120" y="2666880"/>
              <a:ext cx="3733560" cy="763560"/>
              <a:chOff x="3048120" y="2666880"/>
              <a:chExt cx="3733560" cy="76356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3200400" y="2666880"/>
                <a:ext cx="2743200" cy="228600"/>
                <a:chOff x="3200400" y="2666880"/>
                <a:chExt cx="2743200" cy="2286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200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29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57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86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114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343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72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800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029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257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86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715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3048120" y="306216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91320" y="306216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3276720" y="28951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6019920" y="28951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1369800" y="3352680"/>
            <a:ext cx="7240680" cy="839520"/>
            <a:chOff x="1369800" y="3352680"/>
            <a:chExt cx="7240680" cy="839520"/>
          </a:xfrm>
        </p:grpSpPr>
        <p:grpSp>
          <p:nvGrpSpPr>
            <p:cNvPr id="106" name=""/>
            <p:cNvGrpSpPr/>
            <p:nvPr/>
          </p:nvGrpSpPr>
          <p:grpSpPr>
            <a:xfrm>
              <a:off x="3200400" y="3428640"/>
              <a:ext cx="4572000" cy="228600"/>
              <a:chOff x="3200400" y="3428640"/>
              <a:chExt cx="4572000" cy="228600"/>
            </a:xfrm>
          </p:grpSpPr>
          <p:sp>
            <p:nvSpPr>
              <p:cNvPr id="107" name=""/>
              <p:cNvSpPr/>
              <p:nvPr/>
            </p:nvSpPr>
            <p:spPr>
              <a:xfrm>
                <a:off x="32004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292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436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580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369800" y="33526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38098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25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276720" y="36428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1911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1055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13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0199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57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9343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8487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76000" y="4038480"/>
            <a:ext cx="8377560" cy="1220760"/>
            <a:chOff x="576000" y="4038480"/>
            <a:chExt cx="8377560" cy="1220760"/>
          </a:xfrm>
        </p:grpSpPr>
        <p:sp>
          <p:nvSpPr>
            <p:cNvPr id="126" name=""/>
            <p:cNvSpPr/>
            <p:nvPr/>
          </p:nvSpPr>
          <p:spPr>
            <a:xfrm>
              <a:off x="576000" y="403848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ouble a[4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9480" y="4495680"/>
              <a:ext cx="8344080" cy="763560"/>
              <a:chOff x="609480" y="4495680"/>
              <a:chExt cx="8344080" cy="76356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762120" y="4495680"/>
                <a:ext cx="7315200" cy="228600"/>
                <a:chOff x="762120" y="4495680"/>
                <a:chExt cx="7315200" cy="2286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621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909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197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2485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 flipV="1">
                <a:off x="636264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62840" y="4890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8191440" y="4723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7220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9480" y="486252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838080" y="46954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382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266688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670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449568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760320" y="5562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*p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666880" y="5638680"/>
            <a:ext cx="2895480" cy="763560"/>
            <a:chOff x="2666880" y="5638680"/>
            <a:chExt cx="2895480" cy="763560"/>
          </a:xfrm>
        </p:grpSpPr>
        <p:grpSp>
          <p:nvGrpSpPr>
            <p:cNvPr id="145" name=""/>
            <p:cNvGrpSpPr/>
            <p:nvPr/>
          </p:nvGrpSpPr>
          <p:grpSpPr>
            <a:xfrm>
              <a:off x="2819160" y="5638680"/>
              <a:ext cx="2743200" cy="228600"/>
              <a:chOff x="2819160" y="5638680"/>
              <a:chExt cx="2743200" cy="228600"/>
            </a:xfrm>
          </p:grpSpPr>
          <p:sp>
            <p:nvSpPr>
              <p:cNvPr id="146" name=""/>
              <p:cNvSpPr/>
              <p:nvPr/>
            </p:nvSpPr>
            <p:spPr>
              <a:xfrm>
                <a:off x="28191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7335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479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666880" y="6019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12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95480" y="58525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09880" y="58669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724280" y="58669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6781680" y="152388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75840" y="228600"/>
            <a:ext cx="8767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tisfying Alignment with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90160" y="914040"/>
            <a:ext cx="64911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ffsets Within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satisfy element’s alignment requi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verall Structure Plac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structure has alignment requirement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argest alignment of any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 address &amp; structure length must be multiples of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(under Windows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8,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33400" y="457200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52720" y="45720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71680" y="4572000"/>
            <a:ext cx="11941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10320" y="457200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138320" y="4572000"/>
            <a:ext cx="88884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91000" y="4572000"/>
            <a:ext cx="119376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0380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77048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98980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43560" y="486396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882200" y="486396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2071800" y="518112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28800" y="56386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10080" y="56386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729400" y="518112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85800" y="60958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914400" y="5257800"/>
            <a:ext cx="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867280" y="60958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229600" y="5257800"/>
            <a:ext cx="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609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vs. Wind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ndows (including Cygwin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8,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ux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4;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reated like a 4-byte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019920" y="8380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685800" y="2666880"/>
            <a:ext cx="7983360" cy="1460520"/>
            <a:chOff x="685800" y="2666880"/>
            <a:chExt cx="7983360" cy="1460520"/>
          </a:xfrm>
        </p:grpSpPr>
        <p:sp>
          <p:nvSpPr>
            <p:cNvPr id="857" name=""/>
            <p:cNvSpPr/>
            <p:nvPr/>
          </p:nvSpPr>
          <p:spPr>
            <a:xfrm>
              <a:off x="985680" y="2666880"/>
              <a:ext cx="279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205000" y="2666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24320" y="2666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62600" y="26668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290600" y="2666880"/>
              <a:ext cx="8892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43280" y="2666880"/>
              <a:ext cx="11941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640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0404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2300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00800" y="29718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39080" y="29718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2209680" y="327636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19320" y="350532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72000" y="35053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5867280" y="327636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5800" y="37465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1066680" y="32893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867280" y="365760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8305920" y="32767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838080" y="5105520"/>
            <a:ext cx="6869160" cy="1447560"/>
            <a:chOff x="838080" y="5105520"/>
            <a:chExt cx="6869160" cy="1447560"/>
          </a:xfrm>
        </p:grpSpPr>
        <p:sp>
          <p:nvSpPr>
            <p:cNvPr id="877" name=""/>
            <p:cNvSpPr/>
            <p:nvPr/>
          </p:nvSpPr>
          <p:spPr>
            <a:xfrm>
              <a:off x="1290600" y="5105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09920" y="5105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28880" y="5105520"/>
              <a:ext cx="11941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595520" y="5105520"/>
              <a:ext cx="88884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8964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0860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2792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2514600" y="563832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523880" y="5867280"/>
              <a:ext cx="2057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29000" y="5867280"/>
              <a:ext cx="259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38080" y="617220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1295280" y="57150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900680" y="5105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38880" y="53974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77160" y="53974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905360" y="563832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905360" y="6095880"/>
              <a:ext cx="259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7343640" y="57150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9247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all Alignment Requir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914400" y="106668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2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38080" y="373392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3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x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08400" y="2819520"/>
            <a:ext cx="7901640" cy="1018440"/>
            <a:chOff x="608400" y="2819520"/>
            <a:chExt cx="7901640" cy="1018440"/>
          </a:xfrm>
        </p:grpSpPr>
        <p:sp>
          <p:nvSpPr>
            <p:cNvPr id="899" name=""/>
            <p:cNvSpPr/>
            <p:nvPr/>
          </p:nvSpPr>
          <p:spPr>
            <a:xfrm>
              <a:off x="608400" y="32004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48280" y="32004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70720" y="32004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443560" y="32004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99800" y="3200400"/>
              <a:ext cx="2010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Windows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: 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: 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1500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7672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95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38080" y="2819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19920" y="2819520"/>
              <a:ext cx="21333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08400" y="5410080"/>
            <a:ext cx="6749640" cy="744480"/>
            <a:chOff x="608400" y="5410080"/>
            <a:chExt cx="6749640" cy="744480"/>
          </a:xfrm>
        </p:grpSpPr>
        <p:sp>
          <p:nvSpPr>
            <p:cNvPr id="910" name=""/>
            <p:cNvSpPr/>
            <p:nvPr/>
          </p:nvSpPr>
          <p:spPr>
            <a:xfrm>
              <a:off x="5715000" y="541008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7672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956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019920" y="5410080"/>
              <a:ext cx="9144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0840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482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7072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4356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2796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80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05740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75140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503160" y="1271520"/>
            <a:ext cx="288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multiple of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for Window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for Linu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500280" y="4395960"/>
            <a:ext cx="46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multiple of 4 (in either O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61880" y="228600"/>
            <a:ext cx="822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rdering Elements Within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62120" y="914400"/>
            <a:ext cx="22143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4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38080" y="3581280"/>
            <a:ext cx="221472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5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532440" y="2819520"/>
            <a:ext cx="7816320" cy="667800"/>
            <a:chOff x="532440" y="2819520"/>
            <a:chExt cx="7816320" cy="667800"/>
          </a:xfrm>
        </p:grpSpPr>
        <p:sp>
          <p:nvSpPr>
            <p:cNvPr id="928" name=""/>
            <p:cNvSpPr/>
            <p:nvPr/>
          </p:nvSpPr>
          <p:spPr>
            <a:xfrm>
              <a:off x="76212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781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200400" y="2819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66680" y="2819520"/>
              <a:ext cx="21337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244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7568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89440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760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61868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56272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867280" y="2819520"/>
              <a:ext cx="9144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84720" y="5486400"/>
            <a:ext cx="5565240" cy="668160"/>
            <a:chOff x="684720" y="5486400"/>
            <a:chExt cx="5565240" cy="668160"/>
          </a:xfrm>
        </p:grpSpPr>
        <p:sp>
          <p:nvSpPr>
            <p:cNvPr id="940" name=""/>
            <p:cNvSpPr/>
            <p:nvPr/>
          </p:nvSpPr>
          <p:spPr>
            <a:xfrm>
              <a:off x="3886200" y="5486400"/>
              <a:ext cx="60948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5268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495680" y="54864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14400" y="54864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8472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1896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4704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198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65760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3734640" y="1422360"/>
            <a:ext cx="44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 bytes wasted space in Window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0920" y="4394160"/>
            <a:ext cx="27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bytes wasted spa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539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s of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303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d by repeating allocation for array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general, may nest arrays &amp; structures to arbitrary dep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295640" y="5257800"/>
            <a:ext cx="6614640" cy="659160"/>
            <a:chOff x="1295640" y="5257800"/>
            <a:chExt cx="6614640" cy="659160"/>
          </a:xfrm>
        </p:grpSpPr>
        <p:sp>
          <p:nvSpPr>
            <p:cNvPr id="954" name=""/>
            <p:cNvSpPr/>
            <p:nvPr/>
          </p:nvSpPr>
          <p:spPr>
            <a:xfrm>
              <a:off x="1596960" y="5292720"/>
              <a:ext cx="18036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95640" y="558468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425760" y="5292720"/>
              <a:ext cx="1803600" cy="27936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254560" y="5292720"/>
              <a:ext cx="18036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783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1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071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2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7359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3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358400" y="5257800"/>
              <a:ext cx="55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143000" y="4114800"/>
            <a:ext cx="2209680" cy="11430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257800" y="4114800"/>
            <a:ext cx="3124080" cy="11430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29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63724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27528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9995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791320" y="17524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066680" y="3809880"/>
            <a:ext cx="7315200" cy="279360"/>
            <a:chOff x="1066680" y="3809880"/>
            <a:chExt cx="7315200" cy="279360"/>
          </a:xfrm>
        </p:grpSpPr>
        <p:sp>
          <p:nvSpPr>
            <p:cNvPr id="970" name=""/>
            <p:cNvSpPr/>
            <p:nvPr/>
          </p:nvSpPr>
          <p:spPr>
            <a:xfrm>
              <a:off x="106668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94360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05320" y="38098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6000" y="380988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62920" y="3809880"/>
              <a:ext cx="12189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47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Element within Arr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5442120" cy="218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offset to start of stru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e 12*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s 4*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+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element according to its offset within stru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ffset by 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sembler gives displacement as a + 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5244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must set actual val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1219320" y="5105520"/>
            <a:ext cx="3581280" cy="6094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553080" y="5105160"/>
            <a:ext cx="1981440" cy="6094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066680" y="4800600"/>
            <a:ext cx="7162920" cy="684720"/>
            <a:chOff x="1066680" y="4800600"/>
            <a:chExt cx="7162920" cy="684720"/>
          </a:xfrm>
        </p:grpSpPr>
        <p:sp>
          <p:nvSpPr>
            <p:cNvPr id="980" name=""/>
            <p:cNvSpPr/>
            <p:nvPr/>
          </p:nvSpPr>
          <p:spPr>
            <a:xfrm>
              <a:off x="1371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066680" y="515304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00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i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96040" y="51307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12i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00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29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57200" y="3276720"/>
            <a:ext cx="327672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get_j(int i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[idx].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86200" y="3276720"/>
            <a:ext cx="464832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2),%eax # 3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swl a+8(,%ea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64880" y="6095880"/>
            <a:ext cx="86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560200" y="609588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i+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19920" y="144792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1219320" y="5715000"/>
            <a:ext cx="7315200" cy="279360"/>
            <a:chOff x="1219320" y="5715000"/>
            <a:chExt cx="7315200" cy="279360"/>
          </a:xfrm>
        </p:grpSpPr>
        <p:sp>
          <p:nvSpPr>
            <p:cNvPr id="992" name=""/>
            <p:cNvSpPr/>
            <p:nvPr/>
          </p:nvSpPr>
          <p:spPr>
            <a:xfrm>
              <a:off x="1219320" y="57150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95880" y="5715000"/>
              <a:ext cx="1193760" cy="27936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57600" y="5715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38280" y="571500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15200" y="571500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76040" y="228600"/>
            <a:ext cx="881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tisfying Alignment within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hieving Align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of structure array must be multiple of worst-case alignment for any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ust be multiple of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set of element within structure must be multiple of element’s alignment requi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s offset of 4 is a multiple of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size of structure must be multiple of worst-case alignment for any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ucture padded with unused space to be 12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477120" y="205740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327680" y="4665600"/>
            <a:ext cx="7511400" cy="1658520"/>
            <a:chOff x="1327680" y="4665600"/>
            <a:chExt cx="7511400" cy="1658520"/>
          </a:xfrm>
        </p:grpSpPr>
        <p:sp>
          <p:nvSpPr>
            <p:cNvPr id="1001" name=""/>
            <p:cNvSpPr/>
            <p:nvPr/>
          </p:nvSpPr>
          <p:spPr>
            <a:xfrm flipH="1">
              <a:off x="1523880" y="4970160"/>
              <a:ext cx="3581280" cy="60984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 flipV="1">
              <a:off x="6857640" y="4970160"/>
              <a:ext cx="1981080" cy="60984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1327680" y="4665600"/>
              <a:ext cx="7206480" cy="715680"/>
              <a:chOff x="1327680" y="4665600"/>
              <a:chExt cx="7206480" cy="715680"/>
            </a:xfrm>
          </p:grpSpPr>
          <p:sp>
            <p:nvSpPr>
              <p:cNvPr id="1004" name=""/>
              <p:cNvSpPr/>
              <p:nvPr/>
            </p:nvSpPr>
            <p:spPr>
              <a:xfrm>
                <a:off x="1676160" y="4665600"/>
                <a:ext cx="18036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327680" y="501804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+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105160" y="4665600"/>
                <a:ext cx="18036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727160" y="499572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+12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504960" y="4665600"/>
                <a:ext cx="16002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3960" y="4665600"/>
                <a:ext cx="16002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369800" y="59608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+12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731400" y="596088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+12i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1523880" y="5580000"/>
              <a:ext cx="7315200" cy="279360"/>
              <a:chOff x="1523880" y="5580000"/>
              <a:chExt cx="7315200" cy="279360"/>
            </a:xfrm>
          </p:grpSpPr>
          <p:sp>
            <p:nvSpPr>
              <p:cNvPr id="1013" name=""/>
              <p:cNvSpPr/>
              <p:nvPr/>
            </p:nvSpPr>
            <p:spPr>
              <a:xfrm>
                <a:off x="1523880" y="55800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400800" y="55800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j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62160" y="55800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743200" y="5580000"/>
                <a:ext cx="1218960" cy="27936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19760" y="5580000"/>
                <a:ext cx="1219320" cy="27936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8" name=""/>
          <p:cNvSpPr/>
          <p:nvPr/>
        </p:nvSpPr>
        <p:spPr>
          <a:xfrm flipH="1" flipV="1">
            <a:off x="4343040" y="6476760"/>
            <a:ext cx="76212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08040" y="64911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1066680" y="5334120"/>
            <a:ext cx="45720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20" y="57913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6200000">
            <a:off x="4191120" y="579096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71"/>
                </a:lnTo>
                <a:cubicBezTo>
                  <a:pt x="10800" y="9871"/>
                  <a:pt x="5400" y="10771"/>
                  <a:pt x="0" y="10771"/>
                </a:cubicBezTo>
                <a:cubicBezTo>
                  <a:pt x="5400" y="10771"/>
                  <a:pt x="10800" y="11671"/>
                  <a:pt x="10800" y="125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3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on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nci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lay union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according to largest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use one field at a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967120" y="2639880"/>
            <a:ext cx="220968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on U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u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5408640" y="2819520"/>
            <a:ext cx="3168720" cy="1242720"/>
            <a:chOff x="5408640" y="2819520"/>
            <a:chExt cx="3168720" cy="1242720"/>
          </a:xfrm>
        </p:grpSpPr>
        <p:sp>
          <p:nvSpPr>
            <p:cNvPr id="1027" name=""/>
            <p:cNvSpPr/>
            <p:nvPr/>
          </p:nvSpPr>
          <p:spPr>
            <a:xfrm>
              <a:off x="596736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6736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8668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67360" y="3429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40864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62796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84728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533520" y="38098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s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608040" y="5562720"/>
            <a:ext cx="8121960" cy="655200"/>
            <a:chOff x="608040" y="5562720"/>
            <a:chExt cx="8121960" cy="655200"/>
          </a:xfrm>
        </p:grpSpPr>
        <p:sp>
          <p:nvSpPr>
            <p:cNvPr id="1036" name=""/>
            <p:cNvSpPr/>
            <p:nvPr/>
          </p:nvSpPr>
          <p:spPr>
            <a:xfrm>
              <a:off x="1166760" y="55627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386080" y="55627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605040" y="5562720"/>
              <a:ext cx="11941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043680" y="55627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71680" y="5562720"/>
              <a:ext cx="88884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24360" y="5562720"/>
              <a:ext cx="11937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804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82736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04668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24120" y="58546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862760" y="58546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4056840" y="50706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(Windows alignmen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528480" y="985680"/>
            <a:ext cx="251964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union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bit_float_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800600" y="990720"/>
            <a:ext cx="38829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bit2float(unsigned u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.u = 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rg.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31920" y="25272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231920" y="2832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083960" y="3102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302920" y="3102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00600" y="2971800"/>
            <a:ext cx="38829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float2bit(float f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.f = 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rg.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6600" y="228600"/>
            <a:ext cx="8308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Union to Access Bit Patter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48895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direct access to bit representation of 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t2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enerates float with given bit patte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float) 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2b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enerates bit pattern from 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unsigned) 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6840" y="520560"/>
            <a:ext cx="572292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90520" y="1655640"/>
            <a:ext cx="8307360" cy="47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rt/long/quad words stored in memory as 2/4/8 consecutive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ch is most (least) significant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cause problems when exchanging binary data between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werPC, Spa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x86, Alph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56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64360" cy="14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-5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leng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-5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fi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used as a pointer to array element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spcBef>
                <a:spcPts val="624"/>
              </a:spcBef>
              <a:buNone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[4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+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val[2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(val+1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 +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+ 4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88920" y="2666880"/>
            <a:ext cx="7240680" cy="839880"/>
            <a:chOff x="988920" y="2666880"/>
            <a:chExt cx="7240680" cy="839880"/>
          </a:xfrm>
        </p:grpSpPr>
        <p:grpSp>
          <p:nvGrpSpPr>
            <p:cNvPr id="158" name=""/>
            <p:cNvGrpSpPr/>
            <p:nvPr/>
          </p:nvGrpSpPr>
          <p:grpSpPr>
            <a:xfrm>
              <a:off x="2819520" y="2743200"/>
              <a:ext cx="4572000" cy="228600"/>
              <a:chOff x="2819520" y="2743200"/>
              <a:chExt cx="4572000" cy="228600"/>
            </a:xfrm>
          </p:grpSpPr>
          <p:sp>
            <p:nvSpPr>
              <p:cNvPr id="159" name=""/>
              <p:cNvSpPr/>
              <p:nvPr/>
            </p:nvSpPr>
            <p:spPr>
              <a:xfrm>
                <a:off x="28195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339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83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627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771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988920" y="2666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6880" y="31240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12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895480" y="29570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8098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956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7242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6386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244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5530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388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4674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520560"/>
            <a:ext cx="6649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28480" y="1379520"/>
            <a:ext cx="403560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on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char c[8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short s[4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long l[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d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6702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3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6072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841400" y="428004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0607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2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512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8414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8414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1088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7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4990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3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280040" y="4280040"/>
            <a:ext cx="24127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4990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6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8895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5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8004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2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2800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4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41400" y="4584600"/>
            <a:ext cx="24256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267080" y="4572000"/>
            <a:ext cx="242568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 (Cont)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219320" y="990720"/>
            <a:ext cx="6384960" cy="5301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8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j] = 0xf0 +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aracters 0-7 ==  [0x%x,0x%x,0x%x,0x%x,0x%x,0x%x,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0], dw.c[1], dw.c[2], dw.c[3]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4], dw.c[5], dw.c[6], dw.c[7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Shorts 0-3 == [0x%x,0x%x,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s[0], dw.s[1], dw.s[2], dw.s[3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Ints 0-1 == [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i[0], dw.i[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ong 0 == [0x%l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l[0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273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x86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1444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f3f2f1f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Pent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1752480" y="1676520"/>
            <a:ext cx="4851360" cy="2892960"/>
            <a:chOff x="1752480" y="1676520"/>
            <a:chExt cx="4851360" cy="2892960"/>
          </a:xfrm>
        </p:grpSpPr>
        <p:grpSp>
          <p:nvGrpSpPr>
            <p:cNvPr id="1084" name=""/>
            <p:cNvGrpSpPr/>
            <p:nvPr/>
          </p:nvGrpSpPr>
          <p:grpSpPr>
            <a:xfrm>
              <a:off x="1804680" y="1676520"/>
              <a:ext cx="4746600" cy="332280"/>
              <a:chOff x="1804680" y="1676520"/>
              <a:chExt cx="4746600" cy="332280"/>
            </a:xfrm>
          </p:grpSpPr>
          <p:sp>
            <p:nvSpPr>
              <p:cNvPr id="1085" name=""/>
              <p:cNvSpPr/>
              <p:nvPr/>
            </p:nvSpPr>
            <p:spPr>
              <a:xfrm>
                <a:off x="18046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4141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0240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6334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2429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8528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4622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0717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1752480" y="1982880"/>
              <a:ext cx="4851360" cy="2586600"/>
              <a:chOff x="1752480" y="1982880"/>
              <a:chExt cx="4851360" cy="2586600"/>
            </a:xfrm>
          </p:grpSpPr>
          <p:sp>
            <p:nvSpPr>
              <p:cNvPr id="1094" name=""/>
              <p:cNvSpPr/>
              <p:nvPr/>
            </p:nvSpPr>
            <p:spPr>
              <a:xfrm>
                <a:off x="35812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97144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752480" y="320220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7794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3493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9714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2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3619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524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7524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77948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56832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99844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56832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0195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7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4100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190760" y="32022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21776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78764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4100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6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8002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5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9076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2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907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4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1776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00696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70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069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3187080" y="4256280"/>
                <a:ext cx="2133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921480" y="4267440"/>
                <a:ext cx="588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Print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752480" y="381168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779480" y="350532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644640" y="350532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229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Su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38480" y="502920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0f1,0xf2f3,0xf4f5,0xf6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0f1f2f3,0xf4f5f6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0xf0f1f2f3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57200" y="4495680"/>
            <a:ext cx="3657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Su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1778040" y="1676520"/>
            <a:ext cx="4919760" cy="2892960"/>
            <a:chOff x="1778040" y="1676520"/>
            <a:chExt cx="4919760" cy="2892960"/>
          </a:xfrm>
        </p:grpSpPr>
        <p:sp>
          <p:nvSpPr>
            <p:cNvPr id="1130" name=""/>
            <p:cNvSpPr/>
            <p:nvPr/>
          </p:nvSpPr>
          <p:spPr>
            <a:xfrm>
              <a:off x="36198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0996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91000" y="320220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1614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780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0099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004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910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7910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7804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4680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42748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9736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0580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486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229280" y="32022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468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21668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4486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8387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2928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292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1668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8508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6576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356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8432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4526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625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720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814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913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008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1102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225600" y="425628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960000" y="426744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91000" y="38116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778040" y="35053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22760" y="35053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767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Alph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216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0xf7f6f5f4f3f2f1f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Alpha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752480" y="1600200"/>
            <a:ext cx="4851360" cy="2892960"/>
            <a:chOff x="1752480" y="1600200"/>
            <a:chExt cx="4851360" cy="2892960"/>
          </a:xfrm>
        </p:grpSpPr>
        <p:sp>
          <p:nvSpPr>
            <p:cNvPr id="1174" name=""/>
            <p:cNvSpPr/>
            <p:nvPr/>
          </p:nvSpPr>
          <p:spPr>
            <a:xfrm>
              <a:off x="35812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97144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52480" y="31132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7665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364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9714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3619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7524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7524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76652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55572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98584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5572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0195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100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90760" y="31132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0516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77504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4100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002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9076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907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0516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99400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241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9940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8172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4271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0366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6460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559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8654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748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0847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3187080" y="416736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934080" y="419112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752480" y="3722760"/>
              <a:ext cx="4851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6520" y="3429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994000" y="3429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143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90160" y="837720"/>
            <a:ext cx="885348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s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 allocation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inter to first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bounds chec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 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often turns array code into pointer code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d2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s addressing modes to scale array indi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ts of tricks to improve array indexing in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uc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bytes in order decla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d in middle and at end to satisfy align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lay decla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ay to circumvent type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5473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4994280"/>
            <a:ext cx="8381880" cy="13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ation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p_dig cmu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 equivalent to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cmu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 arrays were allocated in successive 20 byt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19880" indent="-2120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guaranteed to happen in gener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838080"/>
            <a:ext cx="492444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int zip_dig[5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369800" y="2666880"/>
            <a:ext cx="6858720" cy="2363760"/>
            <a:chOff x="1369800" y="2666880"/>
            <a:chExt cx="6858720" cy="2363760"/>
          </a:xfrm>
        </p:grpSpPr>
        <p:grpSp>
          <p:nvGrpSpPr>
            <p:cNvPr id="181" name=""/>
            <p:cNvGrpSpPr/>
            <p:nvPr/>
          </p:nvGrpSpPr>
          <p:grpSpPr>
            <a:xfrm>
              <a:off x="1385640" y="2666880"/>
              <a:ext cx="6842880" cy="825480"/>
              <a:chOff x="1385640" y="2666880"/>
              <a:chExt cx="6842880" cy="825480"/>
            </a:xfrm>
          </p:grpSpPr>
          <p:sp>
            <p:nvSpPr>
              <p:cNvPr id="182" name=""/>
              <p:cNvSpPr/>
              <p:nvPr/>
            </p:nvSpPr>
            <p:spPr>
              <a:xfrm>
                <a:off x="1385640" y="26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201480" y="2743200"/>
                <a:ext cx="5027040" cy="749160"/>
                <a:chOff x="3201480" y="2743200"/>
                <a:chExt cx="5027040" cy="7491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3353040" y="2743200"/>
                  <a:ext cx="4572000" cy="228600"/>
                  <a:chOff x="3353040" y="2743200"/>
                  <a:chExt cx="4572000" cy="2286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3530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2674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1818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0962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70106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 flipV="1">
                  <a:off x="34290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14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43434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158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52578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0302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61722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9446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70866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8590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80010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7734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" name=""/>
            <p:cNvGrpSpPr/>
            <p:nvPr/>
          </p:nvGrpSpPr>
          <p:grpSpPr>
            <a:xfrm>
              <a:off x="1369800" y="3443400"/>
              <a:ext cx="6842880" cy="824760"/>
              <a:chOff x="1369800" y="3443400"/>
              <a:chExt cx="6842880" cy="824760"/>
            </a:xfrm>
          </p:grpSpPr>
          <p:sp>
            <p:nvSpPr>
              <p:cNvPr id="203" name=""/>
              <p:cNvSpPr/>
              <p:nvPr/>
            </p:nvSpPr>
            <p:spPr>
              <a:xfrm>
                <a:off x="1369800" y="344340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3185640" y="3519360"/>
                <a:ext cx="5027040" cy="748800"/>
                <a:chOff x="3185640" y="3519360"/>
                <a:chExt cx="5027040" cy="748800"/>
              </a:xfrm>
            </p:grpSpPr>
            <p:grpSp>
              <p:nvGrpSpPr>
                <p:cNvPr id="205" name=""/>
                <p:cNvGrpSpPr/>
                <p:nvPr/>
              </p:nvGrpSpPr>
              <p:grpSpPr>
                <a:xfrm>
                  <a:off x="3337200" y="3519360"/>
                  <a:ext cx="4572000" cy="228240"/>
                  <a:chOff x="3337200" y="3519360"/>
                  <a:chExt cx="4572000" cy="2282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33372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42516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1660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0804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9948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 flipV="1">
                  <a:off x="34131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56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43275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1000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52419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0144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61563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9288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70707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8432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79851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576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1369800" y="4205160"/>
              <a:ext cx="6842880" cy="825480"/>
              <a:chOff x="1369800" y="4205160"/>
              <a:chExt cx="6842880" cy="825480"/>
            </a:xfrm>
          </p:grpSpPr>
          <p:sp>
            <p:nvSpPr>
              <p:cNvPr id="224" name=""/>
              <p:cNvSpPr/>
              <p:nvPr/>
            </p:nvSpPr>
            <p:spPr>
              <a:xfrm>
                <a:off x="1369800" y="420516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185640" y="4281480"/>
                <a:ext cx="5027040" cy="749160"/>
                <a:chOff x="3185640" y="4281480"/>
                <a:chExt cx="5027040" cy="7491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3337200" y="4281480"/>
                  <a:ext cx="4572000" cy="228600"/>
                  <a:chOff x="3337200" y="4281480"/>
                  <a:chExt cx="4572000" cy="2286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3372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2516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1660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0804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9948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 flipV="1">
                  <a:off x="34131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1856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43275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1000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52419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0144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61563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288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70707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8432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79851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7576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ccess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14600" y="4122720"/>
            <a:ext cx="452448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523880"/>
            <a:ext cx="34290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zip_dig z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876920"/>
            <a:ext cx="492444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 # z[dig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1066680"/>
            <a:ext cx="4876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tains starting address of arra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tains array inde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red digit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4*%eax + %ed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memory referenc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%edx,%eax,4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24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90520" y="3429000"/>
            <a:ext cx="8307360" cy="301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Does Not Do Any Bounds Checking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3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 3 = 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 5 = 5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-1 = 3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u[1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6 + 4*15 = 7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?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 of range behavior implementation-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80840" indent="-1533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guaranteed relative allocation of different arrays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17520" y="990720"/>
            <a:ext cx="6858720" cy="2362680"/>
            <a:chOff x="1217520" y="990720"/>
            <a:chExt cx="6858720" cy="2362680"/>
          </a:xfrm>
        </p:grpSpPr>
        <p:grpSp>
          <p:nvGrpSpPr>
            <p:cNvPr id="252" name=""/>
            <p:cNvGrpSpPr/>
            <p:nvPr/>
          </p:nvGrpSpPr>
          <p:grpSpPr>
            <a:xfrm>
              <a:off x="1233360" y="990720"/>
              <a:ext cx="6842880" cy="824760"/>
              <a:chOff x="1233360" y="990720"/>
              <a:chExt cx="6842880" cy="824760"/>
            </a:xfrm>
          </p:grpSpPr>
          <p:sp>
            <p:nvSpPr>
              <p:cNvPr id="253" name=""/>
              <p:cNvSpPr/>
              <p:nvPr/>
            </p:nvSpPr>
            <p:spPr>
              <a:xfrm>
                <a:off x="1233360" y="990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3049200" y="1066680"/>
                <a:ext cx="5027040" cy="748800"/>
                <a:chOff x="3049200" y="1066680"/>
                <a:chExt cx="5027040" cy="74880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3200760" y="1066680"/>
                  <a:ext cx="4572000" cy="228240"/>
                  <a:chOff x="3200760" y="1066680"/>
                  <a:chExt cx="4572000" cy="22824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2007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1151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0295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9439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8583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1" name=""/>
                <p:cNvSpPr/>
                <p:nvPr/>
              </p:nvSpPr>
              <p:spPr>
                <a:xfrm flipV="1">
                  <a:off x="3276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049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41911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9636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51055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780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60199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7924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69343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7068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7848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621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1217520" y="1766880"/>
              <a:ext cx="6842880" cy="824400"/>
              <a:chOff x="1217520" y="1766880"/>
              <a:chExt cx="6842880" cy="824400"/>
            </a:xfrm>
          </p:grpSpPr>
          <p:sp>
            <p:nvSpPr>
              <p:cNvPr id="274" name=""/>
              <p:cNvSpPr/>
              <p:nvPr/>
            </p:nvSpPr>
            <p:spPr>
              <a:xfrm>
                <a:off x="1217520" y="17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3033360" y="1842840"/>
                <a:ext cx="5027040" cy="748440"/>
                <a:chOff x="3033360" y="1842840"/>
                <a:chExt cx="5027040" cy="748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3184920" y="1842840"/>
                  <a:ext cx="4572000" cy="228240"/>
                  <a:chOff x="3184920" y="1842840"/>
                  <a:chExt cx="4572000" cy="2282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31849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0993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0137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9281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8425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" name=""/>
                <p:cNvSpPr/>
                <p:nvPr/>
              </p:nvSpPr>
              <p:spPr>
                <a:xfrm flipV="1">
                  <a:off x="3260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033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41752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9477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50896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8621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60040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7765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69184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909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7832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605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1217520" y="2528640"/>
              <a:ext cx="6842880" cy="824760"/>
              <a:chOff x="1217520" y="2528640"/>
              <a:chExt cx="6842880" cy="824760"/>
            </a:xfrm>
          </p:grpSpPr>
          <p:sp>
            <p:nvSpPr>
              <p:cNvPr id="295" name=""/>
              <p:cNvSpPr/>
              <p:nvPr/>
            </p:nvSpPr>
            <p:spPr>
              <a:xfrm>
                <a:off x="1217520" y="252864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3033360" y="2604600"/>
                <a:ext cx="5027040" cy="748800"/>
                <a:chOff x="3033360" y="2604600"/>
                <a:chExt cx="5027040" cy="74880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3184920" y="2604600"/>
                  <a:ext cx="4572000" cy="228240"/>
                  <a:chOff x="3184920" y="2604600"/>
                  <a:chExt cx="4572000" cy="2282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31849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0993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50137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9281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8425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 flipV="1">
                  <a:off x="3260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033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41752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9477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50896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8621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60040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7765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69184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6909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7832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605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5" name=""/>
          <p:cNvSpPr/>
          <p:nvPr/>
        </p:nvSpPr>
        <p:spPr>
          <a:xfrm>
            <a:off x="6477120" y="43434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308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3080" y="5119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53080" y="54864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648320" y="762120"/>
            <a:ext cx="4038480" cy="2557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5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z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riginal Sour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342900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3200400"/>
            <a:ext cx="4114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formed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generated by GC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 loop 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 array code to pointer co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in do-while for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need to test at entran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Loop Implem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441972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165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65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1472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*zi + *z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implemented as 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z + 2*(zi+4*zi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-164520"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++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crements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int zi 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end = z + 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i = 10 * zi + *z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8:18Z</dcterms:modified>
  <cp:revision>87</cp:revision>
  <dc:subject/>
  <dc:title>Machine Level Programming IV</dc:title>
</cp:coreProperties>
</file>