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6FF30F1-CA7C-42ED-A2E2-684E1B18ECB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e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ro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abling instruction level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rocesso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ion of instructions into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-of-order execution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anches and Branch 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vi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86120" indent="-61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ata, multiply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two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a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ds from memory to generate temporary resul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.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y operation just operates 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oes not change in loop.  Values will be retrieved from register file during deco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hanges on every iteration.  Uniquely identify different versions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nam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s passed directly from producer to consum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on each iteration.  Renam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12248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12248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3120" y="1297080"/>
            <a:ext cx="828216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50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 are treated similar t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ign tag to define connection between producer and consu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21932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3120" y="1752120"/>
            <a:ext cx="8282160" cy="3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determines destination of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s whether will be taken and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fetching instruction at predicte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unit simply checks whether or not prediction was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, it signals instruction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control then “invalidates” any operations generated from misfetched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s fetching and decoding instructions at correct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114300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5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0760" y="3032280"/>
            <a:ext cx="4767120" cy="27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tical position denotes time at which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begin operation until 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ight denotes la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shown only for operands that are passed within execution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4680" y="990720"/>
            <a:ext cx="3015360" cy="3504960"/>
            <a:chOff x="814680" y="990720"/>
            <a:chExt cx="3015360" cy="3504960"/>
          </a:xfrm>
        </p:grpSpPr>
        <p:sp>
          <p:nvSpPr>
            <p:cNvPr id="196" name=""/>
            <p:cNvSpPr/>
            <p:nvPr/>
          </p:nvSpPr>
          <p:spPr>
            <a:xfrm>
              <a:off x="2700000" y="2084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0640" y="251136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6880" y="137160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62600" y="41911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8120" y="434340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8120" y="25146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5320" y="137160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5320" y="18288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35320" y="22860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16200" y="1600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16200" y="20574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5200" y="990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00680" y="1401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680" y="23623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0920" y="121932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78120" y="121932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16200" y="1676520"/>
              <a:ext cx="4572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3400" y="16765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73400" y="44197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0920" y="25909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191960" y="25909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880" y="274320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572000" y="114300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14300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6440" y="293220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02840" y="334800"/>
            <a:ext cx="707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44920" y="3716280"/>
            <a:ext cx="4152960" cy="27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before, except that add has latency of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226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800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66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5480" y="3733920"/>
              <a:ext cx="129564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5480" y="32767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2680" y="2133720"/>
              <a:ext cx="76212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268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8268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8280" y="1981080"/>
              <a:ext cx="129564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198108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6828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39320" y="33526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888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572000" y="144792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91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 Iterations of Combining Produc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86040" y="990720"/>
            <a:ext cx="3429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operation can start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for multiple iterations overlap i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ing factor becomes latency of integer multipli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 CPE of 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51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4 Iterations of Combining S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14068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a new iteration 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give CPE of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require executing 4 integer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33cccc">
              <a:alpha val="50000"/>
            </a:srgbClr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ing Sum: Resource 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5715000" cy="107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ave two integer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operations delayed even though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riority based on program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tain CPE of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742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vious Best Combining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in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represented by C-style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hieved CPE of 2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es per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multiple iterations into single loop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mortizes loop overhead across multiple it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ish extras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CPE = 1.3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rolled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51792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can pipeline, since don’t have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set of loop control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70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7518240" y="1932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27320" y="23623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03800" y="167652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20040" y="3733920"/>
                <a:ext cx="129528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43520" y="23623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77240" y="121932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77240" y="16765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77240" y="21337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4479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9051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86320" y="1066680"/>
                <a:ext cx="29718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86320" y="25909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00720" y="30481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38800" y="35053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7200" y="281952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3520" y="1066680"/>
                <a:ext cx="0" cy="1526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86320" y="243828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65400" y="28195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22920" y="32767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62640" y="12193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7200" y="16765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45280" y="21337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81600" y="28195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20040" y="32767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81600" y="32767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81600" y="1066680"/>
                <a:ext cx="0" cy="609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20040" y="1066680"/>
                <a:ext cx="0" cy="10670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omplete iteration in 3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E of 1.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teration every 4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587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90520" y="4244760"/>
            <a:ext cx="830736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elps integer sum for our 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ases constrained by functional unit laten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 is nonlinear with degree of unro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subtle effects determine exact scheduling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200240"/>
                <a:gridCol w="914400"/>
                <a:gridCol w="762120"/>
                <a:gridCol w="1162080"/>
                <a:gridCol w="1009440"/>
                <a:gridCol w="1104840"/>
                <a:gridCol w="914400"/>
              </a:tblGrid>
              <a:tr h="426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ia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9880" y="837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52280" y="-76320"/>
            <a:ext cx="7129440" cy="6934320"/>
            <a:chOff x="152280" y="-76320"/>
            <a:chExt cx="7129440" cy="6934320"/>
          </a:xfrm>
        </p:grpSpPr>
        <p:sp>
          <p:nvSpPr>
            <p:cNvPr id="316" name=""/>
            <p:cNvSpPr/>
            <p:nvPr/>
          </p:nvSpPr>
          <p:spPr>
            <a:xfrm>
              <a:off x="152280" y="457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5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1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1760" y="990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" y="838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3000" y="762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" y="762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000" y="-76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000" y="-76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6480" y="4572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15238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8040" y="1371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36640" y="1295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50840" y="1295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0120" y="9907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9400" y="20574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01680" y="19051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0280" y="18288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44480" y="18288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84120" y="15238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3040" y="25909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5320" y="24382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23920" y="23623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8120" y="23623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77760" y="20574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36680" y="31240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89320" y="29718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17920" y="28954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2120" y="28954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1400" y="25909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0680" y="36576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35053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1560" y="34290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5760" y="34290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5040" y="31240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24320" y="41911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6600" y="40384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05200" y="39625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19400" y="39625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59040" y="36576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17960" y="47242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0240" y="45720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8840" y="44956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13040" y="44956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41911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11600" y="52578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64240" y="51055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92840" y="50292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7040" y="50292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6320" y="47242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05240" y="57913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7880" y="56386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86480" y="55627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00680" y="55627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0360" y="52578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99240" y="63244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1520" y="61722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0120" y="6095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4320" y="60958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4000" y="579132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6629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6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e in two different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performed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X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ual Product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X performance improve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362320"/>
            <a:ext cx="3567240" cy="3504960"/>
            <a:chOff x="1828800" y="2362320"/>
            <a:chExt cx="3567240" cy="3504960"/>
          </a:xfrm>
        </p:grpSpPr>
        <p:sp>
          <p:nvSpPr>
            <p:cNvPr id="383" name=""/>
            <p:cNvSpPr/>
            <p:nvPr/>
          </p:nvSpPr>
          <p:spPr>
            <a:xfrm>
              <a:off x="182880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8280" y="34290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952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72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452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6352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7300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9625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8456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1316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2736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6664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25920" y="44956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7820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0680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064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1956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7184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0044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1464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428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3200" y="5562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84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444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864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0832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72000" y="5867280"/>
            <a:ext cx="457200" cy="228600"/>
            <a:chOff x="4572000" y="5867280"/>
            <a:chExt cx="457200" cy="228600"/>
          </a:xfrm>
        </p:grpSpPr>
        <p:sp>
          <p:nvSpPr>
            <p:cNvPr id="414" name=""/>
            <p:cNvSpPr/>
            <p:nvPr/>
          </p:nvSpPr>
          <p:spPr>
            <a:xfrm>
              <a:off x="45720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72000" y="5867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91120" y="6095880"/>
            <a:ext cx="533160" cy="304920"/>
          </a:xfrm>
          <a:prstGeom prst="roundRect">
            <a:avLst>
              <a:gd name="adj" fmla="val 19644"/>
            </a:avLst>
          </a:prstGeom>
          <a:solidFill>
            <a:srgbClr val="99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02160" y="640080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80880" y="2362320"/>
            <a:ext cx="3962520" cy="3733560"/>
            <a:chOff x="380880" y="2362320"/>
            <a:chExt cx="3962520" cy="3733560"/>
          </a:xfrm>
        </p:grpSpPr>
        <p:sp>
          <p:nvSpPr>
            <p:cNvPr id="419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160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60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2508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6524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1908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5888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1272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5288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0636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652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6040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434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4360" y="5867280"/>
              <a:ext cx="68904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320" y="247680"/>
            <a:ext cx="904536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quirements for Paralle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thematic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ing operation must be associative &amp;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 for integer multipl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strictly true for floating po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 for most appli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d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ility to dynamically extract parallelism from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42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65760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multiplies within loop no longer have data dep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them to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347000" y="914400"/>
            <a:ext cx="3853440" cy="3962520"/>
            <a:chOff x="4347000" y="914400"/>
            <a:chExt cx="3853440" cy="3962520"/>
          </a:xfrm>
        </p:grpSpPr>
        <p:sp>
          <p:nvSpPr>
            <p:cNvPr id="459" name=""/>
            <p:cNvSpPr/>
            <p:nvPr/>
          </p:nvSpPr>
          <p:spPr>
            <a:xfrm>
              <a:off x="747108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4700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16002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700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3800" y="4343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723920" y="914400"/>
              <a:ext cx="2892960" cy="3934080"/>
              <a:chOff x="4723920" y="914400"/>
              <a:chExt cx="2892960" cy="3934080"/>
            </a:xfrm>
          </p:grpSpPr>
          <p:sp>
            <p:nvSpPr>
              <p:cNvPr id="466" name=""/>
              <p:cNvSpPr/>
              <p:nvPr/>
            </p:nvSpPr>
            <p:spPr>
              <a:xfrm>
                <a:off x="4952880" y="2971800"/>
                <a:ext cx="106704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70400" y="200808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1296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6668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932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10080" y="4267080"/>
                <a:ext cx="213372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10080" y="24382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5720" y="129528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5720" y="22096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86600" y="15238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86600" y="19810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0752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52880" y="1143000"/>
                <a:ext cx="213372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10080" y="114300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086600" y="160020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52880" y="251460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723920" y="25146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7280" y="31240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932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48520" y="472428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48520" y="28954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48520" y="1143000"/>
                <a:ext cx="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028840" y="29718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4723920" y="29718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866920" y="43434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5140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9200" y="12952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3760" y="17524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44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keep 4-cycle multiplier busy performing two simultaneous multi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s CPE of 2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700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Forms of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claration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ata_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1240" y="4244760"/>
            <a:ext cx="407664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finitions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28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Results for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Unrolling: Method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pairs of elements 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then update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e height reduction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5440" y="990720"/>
            <a:ext cx="5256360" cy="47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aa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*=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#2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be 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PE = 2.0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asured CPE wor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80880" y="1870200"/>
            <a:ext cx="4114800" cy="4225680"/>
            <a:chOff x="380880" y="1870200"/>
            <a:chExt cx="4114800" cy="4225680"/>
          </a:xfrm>
        </p:grpSpPr>
        <p:sp>
          <p:nvSpPr>
            <p:cNvPr id="507" name=""/>
            <p:cNvSpPr/>
            <p:nvPr/>
          </p:nvSpPr>
          <p:spPr>
            <a:xfrm>
              <a:off x="3657600" y="5867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15600" y="1870200"/>
              <a:ext cx="695520" cy="1025280"/>
              <a:chOff x="615600" y="1870200"/>
              <a:chExt cx="695520" cy="102528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23623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18702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212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5600" y="18702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2120" y="26668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225440" y="2403360"/>
              <a:ext cx="695520" cy="1025280"/>
              <a:chOff x="1225440" y="2403360"/>
              <a:chExt cx="695520" cy="102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1295640" y="28954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600560" y="24033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96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5440" y="24033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960" y="32000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5284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834920" y="2936880"/>
              <a:ext cx="695520" cy="1025280"/>
              <a:chOff x="1834920" y="2936880"/>
              <a:chExt cx="695520" cy="1025280"/>
            </a:xfrm>
          </p:grpSpPr>
          <p:sp>
            <p:nvSpPr>
              <p:cNvPr id="541" name=""/>
              <p:cNvSpPr/>
              <p:nvPr/>
            </p:nvSpPr>
            <p:spPr>
              <a:xfrm>
                <a:off x="1905120" y="342900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10040" y="293688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8144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34920" y="293688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81440" y="373356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6232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444400" y="3470400"/>
              <a:ext cx="695520" cy="1025280"/>
              <a:chOff x="2444400" y="3470400"/>
              <a:chExt cx="695520" cy="1025280"/>
            </a:xfrm>
          </p:grpSpPr>
          <p:sp>
            <p:nvSpPr>
              <p:cNvPr id="548" name=""/>
              <p:cNvSpPr/>
              <p:nvPr/>
            </p:nvSpPr>
            <p:spPr>
              <a:xfrm>
                <a:off x="2514600" y="39625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19520" y="34704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9092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4400" y="34704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90920" y="42670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7180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054240" y="4003560"/>
              <a:ext cx="695520" cy="1025280"/>
              <a:chOff x="3054240" y="4003560"/>
              <a:chExt cx="695520" cy="1025280"/>
            </a:xfrm>
          </p:grpSpPr>
          <p:sp>
            <p:nvSpPr>
              <p:cNvPr id="555" name=""/>
              <p:cNvSpPr/>
              <p:nvPr/>
            </p:nvSpPr>
            <p:spPr>
              <a:xfrm>
                <a:off x="3124440" y="44956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29360" y="40035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0076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54240" y="40035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00760" y="48002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8164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624120" y="4537080"/>
              <a:ext cx="871560" cy="1025640"/>
              <a:chOff x="3624120" y="4537080"/>
              <a:chExt cx="871560" cy="102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3733920" y="5029200"/>
                <a:ext cx="533160" cy="30492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962520" y="4537080"/>
                <a:ext cx="53316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0988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24120" y="4537080"/>
                <a:ext cx="3877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09880" y="5334120"/>
                <a:ext cx="15264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19112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8" name=""/>
          <p:cNvGraphicFramePr/>
          <p:nvPr/>
        </p:nvGraphicFramePr>
        <p:xfrm>
          <a:off x="4419720" y="3809880"/>
          <a:ext cx="4267080" cy="21718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measured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theoretical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7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533412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Paralleli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4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multiplies perfomed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1920" y="396252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x *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400" y="137160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(x * data[i]) *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5257800"/>
            <a:ext cx="349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 overl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334120" y="168120"/>
            <a:ext cx="3592440" cy="3489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07468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Parallel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hold sums/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6 usable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so needed for pointers, loop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P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enough registers, must spill temporaries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pes out any performance gai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helped by renam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reference more operands than instruction set al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jor drawback of IA32 instruction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pil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6320" y="1220760"/>
            <a:ext cx="4419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X 8 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ocal variables share 1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that are storing locals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8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Results for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gain doing basic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last little bit hel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Alpha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trends very similar to those for Pentium III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very different architecture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Pentium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518148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atencies (int * = 14, fp + = 5.0, fp * = 7.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ck runs at 2.0 GHz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n improvement over 1.0 GHz P3 for integer *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FP multiplication anoma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421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About Branch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624880" cy="514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must work well ahead of Exec.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 generate enough operations to keep EU bus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30120" y="2873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30960" y="294012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30960" y="354960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97440" y="30528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8880" y="362592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813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.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0000"/>
          </a:bodyPr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unction calls and memory references within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FP product of all elements exceptionally s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arge speedup when accumulate in tempora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used by quirk of IA32 floating po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uses 64-bit format, register use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nchmark data caused overflow of 64 bits, but not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23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057400"/>
          <a:ext cx="822960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29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467480" y="2819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74920"/>
            <a:ext cx="3800520" cy="1195560"/>
          </a:xfrm>
          <a:custGeom>
            <a:avLst/>
            <a:gdLst/>
            <a:ahLst/>
            <a:rect l="l" t="t" r="r" b="b"/>
            <a:pathLst>
              <a:path w="2394" h="753">
                <a:moveTo>
                  <a:pt x="0" y="753"/>
                </a:moveTo>
                <a:cubicBezTo>
                  <a:pt x="243" y="749"/>
                  <a:pt x="1109" y="744"/>
                  <a:pt x="1456" y="729"/>
                </a:cubicBezTo>
                <a:cubicBezTo>
                  <a:pt x="1803" y="714"/>
                  <a:pt x="1956" y="747"/>
                  <a:pt x="2082" y="661"/>
                </a:cubicBezTo>
                <a:cubicBezTo>
                  <a:pt x="2208" y="575"/>
                  <a:pt x="2184" y="316"/>
                  <a:pt x="2214" y="211"/>
                </a:cubicBezTo>
                <a:cubicBezTo>
                  <a:pt x="2244" y="106"/>
                  <a:pt x="2232" y="62"/>
                  <a:pt x="2262" y="31"/>
                </a:cubicBezTo>
                <a:cubicBezTo>
                  <a:pt x="2292" y="0"/>
                  <a:pt x="2367" y="26"/>
                  <a:pt x="2394" y="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5938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Outco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 conditional branch, cannot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Taken: Transfer control to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Not-Taken: Continue with next instruction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resolve until outcome determined by branch/integer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63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0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way branch will g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gin executing instructions at predicted pos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don’t actually modify register or memory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85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 Through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4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In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5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Recove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90520" y="5076360"/>
            <a:ext cx="830736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ion on Pentium III wastes ~14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a lot of time on a high performance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 Modern Processor, Branches Very Expensiv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ess prediction can be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ossible, best to avoid al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maximum of two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when prediction 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9 cycles when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3080" y="4549680"/>
            <a:ext cx="361044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x &lt; y) ? y :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4092480"/>
            <a:ext cx="5181480" cy="1734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e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when &gt;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style of Lab #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asking rather tha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still uses condit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 cycles when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cycles when mispredi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55840" y="1981080"/>
            <a:ext cx="4844880" cy="1460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4648320"/>
            <a:ext cx="518148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d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if x&lt;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ce compiler to generate desir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lat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claration forces value to be written 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must therefore generate code to comput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est way i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very elegan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ack to get control ove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 clock cycles on all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than mispredi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320" y="1684440"/>
            <a:ext cx="3884760" cy="2009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v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latile int t = 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1676520"/>
            <a:ext cx="495324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(x&gt;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ext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as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rieve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Mo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with P6 microarchitecture (PentiumPro onwar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ov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 %edx,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ondition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olds, cop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n’t involve any bran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ndled as operation within Execution U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rrent version of GCC won’t use this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nks it’s compiling for a 3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on all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3880" y="3048120"/>
            <a:ext cx="5181840" cy="1186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ov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,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07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carefully at generated code to see whether helpfu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compilers do this automat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not as clever as what can achieve by ha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machine 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nefits depend heavily on particula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st if perform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GCC on IA32/Linux is not very goo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only for performance-critical parts of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08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pointers rather than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3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ops!  We’re not making progress her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ome compilers do better job optimizing arra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16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of Programm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83908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w should I write my programs, given that I have a good, optimizing compiler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read, maintain, &amp; assure correctn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best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that’s readable &amp; maintain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, recursion, without built-in constant lim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these factors can slow dow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optimization blo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compiler to do its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detailed optimizations where code will be executed repeated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et most performance gain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vs. Array Code Inner Lo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Code: 4 instructions in 2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Code: Almost same 4 instructions in 3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862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276720"/>
            <a:ext cx="5029200" cy="30477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66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9680" y="19731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40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737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568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3035160"/>
            <a:ext cx="885348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8380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2952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12193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18288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4479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05520" y="20574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3680" y="1119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41520" y="17445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3560" y="27432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3716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18288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0574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3623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29Z</dcterms:modified>
  <cp:revision>108</cp:revision>
  <dc:subject/>
  <dc:title>Code Optimization II</dc:title>
</cp:coreProperties>
</file>