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905CE25-E296-4DD6-B89F-8494A60843B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1836720"/>
            <a:ext cx="714852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y Programmer’s Execution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89520" y="3054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7280" y="2579760"/>
            <a:ext cx="326412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89520" y="4197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89520" y="5340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57800" y="5029200"/>
            <a:ext cx="99072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urning C into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file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1.c p2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with comman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O p1.c p2.c -o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O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8450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ing Into 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143000"/>
            <a:ext cx="162252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1111320"/>
            <a:ext cx="3594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0384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97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haracterist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5485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” data of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es (untyped pointer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of 4, 8, or 10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aggregate types such as arrays or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contiguously allocated bytes 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arithmetic function on register or memory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data between memory and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 data from memory into regis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gister data into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conditional jumps to/from proced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05320" y="83808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at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encoding of each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ly-complete image of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ing linkages between code in differen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lves references between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s with static run-time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libraries ar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ynamical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king occurs when program begins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905120"/>
            <a:ext cx="236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of 1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instruction 1, 2, or 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rts at addre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0" y="8380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two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2 4-byte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” words in GCC parl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instruction whether signed or unsig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+8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064520" indent="-1580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-byt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104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143000"/>
            <a:ext cx="388296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2860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819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820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ing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4114440"/>
            <a:ext cx="8140680" cy="224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bjdump -d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tool for examining objec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alyzes bit pattern of series of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s approximate rendition of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run on eith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mplete executable)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Dis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97160" y="4195800"/>
            <a:ext cx="6300720" cy="22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db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isassemble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/13b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the 13 bytes starting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523880"/>
            <a:ext cx="1524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52880" y="3733920"/>
            <a:ext cx="144792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828800" y="5028840"/>
            <a:ext cx="83808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Can be Disassembl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0520" y="5138280"/>
            <a:ext cx="83073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thing that can be interpreted as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r examines bytes and reconstructs assembly sour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19320"/>
            <a:ext cx="815328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ing 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7786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4-byte (“long”)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hese in typical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: Constant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C constant, but prefixed with ‘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4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-5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d with 1, 2, or 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: One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served for special u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s have special uses for particular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4 consecutive byte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“address mode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400800" y="380880"/>
            <a:ext cx="2514600" cy="3581280"/>
            <a:chOff x="6400800" y="380880"/>
            <a:chExt cx="2514600" cy="3581280"/>
          </a:xfrm>
        </p:grpSpPr>
        <p:sp>
          <p:nvSpPr>
            <p:cNvPr id="166" name=""/>
            <p:cNvSpPr/>
            <p:nvPr/>
          </p:nvSpPr>
          <p:spPr>
            <a:xfrm>
              <a:off x="6400800" y="380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8380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0800" y="12952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0800" y="17524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0800" y="22096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2666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1240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35812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ov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Operand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3240" y="5284440"/>
            <a:ext cx="760428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o memory-memory transfers with singl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968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28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272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56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2204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88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204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88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2204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044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060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14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03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736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664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664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980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900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936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46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568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568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9691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in 1978 with 80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more features as time goes 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upport old features, although obsole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different instructions with many different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, only small subset encountered with Linux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tch performance of Reduced Instruction Set Computers (RIS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tel has done just tha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035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memory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start of memory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displacement D specifies off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5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52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40480" y="914400"/>
            <a:ext cx="3303000" cy="3352320"/>
            <a:chOff x="5640480" y="914400"/>
            <a:chExt cx="3303000" cy="3352320"/>
          </a:xfrm>
        </p:grpSpPr>
        <p:sp>
          <p:nvSpPr>
            <p:cNvPr id="218" name=""/>
            <p:cNvSpPr/>
            <p:nvPr/>
          </p:nvSpPr>
          <p:spPr>
            <a:xfrm>
              <a:off x="6553080" y="2361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2742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312408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3080" y="3504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620120" y="365724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14120" y="348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20640" y="3504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2064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0640" y="2742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20640" y="2361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0480" y="1904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914400"/>
              <a:ext cx="10670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3885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0640" y="3885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266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275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17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26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68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77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19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28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70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79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21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30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yp = 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72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81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-bit processor.  Basis for IBM PC &amp; D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ed to 1MB address space.  DOS only gives you 640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elaborate, but not very useful, addressing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IBM PC-AT and Wind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to 32 bits.  Added “flat address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pable of running Un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/gcc uses no instructions introduced in later mode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dexed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“displacement”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register: Any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register: Any, except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ei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le: 1, 2, 4, or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066680" y="3124080"/>
          <a:ext cx="6934320" cy="2540160"/>
        </p:xfrm>
        <a:graphic>
          <a:graphicData uri="http://schemas.openxmlformats.org/drawingml/2006/table">
            <a:tbl>
              <a:tblPr/>
              <a:tblGrid>
                <a:gridCol w="2671920"/>
                <a:gridCol w="2741400"/>
                <a:gridCol w="1521000"/>
              </a:tblGrid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puta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8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(%ed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,4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4*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4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0(,%edx,2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2*0xf000 + 0x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1e0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88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Instru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ddress mode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ddress denoted by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ddress without doing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 = &amp;x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rithmetic expressions of the form x + k*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 = 1, 2, 4, or 8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b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l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lt;&l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all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o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^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rl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|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188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e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g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ot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~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75760" y="304920"/>
            <a:ext cx="886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e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or Arithmetic Expres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1143000"/>
            <a:ext cx="4114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92540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411880" y="1066680"/>
            <a:ext cx="3356280" cy="2971800"/>
            <a:chOff x="5411880" y="1066680"/>
            <a:chExt cx="3356280" cy="2971800"/>
          </a:xfrm>
        </p:grpSpPr>
        <p:sp>
          <p:nvSpPr>
            <p:cNvPr id="616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39152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85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9204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9204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9204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9204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188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752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9204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160020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990720"/>
            <a:ext cx="44193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666880" y="2514600"/>
            <a:ext cx="1752840" cy="76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895480" y="3123720"/>
            <a:ext cx="1752840" cy="457560"/>
            <a:chOff x="2895480" y="3123720"/>
            <a:chExt cx="1752840" cy="457560"/>
          </a:xfrm>
        </p:grpSpPr>
        <p:sp>
          <p:nvSpPr>
            <p:cNvPr id="636" name=""/>
            <p:cNvSpPr/>
            <p:nvPr/>
          </p:nvSpPr>
          <p:spPr>
            <a:xfrm flipV="1">
              <a:off x="2895480" y="3123720"/>
              <a:ext cx="167652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95480" y="3429000"/>
              <a:ext cx="1752840" cy="152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819520" y="2895480"/>
            <a:ext cx="175248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514600" y="3124080"/>
            <a:ext cx="1981080" cy="1600200"/>
            <a:chOff x="2514600" y="3124080"/>
            <a:chExt cx="1981080" cy="1600200"/>
          </a:xfrm>
        </p:grpSpPr>
        <p:sp>
          <p:nvSpPr>
            <p:cNvPr id="640" name=""/>
            <p:cNvSpPr/>
            <p:nvPr/>
          </p:nvSpPr>
          <p:spPr>
            <a:xfrm>
              <a:off x="2971800" y="3733920"/>
              <a:ext cx="1523880" cy="99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4600" y="3124080"/>
              <a:ext cx="1981080" cy="1600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3276720" y="4038480"/>
            <a:ext cx="121896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0280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7804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8840" y="4267080"/>
            <a:ext cx="277128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994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Proper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can reference different 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, register,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operations can read/write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an involve complex 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 + S*Ri +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for arithmetic expressions, to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can have vary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instructions can range from 1 to 15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conditional mov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change in underlying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239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Abstract Machi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5524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8964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80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166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396440" y="2673360"/>
            <a:ext cx="1913400" cy="368280"/>
            <a:chOff x="1396440" y="2673360"/>
            <a:chExt cx="1913400" cy="368280"/>
          </a:xfrm>
        </p:grpSpPr>
        <p:sp>
          <p:nvSpPr>
            <p:cNvPr id="663" name=""/>
            <p:cNvSpPr/>
            <p:nvPr/>
          </p:nvSpPr>
          <p:spPr>
            <a:xfrm>
              <a:off x="139644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9840" y="2895480"/>
              <a:ext cx="444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18340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496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2-byte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4-byte long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5560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9480" y="4876920"/>
            <a:ext cx="3338640" cy="1365120"/>
            <a:chOff x="609480" y="4876920"/>
            <a:chExt cx="3338640" cy="1365120"/>
          </a:xfrm>
        </p:grpSpPr>
        <p:sp>
          <p:nvSpPr>
            <p:cNvPr id="671" name=""/>
            <p:cNvSpPr/>
            <p:nvPr/>
          </p:nvSpPr>
          <p:spPr>
            <a:xfrm>
              <a:off x="609480" y="5029200"/>
              <a:ext cx="746280" cy="11368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0880" y="5029200"/>
              <a:ext cx="76176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69800" y="5251680"/>
              <a:ext cx="298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39840" y="5029200"/>
              <a:ext cx="65268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4720" y="4876920"/>
              <a:ext cx="2273400" cy="13651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83000" y="5632560"/>
              <a:ext cx="1284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7880" y="5480280"/>
              <a:ext cx="6094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20880" y="5480280"/>
              <a:ext cx="761760" cy="6858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d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520560"/>
            <a:ext cx="543096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Pro (P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nounced in Feb. ‘9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Pentium II, Pentium III, and Celeron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4 similar idea, but different det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translates instructions to more regular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y wide, but simpl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s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5 a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deep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2–18 cycle lat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2993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024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40896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740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equen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lationship between IA32 code &amp; what actually gets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icky to predict / optimize performance at assembly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ose Assembler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90520" y="2971800"/>
            <a:ext cx="8701200" cy="34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 listed in opposite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st, Sr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rc, 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s not preceded by ‘$’, Denote hex with ‘h’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0h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 size indicated by operands rather than operator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ing format shows effective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eax*4+100h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(,%eax,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76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fish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8-byte formats and 144 new instructions for streaming SIM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67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stor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D has followed just behind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little bit slower, a lot cheap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ruited top circuit designers from Digital Equipment Cor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ed fact that Intel distracted by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w are close competitors to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ing own extension to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514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 start-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loyer of Linus Torval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different approach to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es x86 code into “Very Long Instruction Word” (VLIW)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 degree of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oting for low-power mark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045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w Species: IA6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s to IA64, a 64-bi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new instruction set designed for high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 able to run existing IA32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-board “x86 engin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oint project with Hewlett-Pack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2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performance bo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760920"/>
            <a:ext cx="4357800" cy="26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ddress of next instruc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eavily used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ore status information about most recent arithmetic oper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sed for conditional branch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380880" cy="14479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447920"/>
            <a:ext cx="1371600" cy="76176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990720"/>
            <a:ext cx="3200400" cy="22096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2286000" cy="3809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67652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75248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28600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81952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4604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43828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97180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2362320"/>
            <a:ext cx="1371600" cy="6858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43400" y="4876920"/>
            <a:ext cx="4076640" cy="156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yte addressable arr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user data, (some) OS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cludes stack used to support procedur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9:54Z</dcterms:modified>
  <cp:revision>67</cp:revision>
  <dc:subject/>
  <dc:title>Machine Level Programming I</dc:title>
</cp:coreProperties>
</file>