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FACAA03-2C09-44B0-8D89-D7AC0432D5C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Overview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urpose of Cours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6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5" name="monk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2468520" cy="2194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90520" y="3657600"/>
            <a:ext cx="4586400" cy="2743200"/>
            <a:chOff x="290520" y="3657600"/>
            <a:chExt cx="4586400" cy="2743200"/>
          </a:xfrm>
        </p:grpSpPr>
        <p:pic>
          <p:nvPicPr>
            <p:cNvPr id="87" name="guinea%20pig" descr=""/>
            <p:cNvPicPr/>
            <p:nvPr/>
          </p:nvPicPr>
          <p:blipFill>
            <a:blip r:embed="rId2"/>
            <a:stretch/>
          </p:blipFill>
          <p:spPr>
            <a:xfrm>
              <a:off x="1219320" y="3657600"/>
              <a:ext cx="3657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90520" y="3886200"/>
              <a:ext cx="7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You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5557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Out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quential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imple, but not very fast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more things running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d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performance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ve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through designs for particular instruction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86---a simplified version of the Intel IA32 (a.k.a. x86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you know one, you more-or-less know them 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at “microarchitectural”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 basic hardware blocks into overall processor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ies, functional units,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rround by control logic to make sure each instruction flows through proper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imple hardware description language to describe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extend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 via sim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chedu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rite &amp; test assembly code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and initial pipelined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dd new instructions to 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ing the pipeline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ptimize program+pipeline for maximu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49Z</dcterms:modified>
  <cp:revision>64</cp:revision>
  <dc:subject>SRC Review Slides</dc:subject>
  <dc:title>Formal Processor Verification</dc:title>
</cp:coreProperties>
</file>