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2725F9E3-9E5C-4492-B5F0-90A9DA4EA846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Optimization I: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 Independent Optimization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pt. 26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571788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chine-Independent Optimiz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de mo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duction in strength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mon subexpression shar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un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dentifying performance bottleneck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10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34800"/>
            <a:ext cx="4681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ector AD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8381880" cy="415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dur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ec_ptr new_vec(int len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reate vector of specified length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get_vec_element(vec_ptr v, int index, int *dest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trieve vector element, store at *de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turn 0 if out of bounds, 1 if successfu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*get_vec_start(vec_ptr v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turn pointer to start of vector dat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milar to array implementations in Pascal, ML, Jav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always do bounds check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295280" y="1523880"/>
            <a:ext cx="3657600" cy="609840"/>
            <a:chOff x="1295280" y="1523880"/>
            <a:chExt cx="3657600" cy="609840"/>
          </a:xfrm>
        </p:grpSpPr>
        <p:sp>
          <p:nvSpPr>
            <p:cNvPr id="116" name=""/>
            <p:cNvSpPr/>
            <p:nvPr/>
          </p:nvSpPr>
          <p:spPr>
            <a:xfrm>
              <a:off x="1295280" y="1523880"/>
              <a:ext cx="9144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length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95280" y="1828800"/>
              <a:ext cx="9144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2819520" y="1828800"/>
              <a:ext cx="2133000" cy="304920"/>
              <a:chOff x="2819520" y="1828800"/>
              <a:chExt cx="2133000" cy="304920"/>
            </a:xfrm>
          </p:grpSpPr>
          <p:sp>
            <p:nvSpPr>
              <p:cNvPr id="119" name=""/>
              <p:cNvSpPr/>
              <p:nvPr/>
            </p:nvSpPr>
            <p:spPr>
              <a:xfrm>
                <a:off x="2819520" y="18288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124080" y="18288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429000" y="1828800"/>
                <a:ext cx="3042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47960" y="18288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33560" y="1828800"/>
                <a:ext cx="91404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 </a:t>
                </a:r>
                <a:r>
                  <a:rPr b="1" lang="en-US" sz="18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 </a:t>
                </a:r>
                <a:r>
                  <a:rPr b="1" lang="en-US" sz="18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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2057400" y="1981080"/>
              <a:ext cx="7621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19520" y="1523880"/>
              <a:ext cx="304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24080" y="1523880"/>
              <a:ext cx="3049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29000" y="1523880"/>
              <a:ext cx="3049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48320" y="1523880"/>
              <a:ext cx="304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ength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334800"/>
            <a:ext cx="6129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timiza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160" y="42667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du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sum of all elements of vect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 result at destination 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30360" y="990720"/>
            <a:ext cx="5530680" cy="283212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1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vec_length(v)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_vec_element(v, i, &amp;val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+=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334800"/>
            <a:ext cx="5443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ime Sca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bsolute Tim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ypically use nanosecon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</a:t>
            </a:r>
            <a:r>
              <a:rPr b="1" lang="en-US" sz="1800" spc="-1" strike="noStrike" baseline="30000">
                <a:solidFill>
                  <a:srgbClr val="000099"/>
                </a:solidFill>
                <a:latin typeface="Arial"/>
              </a:rPr>
              <a:t>–9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second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scale of computer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ock Cycl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st computers controlled by high frequency clock sign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ypical Ran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0 MHz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0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cycles per secon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ock period = 10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 GHz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 X 10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cycles per secon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ock period = 0.5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sh machines: 550 MHz (1.8 ns clock period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34800"/>
            <a:ext cx="5710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ycles Per Elem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151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venient way to express performance of program that operators on vectors or lis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ngth = 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 = CPE*n + Overhea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676520" y="2514600"/>
          <a:ext cx="5848200" cy="405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14600"/>
                    <a:ext cx="584820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3933720" y="3362400"/>
            <a:ext cx="12574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su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lope = 4.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4343400"/>
            <a:ext cx="15433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su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lope = 3.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8960" y="334800"/>
            <a:ext cx="5824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timiza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3877920"/>
            <a:ext cx="8305560" cy="244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08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du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21280" indent="-206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sum of all elements of integer vect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1280" indent="-206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 result at destination 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1280" indent="-206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ctor data structure and operations defined via abstract data typ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08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ntium II/III Performance: Clock Cycles / El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21280" indent="-206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2.06 (Compiled -g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1.25 (Compiled -O2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1280" indent="0">
              <a:spcBef>
                <a:spcPts val="624"/>
              </a:spcBef>
              <a:buNone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30360" y="990720"/>
            <a:ext cx="5530680" cy="283212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1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vec_length(v)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_vec_element(v, i, &amp;val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+=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6205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Lo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5181120"/>
            <a:ext cx="825480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efficienc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dure vec_length called every it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n though result always the sa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990720"/>
            <a:ext cx="5680080" cy="420372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1-goto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i &gt;= vec_length(v)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don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_vec_element(v, i, &amp;val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+=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i &lt; </a:t>
            </a:r>
            <a:r>
              <a:rPr b="1" i="1" lang="en-US" sz="1800" spc="-1" strike="noStrike">
                <a:solidFill>
                  <a:srgbClr val="a50021"/>
                </a:solidFill>
                <a:latin typeface="Courier New"/>
              </a:rPr>
              <a:t>vec_length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v)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n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2200" y="3124080"/>
            <a:ext cx="457200" cy="1447920"/>
          </a:xfrm>
          <a:custGeom>
            <a:avLst/>
            <a:gdLst>
              <a:gd name="textAreaLeft" fmla="*/ 0 w 457200"/>
              <a:gd name="textAreaRight" fmla="*/ 164880 w 4572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16440" y="26668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 iter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66360" y="334800"/>
            <a:ext cx="8248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ve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vec_length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Call Out of Lo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41148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4760" indent="-219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ve call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ec_lengt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ut of inner loo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124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alue does not change from one iteration to nex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124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de mo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4760" indent="-219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E:   20.66 (Compiled -O2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124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vec_length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requires only constant time, but significant overhea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4760" indent="0">
              <a:spcBef>
                <a:spcPts val="624"/>
              </a:spcBef>
              <a:buNone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31440" y="990720"/>
            <a:ext cx="4982040" cy="310644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2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length = vec_length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length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_vec_element(v, i, &amp;val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+=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080800" y="1905120"/>
            <a:ext cx="4982040" cy="200916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lower(char *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strlen(s)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s[i] &gt;= 'A' &amp;&amp; s[i] &lt;= 'Z'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[i] -= ('A' - 'a'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334800"/>
            <a:ext cx="6751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Motion Example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dure to Convert String to Lower Cas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tracted from 213 lab submissions, Fall, 199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334800"/>
            <a:ext cx="8678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ower Case Conversion Performan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90520" y="1522440"/>
            <a:ext cx="8307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quadruples when double string lengt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Quadratic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85960" y="2438280"/>
          <a:ext cx="7372080" cy="351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5960" y="2438280"/>
                    <a:ext cx="7372080" cy="35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334800"/>
            <a:ext cx="7031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vert Loop To Goto For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3120" y="5000760"/>
            <a:ext cx="82821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8000"/>
          </a:bodyPr>
          <a:p>
            <a:pPr lvl="1" marL="431640" indent="-142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rl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executed every it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31640" indent="-142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rl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inear in length of str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664560" indent="-1378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ust scan string until find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'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\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'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31640" indent="-142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all performance is quadrat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09680" y="1143000"/>
            <a:ext cx="4962600" cy="366012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lower(char *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i &gt;= strlen(s)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don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s[i] &gt;= 'A' &amp;&amp; s[i] &lt;= 'Z'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[i] -= ('A' - 'a'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i &lt; 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strlen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s)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loo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n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68280"/>
            <a:ext cx="5316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reat Reality #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There’s more to performance than asymptotic complexit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stant factors matter too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sily see 10:1 performance range depending on how code is writte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optimize at multiple levels: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gorithm, data representations, procedures, and loop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ust understand system to optimize 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programs are compiled and execu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to measure program performance and identify bottlene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to improve performance without destroying code modularity and general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334800"/>
            <a:ext cx="6230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roving Performan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90520" y="3866760"/>
            <a:ext cx="8307360" cy="257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ve call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rl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utside of loo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nce result does not change from one iteration to anoth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m of code mo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88640" y="1143000"/>
            <a:ext cx="4982040" cy="228348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lower(char *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len = strlen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s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 len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s[i] &gt;= 'A' &amp;&amp; s[i] &lt;= 'Z'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[i] -= ('A' - 'a'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334800"/>
            <a:ext cx="8763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ower Case Conversion Performan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90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doubles when double string lengt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ear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888840" y="1943280"/>
          <a:ext cx="7328160" cy="397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8840" y="1943280"/>
                    <a:ext cx="7328160" cy="39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timization Blocker: Procedure Call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06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54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Why couldn’t the compiler mov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vec_len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trlen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 out of the inner loop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dure may have side effec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54440" indent="-219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ters global state each time call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unction may not return same value for given argu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54440" indent="-219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pends on other parts of global sta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54440" indent="-219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cedur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ower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could interact with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trle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54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Why doesn’t compiler look at code for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vec_len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trlen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ker may overload with different ver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54440" indent="-219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less declared stati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rprocedural optimization is not used extensively due to co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4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arning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 treats procedure call as a black bo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ak optimizations in and around th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1760" y="334800"/>
            <a:ext cx="6281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duction in Strength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373392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void procedure call to retrieve each vector el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et pointer to start of array before loop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thin loop just do pointer refere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as clean in terms of data abstra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E:   6.00 (Compiled -O2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cedure calls are expensive!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ounds checking is expensiv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31440" y="990720"/>
            <a:ext cx="4982040" cy="255780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3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ength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+= data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9440" y="334800"/>
            <a:ext cx="8966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liminate Unneeded Memory Ref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3120" y="4017600"/>
            <a:ext cx="8282160" cy="234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n’t need to store in destination until en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cal variabl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u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held in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voids 1 memory read, 1 memory write per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E:   2.00 (Compiled -O2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mory references are expensive!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31440" y="990720"/>
            <a:ext cx="4982040" cy="283212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4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ength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m += data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sum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80" y="334800"/>
            <a:ext cx="9016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tecting Unneeded Memory Refs.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3120" y="4017600"/>
            <a:ext cx="8282160" cy="234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e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5 instructions in 6 clock cyc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dd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must read and write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e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 instructions in  2 clock cyc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9960" y="1501920"/>
            <a:ext cx="4250520" cy="17348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18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,%edx,4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%eax,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(%ed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.L1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7600" y="1066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bine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12120" y="1501920"/>
            <a:ext cx="4250520" cy="17348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24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(%eax,%edx,4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.L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02400" y="1066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bine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320" y="304920"/>
            <a:ext cx="9144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timization Blocker: Memory Alias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ias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wo different memory references specify single 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: [3, 2, 17]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ombine3(v, get_vec_start(v)+2)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-&g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ombine4(v, get_vec_start(v)+2)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-&g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serv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sy to have happen in 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ince allowed to do address arithmeti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rect access to storage structur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t in habit of introducing local variab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ccumulating within loop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Your way of telling compiler not to check for alias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477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Independent Opt. 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Mo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ompilers are good at this for simple loop/array structur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Don’t do well in presence of procedure calls and memory alias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duction in Strength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ift, add instead of multiply or divi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compilers are (generally) good at thi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Exact trade-offs machine-depend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ep data in registers rather than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compilers are not good at this, since concerned with alias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hare Common Subexpress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ompilers have limited algebraic reasoning capabilit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160" y="334800"/>
            <a:ext cx="5849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ortant Tool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asur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urately compute time taken by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ost modern machines have built in cycle count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ing them to get reliable measurements is trick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file procedure calling frequenc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ix tool gprof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serv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ating assembly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ets you see what optimizations compiler can mak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derstand capabilities/limitations of particular compil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334800"/>
            <a:ext cx="6688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Profilin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"/>
          </a:bodyPr>
          <a:p>
            <a:pPr marL="34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as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unt word frequencies in text docu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duce sorted list of words from most frequent to lea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ep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vert strings to lowerca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pply hash fun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words and insert into hash t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2960" indent="-21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ostly list oper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2960" indent="-21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intain counter for each unique wor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rt resul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a Se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llected works of Shakespea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946,596 total words, 26,596 uniq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itial implementation: 9.2 secon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867280" y="3124080"/>
          <a:ext cx="2438280" cy="311148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</a:tblGrid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9,80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h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7,529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an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1,029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0,957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8,514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of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5,37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401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you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2,936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my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,722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n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,519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hat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5780520" y="2362320"/>
            <a:ext cx="2556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144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Shakespeare’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1144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most frequent word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6561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timizing Compil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vide efficient mapping of program to machin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al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de selection and order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liminating minor inefficienc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on’t (usually) improve asymptotic efficienc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p to programmer to select best overall algorith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g-O savings are (often) more important than constant facto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ut constant factors also matt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ave difficulty overcoming “optimization blockers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tential memory alias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tential procedure side-effec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34800"/>
            <a:ext cx="5608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Profil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ugment Executable Program with Timing Fun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s (approximate) amount of time spent in each fun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computation metho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eriodically (~ every 10ms) interrupt progra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termine what function is currently execut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crement its timer by interval (e.g., 10ms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so maintains counter for each function indicating number of times call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cc –O2 –pg prog. –o pro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./pro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ecutes in normal fashion, but also generates fil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gmon.ou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prof pro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enerates profile information based on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gmon.ou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6091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filing Resul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90520" y="3261960"/>
            <a:ext cx="8307360" cy="318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ll Statist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umber of calls and cumulative time for each fun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 Limit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ing inefficient sorting algorith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ngle call uses 87% of CPU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7760" y="1219320"/>
            <a:ext cx="8228160" cy="154908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%   cumulative   self              self     total      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ime   seconds   seconds    calls  ms/call  ms/call  name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6.60      8.21     8.21        1  8210.00  8210.00  sort_word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5.80      8.76     0.55   946596     0.00     0.00  lower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4.75      9.21     0.45   946596     0.00     0.00  find_ele_re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.27      9.33     0.12   946596     0.00     0.00  h_ad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82480" y="334800"/>
            <a:ext cx="4419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Optimiz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90520" y="4395600"/>
            <a:ext cx="8307360" cy="37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2000"/>
          </a:bodyPr>
          <a:p>
            <a:pPr lvl="1" marL="312480" indent="-102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rst step: Use more efficient sorting fun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2480" indent="-102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brary functio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qsor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961920" y="1371600"/>
          <a:ext cx="7220160" cy="263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1371600"/>
                    <a:ext cx="722016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5964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urther Optimiz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90520" y="3657600"/>
            <a:ext cx="8307360" cy="209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lvl="1" marL="595440" indent="-196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ter first: Use iterative function to insert elements into linked li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6920" indent="-190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uses code to slow dow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95440" indent="-196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ter last: Iterative function, places new entry at end of li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6920" indent="-190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end to place most common words at front of li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95440" indent="-196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g table: Increase number of hash bucke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95440" indent="-196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tter hash: Use more sophisticated hash fun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95440" indent="-196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ear lower: Mov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rl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ut of loo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961920" y="838080"/>
          <a:ext cx="7220160" cy="263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838080"/>
                    <a:ext cx="722016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1760" y="334800"/>
            <a:ext cx="6345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filing Observ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enefi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elps identify performance bottlene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specially useful when have complex system with many compon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mit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shows performance for data tes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linear lower did not show big gain, since words are shor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Quadratic inefficiency could remain lurking in c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ing mechanism fairly cru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ly works for programs that run for &gt; 3 second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mitations of Optimizing Compil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90520" y="1066680"/>
            <a:ext cx="8307360" cy="522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Operate Under Fundamental Constraint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ust not cause any change in program behavior under any possible condi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ten prevents it from making optimizations when would only affect behavior under pathological condition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Behavior that may be obvious to the programmer can  be obfuscated by languages and coding styl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.g., data ranges may be more limited than variable types sugges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ost analysis is performed only within procedur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hole-program analysis is too expensive in most cas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ost analysis is based only on </a:t>
            </a: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static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informa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piler has difficulty anticipating run-time input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hen in doubt, the compiler must be conservativ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50200" cy="1060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Independent Optimiz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166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lvl="1" marL="625320" indent="-206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timizations you should do regardless of processor / compi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24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Mo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25320" indent="-206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duce frequency with which computation perform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62640" indent="-2001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 it will always produce same resul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62640" indent="-2001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specially moving code out of loop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7640" y="3895560"/>
            <a:ext cx="2848680" cy="72828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[n*i + j] = b[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96120" y="3666960"/>
            <a:ext cx="2848680" cy="115452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 = 0; i &lt; n; i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int ni = n*i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[ni + j] = b[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13040" y="4205160"/>
            <a:ext cx="5842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7994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piler-Generated Code Mo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0520" y="914400"/>
            <a:ext cx="8307360" cy="196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st compilers do a good job with array code + simple loop structur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Generated by GC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3600" y="2209680"/>
            <a:ext cx="2848680" cy="72828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[n*i + j] = b[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43440" y="3809880"/>
            <a:ext cx="5591520" cy="2433240"/>
          </a:xfrm>
          <a:prstGeom prst="rect">
            <a:avLst/>
          </a:prstGeom>
          <a:solidFill>
            <a:srgbClr val="ccec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mull %ebx,%eax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i*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movl 8(%ebp),%edi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a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leal (%edi,%eax,4),%edx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p = a+i*n (scaled by 4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Inner Loo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.L40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movl 12(%ebp),%edi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movl (%edi,%ecx,4),%eax # b+j  (scaled by 4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*p = b[j]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ddl $4,%edx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p++  (scaled by 4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cl %ecx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j++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jl .L40                 # loop if j&lt;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66880" y="3200400"/>
            <a:ext cx="60984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1828800"/>
            <a:ext cx="2897280" cy="136764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 = 0; i &lt; n; i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t ni = n*i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int *p = a+ni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*p++ = b[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800600" y="3047760"/>
            <a:ext cx="457200" cy="6094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2042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duction in Strength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lace costly operation with simpler o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ift, add instead of multiply or divi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16*x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--&gt;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x &lt;&lt; 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tility machine depend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pends on cost of multiply or divide instru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 Pentium II or III, integer multiply only requires 4 CPU cyc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cognize sequence of produc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62200" y="4216320"/>
            <a:ext cx="2848680" cy="72828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[n*i + j] = b[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01040" y="3987720"/>
            <a:ext cx="2848680" cy="136764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int ni = 0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 = 0; i &lt; n; i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[ni + j] = b[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ni += n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17960" y="4525920"/>
            <a:ext cx="5842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34800"/>
            <a:ext cx="6332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ke Use of Regist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ing and writing registers much faster than reading/writing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mi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 not always able to determine whether variable can be held in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ssibility of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lias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e example la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106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Independent Opts.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90520" y="1066680"/>
            <a:ext cx="8307360" cy="537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hare Common Subexpress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use portions of express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s often not very sophisticated in exploiting arithmetic propert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7200" y="2590920"/>
            <a:ext cx="3488400" cy="136764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/* Sum neighbors of i,j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up =    val[(i-1)*n + 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down =  val[(i+1)*n + 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left =  val[i*n   + j-1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ight = val[i*n   + j+1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um = up + down + left + right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33400" y="2590920"/>
            <a:ext cx="3488400" cy="136764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t inj = i*n + j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up =    val[inj - n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down =  val[inj + n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left =  val[inj - 1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ight = val[inj + 1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um = up + down + left + right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4840" y="4097160"/>
            <a:ext cx="3630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3 multiplications: i*n, (i–1)*n, (i+1)*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60560" y="4097160"/>
            <a:ext cx="2048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 multiplication: i*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4648320"/>
            <a:ext cx="3657600" cy="115452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leal -1(%edx),%ecx  # i-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mull %ebx,%ecx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# (i-1)*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leal 1(%edx),%eax   # i+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mull %ebx,%eax     # (i+1)*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mull %ebx,%edx     # i*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0:31:04Z</dcterms:modified>
  <cp:revision>98</cp:revision>
  <dc:subject/>
  <dc:title>Code Optimization I</dc:title>
</cp:coreProperties>
</file>