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AFD06F0-B1F4-434A-840F-5E56D89BB4F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explicit alloca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124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als of Good malloc/fre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time performance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ally should take constant time (not always possib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certainly not take linear time in the number of blo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spa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allocated structures should be large fraction of the hea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minimize “fragmentation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od locality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s allocated close in time should be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ilar” objects should be allocated close in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ee(p1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heck that memory references are to allocated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67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Through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goals are often conflic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ompleted requests per uni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,000 malloc calls and 5,000 free calls in 10 second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ughput is 1,000 operations/secon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68580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Goals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ak Memory Util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 , 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(p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sults in a block with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.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ques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s completed,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ggregate paylo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sum of currently allocated paylo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monotonically nondecre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quest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eak memory utiliza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= ( max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&lt;k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  /  H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3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or memory utilization caused by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fragment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ternal fragment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pends only on the patter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eviou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quests, and thus is easy to measur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Frag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31320" y="5272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0160" y="5692680"/>
            <a:ext cx="72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ternal fragmentation depends on the pattern of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futu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quests,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1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4244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54244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4244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4244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26256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86920" y="512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8600" y="5861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27220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nowing How Much to Fre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the length of a block in the word preceding the bloc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word is often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 fiel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an extra word for every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7280" y="525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4680" y="39625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62720" y="3429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3429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3429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3429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5791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5791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5791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0120" y="3962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3800" y="53341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19720" y="4876560"/>
            <a:ext cx="7596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9080" y="5334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4800240" y="4876560"/>
            <a:ext cx="30492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1480" y="4876560"/>
            <a:ext cx="53352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0552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181480" y="4876560"/>
            <a:ext cx="22860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441972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28600" y="1143000"/>
            <a:ext cx="8458200" cy="1447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eeping Track of Free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ing lengths -- links all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 li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mong the free blocks using pointers within the free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gregated free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erent free lists for different size cla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42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133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48520" y="2133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133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347976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19051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1905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9051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9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1: Implicit Lis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255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extra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4640" y="3975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9120" y="3517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32560" y="45021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4640" y="4356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93400" y="38988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9751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56386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inding a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ir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ex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est fit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38640" y="1978200"/>
            <a:ext cx="5423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sh Re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those based on complex, graph algorith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610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Allocating in Free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1880" y="3403440"/>
            <a:ext cx="8227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2590920"/>
            <a:ext cx="30456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1500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5909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25909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5909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8320" y="2362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614664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988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14800" y="614664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2428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614664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41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61466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61466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614664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59180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98920" y="289512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5200" y="3048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362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24640" y="6140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95680" y="591804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91320" y="599436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61466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61466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591804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1640" y="5581800"/>
            <a:ext cx="1798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block(p, 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20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Freeing a B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to clear allocated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510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 *p = *p &amp; -2}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879480" indent="-380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can lead to “false fragmentation”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7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re is enough free space, but the allocator won’t be able to find 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53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76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Join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elesce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) with next and/or previous block if they are free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alescing with next block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t how do we coalesce with previous block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526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472428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472428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724280"/>
            <a:ext cx="30456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91320" y="4724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4724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4724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4724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4724280"/>
            <a:ext cx="304920" cy="30492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05320" y="44956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76920" y="471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8320" y="44956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45720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5120" y="51832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3800" y="5105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724280" y="502884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7150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320" y="54864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486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33720" y="4495680"/>
            <a:ext cx="1371600" cy="533520"/>
            <a:chOff x="2133720" y="4495680"/>
            <a:chExt cx="1371600" cy="533520"/>
          </a:xfrm>
        </p:grpSpPr>
        <p:sp>
          <p:nvSpPr>
            <p:cNvPr id="603" name=""/>
            <p:cNvSpPr/>
            <p:nvPr/>
          </p:nvSpPr>
          <p:spPr>
            <a:xfrm>
              <a:off x="21337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640" y="47242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4320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47242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44956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54864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2597040"/>
            <a:ext cx="6477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74600" y="2597040"/>
            <a:ext cx="7535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54280" y="2514600"/>
            <a:ext cx="7191000" cy="165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7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next = p + *p; 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                         //    no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: Bidirectional Coalesc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oundary tag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[Knuth73]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11480" y="3000240"/>
            <a:ext cx="13701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7192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7480" y="353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11480" y="338148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97960" y="317808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: total block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81640" y="3000240"/>
            <a:ext cx="30456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0040" y="467676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9840" y="467676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2520" y="467676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14600" y="482904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8320" y="2924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315288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702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ant Time Coalescing (Case 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Key Allocator Poli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lacement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litt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alescing policy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as you scan the free list for malloc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alesce when the amount of external fragmentation reaches some threshold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9040" y="3034800"/>
            <a:ext cx="805032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licit vs. Implicit Memory Allocato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re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in C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 garbage collection in Java, ML or Lisp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llo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iscuss simple explicit memory allocation tod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75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icit Lists: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125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fit, next fit or best f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5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Memory Im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7440" y="123336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7440" y="2935440"/>
            <a:ext cx="3200400" cy="66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57440" y="360036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7440" y="4327560"/>
            <a:ext cx="3200400" cy="669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 (via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57440" y="202572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57440" y="5743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text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7440" y="5362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7440" y="4981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data (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5840" y="396360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57440" y="1690560"/>
            <a:ext cx="3200400" cy="33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81680" y="25873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7520" y="2025720"/>
            <a:ext cx="0" cy="352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7440" y="6124680"/>
            <a:ext cx="3200400" cy="396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4320" y="6292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440" y="181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1984320"/>
            <a:ext cx="3808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7560" y="118728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81680" y="1187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1920" y="4138560"/>
            <a:ext cx="14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“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” pt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629400" y="43117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22884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om the operating system using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br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unctio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15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#include &lt;stdlib.h&gt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malloc(size_t size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s a pointer to a memory block of at lea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bytes, (typically) aligned to 8-byte boundar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size == 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, returns NU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unsuccessful: returns NULL (0) and set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rrn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free(void *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void *realloc(void *p, size_t size)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nges size of block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s pointer to new block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loc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066680"/>
            <a:ext cx="6781680" cy="563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70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um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is word addressed (each word can hold a poin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loc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082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17082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1708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1708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25956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5956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5956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25956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2595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595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4830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34830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3483000"/>
            <a:ext cx="30456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3483000"/>
            <a:ext cx="304920" cy="3049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4830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34830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34830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34830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34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7800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2920" y="43704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87840" y="43704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24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73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22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1172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66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12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61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31040" y="43704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560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40520" y="43704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45440" y="43704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50000" y="43704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288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3372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38640" y="5257800"/>
            <a:ext cx="30456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200" y="5257800"/>
            <a:ext cx="304920" cy="3049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8120" y="5257800"/>
            <a:ext cx="30492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3040" y="5257800"/>
            <a:ext cx="304560" cy="30492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576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625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67440" y="5257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20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69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18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8640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91320" y="5257800"/>
            <a:ext cx="30492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96240" y="5257800"/>
            <a:ext cx="304560" cy="30492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080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5720" y="5257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ssue arbitrary sequence of allocation and free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requests must correspond to an allocated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ntrol number or size of allocat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respond immediately to all allocation requ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’t reorder or buffer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locate blocks from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an only place allocated blocks in fre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lign blocks so they satisfy all alignment requir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 byte alignment for GNU malloc (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lloc) on Linux box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manipulate and modify free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move the allocated blocks once they are alloc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.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, compaction is not allow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5T15:43:58Z</dcterms:modified>
  <cp:revision>179</cp:revision>
  <dc:subject/>
  <dc:title>Dynamic Memory Allocation I</dc:title>
</cp:coreProperties>
</file>