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0FAD8D7F-3A3D-411B-A29A-52A45DA17CBD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836720"/>
            <a:ext cx="77724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II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dur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17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A32 stack discip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saving conven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ing pointers to local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7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261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ll Chai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27734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Stru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447920"/>
            <a:ext cx="1523880" cy="2283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2438280"/>
            <a:ext cx="1600200" cy="2283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3962520"/>
            <a:ext cx="152424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97760" y="1676520"/>
            <a:ext cx="1498320" cy="358128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11960" y="1905120"/>
            <a:ext cx="60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11960" y="2590920"/>
            <a:ext cx="60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00800" y="326556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11960" y="3962520"/>
            <a:ext cx="60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11960" y="4724280"/>
            <a:ext cx="60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16880" y="2209680"/>
            <a:ext cx="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16880" y="2895480"/>
            <a:ext cx="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16880" y="3581280"/>
            <a:ext cx="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16880" y="43434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5160" y="114300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51814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lvl="1" marL="632520" indent="-208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dur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mI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ursiv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78680" y="3265560"/>
            <a:ext cx="60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895480"/>
            <a:ext cx="53640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4928760" y="4548240"/>
            <a:ext cx="1445040" cy="911880"/>
            <a:chOff x="4928760" y="4548240"/>
            <a:chExt cx="1445040" cy="911880"/>
          </a:xfrm>
        </p:grpSpPr>
        <p:sp>
          <p:nvSpPr>
            <p:cNvPr id="257" name=""/>
            <p:cNvSpPr/>
            <p:nvPr/>
          </p:nvSpPr>
          <p:spPr>
            <a:xfrm>
              <a:off x="5865840" y="48290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28760" y="454824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343400" y="10429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1576440"/>
            <a:ext cx="129204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43560" y="4038480"/>
            <a:ext cx="1292400" cy="91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o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885920" y="3505320"/>
            <a:ext cx="1445040" cy="911880"/>
            <a:chOff x="4885920" y="3505320"/>
            <a:chExt cx="1445040" cy="911880"/>
          </a:xfrm>
        </p:grpSpPr>
        <p:sp>
          <p:nvSpPr>
            <p:cNvPr id="263" name=""/>
            <p:cNvSpPr/>
            <p:nvPr/>
          </p:nvSpPr>
          <p:spPr>
            <a:xfrm>
              <a:off x="5823000" y="416700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85920" y="35053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 flipH="1" flipV="1">
            <a:off x="7451640" y="4952520"/>
            <a:ext cx="63504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161920" y="5029200"/>
            <a:ext cx="830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p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5029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Fram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0520" y="914400"/>
            <a:ext cx="50436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cal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mporary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ace allocated when enter proced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t-up”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allocated when retu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nish”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oin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ck pointer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stack t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ame poin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start of current fra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242120" y="210996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5293800" y="1728720"/>
            <a:ext cx="1445040" cy="911880"/>
            <a:chOff x="5293800" y="1728720"/>
            <a:chExt cx="1445040" cy="911880"/>
          </a:xfrm>
        </p:grpSpPr>
        <p:sp>
          <p:nvSpPr>
            <p:cNvPr id="271" name=""/>
            <p:cNvSpPr/>
            <p:nvPr/>
          </p:nvSpPr>
          <p:spPr>
            <a:xfrm>
              <a:off x="6230880" y="20098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93800" y="17287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250960" y="685800"/>
            <a:ext cx="1445040" cy="911880"/>
            <a:chOff x="5250960" y="685800"/>
            <a:chExt cx="1445040" cy="911880"/>
          </a:xfrm>
        </p:grpSpPr>
        <p:sp>
          <p:nvSpPr>
            <p:cNvPr id="276" name=""/>
            <p:cNvSpPr/>
            <p:nvPr/>
          </p:nvSpPr>
          <p:spPr>
            <a:xfrm>
              <a:off x="6188040" y="13478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0960" y="6858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1447920"/>
            <a:ext cx="1600200" cy="2283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220968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5293800" y="2643120"/>
            <a:ext cx="1445040" cy="911880"/>
            <a:chOff x="5293800" y="2643120"/>
            <a:chExt cx="1445040" cy="911880"/>
          </a:xfrm>
        </p:grpSpPr>
        <p:sp>
          <p:nvSpPr>
            <p:cNvPr id="284" name=""/>
            <p:cNvSpPr/>
            <p:nvPr/>
          </p:nvSpPr>
          <p:spPr>
            <a:xfrm>
              <a:off x="6230880" y="29242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93800" y="26431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250960" y="1600200"/>
            <a:ext cx="1445040" cy="911880"/>
            <a:chOff x="5250960" y="1600200"/>
            <a:chExt cx="1445040" cy="911880"/>
          </a:xfrm>
        </p:grpSpPr>
        <p:sp>
          <p:nvSpPr>
            <p:cNvPr id="290" name=""/>
            <p:cNvSpPr/>
            <p:nvPr/>
          </p:nvSpPr>
          <p:spPr>
            <a:xfrm>
              <a:off x="6188040" y="22622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50960" y="16002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1447920"/>
            <a:ext cx="1600200" cy="2283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280" y="220968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5293800" y="3557520"/>
            <a:ext cx="1445040" cy="911880"/>
            <a:chOff x="5293800" y="3557520"/>
            <a:chExt cx="1445040" cy="911880"/>
          </a:xfrm>
        </p:grpSpPr>
        <p:sp>
          <p:nvSpPr>
            <p:cNvPr id="300" name=""/>
            <p:cNvSpPr/>
            <p:nvPr/>
          </p:nvSpPr>
          <p:spPr>
            <a:xfrm>
              <a:off x="6230880" y="38386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93800" y="35575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250960" y="2514600"/>
            <a:ext cx="1445040" cy="911880"/>
            <a:chOff x="5250960" y="2514600"/>
            <a:chExt cx="1445040" cy="911880"/>
          </a:xfrm>
        </p:grpSpPr>
        <p:sp>
          <p:nvSpPr>
            <p:cNvPr id="307" name=""/>
            <p:cNvSpPr/>
            <p:nvPr/>
          </p:nvSpPr>
          <p:spPr>
            <a:xfrm>
              <a:off x="6188040" y="31766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50960" y="25146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498680"/>
            <a:ext cx="160020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220968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5293800" y="4497480"/>
            <a:ext cx="1445040" cy="911880"/>
            <a:chOff x="5293800" y="4497480"/>
            <a:chExt cx="1445040" cy="911880"/>
          </a:xfrm>
        </p:grpSpPr>
        <p:sp>
          <p:nvSpPr>
            <p:cNvPr id="319" name=""/>
            <p:cNvSpPr/>
            <p:nvPr/>
          </p:nvSpPr>
          <p:spPr>
            <a:xfrm>
              <a:off x="6230880" y="47782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93800" y="449748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250960" y="3454560"/>
            <a:ext cx="1445040" cy="911880"/>
            <a:chOff x="5250960" y="3454560"/>
            <a:chExt cx="1445040" cy="911880"/>
          </a:xfrm>
        </p:grpSpPr>
        <p:sp>
          <p:nvSpPr>
            <p:cNvPr id="326" name=""/>
            <p:cNvSpPr/>
            <p:nvPr/>
          </p:nvSpPr>
          <p:spPr>
            <a:xfrm>
              <a:off x="6188040" y="41162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0960" y="345456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1498680"/>
            <a:ext cx="160020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280" y="220968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05720" y="3962520"/>
            <a:ext cx="129204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97360" y="3686040"/>
            <a:ext cx="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5293800" y="5411880"/>
            <a:ext cx="1445040" cy="911880"/>
            <a:chOff x="5293800" y="5411880"/>
            <a:chExt cx="1445040" cy="911880"/>
          </a:xfrm>
        </p:grpSpPr>
        <p:sp>
          <p:nvSpPr>
            <p:cNvPr id="341" name=""/>
            <p:cNvSpPr/>
            <p:nvPr/>
          </p:nvSpPr>
          <p:spPr>
            <a:xfrm>
              <a:off x="6230880" y="56926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93800" y="541188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250960" y="4368960"/>
            <a:ext cx="1445040" cy="911880"/>
            <a:chOff x="5250960" y="4368960"/>
            <a:chExt cx="1445040" cy="911880"/>
          </a:xfrm>
        </p:grpSpPr>
        <p:sp>
          <p:nvSpPr>
            <p:cNvPr id="348" name=""/>
            <p:cNvSpPr/>
            <p:nvPr/>
          </p:nvSpPr>
          <p:spPr>
            <a:xfrm>
              <a:off x="6188040" y="50306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50960" y="436896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1498680"/>
            <a:ext cx="160020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280" y="220968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05720" y="3962520"/>
            <a:ext cx="129204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97360" y="3686040"/>
            <a:ext cx="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97360" y="4371840"/>
            <a:ext cx="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05720" y="4876920"/>
            <a:ext cx="129204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5293800" y="4497480"/>
            <a:ext cx="1445040" cy="911880"/>
            <a:chOff x="5293800" y="4497480"/>
            <a:chExt cx="1445040" cy="911880"/>
          </a:xfrm>
        </p:grpSpPr>
        <p:sp>
          <p:nvSpPr>
            <p:cNvPr id="366" name=""/>
            <p:cNvSpPr/>
            <p:nvPr/>
          </p:nvSpPr>
          <p:spPr>
            <a:xfrm>
              <a:off x="6230880" y="47782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93800" y="449748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250960" y="3454560"/>
            <a:ext cx="1445040" cy="911880"/>
            <a:chOff x="5250960" y="3454560"/>
            <a:chExt cx="1445040" cy="911880"/>
          </a:xfrm>
        </p:grpSpPr>
        <p:sp>
          <p:nvSpPr>
            <p:cNvPr id="373" name=""/>
            <p:cNvSpPr/>
            <p:nvPr/>
          </p:nvSpPr>
          <p:spPr>
            <a:xfrm>
              <a:off x="6188040" y="41162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50960" y="345456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1498680"/>
            <a:ext cx="160020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2280" y="312408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05720" y="3962520"/>
            <a:ext cx="129204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97360" y="3686040"/>
            <a:ext cx="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97360" y="43718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5293800" y="3557520"/>
            <a:ext cx="1445040" cy="911880"/>
            <a:chOff x="5293800" y="3557520"/>
            <a:chExt cx="1445040" cy="911880"/>
          </a:xfrm>
        </p:grpSpPr>
        <p:sp>
          <p:nvSpPr>
            <p:cNvPr id="390" name=""/>
            <p:cNvSpPr/>
            <p:nvPr/>
          </p:nvSpPr>
          <p:spPr>
            <a:xfrm>
              <a:off x="6230880" y="38386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93800" y="35575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250960" y="2514600"/>
            <a:ext cx="1445040" cy="911880"/>
            <a:chOff x="5250960" y="2514600"/>
            <a:chExt cx="1445040" cy="911880"/>
          </a:xfrm>
        </p:grpSpPr>
        <p:sp>
          <p:nvSpPr>
            <p:cNvPr id="397" name=""/>
            <p:cNvSpPr/>
            <p:nvPr/>
          </p:nvSpPr>
          <p:spPr>
            <a:xfrm>
              <a:off x="6188040" y="31766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50960" y="25146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1498680"/>
            <a:ext cx="160020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2280" y="304812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97360" y="36860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97360" y="43718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5293800" y="2643120"/>
            <a:ext cx="1445040" cy="911880"/>
            <a:chOff x="5293800" y="2643120"/>
            <a:chExt cx="1445040" cy="911880"/>
          </a:xfrm>
        </p:grpSpPr>
        <p:sp>
          <p:nvSpPr>
            <p:cNvPr id="413" name=""/>
            <p:cNvSpPr/>
            <p:nvPr/>
          </p:nvSpPr>
          <p:spPr>
            <a:xfrm>
              <a:off x="6230880" y="29242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93800" y="26431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250960" y="1600200"/>
            <a:ext cx="1445040" cy="911880"/>
            <a:chOff x="5250960" y="1600200"/>
            <a:chExt cx="1445040" cy="911880"/>
          </a:xfrm>
        </p:grpSpPr>
        <p:sp>
          <p:nvSpPr>
            <p:cNvPr id="419" name=""/>
            <p:cNvSpPr/>
            <p:nvPr/>
          </p:nvSpPr>
          <p:spPr>
            <a:xfrm>
              <a:off x="6188040" y="22622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50960" y="16002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1447920"/>
            <a:ext cx="1600200" cy="2283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52280" y="274320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97360" y="36860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97360" y="43718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4953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Sta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160" y="990360"/>
            <a:ext cx="44607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on of memory managed with stack discip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rows toward lower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lowest  stack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 of top e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190400" y="4267080"/>
            <a:ext cx="1521000" cy="911880"/>
            <a:chOff x="4190400" y="4267080"/>
            <a:chExt cx="1521000" cy="911880"/>
          </a:xfrm>
        </p:grpSpPr>
        <p:sp>
          <p:nvSpPr>
            <p:cNvPr id="84" name=""/>
            <p:cNvSpPr/>
            <p:nvPr/>
          </p:nvSpPr>
          <p:spPr>
            <a:xfrm>
              <a:off x="5203440" y="50054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90400" y="426708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5715000" y="1981080"/>
            <a:ext cx="1292400" cy="3200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01000" y="3809880"/>
            <a:ext cx="0" cy="1371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29520" y="4111560"/>
            <a:ext cx="1565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Grow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230240" y="1600200"/>
            <a:ext cx="1347480" cy="1295280"/>
            <a:chOff x="7230240" y="1600200"/>
            <a:chExt cx="1347480" cy="1295280"/>
          </a:xfrm>
        </p:grpSpPr>
        <p:sp>
          <p:nvSpPr>
            <p:cNvPr id="90" name=""/>
            <p:cNvSpPr/>
            <p:nvPr/>
          </p:nvSpPr>
          <p:spPr>
            <a:xfrm flipV="1">
              <a:off x="7914960" y="160020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30240" y="2001960"/>
              <a:ext cx="1347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creas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 flipH="1" flipV="1">
            <a:off x="6543720" y="5181120"/>
            <a:ext cx="63504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22760" y="5638680"/>
            <a:ext cx="150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Top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876920"/>
            <a:ext cx="12952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1160" y="838080"/>
            <a:ext cx="18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Bottom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781680" y="1295280"/>
            <a:ext cx="45720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5293800" y="3557520"/>
            <a:ext cx="1445040" cy="911880"/>
            <a:chOff x="5293800" y="3557520"/>
            <a:chExt cx="1445040" cy="911880"/>
          </a:xfrm>
        </p:grpSpPr>
        <p:sp>
          <p:nvSpPr>
            <p:cNvPr id="435" name=""/>
            <p:cNvSpPr/>
            <p:nvPr/>
          </p:nvSpPr>
          <p:spPr>
            <a:xfrm>
              <a:off x="6230880" y="38386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93800" y="35575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5250960" y="2514600"/>
            <a:ext cx="1445040" cy="911880"/>
            <a:chOff x="5250960" y="2514600"/>
            <a:chExt cx="1445040" cy="911880"/>
          </a:xfrm>
        </p:grpSpPr>
        <p:sp>
          <p:nvSpPr>
            <p:cNvPr id="442" name=""/>
            <p:cNvSpPr/>
            <p:nvPr/>
          </p:nvSpPr>
          <p:spPr>
            <a:xfrm>
              <a:off x="6188040" y="31766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50960" y="25146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1498680"/>
            <a:ext cx="1600200" cy="200916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52280" y="236232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92440" y="40384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92440" y="480060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97360" y="3657600"/>
            <a:ext cx="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97360" y="4419720"/>
            <a:ext cx="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5916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38480" y="2971800"/>
            <a:ext cx="53676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5293800" y="2643120"/>
            <a:ext cx="1445040" cy="911880"/>
            <a:chOff x="5293800" y="2643120"/>
            <a:chExt cx="1445040" cy="911880"/>
          </a:xfrm>
        </p:grpSpPr>
        <p:sp>
          <p:nvSpPr>
            <p:cNvPr id="460" name=""/>
            <p:cNvSpPr/>
            <p:nvPr/>
          </p:nvSpPr>
          <p:spPr>
            <a:xfrm>
              <a:off x="6230880" y="29242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93800" y="26431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250960" y="1600200"/>
            <a:ext cx="1445040" cy="911880"/>
            <a:chOff x="5250960" y="1600200"/>
            <a:chExt cx="1445040" cy="911880"/>
          </a:xfrm>
        </p:grpSpPr>
        <p:sp>
          <p:nvSpPr>
            <p:cNvPr id="466" name=""/>
            <p:cNvSpPr/>
            <p:nvPr/>
          </p:nvSpPr>
          <p:spPr>
            <a:xfrm>
              <a:off x="6188040" y="22622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50960" y="16002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" y="1447920"/>
            <a:ext cx="1600200" cy="2283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327672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97360" y="36860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97360" y="43718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5916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038480" y="2971800"/>
            <a:ext cx="53676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457200" y="1523880"/>
            <a:ext cx="1600200" cy="2283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293800" y="1728720"/>
            <a:ext cx="1445040" cy="911880"/>
            <a:chOff x="5293800" y="1728720"/>
            <a:chExt cx="1445040" cy="911880"/>
          </a:xfrm>
        </p:grpSpPr>
        <p:sp>
          <p:nvSpPr>
            <p:cNvPr id="485" name=""/>
            <p:cNvSpPr/>
            <p:nvPr/>
          </p:nvSpPr>
          <p:spPr>
            <a:xfrm>
              <a:off x="6230880" y="200988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93800" y="17287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250960" y="685800"/>
            <a:ext cx="1445040" cy="911880"/>
            <a:chOff x="5250960" y="685800"/>
            <a:chExt cx="1445040" cy="911880"/>
          </a:xfrm>
        </p:grpSpPr>
        <p:sp>
          <p:nvSpPr>
            <p:cNvPr id="490" name=""/>
            <p:cNvSpPr/>
            <p:nvPr/>
          </p:nvSpPr>
          <p:spPr>
            <a:xfrm>
              <a:off x="6188040" y="134784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50960" y="6858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97360" y="2286000"/>
            <a:ext cx="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7600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280" y="327672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97360" y="2971800"/>
            <a:ext cx="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97360" y="36860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97360" y="4371840"/>
            <a:ext cx="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5916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2971800"/>
            <a:ext cx="53676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6743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/Linux Stack Fram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96040" cy="50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urrent Stack Frame (“Top” to Bottom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ameters for function about to ca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gument build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cal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can’t keep in 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ved register con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ld frame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ller Stack Fram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ushed by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al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guments for this ca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095880" y="6019920"/>
            <a:ext cx="889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078520" y="5616720"/>
            <a:ext cx="1641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60960" y="3422520"/>
            <a:ext cx="96516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043600" y="2943360"/>
            <a:ext cx="1717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ame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037280" y="2959200"/>
            <a:ext cx="1359000" cy="30456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 Ad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37280" y="3568680"/>
            <a:ext cx="1371600" cy="1816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av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037280" y="5410080"/>
            <a:ext cx="1371600" cy="736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um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37280" y="1143000"/>
            <a:ext cx="1371600" cy="137160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024680" y="3263760"/>
            <a:ext cx="138420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037280" y="2362320"/>
            <a:ext cx="1359000" cy="609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ume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17520" y="18288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05720" y="114300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588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visi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04920" y="4114800"/>
            <a:ext cx="3962160" cy="20091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4920" y="1371600"/>
            <a:ext cx="3962160" cy="20091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p1 =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p2 = 9112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all_swap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(&amp;zip1, &amp;zip2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648320" y="1447920"/>
            <a:ext cx="42670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_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$zip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lobal Va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$zip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lobal Va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swa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19920" y="46483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19920" y="50292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19920" y="54100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7102440" y="5581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696440" y="5410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468560" y="350532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32004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44880" y="969840"/>
            <a:ext cx="36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all_swa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588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visi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04920" y="2057400"/>
            <a:ext cx="3962160" cy="20091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648320" y="1066680"/>
            <a:ext cx="33526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96080" y="2514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002440" y="3124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96080" y="14479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96080" y="44197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00172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543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Setup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863640"/>
            <a:ext cx="204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6019920" y="1822320"/>
            <a:ext cx="2377440" cy="2990880"/>
            <a:chOff x="6019920" y="1822320"/>
            <a:chExt cx="2377440" cy="2990880"/>
          </a:xfrm>
        </p:grpSpPr>
        <p:sp>
          <p:nvSpPr>
            <p:cNvPr id="554" name=""/>
            <p:cNvSpPr/>
            <p:nvPr/>
          </p:nvSpPr>
          <p:spPr>
            <a:xfrm>
              <a:off x="6019920" y="327672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365760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19920" y="4038480"/>
              <a:ext cx="1066680" cy="38124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419720"/>
              <a:ext cx="1066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7074000" y="199404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68000" y="1822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19920" y="1828800"/>
              <a:ext cx="1066680" cy="14479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934320" y="1981080"/>
              <a:ext cx="1003320" cy="2514600"/>
            </a:xfrm>
            <a:custGeom>
              <a:avLst/>
              <a:gdLst/>
              <a:ahLst/>
              <a:rect l="l" t="t" r="r" b="b"/>
              <a:pathLst>
                <a:path w="632" h="1584">
                  <a:moveTo>
                    <a:pt x="0" y="1584"/>
                  </a:moveTo>
                  <a:cubicBezTo>
                    <a:pt x="100" y="1584"/>
                    <a:pt x="200" y="1584"/>
                    <a:pt x="288" y="1536"/>
                  </a:cubicBezTo>
                  <a:cubicBezTo>
                    <a:pt x="376" y="1488"/>
                    <a:pt x="472" y="1408"/>
                    <a:pt x="528" y="1296"/>
                  </a:cubicBezTo>
                  <a:cubicBezTo>
                    <a:pt x="584" y="1184"/>
                    <a:pt x="616" y="1008"/>
                    <a:pt x="624" y="864"/>
                  </a:cubicBezTo>
                  <a:cubicBezTo>
                    <a:pt x="632" y="720"/>
                    <a:pt x="624" y="560"/>
                    <a:pt x="576" y="432"/>
                  </a:cubicBezTo>
                  <a:cubicBezTo>
                    <a:pt x="528" y="304"/>
                    <a:pt x="416" y="168"/>
                    <a:pt x="336" y="96"/>
                  </a:cubicBezTo>
                  <a:cubicBezTo>
                    <a:pt x="256" y="24"/>
                    <a:pt x="136" y="16"/>
                    <a:pt x="96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7064280" y="46162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58640" y="4444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543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Setup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7086600" y="45720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80600" y="440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21000" y="83808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7089480" y="4692600"/>
            <a:ext cx="469800" cy="2793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69644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5362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Setup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086600" y="45720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80600" y="440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021000" y="91440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19920" y="48006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102440" y="497196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9644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981080" y="3657600"/>
            <a:ext cx="4038840" cy="380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81080" y="4038480"/>
            <a:ext cx="4038840" cy="38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81080" y="3276720"/>
            <a:ext cx="40388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6107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ffect of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Setu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7086600" y="45720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80600" y="440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487120" y="441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48712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48712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48712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85120" y="2590920"/>
            <a:ext cx="20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relative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392600" y="129528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19920" y="48006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7102440" y="497196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9644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5335560"/>
            <a:ext cx="4876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 # get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  # get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952880" y="541188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259240" y="5562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4953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Stack Push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0160" y="837720"/>
            <a:ext cx="4460760" cy="560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ush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ush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 operand at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remen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operand at address given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03800" y="5005440"/>
            <a:ext cx="507960" cy="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1981080"/>
            <a:ext cx="1292400" cy="3200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3809880"/>
            <a:ext cx="0" cy="1371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29520" y="4111560"/>
            <a:ext cx="1565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Grow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230240" y="1600200"/>
            <a:ext cx="1347480" cy="1295280"/>
            <a:chOff x="7230240" y="1600200"/>
            <a:chExt cx="1347480" cy="1295280"/>
          </a:xfrm>
        </p:grpSpPr>
        <p:sp>
          <p:nvSpPr>
            <p:cNvPr id="104" name=""/>
            <p:cNvSpPr/>
            <p:nvPr/>
          </p:nvSpPr>
          <p:spPr>
            <a:xfrm flipV="1">
              <a:off x="7914960" y="160020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30240" y="2001960"/>
              <a:ext cx="1347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creas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 flipH="1" flipV="1">
            <a:off x="6543720" y="5504040"/>
            <a:ext cx="63504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22760" y="5961240"/>
            <a:ext cx="150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Top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4876920"/>
            <a:ext cx="12952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1160" y="838080"/>
            <a:ext cx="18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Bottom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781680" y="1295280"/>
            <a:ext cx="45720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5181480"/>
            <a:ext cx="1292400" cy="3049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90400" y="4573440"/>
            <a:ext cx="1521000" cy="911880"/>
            <a:chOff x="4190400" y="4573440"/>
            <a:chExt cx="1521000" cy="911880"/>
          </a:xfrm>
        </p:grpSpPr>
        <p:sp>
          <p:nvSpPr>
            <p:cNvPr id="113" name=""/>
            <p:cNvSpPr/>
            <p:nvPr/>
          </p:nvSpPr>
          <p:spPr>
            <a:xfrm>
              <a:off x="5203440" y="531180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90400" y="457344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345640" y="5021280"/>
            <a:ext cx="272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50292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5553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inish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286000" y="2514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0" y="2895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860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0" y="36576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352680" y="38098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47040" y="363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75320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5320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753200" y="2895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5320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7340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10200" y="108576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286000" y="106668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0" y="403848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3368520" y="4210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8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00400" y="121932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320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90520" y="5284440"/>
            <a:ext cx="8307360" cy="116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ved &amp; restored 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880240" y="255276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80240" y="293364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880240" y="331488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80240" y="369576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6946920" y="384804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540920" y="3676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347440" y="3695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347440" y="3314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47440" y="2933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347440" y="2552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67640" y="20955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80240" y="110484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80240" y="407664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6962760" y="42480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56760" y="4076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794640" y="12574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47440" y="4076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5553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inish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2514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286000" y="2895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0" y="36576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3352680" y="38098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47040" y="363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75320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75320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753200" y="2895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75320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7340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10200" y="108576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286000" y="106668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286000" y="403848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3368520" y="4210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8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121932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75320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286680" y="257796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286680" y="29592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286680" y="334008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286680" y="372096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7353360" y="38736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947360" y="3701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53880" y="3720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753880" y="3340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753880" y="2959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53880" y="2577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74080" y="21207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610880" y="114948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286680" y="1130400"/>
            <a:ext cx="1066680" cy="144756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 flipV="1">
            <a:off x="7356240" y="3974760"/>
            <a:ext cx="469800" cy="298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963200" y="4102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201080" y="1282680"/>
            <a:ext cx="100296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5857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inish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286680" y="2514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286680" y="2895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28668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324560" y="12193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918920" y="104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5388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53880" y="2895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5388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408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610880" y="108576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286680" y="106668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943280" y="26035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943280" y="298440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43280" y="336564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43280" y="37465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3009960" y="3898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527640" y="376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410480" y="3746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410480" y="3365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410480" y="2984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410480" y="2603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030680" y="21463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67480" y="117468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943280" y="11556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3012840" y="4000320"/>
            <a:ext cx="469800" cy="298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857680" y="1308240"/>
            <a:ext cx="100296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80120" y="412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 flipV="1">
            <a:off x="7394400" y="3454200"/>
            <a:ext cx="470160" cy="298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86168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781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inish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486400" y="2514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486400" y="2895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553080" y="30481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163280" y="2895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360" y="182880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i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86400" y="106668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6553080" y="12193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147440" y="104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90520" y="5284440"/>
            <a:ext cx="8307360" cy="116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ved &amp; restored 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dn’t do so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070000" y="245124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70000" y="283212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070000" y="3213000"/>
            <a:ext cx="106704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3108240" y="11556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702240" y="98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37560" y="3213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537560" y="2832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537560" y="2451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157400" y="1994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4560" y="102240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070000" y="1003320"/>
            <a:ext cx="106704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3178080" y="3390480"/>
            <a:ext cx="470160" cy="298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645360" y="3517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467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 Saving Conven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3120" y="1220760"/>
            <a:ext cx="82821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procedur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yo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all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wh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o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alle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h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all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Register be Used for Temporary Storage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ents of 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verwritten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80880" y="2840040"/>
            <a:ext cx="3781440" cy="200916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5213,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%edx,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572000" y="2840040"/>
            <a:ext cx="3781440" cy="1734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91125,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467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 Saving Conven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3120" y="1220760"/>
            <a:ext cx="82821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procedur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yo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all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wh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o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alle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h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all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Register be Used for Temporary Storage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ven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r Sav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ller saves temporary in its frame before call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e Sav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llee saves temporary in its frame before us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061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/Linux Register Us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369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ger 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have special u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s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e managed as callee-sa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s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d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ld values saved on stack prior to us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e managed as caller-sa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 what you please, but expect any callee to do so, as we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stores returned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24480" y="1600200"/>
            <a:ext cx="2514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324480" y="2057400"/>
            <a:ext cx="2514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24480" y="2514600"/>
            <a:ext cx="2514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324480" y="2971800"/>
            <a:ext cx="2514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429000"/>
            <a:ext cx="2514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324480" y="3886200"/>
            <a:ext cx="2514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324480" y="4343400"/>
            <a:ext cx="2514600" cy="38088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324480" y="4800600"/>
            <a:ext cx="2514600" cy="38088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638680" y="1600200"/>
            <a:ext cx="533520" cy="1295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38680" y="2971800"/>
            <a:ext cx="533520" cy="1295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638680" y="4343400"/>
            <a:ext cx="533520" cy="838080"/>
          </a:xfrm>
          <a:custGeom>
            <a:avLst/>
            <a:gdLst>
              <a:gd name="textAreaLeft" fmla="*/ 340920 w 533520"/>
              <a:gd name="textAreaRight" fmla="*/ 533880 w 5335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990240" y="190512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r-Sa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mporari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041000" y="327672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e-Sa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mporari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573440" y="45720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eci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7772400" y="2971800"/>
            <a:ext cx="609480" cy="3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391520" y="3733920"/>
            <a:ext cx="609480" cy="30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934320" y="4800600"/>
            <a:ext cx="609480" cy="3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620120" y="2133720"/>
            <a:ext cx="609480" cy="304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5486400" y="1828800"/>
            <a:ext cx="2971800" cy="3886200"/>
            <a:chOff x="5486400" y="1828800"/>
            <a:chExt cx="2971800" cy="3886200"/>
          </a:xfrm>
        </p:grpSpPr>
        <p:sp>
          <p:nvSpPr>
            <p:cNvPr id="798" name=""/>
            <p:cNvSpPr/>
            <p:nvPr/>
          </p:nvSpPr>
          <p:spPr>
            <a:xfrm>
              <a:off x="5486400" y="5410080"/>
              <a:ext cx="297180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486400" y="1828800"/>
              <a:ext cx="297180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838080" y="914400"/>
            <a:ext cx="3400560" cy="2283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fact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val = rfact(x-1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 *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257800" y="152280"/>
            <a:ext cx="3505320" cy="6398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globl rfac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yp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rfact,@fun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1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7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-1(%eb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rfac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b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7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align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78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7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5334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cursive Factoria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80880" y="380988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43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used without first sav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used, but save at beginning &amp; restore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5334120" y="2514600"/>
            <a:ext cx="350496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4120" y="2514600"/>
            <a:ext cx="350496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5587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fact Stack Setu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887640" y="129528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tering 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666880" y="4495680"/>
            <a:ext cx="106704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666880" y="487692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34440" y="4876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134440" y="4495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1676160" y="5257800"/>
            <a:ext cx="99036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1905120" y="4876920"/>
            <a:ext cx="0" cy="1371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905120" y="3581280"/>
            <a:ext cx="0" cy="1371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450080" y="3962520"/>
            <a:ext cx="814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3733920" y="5238720"/>
            <a:ext cx="1323360" cy="368280"/>
            <a:chOff x="3733920" y="5238720"/>
            <a:chExt cx="1323360" cy="368280"/>
          </a:xfrm>
        </p:grpSpPr>
        <p:sp>
          <p:nvSpPr>
            <p:cNvPr id="817" name=""/>
            <p:cNvSpPr/>
            <p:nvPr/>
          </p:nvSpPr>
          <p:spPr>
            <a:xfrm>
              <a:off x="4327920" y="5238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3733920" y="54100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134440" y="5257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2666880" y="5638680"/>
            <a:ext cx="2406240" cy="381240"/>
            <a:chOff x="2666880" y="5638680"/>
            <a:chExt cx="2406240" cy="381240"/>
          </a:xfrm>
        </p:grpSpPr>
        <p:sp>
          <p:nvSpPr>
            <p:cNvPr id="821" name=""/>
            <p:cNvSpPr/>
            <p:nvPr/>
          </p:nvSpPr>
          <p:spPr>
            <a:xfrm>
              <a:off x="4343760" y="5638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666880" y="5638680"/>
              <a:ext cx="106704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749760" y="58104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2134440" y="5638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450080" y="5410080"/>
            <a:ext cx="8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992880" y="1066680"/>
            <a:ext cx="3623040" cy="1371600"/>
            <a:chOff x="992880" y="1066680"/>
            <a:chExt cx="3623040" cy="1371600"/>
          </a:xfrm>
        </p:grpSpPr>
        <p:sp>
          <p:nvSpPr>
            <p:cNvPr id="827" name=""/>
            <p:cNvSpPr/>
            <p:nvPr/>
          </p:nvSpPr>
          <p:spPr>
            <a:xfrm>
              <a:off x="2209680" y="1676520"/>
              <a:ext cx="106704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209680" y="2057400"/>
              <a:ext cx="106704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1218960" y="2438280"/>
              <a:ext cx="990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47920" y="1066680"/>
              <a:ext cx="0" cy="1371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92880" y="1523880"/>
              <a:ext cx="814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all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3292560" y="222876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886560" y="20574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70720" y="928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09680" y="9144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3276720" y="110016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09680" y="1295280"/>
            <a:ext cx="106704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666880" y="373392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666880" y="41148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2666880" y="3886200"/>
            <a:ext cx="1917720" cy="1752480"/>
            <a:chOff x="2666880" y="3886200"/>
            <a:chExt cx="1917720" cy="1752480"/>
          </a:xfrm>
        </p:grpSpPr>
        <p:sp>
          <p:nvSpPr>
            <p:cNvPr id="841" name=""/>
            <p:cNvSpPr/>
            <p:nvPr/>
          </p:nvSpPr>
          <p:spPr>
            <a:xfrm>
              <a:off x="2666880" y="5257800"/>
              <a:ext cx="1067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581280" y="3886200"/>
              <a:ext cx="1003320" cy="1447920"/>
            </a:xfrm>
            <a:custGeom>
              <a:avLst/>
              <a:gdLst/>
              <a:ahLst/>
              <a:rect l="l" t="t" r="r" b="b"/>
              <a:pathLst>
                <a:path w="632" h="1584">
                  <a:moveTo>
                    <a:pt x="0" y="1584"/>
                  </a:moveTo>
                  <a:cubicBezTo>
                    <a:pt x="100" y="1584"/>
                    <a:pt x="200" y="1584"/>
                    <a:pt x="288" y="1536"/>
                  </a:cubicBezTo>
                  <a:cubicBezTo>
                    <a:pt x="376" y="1488"/>
                    <a:pt x="472" y="1408"/>
                    <a:pt x="528" y="1296"/>
                  </a:cubicBezTo>
                  <a:cubicBezTo>
                    <a:pt x="584" y="1184"/>
                    <a:pt x="616" y="1008"/>
                    <a:pt x="624" y="864"/>
                  </a:cubicBezTo>
                  <a:cubicBezTo>
                    <a:pt x="632" y="720"/>
                    <a:pt x="624" y="560"/>
                    <a:pt x="576" y="432"/>
                  </a:cubicBezTo>
                  <a:cubicBezTo>
                    <a:pt x="528" y="304"/>
                    <a:pt x="416" y="168"/>
                    <a:pt x="336" y="96"/>
                  </a:cubicBezTo>
                  <a:cubicBezTo>
                    <a:pt x="256" y="24"/>
                    <a:pt x="136" y="16"/>
                    <a:pt x="96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5334120" y="2514600"/>
            <a:ext cx="350496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3124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fact Bod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038480" y="4038120"/>
            <a:ext cx="48895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value of 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mporary value of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x-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ed value from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rfact(x-1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ed value from this ca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819520" y="380880"/>
            <a:ext cx="5867280" cy="3106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1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are x :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7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Te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-1(%eb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rfac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fact(x-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b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 *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7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oto don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7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Term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turn 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7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33520" y="3886200"/>
            <a:ext cx="340020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fact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val =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fact(x-1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val *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413080" y="1244520"/>
            <a:ext cx="507960" cy="1028880"/>
          </a:xfrm>
          <a:custGeom>
            <a:avLst/>
            <a:gdLst>
              <a:gd name="textAreaLeft" fmla="*/ 324720 w 507960"/>
              <a:gd name="textAreaRight" fmla="*/ 508320 w 507960"/>
              <a:gd name="textAreaTop" fmla="*/ 26640 h 1028880"/>
              <a:gd name="textAreaBottom" fmla="*/ 1002240 h 10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900360" y="15098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cur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4953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Stack Popp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0160" y="837720"/>
            <a:ext cx="4460760" cy="560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opp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op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operand at address given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t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190400" y="3962520"/>
            <a:ext cx="1521000" cy="911880"/>
            <a:chOff x="4190400" y="3962520"/>
            <a:chExt cx="1521000" cy="911880"/>
          </a:xfrm>
        </p:grpSpPr>
        <p:sp>
          <p:nvSpPr>
            <p:cNvPr id="120" name=""/>
            <p:cNvSpPr/>
            <p:nvPr/>
          </p:nvSpPr>
          <p:spPr>
            <a:xfrm>
              <a:off x="5203440" y="470052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90400" y="39625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715000" y="1981080"/>
            <a:ext cx="1292400" cy="3200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01000" y="3809880"/>
            <a:ext cx="0" cy="1371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29520" y="4111560"/>
            <a:ext cx="1565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Grow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230240" y="1600200"/>
            <a:ext cx="1347480" cy="1295280"/>
            <a:chOff x="7230240" y="1600200"/>
            <a:chExt cx="1347480" cy="1295280"/>
          </a:xfrm>
        </p:grpSpPr>
        <p:sp>
          <p:nvSpPr>
            <p:cNvPr id="126" name=""/>
            <p:cNvSpPr/>
            <p:nvPr/>
          </p:nvSpPr>
          <p:spPr>
            <a:xfrm flipV="1">
              <a:off x="7914960" y="160020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30240" y="2001960"/>
              <a:ext cx="1347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creas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422760" y="5638680"/>
            <a:ext cx="150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Top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4876920"/>
            <a:ext cx="12952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1160" y="838080"/>
            <a:ext cx="18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Bottom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680" y="1295280"/>
            <a:ext cx="45720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5029200"/>
            <a:ext cx="507960" cy="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15040" y="4716360"/>
            <a:ext cx="323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+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334120" y="472392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876920"/>
            <a:ext cx="1292400" cy="3045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543720" y="4876560"/>
            <a:ext cx="54288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914400" y="396252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65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fact Recurs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038480" y="20574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5105520" y="2971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518440" y="2800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038480" y="3200400"/>
            <a:ext cx="106704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3657600" y="1523880"/>
            <a:ext cx="2590200" cy="2482920"/>
            <a:chOff x="3657600" y="1523880"/>
            <a:chExt cx="2590200" cy="2482920"/>
          </a:xfrm>
        </p:grpSpPr>
        <p:sp>
          <p:nvSpPr>
            <p:cNvPr id="859" name=""/>
            <p:cNvSpPr/>
            <p:nvPr/>
          </p:nvSpPr>
          <p:spPr>
            <a:xfrm>
              <a:off x="3657600" y="1523880"/>
              <a:ext cx="1600200" cy="3632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ushl 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5105520" y="38098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51844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038480" y="3581280"/>
              <a:ext cx="106704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657600" y="2819520"/>
            <a:ext cx="380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38480" y="4648320"/>
            <a:ext cx="106704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352680" y="46483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038480" y="5029200"/>
            <a:ext cx="106704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352680" y="50292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14400" y="1371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914400" y="1752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914400" y="21337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1981080" y="22860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54480" y="2128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14400" y="25146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1996920" y="268596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470680" y="2529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33520" y="2133720"/>
            <a:ext cx="380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28600" y="39625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914400" y="434340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28600" y="43434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152280" y="838080"/>
            <a:ext cx="2667240" cy="3505320"/>
            <a:chOff x="152280" y="838080"/>
            <a:chExt cx="2667240" cy="3505320"/>
          </a:xfrm>
        </p:grpSpPr>
        <p:sp>
          <p:nvSpPr>
            <p:cNvPr id="881" name=""/>
            <p:cNvSpPr/>
            <p:nvPr/>
          </p:nvSpPr>
          <p:spPr>
            <a:xfrm>
              <a:off x="914400" y="3962520"/>
              <a:ext cx="106668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52280" y="838080"/>
              <a:ext cx="2667240" cy="3632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leal -1(%ebx),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6781680" y="29718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81680" y="3352680"/>
            <a:ext cx="106704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81680" y="3733920"/>
            <a:ext cx="106704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7848720" y="3886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261640" y="3714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781680" y="4114800"/>
            <a:ext cx="106704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81680" y="4495680"/>
            <a:ext cx="106704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477120" y="3733920"/>
            <a:ext cx="380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81680" y="5562720"/>
            <a:ext cx="106704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095880" y="55627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781680" y="5943600"/>
            <a:ext cx="106704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095880" y="59436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6400800" y="2438280"/>
            <a:ext cx="2590200" cy="2819520"/>
            <a:chOff x="6400800" y="2438280"/>
            <a:chExt cx="2590200" cy="2819520"/>
          </a:xfrm>
        </p:grpSpPr>
        <p:sp>
          <p:nvSpPr>
            <p:cNvPr id="896" name=""/>
            <p:cNvSpPr/>
            <p:nvPr/>
          </p:nvSpPr>
          <p:spPr>
            <a:xfrm flipH="1">
              <a:off x="7848720" y="50292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261640" y="48578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81680" y="4876920"/>
              <a:ext cx="1067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400800" y="52578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77120" y="2438280"/>
              <a:ext cx="1676160" cy="3632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all rfac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-1)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5156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fact Resul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486400" y="20574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486400" y="24382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486400" y="28195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6553080" y="2971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966360" y="2800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486400" y="32004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6553080" y="38098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966360" y="363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486400" y="358128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05520" y="2819520"/>
            <a:ext cx="380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4952880" y="1523880"/>
            <a:ext cx="2362320" cy="3505320"/>
            <a:chOff x="4952880" y="1523880"/>
            <a:chExt cx="2362320" cy="3505320"/>
          </a:xfrm>
        </p:grpSpPr>
        <p:sp>
          <p:nvSpPr>
            <p:cNvPr id="914" name=""/>
            <p:cNvSpPr/>
            <p:nvPr/>
          </p:nvSpPr>
          <p:spPr>
            <a:xfrm>
              <a:off x="4952880" y="1523880"/>
              <a:ext cx="2362320" cy="3632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mull %ebx,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486400" y="4648320"/>
              <a:ext cx="106668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!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4800600" y="46483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486400" y="502920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800600" y="50292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371600" y="20574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371600" y="24382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371600" y="28195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2438280" y="29718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51560" y="2800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371600" y="32004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2438280" y="380988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851560" y="363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371600" y="358128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990720" y="2819520"/>
            <a:ext cx="380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71600" y="464832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-1)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85800" y="46483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371600" y="502920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50292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38080" y="1523880"/>
            <a:ext cx="21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 from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371600" y="464832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-1)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85800" y="5562720"/>
            <a:ext cx="30481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ume tha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fact(x-1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return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-1)!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n regist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5613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fact Comple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410080" y="304920"/>
            <a:ext cx="350532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18288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85800" y="22096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85800" y="25909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1752480" y="27432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134080" y="2571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53000" y="2590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53000" y="2209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53000" y="1828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9718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1768320" y="35244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149920" y="335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3000" y="2971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411480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0" y="4114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85800" y="4495680"/>
            <a:ext cx="106668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4495680"/>
            <a:ext cx="609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85800" y="335268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53000" y="3352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0666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85800" y="14479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219320"/>
            <a:ext cx="1003320" cy="144756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410080" y="304920"/>
            <a:ext cx="350532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2971800" y="2133720"/>
            <a:ext cx="2879280" cy="3276360"/>
            <a:chOff x="2971800" y="2133720"/>
            <a:chExt cx="2879280" cy="3276360"/>
          </a:xfrm>
        </p:grpSpPr>
        <p:sp>
          <p:nvSpPr>
            <p:cNvPr id="961" name=""/>
            <p:cNvSpPr/>
            <p:nvPr/>
          </p:nvSpPr>
          <p:spPr>
            <a:xfrm>
              <a:off x="3657600" y="2895480"/>
              <a:ext cx="1066680" cy="38124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657600" y="327672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657600" y="3657600"/>
              <a:ext cx="1066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4724280" y="38098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0588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124800" y="3657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124800" y="3276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124800" y="2895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 flipV="1">
              <a:off x="4692600" y="3962520"/>
              <a:ext cx="504720" cy="185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121720" y="39765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657600" y="4648320"/>
              <a:ext cx="1066680" cy="3808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!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71800" y="464832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57600" y="5029200"/>
              <a:ext cx="1066680" cy="3808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971800" y="502920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657600" y="213372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e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657600" y="251460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e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572000" y="2286000"/>
              <a:ext cx="1003320" cy="1447920"/>
            </a:xfrm>
            <a:custGeom>
              <a:avLst/>
              <a:gdLst/>
              <a:ahLst/>
              <a:rect l="l" t="t" r="r" b="b"/>
              <a:pathLst>
                <a:path w="632" h="1584">
                  <a:moveTo>
                    <a:pt x="0" y="1584"/>
                  </a:moveTo>
                  <a:cubicBezTo>
                    <a:pt x="100" y="1584"/>
                    <a:pt x="200" y="1584"/>
                    <a:pt x="288" y="1536"/>
                  </a:cubicBezTo>
                  <a:cubicBezTo>
                    <a:pt x="376" y="1488"/>
                    <a:pt x="472" y="1408"/>
                    <a:pt x="528" y="1296"/>
                  </a:cubicBezTo>
                  <a:cubicBezTo>
                    <a:pt x="584" y="1184"/>
                    <a:pt x="616" y="1008"/>
                    <a:pt x="624" y="864"/>
                  </a:cubicBezTo>
                  <a:cubicBezTo>
                    <a:pt x="632" y="720"/>
                    <a:pt x="624" y="560"/>
                    <a:pt x="576" y="432"/>
                  </a:cubicBezTo>
                  <a:cubicBezTo>
                    <a:pt x="528" y="304"/>
                    <a:pt x="416" y="168"/>
                    <a:pt x="336" y="96"/>
                  </a:cubicBezTo>
                  <a:cubicBezTo>
                    <a:pt x="256" y="24"/>
                    <a:pt x="136" y="16"/>
                    <a:pt x="96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685800" y="4495680"/>
            <a:ext cx="1066680" cy="38124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410080" y="304920"/>
            <a:ext cx="350532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5959440" y="2590920"/>
            <a:ext cx="2879280" cy="3276360"/>
            <a:chOff x="5959440" y="2590920"/>
            <a:chExt cx="2879280" cy="3276360"/>
          </a:xfrm>
        </p:grpSpPr>
        <p:sp>
          <p:nvSpPr>
            <p:cNvPr id="981" name=""/>
            <p:cNvSpPr/>
            <p:nvPr/>
          </p:nvSpPr>
          <p:spPr>
            <a:xfrm>
              <a:off x="6645240" y="3352680"/>
              <a:ext cx="1066680" cy="38124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645240" y="373392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7711920" y="27622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093520" y="2590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109360" y="37479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645240" y="5105520"/>
              <a:ext cx="1066680" cy="3808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!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959440" y="510552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645240" y="5486400"/>
              <a:ext cx="1066680" cy="3808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959440" y="548640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645240" y="259092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e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645240" y="297180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e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7696080" y="38862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5220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inter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838080" y="1295280"/>
            <a:ext cx="370548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_help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*accum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 = *accum *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accum = 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_helper (x-1,accum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257800" y="1371600"/>
            <a:ext cx="34005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fact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_helper(x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410800" y="91440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-Level Cal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146960" y="83808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cursive Procedu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290520" y="4920840"/>
            <a:ext cx="83073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ss pointer to update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"/>
          <p:cNvGrpSpPr/>
          <p:nvPr/>
        </p:nvGrpSpPr>
        <p:grpSpPr>
          <a:xfrm>
            <a:off x="6553080" y="2819520"/>
            <a:ext cx="2406240" cy="1523880"/>
            <a:chOff x="6553080" y="2819520"/>
            <a:chExt cx="2406240" cy="1523880"/>
          </a:xfrm>
        </p:grpSpPr>
        <p:sp>
          <p:nvSpPr>
            <p:cNvPr id="1000" name=""/>
            <p:cNvSpPr/>
            <p:nvPr/>
          </p:nvSpPr>
          <p:spPr>
            <a:xfrm>
              <a:off x="6553080" y="2819520"/>
              <a:ext cx="1067040" cy="1523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mp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pac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7635960" y="41338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229960" y="3962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289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reating &amp; Initializing Poi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800600" y="4724280"/>
            <a:ext cx="34005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fact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_helper(x,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&amp;v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80880" y="15238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bp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Save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l $16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dd 16 by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-4(%ebp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28240" y="3352680"/>
            <a:ext cx="42670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43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ing Stack for Local Variab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must be stored on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19880" indent="-2120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 to create pointer to 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pointer 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4(%ebp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sh on stack as second argu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215720" y="990720"/>
            <a:ext cx="30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itial part of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fa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553080" y="167652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553080" y="20574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553080" y="2438280"/>
            <a:ext cx="106704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7620120" y="2419200"/>
            <a:ext cx="1323360" cy="368280"/>
            <a:chOff x="7620120" y="2419200"/>
            <a:chExt cx="1323360" cy="368280"/>
          </a:xfrm>
        </p:grpSpPr>
        <p:sp>
          <p:nvSpPr>
            <p:cNvPr id="1012" name=""/>
            <p:cNvSpPr/>
            <p:nvPr/>
          </p:nvSpPr>
          <p:spPr>
            <a:xfrm flipH="1">
              <a:off x="7620120" y="25909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214120" y="2419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589968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899680" y="205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899680" y="167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899680" y="2819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6553080" y="2819520"/>
            <a:ext cx="1067040" cy="1523880"/>
            <a:chOff x="6553080" y="2819520"/>
            <a:chExt cx="1067040" cy="1523880"/>
          </a:xfrm>
        </p:grpSpPr>
        <p:sp>
          <p:nvSpPr>
            <p:cNvPr id="1019" name=""/>
            <p:cNvSpPr/>
            <p:nvPr/>
          </p:nvSpPr>
          <p:spPr>
            <a:xfrm>
              <a:off x="6553080" y="2819520"/>
              <a:ext cx="1067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al = 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553080" y="3200400"/>
              <a:ext cx="1067040" cy="11430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Unus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589968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899680" y="3200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900040" y="3962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0880" y="15238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ave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%esp,%ebp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Set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l $16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dd 16 by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-4(%ebp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80880" y="15238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ave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subl $16,%esp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Add 16 by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-4(%ebp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80880" y="15238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ave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l $16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dd 16 by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$1,-4(%ebp)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90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ssing Poi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762120" y="3886200"/>
            <a:ext cx="340020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fact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_helper(x,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&amp;v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0880" y="17524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-4(%ebp),%eax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Compute &amp;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ax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Push on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s_helpe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turn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216080" y="9907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ll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_helper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fa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553080" y="167652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553080" y="20574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553080" y="2438280"/>
            <a:ext cx="106704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7620120" y="2590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214120" y="241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89968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899680" y="205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899680" y="167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553080" y="2819520"/>
            <a:ext cx="106704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899680" y="2819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553080" y="3200400"/>
            <a:ext cx="106704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us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89968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899680" y="3200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900040" y="3962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6553080" y="4724280"/>
            <a:ext cx="2390400" cy="425520"/>
            <a:chOff x="6553080" y="4724280"/>
            <a:chExt cx="2390400" cy="425520"/>
          </a:xfrm>
        </p:grpSpPr>
        <p:sp>
          <p:nvSpPr>
            <p:cNvPr id="1046" name=""/>
            <p:cNvSpPr/>
            <p:nvPr/>
          </p:nvSpPr>
          <p:spPr>
            <a:xfrm flipH="1">
              <a:off x="7620120" y="49528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214120" y="4781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553080" y="4724280"/>
              <a:ext cx="106704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6553080" y="2935440"/>
            <a:ext cx="1944720" cy="1788840"/>
            <a:chOff x="6553080" y="2935440"/>
            <a:chExt cx="1944720" cy="1788840"/>
          </a:xfrm>
        </p:grpSpPr>
        <p:sp>
          <p:nvSpPr>
            <p:cNvPr id="1050" name=""/>
            <p:cNvSpPr/>
            <p:nvPr/>
          </p:nvSpPr>
          <p:spPr>
            <a:xfrm>
              <a:off x="6553080" y="4343400"/>
              <a:ext cx="1067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&amp;v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467480" y="2935440"/>
              <a:ext cx="1030320" cy="1592280"/>
            </a:xfrm>
            <a:custGeom>
              <a:avLst/>
              <a:gdLst/>
              <a:ahLst/>
              <a:rect l="l" t="t" r="r" b="b"/>
              <a:pathLst>
                <a:path w="649" h="1003">
                  <a:moveTo>
                    <a:pt x="0" y="983"/>
                  </a:moveTo>
                  <a:cubicBezTo>
                    <a:pt x="120" y="1003"/>
                    <a:pt x="243" y="983"/>
                    <a:pt x="336" y="935"/>
                  </a:cubicBezTo>
                  <a:cubicBezTo>
                    <a:pt x="429" y="887"/>
                    <a:pt x="512" y="789"/>
                    <a:pt x="560" y="695"/>
                  </a:cubicBezTo>
                  <a:cubicBezTo>
                    <a:pt x="608" y="601"/>
                    <a:pt x="649" y="474"/>
                    <a:pt x="624" y="367"/>
                  </a:cubicBezTo>
                  <a:cubicBezTo>
                    <a:pt x="599" y="260"/>
                    <a:pt x="495" y="110"/>
                    <a:pt x="408" y="55"/>
                  </a:cubicBezTo>
                  <a:cubicBezTo>
                    <a:pt x="321" y="0"/>
                    <a:pt x="167" y="42"/>
                    <a:pt x="104" y="39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6097680" y="121932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Stack at time of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80880" y="17524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ute &amp;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on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dx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Push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s_helpe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turn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80880" y="17524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ute &amp;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on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call s_helper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turn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553080" y="2819520"/>
            <a:ext cx="1067040" cy="3808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al =x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359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Poi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209680" y="3505320"/>
            <a:ext cx="6248520" cy="1460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c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d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*= *acc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accum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62120" y="914400"/>
            <a:ext cx="340020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_help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*accum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 = *accum *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accum = 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290520" y="5284440"/>
            <a:ext cx="8307360" cy="116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old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olds pointer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cc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acces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(%edx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reference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77120" y="1600200"/>
            <a:ext cx="2390040" cy="380880"/>
            <a:chOff x="6477120" y="1600200"/>
            <a:chExt cx="2390040" cy="380880"/>
          </a:xfrm>
        </p:grpSpPr>
        <p:sp>
          <p:nvSpPr>
            <p:cNvPr id="1061" name=""/>
            <p:cNvSpPr/>
            <p:nvPr/>
          </p:nvSpPr>
          <p:spPr>
            <a:xfrm flipH="1">
              <a:off x="7543800" y="177156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37800" y="1600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477120" y="1600200"/>
              <a:ext cx="1066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cc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6477120" y="259092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5639040" y="2209680"/>
            <a:ext cx="1904760" cy="381240"/>
            <a:chOff x="5639040" y="2209680"/>
            <a:chExt cx="1904760" cy="381240"/>
          </a:xfrm>
        </p:grpSpPr>
        <p:sp>
          <p:nvSpPr>
            <p:cNvPr id="1066" name=""/>
            <p:cNvSpPr/>
            <p:nvPr/>
          </p:nvSpPr>
          <p:spPr>
            <a:xfrm>
              <a:off x="6477120" y="2209680"/>
              <a:ext cx="1066680" cy="38124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39040" y="2209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5639040" y="2604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477120" y="2209680"/>
            <a:ext cx="1066680" cy="3812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ccum*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1600200"/>
            <a:ext cx="1066680" cy="3808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ccum*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467160" y="228600"/>
            <a:ext cx="2209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tack Makes Recursion Wor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vate storage for each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instan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procedure ca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antiations don’t clobber each oth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ing of locals + arguments can be relative to stack posi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 managed by stack discip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es return in inverse order of cal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A32 Procedures Combination of Instructions + Conven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/ Ret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usage conven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ller / Callee sa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s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ck frame organization conven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943600" y="5181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4419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800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5181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4419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4800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181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419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800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3352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4800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67080" y="51814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2971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25909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2209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352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4800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44197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3352680"/>
            <a:ext cx="1371600" cy="3812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29718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17524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756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971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5909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209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800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44197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29718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17524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51814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5181480"/>
            <a:ext cx="1371600" cy="38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89680" y="12193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3600" y="2971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25909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2209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44197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29718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15200" y="17524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51814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5200" y="4800600"/>
            <a:ext cx="1371600" cy="3808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7800" y="1219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81480"/>
            <a:ext cx="1371600" cy="38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3352680"/>
            <a:ext cx="137160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67896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dure 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291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lvl="1" marL="347400" indent="-137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stack to support procedure call and retu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38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 call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all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label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sh return address on stack; Jump to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lab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38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 address 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7400" indent="-137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of instruction beyo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a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7400" indent="-137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 from disassemb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804854e: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8 3d 06 00 00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all   8048b90 &lt;main&gt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8048553: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50         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ushl  %ea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2056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address =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x804855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38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 retur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7400" indent="-137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77760"/>
                <a:tab algn="l" pos="1892160"/>
                <a:tab algn="l" pos="228600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 address from stack; Jump to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5334120"/>
            <a:ext cx="1371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4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47242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4038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5334120"/>
            <a:ext cx="1371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4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4038480"/>
            <a:ext cx="1371600" cy="3812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7080" y="36576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24382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dure Call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6576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24382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47242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7360" y="19051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  8048b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9880" y="990720"/>
            <a:ext cx="80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54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8 3d 06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  8048b90 &lt;main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55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0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7080" y="5334120"/>
            <a:ext cx="1371600" cy="380880"/>
          </a:xfrm>
          <a:prstGeom prst="rect">
            <a:avLst/>
          </a:prstGeom>
          <a:solidFill>
            <a:srgbClr val="ff99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b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4724280"/>
            <a:ext cx="1371600" cy="38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586728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s program cou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89548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4038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5334120"/>
            <a:ext cx="1371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9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5334120"/>
            <a:ext cx="1371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9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47242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47242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4038480"/>
            <a:ext cx="137160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36576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24382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dure Retur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360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360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36576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15200" y="24382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0840" y="1905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5640" y="990720"/>
            <a:ext cx="56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591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3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15200" y="4724280"/>
            <a:ext cx="1371600" cy="38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586728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s program cou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15200" y="5334120"/>
            <a:ext cx="1371600" cy="3808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15200" y="4038480"/>
            <a:ext cx="137160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8580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-Based Languag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nguages that Support Recurs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C, Pascal, Jav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must be “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eentra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ltiple simultaneous instantiations of single proced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some place to store state of each instanti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gume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al variab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poin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ck Discipl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for given procedure needed for limited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om when called to when retur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e returns before caller do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ck Allocated i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Fram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for single procedure instanti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5:34Z</dcterms:modified>
  <cp:revision>82</cp:revision>
  <dc:subject/>
  <dc:title>Machine Level Programming III</dc:title>
</cp:coreProperties>
</file>