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32888" cy="6846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920" y="639000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1787AAE8-DF8F-4980-B460-A5CFB16D117E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18400" y="6380640"/>
            <a:ext cx="745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365040"/>
            <a:ext cx="7762680" cy="1139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1800" rIns="9180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73000" y="4216320"/>
            <a:ext cx="37850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andal E. Bryan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0760" y="5245200"/>
            <a:ext cx="59947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Carnegie Mellon University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6515280"/>
            <a:ext cx="78120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52920" y="1022400"/>
            <a:ext cx="2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45280" y="533520"/>
            <a:ext cx="5758560" cy="3431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5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S:APP Chapter 4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mputer Architectur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Pipelined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Implementation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Part II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04120" y="5940360"/>
            <a:ext cx="333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://csapp.cs.cmu.ed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04280" y="152280"/>
            <a:ext cx="8704440" cy="779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lling X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85800" y="12952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0: irmovl $10,%ed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5812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0384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4956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9528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4100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8672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3244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7816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72388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581280" y="12952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038480" y="12952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495680" y="12952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952880" y="12952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410080" y="12952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85800" y="16002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6: irmovl  $3,%ea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038480" y="16002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495680" y="16002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952880" y="16002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410080" y="16002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867280" y="16002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85800" y="1905120"/>
            <a:ext cx="2590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495680" y="2819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410080" y="190512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867280" y="190512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324480" y="190512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85800" y="22096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952880" y="2819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867280" y="2209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324480" y="2209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781680" y="2209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85800" y="2819520"/>
            <a:ext cx="2590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c: addl %edx,%ea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410080" y="2819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324480" y="2819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781680" y="2819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238880" y="2819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696080" y="2819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5800" y="31240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e: ha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324480" y="3124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781680" y="3124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238880" y="3124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696080" y="3124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8153280" y="3124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6960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85800" y="990720"/>
            <a:ext cx="2590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demo-h0.y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5257800" y="2057400"/>
            <a:ext cx="152280" cy="762120"/>
          </a:xfrm>
          <a:custGeom>
            <a:avLst/>
            <a:gdLst/>
            <a:ahLst/>
            <a:rect l="l" t="t" r="r" b="b"/>
            <a:pathLst>
              <a:path w="96" h="240">
                <a:moveTo>
                  <a:pt x="0" y="240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715000" y="2362320"/>
            <a:ext cx="152280" cy="457200"/>
          </a:xfrm>
          <a:custGeom>
            <a:avLst/>
            <a:gdLst/>
            <a:ahLst/>
            <a:rect l="l" t="t" r="r" b="b"/>
            <a:pathLst>
              <a:path w="96" h="240">
                <a:moveTo>
                  <a:pt x="0" y="240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952880" y="3124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410080" y="3124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867280" y="2819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867280" y="3124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324480" y="2514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781680" y="2514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7238880" y="2514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172200" y="2666880"/>
            <a:ext cx="152280" cy="152640"/>
          </a:xfrm>
          <a:custGeom>
            <a:avLst/>
            <a:gdLst/>
            <a:ahLst/>
            <a:rect l="l" t="t" r="r" b="b"/>
            <a:pathLst>
              <a:path w="96" h="240">
                <a:moveTo>
                  <a:pt x="0" y="240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85800" y="25146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1532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H="1">
            <a:off x="2971440" y="3429000"/>
            <a:ext cx="1981080" cy="1917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H="1">
            <a:off x="4419360" y="3429000"/>
            <a:ext cx="990360" cy="13082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971800" y="49528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ycle 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402240" y="5105520"/>
            <a:ext cx="252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92" name=""/>
          <p:cNvGrpSpPr/>
          <p:nvPr/>
        </p:nvGrpSpPr>
        <p:grpSpPr>
          <a:xfrm>
            <a:off x="5867280" y="4114800"/>
            <a:ext cx="1447920" cy="609480"/>
            <a:chOff x="5867280" y="4114800"/>
            <a:chExt cx="1447920" cy="609480"/>
          </a:xfrm>
        </p:grpSpPr>
        <p:sp>
          <p:nvSpPr>
            <p:cNvPr id="1393" name=""/>
            <p:cNvSpPr/>
            <p:nvPr/>
          </p:nvSpPr>
          <p:spPr>
            <a:xfrm>
              <a:off x="5867280" y="4114800"/>
              <a:ext cx="1447920" cy="6094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867280" y="4406760"/>
              <a:ext cx="1447920" cy="31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W_dstE = </a:t>
              </a:r>
              <a:r>
                <a:rPr b="1" lang="en-US" sz="1400" spc="-1" strike="noStrike">
                  <a:solidFill>
                    <a:srgbClr val="ff3300"/>
                  </a:solidFill>
                  <a:latin typeface="Courier New"/>
                </a:rPr>
                <a:t>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5867280" y="5943600"/>
            <a:ext cx="1447920" cy="838080"/>
            <a:chOff x="5867280" y="5943600"/>
            <a:chExt cx="1447920" cy="838080"/>
          </a:xfrm>
        </p:grpSpPr>
        <p:sp>
          <p:nvSpPr>
            <p:cNvPr id="1396" name=""/>
            <p:cNvSpPr/>
            <p:nvPr/>
          </p:nvSpPr>
          <p:spPr>
            <a:xfrm>
              <a:off x="5867280" y="5943600"/>
              <a:ext cx="1447920" cy="838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867280" y="6235560"/>
              <a:ext cx="12193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srcA = 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srcB = </a:t>
              </a:r>
              <a:r>
                <a:rPr b="1" lang="en-US" sz="1400" spc="-1" strike="noStrike">
                  <a:solidFill>
                    <a:srgbClr val="008000"/>
                  </a:solidFill>
                  <a:latin typeface="Courier New"/>
                </a:rPr>
                <a:t>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98" name=""/>
          <p:cNvSpPr/>
          <p:nvPr/>
        </p:nvSpPr>
        <p:spPr>
          <a:xfrm>
            <a:off x="5003640" y="5410080"/>
            <a:ext cx="252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4419720" y="4724280"/>
            <a:ext cx="1447560" cy="609480"/>
            <a:chOff x="4419720" y="4724280"/>
            <a:chExt cx="1447560" cy="609480"/>
          </a:xfrm>
        </p:grpSpPr>
        <p:sp>
          <p:nvSpPr>
            <p:cNvPr id="1400" name=""/>
            <p:cNvSpPr/>
            <p:nvPr/>
          </p:nvSpPr>
          <p:spPr>
            <a:xfrm>
              <a:off x="4419720" y="4724280"/>
              <a:ext cx="1447560" cy="6094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419720" y="5016240"/>
              <a:ext cx="1447560" cy="31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M_dstE = </a:t>
              </a:r>
              <a:r>
                <a:rPr b="1" lang="en-US" sz="1400" spc="-1" strike="noStrike">
                  <a:solidFill>
                    <a:srgbClr val="ff3300"/>
                  </a:solidFill>
                  <a:latin typeface="Courier New"/>
                </a:rPr>
                <a:t>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02" name=""/>
          <p:cNvGrpSpPr/>
          <p:nvPr/>
        </p:nvGrpSpPr>
        <p:grpSpPr>
          <a:xfrm>
            <a:off x="4419720" y="5943600"/>
            <a:ext cx="1447560" cy="838080"/>
            <a:chOff x="4419720" y="5943600"/>
            <a:chExt cx="1447560" cy="838080"/>
          </a:xfrm>
        </p:grpSpPr>
        <p:sp>
          <p:nvSpPr>
            <p:cNvPr id="1403" name=""/>
            <p:cNvSpPr/>
            <p:nvPr/>
          </p:nvSpPr>
          <p:spPr>
            <a:xfrm>
              <a:off x="4419720" y="5943600"/>
              <a:ext cx="1447560" cy="838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419720" y="6235560"/>
              <a:ext cx="121896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srcA = 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srcB = </a:t>
              </a:r>
              <a:r>
                <a:rPr b="1" lang="en-US" sz="1400" spc="-1" strike="noStrike">
                  <a:solidFill>
                    <a:srgbClr val="008000"/>
                  </a:solidFill>
                  <a:latin typeface="Courier New"/>
                </a:rPr>
                <a:t>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05" name=""/>
          <p:cNvGrpSpPr/>
          <p:nvPr/>
        </p:nvGrpSpPr>
        <p:grpSpPr>
          <a:xfrm>
            <a:off x="2971800" y="5334120"/>
            <a:ext cx="1447560" cy="609480"/>
            <a:chOff x="2971800" y="5334120"/>
            <a:chExt cx="1447560" cy="609480"/>
          </a:xfrm>
        </p:grpSpPr>
        <p:sp>
          <p:nvSpPr>
            <p:cNvPr id="1406" name=""/>
            <p:cNvSpPr/>
            <p:nvPr/>
          </p:nvSpPr>
          <p:spPr>
            <a:xfrm>
              <a:off x="2971800" y="5334120"/>
              <a:ext cx="1447560" cy="6094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971800" y="5626080"/>
              <a:ext cx="1447560" cy="31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E_dstE = </a:t>
              </a:r>
              <a:r>
                <a:rPr b="1" lang="en-US" sz="1400" spc="-1" strike="noStrike">
                  <a:solidFill>
                    <a:srgbClr val="ff3300"/>
                  </a:solidFill>
                  <a:latin typeface="Courier New"/>
                </a:rPr>
                <a:t>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08" name=""/>
          <p:cNvGrpSpPr/>
          <p:nvPr/>
        </p:nvGrpSpPr>
        <p:grpSpPr>
          <a:xfrm>
            <a:off x="2971800" y="5943600"/>
            <a:ext cx="1447920" cy="838080"/>
            <a:chOff x="2971800" y="5943600"/>
            <a:chExt cx="1447920" cy="838080"/>
          </a:xfrm>
        </p:grpSpPr>
        <p:sp>
          <p:nvSpPr>
            <p:cNvPr id="1409" name=""/>
            <p:cNvSpPr/>
            <p:nvPr/>
          </p:nvSpPr>
          <p:spPr>
            <a:xfrm>
              <a:off x="2971800" y="5943600"/>
              <a:ext cx="1447920" cy="838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971800" y="6235560"/>
              <a:ext cx="12193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srcA = 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srcB = </a:t>
              </a:r>
              <a:r>
                <a:rPr b="1" lang="en-US" sz="1400" spc="-1" strike="noStrike">
                  <a:solidFill>
                    <a:srgbClr val="008000"/>
                  </a:solidFill>
                  <a:latin typeface="Courier New"/>
                </a:rPr>
                <a:t>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411" name=""/>
          <p:cNvSpPr/>
          <p:nvPr/>
        </p:nvSpPr>
        <p:spPr>
          <a:xfrm>
            <a:off x="4419720" y="434340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ycle 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867280" y="3733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ycle 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867280" y="3429000"/>
            <a:ext cx="0" cy="685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324480" y="3429000"/>
            <a:ext cx="990720" cy="685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at Happens When Stalling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380520" y="3505320"/>
            <a:ext cx="829476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lling instruction held back in decod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llowing instruction stays in fetch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bbles injected into execut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ke dynamically generated nop’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ve through later stag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17" name=""/>
          <p:cNvGrpSpPr/>
          <p:nvPr/>
        </p:nvGrpSpPr>
        <p:grpSpPr>
          <a:xfrm>
            <a:off x="5334120" y="1295280"/>
            <a:ext cx="2590560" cy="1828800"/>
            <a:chOff x="5334120" y="1295280"/>
            <a:chExt cx="2590560" cy="1828800"/>
          </a:xfrm>
        </p:grpSpPr>
        <p:sp>
          <p:nvSpPr>
            <p:cNvPr id="1418" name=""/>
            <p:cNvSpPr/>
            <p:nvPr/>
          </p:nvSpPr>
          <p:spPr>
            <a:xfrm>
              <a:off x="5334120" y="19051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0: irmovl $10,%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334120" y="220968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6: irmovl  $3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334120" y="25146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c: addl %edx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334120" y="1295280"/>
              <a:ext cx="2590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ycle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334120" y="28195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e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23" name=""/>
          <p:cNvGrpSpPr/>
          <p:nvPr/>
        </p:nvGrpSpPr>
        <p:grpSpPr>
          <a:xfrm>
            <a:off x="304920" y="1143000"/>
            <a:ext cx="2895480" cy="1600200"/>
            <a:chOff x="304920" y="1143000"/>
            <a:chExt cx="2895480" cy="1600200"/>
          </a:xfrm>
        </p:grpSpPr>
        <p:sp>
          <p:nvSpPr>
            <p:cNvPr id="1424" name=""/>
            <p:cNvSpPr/>
            <p:nvPr/>
          </p:nvSpPr>
          <p:spPr>
            <a:xfrm>
              <a:off x="304920" y="1143000"/>
              <a:ext cx="2895480" cy="160020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33160" y="1524240"/>
              <a:ext cx="2590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0: irmovl $10,%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33160" y="1828800"/>
              <a:ext cx="2590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6: irmovl  $3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33160" y="2133720"/>
              <a:ext cx="2590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c: addl %edx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33160" y="1219320"/>
              <a:ext cx="2590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# demo-h0.y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33160" y="2438640"/>
              <a:ext cx="2590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e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30" name=""/>
          <p:cNvGrpSpPr/>
          <p:nvPr/>
        </p:nvGrpSpPr>
        <p:grpSpPr>
          <a:xfrm>
            <a:off x="5334120" y="1295280"/>
            <a:ext cx="2590560" cy="1828800"/>
            <a:chOff x="5334120" y="1295280"/>
            <a:chExt cx="2590560" cy="1828800"/>
          </a:xfrm>
        </p:grpSpPr>
        <p:sp>
          <p:nvSpPr>
            <p:cNvPr id="1431" name=""/>
            <p:cNvSpPr/>
            <p:nvPr/>
          </p:nvSpPr>
          <p:spPr>
            <a:xfrm>
              <a:off x="5334120" y="16002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0: irmovl $10,%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334120" y="19051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6: irmovl  $3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334120" y="220968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       </a:t>
              </a:r>
              <a:r>
                <a:rPr b="1" i="1" lang="en-US" sz="1400" spc="-1" strike="noStrike">
                  <a:solidFill>
                    <a:srgbClr val="000066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334120" y="25146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c: addl %edx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334120" y="12952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ycle 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334120" y="28195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e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37" name=""/>
          <p:cNvGrpSpPr/>
          <p:nvPr/>
        </p:nvGrpSpPr>
        <p:grpSpPr>
          <a:xfrm>
            <a:off x="5334120" y="1295280"/>
            <a:ext cx="2590560" cy="1828800"/>
            <a:chOff x="5334120" y="1295280"/>
            <a:chExt cx="2590560" cy="1828800"/>
          </a:xfrm>
        </p:grpSpPr>
        <p:sp>
          <p:nvSpPr>
            <p:cNvPr id="1438" name=""/>
            <p:cNvSpPr/>
            <p:nvPr/>
          </p:nvSpPr>
          <p:spPr>
            <a:xfrm>
              <a:off x="5334120" y="16002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6: irmovl  $3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334120" y="19051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       </a:t>
              </a:r>
              <a:r>
                <a:rPr b="1" i="1" lang="en-US" sz="1400" spc="-1" strike="noStrike">
                  <a:solidFill>
                    <a:srgbClr val="000066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334120" y="25146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c: addl %edx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334120" y="220968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       </a:t>
              </a:r>
              <a:r>
                <a:rPr b="1" i="1" lang="en-US" sz="1400" spc="-1" strike="noStrike">
                  <a:solidFill>
                    <a:srgbClr val="000066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34120" y="12952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ycle 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334120" y="28195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e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5334120" y="1295280"/>
            <a:ext cx="2590560" cy="1828800"/>
            <a:chOff x="5334120" y="1295280"/>
            <a:chExt cx="2590560" cy="1828800"/>
          </a:xfrm>
        </p:grpSpPr>
        <p:sp>
          <p:nvSpPr>
            <p:cNvPr id="1445" name=""/>
            <p:cNvSpPr/>
            <p:nvPr/>
          </p:nvSpPr>
          <p:spPr>
            <a:xfrm>
              <a:off x="5334120" y="16002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       </a:t>
              </a:r>
              <a:r>
                <a:rPr b="1" i="1" lang="en-US" sz="1400" spc="-1" strike="noStrike">
                  <a:solidFill>
                    <a:srgbClr val="000066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334120" y="19051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       </a:t>
              </a:r>
              <a:r>
                <a:rPr b="1" i="1" lang="en-US" sz="1400" spc="-1" strike="noStrike">
                  <a:solidFill>
                    <a:srgbClr val="000066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334120" y="25146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c: addl %edx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334120" y="220968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       </a:t>
              </a:r>
              <a:r>
                <a:rPr b="1" i="1" lang="en-US" sz="1400" spc="-1" strike="noStrike">
                  <a:solidFill>
                    <a:srgbClr val="000066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334120" y="12952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ycle 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334120" y="28195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e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51" name=""/>
          <p:cNvGrpSpPr/>
          <p:nvPr/>
        </p:nvGrpSpPr>
        <p:grpSpPr>
          <a:xfrm>
            <a:off x="5334120" y="1295280"/>
            <a:ext cx="2666880" cy="1981440"/>
            <a:chOff x="5334120" y="1295280"/>
            <a:chExt cx="2666880" cy="1981440"/>
          </a:xfrm>
        </p:grpSpPr>
        <p:sp>
          <p:nvSpPr>
            <p:cNvPr id="1452" name=""/>
            <p:cNvSpPr/>
            <p:nvPr/>
          </p:nvSpPr>
          <p:spPr>
            <a:xfrm>
              <a:off x="5334120" y="16002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       </a:t>
              </a:r>
              <a:r>
                <a:rPr b="1" i="1" lang="en-US" sz="1400" spc="-1" strike="noStrike">
                  <a:solidFill>
                    <a:srgbClr val="000066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334120" y="19051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       </a:t>
              </a:r>
              <a:r>
                <a:rPr b="1" i="1" lang="en-US" sz="1400" spc="-1" strike="noStrike">
                  <a:solidFill>
                    <a:srgbClr val="000066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334120" y="12952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ycle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334120" y="2819520"/>
              <a:ext cx="26668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334120" y="220968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c: addl %edx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334120" y="25146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e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3809880" y="1600200"/>
            <a:ext cx="1524240" cy="1523880"/>
            <a:chOff x="3809880" y="1600200"/>
            <a:chExt cx="1524240" cy="1523880"/>
          </a:xfrm>
        </p:grpSpPr>
        <p:sp>
          <p:nvSpPr>
            <p:cNvPr id="1459" name=""/>
            <p:cNvSpPr/>
            <p:nvPr/>
          </p:nvSpPr>
          <p:spPr>
            <a:xfrm>
              <a:off x="3809880" y="1600200"/>
              <a:ext cx="152424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rite B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809880" y="1904760"/>
              <a:ext cx="152424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809880" y="2209680"/>
              <a:ext cx="152424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809880" y="2514600"/>
              <a:ext cx="152424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809880" y="2819160"/>
              <a:ext cx="152424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etch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04280" y="759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ementing Stal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380520" y="5238720"/>
            <a:ext cx="82947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ipeline Contro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al logic detects stall cond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s mode signals for how pipeline registers should upda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66" name="" descr=""/>
          <p:cNvPicPr/>
          <p:nvPr/>
        </p:nvPicPr>
        <p:blipFill>
          <a:blip r:embed="rId1"/>
          <a:stretch/>
        </p:blipFill>
        <p:spPr>
          <a:xfrm>
            <a:off x="631800" y="835200"/>
            <a:ext cx="6297480" cy="43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line Register Mod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5175000" y="1217520"/>
            <a:ext cx="3305520" cy="1117800"/>
            <a:chOff x="5175000" y="1217520"/>
            <a:chExt cx="3305520" cy="1117800"/>
          </a:xfrm>
        </p:grpSpPr>
        <p:sp>
          <p:nvSpPr>
            <p:cNvPr id="1469" name=""/>
            <p:cNvSpPr/>
            <p:nvPr/>
          </p:nvSpPr>
          <p:spPr>
            <a:xfrm>
              <a:off x="5527800" y="1765440"/>
              <a:ext cx="549000" cy="366480"/>
            </a:xfrm>
            <a:custGeom>
              <a:avLst/>
              <a:gdLst/>
              <a:ahLst/>
              <a:rect l="l" t="t" r="r" b="b"/>
              <a:pathLst>
                <a:path w="691" h="460">
                  <a:moveTo>
                    <a:pt x="0" y="460"/>
                  </a:moveTo>
                  <a:lnTo>
                    <a:pt x="384" y="460"/>
                  </a:lnTo>
                  <a:lnTo>
                    <a:pt x="384" y="0"/>
                  </a:lnTo>
                  <a:lnTo>
                    <a:pt x="69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283360" y="1217520"/>
              <a:ext cx="10983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643000" y="1265400"/>
              <a:ext cx="4579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ising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682600" y="1460520"/>
              <a:ext cx="3754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527800" y="1765440"/>
              <a:ext cx="549000" cy="366480"/>
            </a:xfrm>
            <a:custGeom>
              <a:avLst/>
              <a:gdLst/>
              <a:ahLst/>
              <a:rect l="l" t="t" r="r" b="b"/>
              <a:pathLst>
                <a:path w="691" h="460">
                  <a:moveTo>
                    <a:pt x="0" y="460"/>
                  </a:moveTo>
                  <a:lnTo>
                    <a:pt x="384" y="460"/>
                  </a:lnTo>
                  <a:lnTo>
                    <a:pt x="384" y="0"/>
                  </a:lnTo>
                  <a:lnTo>
                    <a:pt x="69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283360" y="1217520"/>
              <a:ext cx="10983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643000" y="1265400"/>
              <a:ext cx="4579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ising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682600" y="1460520"/>
              <a:ext cx="3754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175000" y="1432080"/>
              <a:ext cx="1350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99"/>
                  </a:solidFill>
                  <a:latin typeface="Wingdings 3"/>
                  <a:ea typeface="Wingdings 3"/>
                </a:rPr>
                <a:t></a:t>
              </a:r>
              <a:endParaRPr b="0" lang="en-US" sz="2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77040" y="1374840"/>
              <a:ext cx="4921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697440" y="1432080"/>
              <a:ext cx="1350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99"/>
                  </a:solidFill>
                  <a:latin typeface="Wingdings 3"/>
                  <a:ea typeface="Wingdings 3"/>
                </a:rPr>
                <a:t></a:t>
              </a:r>
              <a:endParaRPr b="0" lang="en-US" sz="2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580160" y="1359000"/>
              <a:ext cx="90036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687800" y="1406520"/>
              <a:ext cx="7642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utput = y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482" name=""/>
            <p:cNvGrpSpPr/>
            <p:nvPr/>
          </p:nvGrpSpPr>
          <p:grpSpPr>
            <a:xfrm>
              <a:off x="6945480" y="1297080"/>
              <a:ext cx="912600" cy="1038240"/>
              <a:chOff x="6945480" y="1297080"/>
              <a:chExt cx="912600" cy="1038240"/>
            </a:xfrm>
          </p:grpSpPr>
          <p:sp>
            <p:nvSpPr>
              <p:cNvPr id="1483" name=""/>
              <p:cNvSpPr/>
              <p:nvPr/>
            </p:nvSpPr>
            <p:spPr>
              <a:xfrm>
                <a:off x="7310520" y="1297080"/>
                <a:ext cx="183960" cy="1038240"/>
              </a:xfrm>
              <a:prstGeom prst="rect">
                <a:avLst/>
              </a:prstGeom>
              <a:solidFill>
                <a:srgbClr val="66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396200" y="1708200"/>
                <a:ext cx="102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945480" y="1724040"/>
                <a:ext cx="365040" cy="182520"/>
              </a:xfrm>
              <a:custGeom>
                <a:avLst/>
                <a:gdLst/>
                <a:ahLst/>
                <a:rect l="l" t="t" r="r" b="b"/>
                <a:pathLst>
                  <a:path w="461" h="230">
                    <a:moveTo>
                      <a:pt x="307" y="0"/>
                    </a:moveTo>
                    <a:lnTo>
                      <a:pt x="307" y="96"/>
                    </a:lnTo>
                    <a:lnTo>
                      <a:pt x="0" y="96"/>
                    </a:lnTo>
                    <a:lnTo>
                      <a:pt x="0" y="134"/>
                    </a:lnTo>
                    <a:lnTo>
                      <a:pt x="307" y="134"/>
                    </a:lnTo>
                    <a:lnTo>
                      <a:pt x="307" y="230"/>
                    </a:lnTo>
                    <a:lnTo>
                      <a:pt x="461" y="115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493040" y="1724040"/>
                <a:ext cx="365040" cy="182520"/>
              </a:xfrm>
              <a:custGeom>
                <a:avLst/>
                <a:gdLst/>
                <a:ahLst/>
                <a:rect l="l" t="t" r="r" b="b"/>
                <a:pathLst>
                  <a:path w="461" h="230">
                    <a:moveTo>
                      <a:pt x="307" y="0"/>
                    </a:moveTo>
                    <a:lnTo>
                      <a:pt x="307" y="96"/>
                    </a:lnTo>
                    <a:lnTo>
                      <a:pt x="0" y="96"/>
                    </a:lnTo>
                    <a:lnTo>
                      <a:pt x="0" y="134"/>
                    </a:lnTo>
                    <a:lnTo>
                      <a:pt x="307" y="134"/>
                    </a:lnTo>
                    <a:lnTo>
                      <a:pt x="307" y="230"/>
                    </a:lnTo>
                    <a:lnTo>
                      <a:pt x="461" y="115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66cc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310520" y="1297080"/>
                <a:ext cx="183960" cy="1038240"/>
              </a:xfrm>
              <a:prstGeom prst="rect">
                <a:avLst/>
              </a:prstGeom>
              <a:solidFill>
                <a:srgbClr val="66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7396200" y="1708200"/>
                <a:ext cx="102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945480" y="1724040"/>
                <a:ext cx="365040" cy="182520"/>
              </a:xfrm>
              <a:custGeom>
                <a:avLst/>
                <a:gdLst/>
                <a:ahLst/>
                <a:rect l="l" t="t" r="r" b="b"/>
                <a:pathLst>
                  <a:path w="461" h="230">
                    <a:moveTo>
                      <a:pt x="307" y="0"/>
                    </a:moveTo>
                    <a:lnTo>
                      <a:pt x="307" y="96"/>
                    </a:lnTo>
                    <a:lnTo>
                      <a:pt x="0" y="96"/>
                    </a:lnTo>
                    <a:lnTo>
                      <a:pt x="0" y="134"/>
                    </a:lnTo>
                    <a:lnTo>
                      <a:pt x="307" y="134"/>
                    </a:lnTo>
                    <a:lnTo>
                      <a:pt x="307" y="230"/>
                    </a:lnTo>
                    <a:lnTo>
                      <a:pt x="461" y="115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7493040" y="1724040"/>
                <a:ext cx="365040" cy="182520"/>
              </a:xfrm>
              <a:custGeom>
                <a:avLst/>
                <a:gdLst/>
                <a:ahLst/>
                <a:rect l="l" t="t" r="r" b="b"/>
                <a:pathLst>
                  <a:path w="461" h="230">
                    <a:moveTo>
                      <a:pt x="307" y="0"/>
                    </a:moveTo>
                    <a:lnTo>
                      <a:pt x="307" y="96"/>
                    </a:lnTo>
                    <a:lnTo>
                      <a:pt x="0" y="96"/>
                    </a:lnTo>
                    <a:lnTo>
                      <a:pt x="0" y="134"/>
                    </a:lnTo>
                    <a:lnTo>
                      <a:pt x="307" y="134"/>
                    </a:lnTo>
                    <a:lnTo>
                      <a:pt x="307" y="230"/>
                    </a:lnTo>
                    <a:lnTo>
                      <a:pt x="461" y="115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66cc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1" name=""/>
          <p:cNvGrpSpPr/>
          <p:nvPr/>
        </p:nvGrpSpPr>
        <p:grpSpPr>
          <a:xfrm>
            <a:off x="4834080" y="3103560"/>
            <a:ext cx="3630600" cy="1136520"/>
            <a:chOff x="4834080" y="3103560"/>
            <a:chExt cx="3630600" cy="1136520"/>
          </a:xfrm>
        </p:grpSpPr>
        <p:sp>
          <p:nvSpPr>
            <p:cNvPr id="1492" name=""/>
            <p:cNvSpPr/>
            <p:nvPr/>
          </p:nvSpPr>
          <p:spPr>
            <a:xfrm>
              <a:off x="5508720" y="3651120"/>
              <a:ext cx="547560" cy="366840"/>
            </a:xfrm>
            <a:custGeom>
              <a:avLst/>
              <a:gdLst/>
              <a:ahLst/>
              <a:rect l="l" t="t" r="r" b="b"/>
              <a:pathLst>
                <a:path w="691" h="460">
                  <a:moveTo>
                    <a:pt x="0" y="460"/>
                  </a:moveTo>
                  <a:lnTo>
                    <a:pt x="384" y="460"/>
                  </a:lnTo>
                  <a:lnTo>
                    <a:pt x="384" y="0"/>
                  </a:lnTo>
                  <a:lnTo>
                    <a:pt x="69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264280" y="3103560"/>
              <a:ext cx="10983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623920" y="3151080"/>
              <a:ext cx="4579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ising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663520" y="3346560"/>
              <a:ext cx="3754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508720" y="3651120"/>
              <a:ext cx="547560" cy="366840"/>
            </a:xfrm>
            <a:custGeom>
              <a:avLst/>
              <a:gdLst/>
              <a:ahLst/>
              <a:rect l="l" t="t" r="r" b="b"/>
              <a:pathLst>
                <a:path w="691" h="460">
                  <a:moveTo>
                    <a:pt x="0" y="460"/>
                  </a:moveTo>
                  <a:lnTo>
                    <a:pt x="384" y="460"/>
                  </a:lnTo>
                  <a:lnTo>
                    <a:pt x="384" y="0"/>
                  </a:lnTo>
                  <a:lnTo>
                    <a:pt x="69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264280" y="3103560"/>
              <a:ext cx="10983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623920" y="3151080"/>
              <a:ext cx="4579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ising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663520" y="3346560"/>
              <a:ext cx="3754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834080" y="3260880"/>
              <a:ext cx="49212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156280" y="3317760"/>
              <a:ext cx="1350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99"/>
                  </a:solidFill>
                  <a:latin typeface="Wingdings 3"/>
                  <a:ea typeface="Wingdings 3"/>
                </a:rPr>
                <a:t></a:t>
              </a:r>
              <a:endParaRPr b="0" lang="en-US" sz="2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357960" y="3260880"/>
              <a:ext cx="49212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678360" y="3317760"/>
              <a:ext cx="1350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99"/>
                  </a:solidFill>
                  <a:latin typeface="Wingdings 3"/>
                  <a:ea typeface="Wingdings 3"/>
                </a:rPr>
                <a:t></a:t>
              </a:r>
              <a:endParaRPr b="0" lang="en-US" sz="2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559640" y="3244680"/>
              <a:ext cx="9050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670160" y="3292560"/>
              <a:ext cx="7642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utput = x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06" name=""/>
            <p:cNvGrpSpPr/>
            <p:nvPr/>
          </p:nvGrpSpPr>
          <p:grpSpPr>
            <a:xfrm>
              <a:off x="6924600" y="3201840"/>
              <a:ext cx="914400" cy="1038240"/>
              <a:chOff x="6924600" y="3201840"/>
              <a:chExt cx="914400" cy="1038240"/>
            </a:xfrm>
          </p:grpSpPr>
          <p:sp>
            <p:nvSpPr>
              <p:cNvPr id="1507" name=""/>
              <p:cNvSpPr/>
              <p:nvPr/>
            </p:nvSpPr>
            <p:spPr>
              <a:xfrm>
                <a:off x="7291440" y="3201840"/>
                <a:ext cx="183960" cy="1038240"/>
              </a:xfrm>
              <a:prstGeom prst="rect">
                <a:avLst/>
              </a:prstGeom>
              <a:solidFill>
                <a:srgbClr val="b2b2b2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7376400" y="3613320"/>
                <a:ext cx="102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924600" y="3629160"/>
                <a:ext cx="366840" cy="182520"/>
              </a:xfrm>
              <a:custGeom>
                <a:avLst/>
                <a:gdLst/>
                <a:ahLst/>
                <a:rect l="l" t="t" r="r" b="b"/>
                <a:pathLst>
                  <a:path w="460" h="230">
                    <a:moveTo>
                      <a:pt x="307" y="0"/>
                    </a:moveTo>
                    <a:lnTo>
                      <a:pt x="307" y="96"/>
                    </a:lnTo>
                    <a:lnTo>
                      <a:pt x="0" y="96"/>
                    </a:lnTo>
                    <a:lnTo>
                      <a:pt x="0" y="134"/>
                    </a:lnTo>
                    <a:lnTo>
                      <a:pt x="307" y="134"/>
                    </a:lnTo>
                    <a:lnTo>
                      <a:pt x="307" y="230"/>
                    </a:lnTo>
                    <a:lnTo>
                      <a:pt x="460" y="115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7473960" y="3629160"/>
                <a:ext cx="365040" cy="182520"/>
              </a:xfrm>
              <a:custGeom>
                <a:avLst/>
                <a:gdLst/>
                <a:ahLst/>
                <a:rect l="l" t="t" r="r" b="b"/>
                <a:pathLst>
                  <a:path w="460" h="230">
                    <a:moveTo>
                      <a:pt x="307" y="0"/>
                    </a:moveTo>
                    <a:lnTo>
                      <a:pt x="307" y="96"/>
                    </a:lnTo>
                    <a:lnTo>
                      <a:pt x="0" y="96"/>
                    </a:lnTo>
                    <a:lnTo>
                      <a:pt x="0" y="134"/>
                    </a:lnTo>
                    <a:lnTo>
                      <a:pt x="307" y="134"/>
                    </a:lnTo>
                    <a:lnTo>
                      <a:pt x="307" y="230"/>
                    </a:lnTo>
                    <a:lnTo>
                      <a:pt x="460" y="115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b2b2b2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7291440" y="3201840"/>
                <a:ext cx="183960" cy="1038240"/>
              </a:xfrm>
              <a:prstGeom prst="rect">
                <a:avLst/>
              </a:prstGeom>
              <a:solidFill>
                <a:srgbClr val="b2b2b2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376400" y="3613320"/>
                <a:ext cx="102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924600" y="3629160"/>
                <a:ext cx="366840" cy="182520"/>
              </a:xfrm>
              <a:custGeom>
                <a:avLst/>
                <a:gdLst/>
                <a:ahLst/>
                <a:rect l="l" t="t" r="r" b="b"/>
                <a:pathLst>
                  <a:path w="460" h="230">
                    <a:moveTo>
                      <a:pt x="307" y="0"/>
                    </a:moveTo>
                    <a:lnTo>
                      <a:pt x="307" y="96"/>
                    </a:lnTo>
                    <a:lnTo>
                      <a:pt x="0" y="96"/>
                    </a:lnTo>
                    <a:lnTo>
                      <a:pt x="0" y="134"/>
                    </a:lnTo>
                    <a:lnTo>
                      <a:pt x="307" y="134"/>
                    </a:lnTo>
                    <a:lnTo>
                      <a:pt x="307" y="230"/>
                    </a:lnTo>
                    <a:lnTo>
                      <a:pt x="460" y="115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473960" y="3629160"/>
                <a:ext cx="365040" cy="182520"/>
              </a:xfrm>
              <a:custGeom>
                <a:avLst/>
                <a:gdLst/>
                <a:ahLst/>
                <a:rect l="l" t="t" r="r" b="b"/>
                <a:pathLst>
                  <a:path w="460" h="230">
                    <a:moveTo>
                      <a:pt x="307" y="0"/>
                    </a:moveTo>
                    <a:lnTo>
                      <a:pt x="307" y="96"/>
                    </a:lnTo>
                    <a:lnTo>
                      <a:pt x="0" y="96"/>
                    </a:lnTo>
                    <a:lnTo>
                      <a:pt x="0" y="134"/>
                    </a:lnTo>
                    <a:lnTo>
                      <a:pt x="307" y="134"/>
                    </a:lnTo>
                    <a:lnTo>
                      <a:pt x="307" y="230"/>
                    </a:lnTo>
                    <a:lnTo>
                      <a:pt x="460" y="115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b2b2b2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5" name=""/>
          <p:cNvSpPr/>
          <p:nvPr/>
        </p:nvSpPr>
        <p:spPr>
          <a:xfrm>
            <a:off x="3513240" y="4992840"/>
            <a:ext cx="183960" cy="1038240"/>
          </a:xfrm>
          <a:prstGeom prst="rect">
            <a:avLst/>
          </a:prstGeom>
          <a:solidFill>
            <a:srgbClr val="b2b2b2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598200" y="5403960"/>
            <a:ext cx="102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517" name=""/>
          <p:cNvGrpSpPr/>
          <p:nvPr/>
        </p:nvGrpSpPr>
        <p:grpSpPr>
          <a:xfrm>
            <a:off x="3330720" y="6029280"/>
            <a:ext cx="252360" cy="182520"/>
            <a:chOff x="3330720" y="6029280"/>
            <a:chExt cx="252360" cy="182520"/>
          </a:xfrm>
        </p:grpSpPr>
        <p:sp>
          <p:nvSpPr>
            <p:cNvPr id="1518" name=""/>
            <p:cNvSpPr/>
            <p:nvPr/>
          </p:nvSpPr>
          <p:spPr>
            <a:xfrm>
              <a:off x="3330720" y="6075360"/>
              <a:ext cx="226800" cy="136440"/>
            </a:xfrm>
            <a:custGeom>
              <a:avLst/>
              <a:gdLst/>
              <a:ahLst/>
              <a:rect l="l" t="t" r="r" b="b"/>
              <a:pathLst>
                <a:path w="286" h="173">
                  <a:moveTo>
                    <a:pt x="286" y="0"/>
                  </a:moveTo>
                  <a:lnTo>
                    <a:pt x="230" y="173"/>
                  </a:lnTo>
                  <a:lnTo>
                    <a:pt x="0" y="17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532320" y="6029280"/>
              <a:ext cx="50760" cy="57240"/>
            </a:xfrm>
            <a:custGeom>
              <a:avLst/>
              <a:gdLst/>
              <a:ahLst/>
              <a:rect l="l" t="t" r="r" b="b"/>
              <a:pathLst>
                <a:path w="62" h="74">
                  <a:moveTo>
                    <a:pt x="62" y="74"/>
                  </a:moveTo>
                  <a:lnTo>
                    <a:pt x="51" y="0"/>
                  </a:lnTo>
                  <a:lnTo>
                    <a:pt x="0" y="53"/>
                  </a:lnTo>
                  <a:lnTo>
                    <a:pt x="6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20" name=""/>
          <p:cNvGrpSpPr/>
          <p:nvPr/>
        </p:nvGrpSpPr>
        <p:grpSpPr>
          <a:xfrm>
            <a:off x="3627360" y="6029280"/>
            <a:ext cx="250920" cy="182520"/>
            <a:chOff x="3627360" y="6029280"/>
            <a:chExt cx="250920" cy="182520"/>
          </a:xfrm>
        </p:grpSpPr>
        <p:sp>
          <p:nvSpPr>
            <p:cNvPr id="1521" name=""/>
            <p:cNvSpPr/>
            <p:nvPr/>
          </p:nvSpPr>
          <p:spPr>
            <a:xfrm>
              <a:off x="3651120" y="6075360"/>
              <a:ext cx="227160" cy="136440"/>
            </a:xfrm>
            <a:custGeom>
              <a:avLst/>
              <a:gdLst/>
              <a:ahLst/>
              <a:rect l="l" t="t" r="r" b="b"/>
              <a:pathLst>
                <a:path w="286" h="173">
                  <a:moveTo>
                    <a:pt x="0" y="0"/>
                  </a:moveTo>
                  <a:lnTo>
                    <a:pt x="56" y="173"/>
                  </a:lnTo>
                  <a:lnTo>
                    <a:pt x="286" y="17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627360" y="6029280"/>
              <a:ext cx="49320" cy="5724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63" y="53"/>
                  </a:moveTo>
                  <a:lnTo>
                    <a:pt x="10" y="0"/>
                  </a:lnTo>
                  <a:lnTo>
                    <a:pt x="0" y="74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523" name=""/>
          <p:cNvSpPr/>
          <p:nvPr/>
        </p:nvSpPr>
        <p:spPr>
          <a:xfrm>
            <a:off x="3146400" y="5419800"/>
            <a:ext cx="366840" cy="182520"/>
          </a:xfrm>
          <a:custGeom>
            <a:avLst/>
            <a:gdLst/>
            <a:ahLst/>
            <a:rect l="l" t="t" r="r" b="b"/>
            <a:pathLst>
              <a:path w="460" h="230">
                <a:moveTo>
                  <a:pt x="307" y="0"/>
                </a:moveTo>
                <a:lnTo>
                  <a:pt x="307" y="96"/>
                </a:lnTo>
                <a:lnTo>
                  <a:pt x="0" y="96"/>
                </a:lnTo>
                <a:lnTo>
                  <a:pt x="0" y="134"/>
                </a:lnTo>
                <a:lnTo>
                  <a:pt x="307" y="134"/>
                </a:lnTo>
                <a:lnTo>
                  <a:pt x="307" y="230"/>
                </a:lnTo>
                <a:lnTo>
                  <a:pt x="460" y="115"/>
                </a:lnTo>
                <a:lnTo>
                  <a:pt x="307" y="0"/>
                </a:lnTo>
                <a:close/>
              </a:path>
            </a:pathLst>
          </a:custGeom>
          <a:solidFill>
            <a:srgbClr val="66cc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695760" y="5419800"/>
            <a:ext cx="365040" cy="182520"/>
          </a:xfrm>
          <a:custGeom>
            <a:avLst/>
            <a:gdLst/>
            <a:ahLst/>
            <a:rect l="l" t="t" r="r" b="b"/>
            <a:pathLst>
              <a:path w="460" h="230">
                <a:moveTo>
                  <a:pt x="307" y="0"/>
                </a:moveTo>
                <a:lnTo>
                  <a:pt x="307" y="96"/>
                </a:lnTo>
                <a:lnTo>
                  <a:pt x="0" y="96"/>
                </a:lnTo>
                <a:lnTo>
                  <a:pt x="0" y="134"/>
                </a:lnTo>
                <a:lnTo>
                  <a:pt x="307" y="134"/>
                </a:lnTo>
                <a:lnTo>
                  <a:pt x="307" y="230"/>
                </a:lnTo>
                <a:lnTo>
                  <a:pt x="460" y="115"/>
                </a:lnTo>
                <a:lnTo>
                  <a:pt x="307" y="0"/>
                </a:lnTo>
                <a:close/>
              </a:path>
            </a:pathLst>
          </a:custGeom>
          <a:solidFill>
            <a:srgbClr val="b2b2b2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13240" y="4992840"/>
            <a:ext cx="183960" cy="1038240"/>
          </a:xfrm>
          <a:prstGeom prst="rect">
            <a:avLst/>
          </a:prstGeom>
          <a:solidFill>
            <a:srgbClr val="b2b2b2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598200" y="5403960"/>
            <a:ext cx="102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527" name=""/>
          <p:cNvGrpSpPr/>
          <p:nvPr/>
        </p:nvGrpSpPr>
        <p:grpSpPr>
          <a:xfrm>
            <a:off x="3330720" y="6029280"/>
            <a:ext cx="252360" cy="182520"/>
            <a:chOff x="3330720" y="6029280"/>
            <a:chExt cx="252360" cy="182520"/>
          </a:xfrm>
        </p:grpSpPr>
        <p:sp>
          <p:nvSpPr>
            <p:cNvPr id="1528" name=""/>
            <p:cNvSpPr/>
            <p:nvPr/>
          </p:nvSpPr>
          <p:spPr>
            <a:xfrm>
              <a:off x="3330720" y="6075360"/>
              <a:ext cx="226800" cy="136440"/>
            </a:xfrm>
            <a:custGeom>
              <a:avLst/>
              <a:gdLst/>
              <a:ahLst/>
              <a:rect l="l" t="t" r="r" b="b"/>
              <a:pathLst>
                <a:path w="286" h="173">
                  <a:moveTo>
                    <a:pt x="286" y="0"/>
                  </a:moveTo>
                  <a:lnTo>
                    <a:pt x="230" y="173"/>
                  </a:lnTo>
                  <a:lnTo>
                    <a:pt x="0" y="17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532320" y="6029280"/>
              <a:ext cx="50760" cy="57240"/>
            </a:xfrm>
            <a:custGeom>
              <a:avLst/>
              <a:gdLst/>
              <a:ahLst/>
              <a:rect l="l" t="t" r="r" b="b"/>
              <a:pathLst>
                <a:path w="62" h="74">
                  <a:moveTo>
                    <a:pt x="62" y="74"/>
                  </a:moveTo>
                  <a:lnTo>
                    <a:pt x="51" y="0"/>
                  </a:lnTo>
                  <a:lnTo>
                    <a:pt x="0" y="53"/>
                  </a:lnTo>
                  <a:lnTo>
                    <a:pt x="6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3627360" y="6029280"/>
            <a:ext cx="250920" cy="182520"/>
            <a:chOff x="3627360" y="6029280"/>
            <a:chExt cx="250920" cy="182520"/>
          </a:xfrm>
        </p:grpSpPr>
        <p:sp>
          <p:nvSpPr>
            <p:cNvPr id="1531" name=""/>
            <p:cNvSpPr/>
            <p:nvPr/>
          </p:nvSpPr>
          <p:spPr>
            <a:xfrm>
              <a:off x="3651120" y="6075360"/>
              <a:ext cx="227160" cy="136440"/>
            </a:xfrm>
            <a:custGeom>
              <a:avLst/>
              <a:gdLst/>
              <a:ahLst/>
              <a:rect l="l" t="t" r="r" b="b"/>
              <a:pathLst>
                <a:path w="286" h="173">
                  <a:moveTo>
                    <a:pt x="0" y="0"/>
                  </a:moveTo>
                  <a:lnTo>
                    <a:pt x="56" y="173"/>
                  </a:lnTo>
                  <a:lnTo>
                    <a:pt x="286" y="17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627360" y="6029280"/>
              <a:ext cx="49320" cy="5724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63" y="53"/>
                  </a:moveTo>
                  <a:lnTo>
                    <a:pt x="10" y="0"/>
                  </a:lnTo>
                  <a:lnTo>
                    <a:pt x="0" y="74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533" name=""/>
          <p:cNvSpPr/>
          <p:nvPr/>
        </p:nvSpPr>
        <p:spPr>
          <a:xfrm>
            <a:off x="3146400" y="5419800"/>
            <a:ext cx="366840" cy="182520"/>
          </a:xfrm>
          <a:custGeom>
            <a:avLst/>
            <a:gdLst/>
            <a:ahLst/>
            <a:rect l="l" t="t" r="r" b="b"/>
            <a:pathLst>
              <a:path w="460" h="230">
                <a:moveTo>
                  <a:pt x="307" y="0"/>
                </a:moveTo>
                <a:lnTo>
                  <a:pt x="307" y="96"/>
                </a:lnTo>
                <a:lnTo>
                  <a:pt x="0" y="96"/>
                </a:lnTo>
                <a:lnTo>
                  <a:pt x="0" y="134"/>
                </a:lnTo>
                <a:lnTo>
                  <a:pt x="307" y="134"/>
                </a:lnTo>
                <a:lnTo>
                  <a:pt x="307" y="230"/>
                </a:lnTo>
                <a:lnTo>
                  <a:pt x="460" y="115"/>
                </a:lnTo>
                <a:lnTo>
                  <a:pt x="307" y="0"/>
                </a:lnTo>
                <a:close/>
              </a:path>
            </a:pathLst>
          </a:custGeom>
          <a:solidFill>
            <a:srgbClr val="66cc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695760" y="5419800"/>
            <a:ext cx="365040" cy="182520"/>
          </a:xfrm>
          <a:custGeom>
            <a:avLst/>
            <a:gdLst/>
            <a:ahLst/>
            <a:rect l="l" t="t" r="r" b="b"/>
            <a:pathLst>
              <a:path w="460" h="230">
                <a:moveTo>
                  <a:pt x="307" y="0"/>
                </a:moveTo>
                <a:lnTo>
                  <a:pt x="307" y="96"/>
                </a:lnTo>
                <a:lnTo>
                  <a:pt x="0" y="96"/>
                </a:lnTo>
                <a:lnTo>
                  <a:pt x="0" y="134"/>
                </a:lnTo>
                <a:lnTo>
                  <a:pt x="307" y="134"/>
                </a:lnTo>
                <a:lnTo>
                  <a:pt x="307" y="230"/>
                </a:lnTo>
                <a:lnTo>
                  <a:pt x="460" y="115"/>
                </a:lnTo>
                <a:lnTo>
                  <a:pt x="307" y="0"/>
                </a:lnTo>
                <a:close/>
              </a:path>
            </a:pathLst>
          </a:custGeom>
          <a:solidFill>
            <a:srgbClr val="b2b2b2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535" name=""/>
          <p:cNvGrpSpPr/>
          <p:nvPr/>
        </p:nvGrpSpPr>
        <p:grpSpPr>
          <a:xfrm>
            <a:off x="4834080" y="4863960"/>
            <a:ext cx="3843360" cy="1155960"/>
            <a:chOff x="4834080" y="4863960"/>
            <a:chExt cx="3843360" cy="1155960"/>
          </a:xfrm>
        </p:grpSpPr>
        <p:grpSp>
          <p:nvGrpSpPr>
            <p:cNvPr id="1536" name=""/>
            <p:cNvGrpSpPr/>
            <p:nvPr/>
          </p:nvGrpSpPr>
          <p:grpSpPr>
            <a:xfrm>
              <a:off x="4834080" y="4863960"/>
              <a:ext cx="3843360" cy="1155960"/>
              <a:chOff x="4834080" y="4863960"/>
              <a:chExt cx="3843360" cy="1155960"/>
            </a:xfrm>
          </p:grpSpPr>
          <p:sp>
            <p:nvSpPr>
              <p:cNvPr id="1537" name=""/>
              <p:cNvSpPr/>
              <p:nvPr/>
            </p:nvSpPr>
            <p:spPr>
              <a:xfrm>
                <a:off x="4834080" y="5021280"/>
                <a:ext cx="493560" cy="51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291440" y="4981680"/>
                <a:ext cx="183960" cy="103824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362360" y="518472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362360" y="540540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7362360" y="56246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508720" y="5411880"/>
                <a:ext cx="549360" cy="366480"/>
              </a:xfrm>
              <a:custGeom>
                <a:avLst/>
                <a:gdLst/>
                <a:ahLst/>
                <a:rect l="l" t="t" r="r" b="b"/>
                <a:pathLst>
                  <a:path w="691" h="460">
                    <a:moveTo>
                      <a:pt x="0" y="460"/>
                    </a:moveTo>
                    <a:lnTo>
                      <a:pt x="384" y="460"/>
                    </a:lnTo>
                    <a:lnTo>
                      <a:pt x="384" y="0"/>
                    </a:lnTo>
                    <a:lnTo>
                      <a:pt x="691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264280" y="4863960"/>
                <a:ext cx="109836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623200" y="4911840"/>
                <a:ext cx="4579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ising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662800" y="5106960"/>
                <a:ext cx="3754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lock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508720" y="5411880"/>
                <a:ext cx="549360" cy="366480"/>
              </a:xfrm>
              <a:custGeom>
                <a:avLst/>
                <a:gdLst/>
                <a:ahLst/>
                <a:rect l="l" t="t" r="r" b="b"/>
                <a:pathLst>
                  <a:path w="691" h="460">
                    <a:moveTo>
                      <a:pt x="0" y="460"/>
                    </a:moveTo>
                    <a:lnTo>
                      <a:pt x="384" y="460"/>
                    </a:lnTo>
                    <a:lnTo>
                      <a:pt x="384" y="0"/>
                    </a:lnTo>
                    <a:lnTo>
                      <a:pt x="691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264280" y="4863960"/>
                <a:ext cx="109836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623200" y="4911840"/>
                <a:ext cx="4579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ising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662800" y="5106960"/>
                <a:ext cx="3754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lock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155200" y="5078520"/>
                <a:ext cx="135000" cy="39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99"/>
                    </a:solidFill>
                    <a:latin typeface="Wingdings 3"/>
                    <a:ea typeface="Wingdings 3"/>
                  </a:rPr>
                  <a:t></a:t>
                </a:r>
                <a:endParaRPr b="0" lang="en-US" sz="29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357960" y="5021280"/>
                <a:ext cx="492120" cy="51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6679440" y="5078520"/>
                <a:ext cx="135000" cy="39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99"/>
                    </a:solidFill>
                    <a:latin typeface="Wingdings 3"/>
                    <a:ea typeface="Wingdings 3"/>
                  </a:rPr>
                  <a:t></a:t>
                </a:r>
                <a:endParaRPr b="0" lang="en-US" sz="29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561440" y="5014800"/>
                <a:ext cx="111600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669440" y="5052960"/>
                <a:ext cx="6818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utput = 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8358480" y="5068800"/>
                <a:ext cx="2980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Courier New"/>
                  </a:rPr>
                  <a:t>nop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556" name=""/>
            <p:cNvSpPr/>
            <p:nvPr/>
          </p:nvSpPr>
          <p:spPr>
            <a:xfrm>
              <a:off x="6926400" y="5419800"/>
              <a:ext cx="365040" cy="182520"/>
            </a:xfrm>
            <a:custGeom>
              <a:avLst/>
              <a:gdLst/>
              <a:ahLst/>
              <a:rect l="l" t="t" r="r" b="b"/>
              <a:pathLst>
                <a:path w="461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1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473960" y="5419800"/>
              <a:ext cx="366840" cy="182520"/>
            </a:xfrm>
            <a:custGeom>
              <a:avLst/>
              <a:gdLst/>
              <a:ahLst/>
              <a:rect l="l" t="t" r="r" b="b"/>
              <a:pathLst>
                <a:path w="461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1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58" name=""/>
          <p:cNvGrpSpPr/>
          <p:nvPr/>
        </p:nvGrpSpPr>
        <p:grpSpPr>
          <a:xfrm>
            <a:off x="609480" y="1297080"/>
            <a:ext cx="4737240" cy="1360440"/>
            <a:chOff x="609480" y="1297080"/>
            <a:chExt cx="4737240" cy="1360440"/>
          </a:xfrm>
        </p:grpSpPr>
        <p:sp>
          <p:nvSpPr>
            <p:cNvPr id="1559" name=""/>
            <p:cNvSpPr/>
            <p:nvPr/>
          </p:nvSpPr>
          <p:spPr>
            <a:xfrm>
              <a:off x="4853160" y="1374840"/>
              <a:ext cx="4935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740040" y="1359000"/>
              <a:ext cx="90504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849120" y="1406520"/>
              <a:ext cx="7642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utput = x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743200" y="1359000"/>
              <a:ext cx="7747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851200" y="1406520"/>
              <a:ext cx="6361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nput = y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906640" y="2192400"/>
              <a:ext cx="5954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017160" y="2239920"/>
              <a:ext cx="3391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tall 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017520" y="2435400"/>
              <a:ext cx="23400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= 0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699000" y="2192400"/>
              <a:ext cx="6714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809520" y="2239920"/>
              <a:ext cx="4946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ubbl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101480" y="2435400"/>
              <a:ext cx="23400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= 0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532320" y="1297080"/>
              <a:ext cx="183960" cy="1038240"/>
            </a:xfrm>
            <a:prstGeom prst="rect">
              <a:avLst/>
            </a:prstGeom>
            <a:solidFill>
              <a:srgbClr val="b2b2b2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616920" y="1708200"/>
              <a:ext cx="1029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72" name=""/>
            <p:cNvGrpSpPr/>
            <p:nvPr/>
          </p:nvGrpSpPr>
          <p:grpSpPr>
            <a:xfrm>
              <a:off x="3349800" y="2333520"/>
              <a:ext cx="252360" cy="182520"/>
              <a:chOff x="3349800" y="2333520"/>
              <a:chExt cx="252360" cy="182520"/>
            </a:xfrm>
          </p:grpSpPr>
          <p:sp>
            <p:nvSpPr>
              <p:cNvPr id="1573" name=""/>
              <p:cNvSpPr/>
              <p:nvPr/>
            </p:nvSpPr>
            <p:spPr>
              <a:xfrm>
                <a:off x="3349800" y="2378160"/>
                <a:ext cx="226800" cy="13788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286" y="0"/>
                    </a:moveTo>
                    <a:lnTo>
                      <a:pt x="230" y="173"/>
                    </a:lnTo>
                    <a:lnTo>
                      <a:pt x="0" y="17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551400" y="2333520"/>
                <a:ext cx="50760" cy="57240"/>
              </a:xfrm>
              <a:custGeom>
                <a:avLst/>
                <a:gdLst/>
                <a:ahLst/>
                <a:rect l="l" t="t" r="r" b="b"/>
                <a:pathLst>
                  <a:path w="62" h="74">
                    <a:moveTo>
                      <a:pt x="62" y="74"/>
                    </a:moveTo>
                    <a:lnTo>
                      <a:pt x="51" y="0"/>
                    </a:lnTo>
                    <a:lnTo>
                      <a:pt x="0" y="53"/>
                    </a:lnTo>
                    <a:lnTo>
                      <a:pt x="6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3646440" y="2333520"/>
              <a:ext cx="250920" cy="182520"/>
              <a:chOff x="3646440" y="2333520"/>
              <a:chExt cx="250920" cy="182520"/>
            </a:xfrm>
          </p:grpSpPr>
          <p:sp>
            <p:nvSpPr>
              <p:cNvPr id="1576" name=""/>
              <p:cNvSpPr/>
              <p:nvPr/>
            </p:nvSpPr>
            <p:spPr>
              <a:xfrm>
                <a:off x="3670200" y="2378160"/>
                <a:ext cx="227160" cy="13788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0" y="0"/>
                    </a:moveTo>
                    <a:lnTo>
                      <a:pt x="56" y="173"/>
                    </a:lnTo>
                    <a:lnTo>
                      <a:pt x="286" y="17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646440" y="2333520"/>
                <a:ext cx="49320" cy="57240"/>
              </a:xfrm>
              <a:custGeom>
                <a:avLst/>
                <a:gdLst/>
                <a:ahLst/>
                <a:rect l="l" t="t" r="r" b="b"/>
                <a:pathLst>
                  <a:path w="63" h="74">
                    <a:moveTo>
                      <a:pt x="63" y="53"/>
                    </a:moveTo>
                    <a:lnTo>
                      <a:pt x="10" y="0"/>
                    </a:lnTo>
                    <a:lnTo>
                      <a:pt x="0" y="74"/>
                    </a:lnTo>
                    <a:lnTo>
                      <a:pt x="6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578" name=""/>
            <p:cNvSpPr/>
            <p:nvPr/>
          </p:nvSpPr>
          <p:spPr>
            <a:xfrm>
              <a:off x="3165480" y="1724040"/>
              <a:ext cx="366840" cy="182520"/>
            </a:xfrm>
            <a:custGeom>
              <a:avLst/>
              <a:gdLst/>
              <a:ahLst/>
              <a:rect l="l" t="t" r="r" b="b"/>
              <a:pathLst>
                <a:path w="460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0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66cc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714840" y="1724040"/>
              <a:ext cx="365040" cy="182520"/>
            </a:xfrm>
            <a:custGeom>
              <a:avLst/>
              <a:gdLst/>
              <a:ahLst/>
              <a:rect l="l" t="t" r="r" b="b"/>
              <a:pathLst>
                <a:path w="460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0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b2b2b2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532320" y="1297080"/>
              <a:ext cx="183960" cy="1038240"/>
            </a:xfrm>
            <a:prstGeom prst="rect">
              <a:avLst/>
            </a:prstGeom>
            <a:solidFill>
              <a:srgbClr val="b2b2b2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616920" y="1708200"/>
              <a:ext cx="1029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82" name=""/>
            <p:cNvGrpSpPr/>
            <p:nvPr/>
          </p:nvGrpSpPr>
          <p:grpSpPr>
            <a:xfrm>
              <a:off x="3349800" y="2333520"/>
              <a:ext cx="252360" cy="182520"/>
              <a:chOff x="3349800" y="2333520"/>
              <a:chExt cx="252360" cy="182520"/>
            </a:xfrm>
          </p:grpSpPr>
          <p:sp>
            <p:nvSpPr>
              <p:cNvPr id="1583" name=""/>
              <p:cNvSpPr/>
              <p:nvPr/>
            </p:nvSpPr>
            <p:spPr>
              <a:xfrm>
                <a:off x="3349800" y="2378160"/>
                <a:ext cx="226800" cy="13788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286" y="0"/>
                    </a:moveTo>
                    <a:lnTo>
                      <a:pt x="230" y="173"/>
                    </a:lnTo>
                    <a:lnTo>
                      <a:pt x="0" y="17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551400" y="2333520"/>
                <a:ext cx="50760" cy="57240"/>
              </a:xfrm>
              <a:custGeom>
                <a:avLst/>
                <a:gdLst/>
                <a:ahLst/>
                <a:rect l="l" t="t" r="r" b="b"/>
                <a:pathLst>
                  <a:path w="62" h="74">
                    <a:moveTo>
                      <a:pt x="62" y="74"/>
                    </a:moveTo>
                    <a:lnTo>
                      <a:pt x="51" y="0"/>
                    </a:lnTo>
                    <a:lnTo>
                      <a:pt x="0" y="53"/>
                    </a:lnTo>
                    <a:lnTo>
                      <a:pt x="6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3646440" y="2333520"/>
              <a:ext cx="250920" cy="182520"/>
              <a:chOff x="3646440" y="2333520"/>
              <a:chExt cx="250920" cy="182520"/>
            </a:xfrm>
          </p:grpSpPr>
          <p:sp>
            <p:nvSpPr>
              <p:cNvPr id="1586" name=""/>
              <p:cNvSpPr/>
              <p:nvPr/>
            </p:nvSpPr>
            <p:spPr>
              <a:xfrm>
                <a:off x="3670200" y="2378160"/>
                <a:ext cx="227160" cy="13788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0" y="0"/>
                    </a:moveTo>
                    <a:lnTo>
                      <a:pt x="56" y="173"/>
                    </a:lnTo>
                    <a:lnTo>
                      <a:pt x="286" y="17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646440" y="2333520"/>
                <a:ext cx="49320" cy="57240"/>
              </a:xfrm>
              <a:custGeom>
                <a:avLst/>
                <a:gdLst/>
                <a:ahLst/>
                <a:rect l="l" t="t" r="r" b="b"/>
                <a:pathLst>
                  <a:path w="63" h="74">
                    <a:moveTo>
                      <a:pt x="63" y="53"/>
                    </a:moveTo>
                    <a:lnTo>
                      <a:pt x="10" y="0"/>
                    </a:lnTo>
                    <a:lnTo>
                      <a:pt x="0" y="74"/>
                    </a:lnTo>
                    <a:lnTo>
                      <a:pt x="6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588" name=""/>
            <p:cNvSpPr/>
            <p:nvPr/>
          </p:nvSpPr>
          <p:spPr>
            <a:xfrm>
              <a:off x="3165480" y="1724040"/>
              <a:ext cx="366840" cy="182520"/>
            </a:xfrm>
            <a:custGeom>
              <a:avLst/>
              <a:gdLst/>
              <a:ahLst/>
              <a:rect l="l" t="t" r="r" b="b"/>
              <a:pathLst>
                <a:path w="460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0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66cc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714840" y="1724040"/>
              <a:ext cx="365040" cy="182520"/>
            </a:xfrm>
            <a:custGeom>
              <a:avLst/>
              <a:gdLst/>
              <a:ahLst/>
              <a:rect l="l" t="t" r="r" b="b"/>
              <a:pathLst>
                <a:path w="460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0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b2b2b2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09480" y="1660680"/>
              <a:ext cx="15829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orm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91" name=""/>
          <p:cNvGrpSpPr/>
          <p:nvPr/>
        </p:nvGrpSpPr>
        <p:grpSpPr>
          <a:xfrm>
            <a:off x="609480" y="3201840"/>
            <a:ext cx="4016520" cy="1341720"/>
            <a:chOff x="609480" y="3201840"/>
            <a:chExt cx="4016520" cy="1341720"/>
          </a:xfrm>
        </p:grpSpPr>
        <p:sp>
          <p:nvSpPr>
            <p:cNvPr id="1592" name=""/>
            <p:cNvSpPr/>
            <p:nvPr/>
          </p:nvSpPr>
          <p:spPr>
            <a:xfrm>
              <a:off x="3720960" y="3244680"/>
              <a:ext cx="9050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830040" y="3292560"/>
              <a:ext cx="7642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utput = x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724120" y="3244680"/>
              <a:ext cx="7747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832120" y="3292560"/>
              <a:ext cx="6361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nput = y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887560" y="4078440"/>
              <a:ext cx="5954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979360" y="4125960"/>
              <a:ext cx="3754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3300"/>
                  </a:solidFill>
                  <a:latin typeface="Arial"/>
                </a:rPr>
                <a:t>stall 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997720" y="4321080"/>
              <a:ext cx="23400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3300"/>
                  </a:solidFill>
                  <a:latin typeface="Arial"/>
                </a:rPr>
                <a:t>= 1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679920" y="4078440"/>
              <a:ext cx="6714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790440" y="4125960"/>
              <a:ext cx="4946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ubbl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082400" y="4321080"/>
              <a:ext cx="23400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= 0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513240" y="3201840"/>
              <a:ext cx="183960" cy="1038240"/>
            </a:xfrm>
            <a:prstGeom prst="rect">
              <a:avLst/>
            </a:prstGeom>
            <a:solidFill>
              <a:srgbClr val="b2b2b2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598200" y="3613320"/>
              <a:ext cx="1029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604" name=""/>
            <p:cNvGrpSpPr/>
            <p:nvPr/>
          </p:nvGrpSpPr>
          <p:grpSpPr>
            <a:xfrm>
              <a:off x="3328920" y="4238640"/>
              <a:ext cx="254160" cy="182520"/>
              <a:chOff x="3328920" y="4238640"/>
              <a:chExt cx="254160" cy="182520"/>
            </a:xfrm>
          </p:grpSpPr>
          <p:sp>
            <p:nvSpPr>
              <p:cNvPr id="1605" name=""/>
              <p:cNvSpPr/>
              <p:nvPr/>
            </p:nvSpPr>
            <p:spPr>
              <a:xfrm>
                <a:off x="3328920" y="4282920"/>
                <a:ext cx="228600" cy="13824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286" y="0"/>
                    </a:moveTo>
                    <a:lnTo>
                      <a:pt x="230" y="173"/>
                    </a:lnTo>
                    <a:lnTo>
                      <a:pt x="0" y="17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532320" y="4238640"/>
                <a:ext cx="50760" cy="57240"/>
              </a:xfrm>
              <a:custGeom>
                <a:avLst/>
                <a:gdLst/>
                <a:ahLst/>
                <a:rect l="l" t="t" r="r" b="b"/>
                <a:pathLst>
                  <a:path w="62" h="74">
                    <a:moveTo>
                      <a:pt x="62" y="74"/>
                    </a:moveTo>
                    <a:lnTo>
                      <a:pt x="51" y="0"/>
                    </a:lnTo>
                    <a:lnTo>
                      <a:pt x="0" y="53"/>
                    </a:lnTo>
                    <a:lnTo>
                      <a:pt x="6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607" name=""/>
            <p:cNvGrpSpPr/>
            <p:nvPr/>
          </p:nvGrpSpPr>
          <p:grpSpPr>
            <a:xfrm>
              <a:off x="3627360" y="4238640"/>
              <a:ext cx="250920" cy="182520"/>
              <a:chOff x="3627360" y="4238640"/>
              <a:chExt cx="250920" cy="182520"/>
            </a:xfrm>
          </p:grpSpPr>
          <p:sp>
            <p:nvSpPr>
              <p:cNvPr id="1608" name=""/>
              <p:cNvSpPr/>
              <p:nvPr/>
            </p:nvSpPr>
            <p:spPr>
              <a:xfrm>
                <a:off x="3651120" y="4282920"/>
                <a:ext cx="227160" cy="13824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0" y="0"/>
                    </a:moveTo>
                    <a:lnTo>
                      <a:pt x="56" y="173"/>
                    </a:lnTo>
                    <a:lnTo>
                      <a:pt x="286" y="17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627360" y="4238640"/>
                <a:ext cx="49320" cy="57240"/>
              </a:xfrm>
              <a:custGeom>
                <a:avLst/>
                <a:gdLst/>
                <a:ahLst/>
                <a:rect l="l" t="t" r="r" b="b"/>
                <a:pathLst>
                  <a:path w="63" h="74">
                    <a:moveTo>
                      <a:pt x="63" y="53"/>
                    </a:moveTo>
                    <a:lnTo>
                      <a:pt x="10" y="0"/>
                    </a:lnTo>
                    <a:lnTo>
                      <a:pt x="0" y="74"/>
                    </a:lnTo>
                    <a:lnTo>
                      <a:pt x="6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10" name=""/>
            <p:cNvSpPr/>
            <p:nvPr/>
          </p:nvSpPr>
          <p:spPr>
            <a:xfrm>
              <a:off x="3146400" y="3629160"/>
              <a:ext cx="366840" cy="182520"/>
            </a:xfrm>
            <a:custGeom>
              <a:avLst/>
              <a:gdLst/>
              <a:ahLst/>
              <a:rect l="l" t="t" r="r" b="b"/>
              <a:pathLst>
                <a:path w="460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0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66cc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695760" y="3629160"/>
              <a:ext cx="365040" cy="182520"/>
            </a:xfrm>
            <a:custGeom>
              <a:avLst/>
              <a:gdLst/>
              <a:ahLst/>
              <a:rect l="l" t="t" r="r" b="b"/>
              <a:pathLst>
                <a:path w="460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0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b2b2b2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513240" y="3201840"/>
              <a:ext cx="183960" cy="1038240"/>
            </a:xfrm>
            <a:prstGeom prst="rect">
              <a:avLst/>
            </a:prstGeom>
            <a:solidFill>
              <a:srgbClr val="b2b2b2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598200" y="3613320"/>
              <a:ext cx="1029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614" name=""/>
            <p:cNvGrpSpPr/>
            <p:nvPr/>
          </p:nvGrpSpPr>
          <p:grpSpPr>
            <a:xfrm>
              <a:off x="3328920" y="4238640"/>
              <a:ext cx="254160" cy="182520"/>
              <a:chOff x="3328920" y="4238640"/>
              <a:chExt cx="254160" cy="182520"/>
            </a:xfrm>
          </p:grpSpPr>
          <p:sp>
            <p:nvSpPr>
              <p:cNvPr id="1615" name=""/>
              <p:cNvSpPr/>
              <p:nvPr/>
            </p:nvSpPr>
            <p:spPr>
              <a:xfrm>
                <a:off x="3328920" y="4282920"/>
                <a:ext cx="228600" cy="13824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286" y="0"/>
                    </a:moveTo>
                    <a:lnTo>
                      <a:pt x="230" y="173"/>
                    </a:lnTo>
                    <a:lnTo>
                      <a:pt x="0" y="17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532320" y="4238640"/>
                <a:ext cx="50760" cy="57240"/>
              </a:xfrm>
              <a:custGeom>
                <a:avLst/>
                <a:gdLst/>
                <a:ahLst/>
                <a:rect l="l" t="t" r="r" b="b"/>
                <a:pathLst>
                  <a:path w="62" h="74">
                    <a:moveTo>
                      <a:pt x="62" y="74"/>
                    </a:moveTo>
                    <a:lnTo>
                      <a:pt x="51" y="0"/>
                    </a:lnTo>
                    <a:lnTo>
                      <a:pt x="0" y="53"/>
                    </a:lnTo>
                    <a:lnTo>
                      <a:pt x="6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617" name=""/>
            <p:cNvGrpSpPr/>
            <p:nvPr/>
          </p:nvGrpSpPr>
          <p:grpSpPr>
            <a:xfrm>
              <a:off x="3627360" y="4238640"/>
              <a:ext cx="250920" cy="182520"/>
              <a:chOff x="3627360" y="4238640"/>
              <a:chExt cx="250920" cy="182520"/>
            </a:xfrm>
          </p:grpSpPr>
          <p:sp>
            <p:nvSpPr>
              <p:cNvPr id="1618" name=""/>
              <p:cNvSpPr/>
              <p:nvPr/>
            </p:nvSpPr>
            <p:spPr>
              <a:xfrm>
                <a:off x="3651120" y="4282920"/>
                <a:ext cx="227160" cy="13824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0" y="0"/>
                    </a:moveTo>
                    <a:lnTo>
                      <a:pt x="56" y="173"/>
                    </a:lnTo>
                    <a:lnTo>
                      <a:pt x="286" y="17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627360" y="4238640"/>
                <a:ext cx="49320" cy="57240"/>
              </a:xfrm>
              <a:custGeom>
                <a:avLst/>
                <a:gdLst/>
                <a:ahLst/>
                <a:rect l="l" t="t" r="r" b="b"/>
                <a:pathLst>
                  <a:path w="63" h="74">
                    <a:moveTo>
                      <a:pt x="63" y="53"/>
                    </a:moveTo>
                    <a:lnTo>
                      <a:pt x="10" y="0"/>
                    </a:lnTo>
                    <a:lnTo>
                      <a:pt x="0" y="74"/>
                    </a:lnTo>
                    <a:lnTo>
                      <a:pt x="6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20" name=""/>
            <p:cNvSpPr/>
            <p:nvPr/>
          </p:nvSpPr>
          <p:spPr>
            <a:xfrm>
              <a:off x="3146400" y="3629160"/>
              <a:ext cx="366840" cy="182520"/>
            </a:xfrm>
            <a:custGeom>
              <a:avLst/>
              <a:gdLst/>
              <a:ahLst/>
              <a:rect l="l" t="t" r="r" b="b"/>
              <a:pathLst>
                <a:path w="460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0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66cc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695760" y="3629160"/>
              <a:ext cx="365040" cy="182520"/>
            </a:xfrm>
            <a:custGeom>
              <a:avLst/>
              <a:gdLst/>
              <a:ahLst/>
              <a:rect l="l" t="t" r="r" b="b"/>
              <a:pathLst>
                <a:path w="460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0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b2b2b2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09480" y="3546360"/>
              <a:ext cx="15829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l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23" name=""/>
          <p:cNvGrpSpPr/>
          <p:nvPr/>
        </p:nvGrpSpPr>
        <p:grpSpPr>
          <a:xfrm>
            <a:off x="609480" y="5016600"/>
            <a:ext cx="4016520" cy="1298520"/>
            <a:chOff x="609480" y="5016600"/>
            <a:chExt cx="4016520" cy="1298520"/>
          </a:xfrm>
        </p:grpSpPr>
        <p:sp>
          <p:nvSpPr>
            <p:cNvPr id="1624" name=""/>
            <p:cNvSpPr/>
            <p:nvPr/>
          </p:nvSpPr>
          <p:spPr>
            <a:xfrm>
              <a:off x="3720960" y="5016600"/>
              <a:ext cx="90504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830040" y="5064120"/>
              <a:ext cx="7642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utput = x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724120" y="5016600"/>
              <a:ext cx="7747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832120" y="5064120"/>
              <a:ext cx="6361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nput = y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887560" y="5850000"/>
              <a:ext cx="5954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998440" y="5897520"/>
              <a:ext cx="3391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tall 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998440" y="6093000"/>
              <a:ext cx="23400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= 0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679920" y="5850000"/>
              <a:ext cx="6714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767400" y="5897520"/>
              <a:ext cx="5403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3300"/>
                  </a:solidFill>
                  <a:latin typeface="Arial"/>
                </a:rPr>
                <a:t>bubbl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081680" y="6093000"/>
              <a:ext cx="23400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3300"/>
                  </a:solidFill>
                  <a:latin typeface="Arial"/>
                </a:rPr>
                <a:t>= 1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09480" y="5334120"/>
              <a:ext cx="15829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ubbl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Forward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ïve Pipel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isn’t written until completion of write-back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urce operands read from register file in decod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eds to be in register file at start of st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 generated in execute or memory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ic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ss value directly from generating instruction to decod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eds to be available at end of decod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Forward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290160" y="3047760"/>
            <a:ext cx="3443400" cy="33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rmov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 write-back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tination value in W pipeline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ward as valB for decod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2514600" y="914400"/>
            <a:ext cx="5973840" cy="4449600"/>
            <a:chOff x="2514600" y="914400"/>
            <a:chExt cx="5973840" cy="4449600"/>
          </a:xfrm>
        </p:grpSpPr>
        <p:sp>
          <p:nvSpPr>
            <p:cNvPr id="1640" name=""/>
            <p:cNvSpPr/>
            <p:nvPr/>
          </p:nvSpPr>
          <p:spPr>
            <a:xfrm>
              <a:off x="2514600" y="1219320"/>
              <a:ext cx="207180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659680" y="1268280"/>
              <a:ext cx="5875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0x000: 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256560" y="1268280"/>
              <a:ext cx="5875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844440" y="1268280"/>
              <a:ext cx="4197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$10,%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260960" y="1268280"/>
              <a:ext cx="252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830840" y="914400"/>
              <a:ext cx="3650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00652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195880" y="914400"/>
              <a:ext cx="3668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37300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562720" y="914400"/>
              <a:ext cx="3650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73840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927760" y="914400"/>
              <a:ext cx="3650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10488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292800" y="914400"/>
              <a:ext cx="3668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46992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659640" y="914400"/>
              <a:ext cx="3650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83532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024680" y="914400"/>
              <a:ext cx="3650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20180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389720" y="914400"/>
              <a:ext cx="3668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6720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756560" y="914400"/>
              <a:ext cx="3650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93224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830840" y="1219320"/>
              <a:ext cx="36648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000040" y="125424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195880" y="121932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357520" y="125424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562720" y="1219320"/>
              <a:ext cx="36648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725440" y="125424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927760" y="121932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077520" y="125424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292800" y="121932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433920" y="125424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830840" y="1219320"/>
              <a:ext cx="36648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000040" y="125424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195880" y="121932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357520" y="125424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562720" y="1219320"/>
              <a:ext cx="36648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725440" y="125424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927760" y="121932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077520" y="125424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292800" y="121932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433920" y="125424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514600" y="1461960"/>
              <a:ext cx="207180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659680" y="1512720"/>
              <a:ext cx="5875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0x006: 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256560" y="1512720"/>
              <a:ext cx="5875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924360" y="1512720"/>
              <a:ext cx="335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$3,%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260960" y="1512720"/>
              <a:ext cx="252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195880" y="1461960"/>
              <a:ext cx="366840" cy="246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365080" y="149868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562720" y="1461960"/>
              <a:ext cx="366480" cy="246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722560" y="149868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927760" y="1461960"/>
              <a:ext cx="366840" cy="246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092280" y="149868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292800" y="1461960"/>
              <a:ext cx="366840" cy="246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442920" y="149868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659640" y="1461960"/>
              <a:ext cx="366480" cy="2462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798960" y="149868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195880" y="1461960"/>
              <a:ext cx="366840" cy="246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365080" y="149868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562720" y="1461960"/>
              <a:ext cx="366480" cy="246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722560" y="149868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927760" y="1461960"/>
              <a:ext cx="366840" cy="246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092280" y="149868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292800" y="1461960"/>
              <a:ext cx="366840" cy="246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442920" y="149868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659640" y="1461960"/>
              <a:ext cx="366480" cy="2462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798960" y="149868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514600" y="1706400"/>
              <a:ext cx="2071800" cy="24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659680" y="1757520"/>
              <a:ext cx="5875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0x00c: 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240000" y="1757520"/>
              <a:ext cx="252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562720" y="1706400"/>
              <a:ext cx="36648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731920" y="174132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927760" y="1706400"/>
              <a:ext cx="36684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087600" y="174132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292800" y="1706400"/>
              <a:ext cx="36684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457320" y="174132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659640" y="1706400"/>
              <a:ext cx="366480" cy="2448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809400" y="174132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024680" y="1706400"/>
              <a:ext cx="36684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165440" y="174132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562720" y="1706400"/>
              <a:ext cx="36648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731920" y="174132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927760" y="1706400"/>
              <a:ext cx="36684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087600" y="174132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292800" y="1706400"/>
              <a:ext cx="36684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457320" y="174132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659640" y="1706400"/>
              <a:ext cx="366480" cy="2448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809400" y="174132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024680" y="1706400"/>
              <a:ext cx="36684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165440" y="174132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514600" y="1951200"/>
              <a:ext cx="207180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659680" y="2000160"/>
              <a:ext cx="5875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0x00d: 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240000" y="2000160"/>
              <a:ext cx="252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927760" y="195120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096960" y="198612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292800" y="195120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454440" y="198612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6659640" y="1951200"/>
              <a:ext cx="366480" cy="2444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822720" y="198612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024680" y="195120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174800" y="198612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389720" y="195120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530840" y="198612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927760" y="195120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096960" y="198612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292800" y="195120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454440" y="198612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659640" y="1951200"/>
              <a:ext cx="366480" cy="2444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822720" y="198612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024680" y="195120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174800" y="198612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389720" y="195120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530840" y="198612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514600" y="2193840"/>
              <a:ext cx="207180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659680" y="2244600"/>
              <a:ext cx="5875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0x00e: 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245040" y="2244600"/>
              <a:ext cx="335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657240" y="2244600"/>
              <a:ext cx="846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3749760" y="2244600"/>
              <a:ext cx="252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002480" y="2244600"/>
              <a:ext cx="1684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,%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175280" y="2244600"/>
              <a:ext cx="252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292800" y="219384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462000" y="222876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659640" y="2193840"/>
              <a:ext cx="366480" cy="2444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6819480" y="222876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024680" y="219384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189200" y="222876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389720" y="219384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539840" y="222876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756560" y="219384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895880" y="222876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292800" y="219384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462000" y="222876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659640" y="2193840"/>
              <a:ext cx="366480" cy="2444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819480" y="222876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024680" y="219384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189200" y="222876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389720" y="219384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539840" y="222876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756560" y="219384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895880" y="222876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514600" y="2438280"/>
              <a:ext cx="2071800" cy="2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674800" y="2487600"/>
              <a:ext cx="9226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0x010: halt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783" name=""/>
            <p:cNvGrpSpPr/>
            <p:nvPr/>
          </p:nvGrpSpPr>
          <p:grpSpPr>
            <a:xfrm>
              <a:off x="2514600" y="914400"/>
              <a:ext cx="5973840" cy="4449600"/>
              <a:chOff x="2514600" y="914400"/>
              <a:chExt cx="5973840" cy="4449600"/>
            </a:xfrm>
          </p:grpSpPr>
          <p:sp>
            <p:nvSpPr>
              <p:cNvPr id="1784" name=""/>
              <p:cNvSpPr/>
              <p:nvPr/>
            </p:nvSpPr>
            <p:spPr>
              <a:xfrm>
                <a:off x="6659640" y="2438280"/>
                <a:ext cx="366480" cy="2444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6827760" y="2473200"/>
                <a:ext cx="10116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7024680" y="2438280"/>
                <a:ext cx="366840" cy="244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7184880" y="2473200"/>
                <a:ext cx="119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7389720" y="2438280"/>
                <a:ext cx="366840" cy="244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7554600" y="2473200"/>
                <a:ext cx="110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7756560" y="2438280"/>
                <a:ext cx="366840" cy="244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7905960" y="2473200"/>
                <a:ext cx="137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8121600" y="2438280"/>
                <a:ext cx="366840" cy="244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8261640" y="2473200"/>
                <a:ext cx="1562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659640" y="2438280"/>
                <a:ext cx="366480" cy="2444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827760" y="2473200"/>
                <a:ext cx="10116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024680" y="2438280"/>
                <a:ext cx="366840" cy="244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7184880" y="2473200"/>
                <a:ext cx="119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389720" y="2438280"/>
                <a:ext cx="366840" cy="244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554600" y="2473200"/>
                <a:ext cx="110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756560" y="2438280"/>
                <a:ext cx="366840" cy="244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905960" y="2473200"/>
                <a:ext cx="137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8121600" y="2438280"/>
                <a:ext cx="366840" cy="244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8261640" y="2473200"/>
                <a:ext cx="1562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H="1">
                <a:off x="5622840" y="2681280"/>
                <a:ext cx="1036800" cy="609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024680" y="2681280"/>
                <a:ext cx="1036800" cy="609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8121600" y="914400"/>
                <a:ext cx="365040" cy="244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8265600" y="969840"/>
                <a:ext cx="140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514600" y="974880"/>
                <a:ext cx="2071800" cy="244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660400" y="1019160"/>
                <a:ext cx="10065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# demo-h2.ys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049800" y="2986200"/>
                <a:ext cx="152424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576840" y="3033720"/>
                <a:ext cx="54936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ycle 6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622840" y="3290760"/>
                <a:ext cx="2438640" cy="793800"/>
              </a:xfrm>
              <a:prstGeom prst="rect">
                <a:avLst/>
              </a:prstGeom>
              <a:solidFill>
                <a:srgbClr val="66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6798240" y="3343320"/>
                <a:ext cx="1562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7085160" y="3595680"/>
                <a:ext cx="976320" cy="244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7203600" y="3633840"/>
                <a:ext cx="1407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7356240" y="3649680"/>
                <a:ext cx="846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7446960" y="3649680"/>
                <a:ext cx="252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7681680" y="3633840"/>
                <a:ext cx="7992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827120" y="3629160"/>
                <a:ext cx="525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7927560" y="3633840"/>
                <a:ext cx="7848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622840" y="4570560"/>
                <a:ext cx="2438640" cy="793440"/>
              </a:xfrm>
              <a:prstGeom prst="rect">
                <a:avLst/>
              </a:prstGeom>
              <a:solidFill>
                <a:srgbClr val="66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6819840" y="4622760"/>
                <a:ext cx="119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6597720" y="4875120"/>
                <a:ext cx="1463760" cy="428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6722640" y="4916520"/>
                <a:ext cx="2721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092000" y="4911840"/>
                <a:ext cx="525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197480" y="4916520"/>
                <a:ext cx="1407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350120" y="4932360"/>
                <a:ext cx="846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7440480" y="4932360"/>
                <a:ext cx="252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675200" y="4916520"/>
                <a:ext cx="7992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758000" y="4916520"/>
                <a:ext cx="1227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7881480" y="4916520"/>
                <a:ext cx="15624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6722640" y="5113440"/>
                <a:ext cx="2721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092000" y="5108400"/>
                <a:ext cx="525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201800" y="5113440"/>
                <a:ext cx="2109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_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419600" y="5113440"/>
                <a:ext cx="2721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alE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726320" y="5113440"/>
                <a:ext cx="1227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846560" y="5113440"/>
                <a:ext cx="7848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6719760" y="4083120"/>
                <a:ext cx="206640" cy="48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6828840" y="4084560"/>
                <a:ext cx="586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828840" y="4221000"/>
                <a:ext cx="586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6828840" y="4359240"/>
                <a:ext cx="586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5622840" y="3595680"/>
                <a:ext cx="1463760" cy="428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5745960" y="3638520"/>
                <a:ext cx="2109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_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5963400" y="3638520"/>
                <a:ext cx="2811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stE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279840" y="3638520"/>
                <a:ext cx="1227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411960" y="3648240"/>
                <a:ext cx="846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504120" y="3648240"/>
                <a:ext cx="252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745960" y="3817800"/>
                <a:ext cx="2109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_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964840" y="3817800"/>
                <a:ext cx="3117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alE 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273720" y="3817800"/>
                <a:ext cx="20052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= 3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5622840" y="4875120"/>
                <a:ext cx="976320" cy="428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5747760" y="4917960"/>
                <a:ext cx="2811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rcA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6064200" y="4917960"/>
                <a:ext cx="1227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6195960" y="4933800"/>
                <a:ext cx="846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6288120" y="4933800"/>
                <a:ext cx="252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5747760" y="5087880"/>
                <a:ext cx="2811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rcB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6064200" y="5087880"/>
                <a:ext cx="1227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6195960" y="5097600"/>
                <a:ext cx="846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6288120" y="5097600"/>
                <a:ext cx="252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860" name=""/>
              <p:cNvGrpSpPr/>
              <p:nvPr/>
            </p:nvGrpSpPr>
            <p:grpSpPr>
              <a:xfrm>
                <a:off x="7085160" y="3949560"/>
                <a:ext cx="852480" cy="925560"/>
                <a:chOff x="7085160" y="3949560"/>
                <a:chExt cx="852480" cy="925560"/>
              </a:xfrm>
            </p:grpSpPr>
            <p:sp>
              <p:nvSpPr>
                <p:cNvPr id="1861" name=""/>
                <p:cNvSpPr/>
                <p:nvPr/>
              </p:nvSpPr>
              <p:spPr>
                <a:xfrm>
                  <a:off x="7085160" y="3949560"/>
                  <a:ext cx="804600" cy="811440"/>
                </a:xfrm>
                <a:custGeom>
                  <a:avLst/>
                  <a:gdLst/>
                  <a:ahLst/>
                  <a:rect l="l" t="t" r="r" b="b"/>
                  <a:pathLst>
                    <a:path w="1012" h="1022">
                      <a:moveTo>
                        <a:pt x="0" y="0"/>
                      </a:moveTo>
                      <a:lnTo>
                        <a:pt x="0" y="29"/>
                      </a:lnTo>
                      <a:lnTo>
                        <a:pt x="998" y="29"/>
                      </a:lnTo>
                      <a:lnTo>
                        <a:pt x="998" y="15"/>
                      </a:lnTo>
                      <a:lnTo>
                        <a:pt x="984" y="15"/>
                      </a:lnTo>
                      <a:lnTo>
                        <a:pt x="985" y="19"/>
                      </a:lnTo>
                      <a:lnTo>
                        <a:pt x="988" y="24"/>
                      </a:lnTo>
                      <a:lnTo>
                        <a:pt x="993" y="27"/>
                      </a:lnTo>
                      <a:lnTo>
                        <a:pt x="984" y="15"/>
                      </a:lnTo>
                      <a:lnTo>
                        <a:pt x="984" y="1022"/>
                      </a:lnTo>
                      <a:lnTo>
                        <a:pt x="1012" y="1022"/>
                      </a:lnTo>
                      <a:lnTo>
                        <a:pt x="1012" y="15"/>
                      </a:lnTo>
                      <a:lnTo>
                        <a:pt x="1012" y="15"/>
                      </a:lnTo>
                      <a:lnTo>
                        <a:pt x="1011" y="10"/>
                      </a:lnTo>
                      <a:lnTo>
                        <a:pt x="1008" y="5"/>
                      </a:lnTo>
                      <a:lnTo>
                        <a:pt x="1003" y="2"/>
                      </a:lnTo>
                      <a:lnTo>
                        <a:pt x="99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7819920" y="4759200"/>
                  <a:ext cx="117720" cy="115920"/>
                </a:xfrm>
                <a:custGeom>
                  <a:avLst/>
                  <a:gdLst/>
                  <a:ahLst/>
                  <a:rect l="l" t="t" r="r" b="b"/>
                  <a:pathLst>
                    <a:path w="149" h="147">
                      <a:moveTo>
                        <a:pt x="0" y="0"/>
                      </a:moveTo>
                      <a:lnTo>
                        <a:pt x="74" y="147"/>
                      </a:lnTo>
                      <a:lnTo>
                        <a:pt x="14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pass Path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290160" y="1066320"/>
            <a:ext cx="3900600" cy="53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code Sta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warding logic selects valA and val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rmally from register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warding: get valA or valB from later pipelin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warding Sourc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ecute: va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: valE, val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e back: valE, val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65" name="" descr=""/>
          <p:cNvPicPr/>
          <p:nvPr/>
        </p:nvPicPr>
        <p:blipFill>
          <a:blip r:embed="rId1"/>
          <a:srcRect l="33811" t="0" r="0" b="28351"/>
          <a:stretch/>
        </p:blipFill>
        <p:spPr>
          <a:xfrm>
            <a:off x="4876920" y="228600"/>
            <a:ext cx="3884400" cy="63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Forwarding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304920" y="2819160"/>
            <a:ext cx="3443040" cy="33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%edx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enerated by ALU during previous cyc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ward from memory as val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%eax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ue just generated by ALU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ward from execute as valB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68" name="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6572520" cy="535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5333760" y="76320"/>
            <a:ext cx="3622680" cy="112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ementing Forward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5028840" y="1295280"/>
            <a:ext cx="4102200" cy="51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additional feedback paths from E, M, and W pipeline registers into decod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 logic blocks to select from multiple sources for valA and valB in decod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71" name="" descr=""/>
          <p:cNvPicPr/>
          <p:nvPr/>
        </p:nvPicPr>
        <p:blipFill>
          <a:blip r:embed="rId1"/>
          <a:srcRect l="0" t="0" r="0" b="23382"/>
          <a:stretch/>
        </p:blipFill>
        <p:spPr>
          <a:xfrm>
            <a:off x="76320" y="380880"/>
            <a:ext cx="5292720" cy="58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04280" y="759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ementing Forward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873" name="" descr=""/>
          <p:cNvPicPr/>
          <p:nvPr/>
        </p:nvPicPr>
        <p:blipFill>
          <a:blip r:embed="rId1"/>
          <a:srcRect l="38875" t="0" r="0" b="27245"/>
          <a:stretch/>
        </p:blipFill>
        <p:spPr>
          <a:xfrm>
            <a:off x="380880" y="838080"/>
            <a:ext cx="3235320" cy="5562720"/>
          </a:xfrm>
          <a:prstGeom prst="rect">
            <a:avLst/>
          </a:prstGeom>
          <a:ln w="0">
            <a:noFill/>
          </a:ln>
        </p:spPr>
      </p:pic>
      <p:sp>
        <p:nvSpPr>
          <p:cNvPr id="1874" name=""/>
          <p:cNvSpPr/>
          <p:nvPr/>
        </p:nvSpPr>
        <p:spPr>
          <a:xfrm>
            <a:off x="3886200" y="1066680"/>
            <a:ext cx="52452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# What should be the A value?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ew_E_valA = [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Use incremented 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_icode in { ICALL, IJXX } : D_valP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Forward valE from execut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_srcA == E_dstE : e_valE;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Forward valM from 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_srcA == M_dstM : m_valM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Forward valE from memor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_srcA == M_dstE : M_valE;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Forward valM from write back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_srcA == W_dstM : W_valM;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Forward valE from write b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_srcA == W_dstE : W_valE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Use value read from 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 : d_rvalA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0" algn="ctr"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Make the pipelined processor work!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a Hazar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having register R as source follows shortly after instruction having register R as destin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on condition, don’t want to slow down pipe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Hazar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spredict conditional branc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ur design predicts all branches as being take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aïve pipeline executes two extra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ting return address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aïve pipeline executes three extra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king Sure It Really Wor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if multiple special cases happen simultaneously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26600" y="759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mitation of Forward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290160" y="3200400"/>
            <a:ext cx="4357800" cy="32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oad-use dependenc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 needed by end of decode stage in cycle 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 read from memory in memory stage of cycle 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77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50120" cy="556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voiding Load/Use Hazar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290160" y="3200400"/>
            <a:ext cx="4357800" cy="32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ll using instruction for one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then pick up loaded value by forwarding from memory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8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40760" cy="610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26600" y="152280"/>
            <a:ext cx="8704440" cy="779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tecting Load/Use Hazar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882" name="" descr=""/>
          <p:cNvPicPr/>
          <p:nvPr/>
        </p:nvPicPr>
        <p:blipFill>
          <a:blip r:embed="rId1"/>
          <a:srcRect l="0" t="30137" r="0" b="23167"/>
          <a:stretch/>
        </p:blipFill>
        <p:spPr>
          <a:xfrm>
            <a:off x="1752480" y="1219320"/>
            <a:ext cx="5295960" cy="357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3" name=""/>
          <p:cNvGraphicFramePr/>
          <p:nvPr/>
        </p:nvGraphicFramePr>
        <p:xfrm>
          <a:off x="914400" y="5105520"/>
          <a:ext cx="6630840" cy="1082520"/>
        </p:xfrm>
        <a:graphic>
          <a:graphicData uri="http://schemas.openxmlformats.org/drawingml/2006/table">
            <a:tbl>
              <a:tblPr/>
              <a:tblGrid>
                <a:gridCol w="2363760"/>
                <a:gridCol w="4267080"/>
              </a:tblGrid>
              <a:tr h="4680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Trigg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6145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oad/Use Hazar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_icode in { IMRMOVL, IPOPL } &amp;&amp; E_dstM in { d_srcA, d_srcB }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for Load/Use Hazar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290160" y="3352320"/>
            <a:ext cx="4357800" cy="307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ll instructions in fetch and decode st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ject bubble into execut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914400" y="762120"/>
            <a:ext cx="7326360" cy="2399760"/>
            <a:chOff x="914400" y="762120"/>
            <a:chExt cx="7326360" cy="2399760"/>
          </a:xfrm>
        </p:grpSpPr>
        <p:sp>
          <p:nvSpPr>
            <p:cNvPr id="1887" name=""/>
            <p:cNvSpPr/>
            <p:nvPr/>
          </p:nvSpPr>
          <p:spPr>
            <a:xfrm>
              <a:off x="914400" y="1085760"/>
              <a:ext cx="2203560" cy="25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044720" y="112536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0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773360" y="112536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500560" y="1125360"/>
              <a:ext cx="640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128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125160" y="112536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571920" y="762120"/>
              <a:ext cx="38880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76344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960720" y="762120"/>
              <a:ext cx="3891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15260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349880" y="762120"/>
              <a:ext cx="38880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54140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738680" y="762120"/>
              <a:ext cx="38880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92876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127480" y="762120"/>
              <a:ext cx="3891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31792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516640" y="762120"/>
              <a:ext cx="38880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70672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905440" y="762120"/>
              <a:ext cx="3891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09552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294600" y="762120"/>
              <a:ext cx="38880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48468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683400" y="762120"/>
              <a:ext cx="38880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87348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571920" y="108576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752280" y="112356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960720" y="108576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130640" y="112356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349880" y="108576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524120" y="112356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4738680" y="108576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900320" y="112356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516640" y="134604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667120" y="138240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571920" y="108576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752280" y="112356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960720" y="108576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130640" y="112356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349880" y="108576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524120" y="112356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738680" y="108576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900320" y="112356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516640" y="134604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667120" y="138240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914400" y="1346040"/>
              <a:ext cx="22035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044720" y="13856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6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773360" y="13856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2606040" y="138564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3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021840" y="13856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c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960720" y="134604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141440" y="138240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349880" y="134604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519440" y="138240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4738680" y="134604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4913280" y="138240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127480" y="134604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289120" y="138240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127480" y="108576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278320" y="112356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960720" y="134604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4141440" y="138240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349880" y="134604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519440" y="138240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738680" y="134604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913280" y="138240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127480" y="134604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289120" y="138240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127480" y="108576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278320" y="112356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914400" y="1604880"/>
              <a:ext cx="2203560" cy="25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044720" y="164448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c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773360" y="164448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m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499840" y="164448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606040" y="16444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c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916720" y="1644480"/>
              <a:ext cx="534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 0(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437640" y="16444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747600" y="164448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349880" y="160488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530240" y="164268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738680" y="160488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4908600" y="164268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127480" y="160488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302080" y="164268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516640" y="160488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676480" y="164268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905440" y="160488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056280" y="164268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349880" y="160488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530240" y="164268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738680" y="160488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908600" y="164268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127480" y="160488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302080" y="164268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516640" y="160488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676480" y="164268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905440" y="160488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056280" y="164268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914400" y="1863360"/>
              <a:ext cx="220356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044720" y="19033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12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773360" y="19033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500920" y="1903320"/>
              <a:ext cx="534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10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021840" y="19033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b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4738680" y="186336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4919400" y="190152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127480" y="186336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297400" y="190152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516640" y="186336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691240" y="190152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905440" y="186336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6065640" y="190152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6294600" y="1863360"/>
              <a:ext cx="390240" cy="26028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445080" y="190152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738680" y="186336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919400" y="190152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127480" y="186336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297400" y="190152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516640" y="186336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691240" y="190152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905440" y="186336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065640" y="190152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6294600" y="1863360"/>
              <a:ext cx="390240" cy="26028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6445080" y="190152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914400" y="2124000"/>
              <a:ext cx="2203560" cy="25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044720" y="21636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18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773360" y="21636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m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2501280" y="21636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(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2813760" y="21636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125160" y="2163600"/>
              <a:ext cx="214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),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331800" y="215892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437640" y="21589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852720" y="2158920"/>
              <a:ext cx="854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Load 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685760" y="21589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127480" y="212400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308200" y="216036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516640" y="2124000"/>
              <a:ext cx="390600" cy="25992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686560" y="216036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905440" y="212400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080040" y="216036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294600" y="212400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454440" y="216036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683400" y="2124000"/>
              <a:ext cx="390600" cy="25992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833880" y="216036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5127480" y="212400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5308200" y="216036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516640" y="2124000"/>
              <a:ext cx="390600" cy="25992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686560" y="216036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905440" y="212400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080040" y="216036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294600" y="212400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454440" y="216036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683400" y="2124000"/>
              <a:ext cx="390600" cy="25992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833880" y="216036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914400" y="762120"/>
              <a:ext cx="22035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045080" y="796680"/>
              <a:ext cx="640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demo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668240" y="79668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774080" y="7966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uh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084040" y="79668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.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189880" y="796680"/>
              <a:ext cx="214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y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914400" y="2641320"/>
              <a:ext cx="2203560" cy="25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045080" y="2680920"/>
              <a:ext cx="640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1e: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774080" y="268092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292120" y="268092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397960" y="26809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b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707920" y="268092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812680" y="267624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917080" y="26762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332520" y="26762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Use 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061520" y="26762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914400" y="2901600"/>
              <a:ext cx="22035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044000" y="2941560"/>
              <a:ext cx="117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20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127480" y="212400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308200" y="216036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516640" y="212400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686560" y="216036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905440" y="212400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080040" y="216036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294600" y="2124000"/>
              <a:ext cx="390240" cy="25992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454440" y="216036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683400" y="212400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833880" y="216036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294600" y="2382480"/>
              <a:ext cx="390240" cy="2602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468840" y="242064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683400" y="2382480"/>
              <a:ext cx="390600" cy="2602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843240" y="242064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072200" y="2382480"/>
              <a:ext cx="390600" cy="2602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223040" y="242064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072200" y="762120"/>
              <a:ext cx="3891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230600" y="822240"/>
              <a:ext cx="1407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905440" y="264132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075360" y="267948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294600" y="2641320"/>
              <a:ext cx="390240" cy="25992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464160" y="267948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683400" y="264132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858000" y="267948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072200" y="264132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232400" y="267948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7461360" y="264132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611840" y="267948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7461360" y="762120"/>
              <a:ext cx="38880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7619760" y="822240"/>
              <a:ext cx="1407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914400" y="2382480"/>
              <a:ext cx="200988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773720" y="2415960"/>
              <a:ext cx="640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294600" y="2901600"/>
              <a:ext cx="390240" cy="26028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474960" y="293832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683400" y="290160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6853320" y="293832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072200" y="290160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7246800" y="293832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461360" y="2901600"/>
              <a:ext cx="39024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621200" y="293832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850160" y="290160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8001000" y="293832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516640" y="264132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697000" y="267948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905440" y="290160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6086160" y="293832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102" name=""/>
            <p:cNvGrpSpPr/>
            <p:nvPr/>
          </p:nvGrpSpPr>
          <p:grpSpPr>
            <a:xfrm>
              <a:off x="6153120" y="2473200"/>
              <a:ext cx="141480" cy="167400"/>
              <a:chOff x="6153120" y="2473200"/>
              <a:chExt cx="141480" cy="167400"/>
            </a:xfrm>
          </p:grpSpPr>
          <p:sp>
            <p:nvSpPr>
              <p:cNvPr id="2103" name=""/>
              <p:cNvSpPr/>
              <p:nvPr/>
            </p:nvSpPr>
            <p:spPr>
              <a:xfrm>
                <a:off x="6164280" y="2512440"/>
                <a:ext cx="54000" cy="128160"/>
              </a:xfrm>
              <a:custGeom>
                <a:avLst/>
                <a:gdLst/>
                <a:ahLst/>
                <a:rect l="l" t="t" r="r" b="b"/>
                <a:pathLst>
                  <a:path w="69" h="164">
                    <a:moveTo>
                      <a:pt x="0" y="164"/>
                    </a:moveTo>
                    <a:lnTo>
                      <a:pt x="0" y="0"/>
                    </a:lnTo>
                    <a:lnTo>
                      <a:pt x="69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153120" y="2499840"/>
                <a:ext cx="65160" cy="140760"/>
              </a:xfrm>
              <a:custGeom>
                <a:avLst/>
                <a:gdLst/>
                <a:ahLst/>
                <a:rect l="l" t="t" r="r" b="b"/>
                <a:pathLst>
                  <a:path w="84" h="179">
                    <a:moveTo>
                      <a:pt x="0" y="179"/>
                    </a:moveTo>
                    <a:lnTo>
                      <a:pt x="31" y="179"/>
                    </a:lnTo>
                    <a:lnTo>
                      <a:pt x="31" y="15"/>
                    </a:lnTo>
                    <a:lnTo>
                      <a:pt x="15" y="15"/>
                    </a:lnTo>
                    <a:lnTo>
                      <a:pt x="15" y="30"/>
                    </a:lnTo>
                    <a:lnTo>
                      <a:pt x="21" y="29"/>
                    </a:lnTo>
                    <a:lnTo>
                      <a:pt x="26" y="25"/>
                    </a:lnTo>
                    <a:lnTo>
                      <a:pt x="29" y="20"/>
                    </a:lnTo>
                    <a:lnTo>
                      <a:pt x="15" y="30"/>
                    </a:lnTo>
                    <a:lnTo>
                      <a:pt x="84" y="30"/>
                    </a:lnTo>
                    <a:lnTo>
                      <a:pt x="8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5" y="5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6216480" y="2473200"/>
                <a:ext cx="78120" cy="7884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0" y="100"/>
                    </a:moveTo>
                    <a:lnTo>
                      <a:pt x="99" y="49"/>
                    </a:lnTo>
                    <a:lnTo>
                      <a:pt x="0" y="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106" name=""/>
            <p:cNvSpPr/>
            <p:nvPr/>
          </p:nvSpPr>
          <p:spPr>
            <a:xfrm>
              <a:off x="7785000" y="762120"/>
              <a:ext cx="3891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7943400" y="822240"/>
              <a:ext cx="1407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2108" name=""/>
          <p:cNvGraphicFramePr/>
          <p:nvPr/>
        </p:nvGraphicFramePr>
        <p:xfrm>
          <a:off x="457200" y="5029200"/>
          <a:ext cx="7689960" cy="942840"/>
        </p:xfrm>
        <a:graphic>
          <a:graphicData uri="http://schemas.openxmlformats.org/drawingml/2006/table">
            <a:tbl>
              <a:tblPr/>
              <a:tblGrid>
                <a:gridCol w="2363760"/>
                <a:gridCol w="1065240"/>
                <a:gridCol w="1065240"/>
                <a:gridCol w="1065240"/>
                <a:gridCol w="1065240"/>
                <a:gridCol w="1065240"/>
              </a:tblGrid>
              <a:tr h="4716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712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oad/Use Hazar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Mispredic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290160" y="4952880"/>
            <a:ext cx="8294760" cy="147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uld only execute first 8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380880" y="1828800"/>
            <a:ext cx="8610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0:    xorl %eax,%ea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2:    jne  t             # Not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7:    irmovl $1, %eax    # Fall throug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d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e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f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0:    ha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1: t: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irmovl $3,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# Target (Should not execut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7: 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irmovl $4, 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# Should not execu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d:    irmovl $5, %edx    # Should not execu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784440" y="1219320"/>
            <a:ext cx="1326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emo-j.y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andling Mispredi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304920" y="3657600"/>
            <a:ext cx="8001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marL="308520" indent="-3085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edict branch as take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94360" indent="-195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etch 2 instructions at targe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08520" indent="-3085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cel when mispredic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94360" indent="-195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tect branch not-taken in execute stag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94360" indent="-195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 following cycle, replace instructions in execute and decode by bubbl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94360" indent="-195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side effects have occurred ye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15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791480" cy="28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tecting Mispredicted Branc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2117" name=""/>
          <p:cNvGraphicFramePr/>
          <p:nvPr/>
        </p:nvGraphicFramePr>
        <p:xfrm>
          <a:off x="1219320" y="4191120"/>
          <a:ext cx="6630840" cy="941400"/>
        </p:xfrm>
        <a:graphic>
          <a:graphicData uri="http://schemas.openxmlformats.org/drawingml/2006/table">
            <a:tbl>
              <a:tblPr/>
              <a:tblGrid>
                <a:gridCol w="2363760"/>
                <a:gridCol w="4267080"/>
              </a:tblGrid>
              <a:tr h="4716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Trigg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698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ispredicted Branch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_icode = IJXX &amp; !e_Bch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18" name="" descr=""/>
          <p:cNvPicPr/>
          <p:nvPr/>
        </p:nvPicPr>
        <p:blipFill>
          <a:blip r:embed="rId1"/>
          <a:srcRect l="1441" t="26156" r="12076" b="51144"/>
          <a:stretch/>
        </p:blipFill>
        <p:spPr>
          <a:xfrm>
            <a:off x="2133720" y="1676520"/>
            <a:ext cx="458136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for Mispredi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304920" y="3657600"/>
            <a:ext cx="8001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2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7791480" cy="283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2" name=""/>
          <p:cNvGraphicFramePr/>
          <p:nvPr/>
        </p:nvGraphicFramePr>
        <p:xfrm>
          <a:off x="762120" y="4800600"/>
          <a:ext cx="7689600" cy="941400"/>
        </p:xfrm>
        <a:graphic>
          <a:graphicData uri="http://schemas.openxmlformats.org/drawingml/2006/table">
            <a:tbl>
              <a:tblPr/>
              <a:tblGrid>
                <a:gridCol w="2363400"/>
                <a:gridCol w="1065240"/>
                <a:gridCol w="1065240"/>
                <a:gridCol w="1065240"/>
                <a:gridCol w="1065240"/>
                <a:gridCol w="1065240"/>
              </a:tblGrid>
              <a:tr h="4716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698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ispredicted Branch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"/>
          <p:cNvSpPr/>
          <p:nvPr/>
        </p:nvSpPr>
        <p:spPr>
          <a:xfrm>
            <a:off x="228600" y="1371600"/>
            <a:ext cx="8610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0:    irmovl Stack,%esp  # Initialize stack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6:    call p             # Procedure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b:    irmovl $5,%esi     # Return po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1:    ha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0: .pos 0x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0: p: irmovl $-1,%edi    # procedu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6:    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x027:    irmovl $1,%eax     # Should not be 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x02d:    irmovl $2,%ecx     # Should not be 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x033:    irmovl $3,%edx     # Should not be 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39:    irmovl $4,%ebx     # Should not be 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: .pos 0x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: Stack:                # Stack: Stack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tur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304920" y="5334120"/>
            <a:ext cx="8294400" cy="48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viously executed three additional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5262120" y="304920"/>
            <a:ext cx="1738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emo-retb.y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"/>
          <p:cNvSpPr/>
          <p:nvPr/>
        </p:nvSpPr>
        <p:spPr>
          <a:xfrm>
            <a:off x="990720" y="990720"/>
            <a:ext cx="2590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1133280" y="1052640"/>
            <a:ext cx="13874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026:    r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038480" y="9907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4250160" y="10350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4495680" y="9907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4696200" y="103500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4952880" y="9907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5157720" y="103500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5410080" y="9907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5598000" y="103500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6324480" y="12952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6501240" y="133992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990720" y="12952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198160" y="1347840"/>
            <a:ext cx="640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495680" y="12952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4707360" y="133992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952880" y="12952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5153400" y="133992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5410080" y="12952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5614920" y="133992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5867280" y="12952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6055200" y="133992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5867280" y="9907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6044040" y="103500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990720" y="160020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2198160" y="1652760"/>
            <a:ext cx="640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4952880" y="16002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5164560" y="164448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5410080" y="16002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5610600" y="164448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5867280" y="16002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6072120" y="164448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6324480" y="16002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6512400" y="16444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6781680" y="16002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6958440" y="164448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990720" y="1905120"/>
            <a:ext cx="2590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2198160" y="1957320"/>
            <a:ext cx="640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5410080" y="19051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5621760" y="19494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5867280" y="19051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6067800" y="194940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6324480" y="19051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6529320" y="194940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6781680" y="19051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6969600" y="194940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7238880" y="19051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7415640" y="194940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990720" y="22096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133640" y="2271600"/>
            <a:ext cx="10674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00b: 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2197440" y="2271600"/>
            <a:ext cx="7473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rmovl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2943000" y="2271600"/>
            <a:ext cx="4273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5,%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3367800" y="2271600"/>
            <a:ext cx="320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s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3792960" y="2271600"/>
            <a:ext cx="9608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Return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58672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078960" y="225432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324480" y="2209680"/>
            <a:ext cx="459000" cy="306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6525000" y="225432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67816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986520" y="225432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72388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7426800" y="225432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76960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7872840" y="225432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990720" y="68580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134360" y="739800"/>
            <a:ext cx="640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dem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1773360" y="739800"/>
            <a:ext cx="107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878840" y="739800"/>
            <a:ext cx="4273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8672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078960" y="225432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63244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525000" y="225432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7816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986520" y="225432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72388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7426800" y="225432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6960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7872840" y="225432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181480" y="4952880"/>
            <a:ext cx="1906560" cy="763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6117120" y="501804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5181480" y="5257800"/>
            <a:ext cx="190656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316480" y="5300640"/>
            <a:ext cx="357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5798520" y="5294160"/>
            <a:ext cx="662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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5929200" y="530064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5317560" y="5521320"/>
            <a:ext cx="178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5622120" y="5514840"/>
            <a:ext cx="662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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5767560" y="5540400"/>
            <a:ext cx="107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5873040" y="5540400"/>
            <a:ext cx="320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s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5181480" y="4952880"/>
            <a:ext cx="1906560" cy="763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6117120" y="501804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5181480" y="5257800"/>
            <a:ext cx="190656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316480" y="5300640"/>
            <a:ext cx="357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5798520" y="5294160"/>
            <a:ext cx="662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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5929200" y="530064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5317560" y="5521320"/>
            <a:ext cx="178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622120" y="5514840"/>
            <a:ext cx="662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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767560" y="5540400"/>
            <a:ext cx="107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5873040" y="5540400"/>
            <a:ext cx="320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s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flipH="1">
            <a:off x="5181120" y="25146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6324480" y="251460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27" name=""/>
          <p:cNvGrpSpPr/>
          <p:nvPr/>
        </p:nvGrpSpPr>
        <p:grpSpPr>
          <a:xfrm>
            <a:off x="5181480" y="3200400"/>
            <a:ext cx="1906560" cy="1598760"/>
            <a:chOff x="5181480" y="3200400"/>
            <a:chExt cx="1906560" cy="1598760"/>
          </a:xfrm>
        </p:grpSpPr>
        <p:sp>
          <p:nvSpPr>
            <p:cNvPr id="2228" name=""/>
            <p:cNvSpPr/>
            <p:nvPr/>
          </p:nvSpPr>
          <p:spPr>
            <a:xfrm>
              <a:off x="5181480" y="3200400"/>
              <a:ext cx="1906560" cy="839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082200" y="326556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181480" y="3505320"/>
              <a:ext cx="1906560" cy="53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5316120" y="3670200"/>
              <a:ext cx="37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739840" y="3670200"/>
              <a:ext cx="154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906880" y="368928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181480" y="3200400"/>
              <a:ext cx="1906560" cy="839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6082200" y="326556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181480" y="3505320"/>
              <a:ext cx="1906560" cy="53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316120" y="3670200"/>
              <a:ext cx="37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739840" y="3670200"/>
              <a:ext cx="154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906880" y="368928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943600" y="4191120"/>
              <a:ext cx="2570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080400" y="419256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080400" y="436392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080400" y="453564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rrect Retur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380880" y="3200400"/>
            <a:ext cx="46483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lvl="1" marL="735480" indent="-2419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asses through pipeline, stall at fetch stag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ile in decode, execute, and memory st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419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ject bubble into decode stag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419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lease stall when reach write-back stag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419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line Stag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9112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current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incremented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program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e AL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or write data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date register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495680" y="380880"/>
            <a:ext cx="4195800" cy="59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tecting Retur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2247" name=""/>
          <p:cNvGraphicFramePr/>
          <p:nvPr/>
        </p:nvGraphicFramePr>
        <p:xfrm>
          <a:off x="1371600" y="5181480"/>
          <a:ext cx="6630840" cy="941400"/>
        </p:xfrm>
        <a:graphic>
          <a:graphicData uri="http://schemas.openxmlformats.org/drawingml/2006/table">
            <a:tbl>
              <a:tblPr/>
              <a:tblGrid>
                <a:gridCol w="2363760"/>
                <a:gridCol w="4267080"/>
              </a:tblGrid>
              <a:tr h="4716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Trigg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698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cessing r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RET in { D_icode, E_icode, M_icode }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8" name="" descr=""/>
          <p:cNvPicPr/>
          <p:nvPr/>
        </p:nvPicPr>
        <p:blipFill>
          <a:blip r:embed="rId1"/>
          <a:srcRect l="0" t="6224" r="0" b="0"/>
          <a:stretch/>
        </p:blipFill>
        <p:spPr>
          <a:xfrm>
            <a:off x="2209680" y="1066680"/>
            <a:ext cx="4753080" cy="38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"/>
          <p:cNvSpPr/>
          <p:nvPr/>
        </p:nvSpPr>
        <p:spPr>
          <a:xfrm>
            <a:off x="990720" y="114300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1132920" y="1204920"/>
            <a:ext cx="13874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026:    r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4038480" y="114300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4249800" y="118728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4495680" y="114300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4695480" y="118728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4952880" y="114300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5157000" y="118728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5410080" y="114300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5597640" y="11872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6324480" y="14479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500520" y="149220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990720" y="1447920"/>
            <a:ext cx="2590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2197440" y="1500120"/>
            <a:ext cx="640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4495680" y="14479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4707000" y="14922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4952880" y="14479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152680" y="149220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5410080" y="14479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5614200" y="149220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5867280" y="14479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6054840" y="149220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5867280" y="114300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043320" y="118728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990720" y="17524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2197440" y="1805040"/>
            <a:ext cx="640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4952880" y="17524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5164200" y="179712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5410080" y="17524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609880" y="179712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5867280" y="17524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071400" y="179712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6324480" y="17524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6512040" y="179712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6781680" y="17524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957720" y="179712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990720" y="205740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2197440" y="2109960"/>
            <a:ext cx="640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5410080" y="20574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621400" y="210168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5867280" y="20574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067080" y="210168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6324480" y="20574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6528600" y="210168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6781680" y="20574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6969240" y="21016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7238880" y="20574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7414920" y="210168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990720" y="2362320"/>
            <a:ext cx="2590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1133280" y="2424240"/>
            <a:ext cx="10674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00b: 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2197440" y="2424240"/>
            <a:ext cx="7473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rmovl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2942280" y="2424240"/>
            <a:ext cx="4273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5,%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3367800" y="2424240"/>
            <a:ext cx="320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s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3792240" y="2424240"/>
            <a:ext cx="9608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Return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58672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078600" y="24066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324480" y="2362320"/>
            <a:ext cx="459000" cy="306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524280" y="240660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67816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6985800" y="240660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2388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7426440" y="240660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76960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7872120" y="240660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990720" y="8380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1134000" y="892080"/>
            <a:ext cx="640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dem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1773000" y="892080"/>
            <a:ext cx="107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1878840" y="892080"/>
            <a:ext cx="4273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58672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6078600" y="24066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63244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6524280" y="240660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67816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6985800" y="240660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72388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7426440" y="240660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76960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7872120" y="240660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for Retur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380880" y="32004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444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329" name=""/>
          <p:cNvGraphicFramePr/>
          <p:nvPr/>
        </p:nvGraphicFramePr>
        <p:xfrm>
          <a:off x="685800" y="3048120"/>
          <a:ext cx="7689960" cy="914400"/>
        </p:xfrm>
        <a:graphic>
          <a:graphicData uri="http://schemas.openxmlformats.org/drawingml/2006/table">
            <a:tbl>
              <a:tblPr/>
              <a:tblGrid>
                <a:gridCol w="2363760"/>
                <a:gridCol w="1065240"/>
                <a:gridCol w="1065240"/>
                <a:gridCol w="1065240"/>
                <a:gridCol w="1065240"/>
                <a:gridCol w="1065240"/>
              </a:tblGrid>
              <a:tr h="4716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28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cessing r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cial Control Ca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290160" y="914400"/>
            <a:ext cx="8294760" cy="551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t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ction (on next cycle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2332" name=""/>
          <p:cNvGraphicFramePr/>
          <p:nvPr/>
        </p:nvGraphicFramePr>
        <p:xfrm>
          <a:off x="1143000" y="1523880"/>
          <a:ext cx="6630840" cy="2022480"/>
        </p:xfrm>
        <a:graphic>
          <a:graphicData uri="http://schemas.openxmlformats.org/drawingml/2006/table">
            <a:tbl>
              <a:tblPr/>
              <a:tblGrid>
                <a:gridCol w="2363760"/>
                <a:gridCol w="4267080"/>
              </a:tblGrid>
              <a:tr h="4701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Trigg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6908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cessing r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RET in { D_icode, E_icode, M_icode }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oad/Use Hazar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_icode in { IMRMOVL, IPOPL } &amp;&amp; E_dstM in { d_srcA, d_srcB }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ispredicted Branch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_icode = IJXX &amp; !e_Bch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3" name=""/>
          <p:cNvGraphicFramePr/>
          <p:nvPr/>
        </p:nvGraphicFramePr>
        <p:xfrm>
          <a:off x="914400" y="4343400"/>
          <a:ext cx="7689960" cy="1855800"/>
        </p:xfrm>
        <a:graphic>
          <a:graphicData uri="http://schemas.openxmlformats.org/drawingml/2006/table">
            <a:tbl>
              <a:tblPr/>
              <a:tblGrid>
                <a:gridCol w="2363760"/>
                <a:gridCol w="1065240"/>
                <a:gridCol w="1065240"/>
                <a:gridCol w="1065240"/>
                <a:gridCol w="1065240"/>
                <a:gridCol w="1065240"/>
              </a:tblGrid>
              <a:tr h="4716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28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cessing r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oad/Use Hazar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ispredicted Branch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ementing Pipeline Contro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290160" y="5714640"/>
            <a:ext cx="82947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676080" indent="-222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al logic generates pipeline control sign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22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tion occurs at start of following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36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5160" cy="46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itial Version of Pipeline Contro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380880" y="990720"/>
            <a:ext cx="85345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l F_stall 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Conditions for a load/use haz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icode in { IMRMOVL, IPOPL } &amp;&amp; E_dstM in { d_srcA, d_srcB } ||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Stalling at fetch while ret passes through pipe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RET in { D_icode, E_icode, M_icode 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l D_stall =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Conditions for a load/use haz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icode in { IMRMOVL, IPOPL } &amp;&amp; E_dstM in { d_srcA, d_srcB 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l D_bubble 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Mispredicted bran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E_icode == IJXX &amp;&amp; !e_Bch) ||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Stalling at fetch while ret passes through pipe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RET in { D_icode, E_icode, M_icode 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l E_bubble 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Mispredicted bran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E_icode == IJXX &amp;&amp; !e_Bch) ||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Load/use haz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icode in { IMRMOVL, IPOPL } &amp;&amp; E_dstM in { d_srcA, d_srcB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Combin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290160" y="3428640"/>
            <a:ext cx="8396280" cy="300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ecial cases that can arise on same clock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bination 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-taken branc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 at branch targe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bination B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that reads from memory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llowed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41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180200" cy="20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Combination 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456840" y="4876560"/>
            <a:ext cx="8396280" cy="300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uld handle as mispredicted branc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lls F pipeline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 PC selection logic will be using M_valM anyh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1905120" y="2666880"/>
            <a:ext cx="3278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345" name=""/>
          <p:cNvGrpSpPr/>
          <p:nvPr/>
        </p:nvGrpSpPr>
        <p:grpSpPr>
          <a:xfrm>
            <a:off x="533520" y="990720"/>
            <a:ext cx="3049560" cy="1633320"/>
            <a:chOff x="533520" y="990720"/>
            <a:chExt cx="3049560" cy="1633320"/>
          </a:xfrm>
        </p:grpSpPr>
        <p:sp>
          <p:nvSpPr>
            <p:cNvPr id="2346" name=""/>
            <p:cNvSpPr/>
            <p:nvPr/>
          </p:nvSpPr>
          <p:spPr>
            <a:xfrm>
              <a:off x="990720" y="1676520"/>
              <a:ext cx="915840" cy="306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1324080" y="1724040"/>
              <a:ext cx="366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JX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33520" y="1676520"/>
              <a:ext cx="458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807480" y="17366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990720" y="1981080"/>
              <a:ext cx="91584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33520" y="1981080"/>
              <a:ext cx="4586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96680" y="20415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990720" y="1371600"/>
              <a:ext cx="91584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33520" y="1371600"/>
              <a:ext cx="458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73280" y="14320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85800" y="990720"/>
              <a:ext cx="12207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875520" y="1050840"/>
              <a:ext cx="927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spredic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990720" y="1676520"/>
              <a:ext cx="915840" cy="306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1324080" y="1724040"/>
              <a:ext cx="366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JX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33520" y="1676520"/>
              <a:ext cx="458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807480" y="17366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990720" y="1981080"/>
              <a:ext cx="91584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33520" y="1981080"/>
              <a:ext cx="4586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796680" y="20415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990720" y="1371600"/>
              <a:ext cx="91584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33520" y="1371600"/>
              <a:ext cx="458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773280" y="14320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685800" y="990720"/>
              <a:ext cx="12207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875520" y="1050840"/>
              <a:ext cx="927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spredic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370" name=""/>
            <p:cNvGrpSpPr/>
            <p:nvPr/>
          </p:nvGrpSpPr>
          <p:grpSpPr>
            <a:xfrm>
              <a:off x="2210040" y="990720"/>
              <a:ext cx="1373040" cy="1328760"/>
              <a:chOff x="2210040" y="990720"/>
              <a:chExt cx="1373040" cy="1328760"/>
            </a:xfrm>
          </p:grpSpPr>
          <p:sp>
            <p:nvSpPr>
              <p:cNvPr id="2371" name=""/>
              <p:cNvSpPr/>
              <p:nvPr/>
            </p:nvSpPr>
            <p:spPr>
              <a:xfrm>
                <a:off x="2667240" y="1676520"/>
                <a:ext cx="915840" cy="30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2210040" y="1676520"/>
                <a:ext cx="4586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2484000" y="1736640"/>
                <a:ext cx="13644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2667240" y="1981080"/>
                <a:ext cx="915840" cy="3063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3000600" y="2028960"/>
                <a:ext cx="3664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re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2210040" y="1981080"/>
                <a:ext cx="45864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2473200" y="204156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2667240" y="1371600"/>
                <a:ext cx="915840" cy="30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2210040" y="1371600"/>
                <a:ext cx="4586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2449800" y="1432080"/>
                <a:ext cx="16992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2362320" y="990720"/>
                <a:ext cx="122076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2764080" y="1057320"/>
                <a:ext cx="3664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re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3171600" y="1038240"/>
                <a:ext cx="11340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384" name=""/>
            <p:cNvSpPr/>
            <p:nvPr/>
          </p:nvSpPr>
          <p:spPr>
            <a:xfrm>
              <a:off x="2667240" y="1676520"/>
              <a:ext cx="91584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210040" y="1676520"/>
              <a:ext cx="458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484000" y="17366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667240" y="1981080"/>
              <a:ext cx="915840" cy="306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000600" y="2028960"/>
              <a:ext cx="366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210040" y="1981080"/>
              <a:ext cx="4586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473200" y="20415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667240" y="1371600"/>
              <a:ext cx="91584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210040" y="1371600"/>
              <a:ext cx="458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2449800" y="14320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362320" y="990720"/>
              <a:ext cx="12207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764080" y="1057320"/>
              <a:ext cx="366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171600" y="1038240"/>
              <a:ext cx="1134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667240" y="1676520"/>
              <a:ext cx="91584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2210040" y="1676520"/>
              <a:ext cx="458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2484000" y="17366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667240" y="1981080"/>
              <a:ext cx="915840" cy="306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3000600" y="2028960"/>
              <a:ext cx="366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210040" y="1981080"/>
              <a:ext cx="4586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473200" y="20415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67240" y="1371600"/>
              <a:ext cx="91584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210040" y="1371600"/>
              <a:ext cx="458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449800" y="14320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2362320" y="990720"/>
              <a:ext cx="12207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764080" y="1057320"/>
              <a:ext cx="366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171600" y="1038240"/>
              <a:ext cx="1134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410" name=""/>
            <p:cNvGrpSpPr/>
            <p:nvPr/>
          </p:nvGrpSpPr>
          <p:grpSpPr>
            <a:xfrm>
              <a:off x="1398600" y="2286000"/>
              <a:ext cx="1776600" cy="304920"/>
              <a:chOff x="1398600" y="2286000"/>
              <a:chExt cx="1776600" cy="304920"/>
            </a:xfrm>
          </p:grpSpPr>
          <p:sp>
            <p:nvSpPr>
              <p:cNvPr id="2411" name=""/>
              <p:cNvSpPr/>
              <p:nvPr/>
            </p:nvSpPr>
            <p:spPr>
              <a:xfrm>
                <a:off x="1447920" y="2381400"/>
                <a:ext cx="1676520" cy="209520"/>
              </a:xfrm>
              <a:custGeom>
                <a:avLst/>
                <a:gdLst/>
                <a:ahLst/>
                <a:rect l="l" t="t" r="r" b="b"/>
                <a:pathLst>
                  <a:path w="1056" h="132">
                    <a:moveTo>
                      <a:pt x="0" y="0"/>
                    </a:moveTo>
                    <a:lnTo>
                      <a:pt x="0" y="132"/>
                    </a:lnTo>
                    <a:lnTo>
                      <a:pt x="1056" y="132"/>
                    </a:lnTo>
                    <a:lnTo>
                      <a:pt x="105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1398600" y="228600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63" y="63"/>
                    </a:moveTo>
                    <a:lnTo>
                      <a:pt x="31" y="0"/>
                    </a:lnTo>
                    <a:lnTo>
                      <a:pt x="0" y="63"/>
                    </a:lnTo>
                    <a:lnTo>
                      <a:pt x="6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3075120" y="228600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63" y="63"/>
                    </a:moveTo>
                    <a:lnTo>
                      <a:pt x="31" y="0"/>
                    </a:lnTo>
                    <a:lnTo>
                      <a:pt x="0" y="63"/>
                    </a:lnTo>
                    <a:lnTo>
                      <a:pt x="6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414" name=""/>
            <p:cNvSpPr/>
            <p:nvPr/>
          </p:nvSpPr>
          <p:spPr>
            <a:xfrm>
              <a:off x="1295640" y="2286000"/>
              <a:ext cx="19825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664280" y="2346480"/>
              <a:ext cx="13327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bination 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2416" name=""/>
          <p:cNvGraphicFramePr/>
          <p:nvPr/>
        </p:nvGraphicFramePr>
        <p:xfrm>
          <a:off x="685800" y="2819520"/>
          <a:ext cx="7689960" cy="1854000"/>
        </p:xfrm>
        <a:graphic>
          <a:graphicData uri="http://schemas.openxmlformats.org/drawingml/2006/table">
            <a:tbl>
              <a:tblPr/>
              <a:tblGrid>
                <a:gridCol w="2363760"/>
                <a:gridCol w="1065240"/>
                <a:gridCol w="1065240"/>
                <a:gridCol w="1065240"/>
                <a:gridCol w="1065240"/>
                <a:gridCol w="1065240"/>
              </a:tblGrid>
              <a:tr h="4712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31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cessing r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ispredicted Branch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ombina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17" name="" descr=""/>
          <p:cNvPicPr/>
          <p:nvPr/>
        </p:nvPicPr>
        <p:blipFill>
          <a:blip r:embed="rId1"/>
          <a:srcRect l="0" t="75612" r="0" b="0"/>
          <a:stretch/>
        </p:blipFill>
        <p:spPr>
          <a:xfrm>
            <a:off x="4343400" y="990720"/>
            <a:ext cx="4373640" cy="15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Combination 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304560" y="5105520"/>
            <a:ext cx="8396280" cy="147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uld attempt to bubbl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ll pipeline register 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aled by processor as pipeline err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1447920" y="167652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1724040" y="1720800"/>
            <a:ext cx="451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99072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1265040" y="17366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1447920" y="198108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1768320" y="2025720"/>
            <a:ext cx="361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99072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1254240" y="204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1447920" y="137160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99072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1230840" y="14320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1143000" y="990720"/>
            <a:ext cx="1220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1379880" y="1050840"/>
            <a:ext cx="835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/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4648320" y="167652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419112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4465080" y="17366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4648320" y="198108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4981680" y="202896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19112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4454280" y="204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4648320" y="137160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419112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4430880" y="14320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4343400" y="990720"/>
            <a:ext cx="1220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4745160" y="105732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5152680" y="10382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548640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548640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548640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4648320" y="167652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419112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4465440" y="17366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4648320" y="198108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4982400" y="202896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419112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4454640" y="204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648320" y="137160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419112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4431240" y="14320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4343400" y="990720"/>
            <a:ext cx="1220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4745880" y="105732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5153400" y="10382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4648320" y="167652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419112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4465440" y="17366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4648320" y="198108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4982400" y="202896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419112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4454640" y="204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4648320" y="137160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19112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431240" y="14320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4343400" y="990720"/>
            <a:ext cx="1220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4745880" y="105732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5153400" y="10382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48640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548640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548640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548640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548640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548640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1905120" y="2666880"/>
            <a:ext cx="3278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2921400" y="2362320"/>
            <a:ext cx="1332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83" name=""/>
          <p:cNvGrpSpPr/>
          <p:nvPr/>
        </p:nvGrpSpPr>
        <p:grpSpPr>
          <a:xfrm>
            <a:off x="1855800" y="2286000"/>
            <a:ext cx="3452760" cy="304560"/>
            <a:chOff x="1855800" y="2286000"/>
            <a:chExt cx="3452760" cy="304560"/>
          </a:xfrm>
        </p:grpSpPr>
        <p:sp>
          <p:nvSpPr>
            <p:cNvPr id="2484" name=""/>
            <p:cNvSpPr/>
            <p:nvPr/>
          </p:nvSpPr>
          <p:spPr>
            <a:xfrm>
              <a:off x="1905120" y="2328120"/>
              <a:ext cx="3352680" cy="262440"/>
            </a:xfrm>
            <a:custGeom>
              <a:avLst/>
              <a:gdLst/>
              <a:ahLst/>
              <a:rect l="l" t="t" r="r" b="b"/>
              <a:pathLst>
                <a:path w="2112" h="372">
                  <a:moveTo>
                    <a:pt x="0" y="0"/>
                  </a:moveTo>
                  <a:lnTo>
                    <a:pt x="0" y="372"/>
                  </a:lnTo>
                  <a:lnTo>
                    <a:pt x="2112" y="372"/>
                  </a:lnTo>
                  <a:lnTo>
                    <a:pt x="21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1855800" y="2286000"/>
              <a:ext cx="100080" cy="442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5208480" y="2286000"/>
              <a:ext cx="100080" cy="442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87" name=""/>
          <p:cNvSpPr/>
          <p:nvPr/>
        </p:nvSpPr>
        <p:spPr>
          <a:xfrm>
            <a:off x="3276720" y="2286000"/>
            <a:ext cx="1982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488" name=""/>
          <p:cNvGraphicFramePr/>
          <p:nvPr/>
        </p:nvGraphicFramePr>
        <p:xfrm>
          <a:off x="609480" y="2819520"/>
          <a:ext cx="7689960" cy="1996920"/>
        </p:xfrm>
        <a:graphic>
          <a:graphicData uri="http://schemas.openxmlformats.org/drawingml/2006/table">
            <a:tbl>
              <a:tblPr/>
              <a:tblGrid>
                <a:gridCol w="2363760"/>
                <a:gridCol w="1065240"/>
                <a:gridCol w="1065240"/>
                <a:gridCol w="1065240"/>
                <a:gridCol w="1065240"/>
                <a:gridCol w="1065240"/>
              </a:tblGrid>
              <a:tr h="4701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2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cessing r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oad/Use Hazar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ombina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 + 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andling Control Combination 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304560" y="5105520"/>
            <a:ext cx="8396280" cy="147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/use hazard should get prior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 should be held in decode stage for additional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1447920" y="167652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1724040" y="1720800"/>
            <a:ext cx="451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99072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265040" y="17366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1447920" y="198108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1768320" y="2025720"/>
            <a:ext cx="361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99072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1254240" y="204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1447920" y="137160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99072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1230840" y="14320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1143000" y="990720"/>
            <a:ext cx="1220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1379880" y="1050840"/>
            <a:ext cx="835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/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4648320" y="167652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419112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4465080" y="17366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4648320" y="198108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981680" y="202896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419112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4454280" y="204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648320" y="137160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419112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4430880" y="14320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4343400" y="990720"/>
            <a:ext cx="1220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4745160" y="105732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5152680" y="10382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548640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548640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548640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4648320" y="167652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19112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465440" y="17366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4648320" y="198108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4982400" y="202896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419112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4454640" y="204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648320" y="137160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419112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4431240" y="14320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4343400" y="990720"/>
            <a:ext cx="1220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4745880" y="105732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5153400" y="10382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4648320" y="167652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419112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4465440" y="17366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4648320" y="198108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4982400" y="202896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419112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454640" y="204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4648320" y="137160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419112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4431240" y="14320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4343400" y="990720"/>
            <a:ext cx="1220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4745880" y="105732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5153400" y="10382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548640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548640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48640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548640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548640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548640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1905120" y="2666880"/>
            <a:ext cx="3278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2921400" y="2362320"/>
            <a:ext cx="1332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54" name=""/>
          <p:cNvGrpSpPr/>
          <p:nvPr/>
        </p:nvGrpSpPr>
        <p:grpSpPr>
          <a:xfrm>
            <a:off x="1855800" y="2286000"/>
            <a:ext cx="3452760" cy="304560"/>
            <a:chOff x="1855800" y="2286000"/>
            <a:chExt cx="3452760" cy="304560"/>
          </a:xfrm>
        </p:grpSpPr>
        <p:sp>
          <p:nvSpPr>
            <p:cNvPr id="2555" name=""/>
            <p:cNvSpPr/>
            <p:nvPr/>
          </p:nvSpPr>
          <p:spPr>
            <a:xfrm>
              <a:off x="1905120" y="2328120"/>
              <a:ext cx="3352680" cy="262440"/>
            </a:xfrm>
            <a:custGeom>
              <a:avLst/>
              <a:gdLst/>
              <a:ahLst/>
              <a:rect l="l" t="t" r="r" b="b"/>
              <a:pathLst>
                <a:path w="2112" h="372">
                  <a:moveTo>
                    <a:pt x="0" y="0"/>
                  </a:moveTo>
                  <a:lnTo>
                    <a:pt x="0" y="372"/>
                  </a:lnTo>
                  <a:lnTo>
                    <a:pt x="2112" y="372"/>
                  </a:lnTo>
                  <a:lnTo>
                    <a:pt x="21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1855800" y="2286000"/>
              <a:ext cx="100080" cy="442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208480" y="2286000"/>
              <a:ext cx="100080" cy="442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58" name=""/>
          <p:cNvSpPr/>
          <p:nvPr/>
        </p:nvSpPr>
        <p:spPr>
          <a:xfrm>
            <a:off x="3276720" y="2286000"/>
            <a:ext cx="1982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559" name=""/>
          <p:cNvGraphicFramePr/>
          <p:nvPr/>
        </p:nvGraphicFramePr>
        <p:xfrm>
          <a:off x="609480" y="3173400"/>
          <a:ext cx="7689960" cy="1855800"/>
        </p:xfrm>
        <a:graphic>
          <a:graphicData uri="http://schemas.openxmlformats.org/drawingml/2006/table">
            <a:tbl>
              <a:tblPr/>
              <a:tblGrid>
                <a:gridCol w="2363760"/>
                <a:gridCol w="1065240"/>
                <a:gridCol w="1065240"/>
                <a:gridCol w="1065240"/>
                <a:gridCol w="1065240"/>
                <a:gridCol w="1065240"/>
              </a:tblGrid>
              <a:tr h="4712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31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cessing r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oad/Use Hazar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ombina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rrected Pipeline Control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304560" y="5105520"/>
            <a:ext cx="8396280" cy="147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/use hazard should get prior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 should be held in decode stage for additional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562" name=""/>
          <p:cNvGraphicFramePr/>
          <p:nvPr/>
        </p:nvGraphicFramePr>
        <p:xfrm>
          <a:off x="609480" y="3173400"/>
          <a:ext cx="7689960" cy="1855800"/>
        </p:xfrm>
        <a:graphic>
          <a:graphicData uri="http://schemas.openxmlformats.org/drawingml/2006/table">
            <a:tbl>
              <a:tblPr/>
              <a:tblGrid>
                <a:gridCol w="2363760"/>
                <a:gridCol w="1065240"/>
                <a:gridCol w="1065240"/>
                <a:gridCol w="1065240"/>
                <a:gridCol w="1065240"/>
                <a:gridCol w="1065240"/>
              </a:tblGrid>
              <a:tr h="4712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31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cessing r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oad/Use Hazar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ombina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3" name=""/>
          <p:cNvSpPr/>
          <p:nvPr/>
        </p:nvSpPr>
        <p:spPr>
          <a:xfrm>
            <a:off x="533520" y="990720"/>
            <a:ext cx="8445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l D_bubble 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Mispredicted bran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E_icode == IJXX &amp;&amp; !e_Bch) ||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Stalling at fetch while ret passes through pipe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RET in { D_icode, E_icode, M_icode 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660033"/>
                </a:solidFill>
                <a:latin typeface="Courier New"/>
              </a:rPr>
              <a:t># but not condition for a load/use haz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amp;&amp; !(E_icode in { IMRMOVL, IPOPL 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amp;&amp; E_dstM in { d_srcA, d_srcB }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- Hardwa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39006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ipeline registers hold intermediate values from instruction execu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ward (Upward) Path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s passed from one stage to n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jump past st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valC passes through de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419720" y="152280"/>
            <a:ext cx="4368600" cy="626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line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a Hazar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handled by forwar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performance penal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/use hazard requires one cycle stal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Hazar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cel instructions when detect mispredicted branc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wo clock cycles wast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ll fetch stage whi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asses through pipe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ree clock cycles wast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Combin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analyze careful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rst version had subtle bu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arises with unusual instruction combin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Dependencies: 2 Nop’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62120" y="762120"/>
            <a:ext cx="7468920" cy="5564160"/>
            <a:chOff x="762120" y="762120"/>
            <a:chExt cx="7468920" cy="5564160"/>
          </a:xfrm>
        </p:grpSpPr>
        <p:sp>
          <p:nvSpPr>
            <p:cNvPr id="93" name=""/>
            <p:cNvSpPr/>
            <p:nvPr/>
          </p:nvSpPr>
          <p:spPr>
            <a:xfrm>
              <a:off x="762120" y="11430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05040" y="12049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0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49520" y="12049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94360" y="1204920"/>
              <a:ext cx="534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10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6800" y="12049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576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757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48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329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901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292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473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045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436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617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008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189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580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761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152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333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576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68560" y="11872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148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14600" y="11872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76120" y="11872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292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16400" y="11872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864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62440" y="11872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576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68560" y="11872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148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14600" y="11872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76120" y="11872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292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16400" y="11872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864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2440" y="11872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2120" y="144792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05040" y="15098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6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49520" y="15098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01280" y="150984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3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26800" y="15098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14800" y="14479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25760" y="14922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0" y="14479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71800" y="14922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14479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33320" y="14922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86400" y="14479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73600" y="14922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3600" y="144792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19640" y="14922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14800" y="14479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25760" y="14922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2000" y="14479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71800" y="14922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9200" y="14479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33320" y="14922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86400" y="14479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73600" y="14922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43600" y="144792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19640" y="14922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2120" y="17524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05040" y="18144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c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50240" y="18144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0" y="17524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82960" y="17971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29200" y="17524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29000" y="17971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86400" y="17524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90520" y="17971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43600" y="17524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30800" y="17971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17524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76840" y="17971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0" y="17524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82960" y="17971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29200" y="17524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29000" y="17971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86400" y="17524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90520" y="17971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43600" y="17524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30800" y="17971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00800" y="17524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576840" y="17971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2120" y="20574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05040" y="21193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d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50240" y="21193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20574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40160" y="21016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86400" y="20574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86200" y="21016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20574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47720" y="21016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00800" y="20574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88000" y="21016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58000" y="20574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34040" y="21016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29200" y="20574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40160" y="21016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86400" y="20574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86200" y="21016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43600" y="20574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47720" y="21016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00800" y="20574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88000" y="21016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58000" y="20574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34040" y="21016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2120" y="236232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05040" y="24242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e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50240" y="242424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82320" y="242424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88520" y="24242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07480" y="2424240"/>
              <a:ext cx="214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20240" y="24242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86400" y="2362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97360" y="24066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43600" y="236232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43400" y="24066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00800" y="2362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04920" y="24066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58000" y="2362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45200" y="24066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15200" y="2362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91240" y="24066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86400" y="2362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97360" y="24066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3600" y="236232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43400" y="24066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00800" y="2362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04920" y="24066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0" y="2362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45200" y="24066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315200" y="2362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91240" y="24066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120" y="26668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04320" y="2728800"/>
              <a:ext cx="117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10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43600" y="26668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54560" y="27115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00800" y="2666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00600" y="27115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58000" y="2666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62120" y="27115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15200" y="2666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02400" y="27115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72400" y="2666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48440" y="27115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43600" y="26668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54560" y="27115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00800" y="2666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00600" y="27115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58000" y="2666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62120" y="27115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15200" y="2666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02400" y="27115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72400" y="2666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948440" y="27115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181120" y="2971800"/>
              <a:ext cx="7621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00800" y="297180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7724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948800" y="831960"/>
              <a:ext cx="1713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2120" y="8380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04320" y="892080"/>
              <a:ext cx="1280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demo-h2.y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5181480" y="3733920"/>
              <a:ext cx="1906560" cy="992160"/>
              <a:chOff x="5181480" y="3733920"/>
              <a:chExt cx="1906560" cy="992160"/>
            </a:xfrm>
          </p:grpSpPr>
          <p:sp>
            <p:nvSpPr>
              <p:cNvPr id="263" name=""/>
              <p:cNvSpPr/>
              <p:nvPr/>
            </p:nvSpPr>
            <p:spPr>
              <a:xfrm>
                <a:off x="5181480" y="373392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81480" y="3798720"/>
                <a:ext cx="19260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81480" y="4114800"/>
                <a:ext cx="1906560" cy="30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317560" y="416232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509800" y="418140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616000" y="418140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920200" y="416232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095880" y="415584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227280" y="416232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5181480" y="5334120"/>
              <a:ext cx="1906560" cy="992160"/>
              <a:chOff x="5181480" y="5334120"/>
              <a:chExt cx="1906560" cy="992160"/>
            </a:xfrm>
          </p:grpSpPr>
          <p:sp>
            <p:nvSpPr>
              <p:cNvPr id="273" name=""/>
              <p:cNvSpPr/>
              <p:nvPr/>
            </p:nvSpPr>
            <p:spPr>
              <a:xfrm>
                <a:off x="5181480" y="533412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105240" y="539892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181480" y="5715000"/>
                <a:ext cx="1906560" cy="53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316480" y="57657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788080" y="575928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919480" y="57657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111360" y="57848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217560" y="57848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521760" y="57657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620400" y="57657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73040" y="5765760"/>
                <a:ext cx="198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316480" y="599904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788080" y="5992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919480" y="599904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111360" y="601812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217560" y="601812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521760" y="599904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620400" y="599904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773400" y="599904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6019920" y="4724280"/>
              <a:ext cx="2570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56000" y="472608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56000" y="489744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56000" y="506880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81480" y="373392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81480" y="37987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81480" y="4114800"/>
              <a:ext cx="1906560" cy="3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01920" y="416232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94160" y="418140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00000" y="41814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04200" y="416232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80240" y="415620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11280" y="416232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81480" y="373392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81480" y="37987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43600" y="4114800"/>
              <a:ext cx="1144440" cy="3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01920" y="416232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94160" y="418140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300000" y="41814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04200" y="416232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80240" y="415620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11280" y="416232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5181480" y="3352680"/>
              <a:ext cx="2713320" cy="2973600"/>
              <a:chOff x="5181480" y="3352680"/>
              <a:chExt cx="2713320" cy="2973600"/>
            </a:xfrm>
          </p:grpSpPr>
          <p:sp>
            <p:nvSpPr>
              <p:cNvPr id="315" name=""/>
              <p:cNvSpPr/>
              <p:nvPr/>
            </p:nvSpPr>
            <p:spPr>
              <a:xfrm>
                <a:off x="5181480" y="5333760"/>
                <a:ext cx="1906560" cy="9925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105240" y="539892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181480" y="57150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316480" y="57657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788080" y="575928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919480" y="57657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111360" y="57848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217560" y="57848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21760" y="57657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620400" y="57657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773040" y="5765760"/>
                <a:ext cx="198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316480" y="599904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88080" y="5992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919480" y="599904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11360" y="601812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217560" y="601812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521760" y="599904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620400" y="599904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3400" y="599904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181480" y="5333760"/>
                <a:ext cx="1906560" cy="9925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105240" y="539892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181480" y="57150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316480" y="57657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788080" y="575928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919480" y="57657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111360" y="57848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217560" y="57848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521760" y="57657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620400" y="57657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773040" y="5765760"/>
                <a:ext cx="198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316480" y="599904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88080" y="5992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919480" y="599904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111360" y="601812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217560" y="601812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21760" y="599904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620400" y="599904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773400" y="599904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019920" y="4724280"/>
                <a:ext cx="257040" cy="60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156000" y="472608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156000" y="489744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156000" y="506880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181480" y="3352680"/>
                <a:ext cx="190656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838480" y="3413160"/>
                <a:ext cx="678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ycle 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6858000" y="5867280"/>
                <a:ext cx="533520" cy="173160"/>
                <a:chOff x="6858000" y="5867280"/>
                <a:chExt cx="533520" cy="173160"/>
              </a:xfrm>
            </p:grpSpPr>
            <p:sp>
              <p:nvSpPr>
                <p:cNvPr id="360" name=""/>
                <p:cNvSpPr/>
                <p:nvPr/>
              </p:nvSpPr>
              <p:spPr>
                <a:xfrm flipH="1">
                  <a:off x="6950160" y="5867280"/>
                  <a:ext cx="441360" cy="12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858000" y="5945040"/>
                  <a:ext cx="109440" cy="95400"/>
                </a:xfrm>
                <a:custGeom>
                  <a:avLst/>
                  <a:gdLst/>
                  <a:ahLst/>
                  <a:rect l="l" t="t" r="r" b="b"/>
                  <a:pathLst>
                    <a:path w="69" h="60">
                      <a:moveTo>
                        <a:pt x="52" y="0"/>
                      </a:moveTo>
                      <a:lnTo>
                        <a:pt x="0" y="47"/>
                      </a:lnTo>
                      <a:lnTo>
                        <a:pt x="69" y="60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"/>
              <p:cNvSpPr/>
              <p:nvPr/>
            </p:nvSpPr>
            <p:spPr>
              <a:xfrm>
                <a:off x="7315200" y="5715000"/>
                <a:ext cx="5796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443720" y="5772240"/>
                <a:ext cx="3970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Erro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Dependencies: No N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281240" y="747720"/>
            <a:ext cx="6554520" cy="5335560"/>
            <a:chOff x="1281240" y="747720"/>
            <a:chExt cx="6554520" cy="5335560"/>
          </a:xfrm>
        </p:grpSpPr>
        <p:sp>
          <p:nvSpPr>
            <p:cNvPr id="366" name=""/>
            <p:cNvSpPr/>
            <p:nvPr/>
          </p:nvSpPr>
          <p:spPr>
            <a:xfrm>
              <a:off x="1281240" y="11286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24880" y="11905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0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68640" y="11905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14200" y="1190520"/>
              <a:ext cx="534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10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45920" y="11905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767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948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6339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520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911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092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483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664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055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236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4627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808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199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380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771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5952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176720" y="1128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88400" y="117324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633920" y="1128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34080" y="117324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91120" y="1128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95960" y="11732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48320" y="11286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36240" y="117324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62720" y="14335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39480" y="14778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81240" y="143352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424880" y="14954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6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68640" y="14954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20760" y="149544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3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45920" y="14954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633920" y="14335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45600" y="14778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91120" y="14335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91280" y="14778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48320" y="143352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53160" y="14778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05520" y="14335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193440" y="14778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05520" y="1128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182280" y="117324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91120" y="173844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02800" y="17827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48320" y="173844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48480" y="17827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05520" y="173844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210360" y="17827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62720" y="173844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650640" y="17827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19920" y="173844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96680" y="17827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81240" y="173844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24880" y="180036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c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169360" y="180036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02160" y="180036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807640" y="180036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27320" y="1800360"/>
              <a:ext cx="214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39360" y="180036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48320" y="20430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760000" y="208764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05520" y="20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205680" y="208764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62720" y="20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667560" y="20876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19920" y="20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107840" y="208764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377120" y="20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53880" y="208764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281240" y="20430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424160" y="2104920"/>
              <a:ext cx="117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e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81240" y="82404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423440" y="878040"/>
              <a:ext cx="1280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demo-h0.y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4785840" y="2347920"/>
              <a:ext cx="7621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005520" y="234792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86200" y="410040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15000" y="416556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4786200" y="2728800"/>
              <a:ext cx="2745000" cy="3354480"/>
              <a:chOff x="4786200" y="2728800"/>
              <a:chExt cx="2745000" cy="3354480"/>
            </a:xfrm>
          </p:grpSpPr>
          <p:sp>
            <p:nvSpPr>
              <p:cNvPr id="448" name=""/>
              <p:cNvSpPr/>
              <p:nvPr/>
            </p:nvSpPr>
            <p:spPr>
              <a:xfrm>
                <a:off x="4786200" y="509112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710320" y="515628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86200" y="54720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921200" y="55227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393520" y="551664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524560" y="55227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716800" y="55418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22280" y="55418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127200" y="55227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225840" y="55227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378480" y="552276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21200" y="575640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393520" y="5749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524560" y="575640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716800" y="57754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822280" y="57754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127200" y="575640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225840" y="57564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378480" y="575640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786200" y="509112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710320" y="515628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786200" y="54720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921200" y="55227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393520" y="551664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24560" y="55227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716800" y="55418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822280" y="55418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27200" y="55227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225840" y="55227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378480" y="552276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921200" y="575640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393520" y="5749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524560" y="575640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716800" y="57754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822280" y="57754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127200" y="575640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225840" y="57564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378480" y="575640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786200" y="2728800"/>
                <a:ext cx="19065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443560" y="2789280"/>
                <a:ext cx="678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ycle 4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488" name=""/>
              <p:cNvGrpSpPr/>
              <p:nvPr/>
            </p:nvGrpSpPr>
            <p:grpSpPr>
              <a:xfrm>
                <a:off x="6462720" y="5548320"/>
                <a:ext cx="533160" cy="236520"/>
                <a:chOff x="6462720" y="5548320"/>
                <a:chExt cx="533160" cy="236520"/>
              </a:xfrm>
            </p:grpSpPr>
            <p:sp>
              <p:nvSpPr>
                <p:cNvPr id="489" name=""/>
                <p:cNvSpPr/>
                <p:nvPr/>
              </p:nvSpPr>
              <p:spPr>
                <a:xfrm flipH="1">
                  <a:off x="6549840" y="5548320"/>
                  <a:ext cx="44604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462720" y="5692680"/>
                  <a:ext cx="111240" cy="92160"/>
                </a:xfrm>
                <a:custGeom>
                  <a:avLst/>
                  <a:gdLst/>
                  <a:ahLst/>
                  <a:rect l="l" t="t" r="r" b="b"/>
                  <a:pathLst>
                    <a:path w="70" h="58">
                      <a:moveTo>
                        <a:pt x="46" y="0"/>
                      </a:moveTo>
                      <a:lnTo>
                        <a:pt x="0" y="53"/>
                      </a:lnTo>
                      <a:lnTo>
                        <a:pt x="70" y="58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1" name=""/>
              <p:cNvSpPr/>
              <p:nvPr/>
            </p:nvSpPr>
            <p:spPr>
              <a:xfrm>
                <a:off x="6951600" y="5319720"/>
                <a:ext cx="5796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80840" y="5376960"/>
                <a:ext cx="3970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Erro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786200" y="311004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698080" y="3174840"/>
                <a:ext cx="16992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786200" y="34146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922640" y="3476520"/>
                <a:ext cx="2476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167080" y="347652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561640" y="3476520"/>
                <a:ext cx="352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22640" y="3697200"/>
                <a:ext cx="2476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167440" y="3697200"/>
                <a:ext cx="35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st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573160" y="36972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740560" y="37162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846040" y="37162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04" name=""/>
              <p:cNvGrpSpPr/>
              <p:nvPr/>
            </p:nvGrpSpPr>
            <p:grpSpPr>
              <a:xfrm>
                <a:off x="6462720" y="5472000"/>
                <a:ext cx="533520" cy="111240"/>
                <a:chOff x="6462720" y="5472000"/>
                <a:chExt cx="533520" cy="111240"/>
              </a:xfrm>
            </p:grpSpPr>
            <p:sp>
              <p:nvSpPr>
                <p:cNvPr id="505" name=""/>
                <p:cNvSpPr/>
                <p:nvPr/>
              </p:nvSpPr>
              <p:spPr>
                <a:xfrm flipH="1">
                  <a:off x="6556320" y="5472000"/>
                  <a:ext cx="439920" cy="6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462720" y="5484960"/>
                  <a:ext cx="106200" cy="98280"/>
                </a:xfrm>
                <a:custGeom>
                  <a:avLst/>
                  <a:gdLst/>
                  <a:ahLst/>
                  <a:rect l="l" t="t" r="r" b="b"/>
                  <a:pathLst>
                    <a:path w="67" h="62">
                      <a:moveTo>
                        <a:pt x="58" y="0"/>
                      </a:moveTo>
                      <a:lnTo>
                        <a:pt x="0" y="40"/>
                      </a:lnTo>
                      <a:lnTo>
                        <a:pt x="67" y="62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7" name=""/>
              <p:cNvSpPr/>
              <p:nvPr/>
            </p:nvSpPr>
            <p:spPr>
              <a:xfrm>
                <a:off x="4786200" y="440532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922640" y="4468680"/>
                <a:ext cx="198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117760" y="446868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590440" y="446256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717520" y="4468680"/>
                <a:ext cx="756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 + 3 = 3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923000" y="4687920"/>
                <a:ext cx="2185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138640" y="4687920"/>
                <a:ext cx="35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st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544720" y="468792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712120" y="470700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817600" y="470700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lling for Data Dependenc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90160" y="3809520"/>
            <a:ext cx="8294760" cy="26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instruction follows too closely after one that writes register, slow it dow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ld instruction in de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ynamically inject nop into execut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13716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0: irmovl $10,%ed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384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956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9528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100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672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3244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7816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2388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3581280" y="1371600"/>
            <a:ext cx="2286000" cy="304920"/>
            <a:chOff x="3581280" y="1371600"/>
            <a:chExt cx="2286000" cy="304920"/>
          </a:xfrm>
        </p:grpSpPr>
        <p:sp>
          <p:nvSpPr>
            <p:cNvPr id="530" name=""/>
            <p:cNvSpPr/>
            <p:nvPr/>
          </p:nvSpPr>
          <p:spPr>
            <a:xfrm>
              <a:off x="35812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0384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56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528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100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685800" y="1676520"/>
            <a:ext cx="2590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6: irmovl  $3,%ea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384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4956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9528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100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72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" y="19810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c: no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4956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9528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100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672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3244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5800" y="2590920"/>
            <a:ext cx="2590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5410080" y="2590920"/>
            <a:ext cx="2286000" cy="609480"/>
            <a:chOff x="5410080" y="2590920"/>
            <a:chExt cx="2286000" cy="609480"/>
          </a:xfrm>
        </p:grpSpPr>
        <p:sp>
          <p:nvSpPr>
            <p:cNvPr id="549" name=""/>
            <p:cNvSpPr/>
            <p:nvPr/>
          </p:nvSpPr>
          <p:spPr>
            <a:xfrm>
              <a:off x="5410080" y="2895840"/>
              <a:ext cx="457200" cy="304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24480" y="2590920"/>
              <a:ext cx="457200" cy="3049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781680" y="2590920"/>
              <a:ext cx="457200" cy="3049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238880" y="2590920"/>
              <a:ext cx="457200" cy="3049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685800" y="28954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e: addl %edx,%ea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8672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3244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816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2388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960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32004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10: ha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3244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7816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2388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960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1532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960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10666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demo-h2.y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172200" y="2743200"/>
            <a:ext cx="152280" cy="152280"/>
          </a:xfrm>
          <a:custGeom>
            <a:avLst/>
            <a:gdLst/>
            <a:ahLst/>
            <a:rect l="l" t="t" r="r" b="b"/>
            <a:pathLst>
              <a:path w="96" h="240">
                <a:moveTo>
                  <a:pt x="0" y="240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672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9528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4100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8672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3244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7816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22860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d: no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1532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ll Condi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39006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urce 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rcA and srcB of current instruction in decod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stination 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stE and dstM fiel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s in execute, memory, and write-back st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pecial Cas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n’t stall for register ID 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dicates absence of register operan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5707080" y="2293920"/>
            <a:ext cx="258840" cy="58680"/>
            <a:chOff x="5707080" y="2293920"/>
            <a:chExt cx="258840" cy="58680"/>
          </a:xfrm>
        </p:grpSpPr>
        <p:sp>
          <p:nvSpPr>
            <p:cNvPr id="579" name=""/>
            <p:cNvSpPr/>
            <p:nvPr/>
          </p:nvSpPr>
          <p:spPr>
            <a:xfrm flipH="1">
              <a:off x="5764320" y="2324160"/>
              <a:ext cx="2016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707080" y="2293920"/>
              <a:ext cx="60480" cy="5868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76" y="0"/>
                  </a:moveTo>
                  <a:lnTo>
                    <a:pt x="0" y="38"/>
                  </a:lnTo>
                  <a:lnTo>
                    <a:pt x="76" y="75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6772320" y="1271520"/>
            <a:ext cx="65160" cy="595440"/>
            <a:chOff x="6772320" y="1271520"/>
            <a:chExt cx="65160" cy="595440"/>
          </a:xfrm>
        </p:grpSpPr>
        <p:sp>
          <p:nvSpPr>
            <p:cNvPr id="582" name=""/>
            <p:cNvSpPr/>
            <p:nvPr/>
          </p:nvSpPr>
          <p:spPr>
            <a:xfrm>
              <a:off x="6792840" y="1333440"/>
              <a:ext cx="23760" cy="53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772320" y="1271520"/>
              <a:ext cx="65160" cy="651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81" y="82"/>
                  </a:moveTo>
                  <a:lnTo>
                    <a:pt x="40" y="0"/>
                  </a:lnTo>
                  <a:lnTo>
                    <a:pt x="0" y="82"/>
                  </a:lnTo>
                  <a:lnTo>
                    <a:pt x="8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4518000" y="3375000"/>
            <a:ext cx="3889440" cy="230040"/>
          </a:xfrm>
          <a:prstGeom prst="rect">
            <a:avLst/>
          </a:prstGeom>
          <a:solidFill>
            <a:srgbClr val="4d4d4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605480" y="3430440"/>
            <a:ext cx="694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518000" y="1820880"/>
            <a:ext cx="3889440" cy="230040"/>
          </a:xfrm>
          <a:prstGeom prst="rect">
            <a:avLst/>
          </a:prstGeom>
          <a:solidFill>
            <a:srgbClr val="4d4d4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06560" y="1876320"/>
            <a:ext cx="86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18000" y="493560"/>
            <a:ext cx="3889440" cy="230400"/>
          </a:xfrm>
          <a:prstGeom prst="rect">
            <a:avLst/>
          </a:prstGeom>
          <a:solidFill>
            <a:srgbClr val="4d4d4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607640" y="549360"/>
            <a:ext cx="968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18000" y="6027840"/>
            <a:ext cx="3889440" cy="230040"/>
          </a:xfrm>
          <a:prstGeom prst="rect">
            <a:avLst/>
          </a:prstGeom>
          <a:solidFill>
            <a:srgbClr val="4d4d4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605480" y="6083280"/>
            <a:ext cx="63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518000" y="4656240"/>
            <a:ext cx="3889440" cy="230040"/>
          </a:xfrm>
          <a:prstGeom prst="rect">
            <a:avLst/>
          </a:prstGeom>
          <a:solidFill>
            <a:srgbClr val="4d4d4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606560" y="4711680"/>
            <a:ext cx="73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68680" y="5191200"/>
            <a:ext cx="473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16560" y="531828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987800" y="5126040"/>
            <a:ext cx="1149480" cy="37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975200" y="5113440"/>
            <a:ext cx="1144440" cy="3664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52840" y="5175360"/>
            <a:ext cx="473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400720" y="530388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917040" y="5191200"/>
            <a:ext cx="142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75560" y="5318280"/>
            <a:ext cx="4489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680160" y="5126040"/>
            <a:ext cx="554040" cy="37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667560" y="5113440"/>
            <a:ext cx="550800" cy="3664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900840" y="5175360"/>
            <a:ext cx="142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759720" y="5303880"/>
            <a:ext cx="4489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30640" y="416232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944400" y="428940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680160" y="4073400"/>
            <a:ext cx="600120" cy="417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667560" y="4062240"/>
            <a:ext cx="595080" cy="4114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16240" y="414648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928560" y="427356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182280" y="2281320"/>
            <a:ext cx="198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5845320" y="2185920"/>
            <a:ext cx="792000" cy="290520"/>
            <a:chOff x="5845320" y="2185920"/>
            <a:chExt cx="792000" cy="290520"/>
          </a:xfrm>
        </p:grpSpPr>
        <p:sp>
          <p:nvSpPr>
            <p:cNvPr id="614" name=""/>
            <p:cNvSpPr/>
            <p:nvPr/>
          </p:nvSpPr>
          <p:spPr>
            <a:xfrm>
              <a:off x="5859360" y="2201760"/>
              <a:ext cx="777960" cy="274680"/>
            </a:xfrm>
            <a:custGeom>
              <a:avLst/>
              <a:gdLst/>
              <a:ahLst/>
              <a:rect l="l" t="t" r="r" b="b"/>
              <a:pathLst>
                <a:path w="980" h="346">
                  <a:moveTo>
                    <a:pt x="0" y="346"/>
                  </a:moveTo>
                  <a:lnTo>
                    <a:pt x="245" y="0"/>
                  </a:lnTo>
                  <a:lnTo>
                    <a:pt x="735" y="0"/>
                  </a:lnTo>
                  <a:lnTo>
                    <a:pt x="980" y="346"/>
                  </a:lnTo>
                  <a:lnTo>
                    <a:pt x="0" y="3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45320" y="2185920"/>
              <a:ext cx="776160" cy="274680"/>
            </a:xfrm>
            <a:custGeom>
              <a:avLst/>
              <a:gdLst/>
              <a:ahLst/>
              <a:rect l="l" t="t" r="r" b="b"/>
              <a:pathLst>
                <a:path w="980" h="345">
                  <a:moveTo>
                    <a:pt x="0" y="345"/>
                  </a:moveTo>
                  <a:lnTo>
                    <a:pt x="245" y="0"/>
                  </a:lnTo>
                  <a:lnTo>
                    <a:pt x="735" y="0"/>
                  </a:lnTo>
                  <a:lnTo>
                    <a:pt x="980" y="345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cc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6166440" y="2266920"/>
            <a:ext cx="198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608880" y="960480"/>
            <a:ext cx="215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537600" y="108756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359400" y="873000"/>
            <a:ext cx="646200" cy="417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348240" y="860400"/>
            <a:ext cx="641520" cy="41292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593040" y="944640"/>
            <a:ext cx="215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521400" y="107316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524560" y="5616720"/>
            <a:ext cx="549360" cy="320400"/>
          </a:xfrm>
          <a:custGeom>
            <a:avLst/>
            <a:gdLst/>
            <a:ahLst/>
            <a:rect l="l" t="t" r="r" b="b"/>
            <a:pathLst>
              <a:path w="691" h="403">
                <a:moveTo>
                  <a:pt x="67" y="0"/>
                </a:moveTo>
                <a:lnTo>
                  <a:pt x="54" y="1"/>
                </a:lnTo>
                <a:lnTo>
                  <a:pt x="40" y="5"/>
                </a:lnTo>
                <a:lnTo>
                  <a:pt x="30" y="12"/>
                </a:lnTo>
                <a:lnTo>
                  <a:pt x="19" y="19"/>
                </a:lnTo>
                <a:lnTo>
                  <a:pt x="12" y="30"/>
                </a:lnTo>
                <a:lnTo>
                  <a:pt x="4" y="41"/>
                </a:lnTo>
                <a:lnTo>
                  <a:pt x="1" y="54"/>
                </a:lnTo>
                <a:lnTo>
                  <a:pt x="0" y="67"/>
                </a:lnTo>
                <a:lnTo>
                  <a:pt x="0" y="336"/>
                </a:lnTo>
                <a:lnTo>
                  <a:pt x="1" y="349"/>
                </a:lnTo>
                <a:lnTo>
                  <a:pt x="4" y="363"/>
                </a:lnTo>
                <a:lnTo>
                  <a:pt x="12" y="373"/>
                </a:lnTo>
                <a:lnTo>
                  <a:pt x="19" y="384"/>
                </a:lnTo>
                <a:lnTo>
                  <a:pt x="30" y="391"/>
                </a:lnTo>
                <a:lnTo>
                  <a:pt x="40" y="399"/>
                </a:lnTo>
                <a:lnTo>
                  <a:pt x="54" y="402"/>
                </a:lnTo>
                <a:lnTo>
                  <a:pt x="67" y="403"/>
                </a:lnTo>
                <a:lnTo>
                  <a:pt x="624" y="403"/>
                </a:lnTo>
                <a:lnTo>
                  <a:pt x="637" y="402"/>
                </a:lnTo>
                <a:lnTo>
                  <a:pt x="650" y="399"/>
                </a:lnTo>
                <a:lnTo>
                  <a:pt x="661" y="391"/>
                </a:lnTo>
                <a:lnTo>
                  <a:pt x="672" y="384"/>
                </a:lnTo>
                <a:lnTo>
                  <a:pt x="679" y="373"/>
                </a:lnTo>
                <a:lnTo>
                  <a:pt x="686" y="363"/>
                </a:lnTo>
                <a:lnTo>
                  <a:pt x="690" y="349"/>
                </a:lnTo>
                <a:lnTo>
                  <a:pt x="691" y="336"/>
                </a:lnTo>
                <a:lnTo>
                  <a:pt x="691" y="67"/>
                </a:lnTo>
                <a:lnTo>
                  <a:pt x="690" y="54"/>
                </a:lnTo>
                <a:lnTo>
                  <a:pt x="686" y="41"/>
                </a:lnTo>
                <a:lnTo>
                  <a:pt x="679" y="30"/>
                </a:lnTo>
                <a:lnTo>
                  <a:pt x="672" y="19"/>
                </a:lnTo>
                <a:lnTo>
                  <a:pt x="661" y="12"/>
                </a:lnTo>
                <a:lnTo>
                  <a:pt x="650" y="5"/>
                </a:lnTo>
                <a:lnTo>
                  <a:pt x="637" y="1"/>
                </a:lnTo>
                <a:lnTo>
                  <a:pt x="624" y="0"/>
                </a:lnTo>
                <a:lnTo>
                  <a:pt x="67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713920" y="5672160"/>
            <a:ext cx="24624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764680" y="5781600"/>
            <a:ext cx="1242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5765760" y="5479920"/>
            <a:ext cx="65160" cy="136800"/>
            <a:chOff x="5765760" y="5479920"/>
            <a:chExt cx="65160" cy="136800"/>
          </a:xfrm>
        </p:grpSpPr>
        <p:sp>
          <p:nvSpPr>
            <p:cNvPr id="627" name=""/>
            <p:cNvSpPr/>
            <p:nvPr/>
          </p:nvSpPr>
          <p:spPr>
            <a:xfrm>
              <a:off x="5788080" y="5541840"/>
              <a:ext cx="22320" cy="7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65760" y="5479920"/>
              <a:ext cx="65160" cy="6372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81" y="82"/>
                  </a:moveTo>
                  <a:lnTo>
                    <a:pt x="40" y="0"/>
                  </a:lnTo>
                  <a:lnTo>
                    <a:pt x="0" y="82"/>
                  </a:lnTo>
                  <a:lnTo>
                    <a:pt x="8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5229360" y="4884840"/>
            <a:ext cx="41040" cy="228240"/>
            <a:chOff x="5229360" y="4884840"/>
            <a:chExt cx="41040" cy="228240"/>
          </a:xfrm>
        </p:grpSpPr>
        <p:sp>
          <p:nvSpPr>
            <p:cNvPr id="630" name=""/>
            <p:cNvSpPr/>
            <p:nvPr/>
          </p:nvSpPr>
          <p:spPr>
            <a:xfrm flipV="1">
              <a:off x="5249880" y="4924080"/>
              <a:ext cx="144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29360" y="4884840"/>
              <a:ext cx="4104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7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5504040" y="4884840"/>
            <a:ext cx="41040" cy="228240"/>
            <a:chOff x="5504040" y="4884840"/>
            <a:chExt cx="41040" cy="228240"/>
          </a:xfrm>
        </p:grpSpPr>
        <p:sp>
          <p:nvSpPr>
            <p:cNvPr id="633" name=""/>
            <p:cNvSpPr/>
            <p:nvPr/>
          </p:nvSpPr>
          <p:spPr>
            <a:xfrm flipV="1">
              <a:off x="5524560" y="4924080"/>
              <a:ext cx="144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504040" y="4884840"/>
              <a:ext cx="4104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7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776920" y="4884840"/>
            <a:ext cx="42840" cy="228240"/>
            <a:chOff x="5776920" y="4884840"/>
            <a:chExt cx="42840" cy="228240"/>
          </a:xfrm>
        </p:grpSpPr>
        <p:sp>
          <p:nvSpPr>
            <p:cNvPr id="636" name=""/>
            <p:cNvSpPr/>
            <p:nvPr/>
          </p:nvSpPr>
          <p:spPr>
            <a:xfrm flipV="1">
              <a:off x="5799240" y="4924080"/>
              <a:ext cx="144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776920" y="4884840"/>
              <a:ext cx="4284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6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6040440" y="4884840"/>
            <a:ext cx="65160" cy="228600"/>
            <a:chOff x="6040440" y="4884840"/>
            <a:chExt cx="65160" cy="228600"/>
          </a:xfrm>
        </p:grpSpPr>
        <p:sp>
          <p:nvSpPr>
            <p:cNvPr id="639" name=""/>
            <p:cNvSpPr/>
            <p:nvPr/>
          </p:nvSpPr>
          <p:spPr>
            <a:xfrm>
              <a:off x="6060960" y="4946760"/>
              <a:ext cx="23760" cy="166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40440" y="4884840"/>
              <a:ext cx="65160" cy="651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82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6910560" y="4884840"/>
            <a:ext cx="64800" cy="228600"/>
            <a:chOff x="6910560" y="4884840"/>
            <a:chExt cx="64800" cy="228600"/>
          </a:xfrm>
        </p:grpSpPr>
        <p:sp>
          <p:nvSpPr>
            <p:cNvPr id="642" name=""/>
            <p:cNvSpPr/>
            <p:nvPr/>
          </p:nvSpPr>
          <p:spPr>
            <a:xfrm>
              <a:off x="6931080" y="4946760"/>
              <a:ext cx="22320" cy="166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910560" y="4884840"/>
              <a:ext cx="64800" cy="651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82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6073920" y="4943520"/>
            <a:ext cx="1279440" cy="65160"/>
            <a:chOff x="6073920" y="4943520"/>
            <a:chExt cx="1279440" cy="65160"/>
          </a:xfrm>
        </p:grpSpPr>
        <p:sp>
          <p:nvSpPr>
            <p:cNvPr id="645" name=""/>
            <p:cNvSpPr/>
            <p:nvPr/>
          </p:nvSpPr>
          <p:spPr>
            <a:xfrm>
              <a:off x="6073920" y="4965840"/>
              <a:ext cx="12175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289640" y="4943520"/>
              <a:ext cx="63720" cy="6516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0" y="81"/>
                  </a:moveTo>
                  <a:lnTo>
                    <a:pt x="82" y="40"/>
                  </a:lnTo>
                  <a:lnTo>
                    <a:pt x="0" y="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6942240" y="5035680"/>
            <a:ext cx="411120" cy="64800"/>
            <a:chOff x="6942240" y="5035680"/>
            <a:chExt cx="411120" cy="64800"/>
          </a:xfrm>
        </p:grpSpPr>
        <p:sp>
          <p:nvSpPr>
            <p:cNvPr id="648" name=""/>
            <p:cNvSpPr/>
            <p:nvPr/>
          </p:nvSpPr>
          <p:spPr>
            <a:xfrm>
              <a:off x="6942240" y="5056200"/>
              <a:ext cx="3492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289640" y="5035680"/>
              <a:ext cx="63720" cy="6480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0" y="81"/>
                  </a:moveTo>
                  <a:lnTo>
                    <a:pt x="82" y="41"/>
                  </a:lnTo>
                  <a:lnTo>
                    <a:pt x="0" y="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5765760" y="5205240"/>
            <a:ext cx="1874880" cy="1200240"/>
            <a:chOff x="5765760" y="5205240"/>
            <a:chExt cx="1874880" cy="1200240"/>
          </a:xfrm>
        </p:grpSpPr>
        <p:sp>
          <p:nvSpPr>
            <p:cNvPr id="651" name=""/>
            <p:cNvSpPr/>
            <p:nvPr/>
          </p:nvSpPr>
          <p:spPr>
            <a:xfrm>
              <a:off x="5788080" y="5205240"/>
              <a:ext cx="1852560" cy="1200240"/>
            </a:xfrm>
            <a:custGeom>
              <a:avLst/>
              <a:gdLst/>
              <a:ahLst/>
              <a:rect l="l" t="t" r="r" b="b"/>
              <a:pathLst>
                <a:path w="2334" h="1512">
                  <a:moveTo>
                    <a:pt x="2334" y="0"/>
                  </a:moveTo>
                  <a:lnTo>
                    <a:pt x="2305" y="0"/>
                  </a:lnTo>
                  <a:lnTo>
                    <a:pt x="2305" y="1498"/>
                  </a:lnTo>
                  <a:lnTo>
                    <a:pt x="2320" y="1498"/>
                  </a:lnTo>
                  <a:lnTo>
                    <a:pt x="2320" y="1483"/>
                  </a:lnTo>
                  <a:lnTo>
                    <a:pt x="2314" y="1484"/>
                  </a:lnTo>
                  <a:lnTo>
                    <a:pt x="2310" y="1488"/>
                  </a:lnTo>
                  <a:lnTo>
                    <a:pt x="2307" y="1492"/>
                  </a:lnTo>
                  <a:lnTo>
                    <a:pt x="2320" y="1483"/>
                  </a:lnTo>
                  <a:lnTo>
                    <a:pt x="14" y="1483"/>
                  </a:lnTo>
                  <a:lnTo>
                    <a:pt x="14" y="1498"/>
                  </a:lnTo>
                  <a:lnTo>
                    <a:pt x="29" y="1498"/>
                  </a:lnTo>
                  <a:lnTo>
                    <a:pt x="28" y="1492"/>
                  </a:lnTo>
                  <a:lnTo>
                    <a:pt x="24" y="1488"/>
                  </a:lnTo>
                  <a:lnTo>
                    <a:pt x="20" y="1484"/>
                  </a:lnTo>
                  <a:lnTo>
                    <a:pt x="29" y="1498"/>
                  </a:lnTo>
                  <a:lnTo>
                    <a:pt x="29" y="1403"/>
                  </a:lnTo>
                  <a:lnTo>
                    <a:pt x="0" y="1403"/>
                  </a:lnTo>
                  <a:lnTo>
                    <a:pt x="0" y="1498"/>
                  </a:lnTo>
                  <a:lnTo>
                    <a:pt x="0" y="1498"/>
                  </a:lnTo>
                  <a:lnTo>
                    <a:pt x="1" y="1504"/>
                  </a:lnTo>
                  <a:lnTo>
                    <a:pt x="5" y="1507"/>
                  </a:lnTo>
                  <a:lnTo>
                    <a:pt x="8" y="1511"/>
                  </a:lnTo>
                  <a:lnTo>
                    <a:pt x="14" y="1512"/>
                  </a:lnTo>
                  <a:lnTo>
                    <a:pt x="2320" y="1512"/>
                  </a:lnTo>
                  <a:lnTo>
                    <a:pt x="2320" y="1512"/>
                  </a:lnTo>
                  <a:lnTo>
                    <a:pt x="2326" y="1511"/>
                  </a:lnTo>
                  <a:lnTo>
                    <a:pt x="2329" y="1507"/>
                  </a:lnTo>
                  <a:lnTo>
                    <a:pt x="2333" y="1504"/>
                  </a:lnTo>
                  <a:lnTo>
                    <a:pt x="2334" y="1498"/>
                  </a:lnTo>
                  <a:lnTo>
                    <a:pt x="2334" y="1498"/>
                  </a:lnTo>
                  <a:lnTo>
                    <a:pt x="23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765760" y="6256440"/>
              <a:ext cx="65160" cy="6516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81" y="81"/>
                  </a:moveTo>
                  <a:lnTo>
                    <a:pt x="40" y="0"/>
                  </a:lnTo>
                  <a:lnTo>
                    <a:pt x="0" y="81"/>
                  </a:lnTo>
                  <a:lnTo>
                    <a:pt x="81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5000760" y="4884840"/>
            <a:ext cx="41040" cy="228240"/>
            <a:chOff x="5000760" y="4884840"/>
            <a:chExt cx="41040" cy="228240"/>
          </a:xfrm>
        </p:grpSpPr>
        <p:sp>
          <p:nvSpPr>
            <p:cNvPr id="654" name=""/>
            <p:cNvSpPr/>
            <p:nvPr/>
          </p:nvSpPr>
          <p:spPr>
            <a:xfrm flipV="1">
              <a:off x="5021280" y="4924080"/>
              <a:ext cx="144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00760" y="4884840"/>
              <a:ext cx="4104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7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5661000" y="4656240"/>
            <a:ext cx="27612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81600" y="4719600"/>
            <a:ext cx="892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7424640" y="3603600"/>
            <a:ext cx="41400" cy="229680"/>
            <a:chOff x="7424640" y="3603600"/>
            <a:chExt cx="41400" cy="229680"/>
          </a:xfrm>
        </p:grpSpPr>
        <p:sp>
          <p:nvSpPr>
            <p:cNvPr id="659" name=""/>
            <p:cNvSpPr/>
            <p:nvPr/>
          </p:nvSpPr>
          <p:spPr>
            <a:xfrm flipV="1">
              <a:off x="7445520" y="3642840"/>
              <a:ext cx="1440" cy="190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424640" y="3603600"/>
              <a:ext cx="4140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6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7699320" y="3603600"/>
            <a:ext cx="41400" cy="274320"/>
            <a:chOff x="7699320" y="3603600"/>
            <a:chExt cx="41400" cy="274320"/>
          </a:xfrm>
        </p:grpSpPr>
        <p:sp>
          <p:nvSpPr>
            <p:cNvPr id="662" name=""/>
            <p:cNvSpPr/>
            <p:nvPr/>
          </p:nvSpPr>
          <p:spPr>
            <a:xfrm flipV="1">
              <a:off x="7719840" y="3642840"/>
              <a:ext cx="1800" cy="235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9320" y="3603600"/>
              <a:ext cx="41400" cy="428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52" y="53"/>
                  </a:moveTo>
                  <a:lnTo>
                    <a:pt x="26" y="0"/>
                  </a:lnTo>
                  <a:lnTo>
                    <a:pt x="0" y="53"/>
                  </a:lnTo>
                  <a:lnTo>
                    <a:pt x="52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7308720" y="3741840"/>
            <a:ext cx="274680" cy="182520"/>
          </a:xfrm>
          <a:custGeom>
            <a:avLst/>
            <a:gdLst/>
            <a:ahLst/>
            <a:rect l="l" t="t" r="r" b="b"/>
            <a:pathLst>
              <a:path w="346" h="230">
                <a:moveTo>
                  <a:pt x="39" y="0"/>
                </a:moveTo>
                <a:lnTo>
                  <a:pt x="30" y="1"/>
                </a:lnTo>
                <a:lnTo>
                  <a:pt x="23" y="3"/>
                </a:lnTo>
                <a:lnTo>
                  <a:pt x="17" y="6"/>
                </a:lnTo>
                <a:lnTo>
                  <a:pt x="11" y="11"/>
                </a:lnTo>
                <a:lnTo>
                  <a:pt x="6" y="17"/>
                </a:lnTo>
                <a:lnTo>
                  <a:pt x="4" y="23"/>
                </a:lnTo>
                <a:lnTo>
                  <a:pt x="2" y="30"/>
                </a:lnTo>
                <a:lnTo>
                  <a:pt x="0" y="38"/>
                </a:lnTo>
                <a:lnTo>
                  <a:pt x="0" y="192"/>
                </a:lnTo>
                <a:lnTo>
                  <a:pt x="2" y="200"/>
                </a:lnTo>
                <a:lnTo>
                  <a:pt x="4" y="207"/>
                </a:lnTo>
                <a:lnTo>
                  <a:pt x="6" y="213"/>
                </a:lnTo>
                <a:lnTo>
                  <a:pt x="11" y="219"/>
                </a:lnTo>
                <a:lnTo>
                  <a:pt x="17" y="224"/>
                </a:lnTo>
                <a:lnTo>
                  <a:pt x="23" y="228"/>
                </a:lnTo>
                <a:lnTo>
                  <a:pt x="30" y="229"/>
                </a:lnTo>
                <a:lnTo>
                  <a:pt x="39" y="230"/>
                </a:lnTo>
                <a:lnTo>
                  <a:pt x="308" y="230"/>
                </a:lnTo>
                <a:lnTo>
                  <a:pt x="316" y="229"/>
                </a:lnTo>
                <a:lnTo>
                  <a:pt x="323" y="228"/>
                </a:lnTo>
                <a:lnTo>
                  <a:pt x="329" y="224"/>
                </a:lnTo>
                <a:lnTo>
                  <a:pt x="335" y="219"/>
                </a:lnTo>
                <a:lnTo>
                  <a:pt x="340" y="213"/>
                </a:lnTo>
                <a:lnTo>
                  <a:pt x="344" y="207"/>
                </a:lnTo>
                <a:lnTo>
                  <a:pt x="345" y="200"/>
                </a:lnTo>
                <a:lnTo>
                  <a:pt x="346" y="192"/>
                </a:lnTo>
                <a:lnTo>
                  <a:pt x="346" y="38"/>
                </a:lnTo>
                <a:lnTo>
                  <a:pt x="345" y="30"/>
                </a:lnTo>
                <a:lnTo>
                  <a:pt x="344" y="23"/>
                </a:lnTo>
                <a:lnTo>
                  <a:pt x="340" y="17"/>
                </a:lnTo>
                <a:lnTo>
                  <a:pt x="335" y="11"/>
                </a:lnTo>
                <a:lnTo>
                  <a:pt x="329" y="6"/>
                </a:lnTo>
                <a:lnTo>
                  <a:pt x="323" y="3"/>
                </a:lnTo>
                <a:lnTo>
                  <a:pt x="316" y="1"/>
                </a:lnTo>
                <a:lnTo>
                  <a:pt x="308" y="0"/>
                </a:lnTo>
                <a:lnTo>
                  <a:pt x="39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388280" y="3784680"/>
            <a:ext cx="177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t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583400" y="3741840"/>
            <a:ext cx="273240" cy="182520"/>
          </a:xfrm>
          <a:custGeom>
            <a:avLst/>
            <a:gdLst/>
            <a:ahLst/>
            <a:rect l="l" t="t" r="r" b="b"/>
            <a:pathLst>
              <a:path w="346" h="230">
                <a:moveTo>
                  <a:pt x="39" y="0"/>
                </a:moveTo>
                <a:lnTo>
                  <a:pt x="30" y="1"/>
                </a:lnTo>
                <a:lnTo>
                  <a:pt x="23" y="3"/>
                </a:lnTo>
                <a:lnTo>
                  <a:pt x="17" y="6"/>
                </a:lnTo>
                <a:lnTo>
                  <a:pt x="11" y="11"/>
                </a:lnTo>
                <a:lnTo>
                  <a:pt x="6" y="17"/>
                </a:lnTo>
                <a:lnTo>
                  <a:pt x="4" y="23"/>
                </a:lnTo>
                <a:lnTo>
                  <a:pt x="1" y="30"/>
                </a:lnTo>
                <a:lnTo>
                  <a:pt x="0" y="38"/>
                </a:lnTo>
                <a:lnTo>
                  <a:pt x="0" y="192"/>
                </a:lnTo>
                <a:lnTo>
                  <a:pt x="1" y="200"/>
                </a:lnTo>
                <a:lnTo>
                  <a:pt x="4" y="207"/>
                </a:lnTo>
                <a:lnTo>
                  <a:pt x="6" y="213"/>
                </a:lnTo>
                <a:lnTo>
                  <a:pt x="11" y="219"/>
                </a:lnTo>
                <a:lnTo>
                  <a:pt x="17" y="224"/>
                </a:lnTo>
                <a:lnTo>
                  <a:pt x="23" y="228"/>
                </a:lnTo>
                <a:lnTo>
                  <a:pt x="30" y="229"/>
                </a:lnTo>
                <a:lnTo>
                  <a:pt x="39" y="230"/>
                </a:lnTo>
                <a:lnTo>
                  <a:pt x="307" y="230"/>
                </a:lnTo>
                <a:lnTo>
                  <a:pt x="316" y="229"/>
                </a:lnTo>
                <a:lnTo>
                  <a:pt x="323" y="228"/>
                </a:lnTo>
                <a:lnTo>
                  <a:pt x="329" y="224"/>
                </a:lnTo>
                <a:lnTo>
                  <a:pt x="335" y="219"/>
                </a:lnTo>
                <a:lnTo>
                  <a:pt x="340" y="213"/>
                </a:lnTo>
                <a:lnTo>
                  <a:pt x="344" y="207"/>
                </a:lnTo>
                <a:lnTo>
                  <a:pt x="345" y="200"/>
                </a:lnTo>
                <a:lnTo>
                  <a:pt x="346" y="192"/>
                </a:lnTo>
                <a:lnTo>
                  <a:pt x="346" y="38"/>
                </a:lnTo>
                <a:lnTo>
                  <a:pt x="345" y="30"/>
                </a:lnTo>
                <a:lnTo>
                  <a:pt x="344" y="23"/>
                </a:lnTo>
                <a:lnTo>
                  <a:pt x="340" y="17"/>
                </a:lnTo>
                <a:lnTo>
                  <a:pt x="335" y="11"/>
                </a:lnTo>
                <a:lnTo>
                  <a:pt x="329" y="6"/>
                </a:lnTo>
                <a:lnTo>
                  <a:pt x="323" y="3"/>
                </a:lnTo>
                <a:lnTo>
                  <a:pt x="316" y="1"/>
                </a:lnTo>
                <a:lnTo>
                  <a:pt x="307" y="0"/>
                </a:lnTo>
                <a:lnTo>
                  <a:pt x="39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659360" y="3784680"/>
            <a:ext cx="1911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tM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302520" y="3741840"/>
            <a:ext cx="411120" cy="274680"/>
          </a:xfrm>
          <a:custGeom>
            <a:avLst/>
            <a:gdLst/>
            <a:ahLst/>
            <a:rect l="l" t="t" r="r" b="b"/>
            <a:pathLst>
              <a:path w="519" h="345">
                <a:moveTo>
                  <a:pt x="58" y="0"/>
                </a:moveTo>
                <a:lnTo>
                  <a:pt x="46" y="1"/>
                </a:lnTo>
                <a:lnTo>
                  <a:pt x="35" y="5"/>
                </a:lnTo>
                <a:lnTo>
                  <a:pt x="26" y="9"/>
                </a:lnTo>
                <a:lnTo>
                  <a:pt x="17" y="17"/>
                </a:lnTo>
                <a:lnTo>
                  <a:pt x="10" y="25"/>
                </a:lnTo>
                <a:lnTo>
                  <a:pt x="5" y="35"/>
                </a:lnTo>
                <a:lnTo>
                  <a:pt x="2" y="45"/>
                </a:lnTo>
                <a:lnTo>
                  <a:pt x="0" y="57"/>
                </a:lnTo>
                <a:lnTo>
                  <a:pt x="0" y="288"/>
                </a:lnTo>
                <a:lnTo>
                  <a:pt x="2" y="300"/>
                </a:lnTo>
                <a:lnTo>
                  <a:pt x="5" y="311"/>
                </a:lnTo>
                <a:lnTo>
                  <a:pt x="10" y="320"/>
                </a:lnTo>
                <a:lnTo>
                  <a:pt x="17" y="329"/>
                </a:lnTo>
                <a:lnTo>
                  <a:pt x="26" y="336"/>
                </a:lnTo>
                <a:lnTo>
                  <a:pt x="35" y="341"/>
                </a:lnTo>
                <a:lnTo>
                  <a:pt x="46" y="344"/>
                </a:lnTo>
                <a:lnTo>
                  <a:pt x="58" y="345"/>
                </a:lnTo>
                <a:lnTo>
                  <a:pt x="461" y="345"/>
                </a:lnTo>
                <a:lnTo>
                  <a:pt x="473" y="344"/>
                </a:lnTo>
                <a:lnTo>
                  <a:pt x="484" y="341"/>
                </a:lnTo>
                <a:lnTo>
                  <a:pt x="494" y="336"/>
                </a:lnTo>
                <a:lnTo>
                  <a:pt x="502" y="329"/>
                </a:lnTo>
                <a:lnTo>
                  <a:pt x="509" y="320"/>
                </a:lnTo>
                <a:lnTo>
                  <a:pt x="514" y="311"/>
                </a:lnTo>
                <a:lnTo>
                  <a:pt x="518" y="300"/>
                </a:lnTo>
                <a:lnTo>
                  <a:pt x="519" y="288"/>
                </a:lnTo>
                <a:lnTo>
                  <a:pt x="519" y="57"/>
                </a:lnTo>
                <a:lnTo>
                  <a:pt x="518" y="45"/>
                </a:lnTo>
                <a:lnTo>
                  <a:pt x="514" y="35"/>
                </a:lnTo>
                <a:lnTo>
                  <a:pt x="509" y="25"/>
                </a:lnTo>
                <a:lnTo>
                  <a:pt x="502" y="17"/>
                </a:lnTo>
                <a:lnTo>
                  <a:pt x="494" y="9"/>
                </a:lnTo>
                <a:lnTo>
                  <a:pt x="484" y="5"/>
                </a:lnTo>
                <a:lnTo>
                  <a:pt x="473" y="1"/>
                </a:lnTo>
                <a:lnTo>
                  <a:pt x="461" y="0"/>
                </a:lnTo>
                <a:lnTo>
                  <a:pt x="58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423480" y="3774960"/>
            <a:ext cx="24624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503400" y="3884760"/>
            <a:ext cx="6012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7047000" y="3603600"/>
            <a:ext cx="65160" cy="458640"/>
            <a:chOff x="7047000" y="3603600"/>
            <a:chExt cx="65160" cy="458640"/>
          </a:xfrm>
        </p:grpSpPr>
        <p:sp>
          <p:nvSpPr>
            <p:cNvPr id="672" name=""/>
            <p:cNvSpPr/>
            <p:nvPr/>
          </p:nvSpPr>
          <p:spPr>
            <a:xfrm>
              <a:off x="7067520" y="3665520"/>
              <a:ext cx="23760" cy="39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47000" y="3603600"/>
              <a:ext cx="65160" cy="651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82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6713640" y="3846600"/>
            <a:ext cx="149040" cy="215640"/>
            <a:chOff x="6713640" y="3846600"/>
            <a:chExt cx="149040" cy="215640"/>
          </a:xfrm>
        </p:grpSpPr>
        <p:sp>
          <p:nvSpPr>
            <p:cNvPr id="675" name=""/>
            <p:cNvSpPr/>
            <p:nvPr/>
          </p:nvSpPr>
          <p:spPr>
            <a:xfrm>
              <a:off x="6775560" y="3867120"/>
              <a:ext cx="87120" cy="195120"/>
            </a:xfrm>
            <a:custGeom>
              <a:avLst/>
              <a:gdLst/>
              <a:ahLst/>
              <a:rect l="l" t="t" r="r" b="b"/>
              <a:pathLst>
                <a:path w="109" h="245">
                  <a:moveTo>
                    <a:pt x="81" y="245"/>
                  </a:moveTo>
                  <a:lnTo>
                    <a:pt x="109" y="245"/>
                  </a:lnTo>
                  <a:lnTo>
                    <a:pt x="109" y="15"/>
                  </a:lnTo>
                  <a:lnTo>
                    <a:pt x="109" y="15"/>
                  </a:lnTo>
                  <a:lnTo>
                    <a:pt x="108" y="9"/>
                  </a:lnTo>
                  <a:lnTo>
                    <a:pt x="105" y="5"/>
                  </a:lnTo>
                  <a:lnTo>
                    <a:pt x="101" y="1"/>
                  </a:lnTo>
                  <a:lnTo>
                    <a:pt x="95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95" y="29"/>
                  </a:lnTo>
                  <a:lnTo>
                    <a:pt x="81" y="15"/>
                  </a:lnTo>
                  <a:lnTo>
                    <a:pt x="82" y="21"/>
                  </a:lnTo>
                  <a:lnTo>
                    <a:pt x="85" y="24"/>
                  </a:lnTo>
                  <a:lnTo>
                    <a:pt x="89" y="28"/>
                  </a:lnTo>
                  <a:lnTo>
                    <a:pt x="95" y="15"/>
                  </a:lnTo>
                  <a:lnTo>
                    <a:pt x="81" y="15"/>
                  </a:lnTo>
                  <a:lnTo>
                    <a:pt x="81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713640" y="3846600"/>
              <a:ext cx="65160" cy="6516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82" y="0"/>
                  </a:moveTo>
                  <a:lnTo>
                    <a:pt x="0" y="41"/>
                  </a:lnTo>
                  <a:lnTo>
                    <a:pt x="82" y="8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6497640" y="4016520"/>
            <a:ext cx="547560" cy="685800"/>
            <a:chOff x="6497640" y="4016520"/>
            <a:chExt cx="547560" cy="685800"/>
          </a:xfrm>
        </p:grpSpPr>
        <p:sp>
          <p:nvSpPr>
            <p:cNvPr id="678" name=""/>
            <p:cNvSpPr/>
            <p:nvPr/>
          </p:nvSpPr>
          <p:spPr>
            <a:xfrm>
              <a:off x="6519960" y="4078440"/>
              <a:ext cx="525240" cy="623880"/>
            </a:xfrm>
            <a:custGeom>
              <a:avLst/>
              <a:gdLst/>
              <a:ahLst/>
              <a:rect l="l" t="t" r="r" b="b"/>
              <a:pathLst>
                <a:path w="663" h="786">
                  <a:moveTo>
                    <a:pt x="634" y="786"/>
                  </a:moveTo>
                  <a:lnTo>
                    <a:pt x="663" y="786"/>
                  </a:lnTo>
                  <a:lnTo>
                    <a:pt x="663" y="601"/>
                  </a:lnTo>
                  <a:lnTo>
                    <a:pt x="663" y="601"/>
                  </a:lnTo>
                  <a:lnTo>
                    <a:pt x="662" y="595"/>
                  </a:lnTo>
                  <a:lnTo>
                    <a:pt x="658" y="591"/>
                  </a:lnTo>
                  <a:lnTo>
                    <a:pt x="655" y="588"/>
                  </a:lnTo>
                  <a:lnTo>
                    <a:pt x="649" y="586"/>
                  </a:lnTo>
                  <a:lnTo>
                    <a:pt x="15" y="586"/>
                  </a:lnTo>
                  <a:lnTo>
                    <a:pt x="15" y="601"/>
                  </a:lnTo>
                  <a:lnTo>
                    <a:pt x="29" y="601"/>
                  </a:lnTo>
                  <a:lnTo>
                    <a:pt x="28" y="595"/>
                  </a:lnTo>
                  <a:lnTo>
                    <a:pt x="24" y="591"/>
                  </a:lnTo>
                  <a:lnTo>
                    <a:pt x="21" y="588"/>
                  </a:lnTo>
                  <a:lnTo>
                    <a:pt x="29" y="60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601"/>
                  </a:lnTo>
                  <a:lnTo>
                    <a:pt x="0" y="601"/>
                  </a:lnTo>
                  <a:lnTo>
                    <a:pt x="1" y="607"/>
                  </a:lnTo>
                  <a:lnTo>
                    <a:pt x="5" y="610"/>
                  </a:lnTo>
                  <a:lnTo>
                    <a:pt x="9" y="614"/>
                  </a:lnTo>
                  <a:lnTo>
                    <a:pt x="15" y="615"/>
                  </a:lnTo>
                  <a:lnTo>
                    <a:pt x="649" y="615"/>
                  </a:lnTo>
                  <a:lnTo>
                    <a:pt x="634" y="601"/>
                  </a:lnTo>
                  <a:lnTo>
                    <a:pt x="635" y="607"/>
                  </a:lnTo>
                  <a:lnTo>
                    <a:pt x="639" y="610"/>
                  </a:lnTo>
                  <a:lnTo>
                    <a:pt x="643" y="614"/>
                  </a:lnTo>
                  <a:lnTo>
                    <a:pt x="649" y="601"/>
                  </a:lnTo>
                  <a:lnTo>
                    <a:pt x="634" y="601"/>
                  </a:lnTo>
                  <a:lnTo>
                    <a:pt x="634" y="7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97640" y="4016520"/>
              <a:ext cx="65160" cy="6480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81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6497640" y="3603600"/>
            <a:ext cx="65160" cy="138240"/>
            <a:chOff x="6497640" y="3603600"/>
            <a:chExt cx="65160" cy="138240"/>
          </a:xfrm>
        </p:grpSpPr>
        <p:sp>
          <p:nvSpPr>
            <p:cNvPr id="681" name=""/>
            <p:cNvSpPr/>
            <p:nvPr/>
          </p:nvSpPr>
          <p:spPr>
            <a:xfrm>
              <a:off x="6519960" y="3665520"/>
              <a:ext cx="21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97640" y="3603600"/>
              <a:ext cx="65160" cy="651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81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5753160" y="2552760"/>
            <a:ext cx="411120" cy="274680"/>
          </a:xfrm>
          <a:custGeom>
            <a:avLst/>
            <a:gdLst/>
            <a:ahLst/>
            <a:rect l="l" t="t" r="r" b="b"/>
            <a:pathLst>
              <a:path w="518" h="345">
                <a:moveTo>
                  <a:pt x="57" y="0"/>
                </a:moveTo>
                <a:lnTo>
                  <a:pt x="45" y="1"/>
                </a:lnTo>
                <a:lnTo>
                  <a:pt x="35" y="5"/>
                </a:lnTo>
                <a:lnTo>
                  <a:pt x="25" y="9"/>
                </a:lnTo>
                <a:lnTo>
                  <a:pt x="17" y="17"/>
                </a:lnTo>
                <a:lnTo>
                  <a:pt x="9" y="25"/>
                </a:lnTo>
                <a:lnTo>
                  <a:pt x="5" y="35"/>
                </a:lnTo>
                <a:lnTo>
                  <a:pt x="1" y="45"/>
                </a:lnTo>
                <a:lnTo>
                  <a:pt x="0" y="57"/>
                </a:lnTo>
                <a:lnTo>
                  <a:pt x="0" y="288"/>
                </a:lnTo>
                <a:lnTo>
                  <a:pt x="1" y="300"/>
                </a:lnTo>
                <a:lnTo>
                  <a:pt x="5" y="311"/>
                </a:lnTo>
                <a:lnTo>
                  <a:pt x="9" y="320"/>
                </a:lnTo>
                <a:lnTo>
                  <a:pt x="17" y="329"/>
                </a:lnTo>
                <a:lnTo>
                  <a:pt x="25" y="336"/>
                </a:lnTo>
                <a:lnTo>
                  <a:pt x="35" y="341"/>
                </a:lnTo>
                <a:lnTo>
                  <a:pt x="45" y="344"/>
                </a:lnTo>
                <a:lnTo>
                  <a:pt x="57" y="345"/>
                </a:lnTo>
                <a:lnTo>
                  <a:pt x="461" y="345"/>
                </a:lnTo>
                <a:lnTo>
                  <a:pt x="473" y="344"/>
                </a:lnTo>
                <a:lnTo>
                  <a:pt x="484" y="341"/>
                </a:lnTo>
                <a:lnTo>
                  <a:pt x="493" y="336"/>
                </a:lnTo>
                <a:lnTo>
                  <a:pt x="502" y="329"/>
                </a:lnTo>
                <a:lnTo>
                  <a:pt x="509" y="320"/>
                </a:lnTo>
                <a:lnTo>
                  <a:pt x="514" y="311"/>
                </a:lnTo>
                <a:lnTo>
                  <a:pt x="517" y="300"/>
                </a:lnTo>
                <a:lnTo>
                  <a:pt x="518" y="288"/>
                </a:lnTo>
                <a:lnTo>
                  <a:pt x="518" y="57"/>
                </a:lnTo>
                <a:lnTo>
                  <a:pt x="517" y="45"/>
                </a:lnTo>
                <a:lnTo>
                  <a:pt x="514" y="35"/>
                </a:lnTo>
                <a:lnTo>
                  <a:pt x="509" y="25"/>
                </a:lnTo>
                <a:lnTo>
                  <a:pt x="502" y="17"/>
                </a:lnTo>
                <a:lnTo>
                  <a:pt x="493" y="9"/>
                </a:lnTo>
                <a:lnTo>
                  <a:pt x="484" y="5"/>
                </a:lnTo>
                <a:lnTo>
                  <a:pt x="473" y="1"/>
                </a:lnTo>
                <a:lnTo>
                  <a:pt x="461" y="0"/>
                </a:lnTo>
                <a:lnTo>
                  <a:pt x="57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905440" y="258444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954040" y="2695680"/>
            <a:ext cx="6012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302520" y="2552760"/>
            <a:ext cx="411120" cy="274680"/>
          </a:xfrm>
          <a:custGeom>
            <a:avLst/>
            <a:gdLst/>
            <a:ahLst/>
            <a:rect l="l" t="t" r="r" b="b"/>
            <a:pathLst>
              <a:path w="519" h="345">
                <a:moveTo>
                  <a:pt x="58" y="0"/>
                </a:moveTo>
                <a:lnTo>
                  <a:pt x="46" y="1"/>
                </a:lnTo>
                <a:lnTo>
                  <a:pt x="35" y="5"/>
                </a:lnTo>
                <a:lnTo>
                  <a:pt x="26" y="9"/>
                </a:lnTo>
                <a:lnTo>
                  <a:pt x="17" y="17"/>
                </a:lnTo>
                <a:lnTo>
                  <a:pt x="10" y="25"/>
                </a:lnTo>
                <a:lnTo>
                  <a:pt x="5" y="35"/>
                </a:lnTo>
                <a:lnTo>
                  <a:pt x="2" y="45"/>
                </a:lnTo>
                <a:lnTo>
                  <a:pt x="0" y="57"/>
                </a:lnTo>
                <a:lnTo>
                  <a:pt x="0" y="288"/>
                </a:lnTo>
                <a:lnTo>
                  <a:pt x="2" y="300"/>
                </a:lnTo>
                <a:lnTo>
                  <a:pt x="5" y="311"/>
                </a:lnTo>
                <a:lnTo>
                  <a:pt x="10" y="320"/>
                </a:lnTo>
                <a:lnTo>
                  <a:pt x="17" y="329"/>
                </a:lnTo>
                <a:lnTo>
                  <a:pt x="26" y="336"/>
                </a:lnTo>
                <a:lnTo>
                  <a:pt x="35" y="341"/>
                </a:lnTo>
                <a:lnTo>
                  <a:pt x="46" y="344"/>
                </a:lnTo>
                <a:lnTo>
                  <a:pt x="58" y="345"/>
                </a:lnTo>
                <a:lnTo>
                  <a:pt x="461" y="345"/>
                </a:lnTo>
                <a:lnTo>
                  <a:pt x="473" y="344"/>
                </a:lnTo>
                <a:lnTo>
                  <a:pt x="484" y="341"/>
                </a:lnTo>
                <a:lnTo>
                  <a:pt x="494" y="336"/>
                </a:lnTo>
                <a:lnTo>
                  <a:pt x="502" y="329"/>
                </a:lnTo>
                <a:lnTo>
                  <a:pt x="509" y="320"/>
                </a:lnTo>
                <a:lnTo>
                  <a:pt x="514" y="311"/>
                </a:lnTo>
                <a:lnTo>
                  <a:pt x="518" y="300"/>
                </a:lnTo>
                <a:lnTo>
                  <a:pt x="519" y="288"/>
                </a:lnTo>
                <a:lnTo>
                  <a:pt x="519" y="57"/>
                </a:lnTo>
                <a:lnTo>
                  <a:pt x="518" y="45"/>
                </a:lnTo>
                <a:lnTo>
                  <a:pt x="514" y="35"/>
                </a:lnTo>
                <a:lnTo>
                  <a:pt x="509" y="25"/>
                </a:lnTo>
                <a:lnTo>
                  <a:pt x="502" y="17"/>
                </a:lnTo>
                <a:lnTo>
                  <a:pt x="494" y="9"/>
                </a:lnTo>
                <a:lnTo>
                  <a:pt x="484" y="5"/>
                </a:lnTo>
                <a:lnTo>
                  <a:pt x="473" y="1"/>
                </a:lnTo>
                <a:lnTo>
                  <a:pt x="461" y="0"/>
                </a:lnTo>
                <a:lnTo>
                  <a:pt x="58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454800" y="258444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503400" y="2695680"/>
            <a:ext cx="6012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5857920" y="2827440"/>
            <a:ext cx="65160" cy="593640"/>
            <a:chOff x="5857920" y="2827440"/>
            <a:chExt cx="65160" cy="593640"/>
          </a:xfrm>
        </p:grpSpPr>
        <p:sp>
          <p:nvSpPr>
            <p:cNvPr id="690" name=""/>
            <p:cNvSpPr/>
            <p:nvPr/>
          </p:nvSpPr>
          <p:spPr>
            <a:xfrm>
              <a:off x="5878440" y="2889360"/>
              <a:ext cx="23760" cy="53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57920" y="2827440"/>
              <a:ext cx="65160" cy="651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82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6178680" y="2049480"/>
            <a:ext cx="63360" cy="136440"/>
            <a:chOff x="6178680" y="2049480"/>
            <a:chExt cx="63360" cy="136440"/>
          </a:xfrm>
        </p:grpSpPr>
        <p:sp>
          <p:nvSpPr>
            <p:cNvPr id="693" name=""/>
            <p:cNvSpPr/>
            <p:nvPr/>
          </p:nvSpPr>
          <p:spPr>
            <a:xfrm>
              <a:off x="6199200" y="2111400"/>
              <a:ext cx="22320" cy="7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178680" y="2049480"/>
              <a:ext cx="63360" cy="651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82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5924520" y="2460600"/>
            <a:ext cx="22320" cy="92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519960" y="2460600"/>
            <a:ext cx="21960" cy="92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519960" y="2963880"/>
            <a:ext cx="21960" cy="41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002200" y="2049480"/>
            <a:ext cx="38160" cy="1371240"/>
            <a:chOff x="5002200" y="2049480"/>
            <a:chExt cx="38160" cy="1371240"/>
          </a:xfrm>
        </p:grpSpPr>
        <p:sp>
          <p:nvSpPr>
            <p:cNvPr id="699" name=""/>
            <p:cNvSpPr/>
            <p:nvPr/>
          </p:nvSpPr>
          <p:spPr>
            <a:xfrm flipV="1">
              <a:off x="5021280" y="2085480"/>
              <a:ext cx="1440" cy="1335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002200" y="2049480"/>
              <a:ext cx="38160" cy="396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49"/>
                  </a:moveTo>
                  <a:lnTo>
                    <a:pt x="24" y="0"/>
                  </a:lnTo>
                  <a:lnTo>
                    <a:pt x="0" y="49"/>
                  </a:lnTo>
                  <a:lnTo>
                    <a:pt x="4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7426440" y="2049480"/>
            <a:ext cx="38160" cy="1371240"/>
            <a:chOff x="7426440" y="2049480"/>
            <a:chExt cx="38160" cy="1371240"/>
          </a:xfrm>
        </p:grpSpPr>
        <p:sp>
          <p:nvSpPr>
            <p:cNvPr id="702" name=""/>
            <p:cNvSpPr/>
            <p:nvPr/>
          </p:nvSpPr>
          <p:spPr>
            <a:xfrm flipV="1">
              <a:off x="7445520" y="2085480"/>
              <a:ext cx="1440" cy="1335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426440" y="2049480"/>
              <a:ext cx="38160" cy="396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49"/>
                  </a:moveTo>
                  <a:lnTo>
                    <a:pt x="24" y="0"/>
                  </a:lnTo>
                  <a:lnTo>
                    <a:pt x="0" y="49"/>
                  </a:lnTo>
                  <a:lnTo>
                    <a:pt x="4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7701120" y="2049480"/>
            <a:ext cx="37800" cy="1371240"/>
            <a:chOff x="7701120" y="2049480"/>
            <a:chExt cx="37800" cy="1371240"/>
          </a:xfrm>
        </p:grpSpPr>
        <p:sp>
          <p:nvSpPr>
            <p:cNvPr id="705" name=""/>
            <p:cNvSpPr/>
            <p:nvPr/>
          </p:nvSpPr>
          <p:spPr>
            <a:xfrm flipV="1">
              <a:off x="7719840" y="2085480"/>
              <a:ext cx="1800" cy="1335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01120" y="2049480"/>
              <a:ext cx="37800" cy="396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49"/>
                  </a:moveTo>
                  <a:lnTo>
                    <a:pt x="24" y="0"/>
                  </a:lnTo>
                  <a:lnTo>
                    <a:pt x="0" y="49"/>
                  </a:lnTo>
                  <a:lnTo>
                    <a:pt x="4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5000760" y="3603600"/>
            <a:ext cx="41040" cy="1098720"/>
            <a:chOff x="5000760" y="3603600"/>
            <a:chExt cx="41040" cy="1098720"/>
          </a:xfrm>
        </p:grpSpPr>
        <p:sp>
          <p:nvSpPr>
            <p:cNvPr id="708" name=""/>
            <p:cNvSpPr/>
            <p:nvPr/>
          </p:nvSpPr>
          <p:spPr>
            <a:xfrm flipV="1">
              <a:off x="5021280" y="3643200"/>
              <a:ext cx="1440" cy="1059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000760" y="3603600"/>
              <a:ext cx="4104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7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5229360" y="3603600"/>
            <a:ext cx="41040" cy="1098720"/>
            <a:chOff x="5229360" y="3603600"/>
            <a:chExt cx="41040" cy="1098720"/>
          </a:xfrm>
        </p:grpSpPr>
        <p:sp>
          <p:nvSpPr>
            <p:cNvPr id="711" name=""/>
            <p:cNvSpPr/>
            <p:nvPr/>
          </p:nvSpPr>
          <p:spPr>
            <a:xfrm flipV="1">
              <a:off x="5249880" y="3643200"/>
              <a:ext cx="1440" cy="1059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229360" y="3603600"/>
              <a:ext cx="4104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7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6502320" y="1271520"/>
            <a:ext cx="55800" cy="138240"/>
            <a:chOff x="6502320" y="1271520"/>
            <a:chExt cx="55800" cy="138240"/>
          </a:xfrm>
        </p:grpSpPr>
        <p:sp>
          <p:nvSpPr>
            <p:cNvPr id="714" name=""/>
            <p:cNvSpPr/>
            <p:nvPr/>
          </p:nvSpPr>
          <p:spPr>
            <a:xfrm>
              <a:off x="6521400" y="1325520"/>
              <a:ext cx="17640" cy="8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502320" y="1271520"/>
              <a:ext cx="55800" cy="5724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69" y="71"/>
                  </a:moveTo>
                  <a:lnTo>
                    <a:pt x="35" y="0"/>
                  </a:lnTo>
                  <a:lnTo>
                    <a:pt x="0" y="71"/>
                  </a:lnTo>
                  <a:lnTo>
                    <a:pt x="6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543720" y="1592280"/>
            <a:ext cx="261720" cy="103320"/>
            <a:chOff x="6543720" y="1592280"/>
            <a:chExt cx="261720" cy="103320"/>
          </a:xfrm>
        </p:grpSpPr>
        <p:sp>
          <p:nvSpPr>
            <p:cNvPr id="717" name=""/>
            <p:cNvSpPr/>
            <p:nvPr/>
          </p:nvSpPr>
          <p:spPr>
            <a:xfrm>
              <a:off x="6564240" y="1654200"/>
              <a:ext cx="241200" cy="41400"/>
            </a:xfrm>
            <a:custGeom>
              <a:avLst/>
              <a:gdLst/>
              <a:ahLst/>
              <a:rect l="l" t="t" r="r" b="b"/>
              <a:pathLst>
                <a:path w="302" h="51">
                  <a:moveTo>
                    <a:pt x="302" y="51"/>
                  </a:moveTo>
                  <a:lnTo>
                    <a:pt x="302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29" y="37"/>
                  </a:lnTo>
                  <a:lnTo>
                    <a:pt x="27" y="31"/>
                  </a:lnTo>
                  <a:lnTo>
                    <a:pt x="24" y="27"/>
                  </a:lnTo>
                  <a:lnTo>
                    <a:pt x="20" y="24"/>
                  </a:lnTo>
                  <a:lnTo>
                    <a:pt x="29" y="37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5" y="47"/>
                  </a:lnTo>
                  <a:lnTo>
                    <a:pt x="8" y="50"/>
                  </a:lnTo>
                  <a:lnTo>
                    <a:pt x="14" y="51"/>
                  </a:lnTo>
                  <a:lnTo>
                    <a:pt x="30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543720" y="1592280"/>
              <a:ext cx="65160" cy="6516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82" y="81"/>
                  </a:moveTo>
                  <a:lnTo>
                    <a:pt x="41" y="0"/>
                  </a:lnTo>
                  <a:lnTo>
                    <a:pt x="0" y="81"/>
                  </a:lnTo>
                  <a:lnTo>
                    <a:pt x="82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5524560" y="906480"/>
            <a:ext cx="411120" cy="318960"/>
          </a:xfrm>
          <a:custGeom>
            <a:avLst/>
            <a:gdLst/>
            <a:ahLst/>
            <a:rect l="l" t="t" r="r" b="b"/>
            <a:pathLst>
              <a:path w="518" h="404">
                <a:moveTo>
                  <a:pt x="67" y="0"/>
                </a:moveTo>
                <a:lnTo>
                  <a:pt x="54" y="2"/>
                </a:lnTo>
                <a:lnTo>
                  <a:pt x="40" y="5"/>
                </a:lnTo>
                <a:lnTo>
                  <a:pt x="30" y="12"/>
                </a:lnTo>
                <a:lnTo>
                  <a:pt x="19" y="20"/>
                </a:lnTo>
                <a:lnTo>
                  <a:pt x="12" y="30"/>
                </a:lnTo>
                <a:lnTo>
                  <a:pt x="4" y="41"/>
                </a:lnTo>
                <a:lnTo>
                  <a:pt x="1" y="55"/>
                </a:lnTo>
                <a:lnTo>
                  <a:pt x="0" y="68"/>
                </a:lnTo>
                <a:lnTo>
                  <a:pt x="0" y="337"/>
                </a:lnTo>
                <a:lnTo>
                  <a:pt x="1" y="350"/>
                </a:lnTo>
                <a:lnTo>
                  <a:pt x="4" y="363"/>
                </a:lnTo>
                <a:lnTo>
                  <a:pt x="12" y="374"/>
                </a:lnTo>
                <a:lnTo>
                  <a:pt x="19" y="385"/>
                </a:lnTo>
                <a:lnTo>
                  <a:pt x="30" y="392"/>
                </a:lnTo>
                <a:lnTo>
                  <a:pt x="40" y="399"/>
                </a:lnTo>
                <a:lnTo>
                  <a:pt x="54" y="403"/>
                </a:lnTo>
                <a:lnTo>
                  <a:pt x="67" y="404"/>
                </a:lnTo>
                <a:lnTo>
                  <a:pt x="451" y="404"/>
                </a:lnTo>
                <a:lnTo>
                  <a:pt x="464" y="403"/>
                </a:lnTo>
                <a:lnTo>
                  <a:pt x="477" y="399"/>
                </a:lnTo>
                <a:lnTo>
                  <a:pt x="488" y="392"/>
                </a:lnTo>
                <a:lnTo>
                  <a:pt x="499" y="385"/>
                </a:lnTo>
                <a:lnTo>
                  <a:pt x="506" y="374"/>
                </a:lnTo>
                <a:lnTo>
                  <a:pt x="514" y="363"/>
                </a:lnTo>
                <a:lnTo>
                  <a:pt x="517" y="350"/>
                </a:lnTo>
                <a:lnTo>
                  <a:pt x="518" y="337"/>
                </a:lnTo>
                <a:lnTo>
                  <a:pt x="518" y="68"/>
                </a:lnTo>
                <a:lnTo>
                  <a:pt x="517" y="55"/>
                </a:lnTo>
                <a:lnTo>
                  <a:pt x="514" y="41"/>
                </a:lnTo>
                <a:lnTo>
                  <a:pt x="506" y="30"/>
                </a:lnTo>
                <a:lnTo>
                  <a:pt x="499" y="20"/>
                </a:lnTo>
                <a:lnTo>
                  <a:pt x="488" y="12"/>
                </a:lnTo>
                <a:lnTo>
                  <a:pt x="477" y="5"/>
                </a:lnTo>
                <a:lnTo>
                  <a:pt x="464" y="2"/>
                </a:lnTo>
                <a:lnTo>
                  <a:pt x="451" y="0"/>
                </a:lnTo>
                <a:lnTo>
                  <a:pt x="67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652720" y="961920"/>
            <a:ext cx="19584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842080" y="961920"/>
            <a:ext cx="252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639040" y="1071720"/>
            <a:ext cx="26424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6726240" y="723960"/>
            <a:ext cx="65160" cy="136440"/>
            <a:chOff x="6726240" y="723960"/>
            <a:chExt cx="65160" cy="136440"/>
          </a:xfrm>
        </p:grpSpPr>
        <p:sp>
          <p:nvSpPr>
            <p:cNvPr id="724" name=""/>
            <p:cNvSpPr/>
            <p:nvPr/>
          </p:nvSpPr>
          <p:spPr>
            <a:xfrm>
              <a:off x="6748560" y="785880"/>
              <a:ext cx="21960" cy="7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26240" y="723960"/>
              <a:ext cx="65160" cy="633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82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178680" y="723960"/>
            <a:ext cx="63360" cy="1143000"/>
            <a:chOff x="6178680" y="723960"/>
            <a:chExt cx="63360" cy="1143000"/>
          </a:xfrm>
        </p:grpSpPr>
        <p:sp>
          <p:nvSpPr>
            <p:cNvPr id="727" name=""/>
            <p:cNvSpPr/>
            <p:nvPr/>
          </p:nvSpPr>
          <p:spPr>
            <a:xfrm>
              <a:off x="6199200" y="785880"/>
              <a:ext cx="22320" cy="1081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178680" y="723960"/>
              <a:ext cx="63360" cy="633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82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6210360" y="1592280"/>
            <a:ext cx="261720" cy="193680"/>
            <a:chOff x="6210360" y="1592280"/>
            <a:chExt cx="261720" cy="193680"/>
          </a:xfrm>
        </p:grpSpPr>
        <p:sp>
          <p:nvSpPr>
            <p:cNvPr id="730" name=""/>
            <p:cNvSpPr/>
            <p:nvPr/>
          </p:nvSpPr>
          <p:spPr>
            <a:xfrm>
              <a:off x="6210360" y="1654200"/>
              <a:ext cx="239760" cy="131760"/>
            </a:xfrm>
            <a:custGeom>
              <a:avLst/>
              <a:gdLst/>
              <a:ahLst/>
              <a:rect l="l" t="t" r="r" b="b"/>
              <a:pathLst>
                <a:path w="303" h="167">
                  <a:moveTo>
                    <a:pt x="0" y="138"/>
                  </a:moveTo>
                  <a:lnTo>
                    <a:pt x="0" y="167"/>
                  </a:lnTo>
                  <a:lnTo>
                    <a:pt x="288" y="167"/>
                  </a:lnTo>
                  <a:lnTo>
                    <a:pt x="288" y="167"/>
                  </a:lnTo>
                  <a:lnTo>
                    <a:pt x="294" y="165"/>
                  </a:lnTo>
                  <a:lnTo>
                    <a:pt x="298" y="162"/>
                  </a:lnTo>
                  <a:lnTo>
                    <a:pt x="301" y="158"/>
                  </a:lnTo>
                  <a:lnTo>
                    <a:pt x="303" y="152"/>
                  </a:lnTo>
                  <a:lnTo>
                    <a:pt x="303" y="0"/>
                  </a:lnTo>
                  <a:lnTo>
                    <a:pt x="274" y="0"/>
                  </a:lnTo>
                  <a:lnTo>
                    <a:pt x="274" y="152"/>
                  </a:lnTo>
                  <a:lnTo>
                    <a:pt x="288" y="138"/>
                  </a:lnTo>
                  <a:lnTo>
                    <a:pt x="282" y="139"/>
                  </a:lnTo>
                  <a:lnTo>
                    <a:pt x="279" y="143"/>
                  </a:lnTo>
                  <a:lnTo>
                    <a:pt x="275" y="146"/>
                  </a:lnTo>
                  <a:lnTo>
                    <a:pt x="274" y="152"/>
                  </a:lnTo>
                  <a:lnTo>
                    <a:pt x="288" y="152"/>
                  </a:lnTo>
                  <a:lnTo>
                    <a:pt x="28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407280" y="1592280"/>
              <a:ext cx="64800" cy="6516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82" y="81"/>
                  </a:moveTo>
                  <a:lnTo>
                    <a:pt x="41" y="0"/>
                  </a:lnTo>
                  <a:lnTo>
                    <a:pt x="0" y="81"/>
                  </a:lnTo>
                  <a:lnTo>
                    <a:pt x="82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7426440" y="723960"/>
            <a:ext cx="38160" cy="1143000"/>
            <a:chOff x="7426440" y="723960"/>
            <a:chExt cx="38160" cy="1143000"/>
          </a:xfrm>
        </p:grpSpPr>
        <p:sp>
          <p:nvSpPr>
            <p:cNvPr id="733" name=""/>
            <p:cNvSpPr/>
            <p:nvPr/>
          </p:nvSpPr>
          <p:spPr>
            <a:xfrm flipV="1">
              <a:off x="7445520" y="758880"/>
              <a:ext cx="1440" cy="1108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426440" y="723960"/>
              <a:ext cx="38160" cy="381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49"/>
                  </a:moveTo>
                  <a:lnTo>
                    <a:pt x="24" y="0"/>
                  </a:lnTo>
                  <a:lnTo>
                    <a:pt x="0" y="49"/>
                  </a:lnTo>
                  <a:lnTo>
                    <a:pt x="4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7701120" y="723960"/>
            <a:ext cx="37800" cy="1143000"/>
            <a:chOff x="7701120" y="723960"/>
            <a:chExt cx="37800" cy="1143000"/>
          </a:xfrm>
        </p:grpSpPr>
        <p:sp>
          <p:nvSpPr>
            <p:cNvPr id="736" name=""/>
            <p:cNvSpPr/>
            <p:nvPr/>
          </p:nvSpPr>
          <p:spPr>
            <a:xfrm flipV="1">
              <a:off x="7719840" y="758880"/>
              <a:ext cx="1800" cy="1108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701120" y="723960"/>
              <a:ext cx="37800" cy="381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49"/>
                  </a:moveTo>
                  <a:lnTo>
                    <a:pt x="24" y="0"/>
                  </a:lnTo>
                  <a:lnTo>
                    <a:pt x="0" y="49"/>
                  </a:lnTo>
                  <a:lnTo>
                    <a:pt x="4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5945040" y="960480"/>
            <a:ext cx="403200" cy="74520"/>
            <a:chOff x="5945040" y="960480"/>
            <a:chExt cx="403200" cy="74520"/>
          </a:xfrm>
        </p:grpSpPr>
        <p:sp>
          <p:nvSpPr>
            <p:cNvPr id="739" name=""/>
            <p:cNvSpPr/>
            <p:nvPr/>
          </p:nvSpPr>
          <p:spPr>
            <a:xfrm>
              <a:off x="626436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24204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218280" y="99216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19596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17364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14988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127920" y="99216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103800" y="992160"/>
              <a:ext cx="1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8184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952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03576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01344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989680" y="99216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96736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4504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73720" y="960480"/>
              <a:ext cx="74520" cy="7452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0" y="94"/>
                  </a:moveTo>
                  <a:lnTo>
                    <a:pt x="94" y="47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5945040" y="1096920"/>
            <a:ext cx="403200" cy="74520"/>
            <a:chOff x="5945040" y="1096920"/>
            <a:chExt cx="403200" cy="74520"/>
          </a:xfrm>
        </p:grpSpPr>
        <p:sp>
          <p:nvSpPr>
            <p:cNvPr id="756" name=""/>
            <p:cNvSpPr/>
            <p:nvPr/>
          </p:nvSpPr>
          <p:spPr>
            <a:xfrm>
              <a:off x="626436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24204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218280" y="112860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19596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17364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14988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127920" y="112860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103800" y="1128600"/>
              <a:ext cx="1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08184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5952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3576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01344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89680" y="112860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96736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94504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273720" y="1096920"/>
              <a:ext cx="74520" cy="7452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0" y="93"/>
                  </a:moveTo>
                  <a:lnTo>
                    <a:pt x="94" y="47"/>
                  </a:lnTo>
                  <a:lnTo>
                    <a:pt x="0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6348240" y="1363680"/>
            <a:ext cx="319320" cy="228600"/>
          </a:xfrm>
          <a:custGeom>
            <a:avLst/>
            <a:gdLst/>
            <a:ahLst/>
            <a:rect l="l" t="t" r="r" b="b"/>
            <a:pathLst>
              <a:path w="403" h="288">
                <a:moveTo>
                  <a:pt x="48" y="0"/>
                </a:moveTo>
                <a:lnTo>
                  <a:pt x="38" y="1"/>
                </a:lnTo>
                <a:lnTo>
                  <a:pt x="30" y="3"/>
                </a:lnTo>
                <a:lnTo>
                  <a:pt x="22" y="8"/>
                </a:lnTo>
                <a:lnTo>
                  <a:pt x="14" y="14"/>
                </a:lnTo>
                <a:lnTo>
                  <a:pt x="8" y="21"/>
                </a:lnTo>
                <a:lnTo>
                  <a:pt x="4" y="30"/>
                </a:lnTo>
                <a:lnTo>
                  <a:pt x="1" y="38"/>
                </a:lnTo>
                <a:lnTo>
                  <a:pt x="0" y="48"/>
                </a:lnTo>
                <a:lnTo>
                  <a:pt x="0" y="240"/>
                </a:lnTo>
                <a:lnTo>
                  <a:pt x="1" y="249"/>
                </a:lnTo>
                <a:lnTo>
                  <a:pt x="4" y="259"/>
                </a:lnTo>
                <a:lnTo>
                  <a:pt x="8" y="266"/>
                </a:lnTo>
                <a:lnTo>
                  <a:pt x="14" y="273"/>
                </a:lnTo>
                <a:lnTo>
                  <a:pt x="22" y="279"/>
                </a:lnTo>
                <a:lnTo>
                  <a:pt x="30" y="284"/>
                </a:lnTo>
                <a:lnTo>
                  <a:pt x="38" y="287"/>
                </a:lnTo>
                <a:lnTo>
                  <a:pt x="48" y="288"/>
                </a:lnTo>
                <a:lnTo>
                  <a:pt x="355" y="288"/>
                </a:lnTo>
                <a:lnTo>
                  <a:pt x="365" y="287"/>
                </a:lnTo>
                <a:lnTo>
                  <a:pt x="375" y="284"/>
                </a:lnTo>
                <a:lnTo>
                  <a:pt x="382" y="279"/>
                </a:lnTo>
                <a:lnTo>
                  <a:pt x="389" y="273"/>
                </a:lnTo>
                <a:lnTo>
                  <a:pt x="395" y="266"/>
                </a:lnTo>
                <a:lnTo>
                  <a:pt x="400" y="259"/>
                </a:lnTo>
                <a:lnTo>
                  <a:pt x="402" y="249"/>
                </a:lnTo>
                <a:lnTo>
                  <a:pt x="403" y="240"/>
                </a:lnTo>
                <a:lnTo>
                  <a:pt x="403" y="48"/>
                </a:lnTo>
                <a:lnTo>
                  <a:pt x="402" y="38"/>
                </a:lnTo>
                <a:lnTo>
                  <a:pt x="400" y="30"/>
                </a:lnTo>
                <a:lnTo>
                  <a:pt x="395" y="21"/>
                </a:lnTo>
                <a:lnTo>
                  <a:pt x="389" y="14"/>
                </a:lnTo>
                <a:lnTo>
                  <a:pt x="382" y="8"/>
                </a:lnTo>
                <a:lnTo>
                  <a:pt x="375" y="3"/>
                </a:lnTo>
                <a:lnTo>
                  <a:pt x="365" y="1"/>
                </a:lnTo>
                <a:lnTo>
                  <a:pt x="355" y="0"/>
                </a:lnTo>
                <a:lnTo>
                  <a:pt x="48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448680" y="1427040"/>
            <a:ext cx="186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8248680" y="3603600"/>
            <a:ext cx="41400" cy="274320"/>
            <a:chOff x="8248680" y="3603600"/>
            <a:chExt cx="41400" cy="274320"/>
          </a:xfrm>
        </p:grpSpPr>
        <p:sp>
          <p:nvSpPr>
            <p:cNvPr id="775" name=""/>
            <p:cNvSpPr/>
            <p:nvPr/>
          </p:nvSpPr>
          <p:spPr>
            <a:xfrm flipV="1">
              <a:off x="8269200" y="3642840"/>
              <a:ext cx="1800" cy="235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248680" y="3603600"/>
              <a:ext cx="4140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7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7974000" y="3603600"/>
            <a:ext cx="41400" cy="229680"/>
            <a:chOff x="7974000" y="3603600"/>
            <a:chExt cx="41400" cy="229680"/>
          </a:xfrm>
        </p:grpSpPr>
        <p:sp>
          <p:nvSpPr>
            <p:cNvPr id="778" name=""/>
            <p:cNvSpPr/>
            <p:nvPr/>
          </p:nvSpPr>
          <p:spPr>
            <a:xfrm flipV="1">
              <a:off x="7994520" y="3642840"/>
              <a:ext cx="1800" cy="190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74000" y="3603600"/>
              <a:ext cx="4140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7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7856640" y="3741840"/>
            <a:ext cx="274680" cy="182520"/>
          </a:xfrm>
          <a:custGeom>
            <a:avLst/>
            <a:gdLst/>
            <a:ahLst/>
            <a:rect l="l" t="t" r="r" b="b"/>
            <a:pathLst>
              <a:path w="346" h="230">
                <a:moveTo>
                  <a:pt x="38" y="0"/>
                </a:moveTo>
                <a:lnTo>
                  <a:pt x="30" y="1"/>
                </a:lnTo>
                <a:lnTo>
                  <a:pt x="23" y="3"/>
                </a:lnTo>
                <a:lnTo>
                  <a:pt x="17" y="6"/>
                </a:lnTo>
                <a:lnTo>
                  <a:pt x="11" y="11"/>
                </a:lnTo>
                <a:lnTo>
                  <a:pt x="6" y="17"/>
                </a:lnTo>
                <a:lnTo>
                  <a:pt x="4" y="23"/>
                </a:lnTo>
                <a:lnTo>
                  <a:pt x="1" y="30"/>
                </a:lnTo>
                <a:lnTo>
                  <a:pt x="0" y="38"/>
                </a:lnTo>
                <a:lnTo>
                  <a:pt x="0" y="192"/>
                </a:lnTo>
                <a:lnTo>
                  <a:pt x="1" y="200"/>
                </a:lnTo>
                <a:lnTo>
                  <a:pt x="4" y="207"/>
                </a:lnTo>
                <a:lnTo>
                  <a:pt x="6" y="213"/>
                </a:lnTo>
                <a:lnTo>
                  <a:pt x="11" y="219"/>
                </a:lnTo>
                <a:lnTo>
                  <a:pt x="17" y="224"/>
                </a:lnTo>
                <a:lnTo>
                  <a:pt x="23" y="228"/>
                </a:lnTo>
                <a:lnTo>
                  <a:pt x="30" y="229"/>
                </a:lnTo>
                <a:lnTo>
                  <a:pt x="38" y="230"/>
                </a:lnTo>
                <a:lnTo>
                  <a:pt x="307" y="230"/>
                </a:lnTo>
                <a:lnTo>
                  <a:pt x="316" y="229"/>
                </a:lnTo>
                <a:lnTo>
                  <a:pt x="323" y="228"/>
                </a:lnTo>
                <a:lnTo>
                  <a:pt x="329" y="224"/>
                </a:lnTo>
                <a:lnTo>
                  <a:pt x="335" y="219"/>
                </a:lnTo>
                <a:lnTo>
                  <a:pt x="340" y="213"/>
                </a:lnTo>
                <a:lnTo>
                  <a:pt x="343" y="207"/>
                </a:lnTo>
                <a:lnTo>
                  <a:pt x="345" y="200"/>
                </a:lnTo>
                <a:lnTo>
                  <a:pt x="346" y="192"/>
                </a:lnTo>
                <a:lnTo>
                  <a:pt x="346" y="38"/>
                </a:lnTo>
                <a:lnTo>
                  <a:pt x="345" y="30"/>
                </a:lnTo>
                <a:lnTo>
                  <a:pt x="343" y="23"/>
                </a:lnTo>
                <a:lnTo>
                  <a:pt x="340" y="17"/>
                </a:lnTo>
                <a:lnTo>
                  <a:pt x="335" y="11"/>
                </a:lnTo>
                <a:lnTo>
                  <a:pt x="329" y="6"/>
                </a:lnTo>
                <a:lnTo>
                  <a:pt x="323" y="3"/>
                </a:lnTo>
                <a:lnTo>
                  <a:pt x="316" y="1"/>
                </a:lnTo>
                <a:lnTo>
                  <a:pt x="307" y="0"/>
                </a:lnTo>
                <a:lnTo>
                  <a:pt x="38" y="0"/>
                </a:lnTo>
                <a:close/>
              </a:path>
            </a:pathLst>
          </a:custGeom>
          <a:solidFill>
            <a:srgbClr val="00cc66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937640" y="3784680"/>
            <a:ext cx="177480" cy="961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cA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131320" y="3741840"/>
            <a:ext cx="274320" cy="182520"/>
          </a:xfrm>
          <a:custGeom>
            <a:avLst/>
            <a:gdLst/>
            <a:ahLst/>
            <a:rect l="l" t="t" r="r" b="b"/>
            <a:pathLst>
              <a:path w="346" h="230">
                <a:moveTo>
                  <a:pt x="38" y="0"/>
                </a:moveTo>
                <a:lnTo>
                  <a:pt x="30" y="1"/>
                </a:lnTo>
                <a:lnTo>
                  <a:pt x="23" y="3"/>
                </a:lnTo>
                <a:lnTo>
                  <a:pt x="17" y="6"/>
                </a:lnTo>
                <a:lnTo>
                  <a:pt x="11" y="11"/>
                </a:lnTo>
                <a:lnTo>
                  <a:pt x="6" y="17"/>
                </a:lnTo>
                <a:lnTo>
                  <a:pt x="3" y="23"/>
                </a:lnTo>
                <a:lnTo>
                  <a:pt x="1" y="30"/>
                </a:lnTo>
                <a:lnTo>
                  <a:pt x="0" y="38"/>
                </a:lnTo>
                <a:lnTo>
                  <a:pt x="0" y="192"/>
                </a:lnTo>
                <a:lnTo>
                  <a:pt x="1" y="200"/>
                </a:lnTo>
                <a:lnTo>
                  <a:pt x="3" y="207"/>
                </a:lnTo>
                <a:lnTo>
                  <a:pt x="6" y="213"/>
                </a:lnTo>
                <a:lnTo>
                  <a:pt x="11" y="219"/>
                </a:lnTo>
                <a:lnTo>
                  <a:pt x="17" y="224"/>
                </a:lnTo>
                <a:lnTo>
                  <a:pt x="23" y="228"/>
                </a:lnTo>
                <a:lnTo>
                  <a:pt x="30" y="229"/>
                </a:lnTo>
                <a:lnTo>
                  <a:pt x="38" y="230"/>
                </a:lnTo>
                <a:lnTo>
                  <a:pt x="307" y="230"/>
                </a:lnTo>
                <a:lnTo>
                  <a:pt x="316" y="229"/>
                </a:lnTo>
                <a:lnTo>
                  <a:pt x="323" y="228"/>
                </a:lnTo>
                <a:lnTo>
                  <a:pt x="329" y="224"/>
                </a:lnTo>
                <a:lnTo>
                  <a:pt x="335" y="219"/>
                </a:lnTo>
                <a:lnTo>
                  <a:pt x="340" y="213"/>
                </a:lnTo>
                <a:lnTo>
                  <a:pt x="343" y="207"/>
                </a:lnTo>
                <a:lnTo>
                  <a:pt x="344" y="200"/>
                </a:lnTo>
                <a:lnTo>
                  <a:pt x="346" y="192"/>
                </a:lnTo>
                <a:lnTo>
                  <a:pt x="346" y="38"/>
                </a:lnTo>
                <a:lnTo>
                  <a:pt x="344" y="30"/>
                </a:lnTo>
                <a:lnTo>
                  <a:pt x="343" y="23"/>
                </a:lnTo>
                <a:lnTo>
                  <a:pt x="340" y="17"/>
                </a:lnTo>
                <a:lnTo>
                  <a:pt x="335" y="11"/>
                </a:lnTo>
                <a:lnTo>
                  <a:pt x="329" y="6"/>
                </a:lnTo>
                <a:lnTo>
                  <a:pt x="323" y="3"/>
                </a:lnTo>
                <a:lnTo>
                  <a:pt x="316" y="1"/>
                </a:lnTo>
                <a:lnTo>
                  <a:pt x="307" y="0"/>
                </a:lnTo>
                <a:lnTo>
                  <a:pt x="38" y="0"/>
                </a:lnTo>
                <a:close/>
              </a:path>
            </a:pathLst>
          </a:custGeom>
          <a:solidFill>
            <a:srgbClr val="00cc66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211960" y="3784680"/>
            <a:ext cx="177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cB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6073920" y="392040"/>
            <a:ext cx="2573280" cy="5440320"/>
            <a:chOff x="6073920" y="392040"/>
            <a:chExt cx="2573280" cy="5440320"/>
          </a:xfrm>
        </p:grpSpPr>
        <p:sp>
          <p:nvSpPr>
            <p:cNvPr id="785" name=""/>
            <p:cNvSpPr/>
            <p:nvPr/>
          </p:nvSpPr>
          <p:spPr>
            <a:xfrm>
              <a:off x="6135840" y="392040"/>
              <a:ext cx="2511360" cy="5418360"/>
            </a:xfrm>
            <a:custGeom>
              <a:avLst/>
              <a:gdLst/>
              <a:ahLst/>
              <a:rect l="l" t="t" r="r" b="b"/>
              <a:pathLst>
                <a:path w="3164" h="6828">
                  <a:moveTo>
                    <a:pt x="772" y="188"/>
                  </a:moveTo>
                  <a:lnTo>
                    <a:pt x="801" y="188"/>
                  </a:lnTo>
                  <a:lnTo>
                    <a:pt x="801" y="15"/>
                  </a:lnTo>
                  <a:lnTo>
                    <a:pt x="787" y="15"/>
                  </a:lnTo>
                  <a:lnTo>
                    <a:pt x="787" y="29"/>
                  </a:lnTo>
                  <a:lnTo>
                    <a:pt x="793" y="28"/>
                  </a:lnTo>
                  <a:lnTo>
                    <a:pt x="796" y="24"/>
                  </a:lnTo>
                  <a:lnTo>
                    <a:pt x="800" y="21"/>
                  </a:lnTo>
                  <a:lnTo>
                    <a:pt x="787" y="29"/>
                  </a:lnTo>
                  <a:lnTo>
                    <a:pt x="3150" y="29"/>
                  </a:lnTo>
                  <a:lnTo>
                    <a:pt x="3150" y="15"/>
                  </a:lnTo>
                  <a:lnTo>
                    <a:pt x="3135" y="15"/>
                  </a:lnTo>
                  <a:lnTo>
                    <a:pt x="3136" y="21"/>
                  </a:lnTo>
                  <a:lnTo>
                    <a:pt x="3140" y="24"/>
                  </a:lnTo>
                  <a:lnTo>
                    <a:pt x="3144" y="28"/>
                  </a:lnTo>
                  <a:lnTo>
                    <a:pt x="3135" y="15"/>
                  </a:lnTo>
                  <a:lnTo>
                    <a:pt x="3135" y="6814"/>
                  </a:lnTo>
                  <a:lnTo>
                    <a:pt x="3150" y="6814"/>
                  </a:lnTo>
                  <a:lnTo>
                    <a:pt x="3150" y="6799"/>
                  </a:lnTo>
                  <a:lnTo>
                    <a:pt x="3144" y="6800"/>
                  </a:lnTo>
                  <a:lnTo>
                    <a:pt x="3140" y="6804"/>
                  </a:lnTo>
                  <a:lnTo>
                    <a:pt x="3136" y="6808"/>
                  </a:lnTo>
                  <a:lnTo>
                    <a:pt x="3150" y="6799"/>
                  </a:lnTo>
                  <a:lnTo>
                    <a:pt x="0" y="6799"/>
                  </a:lnTo>
                  <a:lnTo>
                    <a:pt x="0" y="6828"/>
                  </a:lnTo>
                  <a:lnTo>
                    <a:pt x="3150" y="6828"/>
                  </a:lnTo>
                  <a:lnTo>
                    <a:pt x="3150" y="6828"/>
                  </a:lnTo>
                  <a:lnTo>
                    <a:pt x="3156" y="6827"/>
                  </a:lnTo>
                  <a:lnTo>
                    <a:pt x="3159" y="6823"/>
                  </a:lnTo>
                  <a:lnTo>
                    <a:pt x="3163" y="6820"/>
                  </a:lnTo>
                  <a:lnTo>
                    <a:pt x="3164" y="6814"/>
                  </a:lnTo>
                  <a:lnTo>
                    <a:pt x="3164" y="6814"/>
                  </a:lnTo>
                  <a:lnTo>
                    <a:pt x="3164" y="15"/>
                  </a:lnTo>
                  <a:lnTo>
                    <a:pt x="3164" y="15"/>
                  </a:lnTo>
                  <a:lnTo>
                    <a:pt x="3163" y="9"/>
                  </a:lnTo>
                  <a:lnTo>
                    <a:pt x="3159" y="5"/>
                  </a:lnTo>
                  <a:lnTo>
                    <a:pt x="3156" y="1"/>
                  </a:lnTo>
                  <a:lnTo>
                    <a:pt x="3150" y="0"/>
                  </a:lnTo>
                  <a:lnTo>
                    <a:pt x="787" y="0"/>
                  </a:lnTo>
                  <a:lnTo>
                    <a:pt x="787" y="0"/>
                  </a:lnTo>
                  <a:lnTo>
                    <a:pt x="781" y="1"/>
                  </a:lnTo>
                  <a:lnTo>
                    <a:pt x="777" y="5"/>
                  </a:lnTo>
                  <a:lnTo>
                    <a:pt x="774" y="9"/>
                  </a:lnTo>
                  <a:lnTo>
                    <a:pt x="772" y="15"/>
                  </a:lnTo>
                  <a:lnTo>
                    <a:pt x="772" y="15"/>
                  </a:lnTo>
                  <a:lnTo>
                    <a:pt x="772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73920" y="5767560"/>
              <a:ext cx="63360" cy="6480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82" y="0"/>
                  </a:moveTo>
                  <a:lnTo>
                    <a:pt x="0" y="41"/>
                  </a:lnTo>
                  <a:lnTo>
                    <a:pt x="82" y="8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6199200" y="299880"/>
            <a:ext cx="2538360" cy="2984760"/>
          </a:xfrm>
          <a:custGeom>
            <a:avLst/>
            <a:gdLst/>
            <a:ahLst/>
            <a:rect l="l" t="t" r="r" b="b"/>
            <a:pathLst>
              <a:path w="3198" h="3760">
                <a:moveTo>
                  <a:pt x="0" y="303"/>
                </a:moveTo>
                <a:lnTo>
                  <a:pt x="29" y="303"/>
                </a:lnTo>
                <a:lnTo>
                  <a:pt x="29" y="14"/>
                </a:lnTo>
                <a:lnTo>
                  <a:pt x="14" y="14"/>
                </a:lnTo>
                <a:lnTo>
                  <a:pt x="14" y="29"/>
                </a:lnTo>
                <a:lnTo>
                  <a:pt x="20" y="28"/>
                </a:lnTo>
                <a:lnTo>
                  <a:pt x="24" y="24"/>
                </a:lnTo>
                <a:lnTo>
                  <a:pt x="27" y="20"/>
                </a:lnTo>
                <a:lnTo>
                  <a:pt x="14" y="29"/>
                </a:lnTo>
                <a:lnTo>
                  <a:pt x="3184" y="29"/>
                </a:lnTo>
                <a:lnTo>
                  <a:pt x="3184" y="14"/>
                </a:lnTo>
                <a:lnTo>
                  <a:pt x="3170" y="14"/>
                </a:lnTo>
                <a:lnTo>
                  <a:pt x="3171" y="20"/>
                </a:lnTo>
                <a:lnTo>
                  <a:pt x="3174" y="24"/>
                </a:lnTo>
                <a:lnTo>
                  <a:pt x="3178" y="28"/>
                </a:lnTo>
                <a:lnTo>
                  <a:pt x="3170" y="14"/>
                </a:lnTo>
                <a:lnTo>
                  <a:pt x="3170" y="3760"/>
                </a:lnTo>
                <a:lnTo>
                  <a:pt x="3198" y="3760"/>
                </a:lnTo>
                <a:lnTo>
                  <a:pt x="3198" y="14"/>
                </a:lnTo>
                <a:lnTo>
                  <a:pt x="3198" y="14"/>
                </a:lnTo>
                <a:lnTo>
                  <a:pt x="3197" y="8"/>
                </a:lnTo>
                <a:lnTo>
                  <a:pt x="3194" y="5"/>
                </a:lnTo>
                <a:lnTo>
                  <a:pt x="3190" y="1"/>
                </a:lnTo>
                <a:lnTo>
                  <a:pt x="3184" y="0"/>
                </a:lnTo>
                <a:lnTo>
                  <a:pt x="14" y="0"/>
                </a:lnTo>
                <a:lnTo>
                  <a:pt x="14" y="0"/>
                </a:lnTo>
                <a:lnTo>
                  <a:pt x="8" y="1"/>
                </a:lnTo>
                <a:lnTo>
                  <a:pt x="5" y="5"/>
                </a:lnTo>
                <a:lnTo>
                  <a:pt x="1" y="8"/>
                </a:lnTo>
                <a:lnTo>
                  <a:pt x="0" y="14"/>
                </a:lnTo>
                <a:lnTo>
                  <a:pt x="0" y="14"/>
                </a:lnTo>
                <a:lnTo>
                  <a:pt x="0" y="3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7262640" y="4121280"/>
            <a:ext cx="1371600" cy="64800"/>
            <a:chOff x="7262640" y="4121280"/>
            <a:chExt cx="1371600" cy="64800"/>
          </a:xfrm>
        </p:grpSpPr>
        <p:sp>
          <p:nvSpPr>
            <p:cNvPr id="789" name=""/>
            <p:cNvSpPr/>
            <p:nvPr/>
          </p:nvSpPr>
          <p:spPr>
            <a:xfrm>
              <a:off x="7324560" y="4141800"/>
              <a:ext cx="13096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262640" y="4121280"/>
              <a:ext cx="65160" cy="6480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81" y="0"/>
                  </a:moveTo>
                  <a:lnTo>
                    <a:pt x="0" y="40"/>
                  </a:lnTo>
                  <a:lnTo>
                    <a:pt x="81" y="8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781680" y="1660680"/>
            <a:ext cx="47880" cy="4572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759720" y="1638360"/>
            <a:ext cx="918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781680" y="1660680"/>
            <a:ext cx="47880" cy="4572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759720" y="1638360"/>
            <a:ext cx="918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919920" y="5045040"/>
            <a:ext cx="46080" cy="460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96160" y="5022720"/>
            <a:ext cx="936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919920" y="5045040"/>
            <a:ext cx="46080" cy="460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96160" y="5022720"/>
            <a:ext cx="936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507000" y="2941560"/>
            <a:ext cx="47880" cy="460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485040" y="2917800"/>
            <a:ext cx="9180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507000" y="2941560"/>
            <a:ext cx="47880" cy="460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485040" y="2917800"/>
            <a:ext cx="9180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8612280" y="4130640"/>
            <a:ext cx="46080" cy="460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8589960" y="4106880"/>
            <a:ext cx="9216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8612280" y="4130640"/>
            <a:ext cx="46080" cy="460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8589960" y="4106880"/>
            <a:ext cx="9216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935680" y="860400"/>
            <a:ext cx="3668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005880" y="893880"/>
            <a:ext cx="1548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935680" y="1135080"/>
            <a:ext cx="3207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06600" y="1168560"/>
            <a:ext cx="162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896160" y="2141640"/>
            <a:ext cx="412560" cy="318960"/>
          </a:xfrm>
          <a:custGeom>
            <a:avLst/>
            <a:gdLst/>
            <a:ahLst/>
            <a:rect l="l" t="t" r="r" b="b"/>
            <a:pathLst>
              <a:path w="518" h="403">
                <a:moveTo>
                  <a:pt x="67" y="0"/>
                </a:moveTo>
                <a:lnTo>
                  <a:pt x="54" y="1"/>
                </a:lnTo>
                <a:lnTo>
                  <a:pt x="40" y="5"/>
                </a:lnTo>
                <a:lnTo>
                  <a:pt x="30" y="12"/>
                </a:lnTo>
                <a:lnTo>
                  <a:pt x="19" y="19"/>
                </a:lnTo>
                <a:lnTo>
                  <a:pt x="12" y="30"/>
                </a:lnTo>
                <a:lnTo>
                  <a:pt x="4" y="41"/>
                </a:lnTo>
                <a:lnTo>
                  <a:pt x="1" y="54"/>
                </a:lnTo>
                <a:lnTo>
                  <a:pt x="0" y="67"/>
                </a:lnTo>
                <a:lnTo>
                  <a:pt x="0" y="336"/>
                </a:lnTo>
                <a:lnTo>
                  <a:pt x="1" y="349"/>
                </a:lnTo>
                <a:lnTo>
                  <a:pt x="4" y="363"/>
                </a:lnTo>
                <a:lnTo>
                  <a:pt x="12" y="373"/>
                </a:lnTo>
                <a:lnTo>
                  <a:pt x="19" y="384"/>
                </a:lnTo>
                <a:lnTo>
                  <a:pt x="30" y="391"/>
                </a:lnTo>
                <a:lnTo>
                  <a:pt x="40" y="399"/>
                </a:lnTo>
                <a:lnTo>
                  <a:pt x="54" y="402"/>
                </a:lnTo>
                <a:lnTo>
                  <a:pt x="67" y="403"/>
                </a:lnTo>
                <a:lnTo>
                  <a:pt x="451" y="403"/>
                </a:lnTo>
                <a:lnTo>
                  <a:pt x="464" y="402"/>
                </a:lnTo>
                <a:lnTo>
                  <a:pt x="477" y="399"/>
                </a:lnTo>
                <a:lnTo>
                  <a:pt x="488" y="391"/>
                </a:lnTo>
                <a:lnTo>
                  <a:pt x="499" y="384"/>
                </a:lnTo>
                <a:lnTo>
                  <a:pt x="506" y="373"/>
                </a:lnTo>
                <a:lnTo>
                  <a:pt x="514" y="363"/>
                </a:lnTo>
                <a:lnTo>
                  <a:pt x="517" y="349"/>
                </a:lnTo>
                <a:lnTo>
                  <a:pt x="518" y="336"/>
                </a:lnTo>
                <a:lnTo>
                  <a:pt x="518" y="67"/>
                </a:lnTo>
                <a:lnTo>
                  <a:pt x="517" y="54"/>
                </a:lnTo>
                <a:lnTo>
                  <a:pt x="514" y="41"/>
                </a:lnTo>
                <a:lnTo>
                  <a:pt x="506" y="30"/>
                </a:lnTo>
                <a:lnTo>
                  <a:pt x="499" y="19"/>
                </a:lnTo>
                <a:lnTo>
                  <a:pt x="488" y="12"/>
                </a:lnTo>
                <a:lnTo>
                  <a:pt x="477" y="5"/>
                </a:lnTo>
                <a:lnTo>
                  <a:pt x="464" y="1"/>
                </a:lnTo>
                <a:lnTo>
                  <a:pt x="451" y="0"/>
                </a:lnTo>
                <a:lnTo>
                  <a:pt x="67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048440" y="219708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059240" y="2306520"/>
            <a:ext cx="1468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un.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6485040" y="2247840"/>
            <a:ext cx="411120" cy="60480"/>
            <a:chOff x="6485040" y="2247840"/>
            <a:chExt cx="411120" cy="60480"/>
          </a:xfrm>
        </p:grpSpPr>
        <p:sp>
          <p:nvSpPr>
            <p:cNvPr id="815" name=""/>
            <p:cNvSpPr/>
            <p:nvPr/>
          </p:nvSpPr>
          <p:spPr>
            <a:xfrm flipH="1">
              <a:off x="6541920" y="2278080"/>
              <a:ext cx="354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485040" y="2247840"/>
              <a:ext cx="60120" cy="6048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76" y="0"/>
                  </a:moveTo>
                  <a:lnTo>
                    <a:pt x="0" y="37"/>
                  </a:lnTo>
                  <a:lnTo>
                    <a:pt x="76" y="74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5994360" y="2049480"/>
            <a:ext cx="843120" cy="925560"/>
            <a:chOff x="5994360" y="2049480"/>
            <a:chExt cx="843120" cy="925560"/>
          </a:xfrm>
        </p:grpSpPr>
        <p:sp>
          <p:nvSpPr>
            <p:cNvPr id="818" name=""/>
            <p:cNvSpPr/>
            <p:nvPr/>
          </p:nvSpPr>
          <p:spPr>
            <a:xfrm>
              <a:off x="6016680" y="2111400"/>
              <a:ext cx="799920" cy="863640"/>
            </a:xfrm>
            <a:custGeom>
              <a:avLst/>
              <a:gdLst/>
              <a:ahLst/>
              <a:rect l="l" t="t" r="r" b="b"/>
              <a:pathLst>
                <a:path w="1009" h="1089">
                  <a:moveTo>
                    <a:pt x="29" y="979"/>
                  </a:moveTo>
                  <a:lnTo>
                    <a:pt x="0" y="979"/>
                  </a:lnTo>
                  <a:lnTo>
                    <a:pt x="0" y="1074"/>
                  </a:lnTo>
                  <a:lnTo>
                    <a:pt x="0" y="1074"/>
                  </a:lnTo>
                  <a:lnTo>
                    <a:pt x="1" y="1080"/>
                  </a:lnTo>
                  <a:lnTo>
                    <a:pt x="5" y="1084"/>
                  </a:lnTo>
                  <a:lnTo>
                    <a:pt x="9" y="1087"/>
                  </a:lnTo>
                  <a:lnTo>
                    <a:pt x="15" y="1089"/>
                  </a:lnTo>
                  <a:lnTo>
                    <a:pt x="994" y="1089"/>
                  </a:lnTo>
                  <a:lnTo>
                    <a:pt x="994" y="1089"/>
                  </a:lnTo>
                  <a:lnTo>
                    <a:pt x="1000" y="1087"/>
                  </a:lnTo>
                  <a:lnTo>
                    <a:pt x="1004" y="1084"/>
                  </a:lnTo>
                  <a:lnTo>
                    <a:pt x="1008" y="1080"/>
                  </a:lnTo>
                  <a:lnTo>
                    <a:pt x="1009" y="1074"/>
                  </a:lnTo>
                  <a:lnTo>
                    <a:pt x="1009" y="0"/>
                  </a:lnTo>
                  <a:lnTo>
                    <a:pt x="980" y="0"/>
                  </a:lnTo>
                  <a:lnTo>
                    <a:pt x="980" y="1074"/>
                  </a:lnTo>
                  <a:lnTo>
                    <a:pt x="994" y="1060"/>
                  </a:lnTo>
                  <a:lnTo>
                    <a:pt x="988" y="1061"/>
                  </a:lnTo>
                  <a:lnTo>
                    <a:pt x="985" y="1065"/>
                  </a:lnTo>
                  <a:lnTo>
                    <a:pt x="981" y="1068"/>
                  </a:lnTo>
                  <a:lnTo>
                    <a:pt x="980" y="1074"/>
                  </a:lnTo>
                  <a:lnTo>
                    <a:pt x="994" y="1074"/>
                  </a:lnTo>
                  <a:lnTo>
                    <a:pt x="994" y="1060"/>
                  </a:lnTo>
                  <a:lnTo>
                    <a:pt x="15" y="1060"/>
                  </a:lnTo>
                  <a:lnTo>
                    <a:pt x="29" y="1074"/>
                  </a:lnTo>
                  <a:lnTo>
                    <a:pt x="28" y="1068"/>
                  </a:lnTo>
                  <a:lnTo>
                    <a:pt x="24" y="1065"/>
                  </a:lnTo>
                  <a:lnTo>
                    <a:pt x="21" y="1061"/>
                  </a:lnTo>
                  <a:lnTo>
                    <a:pt x="15" y="1074"/>
                  </a:lnTo>
                  <a:lnTo>
                    <a:pt x="29" y="1074"/>
                  </a:lnTo>
                  <a:lnTo>
                    <a:pt x="29" y="9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994360" y="2827440"/>
              <a:ext cx="65160" cy="651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81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772320" y="2049480"/>
              <a:ext cx="65160" cy="651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81" y="82"/>
                  </a:moveTo>
                  <a:lnTo>
                    <a:pt x="40" y="0"/>
                  </a:lnTo>
                  <a:lnTo>
                    <a:pt x="0" y="82"/>
                  </a:lnTo>
                  <a:lnTo>
                    <a:pt x="8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5765760" y="5937120"/>
            <a:ext cx="65160" cy="136800"/>
            <a:chOff x="5765760" y="5937120"/>
            <a:chExt cx="65160" cy="136800"/>
          </a:xfrm>
        </p:grpSpPr>
        <p:sp>
          <p:nvSpPr>
            <p:cNvPr id="822" name=""/>
            <p:cNvSpPr/>
            <p:nvPr/>
          </p:nvSpPr>
          <p:spPr>
            <a:xfrm>
              <a:off x="5788080" y="5999040"/>
              <a:ext cx="22320" cy="7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765760" y="5937120"/>
              <a:ext cx="65160" cy="651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81" y="82"/>
                  </a:moveTo>
                  <a:lnTo>
                    <a:pt x="40" y="0"/>
                  </a:lnTo>
                  <a:lnTo>
                    <a:pt x="0" y="82"/>
                  </a:lnTo>
                  <a:lnTo>
                    <a:pt x="8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4425840" y="5357880"/>
            <a:ext cx="4366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511160" y="5391000"/>
            <a:ext cx="33912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25840" y="4030560"/>
            <a:ext cx="5508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512240" y="4064040"/>
            <a:ext cx="45792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425840" y="2705040"/>
            <a:ext cx="5796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512600" y="2738520"/>
            <a:ext cx="4852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25840" y="1195560"/>
            <a:ext cx="5778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511160" y="1228680"/>
            <a:ext cx="4852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25840" y="152280"/>
            <a:ext cx="728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512600" y="185760"/>
            <a:ext cx="63936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ite back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838760" y="493560"/>
            <a:ext cx="274680" cy="230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906080" y="558720"/>
            <a:ext cx="2109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5002200" y="723960"/>
            <a:ext cx="38160" cy="1143000"/>
            <a:chOff x="5002200" y="723960"/>
            <a:chExt cx="38160" cy="1143000"/>
          </a:xfrm>
        </p:grpSpPr>
        <p:sp>
          <p:nvSpPr>
            <p:cNvPr id="837" name=""/>
            <p:cNvSpPr/>
            <p:nvPr/>
          </p:nvSpPr>
          <p:spPr>
            <a:xfrm flipV="1">
              <a:off x="5021280" y="758880"/>
              <a:ext cx="1440" cy="1108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002200" y="723960"/>
              <a:ext cx="38160" cy="381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49"/>
                  </a:moveTo>
                  <a:lnTo>
                    <a:pt x="24" y="0"/>
                  </a:lnTo>
                  <a:lnTo>
                    <a:pt x="0" y="49"/>
                  </a:lnTo>
                  <a:lnTo>
                    <a:pt x="4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073920" y="1671480"/>
            <a:ext cx="2481120" cy="4069080"/>
            <a:chOff x="6073920" y="1671480"/>
            <a:chExt cx="2481120" cy="4069080"/>
          </a:xfrm>
        </p:grpSpPr>
        <p:sp>
          <p:nvSpPr>
            <p:cNvPr id="840" name=""/>
            <p:cNvSpPr/>
            <p:nvPr/>
          </p:nvSpPr>
          <p:spPr>
            <a:xfrm>
              <a:off x="6135840" y="1671480"/>
              <a:ext cx="2419200" cy="4048200"/>
            </a:xfrm>
            <a:custGeom>
              <a:avLst/>
              <a:gdLst/>
              <a:ahLst/>
              <a:rect l="l" t="t" r="r" b="b"/>
              <a:pathLst>
                <a:path w="3049" h="5099">
                  <a:moveTo>
                    <a:pt x="844" y="0"/>
                  </a:moveTo>
                  <a:lnTo>
                    <a:pt x="844" y="28"/>
                  </a:lnTo>
                  <a:lnTo>
                    <a:pt x="3034" y="28"/>
                  </a:lnTo>
                  <a:lnTo>
                    <a:pt x="3034" y="14"/>
                  </a:lnTo>
                  <a:lnTo>
                    <a:pt x="3020" y="14"/>
                  </a:lnTo>
                  <a:lnTo>
                    <a:pt x="3021" y="20"/>
                  </a:lnTo>
                  <a:lnTo>
                    <a:pt x="3025" y="24"/>
                  </a:lnTo>
                  <a:lnTo>
                    <a:pt x="3028" y="27"/>
                  </a:lnTo>
                  <a:lnTo>
                    <a:pt x="3020" y="14"/>
                  </a:lnTo>
                  <a:lnTo>
                    <a:pt x="3020" y="5084"/>
                  </a:lnTo>
                  <a:lnTo>
                    <a:pt x="3034" y="5084"/>
                  </a:lnTo>
                  <a:lnTo>
                    <a:pt x="3034" y="5070"/>
                  </a:lnTo>
                  <a:lnTo>
                    <a:pt x="3028" y="5071"/>
                  </a:lnTo>
                  <a:lnTo>
                    <a:pt x="3025" y="5075"/>
                  </a:lnTo>
                  <a:lnTo>
                    <a:pt x="3021" y="5078"/>
                  </a:lnTo>
                  <a:lnTo>
                    <a:pt x="3034" y="5070"/>
                  </a:lnTo>
                  <a:lnTo>
                    <a:pt x="0" y="5070"/>
                  </a:lnTo>
                  <a:lnTo>
                    <a:pt x="0" y="5099"/>
                  </a:lnTo>
                  <a:lnTo>
                    <a:pt x="3034" y="5099"/>
                  </a:lnTo>
                  <a:lnTo>
                    <a:pt x="3034" y="5099"/>
                  </a:lnTo>
                  <a:lnTo>
                    <a:pt x="3040" y="5098"/>
                  </a:lnTo>
                  <a:lnTo>
                    <a:pt x="3044" y="5094"/>
                  </a:lnTo>
                  <a:lnTo>
                    <a:pt x="3048" y="5090"/>
                  </a:lnTo>
                  <a:lnTo>
                    <a:pt x="3049" y="5084"/>
                  </a:lnTo>
                  <a:lnTo>
                    <a:pt x="3049" y="5084"/>
                  </a:lnTo>
                  <a:lnTo>
                    <a:pt x="3049" y="14"/>
                  </a:lnTo>
                  <a:lnTo>
                    <a:pt x="3049" y="14"/>
                  </a:lnTo>
                  <a:lnTo>
                    <a:pt x="3048" y="8"/>
                  </a:lnTo>
                  <a:lnTo>
                    <a:pt x="3044" y="4"/>
                  </a:lnTo>
                  <a:lnTo>
                    <a:pt x="3040" y="1"/>
                  </a:lnTo>
                  <a:lnTo>
                    <a:pt x="3034" y="0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073920" y="5675400"/>
              <a:ext cx="63360" cy="6516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82" y="0"/>
                  </a:moveTo>
                  <a:lnTo>
                    <a:pt x="0" y="40"/>
                  </a:lnTo>
                  <a:lnTo>
                    <a:pt x="82" y="8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5799240" y="5479920"/>
            <a:ext cx="1176120" cy="101880"/>
            <a:chOff x="5799240" y="5479920"/>
            <a:chExt cx="1176120" cy="101880"/>
          </a:xfrm>
        </p:grpSpPr>
        <p:sp>
          <p:nvSpPr>
            <p:cNvPr id="843" name=""/>
            <p:cNvSpPr/>
            <p:nvPr/>
          </p:nvSpPr>
          <p:spPr>
            <a:xfrm>
              <a:off x="5799240" y="5541840"/>
              <a:ext cx="1154160" cy="39960"/>
            </a:xfrm>
            <a:custGeom>
              <a:avLst/>
              <a:gdLst/>
              <a:ahLst/>
              <a:rect l="l" t="t" r="r" b="b"/>
              <a:pathLst>
                <a:path w="1456" h="52">
                  <a:moveTo>
                    <a:pt x="0" y="23"/>
                  </a:moveTo>
                  <a:lnTo>
                    <a:pt x="0" y="52"/>
                  </a:lnTo>
                  <a:lnTo>
                    <a:pt x="1441" y="52"/>
                  </a:lnTo>
                  <a:lnTo>
                    <a:pt x="1441" y="52"/>
                  </a:lnTo>
                  <a:lnTo>
                    <a:pt x="1447" y="51"/>
                  </a:lnTo>
                  <a:lnTo>
                    <a:pt x="1451" y="47"/>
                  </a:lnTo>
                  <a:lnTo>
                    <a:pt x="1454" y="43"/>
                  </a:lnTo>
                  <a:lnTo>
                    <a:pt x="1456" y="37"/>
                  </a:lnTo>
                  <a:lnTo>
                    <a:pt x="1456" y="0"/>
                  </a:lnTo>
                  <a:lnTo>
                    <a:pt x="1427" y="0"/>
                  </a:lnTo>
                  <a:lnTo>
                    <a:pt x="1427" y="37"/>
                  </a:lnTo>
                  <a:lnTo>
                    <a:pt x="1441" y="23"/>
                  </a:lnTo>
                  <a:lnTo>
                    <a:pt x="1435" y="24"/>
                  </a:lnTo>
                  <a:lnTo>
                    <a:pt x="1432" y="28"/>
                  </a:lnTo>
                  <a:lnTo>
                    <a:pt x="1428" y="31"/>
                  </a:lnTo>
                  <a:lnTo>
                    <a:pt x="1427" y="37"/>
                  </a:lnTo>
                  <a:lnTo>
                    <a:pt x="1441" y="37"/>
                  </a:lnTo>
                  <a:lnTo>
                    <a:pt x="1441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910560" y="5479920"/>
              <a:ext cx="64800" cy="637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82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45" name=""/>
          <p:cNvSpPr/>
          <p:nvPr/>
        </p:nvSpPr>
        <p:spPr>
          <a:xfrm>
            <a:off x="6759720" y="714240"/>
            <a:ext cx="4586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829200" y="747720"/>
            <a:ext cx="2779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ta out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805440" y="1290600"/>
            <a:ext cx="4129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874200" y="1324080"/>
            <a:ext cx="2307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ta in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759720" y="4052880"/>
            <a:ext cx="183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841080" y="408636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988320" y="4052880"/>
            <a:ext cx="183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069680" y="408636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124760" y="4106880"/>
            <a:ext cx="183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200720" y="4141800"/>
            <a:ext cx="648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124760" y="4335480"/>
            <a:ext cx="183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207920" y="437040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7262640" y="3238560"/>
            <a:ext cx="1474920" cy="1176120"/>
            <a:chOff x="7262640" y="3238560"/>
            <a:chExt cx="1474920" cy="1176120"/>
          </a:xfrm>
        </p:grpSpPr>
        <p:sp>
          <p:nvSpPr>
            <p:cNvPr id="858" name=""/>
            <p:cNvSpPr/>
            <p:nvPr/>
          </p:nvSpPr>
          <p:spPr>
            <a:xfrm>
              <a:off x="7324560" y="3238560"/>
              <a:ext cx="1413000" cy="1154160"/>
            </a:xfrm>
            <a:custGeom>
              <a:avLst/>
              <a:gdLst/>
              <a:ahLst/>
              <a:rect l="l" t="t" r="r" b="b"/>
              <a:pathLst>
                <a:path w="1780" h="1455">
                  <a:moveTo>
                    <a:pt x="1780" y="0"/>
                  </a:moveTo>
                  <a:lnTo>
                    <a:pt x="1752" y="0"/>
                  </a:lnTo>
                  <a:lnTo>
                    <a:pt x="1752" y="1440"/>
                  </a:lnTo>
                  <a:lnTo>
                    <a:pt x="1766" y="1440"/>
                  </a:lnTo>
                  <a:lnTo>
                    <a:pt x="1766" y="1426"/>
                  </a:lnTo>
                  <a:lnTo>
                    <a:pt x="1760" y="1427"/>
                  </a:lnTo>
                  <a:lnTo>
                    <a:pt x="1756" y="1431"/>
                  </a:lnTo>
                  <a:lnTo>
                    <a:pt x="1753" y="1434"/>
                  </a:lnTo>
                  <a:lnTo>
                    <a:pt x="1766" y="1426"/>
                  </a:lnTo>
                  <a:lnTo>
                    <a:pt x="0" y="1426"/>
                  </a:lnTo>
                  <a:lnTo>
                    <a:pt x="0" y="1455"/>
                  </a:lnTo>
                  <a:lnTo>
                    <a:pt x="1766" y="1455"/>
                  </a:lnTo>
                  <a:lnTo>
                    <a:pt x="1766" y="1455"/>
                  </a:lnTo>
                  <a:lnTo>
                    <a:pt x="1772" y="1454"/>
                  </a:lnTo>
                  <a:lnTo>
                    <a:pt x="1776" y="1450"/>
                  </a:lnTo>
                  <a:lnTo>
                    <a:pt x="1779" y="1446"/>
                  </a:lnTo>
                  <a:lnTo>
                    <a:pt x="1780" y="1440"/>
                  </a:lnTo>
                  <a:lnTo>
                    <a:pt x="1780" y="1440"/>
                  </a:lnTo>
                  <a:lnTo>
                    <a:pt x="1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62640" y="4349880"/>
              <a:ext cx="65160" cy="6480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81" y="0"/>
                  </a:moveTo>
                  <a:lnTo>
                    <a:pt x="0" y="40"/>
                  </a:lnTo>
                  <a:lnTo>
                    <a:pt x="81" y="8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5775480" y="5548320"/>
            <a:ext cx="47520" cy="460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753160" y="5524560"/>
            <a:ext cx="9216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775480" y="5548320"/>
            <a:ext cx="47520" cy="460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753160" y="5524560"/>
            <a:ext cx="9216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856640" y="1536840"/>
            <a:ext cx="5508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928280" y="1569960"/>
            <a:ext cx="1072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_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8034480" y="1569960"/>
            <a:ext cx="1486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856640" y="4016520"/>
            <a:ext cx="5508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929720" y="4049640"/>
            <a:ext cx="115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_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046000" y="4049640"/>
            <a:ext cx="162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856640" y="4245120"/>
            <a:ext cx="5508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929720" y="4278240"/>
            <a:ext cx="115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_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8045640" y="4278240"/>
            <a:ext cx="1486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856640" y="5560920"/>
            <a:ext cx="5508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928280" y="5594400"/>
            <a:ext cx="1072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_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034480" y="5594400"/>
            <a:ext cx="1486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856640" y="5789520"/>
            <a:ext cx="5508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929720" y="5823000"/>
            <a:ext cx="115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_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046000" y="5823000"/>
            <a:ext cx="162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713640" y="3732120"/>
            <a:ext cx="5490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784560" y="3765600"/>
            <a:ext cx="8604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_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869160" y="3765600"/>
            <a:ext cx="1746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valA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42040" y="5479920"/>
            <a:ext cx="5490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12600" y="5513400"/>
            <a:ext cx="1699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_PC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353360" y="4930920"/>
            <a:ext cx="549360" cy="320400"/>
          </a:xfrm>
          <a:custGeom>
            <a:avLst/>
            <a:gdLst/>
            <a:ahLst/>
            <a:rect l="l" t="t" r="r" b="b"/>
            <a:pathLst>
              <a:path w="692" h="403">
                <a:moveTo>
                  <a:pt x="67" y="0"/>
                </a:moveTo>
                <a:lnTo>
                  <a:pt x="54" y="1"/>
                </a:lnTo>
                <a:lnTo>
                  <a:pt x="41" y="5"/>
                </a:lnTo>
                <a:lnTo>
                  <a:pt x="30" y="12"/>
                </a:lnTo>
                <a:lnTo>
                  <a:pt x="19" y="19"/>
                </a:lnTo>
                <a:lnTo>
                  <a:pt x="12" y="30"/>
                </a:lnTo>
                <a:lnTo>
                  <a:pt x="5" y="41"/>
                </a:lnTo>
                <a:lnTo>
                  <a:pt x="1" y="54"/>
                </a:lnTo>
                <a:lnTo>
                  <a:pt x="0" y="67"/>
                </a:lnTo>
                <a:lnTo>
                  <a:pt x="0" y="336"/>
                </a:lnTo>
                <a:lnTo>
                  <a:pt x="1" y="349"/>
                </a:lnTo>
                <a:lnTo>
                  <a:pt x="5" y="362"/>
                </a:lnTo>
                <a:lnTo>
                  <a:pt x="12" y="373"/>
                </a:lnTo>
                <a:lnTo>
                  <a:pt x="19" y="384"/>
                </a:lnTo>
                <a:lnTo>
                  <a:pt x="30" y="391"/>
                </a:lnTo>
                <a:lnTo>
                  <a:pt x="41" y="398"/>
                </a:lnTo>
                <a:lnTo>
                  <a:pt x="54" y="402"/>
                </a:lnTo>
                <a:lnTo>
                  <a:pt x="67" y="403"/>
                </a:lnTo>
                <a:lnTo>
                  <a:pt x="624" y="403"/>
                </a:lnTo>
                <a:lnTo>
                  <a:pt x="638" y="402"/>
                </a:lnTo>
                <a:lnTo>
                  <a:pt x="651" y="398"/>
                </a:lnTo>
                <a:lnTo>
                  <a:pt x="662" y="391"/>
                </a:lnTo>
                <a:lnTo>
                  <a:pt x="672" y="384"/>
                </a:lnTo>
                <a:lnTo>
                  <a:pt x="680" y="373"/>
                </a:lnTo>
                <a:lnTo>
                  <a:pt x="687" y="362"/>
                </a:lnTo>
                <a:lnTo>
                  <a:pt x="690" y="349"/>
                </a:lnTo>
                <a:lnTo>
                  <a:pt x="692" y="336"/>
                </a:lnTo>
                <a:lnTo>
                  <a:pt x="692" y="67"/>
                </a:lnTo>
                <a:lnTo>
                  <a:pt x="690" y="54"/>
                </a:lnTo>
                <a:lnTo>
                  <a:pt x="687" y="41"/>
                </a:lnTo>
                <a:lnTo>
                  <a:pt x="680" y="30"/>
                </a:lnTo>
                <a:lnTo>
                  <a:pt x="672" y="19"/>
                </a:lnTo>
                <a:lnTo>
                  <a:pt x="662" y="12"/>
                </a:lnTo>
                <a:lnTo>
                  <a:pt x="651" y="5"/>
                </a:lnTo>
                <a:lnTo>
                  <a:pt x="638" y="1"/>
                </a:lnTo>
                <a:lnTo>
                  <a:pt x="624" y="0"/>
                </a:lnTo>
                <a:lnTo>
                  <a:pt x="67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530840" y="4986360"/>
            <a:ext cx="27504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594920" y="5095800"/>
            <a:ext cx="1242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049800" y="4952880"/>
            <a:ext cx="47880" cy="478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27840" y="4930920"/>
            <a:ext cx="91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49800" y="4952880"/>
            <a:ext cx="47880" cy="478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027840" y="4930920"/>
            <a:ext cx="91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935680" y="493560"/>
            <a:ext cx="550800" cy="230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155640" y="55872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485040" y="493560"/>
            <a:ext cx="549000" cy="230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701040" y="558720"/>
            <a:ext cx="186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308720" y="493560"/>
            <a:ext cx="274680" cy="230400"/>
          </a:xfrm>
          <a:prstGeom prst="rect">
            <a:avLst/>
          </a:prstGeom>
          <a:solidFill>
            <a:srgbClr val="ff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388280" y="558720"/>
            <a:ext cx="177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t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583400" y="493560"/>
            <a:ext cx="274680" cy="230400"/>
          </a:xfrm>
          <a:prstGeom prst="rect">
            <a:avLst/>
          </a:prstGeom>
          <a:solidFill>
            <a:srgbClr val="ff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659360" y="558720"/>
            <a:ext cx="1911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tM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386320" y="1820880"/>
            <a:ext cx="27612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478840" y="1884240"/>
            <a:ext cx="1530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ch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838760" y="1820880"/>
            <a:ext cx="27468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906080" y="1884240"/>
            <a:ext cx="2109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935680" y="1820880"/>
            <a:ext cx="55080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155640" y="188424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485040" y="1820880"/>
            <a:ext cx="54900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705000" y="188424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308720" y="1820880"/>
            <a:ext cx="274680" cy="230040"/>
          </a:xfrm>
          <a:prstGeom prst="rect">
            <a:avLst/>
          </a:prstGeom>
          <a:solidFill>
            <a:srgbClr val="ff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388280" y="1884240"/>
            <a:ext cx="177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t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583400" y="1820880"/>
            <a:ext cx="274680" cy="230040"/>
          </a:xfrm>
          <a:prstGeom prst="rect">
            <a:avLst/>
          </a:prstGeom>
          <a:solidFill>
            <a:srgbClr val="ff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659360" y="1884240"/>
            <a:ext cx="1911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tM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067520" y="3056040"/>
            <a:ext cx="237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838760" y="3375000"/>
            <a:ext cx="27468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06080" y="3440160"/>
            <a:ext cx="2109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111640" y="3375000"/>
            <a:ext cx="27648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209560" y="3440160"/>
            <a:ext cx="1425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fun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661000" y="3375000"/>
            <a:ext cx="55080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881320" y="3440160"/>
            <a:ext cx="177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210360" y="3375000"/>
            <a:ext cx="54936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430320" y="344016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759720" y="3375000"/>
            <a:ext cx="54900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979680" y="344016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B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308720" y="3375000"/>
            <a:ext cx="274680" cy="230040"/>
          </a:xfrm>
          <a:prstGeom prst="rect">
            <a:avLst/>
          </a:prstGeom>
          <a:solidFill>
            <a:srgbClr val="ff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388280" y="3440160"/>
            <a:ext cx="177480" cy="961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t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583400" y="3375000"/>
            <a:ext cx="274680" cy="230040"/>
          </a:xfrm>
          <a:prstGeom prst="rect">
            <a:avLst/>
          </a:prstGeom>
          <a:solidFill>
            <a:srgbClr val="ff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59360" y="3440160"/>
            <a:ext cx="191160" cy="961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tM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856640" y="3375000"/>
            <a:ext cx="27612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937640" y="3440160"/>
            <a:ext cx="177480" cy="9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cA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8131320" y="3375000"/>
            <a:ext cx="27612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8211960" y="3440160"/>
            <a:ext cx="177480" cy="9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cB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935680" y="4656240"/>
            <a:ext cx="55080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155640" y="4719600"/>
            <a:ext cx="177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759720" y="4656240"/>
            <a:ext cx="54900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979680" y="471960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P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838760" y="4656240"/>
            <a:ext cx="27468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906080" y="4719600"/>
            <a:ext cx="2109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111640" y="4656240"/>
            <a:ext cx="27648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09560" y="4719600"/>
            <a:ext cx="1425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fun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86320" y="4656240"/>
            <a:ext cx="27612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506920" y="4719600"/>
            <a:ext cx="892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A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524560" y="6027840"/>
            <a:ext cx="54936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689800" y="6093000"/>
            <a:ext cx="29952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edPC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4421160" y="1592280"/>
            <a:ext cx="4361040" cy="4184640"/>
            <a:chOff x="4421160" y="1592280"/>
            <a:chExt cx="4361040" cy="4184640"/>
          </a:xfrm>
        </p:grpSpPr>
        <p:sp>
          <p:nvSpPr>
            <p:cNvPr id="943" name=""/>
            <p:cNvSpPr/>
            <p:nvPr/>
          </p:nvSpPr>
          <p:spPr>
            <a:xfrm>
              <a:off x="6188040" y="1752480"/>
              <a:ext cx="46080" cy="460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164280" y="1728720"/>
              <a:ext cx="9216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188040" y="1752480"/>
              <a:ext cx="46080" cy="460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164280" y="1728720"/>
              <a:ext cx="9216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47" name=""/>
            <p:cNvGrpSpPr/>
            <p:nvPr/>
          </p:nvGrpSpPr>
          <p:grpSpPr>
            <a:xfrm>
              <a:off x="6496200" y="2825640"/>
              <a:ext cx="595080" cy="230400"/>
              <a:chOff x="6496200" y="2825640"/>
              <a:chExt cx="595080" cy="230400"/>
            </a:xfrm>
          </p:grpSpPr>
          <p:sp>
            <p:nvSpPr>
              <p:cNvPr id="948" name=""/>
              <p:cNvSpPr/>
              <p:nvPr/>
            </p:nvSpPr>
            <p:spPr>
              <a:xfrm>
                <a:off x="6516720" y="2887560"/>
                <a:ext cx="574560" cy="168480"/>
              </a:xfrm>
              <a:custGeom>
                <a:avLst/>
                <a:gdLst/>
                <a:ahLst/>
                <a:rect l="l" t="t" r="r" b="b"/>
                <a:pathLst>
                  <a:path w="724" h="213">
                    <a:moveTo>
                      <a:pt x="695" y="213"/>
                    </a:moveTo>
                    <a:lnTo>
                      <a:pt x="724" y="213"/>
                    </a:lnTo>
                    <a:lnTo>
                      <a:pt x="724" y="38"/>
                    </a:lnTo>
                    <a:lnTo>
                      <a:pt x="724" y="38"/>
                    </a:lnTo>
                    <a:lnTo>
                      <a:pt x="722" y="32"/>
                    </a:lnTo>
                    <a:lnTo>
                      <a:pt x="719" y="29"/>
                    </a:lnTo>
                    <a:lnTo>
                      <a:pt x="715" y="25"/>
                    </a:lnTo>
                    <a:lnTo>
                      <a:pt x="709" y="24"/>
                    </a:lnTo>
                    <a:lnTo>
                      <a:pt x="14" y="24"/>
                    </a:lnTo>
                    <a:lnTo>
                      <a:pt x="14" y="38"/>
                    </a:lnTo>
                    <a:lnTo>
                      <a:pt x="28" y="38"/>
                    </a:lnTo>
                    <a:lnTo>
                      <a:pt x="27" y="32"/>
                    </a:lnTo>
                    <a:lnTo>
                      <a:pt x="24" y="29"/>
                    </a:lnTo>
                    <a:lnTo>
                      <a:pt x="20" y="25"/>
                    </a:lnTo>
                    <a:lnTo>
                      <a:pt x="28" y="38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" y="44"/>
                    </a:lnTo>
                    <a:lnTo>
                      <a:pt x="4" y="48"/>
                    </a:lnTo>
                    <a:lnTo>
                      <a:pt x="8" y="52"/>
                    </a:lnTo>
                    <a:lnTo>
                      <a:pt x="14" y="53"/>
                    </a:lnTo>
                    <a:lnTo>
                      <a:pt x="709" y="53"/>
                    </a:lnTo>
                    <a:lnTo>
                      <a:pt x="695" y="38"/>
                    </a:lnTo>
                    <a:lnTo>
                      <a:pt x="696" y="44"/>
                    </a:lnTo>
                    <a:lnTo>
                      <a:pt x="700" y="48"/>
                    </a:lnTo>
                    <a:lnTo>
                      <a:pt x="703" y="52"/>
                    </a:lnTo>
                    <a:lnTo>
                      <a:pt x="709" y="38"/>
                    </a:lnTo>
                    <a:lnTo>
                      <a:pt x="695" y="38"/>
                    </a:lnTo>
                    <a:lnTo>
                      <a:pt x="695" y="2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496200" y="2825640"/>
                <a:ext cx="63360" cy="637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82" y="82"/>
                    </a:moveTo>
                    <a:lnTo>
                      <a:pt x="41" y="0"/>
                    </a:lnTo>
                    <a:lnTo>
                      <a:pt x="0" y="82"/>
                    </a:lnTo>
                    <a:lnTo>
                      <a:pt x="8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8510760" y="2414520"/>
              <a:ext cx="64800" cy="138240"/>
              <a:chOff x="8510760" y="2414520"/>
              <a:chExt cx="64800" cy="138240"/>
            </a:xfrm>
          </p:grpSpPr>
          <p:sp>
            <p:nvSpPr>
              <p:cNvPr id="951" name=""/>
              <p:cNvSpPr/>
              <p:nvPr/>
            </p:nvSpPr>
            <p:spPr>
              <a:xfrm>
                <a:off x="8532720" y="2414520"/>
                <a:ext cx="22320" cy="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8510760" y="2487600"/>
                <a:ext cx="64800" cy="65160"/>
              </a:xfrm>
              <a:custGeom>
                <a:avLst/>
                <a:gdLst/>
                <a:ahLst/>
                <a:rect l="l" t="t" r="r" b="b"/>
                <a:pathLst>
                  <a:path w="81" h="82">
                    <a:moveTo>
                      <a:pt x="0" y="0"/>
                    </a:moveTo>
                    <a:lnTo>
                      <a:pt x="40" y="82"/>
                    </a:lnTo>
                    <a:lnTo>
                      <a:pt x="8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8602560" y="2414520"/>
              <a:ext cx="65160" cy="138240"/>
              <a:chOff x="8602560" y="2414520"/>
              <a:chExt cx="65160" cy="138240"/>
            </a:xfrm>
          </p:grpSpPr>
          <p:sp>
            <p:nvSpPr>
              <p:cNvPr id="954" name=""/>
              <p:cNvSpPr/>
              <p:nvPr/>
            </p:nvSpPr>
            <p:spPr>
              <a:xfrm>
                <a:off x="8623440" y="2414520"/>
                <a:ext cx="23760" cy="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602560" y="2487600"/>
                <a:ext cx="65160" cy="6516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0"/>
                    </a:moveTo>
                    <a:lnTo>
                      <a:pt x="41" y="82"/>
                    </a:lnTo>
                    <a:lnTo>
                      <a:pt x="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8694720" y="2414520"/>
              <a:ext cx="63360" cy="138240"/>
              <a:chOff x="8694720" y="2414520"/>
              <a:chExt cx="63360" cy="138240"/>
            </a:xfrm>
          </p:grpSpPr>
          <p:sp>
            <p:nvSpPr>
              <p:cNvPr id="957" name=""/>
              <p:cNvSpPr/>
              <p:nvPr/>
            </p:nvSpPr>
            <p:spPr>
              <a:xfrm>
                <a:off x="8715240" y="2414520"/>
                <a:ext cx="22320" cy="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8694720" y="2487600"/>
                <a:ext cx="63360" cy="6516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0"/>
                    </a:moveTo>
                    <a:lnTo>
                      <a:pt x="41" y="82"/>
                    </a:lnTo>
                    <a:lnTo>
                      <a:pt x="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59" name=""/>
            <p:cNvSpPr/>
            <p:nvPr/>
          </p:nvSpPr>
          <p:spPr>
            <a:xfrm>
              <a:off x="5519160" y="2305080"/>
              <a:ext cx="14688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398920" y="2244600"/>
              <a:ext cx="325440" cy="235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386320" y="2232000"/>
              <a:ext cx="322200" cy="23004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505120" y="2289240"/>
              <a:ext cx="14688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5500800" y="2049480"/>
              <a:ext cx="47520" cy="189000"/>
              <a:chOff x="5500800" y="2049480"/>
              <a:chExt cx="47520" cy="189000"/>
            </a:xfrm>
          </p:grpSpPr>
          <p:sp>
            <p:nvSpPr>
              <p:cNvPr id="964" name=""/>
              <p:cNvSpPr/>
              <p:nvPr/>
            </p:nvSpPr>
            <p:spPr>
              <a:xfrm>
                <a:off x="5518080" y="22273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7"/>
                    </a:moveTo>
                    <a:lnTo>
                      <a:pt x="3" y="12"/>
                    </a:lnTo>
                    <a:lnTo>
                      <a:pt x="5" y="13"/>
                    </a:lnTo>
                    <a:lnTo>
                      <a:pt x="8" y="15"/>
                    </a:lnTo>
                    <a:lnTo>
                      <a:pt x="10" y="13"/>
                    </a:lnTo>
                    <a:lnTo>
                      <a:pt x="12" y="12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2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518080" y="22035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8"/>
                    </a:moveTo>
                    <a:lnTo>
                      <a:pt x="3" y="12"/>
                    </a:lnTo>
                    <a:lnTo>
                      <a:pt x="5" y="14"/>
                    </a:lnTo>
                    <a:lnTo>
                      <a:pt x="8" y="15"/>
                    </a:lnTo>
                    <a:lnTo>
                      <a:pt x="10" y="14"/>
                    </a:lnTo>
                    <a:lnTo>
                      <a:pt x="12" y="12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2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518080" y="21812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7"/>
                    </a:moveTo>
                    <a:lnTo>
                      <a:pt x="3" y="12"/>
                    </a:lnTo>
                    <a:lnTo>
                      <a:pt x="5" y="13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2" y="12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518080" y="21574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7"/>
                    </a:moveTo>
                    <a:lnTo>
                      <a:pt x="3" y="12"/>
                    </a:lnTo>
                    <a:lnTo>
                      <a:pt x="5" y="13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2" y="12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518080" y="2135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7"/>
                    </a:moveTo>
                    <a:lnTo>
                      <a:pt x="3" y="12"/>
                    </a:lnTo>
                    <a:lnTo>
                      <a:pt x="5" y="13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2" y="12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518080" y="21128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7"/>
                    </a:moveTo>
                    <a:lnTo>
                      <a:pt x="3" y="12"/>
                    </a:lnTo>
                    <a:lnTo>
                      <a:pt x="5" y="13"/>
                    </a:lnTo>
                    <a:lnTo>
                      <a:pt x="8" y="15"/>
                    </a:lnTo>
                    <a:lnTo>
                      <a:pt x="10" y="13"/>
                    </a:lnTo>
                    <a:lnTo>
                      <a:pt x="12" y="12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2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518080" y="20890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8"/>
                    </a:moveTo>
                    <a:lnTo>
                      <a:pt x="3" y="12"/>
                    </a:lnTo>
                    <a:lnTo>
                      <a:pt x="5" y="14"/>
                    </a:lnTo>
                    <a:lnTo>
                      <a:pt x="8" y="15"/>
                    </a:lnTo>
                    <a:lnTo>
                      <a:pt x="10" y="14"/>
                    </a:lnTo>
                    <a:lnTo>
                      <a:pt x="12" y="12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2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500800" y="204948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30" y="0"/>
                    </a:lnTo>
                    <a:lnTo>
                      <a:pt x="0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8231040" y="3603600"/>
              <a:ext cx="551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302320" y="3638520"/>
              <a:ext cx="8604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_</a:t>
              </a:r>
              <a:endParaRPr b="0" lang="en-US" sz="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386560" y="3638520"/>
              <a:ext cx="153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rcB</a:t>
              </a:r>
              <a:endParaRPr b="0" lang="en-US" sz="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959600" y="3603600"/>
              <a:ext cx="551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030880" y="3638520"/>
              <a:ext cx="8604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_</a:t>
              </a:r>
              <a:endParaRPr b="0" lang="en-US" sz="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15120" y="3638520"/>
              <a:ext cx="153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rcA</a:t>
              </a:r>
              <a:endParaRPr b="0" lang="en-US" sz="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524560" y="2049480"/>
              <a:ext cx="5493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595120" y="2082960"/>
              <a:ext cx="21708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_Bch</a:t>
              </a:r>
              <a:endParaRPr b="0" lang="en-US" sz="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4421160" y="1724040"/>
              <a:ext cx="1108080" cy="4052880"/>
              <a:chOff x="4421160" y="1724040"/>
              <a:chExt cx="1108080" cy="4052880"/>
            </a:xfrm>
          </p:grpSpPr>
          <p:grpSp>
            <p:nvGrpSpPr>
              <p:cNvPr id="981" name=""/>
              <p:cNvGrpSpPr/>
              <p:nvPr/>
            </p:nvGrpSpPr>
            <p:grpSpPr>
              <a:xfrm>
                <a:off x="4421160" y="1724040"/>
                <a:ext cx="1108080" cy="3378240"/>
                <a:chOff x="4421160" y="1724040"/>
                <a:chExt cx="1108080" cy="337824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5518080" y="18097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518080" y="178596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5518080" y="17636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5518080" y="17413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551340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54896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54673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544356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4212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3989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3751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353200" y="1724040"/>
                  <a:ext cx="10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329080" y="1724040"/>
                  <a:ext cx="129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3071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28480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2610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52387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2149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1926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516888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51465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5124600" y="1724040"/>
                  <a:ext cx="10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510048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50785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505476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50324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50101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49863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640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494028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49179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4896000" y="1724040"/>
                  <a:ext cx="10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487188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48499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482616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48038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47815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47577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47354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71168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6893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66560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64328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6213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597560" y="1724040"/>
                  <a:ext cx="10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5752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55148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5291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5068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48308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4607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443700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421160" y="172872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421160" y="17524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421160" y="17748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421160" y="17985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421160" y="18208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421160" y="18432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421160" y="18669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421160" y="188928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421160" y="1913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421160" y="19350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421160" y="195732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421160" y="19810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421160" y="20034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421160" y="20271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421160" y="20494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421160" y="20718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4421160" y="20955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4421160" y="211788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4421160" y="21416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4421160" y="21636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4421160" y="218592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4421160" y="22096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4421160" y="22320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4421160" y="22557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421160" y="22780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4421160" y="23004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421160" y="23241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4421160" y="234648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4421160" y="23702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421160" y="23922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421160" y="241452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4421160" y="24382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4421160" y="24606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421160" y="24843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4421160" y="25066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4421160" y="25290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421160" y="25527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421160" y="257508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421160" y="25988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4421160" y="26208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4421160" y="264312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421160" y="26668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421160" y="26892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4421160" y="27129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4421160" y="27352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421160" y="27576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4421160" y="27813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421160" y="28036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421160" y="28274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421160" y="28494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4421160" y="28735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4421160" y="28954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4421160" y="29178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4421160" y="29415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4421160" y="29638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4421160" y="29876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4421160" y="30099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4421160" y="30322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4421160" y="3056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4421160" y="30780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4421160" y="31021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4421160" y="31240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4421160" y="31464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4421160" y="31701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4421160" y="31924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4421160" y="32162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421160" y="32385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4421160" y="32608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421160" y="32846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4421160" y="33066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4421160" y="33307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4421160" y="33526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4421160" y="33750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4421160" y="33987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4421160" y="34210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4421160" y="34448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4421160" y="34671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421160" y="34894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4421160" y="35132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4421160" y="35352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4421160" y="35593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4421160" y="35812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4421160" y="36036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4421160" y="36273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421160" y="36496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4421160" y="36734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4421160" y="36957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4421160" y="37180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4421160" y="37418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4421160" y="37638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4421160" y="37879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4421160" y="38098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4421160" y="38336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4421160" y="38559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4421160" y="38782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4421160" y="3902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4421160" y="39243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4421160" y="39481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421160" y="39704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4421160" y="3992400"/>
                  <a:ext cx="1116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4421160" y="40165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4421160" y="40384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421160" y="40622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421160" y="40845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421160" y="41068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4421160" y="41306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4421160" y="41529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4421160" y="41767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4421160" y="4199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4421160" y="4221000"/>
                  <a:ext cx="1116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421160" y="42451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4421160" y="42670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4421160" y="42908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4421160" y="43131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421160" y="43354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4421160" y="43592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4421160" y="43815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4421160" y="44053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4421160" y="44276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421160" y="4449600"/>
                  <a:ext cx="1116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421160" y="44737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4421160" y="44956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421160" y="45194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4421160" y="45417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421160" y="45640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4421160" y="45878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4421160" y="46101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4421160" y="46339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421160" y="46562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4421160" y="4678200"/>
                  <a:ext cx="1116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4421160" y="47023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421160" y="47242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4421160" y="4748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4421160" y="47703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4421160" y="47926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4421160" y="48164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4421160" y="483876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4421160" y="48625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4421160" y="48848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4421160" y="49086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4421160" y="49309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4421160" y="4952880"/>
                  <a:ext cx="1116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4421160" y="49766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4421160" y="49989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4421160" y="50227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4421160" y="5045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4421160" y="506736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4421160" y="50911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2" name=""/>
              <p:cNvSpPr/>
              <p:nvPr/>
            </p:nvSpPr>
            <p:spPr>
              <a:xfrm>
                <a:off x="4421160" y="51134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421160" y="513720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421160" y="515952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421160" y="5181480"/>
                <a:ext cx="111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421160" y="5205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421160" y="522756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421160" y="5251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21160" y="52736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421160" y="5295960"/>
                <a:ext cx="11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421160" y="53197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421160" y="53420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421160" y="536580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421160" y="538812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421160" y="5410080"/>
                <a:ext cx="111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421160" y="54338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421160" y="545616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421160" y="54799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421160" y="5502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421160" y="5524560"/>
                <a:ext cx="11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421160" y="5548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421160" y="55706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421160" y="559440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421160" y="561672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421160" y="5638680"/>
                <a:ext cx="111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421160" y="56624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421160" y="568476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421160" y="57085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421160" y="57308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42584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4496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47192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494240" y="5748480"/>
                <a:ext cx="126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5180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54032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56408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5864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608360" y="5748480"/>
                <a:ext cx="129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632480" y="5748480"/>
                <a:ext cx="10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65444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6782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70052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72428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7466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768920" y="5748480"/>
                <a:ext cx="126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79268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48150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483876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861080" y="5748480"/>
                <a:ext cx="10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883040" y="5748480"/>
                <a:ext cx="129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9068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92912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95288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9752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997520" y="5748480"/>
                <a:ext cx="126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02128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0436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06736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089680" y="5748480"/>
                <a:ext cx="10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111640" y="5748480"/>
                <a:ext cx="129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1354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15772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18148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2038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226120" y="5748480"/>
                <a:ext cx="126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24988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272200" y="5748480"/>
                <a:ext cx="126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29596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318280" y="5748480"/>
                <a:ext cx="10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34204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3640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386320" y="5748480"/>
                <a:ext cx="126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41008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324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45616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478480" y="5748480"/>
                <a:ext cx="1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477040" y="572940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30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258" name=""/>
            <p:cNvSpPr/>
            <p:nvPr/>
          </p:nvSpPr>
          <p:spPr>
            <a:xfrm>
              <a:off x="5157720" y="1592280"/>
              <a:ext cx="550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229000" y="1625760"/>
              <a:ext cx="23832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_Bch</a:t>
              </a:r>
              <a:endParaRPr b="0" lang="en-US" sz="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60" name=""/>
            <p:cNvGrpSpPr/>
            <p:nvPr/>
          </p:nvGrpSpPr>
          <p:grpSpPr>
            <a:xfrm>
              <a:off x="6040440" y="3603600"/>
              <a:ext cx="65160" cy="1052640"/>
              <a:chOff x="6040440" y="3603600"/>
              <a:chExt cx="65160" cy="1052640"/>
            </a:xfrm>
          </p:grpSpPr>
          <p:sp>
            <p:nvSpPr>
              <p:cNvPr id="1261" name=""/>
              <p:cNvSpPr/>
              <p:nvPr/>
            </p:nvSpPr>
            <p:spPr>
              <a:xfrm>
                <a:off x="6060960" y="3665520"/>
                <a:ext cx="23760" cy="990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040440" y="3603600"/>
                <a:ext cx="65160" cy="6516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82" y="82"/>
                    </a:moveTo>
                    <a:lnTo>
                      <a:pt x="41" y="0"/>
                    </a:lnTo>
                    <a:lnTo>
                      <a:pt x="0" y="82"/>
                    </a:lnTo>
                    <a:lnTo>
                      <a:pt x="8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tecting Stall Condi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85800" y="13716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0: irmovl $10,%ed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5812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0384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4956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9528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4100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8672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3244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7816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2388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3581280" y="1371600"/>
            <a:ext cx="2286000" cy="304920"/>
            <a:chOff x="3581280" y="1371600"/>
            <a:chExt cx="2286000" cy="304920"/>
          </a:xfrm>
        </p:grpSpPr>
        <p:sp>
          <p:nvSpPr>
            <p:cNvPr id="1275" name=""/>
            <p:cNvSpPr/>
            <p:nvPr/>
          </p:nvSpPr>
          <p:spPr>
            <a:xfrm>
              <a:off x="35812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0384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4956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528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4100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80" name=""/>
          <p:cNvSpPr/>
          <p:nvPr/>
        </p:nvSpPr>
        <p:spPr>
          <a:xfrm>
            <a:off x="685800" y="1676520"/>
            <a:ext cx="2590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6: irmovl  $3,%ea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0384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4956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9528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4100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8672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85800" y="19810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c: no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4956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528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4100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8672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3244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5800" y="2590920"/>
            <a:ext cx="2590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5410080" y="2590920"/>
            <a:ext cx="2286000" cy="609480"/>
            <a:chOff x="5410080" y="2590920"/>
            <a:chExt cx="2286000" cy="609480"/>
          </a:xfrm>
        </p:grpSpPr>
        <p:sp>
          <p:nvSpPr>
            <p:cNvPr id="1294" name=""/>
            <p:cNvSpPr/>
            <p:nvPr/>
          </p:nvSpPr>
          <p:spPr>
            <a:xfrm>
              <a:off x="5410080" y="2895840"/>
              <a:ext cx="457200" cy="304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324480" y="2590920"/>
              <a:ext cx="457200" cy="3049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781680" y="2590920"/>
              <a:ext cx="457200" cy="3049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238880" y="2590920"/>
              <a:ext cx="457200" cy="3049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98" name=""/>
          <p:cNvSpPr/>
          <p:nvPr/>
        </p:nvSpPr>
        <p:spPr>
          <a:xfrm>
            <a:off x="685800" y="28954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e: addl %edx,%ea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8672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3244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7816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2388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6960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85800" y="32004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10: ha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3244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7816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2388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6960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81532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76960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5800" y="10666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demo-h2.y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172200" y="2743200"/>
            <a:ext cx="152280" cy="152280"/>
          </a:xfrm>
          <a:custGeom>
            <a:avLst/>
            <a:gdLst/>
            <a:ahLst/>
            <a:rect l="l" t="t" r="r" b="b"/>
            <a:pathLst>
              <a:path w="96" h="240">
                <a:moveTo>
                  <a:pt x="0" y="240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8672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9528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4100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8672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3244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7816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85800" y="22860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d: no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81532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H="1">
            <a:off x="5181120" y="3492360"/>
            <a:ext cx="685800" cy="622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324480" y="3492360"/>
            <a:ext cx="685800" cy="622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5181480" y="3733920"/>
            <a:ext cx="1828800" cy="2971800"/>
            <a:chOff x="5181480" y="3733920"/>
            <a:chExt cx="1828800" cy="2971800"/>
          </a:xfrm>
        </p:grpSpPr>
        <p:sp>
          <p:nvSpPr>
            <p:cNvPr id="1324" name=""/>
            <p:cNvSpPr/>
            <p:nvPr/>
          </p:nvSpPr>
          <p:spPr>
            <a:xfrm>
              <a:off x="5181480" y="373392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ycle 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181480" y="4114800"/>
              <a:ext cx="1828800" cy="9907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181480" y="5715000"/>
              <a:ext cx="1828800" cy="9907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918040" y="5118120"/>
              <a:ext cx="2523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181480" y="4495680"/>
              <a:ext cx="18288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W_dstE = </a:t>
              </a:r>
              <a:r>
                <a:rPr b="1" lang="en-US" sz="1400" spc="-1" strike="noStrike">
                  <a:solidFill>
                    <a:srgbClr val="ff3300"/>
                  </a:solidFill>
                  <a:latin typeface="Courier New"/>
                </a:rPr>
                <a:t>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W_valE = 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181480" y="6095880"/>
              <a:ext cx="12193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srcA = 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srcB = </a:t>
              </a:r>
              <a:r>
                <a:rPr b="1" lang="en-US" sz="1400" spc="-1" strike="noStrike">
                  <a:solidFill>
                    <a:srgbClr val="008000"/>
                  </a:solidFill>
                  <a:latin typeface="Courier New"/>
                </a:rPr>
                <a:t>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3T17:17:57Z</dcterms:created>
  <dc:creator>Randal E. Bryant</dc:creator>
  <dc:description/>
  <dc:language>en-US</dc:language>
  <cp:lastModifiedBy>Randal E. Bryant</cp:lastModifiedBy>
  <cp:lastPrinted>1999-02-26T14:55:35Z</cp:lastPrinted>
  <dcterms:modified xsi:type="dcterms:W3CDTF">2002-06-05T21:23:14Z</dcterms:modified>
  <cp:revision>89</cp:revision>
  <dc:subject>SRC Review Slides</dc:subject>
  <dc:title>Formal Processor Verification</dc:title>
</cp:coreProperties>
</file>