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71B10FF-634A-43CD-97E4-F358A810573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e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ell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he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application program that runs programs on behalf of the us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Original Unix Bourne Shel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SD Unix C Shell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d C Shell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h –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urne-Again Shel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76720"/>
            <a:ext cx="4800600" cy="337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mdline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&gt; ");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cmdline, MAXLINE, std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eof(stdin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valu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val(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4197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ion is a sequence of read/evaluate step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579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Shell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v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143000"/>
            <a:ext cx="8340840" cy="534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val(char *cmdlin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argv[MAXARGS]; /* argv for execve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g;              /* should the job run in bg or fg?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           /* process i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g = parseline(cmdline, argv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uiltin_command(argv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pid = Fork()) == 0) {   /* child runs user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xecve(argv[0], argv, environ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: Command not found.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bg) {   /* parent waits for fg job to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waitpid(pid, &amp;status, 0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waitfg: waitpid error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       /* otherwise, don’t wait for bg job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d %s", pid, cmdlin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blem with Simple She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ell correctly waits for and reaps foreground job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ut what about background job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come zombies when they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never be reaped because shell (typically) will not termin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memory leak that will eventually crash the kernel when it runs out of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Reaping background jobs requires a mechanism called 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7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mall message that notifies a process that an event of some type has occurred in the syste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bstraction for exceptions and interrup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t from the kernel (sometimes at the request of another process) to a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signals are identified by small integer ID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only information in a signal is its ID and the fact that it arriv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4038480"/>
          <a:ext cx="8872560" cy="210492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efault Ac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rresponding Ev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rrupt from keyboard (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ctl-c</a:t>
                      </a: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nd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end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elivers) a signal to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destination proces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updating some state in the context of the destination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ends a signal for one of the following reason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has detected a system event such as divide-by-zero (SIGFPE) or the termination of a child process (SIGCHL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other process has invoked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ki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ystem call to explicitly request the kernel to send a signal to the destination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eiving a sig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destination proces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ceiv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 signal when it is forced by the kernel to react in some way to the delivery of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possible ways to reac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gnore the signal (do nothing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rminate the proces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signal by executing a user-level function called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gnal handl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kin to a hardware exception handler being called in response to an asynchronous interrup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signal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it has been sent but not yet receiv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can be at most one pending signal of any particular typ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Signals are not queu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a process has a pending signal of type k, then subsequent signals of type k that are sent to that process are discar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rocess can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he receipt of certain signa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ed signals can be delivered, but will not be received until the signal is unblock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pending signal is received at most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Concept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maintain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endin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lock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it vectors in the context of each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end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pending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set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deliver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rnel clears bit k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endi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whenever a signal of type k is receiv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lock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– represents the set of blocked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set and cleared by the application using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procmas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fun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 Grou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25780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process belongs to exactly one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98640" y="3228840"/>
            <a:ext cx="98280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4280" y="3228840"/>
            <a:ext cx="98244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228840"/>
            <a:ext cx="984240" cy="88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8960" y="19051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992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65280" y="441468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906200" y="4051440"/>
            <a:ext cx="182520" cy="369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85960" y="4048200"/>
            <a:ext cx="163440" cy="36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4320" y="2666880"/>
            <a:ext cx="0" cy="557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68760" y="2575080"/>
            <a:ext cx="1481040" cy="801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8720" y="2535120"/>
            <a:ext cx="1413000" cy="833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1200" y="20692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122640"/>
            <a:ext cx="2443320" cy="264780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89240" y="58165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68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720" y="4202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18320" y="42084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45200" y="3122640"/>
            <a:ext cx="1176480" cy="1085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2320" y="33649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4920" y="3415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76320" y="34426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2560" y="52207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5560" y="5230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4880" y="5029200"/>
            <a:ext cx="36576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etpgrp()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 Return process group of current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tpgid() –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hange process group of a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900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kil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ends arbitrary signal to a process or process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2481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process 2481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kill –9 –2481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nd SIGKILL to every process in process group 24817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8320" y="1682640"/>
            <a:ext cx="4569840" cy="39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6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Child1: pid=24818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2: pid=24819 pgrp=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8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19 pts/2    00:00:02 fork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0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kill -9 -248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00:00:00 tcsh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23 pts/2    00:00:00 p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F Exists at All Levels of a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8816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and operating system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imer and 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-loc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cation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1219320"/>
            <a:ext cx="152280" cy="167616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2971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6480" y="2098800"/>
            <a:ext cx="194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viou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2480" y="3733920"/>
            <a:ext cx="1450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Le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from the Keybo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2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yping ctrl-c (ctrl-z) sends a SIGTERM (SIGTSTP) to every job in the foreground process group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ERM – default action is to terminate each proces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TSTP – default action is to stop (suspend) each proc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695760"/>
            <a:ext cx="1955880" cy="212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46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e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781440"/>
            <a:ext cx="785880" cy="69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9360" y="3781440"/>
            <a:ext cx="787320" cy="70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ck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job #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08560" y="272088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he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0320" y="4730760"/>
            <a:ext cx="7873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00320" y="4730760"/>
            <a:ext cx="789120" cy="62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654280" y="4440240"/>
            <a:ext cx="146160" cy="295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4437000"/>
            <a:ext cx="130320" cy="290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5280" y="3330720"/>
            <a:ext cx="0" cy="446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3320" y="3257640"/>
            <a:ext cx="1185840" cy="641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225960"/>
            <a:ext cx="1130040" cy="666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6120" y="28076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2720" y="57960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548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340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3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0720" y="4563360"/>
            <a:ext cx="136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group 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46920" y="3695760"/>
            <a:ext cx="941400" cy="8697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45360" y="3844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1760" y="38854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52320" y="39060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85120" y="533016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0960" y="5338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and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z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7480" y="1450800"/>
            <a:ext cx="6276600" cy="44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ild: pid=24868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arent: pid=24867 pgrp=2486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z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spend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7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8 pts/2    T      0:01 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69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f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/forks 17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typed ctrl-c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STAT   TIME COMMAN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788 pts/2    S      0:00 -usr/local/bin/tcsh -i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24870 pts/2    R      0:00 ps a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nding Signals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kil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066680"/>
            <a:ext cx="7696440" cy="520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(1); /* Child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terminates the child processe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Parent reaps terminated children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eiv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ppose  kernel is returning from exception handler and is ready to pass control to proces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rnel computes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pnb = pending &amp; ~block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et of pending nonblocked signals for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nb == 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the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least nonzero bi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force proces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ceiv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ceipt of the signal triggers som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eat for all nonzer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nb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control to next instruction in logical flow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fault A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ignal type has a predefin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ault ac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which is one of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terminates and dumps co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stops until restarted by a SIGCONT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process ignores the sig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alling Signal Hand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 modifies the default action associated with the receipt of signal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ign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andler_t *signal(int signum, handler_t *handl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values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andl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IGN: ignore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_DFL: revert to the default action on receipt of signals of typ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n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, handler is the address of a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when process receives signal of typ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ign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red to as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nstal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handl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 handler is called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tch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or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handlin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”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the handler executes its return statement, control passes back to instruction in the control flow of the process that was interrupted by receipt of the signa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7239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143000"/>
            <a:ext cx="5257800" cy="329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int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Process %d received signal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, sig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3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INT, int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2463840"/>
            <a:ext cx="4724280" cy="371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./forks 1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4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6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Killing process 24977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7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7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6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6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5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5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4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4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cess 24973 received signal 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ild 24973 terminated with exit status 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04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 Handler Funkin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86400" y="837720"/>
            <a:ext cx="36576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ding signals are not queu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signal type, just have single bit indicating whether or not signal is pe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if multiple processes have sent thi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52520"/>
            <a:ext cx="5562720" cy="52088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07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ving With Nonqueuing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check for all terminated jo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loop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905120"/>
            <a:ext cx="769608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child_handler2(int si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(&amp;child_status))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count--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signal %d from process %d\n", sig, p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fork15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child_handler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ly Generated Events (ctrl-c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World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Runs Many Processe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: executing progra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e consists of memory image + register values + program cou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ally switches from one process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spend process when it needs I/O resource or timer event occ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me process when I/O available or given scheduling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ears to user(s) as if all processes execut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most systems can only execute one process at a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possibly with lower performance than if running al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 That Reacts to Internally Generated Ev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7960" y="4200480"/>
            <a:ext cx="1887480" cy="204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a.out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local Jumps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94920"/>
            <a:ext cx="830736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ful for error recovery and signal handl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etjmp(jmp_buf j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mplementa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/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4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from th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jm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membered by jump buff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gain..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s time returning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ead of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f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tj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once, but never retu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ongjm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mplementa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ore register context from jump buff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the return value)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the location indicated by the PC stored in jump bu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t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/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ongjm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4092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tting It All Together: A Program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at Restarts Itself When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trl-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’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Nonlocal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90520" y="11430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937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Long Jump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11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057400"/>
            <a:ext cx="4114800" cy="447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276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278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283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290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64960"/>
            <a:ext cx="221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nerate from user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efine effect by declaring signal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high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&gt;10,000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use for exceptional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have que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one bit for each pending signal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nlocal jumps provide exceptional  control flow within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in constraints of stack disciplin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871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er’s Model of Multitas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pawns new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returns tw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erminates own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s it into “zombie”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ait for and reap terminated childr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ve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a new program in an existing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d once, (normally) never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the nonstandard semantics of th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ing improper use of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 “Fork bombs” can disable a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Process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4290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in she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419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5627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ndch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71800" y="3886200"/>
            <a:ext cx="99072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3886200"/>
            <a:ext cx="914400" cy="6094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44792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91440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429000" y="4952880"/>
            <a:ext cx="83808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71800" y="289548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429000"/>
            <a:ext cx="213372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43828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629320"/>
            <a:ext cx="167616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648240"/>
            <a:ext cx="167616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191120"/>
            <a:ext cx="0" cy="1438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2960" y="369576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: handcrafted kerne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8640" y="57150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ild process 1 exec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sbin/i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5800" y="1204920"/>
            <a:ext cx="727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Pushing reset button loads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ith the address of a smal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otstrap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Bootstrap program loads the boot block (disk block 0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Boot block program loads kernel binary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boot/vmlinu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 Boot block program passes control to kerne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. Kernel handcrafts the data structures for process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2670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0080" y="4707000"/>
            <a:ext cx="35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0 forks child process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3600" y="3038400"/>
            <a:ext cx="99072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505320"/>
            <a:ext cx="24336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em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tpd, http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" y="2597040"/>
            <a:ext cx="1826640" cy="3682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57360" y="2820960"/>
            <a:ext cx="609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62440" y="2803680"/>
            <a:ext cx="3176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ks and execs daemons p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initta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nd forks and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 for the conso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35124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cess execs 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Startup: Step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19400" y="258120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it 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9400" y="1590840"/>
            <a:ext cx="167652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124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276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ads login and passw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OK, it execs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he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not OK, it execs ano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9400" y="3571920"/>
            <a:ext cx="1676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c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1147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5:05Z</dcterms:modified>
  <cp:revision>187</cp:revision>
  <dc:subject/>
  <dc:title>Exceptional Control Flow II</dc:title>
</cp:coreProperties>
</file>