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1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9280525" cy="69913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09960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083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905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09960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083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04640" y="247680"/>
            <a:ext cx="8717040" cy="36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9960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9083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05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09960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59083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04640" y="247680"/>
            <a:ext cx="8717040" cy="36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385920" indent="-385920">
              <a:lnSpc>
                <a:spcPct val="95000"/>
              </a:lnSpc>
              <a:spcBef>
                <a:spcPts val="1500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385920" indent="-385920">
              <a:lnSpc>
                <a:spcPct val="95000"/>
              </a:lnSpc>
              <a:spcBef>
                <a:spcPts val="1500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3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Helvetic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4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5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6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-79200" y="6401880"/>
            <a:ext cx="120168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– </a:t>
            </a:r>
            <a:fld id="{17571D2B-2C80-4737-830E-CCDF6DBD61EB}" type="slidenum">
              <a:rPr b="0" lang="en-US" sz="1400" spc="-1" strike="noStrike">
                <a:solidFill>
                  <a:srgbClr val="660033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 –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559280" y="6391800"/>
            <a:ext cx="10933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15-213, F’0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36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ff99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13.wmf"/><Relationship Id="rId14" Type="http://schemas.openxmlformats.org/officeDocument/2006/relationships/image" Target="../media/image14.wmf"/><Relationship Id="rId15" Type="http://schemas.openxmlformats.org/officeDocument/2006/relationships/image" Target="../media/image15.wmf"/><Relationship Id="rId16" Type="http://schemas.openxmlformats.org/officeDocument/2006/relationships/image" Target="../media/image16.wmf"/><Relationship Id="rId17" Type="http://schemas.openxmlformats.org/officeDocument/2006/relationships/image" Target="../media/image17.wmf"/><Relationship Id="rId18" Type="http://schemas.openxmlformats.org/officeDocument/2006/relationships/image" Target="../media/image18.wmf"/><Relationship Id="rId19" Type="http://schemas.openxmlformats.org/officeDocument/2006/relationships/image" Target="../media/image19.wmf"/><Relationship Id="rId20" Type="http://schemas.openxmlformats.org/officeDocument/2006/relationships/image" Target="../media/image20.wmf"/><Relationship Id="rId21" Type="http://schemas.openxmlformats.org/officeDocument/2006/relationships/image" Target="../media/image21.wmf"/><Relationship Id="rId2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52480" y="1752480"/>
            <a:ext cx="5562720" cy="10605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Introduction to Computer System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566720" y="4419720"/>
            <a:ext cx="6010560" cy="186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opics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hem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Five great realities of computer system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How this fits within CS curriculum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560000" y="6580080"/>
            <a:ext cx="102060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CS 213 F ’02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21320" y="6504120"/>
            <a:ext cx="1461600" cy="2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Courier New"/>
              </a:rPr>
              <a:t>class01a.ppt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920" y="533520"/>
            <a:ext cx="84582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Arial"/>
              </a:rPr>
              <a:t>15-213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00"/>
                </a:solidFill>
                <a:latin typeface="Arial"/>
              </a:rPr>
              <a:t>“</a:t>
            </a:r>
            <a:r>
              <a:rPr b="1" i="1" lang="en-US" sz="2800" spc="-1" strike="noStrike">
                <a:solidFill>
                  <a:srgbClr val="003300"/>
                </a:solidFill>
                <a:latin typeface="Arial"/>
              </a:rPr>
              <a:t>The Class That Gives CMU Its Zip!”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590920" y="3200400"/>
            <a:ext cx="392580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Randal E. Bryant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August 27, 200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Great Reality #3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00"/>
                </a:solidFill>
                <a:latin typeface="Arial"/>
              </a:rPr>
              <a:t>Memory Matter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114624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Memory is not unbounded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t must be allocated and managed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any applications are memory dominated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Memory referencing bugs especially perniciou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ffects are distant in both time and spac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Memory performance is not uniform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ache and virtual memory effects can greatly affect program performanc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dapting program to characteristics of memory system can lead to major speed improvement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Memory Referencing Bug Exampl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38080" y="1523880"/>
            <a:ext cx="7315200" cy="2283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  <a:effectLst>
            <a:outerShdw dist="107932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ain (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ong int a[2]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double d = 3.14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[2] = 1073741824; /* Out of bounds reference */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rintf("d = %.15g\n", d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exit(0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062000" y="4114800"/>
            <a:ext cx="7018200" cy="1218960"/>
            <a:chOff x="1062000" y="4114800"/>
            <a:chExt cx="7018200" cy="1218960"/>
          </a:xfrm>
        </p:grpSpPr>
        <p:sp>
          <p:nvSpPr>
            <p:cNvPr id="106" name=""/>
            <p:cNvSpPr/>
            <p:nvPr/>
          </p:nvSpPr>
          <p:spPr>
            <a:xfrm>
              <a:off x="1062000" y="4114800"/>
              <a:ext cx="7018200" cy="1218960"/>
            </a:xfrm>
            <a:prstGeom prst="rect">
              <a:avLst/>
            </a:prstGeom>
            <a:noFill/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836360" y="4201920"/>
              <a:ext cx="165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001240" y="4201920"/>
              <a:ext cx="345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lph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344320" y="42019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924440" y="4201920"/>
              <a:ext cx="191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113080" y="4201920"/>
              <a:ext cx="64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176800" y="4201920"/>
              <a:ext cx="3056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S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237440" y="4201920"/>
              <a:ext cx="612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Linux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559280" y="4201920"/>
              <a:ext cx="36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292400" y="457992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g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842120" y="4579920"/>
              <a:ext cx="2881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5.30498947741318e-31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928400" y="4579920"/>
              <a:ext cx="20581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3.1399998664856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270200" y="4579920"/>
              <a:ext cx="549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3.1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292400" y="497520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O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841040" y="4975200"/>
              <a:ext cx="549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3.1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928760" y="4975200"/>
              <a:ext cx="549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3.1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270200" y="4975200"/>
              <a:ext cx="549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3.1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123" name=""/>
          <p:cNvSpPr/>
          <p:nvPr/>
        </p:nvSpPr>
        <p:spPr>
          <a:xfrm>
            <a:off x="1295280" y="5562720"/>
            <a:ext cx="5029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(Linux version gives correct result, but implementing as separate function gives segmentation fault.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Memory Referencing Error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17600" y="1066320"/>
            <a:ext cx="8307360" cy="522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62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 and C++ do not provide any memory protect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699480" indent="-2311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ut of bounds array referenc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99480" indent="-2311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nvalid pointer valu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99480" indent="-2311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buses of malloc/fre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62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an lead to nasty bug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699480" indent="-2311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Whether or not bug has any effect depends on system and compiler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99480" indent="-2311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ction at a distanc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077120" indent="-2239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orrupted object logically unrelated to one being accessed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077120" indent="-2239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Effect of bug may be first observed long after it is generated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62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How can I deal with this?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699480" indent="-2311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rogram in Java, Lisp, or ML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99480" indent="-2311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Understand what possible interactions may occur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99480" indent="-2311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Use or develop tools to detect referencing error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Memory Performance Exampl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Implementations of Matrix Multiplicat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ultiple ways to nest loop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28600" y="3276720"/>
            <a:ext cx="4114800" cy="2527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  <a:effectLst>
            <a:outerShdw dist="107932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6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/* ijk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for (i=0; i&lt;n; i++)  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for (j=0; j&lt;n; j++) 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um = 0.0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for (k=0; k&lt;n; k++)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um += a[i][k] * b[k][j]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[i][j] = sum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648320" y="3276720"/>
            <a:ext cx="4114800" cy="2527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  <a:effectLst>
            <a:outerShdw dist="107932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6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/* jik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for (j=0; j&lt;n; j++) 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for (i=0; i&lt;n; i++) 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um = 0.0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for (k=0; k&lt;n; k++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um += a[i][k] * b[k][j]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[i][j] = sum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" name=""/>
          <p:cNvGrpSpPr/>
          <p:nvPr/>
        </p:nvGrpSpPr>
        <p:grpSpPr>
          <a:xfrm>
            <a:off x="833400" y="3132000"/>
            <a:ext cx="5788080" cy="1185840"/>
            <a:chOff x="833400" y="3132000"/>
            <a:chExt cx="5788080" cy="1185840"/>
          </a:xfrm>
        </p:grpSpPr>
        <p:sp>
          <p:nvSpPr>
            <p:cNvPr id="131" name=""/>
            <p:cNvSpPr/>
            <p:nvPr/>
          </p:nvSpPr>
          <p:spPr>
            <a:xfrm>
              <a:off x="4933800" y="4316400"/>
              <a:ext cx="270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016600" y="4316400"/>
              <a:ext cx="284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100480" y="4316400"/>
              <a:ext cx="288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184720" y="4316400"/>
              <a:ext cx="270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267160" y="4316400"/>
              <a:ext cx="288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351400" y="4316400"/>
              <a:ext cx="288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435640" y="4316400"/>
              <a:ext cx="270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519880" y="4316400"/>
              <a:ext cx="270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602320" y="4316400"/>
              <a:ext cx="284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686560" y="4316400"/>
              <a:ext cx="284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770440" y="4316400"/>
              <a:ext cx="270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853240" y="4316400"/>
              <a:ext cx="284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937120" y="4316400"/>
              <a:ext cx="288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021360" y="4316400"/>
              <a:ext cx="270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105600" y="4316400"/>
              <a:ext cx="270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188040" y="4316400"/>
              <a:ext cx="284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272280" y="4316400"/>
              <a:ext cx="284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356520" y="4316400"/>
              <a:ext cx="266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438960" y="4316400"/>
              <a:ext cx="284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523200" y="4316400"/>
              <a:ext cx="284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607080" y="4316400"/>
              <a:ext cx="144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33400" y="39258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917640" y="39258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001880" y="39258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084320" y="39258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168560" y="39258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52440" y="39258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335240" y="39258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419120" y="3925800"/>
              <a:ext cx="288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503360" y="39258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587600" y="39258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670040" y="39258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754280" y="39258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838160" y="39258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920960" y="39258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004840" y="3925800"/>
              <a:ext cx="288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089080" y="39258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171880" y="39258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255760" y="3925800"/>
              <a:ext cx="288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340000" y="39258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424240" y="39258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506680" y="39258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590920" y="39258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674800" y="39258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57600" y="39258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841480" y="3925800"/>
              <a:ext cx="288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925720" y="39258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008160" y="3925800"/>
              <a:ext cx="288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092400" y="3925800"/>
              <a:ext cx="288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176640" y="39258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260880" y="39258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3320" y="39258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427560" y="39258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511440" y="39258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594240" y="39258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678120" y="3925800"/>
              <a:ext cx="288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762360" y="39258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846600" y="39258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929040" y="39258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013280" y="39258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097160" y="39258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179960" y="39258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264200" y="39258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348080" y="39258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430880" y="39258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514760" y="3925800"/>
              <a:ext cx="288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599000" y="39258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683240" y="39258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765680" y="39258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849920" y="39258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933800" y="39258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016600" y="39258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100480" y="3925800"/>
              <a:ext cx="288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184720" y="39258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267160" y="3925800"/>
              <a:ext cx="288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351400" y="3925800"/>
              <a:ext cx="288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435640" y="39258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519880" y="39258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602320" y="39258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686560" y="39258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770440" y="39258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853240" y="39258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937120" y="3925800"/>
              <a:ext cx="288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021360" y="39258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105600" y="39258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188040" y="39258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272280" y="39258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356520" y="3925800"/>
              <a:ext cx="266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438960" y="39258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523200" y="39258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607080" y="3925800"/>
              <a:ext cx="144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833400" y="35352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917640" y="35352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001880" y="35352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084320" y="35352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168560" y="35352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252440" y="35352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335240" y="35352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419120" y="3535200"/>
              <a:ext cx="288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503360" y="35352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587600" y="35352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670040" y="35352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754280" y="35352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838160" y="35352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920960" y="35352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004840" y="3535200"/>
              <a:ext cx="288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089080" y="35352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171880" y="35352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255760" y="3535200"/>
              <a:ext cx="288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340000" y="35352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424240" y="35352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506680" y="35352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590920" y="35352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674800" y="35352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757600" y="35352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841480" y="3535200"/>
              <a:ext cx="288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925720" y="35352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008160" y="3535200"/>
              <a:ext cx="288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092400" y="3535200"/>
              <a:ext cx="288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176640" y="35352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260880" y="35352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343320" y="35352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427560" y="35352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511440" y="35352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594240" y="35352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678120" y="3535200"/>
              <a:ext cx="288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762360" y="35352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846600" y="35352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929040" y="35352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013280" y="35352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097160" y="35352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179960" y="35352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264200" y="35352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348080" y="35352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430880" y="35352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514760" y="3535200"/>
              <a:ext cx="288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599000" y="35352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683240" y="35352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765680" y="35352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849920" y="35352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933800" y="35352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016600" y="35352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100480" y="3535200"/>
              <a:ext cx="288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184720" y="35352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267160" y="3535200"/>
              <a:ext cx="288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351400" y="3535200"/>
              <a:ext cx="288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435640" y="35352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519880" y="35352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602320" y="35352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686560" y="35352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770440" y="35352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853240" y="35352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937120" y="3535200"/>
              <a:ext cx="288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021360" y="35352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105600" y="35352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188040" y="35352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272280" y="35352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356520" y="3535200"/>
              <a:ext cx="266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438960" y="35352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523200" y="35352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607080" y="3535200"/>
              <a:ext cx="144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833400" y="31320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917640" y="31320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001880" y="31320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1084320" y="31320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68560" y="31320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1252440" y="31320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335240" y="31320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419120" y="3132000"/>
              <a:ext cx="288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1503360" y="31320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587600" y="31320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670040" y="31320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754280" y="31320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838160" y="31320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920960" y="31320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004840" y="3132000"/>
              <a:ext cx="288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089080" y="31320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171880" y="31320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255760" y="3132000"/>
              <a:ext cx="288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340000" y="31320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24240" y="31320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506680" y="31320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590920" y="31320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674800" y="31320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757600" y="31320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41480" y="3132000"/>
              <a:ext cx="288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925720" y="31320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008160" y="3132000"/>
              <a:ext cx="288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092400" y="3132000"/>
              <a:ext cx="288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176640" y="31320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3260880" y="31320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343320" y="31320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427560" y="31320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511440" y="31320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594240" y="31320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678120" y="3132000"/>
              <a:ext cx="288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762360" y="31320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846600" y="31320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3929040" y="31320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4013280" y="31320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331" name=""/>
          <p:cNvGrpSpPr/>
          <p:nvPr/>
        </p:nvGrpSpPr>
        <p:grpSpPr>
          <a:xfrm>
            <a:off x="833400" y="1962000"/>
            <a:ext cx="5788080" cy="1171800"/>
            <a:chOff x="833400" y="1962000"/>
            <a:chExt cx="5788080" cy="1171800"/>
          </a:xfrm>
        </p:grpSpPr>
        <p:sp>
          <p:nvSpPr>
            <p:cNvPr id="332" name=""/>
            <p:cNvSpPr/>
            <p:nvPr/>
          </p:nvSpPr>
          <p:spPr>
            <a:xfrm>
              <a:off x="4097160" y="31320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4179960" y="31320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4264200" y="31320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4348080" y="31320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430880" y="31320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4514760" y="3132000"/>
              <a:ext cx="288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99000" y="31320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4683240" y="31320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765680" y="31320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849920" y="31320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933800" y="31320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016600" y="31320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100480" y="3132000"/>
              <a:ext cx="288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184720" y="31320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5267160" y="3132000"/>
              <a:ext cx="288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351400" y="3132000"/>
              <a:ext cx="288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5435640" y="31320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519880" y="31320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5602320" y="31320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5686560" y="31320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5770440" y="31320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5853240" y="31320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937120" y="3132000"/>
              <a:ext cx="288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021360" y="31320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105600" y="31320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188040" y="31320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272280" y="31320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356520" y="3132000"/>
              <a:ext cx="266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438960" y="31320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6523200" y="31320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607080" y="3132000"/>
              <a:ext cx="144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833400" y="2741760"/>
              <a:ext cx="284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917640" y="2741760"/>
              <a:ext cx="270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001880" y="2741760"/>
              <a:ext cx="270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1084320" y="2741760"/>
              <a:ext cx="284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168560" y="2741760"/>
              <a:ext cx="284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1252440" y="2741760"/>
              <a:ext cx="270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335240" y="2741760"/>
              <a:ext cx="284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1419120" y="2741760"/>
              <a:ext cx="288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1503360" y="2741760"/>
              <a:ext cx="270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1587600" y="2741760"/>
              <a:ext cx="270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1670040" y="2741760"/>
              <a:ext cx="284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4280" y="2741760"/>
              <a:ext cx="270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1838160" y="2741760"/>
              <a:ext cx="270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20960" y="2741760"/>
              <a:ext cx="284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004840" y="2741760"/>
              <a:ext cx="288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2089080" y="2741760"/>
              <a:ext cx="270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2171880" y="2741760"/>
              <a:ext cx="284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255760" y="2741760"/>
              <a:ext cx="288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340000" y="2741760"/>
              <a:ext cx="270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2424240" y="2741760"/>
              <a:ext cx="270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506680" y="2741760"/>
              <a:ext cx="284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590920" y="2741760"/>
              <a:ext cx="284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674800" y="2741760"/>
              <a:ext cx="270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757600" y="2741760"/>
              <a:ext cx="284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841480" y="2741760"/>
              <a:ext cx="288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925720" y="2741760"/>
              <a:ext cx="270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008160" y="2741760"/>
              <a:ext cx="288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3092400" y="2741760"/>
              <a:ext cx="288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3176640" y="2741760"/>
              <a:ext cx="270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260880" y="2741760"/>
              <a:ext cx="270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3343320" y="2741760"/>
              <a:ext cx="284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427560" y="2741760"/>
              <a:ext cx="284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3511440" y="2741760"/>
              <a:ext cx="270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594240" y="2741760"/>
              <a:ext cx="284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3678120" y="2741760"/>
              <a:ext cx="288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762360" y="2741760"/>
              <a:ext cx="270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846600" y="2741760"/>
              <a:ext cx="270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929040" y="2741760"/>
              <a:ext cx="284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4013280" y="2741760"/>
              <a:ext cx="270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4097160" y="2741760"/>
              <a:ext cx="270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4179960" y="2741760"/>
              <a:ext cx="284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4264200" y="2741760"/>
              <a:ext cx="284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4348080" y="2741760"/>
              <a:ext cx="270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430880" y="2741760"/>
              <a:ext cx="284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514760" y="2741760"/>
              <a:ext cx="288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4599000" y="2741760"/>
              <a:ext cx="270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4683240" y="2741760"/>
              <a:ext cx="270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4765680" y="2741760"/>
              <a:ext cx="284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4849920" y="2741760"/>
              <a:ext cx="284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933800" y="2741760"/>
              <a:ext cx="270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5016600" y="2741760"/>
              <a:ext cx="284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100480" y="2741760"/>
              <a:ext cx="288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184720" y="2741760"/>
              <a:ext cx="270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267160" y="2741760"/>
              <a:ext cx="288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5351400" y="2741760"/>
              <a:ext cx="288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5435640" y="2741760"/>
              <a:ext cx="270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5519880" y="2741760"/>
              <a:ext cx="270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5602320" y="2741760"/>
              <a:ext cx="284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5686560" y="2741760"/>
              <a:ext cx="284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5770440" y="2741760"/>
              <a:ext cx="270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5853240" y="2741760"/>
              <a:ext cx="284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5937120" y="2741760"/>
              <a:ext cx="288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6021360" y="2741760"/>
              <a:ext cx="270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105600" y="2741760"/>
              <a:ext cx="270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6188040" y="2741760"/>
              <a:ext cx="284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6272280" y="2741760"/>
              <a:ext cx="284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6356520" y="2741760"/>
              <a:ext cx="266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6438960" y="2741760"/>
              <a:ext cx="284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6523200" y="2741760"/>
              <a:ext cx="284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607080" y="2741760"/>
              <a:ext cx="144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833400" y="2351160"/>
              <a:ext cx="284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917640" y="2351160"/>
              <a:ext cx="270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001880" y="2351160"/>
              <a:ext cx="270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1084320" y="2351160"/>
              <a:ext cx="284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1168560" y="2351160"/>
              <a:ext cx="284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1252440" y="2351160"/>
              <a:ext cx="270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1335240" y="2351160"/>
              <a:ext cx="284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419120" y="2351160"/>
              <a:ext cx="288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503360" y="2351160"/>
              <a:ext cx="270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587600" y="2351160"/>
              <a:ext cx="270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1670040" y="2351160"/>
              <a:ext cx="284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1754280" y="2351160"/>
              <a:ext cx="270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1838160" y="2351160"/>
              <a:ext cx="270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1920960" y="2351160"/>
              <a:ext cx="284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004840" y="2351160"/>
              <a:ext cx="288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2089080" y="2351160"/>
              <a:ext cx="270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2171880" y="2351160"/>
              <a:ext cx="284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2255760" y="2351160"/>
              <a:ext cx="288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340000" y="2351160"/>
              <a:ext cx="270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424240" y="2351160"/>
              <a:ext cx="270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506680" y="2351160"/>
              <a:ext cx="284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2590920" y="2351160"/>
              <a:ext cx="284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2674800" y="2351160"/>
              <a:ext cx="270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2757600" y="2351160"/>
              <a:ext cx="284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2841480" y="2351160"/>
              <a:ext cx="288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2925720" y="2351160"/>
              <a:ext cx="270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3008160" y="2351160"/>
              <a:ext cx="288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092400" y="2351160"/>
              <a:ext cx="288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3176640" y="2351160"/>
              <a:ext cx="270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3260880" y="2351160"/>
              <a:ext cx="270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3343320" y="2351160"/>
              <a:ext cx="284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427560" y="2351160"/>
              <a:ext cx="284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3511440" y="2351160"/>
              <a:ext cx="270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3594240" y="2351160"/>
              <a:ext cx="284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678120" y="2351160"/>
              <a:ext cx="288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3762360" y="2351160"/>
              <a:ext cx="270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3846600" y="2351160"/>
              <a:ext cx="270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929040" y="2351160"/>
              <a:ext cx="284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013280" y="2351160"/>
              <a:ext cx="270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4097160" y="2351160"/>
              <a:ext cx="270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79960" y="2351160"/>
              <a:ext cx="284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264200" y="2351160"/>
              <a:ext cx="284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348080" y="2351160"/>
              <a:ext cx="270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4430880" y="2351160"/>
              <a:ext cx="284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4514760" y="2351160"/>
              <a:ext cx="288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4599000" y="2351160"/>
              <a:ext cx="270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4683240" y="2351160"/>
              <a:ext cx="270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765680" y="2351160"/>
              <a:ext cx="284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849920" y="2351160"/>
              <a:ext cx="284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933800" y="2351160"/>
              <a:ext cx="270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5016600" y="2351160"/>
              <a:ext cx="284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5100480" y="2351160"/>
              <a:ext cx="288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5184720" y="2351160"/>
              <a:ext cx="270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5267160" y="2351160"/>
              <a:ext cx="288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5351400" y="2351160"/>
              <a:ext cx="288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435640" y="2351160"/>
              <a:ext cx="270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519880" y="2351160"/>
              <a:ext cx="270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5602320" y="2351160"/>
              <a:ext cx="284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5686560" y="2351160"/>
              <a:ext cx="284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5770440" y="2351160"/>
              <a:ext cx="270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853240" y="2351160"/>
              <a:ext cx="284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5937120" y="2351160"/>
              <a:ext cx="288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6021360" y="2351160"/>
              <a:ext cx="270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6105600" y="2351160"/>
              <a:ext cx="270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188040" y="2351160"/>
              <a:ext cx="284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6272280" y="2351160"/>
              <a:ext cx="284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6356520" y="2351160"/>
              <a:ext cx="266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6438960" y="2351160"/>
              <a:ext cx="284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6523200" y="2351160"/>
              <a:ext cx="284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6607080" y="2351160"/>
              <a:ext cx="144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833400" y="19620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917640" y="19620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1001880" y="19620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1084320" y="19620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1168560" y="19620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1252440" y="19620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1335240" y="19620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1419120" y="1962000"/>
              <a:ext cx="288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1503360" y="19620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1587600" y="19620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670040" y="19620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1754280" y="19620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1838160" y="19620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1920960" y="19620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2004840" y="1962000"/>
              <a:ext cx="288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2089080" y="19620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2171880" y="19620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2255760" y="1962000"/>
              <a:ext cx="288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2340000" y="19620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2424240" y="19620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2506680" y="19620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2590920" y="19620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674800" y="19620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2757600" y="19620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2841480" y="1962000"/>
              <a:ext cx="288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2925720" y="19620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008160" y="1962000"/>
              <a:ext cx="288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092400" y="1962000"/>
              <a:ext cx="288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3176640" y="19620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532" name=""/>
          <p:cNvGrpSpPr/>
          <p:nvPr/>
        </p:nvGrpSpPr>
        <p:grpSpPr>
          <a:xfrm>
            <a:off x="791640" y="1962000"/>
            <a:ext cx="5871240" cy="3176280"/>
            <a:chOff x="791640" y="1962000"/>
            <a:chExt cx="5871240" cy="3176280"/>
          </a:xfrm>
        </p:grpSpPr>
        <p:sp>
          <p:nvSpPr>
            <p:cNvPr id="533" name=""/>
            <p:cNvSpPr/>
            <p:nvPr/>
          </p:nvSpPr>
          <p:spPr>
            <a:xfrm>
              <a:off x="3260880" y="19620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3343320" y="19620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427560" y="19620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511440" y="19620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594240" y="19620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3678120" y="1962000"/>
              <a:ext cx="288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3762360" y="19620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3846600" y="19620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3929040" y="19620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4013280" y="19620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4097160" y="19620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4179960" y="19620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4264200" y="19620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4348080" y="19620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4430880" y="19620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514760" y="1962000"/>
              <a:ext cx="288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599000" y="19620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83240" y="19620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4765680" y="19620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849920" y="19620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4933800" y="19620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5016600" y="19620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5100480" y="1962000"/>
              <a:ext cx="288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5184720" y="19620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5267160" y="1962000"/>
              <a:ext cx="288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351400" y="1962000"/>
              <a:ext cx="288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435640" y="19620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519880" y="19620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5602320" y="19620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686560" y="19620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70440" y="19620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853240" y="19620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937120" y="1962000"/>
              <a:ext cx="288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6021360" y="19620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6105600" y="19620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6188040" y="19620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6272280" y="19620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6356520" y="1962000"/>
              <a:ext cx="266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6438960" y="19620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6523200" y="19620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607080" y="1962000"/>
              <a:ext cx="144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833400" y="1962000"/>
              <a:ext cx="5788080" cy="3133800"/>
            </a:xfrm>
            <a:prstGeom prst="rect">
              <a:avLst/>
            </a:prstGeom>
            <a:noFill/>
            <a:ln w="144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833400" y="1962000"/>
              <a:ext cx="1800" cy="3133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792000" y="5095800"/>
              <a:ext cx="414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792000" y="4707000"/>
              <a:ext cx="414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792000" y="4316400"/>
              <a:ext cx="414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792000" y="3925800"/>
              <a:ext cx="414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792000" y="3535200"/>
              <a:ext cx="414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792000" y="3132000"/>
              <a:ext cx="414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792000" y="2741760"/>
              <a:ext cx="414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792000" y="2351160"/>
              <a:ext cx="414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792000" y="1962000"/>
              <a:ext cx="414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833400" y="5095800"/>
              <a:ext cx="578808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 flipV="1">
              <a:off x="833400" y="5054400"/>
              <a:ext cx="1800" cy="838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 flipV="1">
              <a:off x="1139760" y="5054400"/>
              <a:ext cx="1800" cy="838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 flipV="1">
              <a:off x="1447920" y="5054400"/>
              <a:ext cx="1440" cy="838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1754280" y="5054400"/>
              <a:ext cx="1440" cy="838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 flipV="1">
              <a:off x="2046240" y="5054400"/>
              <a:ext cx="1800" cy="838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 flipV="1">
              <a:off x="2354400" y="5054400"/>
              <a:ext cx="1440" cy="838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 flipV="1">
              <a:off x="2660760" y="5054400"/>
              <a:ext cx="1440" cy="838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 flipV="1">
              <a:off x="2967120" y="5054400"/>
              <a:ext cx="1440" cy="838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3273480" y="5054400"/>
              <a:ext cx="1440" cy="838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 flipV="1">
              <a:off x="3581280" y="5054400"/>
              <a:ext cx="1800" cy="838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 flipV="1">
              <a:off x="3873600" y="5054400"/>
              <a:ext cx="1440" cy="838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 flipV="1">
              <a:off x="4179960" y="5054400"/>
              <a:ext cx="1440" cy="838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 flipV="1">
              <a:off x="4487760" y="5054400"/>
              <a:ext cx="1800" cy="838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 flipV="1">
              <a:off x="4794120" y="5054400"/>
              <a:ext cx="1800" cy="838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 flipV="1">
              <a:off x="5100480" y="5054400"/>
              <a:ext cx="1800" cy="838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 flipV="1">
              <a:off x="5407200" y="5054400"/>
              <a:ext cx="1440" cy="838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 flipV="1">
              <a:off x="5700600" y="5054400"/>
              <a:ext cx="1800" cy="838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006960" y="5054400"/>
              <a:ext cx="1800" cy="838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 flipV="1">
              <a:off x="6313320" y="5054400"/>
              <a:ext cx="1800" cy="838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 flipV="1">
              <a:off x="6621480" y="5054400"/>
              <a:ext cx="1440" cy="838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833400" y="2324160"/>
              <a:ext cx="5788080" cy="2117520"/>
            </a:xfrm>
            <a:custGeom>
              <a:avLst/>
              <a:gdLst/>
              <a:ahLst/>
              <a:rect l="l" t="t" r="r" b="b"/>
              <a:pathLst>
                <a:path w="3646" h="1334">
                  <a:moveTo>
                    <a:pt x="0" y="0"/>
                  </a:moveTo>
                  <a:lnTo>
                    <a:pt x="193" y="123"/>
                  </a:lnTo>
                  <a:lnTo>
                    <a:pt x="387" y="219"/>
                  </a:lnTo>
                  <a:lnTo>
                    <a:pt x="580" y="263"/>
                  </a:lnTo>
                  <a:lnTo>
                    <a:pt x="764" y="570"/>
                  </a:lnTo>
                  <a:lnTo>
                    <a:pt x="958" y="1123"/>
                  </a:lnTo>
                  <a:lnTo>
                    <a:pt x="1151" y="1141"/>
                  </a:lnTo>
                  <a:lnTo>
                    <a:pt x="1344" y="1158"/>
                  </a:lnTo>
                  <a:lnTo>
                    <a:pt x="1537" y="1176"/>
                  </a:lnTo>
                  <a:lnTo>
                    <a:pt x="1731" y="1202"/>
                  </a:lnTo>
                  <a:lnTo>
                    <a:pt x="1915" y="1229"/>
                  </a:lnTo>
                  <a:lnTo>
                    <a:pt x="2108" y="1237"/>
                  </a:lnTo>
                  <a:lnTo>
                    <a:pt x="2302" y="1255"/>
                  </a:lnTo>
                  <a:lnTo>
                    <a:pt x="2495" y="1272"/>
                  </a:lnTo>
                  <a:lnTo>
                    <a:pt x="2688" y="1307"/>
                  </a:lnTo>
                  <a:lnTo>
                    <a:pt x="2881" y="1307"/>
                  </a:lnTo>
                  <a:lnTo>
                    <a:pt x="3066" y="1307"/>
                  </a:lnTo>
                  <a:lnTo>
                    <a:pt x="3259" y="1316"/>
                  </a:lnTo>
                  <a:lnTo>
                    <a:pt x="3452" y="1334"/>
                  </a:lnTo>
                  <a:lnTo>
                    <a:pt x="3646" y="1325"/>
                  </a:lnTo>
                </a:path>
              </a:pathLst>
            </a:custGeom>
            <a:noFill/>
            <a:ln w="144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833400" y="2324160"/>
              <a:ext cx="5788080" cy="1560600"/>
            </a:xfrm>
            <a:custGeom>
              <a:avLst/>
              <a:gdLst/>
              <a:ahLst/>
              <a:rect l="l" t="t" r="r" b="b"/>
              <a:pathLst>
                <a:path w="3646" h="983">
                  <a:moveTo>
                    <a:pt x="0" y="0"/>
                  </a:moveTo>
                  <a:lnTo>
                    <a:pt x="193" y="202"/>
                  </a:lnTo>
                  <a:lnTo>
                    <a:pt x="387" y="219"/>
                  </a:lnTo>
                  <a:lnTo>
                    <a:pt x="580" y="167"/>
                  </a:lnTo>
                  <a:lnTo>
                    <a:pt x="764" y="333"/>
                  </a:lnTo>
                  <a:lnTo>
                    <a:pt x="958" y="430"/>
                  </a:lnTo>
                  <a:lnTo>
                    <a:pt x="1151" y="500"/>
                  </a:lnTo>
                  <a:lnTo>
                    <a:pt x="1344" y="553"/>
                  </a:lnTo>
                  <a:lnTo>
                    <a:pt x="1537" y="562"/>
                  </a:lnTo>
                  <a:lnTo>
                    <a:pt x="1731" y="676"/>
                  </a:lnTo>
                  <a:lnTo>
                    <a:pt x="1915" y="737"/>
                  </a:lnTo>
                  <a:lnTo>
                    <a:pt x="2108" y="772"/>
                  </a:lnTo>
                  <a:lnTo>
                    <a:pt x="2302" y="798"/>
                  </a:lnTo>
                  <a:lnTo>
                    <a:pt x="2495" y="834"/>
                  </a:lnTo>
                  <a:lnTo>
                    <a:pt x="2688" y="895"/>
                  </a:lnTo>
                  <a:lnTo>
                    <a:pt x="2881" y="930"/>
                  </a:lnTo>
                  <a:lnTo>
                    <a:pt x="3066" y="930"/>
                  </a:lnTo>
                  <a:lnTo>
                    <a:pt x="3259" y="956"/>
                  </a:lnTo>
                  <a:lnTo>
                    <a:pt x="3452" y="983"/>
                  </a:lnTo>
                  <a:lnTo>
                    <a:pt x="3646" y="983"/>
                  </a:lnTo>
                </a:path>
              </a:pathLst>
            </a:custGeom>
            <a:noFill/>
            <a:ln w="144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833400" y="2476440"/>
              <a:ext cx="5788080" cy="1895400"/>
            </a:xfrm>
            <a:custGeom>
              <a:avLst/>
              <a:gdLst/>
              <a:ahLst/>
              <a:rect l="l" t="t" r="r" b="b"/>
              <a:pathLst>
                <a:path w="3646" h="1194">
                  <a:moveTo>
                    <a:pt x="0" y="0"/>
                  </a:moveTo>
                  <a:lnTo>
                    <a:pt x="193" y="106"/>
                  </a:lnTo>
                  <a:lnTo>
                    <a:pt x="387" y="316"/>
                  </a:lnTo>
                  <a:lnTo>
                    <a:pt x="580" y="246"/>
                  </a:lnTo>
                  <a:lnTo>
                    <a:pt x="764" y="387"/>
                  </a:lnTo>
                  <a:lnTo>
                    <a:pt x="958" y="1001"/>
                  </a:lnTo>
                  <a:lnTo>
                    <a:pt x="1151" y="1018"/>
                  </a:lnTo>
                  <a:lnTo>
                    <a:pt x="1344" y="1054"/>
                  </a:lnTo>
                  <a:lnTo>
                    <a:pt x="1537" y="1054"/>
                  </a:lnTo>
                  <a:lnTo>
                    <a:pt x="1731" y="1089"/>
                  </a:lnTo>
                  <a:lnTo>
                    <a:pt x="1915" y="1106"/>
                  </a:lnTo>
                  <a:lnTo>
                    <a:pt x="2108" y="1133"/>
                  </a:lnTo>
                  <a:lnTo>
                    <a:pt x="2302" y="1150"/>
                  </a:lnTo>
                  <a:lnTo>
                    <a:pt x="2495" y="1168"/>
                  </a:lnTo>
                  <a:lnTo>
                    <a:pt x="2688" y="1185"/>
                  </a:lnTo>
                  <a:lnTo>
                    <a:pt x="2881" y="1194"/>
                  </a:lnTo>
                  <a:lnTo>
                    <a:pt x="3066" y="1185"/>
                  </a:lnTo>
                  <a:lnTo>
                    <a:pt x="3259" y="1194"/>
                  </a:lnTo>
                  <a:lnTo>
                    <a:pt x="3452" y="1194"/>
                  </a:lnTo>
                  <a:lnTo>
                    <a:pt x="3646" y="1194"/>
                  </a:lnTo>
                </a:path>
              </a:pathLst>
            </a:custGeom>
            <a:noFill/>
            <a:ln w="144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833400" y="2324160"/>
              <a:ext cx="5788080" cy="2298600"/>
            </a:xfrm>
            <a:custGeom>
              <a:avLst/>
              <a:gdLst/>
              <a:ahLst/>
              <a:rect l="l" t="t" r="r" b="b"/>
              <a:pathLst>
                <a:path w="3646" h="1448">
                  <a:moveTo>
                    <a:pt x="0" y="0"/>
                  </a:moveTo>
                  <a:lnTo>
                    <a:pt x="193" y="237"/>
                  </a:lnTo>
                  <a:lnTo>
                    <a:pt x="387" y="1281"/>
                  </a:lnTo>
                  <a:lnTo>
                    <a:pt x="580" y="1290"/>
                  </a:lnTo>
                  <a:lnTo>
                    <a:pt x="764" y="1307"/>
                  </a:lnTo>
                  <a:lnTo>
                    <a:pt x="958" y="1316"/>
                  </a:lnTo>
                  <a:lnTo>
                    <a:pt x="1151" y="1325"/>
                  </a:lnTo>
                  <a:lnTo>
                    <a:pt x="1344" y="1334"/>
                  </a:lnTo>
                  <a:lnTo>
                    <a:pt x="1537" y="1343"/>
                  </a:lnTo>
                  <a:lnTo>
                    <a:pt x="1731" y="1360"/>
                  </a:lnTo>
                  <a:lnTo>
                    <a:pt x="1915" y="1369"/>
                  </a:lnTo>
                  <a:lnTo>
                    <a:pt x="2108" y="1386"/>
                  </a:lnTo>
                  <a:lnTo>
                    <a:pt x="2302" y="1395"/>
                  </a:lnTo>
                  <a:lnTo>
                    <a:pt x="2495" y="1404"/>
                  </a:lnTo>
                  <a:lnTo>
                    <a:pt x="2688" y="1413"/>
                  </a:lnTo>
                  <a:lnTo>
                    <a:pt x="2881" y="1422"/>
                  </a:lnTo>
                  <a:lnTo>
                    <a:pt x="3066" y="1430"/>
                  </a:lnTo>
                  <a:lnTo>
                    <a:pt x="3259" y="1430"/>
                  </a:lnTo>
                  <a:lnTo>
                    <a:pt x="3452" y="1439"/>
                  </a:lnTo>
                  <a:lnTo>
                    <a:pt x="3646" y="1448"/>
                  </a:lnTo>
                </a:path>
              </a:pathLst>
            </a:custGeom>
            <a:noFill/>
            <a:ln w="144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833400" y="2324160"/>
              <a:ext cx="5788080" cy="1768320"/>
            </a:xfrm>
            <a:custGeom>
              <a:avLst/>
              <a:gdLst/>
              <a:ahLst/>
              <a:rect l="l" t="t" r="r" b="b"/>
              <a:pathLst>
                <a:path w="3646" h="1114">
                  <a:moveTo>
                    <a:pt x="0" y="0"/>
                  </a:moveTo>
                  <a:lnTo>
                    <a:pt x="193" y="123"/>
                  </a:lnTo>
                  <a:lnTo>
                    <a:pt x="387" y="219"/>
                  </a:lnTo>
                  <a:lnTo>
                    <a:pt x="580" y="263"/>
                  </a:lnTo>
                  <a:lnTo>
                    <a:pt x="764" y="509"/>
                  </a:lnTo>
                  <a:lnTo>
                    <a:pt x="958" y="623"/>
                  </a:lnTo>
                  <a:lnTo>
                    <a:pt x="1151" y="649"/>
                  </a:lnTo>
                  <a:lnTo>
                    <a:pt x="1344" y="737"/>
                  </a:lnTo>
                  <a:lnTo>
                    <a:pt x="1537" y="816"/>
                  </a:lnTo>
                  <a:lnTo>
                    <a:pt x="1731" y="939"/>
                  </a:lnTo>
                  <a:lnTo>
                    <a:pt x="1915" y="983"/>
                  </a:lnTo>
                  <a:lnTo>
                    <a:pt x="2108" y="1035"/>
                  </a:lnTo>
                  <a:lnTo>
                    <a:pt x="2302" y="1035"/>
                  </a:lnTo>
                  <a:lnTo>
                    <a:pt x="2495" y="1097"/>
                  </a:lnTo>
                  <a:lnTo>
                    <a:pt x="2688" y="1114"/>
                  </a:lnTo>
                  <a:lnTo>
                    <a:pt x="2881" y="1097"/>
                  </a:lnTo>
                  <a:lnTo>
                    <a:pt x="3066" y="1106"/>
                  </a:lnTo>
                  <a:lnTo>
                    <a:pt x="3259" y="1106"/>
                  </a:lnTo>
                  <a:lnTo>
                    <a:pt x="3452" y="1114"/>
                  </a:lnTo>
                  <a:lnTo>
                    <a:pt x="3646" y="1114"/>
                  </a:lnTo>
                </a:path>
              </a:pathLst>
            </a:custGeom>
            <a:noFill/>
            <a:ln w="144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833400" y="2324160"/>
              <a:ext cx="5788080" cy="2368440"/>
            </a:xfrm>
            <a:custGeom>
              <a:avLst/>
              <a:gdLst/>
              <a:ahLst/>
              <a:rect l="l" t="t" r="r" b="b"/>
              <a:pathLst>
                <a:path w="3646" h="1492">
                  <a:moveTo>
                    <a:pt x="0" y="0"/>
                  </a:moveTo>
                  <a:lnTo>
                    <a:pt x="193" y="167"/>
                  </a:lnTo>
                  <a:lnTo>
                    <a:pt x="387" y="1299"/>
                  </a:lnTo>
                  <a:lnTo>
                    <a:pt x="580" y="1307"/>
                  </a:lnTo>
                  <a:lnTo>
                    <a:pt x="764" y="1316"/>
                  </a:lnTo>
                  <a:lnTo>
                    <a:pt x="958" y="1334"/>
                  </a:lnTo>
                  <a:lnTo>
                    <a:pt x="1151" y="1351"/>
                  </a:lnTo>
                  <a:lnTo>
                    <a:pt x="1344" y="1369"/>
                  </a:lnTo>
                  <a:lnTo>
                    <a:pt x="1537" y="1386"/>
                  </a:lnTo>
                  <a:lnTo>
                    <a:pt x="1731" y="1413"/>
                  </a:lnTo>
                  <a:lnTo>
                    <a:pt x="1915" y="1422"/>
                  </a:lnTo>
                  <a:lnTo>
                    <a:pt x="2108" y="1439"/>
                  </a:lnTo>
                  <a:lnTo>
                    <a:pt x="2302" y="1448"/>
                  </a:lnTo>
                  <a:lnTo>
                    <a:pt x="2495" y="1465"/>
                  </a:lnTo>
                  <a:lnTo>
                    <a:pt x="2688" y="1474"/>
                  </a:lnTo>
                  <a:lnTo>
                    <a:pt x="2881" y="1474"/>
                  </a:lnTo>
                  <a:lnTo>
                    <a:pt x="3066" y="1474"/>
                  </a:lnTo>
                  <a:lnTo>
                    <a:pt x="3259" y="1483"/>
                  </a:lnTo>
                  <a:lnTo>
                    <a:pt x="3452" y="1483"/>
                  </a:lnTo>
                  <a:lnTo>
                    <a:pt x="3646" y="1492"/>
                  </a:lnTo>
                </a:path>
              </a:pathLst>
            </a:custGeom>
            <a:noFill/>
            <a:ln w="1440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792000" y="2281320"/>
              <a:ext cx="84240" cy="83880"/>
            </a:xfrm>
            <a:custGeom>
              <a:avLst/>
              <a:gdLst/>
              <a:ahLst/>
              <a:rect l="l" t="t" r="r" b="b"/>
              <a:pathLst>
                <a:path w="53" h="53">
                  <a:moveTo>
                    <a:pt x="26" y="0"/>
                  </a:moveTo>
                  <a:lnTo>
                    <a:pt x="53" y="27"/>
                  </a:lnTo>
                  <a:lnTo>
                    <a:pt x="26" y="53"/>
                  </a:lnTo>
                  <a:lnTo>
                    <a:pt x="0" y="27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0000"/>
            </a:solidFill>
            <a:ln w="144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098720" y="2476440"/>
              <a:ext cx="83880" cy="84240"/>
            </a:xfrm>
            <a:custGeom>
              <a:avLst/>
              <a:gdLst/>
              <a:ahLst/>
              <a:rect l="l" t="t" r="r" b="b"/>
              <a:pathLst>
                <a:path w="53" h="53">
                  <a:moveTo>
                    <a:pt x="26" y="0"/>
                  </a:moveTo>
                  <a:lnTo>
                    <a:pt x="53" y="27"/>
                  </a:lnTo>
                  <a:lnTo>
                    <a:pt x="26" y="53"/>
                  </a:lnTo>
                  <a:lnTo>
                    <a:pt x="0" y="27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0000"/>
            </a:solidFill>
            <a:ln w="144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1405080" y="2630520"/>
              <a:ext cx="83880" cy="84240"/>
            </a:xfrm>
            <a:custGeom>
              <a:avLst/>
              <a:gdLst/>
              <a:ahLst/>
              <a:rect l="l" t="t" r="r" b="b"/>
              <a:pathLst>
                <a:path w="53" h="53">
                  <a:moveTo>
                    <a:pt x="27" y="0"/>
                  </a:moveTo>
                  <a:lnTo>
                    <a:pt x="53" y="26"/>
                  </a:lnTo>
                  <a:lnTo>
                    <a:pt x="27" y="53"/>
                  </a:lnTo>
                  <a:lnTo>
                    <a:pt x="0" y="2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0000"/>
            </a:solidFill>
            <a:ln w="144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712880" y="2700360"/>
              <a:ext cx="82440" cy="82440"/>
            </a:xfrm>
            <a:custGeom>
              <a:avLst/>
              <a:gdLst/>
              <a:ahLst/>
              <a:rect l="l" t="t" r="r" b="b"/>
              <a:pathLst>
                <a:path w="52" h="52">
                  <a:moveTo>
                    <a:pt x="26" y="0"/>
                  </a:moveTo>
                  <a:lnTo>
                    <a:pt x="52" y="26"/>
                  </a:lnTo>
                  <a:lnTo>
                    <a:pt x="26" y="52"/>
                  </a:lnTo>
                  <a:lnTo>
                    <a:pt x="0" y="26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0000"/>
            </a:solidFill>
            <a:ln w="144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2004840" y="3187800"/>
              <a:ext cx="84240" cy="83880"/>
            </a:xfrm>
            <a:custGeom>
              <a:avLst/>
              <a:gdLst/>
              <a:ahLst/>
              <a:rect l="l" t="t" r="r" b="b"/>
              <a:pathLst>
                <a:path w="53" h="53">
                  <a:moveTo>
                    <a:pt x="26" y="0"/>
                  </a:moveTo>
                  <a:lnTo>
                    <a:pt x="53" y="26"/>
                  </a:lnTo>
                  <a:lnTo>
                    <a:pt x="26" y="53"/>
                  </a:lnTo>
                  <a:lnTo>
                    <a:pt x="0" y="26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0000"/>
            </a:solidFill>
            <a:ln w="144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2311560" y="4065480"/>
              <a:ext cx="83880" cy="84240"/>
            </a:xfrm>
            <a:custGeom>
              <a:avLst/>
              <a:gdLst/>
              <a:ahLst/>
              <a:rect l="l" t="t" r="r" b="b"/>
              <a:pathLst>
                <a:path w="53" h="53">
                  <a:moveTo>
                    <a:pt x="27" y="0"/>
                  </a:moveTo>
                  <a:lnTo>
                    <a:pt x="53" y="26"/>
                  </a:lnTo>
                  <a:lnTo>
                    <a:pt x="27" y="53"/>
                  </a:lnTo>
                  <a:lnTo>
                    <a:pt x="0" y="2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0000"/>
            </a:solidFill>
            <a:ln w="144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2619360" y="4092480"/>
              <a:ext cx="82440" cy="84240"/>
            </a:xfrm>
            <a:custGeom>
              <a:avLst/>
              <a:gdLst/>
              <a:ahLst/>
              <a:rect l="l" t="t" r="r" b="b"/>
              <a:pathLst>
                <a:path w="52" h="53">
                  <a:moveTo>
                    <a:pt x="26" y="0"/>
                  </a:moveTo>
                  <a:lnTo>
                    <a:pt x="52" y="27"/>
                  </a:lnTo>
                  <a:lnTo>
                    <a:pt x="26" y="53"/>
                  </a:lnTo>
                  <a:lnTo>
                    <a:pt x="0" y="27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0000"/>
            </a:solidFill>
            <a:ln w="144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2925720" y="4121280"/>
              <a:ext cx="82440" cy="83880"/>
            </a:xfrm>
            <a:custGeom>
              <a:avLst/>
              <a:gdLst/>
              <a:ahLst/>
              <a:rect l="l" t="t" r="r" b="b"/>
              <a:pathLst>
                <a:path w="52" h="53">
                  <a:moveTo>
                    <a:pt x="26" y="0"/>
                  </a:moveTo>
                  <a:lnTo>
                    <a:pt x="52" y="26"/>
                  </a:lnTo>
                  <a:lnTo>
                    <a:pt x="26" y="53"/>
                  </a:lnTo>
                  <a:lnTo>
                    <a:pt x="0" y="26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0000"/>
            </a:solidFill>
            <a:ln w="144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3232080" y="4149720"/>
              <a:ext cx="84240" cy="82440"/>
            </a:xfrm>
            <a:custGeom>
              <a:avLst/>
              <a:gdLst/>
              <a:ahLst/>
              <a:rect l="l" t="t" r="r" b="b"/>
              <a:pathLst>
                <a:path w="53" h="52">
                  <a:moveTo>
                    <a:pt x="26" y="0"/>
                  </a:moveTo>
                  <a:lnTo>
                    <a:pt x="53" y="26"/>
                  </a:lnTo>
                  <a:lnTo>
                    <a:pt x="26" y="52"/>
                  </a:lnTo>
                  <a:lnTo>
                    <a:pt x="0" y="26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0000"/>
            </a:solidFill>
            <a:ln w="144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3538440" y="4191120"/>
              <a:ext cx="84240" cy="83880"/>
            </a:xfrm>
            <a:custGeom>
              <a:avLst/>
              <a:gdLst/>
              <a:ahLst/>
              <a:rect l="l" t="t" r="r" b="b"/>
              <a:pathLst>
                <a:path w="53" h="53">
                  <a:moveTo>
                    <a:pt x="27" y="0"/>
                  </a:moveTo>
                  <a:lnTo>
                    <a:pt x="53" y="26"/>
                  </a:lnTo>
                  <a:lnTo>
                    <a:pt x="27" y="53"/>
                  </a:lnTo>
                  <a:lnTo>
                    <a:pt x="0" y="2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0000"/>
            </a:solidFill>
            <a:ln w="144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3832200" y="4232160"/>
              <a:ext cx="82440" cy="84240"/>
            </a:xfrm>
            <a:custGeom>
              <a:avLst/>
              <a:gdLst/>
              <a:ahLst/>
              <a:rect l="l" t="t" r="r" b="b"/>
              <a:pathLst>
                <a:path w="52" h="53">
                  <a:moveTo>
                    <a:pt x="26" y="0"/>
                  </a:moveTo>
                  <a:lnTo>
                    <a:pt x="52" y="27"/>
                  </a:lnTo>
                  <a:lnTo>
                    <a:pt x="26" y="53"/>
                  </a:lnTo>
                  <a:lnTo>
                    <a:pt x="0" y="27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0000"/>
            </a:solidFill>
            <a:ln w="144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4138560" y="4246560"/>
              <a:ext cx="84240" cy="84240"/>
            </a:xfrm>
            <a:custGeom>
              <a:avLst/>
              <a:gdLst/>
              <a:ahLst/>
              <a:rect l="l" t="t" r="r" b="b"/>
              <a:pathLst>
                <a:path w="53" h="53">
                  <a:moveTo>
                    <a:pt x="26" y="0"/>
                  </a:moveTo>
                  <a:lnTo>
                    <a:pt x="53" y="26"/>
                  </a:lnTo>
                  <a:lnTo>
                    <a:pt x="26" y="53"/>
                  </a:lnTo>
                  <a:lnTo>
                    <a:pt x="0" y="26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0000"/>
            </a:solidFill>
            <a:ln w="144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4444920" y="4275000"/>
              <a:ext cx="84240" cy="82800"/>
            </a:xfrm>
            <a:custGeom>
              <a:avLst/>
              <a:gdLst/>
              <a:ahLst/>
              <a:rect l="l" t="t" r="r" b="b"/>
              <a:pathLst>
                <a:path w="53" h="52">
                  <a:moveTo>
                    <a:pt x="27" y="0"/>
                  </a:moveTo>
                  <a:lnTo>
                    <a:pt x="53" y="26"/>
                  </a:lnTo>
                  <a:lnTo>
                    <a:pt x="27" y="52"/>
                  </a:lnTo>
                  <a:lnTo>
                    <a:pt x="0" y="2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0000"/>
            </a:solidFill>
            <a:ln w="144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4751280" y="4302000"/>
              <a:ext cx="84240" cy="84240"/>
            </a:xfrm>
            <a:custGeom>
              <a:avLst/>
              <a:gdLst/>
              <a:ahLst/>
              <a:rect l="l" t="t" r="r" b="b"/>
              <a:pathLst>
                <a:path w="53" h="53">
                  <a:moveTo>
                    <a:pt x="27" y="0"/>
                  </a:moveTo>
                  <a:lnTo>
                    <a:pt x="53" y="26"/>
                  </a:lnTo>
                  <a:lnTo>
                    <a:pt x="27" y="53"/>
                  </a:lnTo>
                  <a:lnTo>
                    <a:pt x="0" y="2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0000"/>
            </a:solidFill>
            <a:ln w="144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059440" y="4357800"/>
              <a:ext cx="82440" cy="83880"/>
            </a:xfrm>
            <a:custGeom>
              <a:avLst/>
              <a:gdLst/>
              <a:ahLst/>
              <a:rect l="l" t="t" r="r" b="b"/>
              <a:pathLst>
                <a:path w="52" h="53">
                  <a:moveTo>
                    <a:pt x="26" y="0"/>
                  </a:moveTo>
                  <a:lnTo>
                    <a:pt x="52" y="26"/>
                  </a:lnTo>
                  <a:lnTo>
                    <a:pt x="26" y="53"/>
                  </a:lnTo>
                  <a:lnTo>
                    <a:pt x="0" y="26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0000"/>
            </a:solidFill>
            <a:ln w="144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5365800" y="4357800"/>
              <a:ext cx="84240" cy="83880"/>
            </a:xfrm>
            <a:custGeom>
              <a:avLst/>
              <a:gdLst/>
              <a:ahLst/>
              <a:rect l="l" t="t" r="r" b="b"/>
              <a:pathLst>
                <a:path w="53" h="53">
                  <a:moveTo>
                    <a:pt x="26" y="0"/>
                  </a:moveTo>
                  <a:lnTo>
                    <a:pt x="53" y="26"/>
                  </a:lnTo>
                  <a:lnTo>
                    <a:pt x="26" y="53"/>
                  </a:lnTo>
                  <a:lnTo>
                    <a:pt x="0" y="26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0000"/>
            </a:solidFill>
            <a:ln w="144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5657760" y="4357800"/>
              <a:ext cx="84240" cy="83880"/>
            </a:xfrm>
            <a:custGeom>
              <a:avLst/>
              <a:gdLst/>
              <a:ahLst/>
              <a:rect l="l" t="t" r="r" b="b"/>
              <a:pathLst>
                <a:path w="53" h="53">
                  <a:moveTo>
                    <a:pt x="27" y="0"/>
                  </a:moveTo>
                  <a:lnTo>
                    <a:pt x="53" y="26"/>
                  </a:lnTo>
                  <a:lnTo>
                    <a:pt x="27" y="53"/>
                  </a:lnTo>
                  <a:lnTo>
                    <a:pt x="0" y="2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0000"/>
            </a:solidFill>
            <a:ln w="144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965920" y="4371840"/>
              <a:ext cx="82440" cy="84240"/>
            </a:xfrm>
            <a:custGeom>
              <a:avLst/>
              <a:gdLst/>
              <a:ahLst/>
              <a:rect l="l" t="t" r="r" b="b"/>
              <a:pathLst>
                <a:path w="52" h="53">
                  <a:moveTo>
                    <a:pt x="26" y="0"/>
                  </a:moveTo>
                  <a:lnTo>
                    <a:pt x="52" y="26"/>
                  </a:lnTo>
                  <a:lnTo>
                    <a:pt x="26" y="53"/>
                  </a:lnTo>
                  <a:lnTo>
                    <a:pt x="0" y="26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0000"/>
            </a:solidFill>
            <a:ln w="144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6272280" y="4398840"/>
              <a:ext cx="84240" cy="84240"/>
            </a:xfrm>
            <a:custGeom>
              <a:avLst/>
              <a:gdLst/>
              <a:ahLst/>
              <a:rect l="l" t="t" r="r" b="b"/>
              <a:pathLst>
                <a:path w="53" h="53">
                  <a:moveTo>
                    <a:pt x="26" y="0"/>
                  </a:moveTo>
                  <a:lnTo>
                    <a:pt x="53" y="27"/>
                  </a:lnTo>
                  <a:lnTo>
                    <a:pt x="26" y="53"/>
                  </a:lnTo>
                  <a:lnTo>
                    <a:pt x="0" y="27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0000"/>
            </a:solidFill>
            <a:ln w="144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6578640" y="4386240"/>
              <a:ext cx="84240" cy="82440"/>
            </a:xfrm>
            <a:custGeom>
              <a:avLst/>
              <a:gdLst/>
              <a:ahLst/>
              <a:rect l="l" t="t" r="r" b="b"/>
              <a:pathLst>
                <a:path w="53" h="52">
                  <a:moveTo>
                    <a:pt x="27" y="0"/>
                  </a:moveTo>
                  <a:lnTo>
                    <a:pt x="53" y="26"/>
                  </a:lnTo>
                  <a:lnTo>
                    <a:pt x="27" y="52"/>
                  </a:lnTo>
                  <a:lnTo>
                    <a:pt x="0" y="2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0000"/>
            </a:solidFill>
            <a:ln w="144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792000" y="2281320"/>
              <a:ext cx="84240" cy="83880"/>
            </a:xfrm>
            <a:prstGeom prst="rect">
              <a:avLst/>
            </a:prstGeom>
            <a:solidFill>
              <a:srgbClr val="ffff00"/>
            </a:solidFill>
            <a:ln w="144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098720" y="2602080"/>
              <a:ext cx="83880" cy="83880"/>
            </a:xfrm>
            <a:prstGeom prst="rect">
              <a:avLst/>
            </a:prstGeom>
            <a:solidFill>
              <a:srgbClr val="ffff00"/>
            </a:solidFill>
            <a:ln w="144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405080" y="2630520"/>
              <a:ext cx="83880" cy="84240"/>
            </a:xfrm>
            <a:prstGeom prst="rect">
              <a:avLst/>
            </a:prstGeom>
            <a:solidFill>
              <a:srgbClr val="ffff00"/>
            </a:solidFill>
            <a:ln w="144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712880" y="2546280"/>
              <a:ext cx="82440" cy="84240"/>
            </a:xfrm>
            <a:prstGeom prst="rect">
              <a:avLst/>
            </a:prstGeom>
            <a:solidFill>
              <a:srgbClr val="ffff00"/>
            </a:solidFill>
            <a:ln w="144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004840" y="2811600"/>
              <a:ext cx="84240" cy="83880"/>
            </a:xfrm>
            <a:prstGeom prst="rect">
              <a:avLst/>
            </a:prstGeom>
            <a:solidFill>
              <a:srgbClr val="ffff00"/>
            </a:solidFill>
            <a:ln w="144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2311560" y="2965320"/>
              <a:ext cx="83880" cy="82800"/>
            </a:xfrm>
            <a:prstGeom prst="rect">
              <a:avLst/>
            </a:prstGeom>
            <a:solidFill>
              <a:srgbClr val="ffff00"/>
            </a:solidFill>
            <a:ln w="144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2619360" y="3076560"/>
              <a:ext cx="82440" cy="82440"/>
            </a:xfrm>
            <a:prstGeom prst="rect">
              <a:avLst/>
            </a:prstGeom>
            <a:solidFill>
              <a:srgbClr val="ffff00"/>
            </a:solidFill>
            <a:ln w="144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2925720" y="3159000"/>
              <a:ext cx="82440" cy="84240"/>
            </a:xfrm>
            <a:prstGeom prst="rect">
              <a:avLst/>
            </a:prstGeom>
            <a:solidFill>
              <a:srgbClr val="ffff00"/>
            </a:solidFill>
            <a:ln w="144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3232080" y="3173400"/>
              <a:ext cx="84240" cy="84240"/>
            </a:xfrm>
            <a:prstGeom prst="rect">
              <a:avLst/>
            </a:prstGeom>
            <a:solidFill>
              <a:srgbClr val="ffff00"/>
            </a:solidFill>
            <a:ln w="144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3538440" y="3354480"/>
              <a:ext cx="84240" cy="83880"/>
            </a:xfrm>
            <a:prstGeom prst="rect">
              <a:avLst/>
            </a:prstGeom>
            <a:solidFill>
              <a:srgbClr val="ffff00"/>
            </a:solidFill>
            <a:ln w="144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3832200" y="3452760"/>
              <a:ext cx="82440" cy="82440"/>
            </a:xfrm>
            <a:prstGeom prst="rect">
              <a:avLst/>
            </a:prstGeom>
            <a:solidFill>
              <a:srgbClr val="ffff00"/>
            </a:solidFill>
            <a:ln w="144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4138560" y="3508200"/>
              <a:ext cx="84240" cy="82800"/>
            </a:xfrm>
            <a:prstGeom prst="rect">
              <a:avLst/>
            </a:prstGeom>
            <a:solidFill>
              <a:srgbClr val="ffff00"/>
            </a:solidFill>
            <a:ln w="144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4444920" y="3549600"/>
              <a:ext cx="84240" cy="84240"/>
            </a:xfrm>
            <a:prstGeom prst="rect">
              <a:avLst/>
            </a:prstGeom>
            <a:solidFill>
              <a:srgbClr val="ffff00"/>
            </a:solidFill>
            <a:ln w="144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4751280" y="3605040"/>
              <a:ext cx="84240" cy="84240"/>
            </a:xfrm>
            <a:prstGeom prst="rect">
              <a:avLst/>
            </a:prstGeom>
            <a:solidFill>
              <a:srgbClr val="ffff00"/>
            </a:solidFill>
            <a:ln w="144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059440" y="3703680"/>
              <a:ext cx="82440" cy="82440"/>
            </a:xfrm>
            <a:prstGeom prst="rect">
              <a:avLst/>
            </a:prstGeom>
            <a:solidFill>
              <a:srgbClr val="ffff00"/>
            </a:solidFill>
            <a:ln w="144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5365800" y="3759120"/>
              <a:ext cx="84240" cy="82800"/>
            </a:xfrm>
            <a:prstGeom prst="rect">
              <a:avLst/>
            </a:prstGeom>
            <a:solidFill>
              <a:srgbClr val="ffff00"/>
            </a:solidFill>
            <a:ln w="144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657760" y="3759120"/>
              <a:ext cx="84240" cy="82800"/>
            </a:xfrm>
            <a:prstGeom prst="rect">
              <a:avLst/>
            </a:prstGeom>
            <a:solidFill>
              <a:srgbClr val="ffff00"/>
            </a:solidFill>
            <a:ln w="144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5965920" y="3800520"/>
              <a:ext cx="82440" cy="84240"/>
            </a:xfrm>
            <a:prstGeom prst="rect">
              <a:avLst/>
            </a:prstGeom>
            <a:solidFill>
              <a:srgbClr val="ffff00"/>
            </a:solidFill>
            <a:ln w="144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6272280" y="3841920"/>
              <a:ext cx="84240" cy="83880"/>
            </a:xfrm>
            <a:prstGeom prst="rect">
              <a:avLst/>
            </a:prstGeom>
            <a:solidFill>
              <a:srgbClr val="ffff00"/>
            </a:solidFill>
            <a:ln w="144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6578640" y="3841920"/>
              <a:ext cx="84240" cy="83880"/>
            </a:xfrm>
            <a:prstGeom prst="rect">
              <a:avLst/>
            </a:prstGeom>
            <a:solidFill>
              <a:srgbClr val="ffff00"/>
            </a:solidFill>
            <a:ln w="144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792000" y="2435400"/>
              <a:ext cx="84240" cy="83880"/>
            </a:xfrm>
            <a:custGeom>
              <a:avLst/>
              <a:gdLst/>
              <a:ahLst/>
              <a:rect l="l" t="t" r="r" b="b"/>
              <a:pathLst>
                <a:path w="53" h="53">
                  <a:moveTo>
                    <a:pt x="26" y="0"/>
                  </a:moveTo>
                  <a:lnTo>
                    <a:pt x="53" y="53"/>
                  </a:lnTo>
                  <a:lnTo>
                    <a:pt x="0" y="5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00ff00"/>
            </a:solidFill>
            <a:ln w="144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1098720" y="2602080"/>
              <a:ext cx="83880" cy="83880"/>
            </a:xfrm>
            <a:custGeom>
              <a:avLst/>
              <a:gdLst/>
              <a:ahLst/>
              <a:rect l="l" t="t" r="r" b="b"/>
              <a:pathLst>
                <a:path w="53" h="53">
                  <a:moveTo>
                    <a:pt x="26" y="0"/>
                  </a:moveTo>
                  <a:lnTo>
                    <a:pt x="53" y="53"/>
                  </a:lnTo>
                  <a:lnTo>
                    <a:pt x="0" y="5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00ff00"/>
            </a:solidFill>
            <a:ln w="144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405080" y="2936880"/>
              <a:ext cx="83880" cy="84240"/>
            </a:xfrm>
            <a:custGeom>
              <a:avLst/>
              <a:gdLst/>
              <a:ahLst/>
              <a:rect l="l" t="t" r="r" b="b"/>
              <a:pathLst>
                <a:path w="53" h="53">
                  <a:moveTo>
                    <a:pt x="27" y="0"/>
                  </a:moveTo>
                  <a:lnTo>
                    <a:pt x="53" y="53"/>
                  </a:lnTo>
                  <a:lnTo>
                    <a:pt x="0" y="53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ff00"/>
            </a:solidFill>
            <a:ln w="144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1712880" y="2825640"/>
              <a:ext cx="82440" cy="82800"/>
            </a:xfrm>
            <a:custGeom>
              <a:avLst/>
              <a:gdLst/>
              <a:ahLst/>
              <a:rect l="l" t="t" r="r" b="b"/>
              <a:pathLst>
                <a:path w="52" h="52">
                  <a:moveTo>
                    <a:pt x="26" y="0"/>
                  </a:moveTo>
                  <a:lnTo>
                    <a:pt x="52" y="52"/>
                  </a:lnTo>
                  <a:lnTo>
                    <a:pt x="0" y="52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00ff00"/>
            </a:solidFill>
            <a:ln w="144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2004840" y="3048120"/>
              <a:ext cx="84240" cy="83880"/>
            </a:xfrm>
            <a:custGeom>
              <a:avLst/>
              <a:gdLst/>
              <a:ahLst/>
              <a:rect l="l" t="t" r="r" b="b"/>
              <a:pathLst>
                <a:path w="53" h="53">
                  <a:moveTo>
                    <a:pt x="26" y="0"/>
                  </a:moveTo>
                  <a:lnTo>
                    <a:pt x="53" y="53"/>
                  </a:lnTo>
                  <a:lnTo>
                    <a:pt x="0" y="5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00ff00"/>
            </a:solidFill>
            <a:ln w="144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2311560" y="4024440"/>
              <a:ext cx="83880" cy="82440"/>
            </a:xfrm>
            <a:custGeom>
              <a:avLst/>
              <a:gdLst/>
              <a:ahLst/>
              <a:rect l="l" t="t" r="r" b="b"/>
              <a:pathLst>
                <a:path w="53" h="52">
                  <a:moveTo>
                    <a:pt x="27" y="0"/>
                  </a:moveTo>
                  <a:lnTo>
                    <a:pt x="53" y="52"/>
                  </a:lnTo>
                  <a:lnTo>
                    <a:pt x="0" y="52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ff00"/>
            </a:solidFill>
            <a:ln w="144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2619360" y="4051440"/>
              <a:ext cx="82440" cy="83880"/>
            </a:xfrm>
            <a:custGeom>
              <a:avLst/>
              <a:gdLst/>
              <a:ahLst/>
              <a:rect l="l" t="t" r="r" b="b"/>
              <a:pathLst>
                <a:path w="52" h="53">
                  <a:moveTo>
                    <a:pt x="26" y="0"/>
                  </a:moveTo>
                  <a:lnTo>
                    <a:pt x="52" y="53"/>
                  </a:lnTo>
                  <a:lnTo>
                    <a:pt x="0" y="5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00ff00"/>
            </a:solidFill>
            <a:ln w="144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2925720" y="4106880"/>
              <a:ext cx="82440" cy="84240"/>
            </a:xfrm>
            <a:custGeom>
              <a:avLst/>
              <a:gdLst/>
              <a:ahLst/>
              <a:rect l="l" t="t" r="r" b="b"/>
              <a:pathLst>
                <a:path w="52" h="53">
                  <a:moveTo>
                    <a:pt x="26" y="0"/>
                  </a:moveTo>
                  <a:lnTo>
                    <a:pt x="52" y="53"/>
                  </a:lnTo>
                  <a:lnTo>
                    <a:pt x="0" y="5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00ff00"/>
            </a:solidFill>
            <a:ln w="144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32080" y="4106880"/>
              <a:ext cx="84240" cy="84240"/>
            </a:xfrm>
            <a:custGeom>
              <a:avLst/>
              <a:gdLst/>
              <a:ahLst/>
              <a:rect l="l" t="t" r="r" b="b"/>
              <a:pathLst>
                <a:path w="53" h="53">
                  <a:moveTo>
                    <a:pt x="26" y="0"/>
                  </a:moveTo>
                  <a:lnTo>
                    <a:pt x="53" y="53"/>
                  </a:lnTo>
                  <a:lnTo>
                    <a:pt x="0" y="5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00ff00"/>
            </a:solidFill>
            <a:ln w="144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3538440" y="4162320"/>
              <a:ext cx="84240" cy="84240"/>
            </a:xfrm>
            <a:custGeom>
              <a:avLst/>
              <a:gdLst/>
              <a:ahLst/>
              <a:rect l="l" t="t" r="r" b="b"/>
              <a:pathLst>
                <a:path w="53" h="53">
                  <a:moveTo>
                    <a:pt x="27" y="0"/>
                  </a:moveTo>
                  <a:lnTo>
                    <a:pt x="53" y="53"/>
                  </a:lnTo>
                  <a:lnTo>
                    <a:pt x="0" y="53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ff00"/>
            </a:solidFill>
            <a:ln w="144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3832200" y="4191120"/>
              <a:ext cx="82440" cy="83880"/>
            </a:xfrm>
            <a:custGeom>
              <a:avLst/>
              <a:gdLst/>
              <a:ahLst/>
              <a:rect l="l" t="t" r="r" b="b"/>
              <a:pathLst>
                <a:path w="52" h="53">
                  <a:moveTo>
                    <a:pt x="26" y="0"/>
                  </a:moveTo>
                  <a:lnTo>
                    <a:pt x="52" y="53"/>
                  </a:lnTo>
                  <a:lnTo>
                    <a:pt x="0" y="5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00ff00"/>
            </a:solidFill>
            <a:ln w="144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138560" y="4232160"/>
              <a:ext cx="84240" cy="84240"/>
            </a:xfrm>
            <a:custGeom>
              <a:avLst/>
              <a:gdLst/>
              <a:ahLst/>
              <a:rect l="l" t="t" r="r" b="b"/>
              <a:pathLst>
                <a:path w="53" h="53">
                  <a:moveTo>
                    <a:pt x="26" y="0"/>
                  </a:moveTo>
                  <a:lnTo>
                    <a:pt x="53" y="53"/>
                  </a:lnTo>
                  <a:lnTo>
                    <a:pt x="0" y="5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00ff00"/>
            </a:solidFill>
            <a:ln w="144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444920" y="4260960"/>
              <a:ext cx="84240" cy="82440"/>
            </a:xfrm>
            <a:custGeom>
              <a:avLst/>
              <a:gdLst/>
              <a:ahLst/>
              <a:rect l="l" t="t" r="r" b="b"/>
              <a:pathLst>
                <a:path w="53" h="52">
                  <a:moveTo>
                    <a:pt x="27" y="0"/>
                  </a:moveTo>
                  <a:lnTo>
                    <a:pt x="53" y="52"/>
                  </a:lnTo>
                  <a:lnTo>
                    <a:pt x="0" y="52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ff00"/>
            </a:solidFill>
            <a:ln w="144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751280" y="4287960"/>
              <a:ext cx="84240" cy="83880"/>
            </a:xfrm>
            <a:custGeom>
              <a:avLst/>
              <a:gdLst/>
              <a:ahLst/>
              <a:rect l="l" t="t" r="r" b="b"/>
              <a:pathLst>
                <a:path w="53" h="53">
                  <a:moveTo>
                    <a:pt x="27" y="0"/>
                  </a:moveTo>
                  <a:lnTo>
                    <a:pt x="53" y="53"/>
                  </a:lnTo>
                  <a:lnTo>
                    <a:pt x="0" y="53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ff00"/>
            </a:solidFill>
            <a:ln w="144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59440" y="4316400"/>
              <a:ext cx="82440" cy="82440"/>
            </a:xfrm>
            <a:custGeom>
              <a:avLst/>
              <a:gdLst/>
              <a:ahLst/>
              <a:rect l="l" t="t" r="r" b="b"/>
              <a:pathLst>
                <a:path w="52" h="52">
                  <a:moveTo>
                    <a:pt x="26" y="0"/>
                  </a:moveTo>
                  <a:lnTo>
                    <a:pt x="52" y="52"/>
                  </a:lnTo>
                  <a:lnTo>
                    <a:pt x="0" y="52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00ff00"/>
            </a:solidFill>
            <a:ln w="144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365800" y="4330800"/>
              <a:ext cx="84240" cy="82440"/>
            </a:xfrm>
            <a:custGeom>
              <a:avLst/>
              <a:gdLst/>
              <a:ahLst/>
              <a:rect l="l" t="t" r="r" b="b"/>
              <a:pathLst>
                <a:path w="53" h="52">
                  <a:moveTo>
                    <a:pt x="26" y="0"/>
                  </a:moveTo>
                  <a:lnTo>
                    <a:pt x="53" y="52"/>
                  </a:lnTo>
                  <a:lnTo>
                    <a:pt x="0" y="52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00ff00"/>
            </a:solidFill>
            <a:ln w="144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657760" y="4316400"/>
              <a:ext cx="84240" cy="82440"/>
            </a:xfrm>
            <a:custGeom>
              <a:avLst/>
              <a:gdLst/>
              <a:ahLst/>
              <a:rect l="l" t="t" r="r" b="b"/>
              <a:pathLst>
                <a:path w="53" h="52">
                  <a:moveTo>
                    <a:pt x="27" y="0"/>
                  </a:moveTo>
                  <a:lnTo>
                    <a:pt x="53" y="52"/>
                  </a:lnTo>
                  <a:lnTo>
                    <a:pt x="0" y="52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ff00"/>
            </a:solidFill>
            <a:ln w="144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965920" y="4330800"/>
              <a:ext cx="82440" cy="82440"/>
            </a:xfrm>
            <a:custGeom>
              <a:avLst/>
              <a:gdLst/>
              <a:ahLst/>
              <a:rect l="l" t="t" r="r" b="b"/>
              <a:pathLst>
                <a:path w="52" h="52">
                  <a:moveTo>
                    <a:pt x="26" y="0"/>
                  </a:moveTo>
                  <a:lnTo>
                    <a:pt x="52" y="52"/>
                  </a:lnTo>
                  <a:lnTo>
                    <a:pt x="0" y="52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00ff00"/>
            </a:solidFill>
            <a:ln w="144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6272280" y="4330800"/>
              <a:ext cx="84240" cy="82440"/>
            </a:xfrm>
            <a:custGeom>
              <a:avLst/>
              <a:gdLst/>
              <a:ahLst/>
              <a:rect l="l" t="t" r="r" b="b"/>
              <a:pathLst>
                <a:path w="53" h="52">
                  <a:moveTo>
                    <a:pt x="26" y="0"/>
                  </a:moveTo>
                  <a:lnTo>
                    <a:pt x="53" y="52"/>
                  </a:lnTo>
                  <a:lnTo>
                    <a:pt x="0" y="52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00ff00"/>
            </a:solidFill>
            <a:ln w="144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6578640" y="4330800"/>
              <a:ext cx="84240" cy="82440"/>
            </a:xfrm>
            <a:custGeom>
              <a:avLst/>
              <a:gdLst/>
              <a:ahLst/>
              <a:rect l="l" t="t" r="r" b="b"/>
              <a:pathLst>
                <a:path w="53" h="52">
                  <a:moveTo>
                    <a:pt x="27" y="0"/>
                  </a:moveTo>
                  <a:lnTo>
                    <a:pt x="53" y="52"/>
                  </a:lnTo>
                  <a:lnTo>
                    <a:pt x="0" y="52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ff00"/>
            </a:solidFill>
            <a:ln w="144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 flipH="1" flipV="1">
              <a:off x="791640" y="2280960"/>
              <a:ext cx="41400" cy="4284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833400" y="2324160"/>
              <a:ext cx="42840" cy="4104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 flipH="1">
              <a:off x="791640" y="2324160"/>
              <a:ext cx="41400" cy="4104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 flipV="1">
              <a:off x="833400" y="2280960"/>
              <a:ext cx="42840" cy="4284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 flipH="1" flipV="1">
              <a:off x="1098720" y="2657160"/>
              <a:ext cx="41040" cy="4284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1139760" y="2700360"/>
              <a:ext cx="42840" cy="4140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 flipH="1">
              <a:off x="1098720" y="2700360"/>
              <a:ext cx="41040" cy="4140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 flipV="1">
              <a:off x="1139760" y="2657160"/>
              <a:ext cx="42840" cy="4284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 flipH="1" flipV="1">
              <a:off x="1404720" y="4316040"/>
              <a:ext cx="42840" cy="4140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1447920" y="4357800"/>
              <a:ext cx="41040" cy="4104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 flipH="1">
              <a:off x="1404720" y="4357800"/>
              <a:ext cx="42840" cy="4104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 flipV="1">
              <a:off x="1447920" y="4316040"/>
              <a:ext cx="41040" cy="4140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 flipH="1" flipV="1">
              <a:off x="1712520" y="4330800"/>
              <a:ext cx="41400" cy="4104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1754280" y="4371840"/>
              <a:ext cx="41040" cy="4140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 flipH="1">
              <a:off x="1712520" y="4371840"/>
              <a:ext cx="41400" cy="4140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 flipV="1">
              <a:off x="1754280" y="4330800"/>
              <a:ext cx="41040" cy="4104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 flipH="1" flipV="1">
              <a:off x="2004480" y="4357800"/>
              <a:ext cx="41400" cy="4104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046240" y="4398840"/>
              <a:ext cx="42840" cy="4284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 flipH="1">
              <a:off x="2004480" y="4398840"/>
              <a:ext cx="41400" cy="4284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 flipV="1">
              <a:off x="2046240" y="4357800"/>
              <a:ext cx="42840" cy="4104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 flipH="1" flipV="1">
              <a:off x="2311200" y="4371480"/>
              <a:ext cx="42840" cy="4140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354400" y="4413240"/>
              <a:ext cx="41040" cy="4284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 flipH="1">
              <a:off x="2311200" y="4413240"/>
              <a:ext cx="42840" cy="4284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2354400" y="4371480"/>
              <a:ext cx="41040" cy="4140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 flipH="1" flipV="1">
              <a:off x="2619000" y="4385880"/>
              <a:ext cx="41400" cy="4140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2660760" y="4427640"/>
              <a:ext cx="41040" cy="4104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 flipH="1">
              <a:off x="2619000" y="4427640"/>
              <a:ext cx="41400" cy="4104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 flipV="1">
              <a:off x="2660760" y="4385880"/>
              <a:ext cx="41040" cy="4140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 flipH="1" flipV="1">
              <a:off x="2925360" y="4398480"/>
              <a:ext cx="41400" cy="4284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2967120" y="4441680"/>
              <a:ext cx="41040" cy="4140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 flipH="1">
              <a:off x="2925360" y="4441680"/>
              <a:ext cx="41400" cy="4140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 flipV="1">
              <a:off x="2967120" y="4398480"/>
              <a:ext cx="41040" cy="4284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 flipH="1" flipV="1">
              <a:off x="3231720" y="4412880"/>
              <a:ext cx="41400" cy="4284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3273480" y="4456080"/>
              <a:ext cx="42840" cy="4140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 flipH="1">
              <a:off x="3231720" y="4456080"/>
              <a:ext cx="41400" cy="4140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3273480" y="4412880"/>
              <a:ext cx="42840" cy="4284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 flipH="1" flipV="1">
              <a:off x="3538080" y="4441320"/>
              <a:ext cx="42840" cy="4140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3581280" y="4483080"/>
              <a:ext cx="41400" cy="4140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3538080" y="4483080"/>
              <a:ext cx="42840" cy="4140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 flipV="1">
              <a:off x="3581280" y="4441320"/>
              <a:ext cx="41400" cy="4140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 flipH="1" flipV="1">
              <a:off x="3831840" y="4455720"/>
              <a:ext cx="41400" cy="4140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3873600" y="4497480"/>
              <a:ext cx="41040" cy="4104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 flipH="1">
              <a:off x="3831840" y="4497480"/>
              <a:ext cx="41400" cy="4104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 flipV="1">
              <a:off x="3873600" y="4455720"/>
              <a:ext cx="41040" cy="4140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 flipH="1" flipV="1">
              <a:off x="4138200" y="4482720"/>
              <a:ext cx="41400" cy="4140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4179960" y="4524480"/>
              <a:ext cx="42840" cy="4284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H="1">
              <a:off x="4138200" y="4524480"/>
              <a:ext cx="41400" cy="4284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 flipV="1">
              <a:off x="4179960" y="4482720"/>
              <a:ext cx="42840" cy="4140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 flipH="1" flipV="1">
              <a:off x="4444560" y="4497480"/>
              <a:ext cx="42840" cy="4104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4487760" y="4538520"/>
              <a:ext cx="41400" cy="4284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 flipH="1">
              <a:off x="4444560" y="4538520"/>
              <a:ext cx="42840" cy="4284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 flipV="1">
              <a:off x="4487760" y="4497480"/>
              <a:ext cx="41400" cy="4104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 flipH="1" flipV="1">
              <a:off x="4750920" y="4511160"/>
              <a:ext cx="42840" cy="4140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4794120" y="4552920"/>
              <a:ext cx="41400" cy="4140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 flipH="1">
              <a:off x="4750920" y="4552920"/>
              <a:ext cx="42840" cy="4140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 flipV="1">
              <a:off x="4794120" y="4511160"/>
              <a:ext cx="41400" cy="4140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 flipH="1" flipV="1">
              <a:off x="5059440" y="4524120"/>
              <a:ext cx="41040" cy="4284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5100480" y="4567320"/>
              <a:ext cx="41400" cy="4104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 flipH="1">
              <a:off x="5059440" y="4567320"/>
              <a:ext cx="41040" cy="4104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 flipV="1">
              <a:off x="5100480" y="4524120"/>
              <a:ext cx="41400" cy="4284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H="1" flipV="1">
              <a:off x="5365440" y="4538160"/>
              <a:ext cx="41400" cy="4284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733" name=""/>
          <p:cNvGrpSpPr/>
          <p:nvPr/>
        </p:nvGrpSpPr>
        <p:grpSpPr>
          <a:xfrm>
            <a:off x="247680" y="1884240"/>
            <a:ext cx="7251840" cy="3843720"/>
            <a:chOff x="247680" y="1884240"/>
            <a:chExt cx="7251840" cy="3843720"/>
          </a:xfrm>
        </p:grpSpPr>
        <p:sp>
          <p:nvSpPr>
            <p:cNvPr id="734" name=""/>
            <p:cNvSpPr/>
            <p:nvPr/>
          </p:nvSpPr>
          <p:spPr>
            <a:xfrm>
              <a:off x="5407200" y="4581360"/>
              <a:ext cx="42840" cy="4140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 flipH="1">
              <a:off x="5365440" y="4581360"/>
              <a:ext cx="41400" cy="4140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 flipV="1">
              <a:off x="5407200" y="4538160"/>
              <a:ext cx="42840" cy="4284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 flipH="1" flipV="1">
              <a:off x="5657400" y="4552560"/>
              <a:ext cx="42840" cy="4140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5700600" y="4594320"/>
              <a:ext cx="41400" cy="4284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 flipH="1">
              <a:off x="5657400" y="4594320"/>
              <a:ext cx="42840" cy="4284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 flipV="1">
              <a:off x="5700600" y="4552560"/>
              <a:ext cx="41400" cy="4140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H="1" flipV="1">
              <a:off x="5965920" y="4552560"/>
              <a:ext cx="41040" cy="4140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6006960" y="4594320"/>
              <a:ext cx="41400" cy="4284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 flipH="1">
              <a:off x="5965920" y="4594320"/>
              <a:ext cx="41040" cy="4284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 flipV="1">
              <a:off x="6006960" y="4552560"/>
              <a:ext cx="41400" cy="4140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 flipH="1" flipV="1">
              <a:off x="6272280" y="4567320"/>
              <a:ext cx="41040" cy="4104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6313320" y="4608360"/>
              <a:ext cx="43200" cy="4140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 flipH="1">
              <a:off x="6272280" y="4608360"/>
              <a:ext cx="41040" cy="4140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 flipV="1">
              <a:off x="6313320" y="4567320"/>
              <a:ext cx="43200" cy="4104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 flipV="1">
              <a:off x="6578280" y="4581000"/>
              <a:ext cx="42840" cy="4140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621480" y="4622760"/>
              <a:ext cx="41400" cy="4140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 flipH="1">
              <a:off x="6578280" y="4622760"/>
              <a:ext cx="42840" cy="4140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 flipV="1">
              <a:off x="6621480" y="4581000"/>
              <a:ext cx="41400" cy="4140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 flipH="1" flipV="1">
              <a:off x="791640" y="2280960"/>
              <a:ext cx="41400" cy="4284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833400" y="2324160"/>
              <a:ext cx="42840" cy="4104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 flipH="1">
              <a:off x="791640" y="2324160"/>
              <a:ext cx="41400" cy="4104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 flipV="1">
              <a:off x="833400" y="2280960"/>
              <a:ext cx="42840" cy="4284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 flipV="1">
              <a:off x="833400" y="2280960"/>
              <a:ext cx="1800" cy="4284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833400" y="2324160"/>
              <a:ext cx="1800" cy="4104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 flipH="1" flipV="1">
              <a:off x="1098720" y="2476080"/>
              <a:ext cx="41040" cy="4284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1139760" y="2519280"/>
              <a:ext cx="42840" cy="4140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 flipH="1">
              <a:off x="1098720" y="2519280"/>
              <a:ext cx="41040" cy="4140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 flipV="1">
              <a:off x="1139760" y="2476080"/>
              <a:ext cx="42840" cy="4284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 flipV="1">
              <a:off x="1139760" y="2476080"/>
              <a:ext cx="1800" cy="4284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1139760" y="2519280"/>
              <a:ext cx="1800" cy="4140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 flipH="1" flipV="1">
              <a:off x="1404720" y="2630160"/>
              <a:ext cx="42840" cy="4140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1447920" y="2671920"/>
              <a:ext cx="41040" cy="4284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 flipH="1">
              <a:off x="1404720" y="2671920"/>
              <a:ext cx="42840" cy="4284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 flipV="1">
              <a:off x="1447920" y="2630160"/>
              <a:ext cx="41040" cy="4140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V="1">
              <a:off x="1447920" y="2630160"/>
              <a:ext cx="1440" cy="4140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1447920" y="2671920"/>
              <a:ext cx="1440" cy="4284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 flipH="1" flipV="1">
              <a:off x="1712520" y="2700000"/>
              <a:ext cx="41400" cy="4140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1754280" y="2741760"/>
              <a:ext cx="41040" cy="4104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 flipH="1">
              <a:off x="1712520" y="2741760"/>
              <a:ext cx="41400" cy="4104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 flipV="1">
              <a:off x="1754280" y="2700000"/>
              <a:ext cx="41040" cy="4140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 flipV="1">
              <a:off x="1754280" y="2700000"/>
              <a:ext cx="1440" cy="4140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1754280" y="2741760"/>
              <a:ext cx="1440" cy="4104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 flipH="1" flipV="1">
              <a:off x="2004480" y="3090960"/>
              <a:ext cx="41400" cy="4104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2046240" y="3132000"/>
              <a:ext cx="42840" cy="4140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>
              <a:off x="2004480" y="3132000"/>
              <a:ext cx="41400" cy="4140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2046240" y="3090960"/>
              <a:ext cx="42840" cy="4104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 flipV="1">
              <a:off x="2046240" y="3090960"/>
              <a:ext cx="1800" cy="4104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2046240" y="3132000"/>
              <a:ext cx="1800" cy="4140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 flipH="1" flipV="1">
              <a:off x="2311200" y="3271320"/>
              <a:ext cx="42840" cy="4140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2354400" y="3313080"/>
              <a:ext cx="41040" cy="4140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 flipH="1">
              <a:off x="2311200" y="3313080"/>
              <a:ext cx="42840" cy="4140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flipV="1">
              <a:off x="2354400" y="3271320"/>
              <a:ext cx="41040" cy="4140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 flipV="1">
              <a:off x="2354400" y="3271320"/>
              <a:ext cx="1440" cy="4140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2354400" y="3313080"/>
              <a:ext cx="1440" cy="4140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 flipH="1" flipV="1">
              <a:off x="2619000" y="3312720"/>
              <a:ext cx="41400" cy="4140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660760" y="3354480"/>
              <a:ext cx="41040" cy="4284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 flipH="1">
              <a:off x="2619000" y="3354480"/>
              <a:ext cx="41400" cy="4284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flipV="1">
              <a:off x="2660760" y="3312720"/>
              <a:ext cx="41040" cy="4140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V="1">
              <a:off x="2660760" y="3312720"/>
              <a:ext cx="1440" cy="4140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660760" y="3354480"/>
              <a:ext cx="1440" cy="4284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 flipH="1" flipV="1">
              <a:off x="2925360" y="3452400"/>
              <a:ext cx="41400" cy="4140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2967120" y="3494160"/>
              <a:ext cx="41040" cy="4104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 flipH="1">
              <a:off x="2925360" y="3494160"/>
              <a:ext cx="41400" cy="4104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 flipV="1">
              <a:off x="2967120" y="3452400"/>
              <a:ext cx="41040" cy="4140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 flipV="1">
              <a:off x="2967120" y="3452400"/>
              <a:ext cx="1440" cy="4140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2967120" y="3494160"/>
              <a:ext cx="1440" cy="4104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 flipH="1" flipV="1">
              <a:off x="3231720" y="3578400"/>
              <a:ext cx="41400" cy="4104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3273480" y="3619440"/>
              <a:ext cx="42840" cy="4140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 flipH="1">
              <a:off x="3231720" y="3619440"/>
              <a:ext cx="41400" cy="4140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 flipV="1">
              <a:off x="3273480" y="3578400"/>
              <a:ext cx="42840" cy="4104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V="1">
              <a:off x="3273480" y="3578400"/>
              <a:ext cx="1440" cy="4104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3273480" y="3619440"/>
              <a:ext cx="1440" cy="4140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H="1" flipV="1">
              <a:off x="3538080" y="3773160"/>
              <a:ext cx="42840" cy="4140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3581280" y="3814920"/>
              <a:ext cx="41400" cy="4104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 flipH="1">
              <a:off x="3538080" y="3814920"/>
              <a:ext cx="42840" cy="4104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 flipV="1">
              <a:off x="3581280" y="3773160"/>
              <a:ext cx="41400" cy="4140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 flipV="1">
              <a:off x="3581280" y="3773160"/>
              <a:ext cx="1800" cy="4140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3581280" y="3814920"/>
              <a:ext cx="1800" cy="4104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 flipH="1" flipV="1">
              <a:off x="3831840" y="3841560"/>
              <a:ext cx="41400" cy="4284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3873600" y="3884760"/>
              <a:ext cx="41040" cy="4104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 flipH="1">
              <a:off x="3831840" y="3884760"/>
              <a:ext cx="41400" cy="4104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 flipV="1">
              <a:off x="3873600" y="3841560"/>
              <a:ext cx="41040" cy="4284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 flipV="1">
              <a:off x="3873600" y="3841560"/>
              <a:ext cx="1440" cy="4284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3873600" y="3884760"/>
              <a:ext cx="1440" cy="4104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 flipH="1" flipV="1">
              <a:off x="4138200" y="3925440"/>
              <a:ext cx="41400" cy="4140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179960" y="3967200"/>
              <a:ext cx="42840" cy="4284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 flipH="1">
              <a:off x="4138200" y="3967200"/>
              <a:ext cx="41400" cy="4284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 flipV="1">
              <a:off x="4179960" y="3925440"/>
              <a:ext cx="42840" cy="4140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 flipV="1">
              <a:off x="4179960" y="3925440"/>
              <a:ext cx="1440" cy="4140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4179960" y="3967200"/>
              <a:ext cx="1440" cy="4284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 flipH="1" flipV="1">
              <a:off x="4444560" y="3925440"/>
              <a:ext cx="42840" cy="4140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487760" y="3967200"/>
              <a:ext cx="41400" cy="4284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 flipH="1">
              <a:off x="4444560" y="3967200"/>
              <a:ext cx="42840" cy="4284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 flipV="1">
              <a:off x="4487760" y="3925440"/>
              <a:ext cx="41400" cy="4140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 flipV="1">
              <a:off x="4487760" y="3925440"/>
              <a:ext cx="1800" cy="4140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487760" y="3967200"/>
              <a:ext cx="1800" cy="4284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 flipH="1" flipV="1">
              <a:off x="4750920" y="4024440"/>
              <a:ext cx="42840" cy="4104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4794120" y="4065480"/>
              <a:ext cx="41400" cy="4140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 flipH="1">
              <a:off x="4750920" y="4065480"/>
              <a:ext cx="42840" cy="4140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 flipV="1">
              <a:off x="4794120" y="4024440"/>
              <a:ext cx="41400" cy="4104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 flipV="1">
              <a:off x="4794120" y="4024440"/>
              <a:ext cx="1800" cy="4104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4794120" y="4065480"/>
              <a:ext cx="1800" cy="4140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 flipH="1" flipV="1">
              <a:off x="5059440" y="4051440"/>
              <a:ext cx="41040" cy="4104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100480" y="4092480"/>
              <a:ext cx="41400" cy="4284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 flipH="1">
              <a:off x="5059440" y="4092480"/>
              <a:ext cx="41040" cy="4284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 flipV="1">
              <a:off x="5100480" y="4051440"/>
              <a:ext cx="41400" cy="4104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 flipV="1">
              <a:off x="5100480" y="4051440"/>
              <a:ext cx="1800" cy="4104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100480" y="4092480"/>
              <a:ext cx="1800" cy="4284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 flipH="1" flipV="1">
              <a:off x="5365440" y="4024440"/>
              <a:ext cx="41400" cy="4104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407200" y="4065480"/>
              <a:ext cx="42840" cy="4140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 flipH="1">
              <a:off x="5365440" y="4065480"/>
              <a:ext cx="41400" cy="4140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 flipV="1">
              <a:off x="5407200" y="4024440"/>
              <a:ext cx="42840" cy="4104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 flipV="1">
              <a:off x="5407200" y="4024440"/>
              <a:ext cx="1440" cy="4104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407200" y="4065480"/>
              <a:ext cx="1440" cy="4140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 flipH="1" flipV="1">
              <a:off x="5657400" y="4036680"/>
              <a:ext cx="42840" cy="4284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00600" y="4079880"/>
              <a:ext cx="41400" cy="4140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 flipH="1">
              <a:off x="5657400" y="4079880"/>
              <a:ext cx="42840" cy="4140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 flipV="1">
              <a:off x="5700600" y="4036680"/>
              <a:ext cx="41400" cy="4284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 flipV="1">
              <a:off x="5700600" y="4036680"/>
              <a:ext cx="1800" cy="4284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5700600" y="4079880"/>
              <a:ext cx="1800" cy="4140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 flipH="1" flipV="1">
              <a:off x="5965920" y="4036680"/>
              <a:ext cx="41040" cy="4284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6006960" y="4079880"/>
              <a:ext cx="41400" cy="4140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 flipH="1">
              <a:off x="5965920" y="4079880"/>
              <a:ext cx="41040" cy="4140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 flipV="1">
              <a:off x="6006960" y="4036680"/>
              <a:ext cx="41400" cy="4284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 flipV="1">
              <a:off x="6006960" y="4036680"/>
              <a:ext cx="1800" cy="4284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006960" y="4079880"/>
              <a:ext cx="1800" cy="4140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 flipH="1" flipV="1">
              <a:off x="6272280" y="4051440"/>
              <a:ext cx="41040" cy="4104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313320" y="4092480"/>
              <a:ext cx="43200" cy="4284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 flipH="1">
              <a:off x="6272280" y="4092480"/>
              <a:ext cx="41040" cy="4284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flipV="1">
              <a:off x="6313320" y="4051440"/>
              <a:ext cx="43200" cy="4104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flipV="1">
              <a:off x="6313320" y="4051440"/>
              <a:ext cx="1800" cy="4104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13320" y="4092480"/>
              <a:ext cx="1800" cy="4284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 flipH="1" flipV="1">
              <a:off x="6578280" y="4051440"/>
              <a:ext cx="42840" cy="4104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621480" y="4092480"/>
              <a:ext cx="41400" cy="4284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 flipH="1">
              <a:off x="6578280" y="4092480"/>
              <a:ext cx="42840" cy="4284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 flipV="1">
              <a:off x="6621480" y="4051440"/>
              <a:ext cx="41400" cy="4104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 flipV="1">
              <a:off x="6621480" y="4051440"/>
              <a:ext cx="1440" cy="4104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621480" y="4092480"/>
              <a:ext cx="1440" cy="4284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92000" y="2281320"/>
              <a:ext cx="84240" cy="83880"/>
            </a:xfrm>
            <a:prstGeom prst="ellipse">
              <a:avLst/>
            </a:prstGeom>
            <a:solidFill>
              <a:srgbClr val="ff00ff"/>
            </a:solidFill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1098720" y="2546280"/>
              <a:ext cx="83880" cy="84240"/>
            </a:xfrm>
            <a:prstGeom prst="ellipse">
              <a:avLst/>
            </a:prstGeom>
            <a:solidFill>
              <a:srgbClr val="ff00ff"/>
            </a:solidFill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1405080" y="4343400"/>
              <a:ext cx="83880" cy="84240"/>
            </a:xfrm>
            <a:prstGeom prst="ellipse">
              <a:avLst/>
            </a:prstGeom>
            <a:solidFill>
              <a:srgbClr val="ff00ff"/>
            </a:solidFill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1712880" y="4357800"/>
              <a:ext cx="82440" cy="83880"/>
            </a:xfrm>
            <a:prstGeom prst="ellipse">
              <a:avLst/>
            </a:prstGeom>
            <a:solidFill>
              <a:srgbClr val="ff00ff"/>
            </a:solidFill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2004840" y="4371840"/>
              <a:ext cx="84240" cy="84240"/>
            </a:xfrm>
            <a:prstGeom prst="ellipse">
              <a:avLst/>
            </a:prstGeom>
            <a:solidFill>
              <a:srgbClr val="ff00ff"/>
            </a:solidFill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2311560" y="4398840"/>
              <a:ext cx="83880" cy="84240"/>
            </a:xfrm>
            <a:prstGeom prst="ellipse">
              <a:avLst/>
            </a:prstGeom>
            <a:solidFill>
              <a:srgbClr val="ff00ff"/>
            </a:solidFill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2619360" y="4427640"/>
              <a:ext cx="82440" cy="83880"/>
            </a:xfrm>
            <a:prstGeom prst="ellipse">
              <a:avLst/>
            </a:prstGeom>
            <a:solidFill>
              <a:srgbClr val="ff00ff"/>
            </a:solidFill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2925720" y="4456080"/>
              <a:ext cx="82440" cy="82440"/>
            </a:xfrm>
            <a:prstGeom prst="ellipse">
              <a:avLst/>
            </a:prstGeom>
            <a:solidFill>
              <a:srgbClr val="ff00ff"/>
            </a:solidFill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3232080" y="4483080"/>
              <a:ext cx="84240" cy="84240"/>
            </a:xfrm>
            <a:prstGeom prst="ellipse">
              <a:avLst/>
            </a:prstGeom>
            <a:solidFill>
              <a:srgbClr val="ff00ff"/>
            </a:solidFill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3538440" y="4524480"/>
              <a:ext cx="84240" cy="83880"/>
            </a:xfrm>
            <a:prstGeom prst="ellipse">
              <a:avLst/>
            </a:prstGeom>
            <a:solidFill>
              <a:srgbClr val="ff00ff"/>
            </a:solidFill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3832200" y="4538520"/>
              <a:ext cx="82440" cy="84240"/>
            </a:xfrm>
            <a:prstGeom prst="ellipse">
              <a:avLst/>
            </a:prstGeom>
            <a:solidFill>
              <a:srgbClr val="ff00ff"/>
            </a:solidFill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4138560" y="4567320"/>
              <a:ext cx="84240" cy="82440"/>
            </a:xfrm>
            <a:prstGeom prst="ellipse">
              <a:avLst/>
            </a:prstGeom>
            <a:solidFill>
              <a:srgbClr val="ff00ff"/>
            </a:solidFill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44920" y="4581360"/>
              <a:ext cx="84240" cy="82800"/>
            </a:xfrm>
            <a:prstGeom prst="ellipse">
              <a:avLst/>
            </a:prstGeom>
            <a:solidFill>
              <a:srgbClr val="ff00ff"/>
            </a:solidFill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4751280" y="4608360"/>
              <a:ext cx="84240" cy="84240"/>
            </a:xfrm>
            <a:prstGeom prst="ellipse">
              <a:avLst/>
            </a:prstGeom>
            <a:solidFill>
              <a:srgbClr val="ff00ff"/>
            </a:solidFill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5059440" y="4622760"/>
              <a:ext cx="82440" cy="84240"/>
            </a:xfrm>
            <a:prstGeom prst="ellipse">
              <a:avLst/>
            </a:prstGeom>
            <a:solidFill>
              <a:srgbClr val="ff00ff"/>
            </a:solidFill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5365800" y="4622760"/>
              <a:ext cx="84240" cy="84240"/>
            </a:xfrm>
            <a:prstGeom prst="ellipse">
              <a:avLst/>
            </a:prstGeom>
            <a:solidFill>
              <a:srgbClr val="ff00ff"/>
            </a:solidFill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5657760" y="4622760"/>
              <a:ext cx="84240" cy="84240"/>
            </a:xfrm>
            <a:prstGeom prst="ellipse">
              <a:avLst/>
            </a:prstGeom>
            <a:solidFill>
              <a:srgbClr val="ff00ff"/>
            </a:solidFill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5965920" y="4637160"/>
              <a:ext cx="82440" cy="82440"/>
            </a:xfrm>
            <a:prstGeom prst="ellipse">
              <a:avLst/>
            </a:prstGeom>
            <a:solidFill>
              <a:srgbClr val="ff00ff"/>
            </a:solidFill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6272280" y="4637160"/>
              <a:ext cx="84240" cy="82440"/>
            </a:xfrm>
            <a:prstGeom prst="ellipse">
              <a:avLst/>
            </a:prstGeom>
            <a:solidFill>
              <a:srgbClr val="ff00ff"/>
            </a:solidFill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6578640" y="4649760"/>
              <a:ext cx="84240" cy="84240"/>
            </a:xfrm>
            <a:prstGeom prst="ellipse">
              <a:avLst/>
            </a:prstGeom>
            <a:solidFill>
              <a:srgbClr val="ff00ff"/>
            </a:solidFill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692280" y="5018040"/>
              <a:ext cx="72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Geneva"/>
                </a:rPr>
                <a:t>0</a:t>
              </a:r>
              <a:endParaRPr b="0" lang="en-US" sz="1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613800" y="462924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Geneva"/>
                </a:rPr>
                <a:t>20</a:t>
              </a:r>
              <a:endParaRPr b="0" lang="en-US" sz="1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613800" y="423864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Geneva"/>
                </a:rPr>
                <a:t>40</a:t>
              </a:r>
              <a:endParaRPr b="0" lang="en-US" sz="1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613800" y="384804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Geneva"/>
                </a:rPr>
                <a:t>60</a:t>
              </a:r>
              <a:endParaRPr b="0" lang="en-US" sz="1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613800" y="345744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Geneva"/>
                </a:rPr>
                <a:t>80</a:t>
              </a:r>
              <a:endParaRPr b="0" lang="en-US" sz="1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537480" y="3054240"/>
              <a:ext cx="21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Geneva"/>
                </a:rPr>
                <a:t>100</a:t>
              </a:r>
              <a:endParaRPr b="0" lang="en-US" sz="1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537480" y="2664000"/>
              <a:ext cx="21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Geneva"/>
                </a:rPr>
                <a:t>120</a:t>
              </a:r>
              <a:endParaRPr b="0" lang="en-US" sz="1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537480" y="2273400"/>
              <a:ext cx="21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Geneva"/>
                </a:rPr>
                <a:t>140</a:t>
              </a:r>
              <a:endParaRPr b="0" lang="en-US" sz="1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537480" y="1884240"/>
              <a:ext cx="21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Geneva"/>
                </a:rPr>
                <a:t>160</a:t>
              </a:r>
              <a:endParaRPr b="0" lang="en-US" sz="1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pic>
          <p:nvPicPr>
            <p:cNvPr id="902" name="" descr=""/>
            <p:cNvPicPr/>
            <p:nvPr/>
          </p:nvPicPr>
          <p:blipFill>
            <a:blip r:embed="rId1"/>
            <a:stretch/>
          </p:blipFill>
          <p:spPr>
            <a:xfrm>
              <a:off x="568440" y="5221440"/>
              <a:ext cx="223560" cy="223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3" name="" descr=""/>
            <p:cNvPicPr/>
            <p:nvPr/>
          </p:nvPicPr>
          <p:blipFill>
            <a:blip r:embed="rId2"/>
            <a:stretch/>
          </p:blipFill>
          <p:spPr>
            <a:xfrm>
              <a:off x="876240" y="5221440"/>
              <a:ext cx="222480" cy="223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4" name="" descr=""/>
            <p:cNvPicPr/>
            <p:nvPr/>
          </p:nvPicPr>
          <p:blipFill>
            <a:blip r:embed="rId3"/>
            <a:stretch/>
          </p:blipFill>
          <p:spPr>
            <a:xfrm>
              <a:off x="1182600" y="5221440"/>
              <a:ext cx="222480" cy="223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5" name="" descr=""/>
            <p:cNvPicPr/>
            <p:nvPr/>
          </p:nvPicPr>
          <p:blipFill>
            <a:blip r:embed="rId4"/>
            <a:stretch/>
          </p:blipFill>
          <p:spPr>
            <a:xfrm>
              <a:off x="1419120" y="5221440"/>
              <a:ext cx="293760" cy="293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6" name="" descr=""/>
            <p:cNvPicPr/>
            <p:nvPr/>
          </p:nvPicPr>
          <p:blipFill>
            <a:blip r:embed="rId5"/>
            <a:stretch/>
          </p:blipFill>
          <p:spPr>
            <a:xfrm>
              <a:off x="1712880" y="5221440"/>
              <a:ext cx="291960" cy="293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7" name="" descr=""/>
            <p:cNvPicPr/>
            <p:nvPr/>
          </p:nvPicPr>
          <p:blipFill>
            <a:blip r:embed="rId6"/>
            <a:stretch/>
          </p:blipFill>
          <p:spPr>
            <a:xfrm>
              <a:off x="2019240" y="5221440"/>
              <a:ext cx="292320" cy="293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8" name="" descr=""/>
            <p:cNvPicPr/>
            <p:nvPr/>
          </p:nvPicPr>
          <p:blipFill>
            <a:blip r:embed="rId7"/>
            <a:stretch/>
          </p:blipFill>
          <p:spPr>
            <a:xfrm>
              <a:off x="2325600" y="5221440"/>
              <a:ext cx="293760" cy="293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9" name="" descr=""/>
            <p:cNvPicPr/>
            <p:nvPr/>
          </p:nvPicPr>
          <p:blipFill>
            <a:blip r:embed="rId8"/>
            <a:stretch/>
          </p:blipFill>
          <p:spPr>
            <a:xfrm>
              <a:off x="2631960" y="5221440"/>
              <a:ext cx="293760" cy="293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0" name="" descr=""/>
            <p:cNvPicPr/>
            <p:nvPr/>
          </p:nvPicPr>
          <p:blipFill>
            <a:blip r:embed="rId9"/>
            <a:stretch/>
          </p:blipFill>
          <p:spPr>
            <a:xfrm>
              <a:off x="2940120" y="5221440"/>
              <a:ext cx="291960" cy="293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1" name="" descr=""/>
            <p:cNvPicPr/>
            <p:nvPr/>
          </p:nvPicPr>
          <p:blipFill>
            <a:blip r:embed="rId10"/>
            <a:stretch/>
          </p:blipFill>
          <p:spPr>
            <a:xfrm>
              <a:off x="3246480" y="5221440"/>
              <a:ext cx="291960" cy="293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2" name="" descr=""/>
            <p:cNvPicPr/>
            <p:nvPr/>
          </p:nvPicPr>
          <p:blipFill>
            <a:blip r:embed="rId11"/>
            <a:stretch/>
          </p:blipFill>
          <p:spPr>
            <a:xfrm>
              <a:off x="3538440" y="5221440"/>
              <a:ext cx="293760" cy="293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3" name="" descr=""/>
            <p:cNvPicPr/>
            <p:nvPr/>
          </p:nvPicPr>
          <p:blipFill>
            <a:blip r:embed="rId12"/>
            <a:stretch/>
          </p:blipFill>
          <p:spPr>
            <a:xfrm>
              <a:off x="3846600" y="5221440"/>
              <a:ext cx="291960" cy="293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4" name="" descr=""/>
            <p:cNvPicPr/>
            <p:nvPr/>
          </p:nvPicPr>
          <p:blipFill>
            <a:blip r:embed="rId13"/>
            <a:stretch/>
          </p:blipFill>
          <p:spPr>
            <a:xfrm>
              <a:off x="4152960" y="5221440"/>
              <a:ext cx="291960" cy="293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5" name="" descr=""/>
            <p:cNvPicPr/>
            <p:nvPr/>
          </p:nvPicPr>
          <p:blipFill>
            <a:blip r:embed="rId14"/>
            <a:stretch/>
          </p:blipFill>
          <p:spPr>
            <a:xfrm>
              <a:off x="4459320" y="5221440"/>
              <a:ext cx="291960" cy="293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6" name="" descr=""/>
            <p:cNvPicPr/>
            <p:nvPr/>
          </p:nvPicPr>
          <p:blipFill>
            <a:blip r:embed="rId15"/>
            <a:stretch/>
          </p:blipFill>
          <p:spPr>
            <a:xfrm>
              <a:off x="4765680" y="5221440"/>
              <a:ext cx="293760" cy="293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" descr=""/>
            <p:cNvPicPr/>
            <p:nvPr/>
          </p:nvPicPr>
          <p:blipFill>
            <a:blip r:embed="rId16"/>
            <a:stretch/>
          </p:blipFill>
          <p:spPr>
            <a:xfrm>
              <a:off x="5073480" y="5221440"/>
              <a:ext cx="292320" cy="293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8" name="" descr=""/>
            <p:cNvPicPr/>
            <p:nvPr/>
          </p:nvPicPr>
          <p:blipFill>
            <a:blip r:embed="rId17"/>
            <a:stretch/>
          </p:blipFill>
          <p:spPr>
            <a:xfrm>
              <a:off x="5365800" y="5221440"/>
              <a:ext cx="291960" cy="293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9" name="" descr=""/>
            <p:cNvPicPr/>
            <p:nvPr/>
          </p:nvPicPr>
          <p:blipFill>
            <a:blip r:embed="rId18"/>
            <a:stretch/>
          </p:blipFill>
          <p:spPr>
            <a:xfrm>
              <a:off x="5672160" y="5221440"/>
              <a:ext cx="293760" cy="293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0" name="" descr=""/>
            <p:cNvPicPr/>
            <p:nvPr/>
          </p:nvPicPr>
          <p:blipFill>
            <a:blip r:embed="rId19"/>
            <a:stretch/>
          </p:blipFill>
          <p:spPr>
            <a:xfrm>
              <a:off x="5978520" y="5221440"/>
              <a:ext cx="293760" cy="293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1" name="" descr=""/>
            <p:cNvPicPr/>
            <p:nvPr/>
          </p:nvPicPr>
          <p:blipFill>
            <a:blip r:embed="rId20"/>
            <a:stretch/>
          </p:blipFill>
          <p:spPr>
            <a:xfrm>
              <a:off x="6286680" y="5221440"/>
              <a:ext cx="291960" cy="29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2" name=""/>
            <p:cNvSpPr/>
            <p:nvPr/>
          </p:nvSpPr>
          <p:spPr>
            <a:xfrm>
              <a:off x="3331440" y="5575320"/>
              <a:ext cx="900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neva"/>
                </a:rPr>
                <a:t>matrix size (n)</a:t>
              </a:r>
              <a:endParaRPr b="0" lang="en-US" sz="1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pic>
          <p:nvPicPr>
            <p:cNvPr id="923" name="" descr=""/>
            <p:cNvPicPr/>
            <p:nvPr/>
          </p:nvPicPr>
          <p:blipFill>
            <a:blip r:embed="rId21"/>
            <a:stretch/>
          </p:blipFill>
          <p:spPr>
            <a:xfrm>
              <a:off x="247680" y="3033720"/>
              <a:ext cx="168120" cy="97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4" name=""/>
            <p:cNvSpPr/>
            <p:nvPr/>
          </p:nvSpPr>
          <p:spPr>
            <a:xfrm>
              <a:off x="6885000" y="2936880"/>
              <a:ext cx="614520" cy="1184400"/>
            </a:xfrm>
            <a:prstGeom prst="rect">
              <a:avLst/>
            </a:prstGeom>
            <a:solidFill>
              <a:srgbClr val="ffff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6927840" y="3048120"/>
              <a:ext cx="320760" cy="1440"/>
            </a:xfrm>
            <a:prstGeom prst="line">
              <a:avLst/>
            </a:prstGeom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7039080" y="3006720"/>
              <a:ext cx="83880" cy="84240"/>
            </a:xfrm>
            <a:custGeom>
              <a:avLst/>
              <a:gdLst/>
              <a:ahLst/>
              <a:rect l="l" t="t" r="r" b="b"/>
              <a:pathLst>
                <a:path w="53" h="53">
                  <a:moveTo>
                    <a:pt x="26" y="0"/>
                  </a:moveTo>
                  <a:lnTo>
                    <a:pt x="53" y="26"/>
                  </a:lnTo>
                  <a:lnTo>
                    <a:pt x="26" y="53"/>
                  </a:lnTo>
                  <a:lnTo>
                    <a:pt x="0" y="26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0000"/>
            </a:solidFill>
            <a:ln w="144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7355520" y="2955960"/>
              <a:ext cx="131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Geneva"/>
                </a:rPr>
                <a:t>ijk</a:t>
              </a:r>
              <a:endParaRPr b="0" lang="en-US" sz="1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6927840" y="3243240"/>
              <a:ext cx="320760" cy="1440"/>
            </a:xfrm>
            <a:prstGeom prst="line">
              <a:avLst/>
            </a:prstGeom>
            <a:ln w="144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7039080" y="3201840"/>
              <a:ext cx="83880" cy="82800"/>
            </a:xfrm>
            <a:prstGeom prst="rect">
              <a:avLst/>
            </a:prstGeom>
            <a:solidFill>
              <a:srgbClr val="ffff00"/>
            </a:solidFill>
            <a:ln w="144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7355520" y="3151080"/>
              <a:ext cx="131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Geneva"/>
                </a:rPr>
                <a:t>ikj</a:t>
              </a:r>
              <a:endParaRPr b="0" lang="en-US" sz="1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6927840" y="3438360"/>
              <a:ext cx="320760" cy="1800"/>
            </a:xfrm>
            <a:prstGeom prst="line">
              <a:avLst/>
            </a:prstGeom>
            <a:ln w="144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7039080" y="3397320"/>
              <a:ext cx="83880" cy="82440"/>
            </a:xfrm>
            <a:custGeom>
              <a:avLst/>
              <a:gdLst/>
              <a:ahLst/>
              <a:rect l="l" t="t" r="r" b="b"/>
              <a:pathLst>
                <a:path w="53" h="52">
                  <a:moveTo>
                    <a:pt x="26" y="0"/>
                  </a:moveTo>
                  <a:lnTo>
                    <a:pt x="53" y="52"/>
                  </a:lnTo>
                  <a:lnTo>
                    <a:pt x="0" y="52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00ff00"/>
            </a:solidFill>
            <a:ln w="144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7355520" y="3346560"/>
              <a:ext cx="131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Geneva"/>
                </a:rPr>
                <a:t>jik</a:t>
              </a:r>
              <a:endParaRPr b="0" lang="en-US" sz="1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934" name=""/>
          <p:cNvSpPr/>
          <p:nvPr/>
        </p:nvSpPr>
        <p:spPr>
          <a:xfrm>
            <a:off x="6927840" y="3633840"/>
            <a:ext cx="320760" cy="1440"/>
          </a:xfrm>
          <a:prstGeom prst="line">
            <a:avLst/>
          </a:prstGeom>
          <a:ln w="144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 flipH="1" flipV="1">
            <a:off x="7039080" y="3590640"/>
            <a:ext cx="41040" cy="42840"/>
          </a:xfrm>
          <a:prstGeom prst="line">
            <a:avLst/>
          </a:prstGeom>
          <a:ln w="144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7080120" y="3633840"/>
            <a:ext cx="42840" cy="41400"/>
          </a:xfrm>
          <a:prstGeom prst="line">
            <a:avLst/>
          </a:prstGeom>
          <a:ln w="144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 flipH="1">
            <a:off x="7039080" y="3633840"/>
            <a:ext cx="41040" cy="41400"/>
          </a:xfrm>
          <a:prstGeom prst="line">
            <a:avLst/>
          </a:prstGeom>
          <a:ln w="144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 flipV="1">
            <a:off x="7080120" y="3590640"/>
            <a:ext cx="42840" cy="42840"/>
          </a:xfrm>
          <a:prstGeom prst="line">
            <a:avLst/>
          </a:prstGeom>
          <a:ln w="144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7355520" y="3541680"/>
            <a:ext cx="131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jki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6927840" y="3828960"/>
            <a:ext cx="320760" cy="1800"/>
          </a:xfrm>
          <a:prstGeom prst="line">
            <a:avLst/>
          </a:prstGeom>
          <a:ln w="144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 flipH="1" flipV="1">
            <a:off x="7039080" y="3785760"/>
            <a:ext cx="41040" cy="42840"/>
          </a:xfrm>
          <a:prstGeom prst="line">
            <a:avLst/>
          </a:prstGeom>
          <a:ln w="144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7080120" y="3828960"/>
            <a:ext cx="42840" cy="41400"/>
          </a:xfrm>
          <a:prstGeom prst="line">
            <a:avLst/>
          </a:prstGeom>
          <a:ln w="144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 flipH="1">
            <a:off x="7039080" y="3828960"/>
            <a:ext cx="41040" cy="41400"/>
          </a:xfrm>
          <a:prstGeom prst="line">
            <a:avLst/>
          </a:prstGeom>
          <a:ln w="144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 flipV="1">
            <a:off x="7080120" y="3785760"/>
            <a:ext cx="42840" cy="42840"/>
          </a:xfrm>
          <a:prstGeom prst="line">
            <a:avLst/>
          </a:prstGeom>
          <a:ln w="144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 flipV="1">
            <a:off x="7080120" y="3785760"/>
            <a:ext cx="1800" cy="42840"/>
          </a:xfrm>
          <a:prstGeom prst="line">
            <a:avLst/>
          </a:prstGeom>
          <a:ln w="144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7080120" y="3828960"/>
            <a:ext cx="1800" cy="41400"/>
          </a:xfrm>
          <a:prstGeom prst="line">
            <a:avLst/>
          </a:prstGeom>
          <a:ln w="144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7355520" y="3736800"/>
            <a:ext cx="131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kij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6927840" y="4024440"/>
            <a:ext cx="320760" cy="1440"/>
          </a:xfrm>
          <a:prstGeom prst="line">
            <a:avLst/>
          </a:prstGeom>
          <a:ln w="144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7039080" y="3981600"/>
            <a:ext cx="83880" cy="83880"/>
          </a:xfrm>
          <a:prstGeom prst="ellipse">
            <a:avLst/>
          </a:prstGeom>
          <a:solidFill>
            <a:srgbClr val="ff00ff"/>
          </a:solidFill>
          <a:ln w="144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" bIns="126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7355520" y="3932280"/>
            <a:ext cx="131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kji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95400" y="1738440"/>
            <a:ext cx="7459560" cy="4165560"/>
          </a:xfrm>
          <a:prstGeom prst="rect">
            <a:avLst/>
          </a:pr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Matmult Performance (Alpha 21164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 flipH="1">
            <a:off x="1523880" y="1460520"/>
            <a:ext cx="1067040" cy="233676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1350720" y="1166760"/>
            <a:ext cx="1848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Too big for L1 Cache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3331800" y="1166760"/>
            <a:ext cx="1848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Too big for L2 Cache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 flipH="1">
            <a:off x="2514240" y="1460520"/>
            <a:ext cx="1066680" cy="233676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404640" y="247320"/>
            <a:ext cx="8328240" cy="555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Blocked matmult perf (Alpha 21164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grpSp>
        <p:nvGrpSpPr>
          <p:cNvPr id="958" name=""/>
          <p:cNvGrpSpPr/>
          <p:nvPr/>
        </p:nvGrpSpPr>
        <p:grpSpPr>
          <a:xfrm>
            <a:off x="609480" y="1600200"/>
            <a:ext cx="8124840" cy="4545000"/>
            <a:chOff x="609480" y="1600200"/>
            <a:chExt cx="8124840" cy="4545000"/>
          </a:xfrm>
        </p:grpSpPr>
        <p:grpSp>
          <p:nvGrpSpPr>
            <p:cNvPr id="959" name=""/>
            <p:cNvGrpSpPr/>
            <p:nvPr/>
          </p:nvGrpSpPr>
          <p:grpSpPr>
            <a:xfrm>
              <a:off x="1415880" y="2739960"/>
              <a:ext cx="6222960" cy="1324080"/>
              <a:chOff x="1415880" y="2739960"/>
              <a:chExt cx="6222960" cy="1324080"/>
            </a:xfrm>
          </p:grpSpPr>
          <p:sp>
            <p:nvSpPr>
              <p:cNvPr id="960" name=""/>
              <p:cNvSpPr/>
              <p:nvPr/>
            </p:nvSpPr>
            <p:spPr>
              <a:xfrm>
                <a:off x="3606840" y="4062600"/>
                <a:ext cx="298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3698640" y="406260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3789360" y="406260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3881520" y="4062600"/>
                <a:ext cx="298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3971880" y="406260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4064040" y="4062600"/>
                <a:ext cx="298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4154400" y="406260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4246560" y="406260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4336920" y="406260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4429080" y="406260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4519440" y="406260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4611600" y="406260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4701960" y="406260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>
                <a:off x="4794120" y="406260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4884480" y="406260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4976640" y="406260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5067360" y="4062600"/>
                <a:ext cx="316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5159160" y="406260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5249880" y="4062600"/>
                <a:ext cx="316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>
                <a:off x="5341680" y="406260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5432400" y="4062600"/>
                <a:ext cx="316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5524560" y="4062600"/>
                <a:ext cx="298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5614920" y="4062600"/>
                <a:ext cx="316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5707080" y="4062600"/>
                <a:ext cx="298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5797440" y="4062600"/>
                <a:ext cx="316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>
                <a:off x="5889600" y="406260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>
                <a:off x="5979960" y="4062600"/>
                <a:ext cx="316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6072120" y="406260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6164280" y="4062600"/>
                <a:ext cx="298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>
                <a:off x="6254640" y="406260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6346800" y="406260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6437160" y="406260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>
                <a:off x="6529320" y="406260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6619680" y="406260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6711840" y="406260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6802200" y="406260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6894360" y="406260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6985080" y="4062600"/>
                <a:ext cx="298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7076880" y="406260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7167600" y="4062600"/>
                <a:ext cx="298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7259400" y="406260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7350120" y="406260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7442280" y="4062600"/>
                <a:ext cx="298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>
                <a:off x="7532640" y="406260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7624800" y="4062600"/>
                <a:ext cx="140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1415880" y="362268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1506600" y="3622680"/>
                <a:ext cx="298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1598400" y="362268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1689120" y="3622680"/>
                <a:ext cx="298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1780920" y="362268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1871640" y="3622680"/>
                <a:ext cx="316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1963800" y="3622680"/>
                <a:ext cx="298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2054160" y="3622680"/>
                <a:ext cx="316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2146320" y="3622680"/>
                <a:ext cx="298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2236680" y="3622680"/>
                <a:ext cx="316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2328840" y="362268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2419200" y="3622680"/>
                <a:ext cx="316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2511360" y="362268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2601720" y="3622680"/>
                <a:ext cx="316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2693880" y="362268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2784240" y="3622680"/>
                <a:ext cx="320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2876400" y="362268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2968560" y="362268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3058920" y="362268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3151080" y="362268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3241440" y="362268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3333600" y="362268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3424320" y="3622680"/>
                <a:ext cx="298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3516120" y="362268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3606840" y="3622680"/>
                <a:ext cx="298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3698640" y="362268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3789360" y="362268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3881520" y="3622680"/>
                <a:ext cx="298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3971880" y="362268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4064040" y="3622680"/>
                <a:ext cx="298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4154400" y="362268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4246560" y="362268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4336920" y="362268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4429080" y="362268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4519440" y="362268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4611600" y="362268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4701960" y="362268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4794120" y="362268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4884480" y="362268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4976640" y="362268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5067360" y="3622680"/>
                <a:ext cx="316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5159160" y="362268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5249880" y="3622680"/>
                <a:ext cx="316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5341680" y="362268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5432400" y="3622680"/>
                <a:ext cx="316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5524560" y="3622680"/>
                <a:ext cx="298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5614920" y="3622680"/>
                <a:ext cx="316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5707080" y="3622680"/>
                <a:ext cx="298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5797440" y="3622680"/>
                <a:ext cx="316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5889600" y="362268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5979960" y="3622680"/>
                <a:ext cx="316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6072120" y="362268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6164280" y="3622680"/>
                <a:ext cx="298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6254640" y="362268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6346800" y="362268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6437160" y="362268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6529320" y="362268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6619680" y="362268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6711840" y="362268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>
                <a:off x="6802200" y="362268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6894360" y="362268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6985080" y="3622680"/>
                <a:ext cx="298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7076880" y="362268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>
                <a:off x="7167600" y="3622680"/>
                <a:ext cx="298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7259400" y="362268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7350120" y="362268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7442280" y="3622680"/>
                <a:ext cx="298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7532640" y="362268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7624800" y="3622680"/>
                <a:ext cx="140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>
                <a:off x="1415880" y="318132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>
                <a:off x="1506600" y="3181320"/>
                <a:ext cx="298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1598400" y="318132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>
                <a:off x="1689120" y="3181320"/>
                <a:ext cx="298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1780920" y="318132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>
                <a:off x="1871640" y="3181320"/>
                <a:ext cx="316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1963800" y="3181320"/>
                <a:ext cx="298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>
                <a:off x="2054160" y="3181320"/>
                <a:ext cx="316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2146320" y="3181320"/>
                <a:ext cx="298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2236680" y="3181320"/>
                <a:ext cx="316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2328840" y="318132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2419200" y="3181320"/>
                <a:ext cx="316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2511360" y="318132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2601720" y="3181320"/>
                <a:ext cx="316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2693880" y="318132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2784240" y="3181320"/>
                <a:ext cx="320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2876400" y="318132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2968560" y="318132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3058920" y="318132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3151080" y="318132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>
                <a:off x="3241440" y="318132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3333600" y="318132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>
                <a:off x="3424320" y="3181320"/>
                <a:ext cx="298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3516120" y="318132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>
                <a:off x="3606840" y="3181320"/>
                <a:ext cx="298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>
                <a:off x="3698640" y="318132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>
                <a:off x="3789360" y="318132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>
                <a:off x="3881520" y="3181320"/>
                <a:ext cx="298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>
                <a:off x="3971880" y="318132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>
                <a:off x="4064040" y="3181320"/>
                <a:ext cx="298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>
                <a:off x="4154400" y="318132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4246560" y="318132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>
                <a:off x="4336920" y="318132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>
                <a:off x="4429080" y="318132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>
                <a:off x="4519440" y="318132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>
                <a:off x="4611600" y="318132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>
                <a:off x="4701960" y="318132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4794120" y="318132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4884480" y="318132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>
                <a:off x="4976640" y="318132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>
                <a:off x="5067360" y="3181320"/>
                <a:ext cx="316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5159160" y="318132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>
                <a:off x="5249880" y="3181320"/>
                <a:ext cx="316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>
                <a:off x="5341680" y="318132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>
                <a:off x="5432400" y="3181320"/>
                <a:ext cx="316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19" name=""/>
              <p:cNvSpPr/>
              <p:nvPr/>
            </p:nvSpPr>
            <p:spPr>
              <a:xfrm>
                <a:off x="5524560" y="3181320"/>
                <a:ext cx="298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20" name=""/>
              <p:cNvSpPr/>
              <p:nvPr/>
            </p:nvSpPr>
            <p:spPr>
              <a:xfrm>
                <a:off x="5614920" y="3181320"/>
                <a:ext cx="316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>
                <a:off x="5707080" y="3181320"/>
                <a:ext cx="298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>
                <a:off x="5797440" y="3181320"/>
                <a:ext cx="316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>
                <a:off x="5889600" y="318132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>
                <a:off x="5979960" y="3181320"/>
                <a:ext cx="316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>
                <a:off x="6072120" y="318132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>
                <a:off x="6164280" y="3181320"/>
                <a:ext cx="298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>
                <a:off x="6254640" y="318132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>
                <a:off x="6346800" y="318132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>
                <a:off x="6437160" y="318132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>
                <a:off x="6529320" y="318132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>
                <a:off x="6619680" y="318132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>
                <a:off x="6711840" y="318132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>
                <a:off x="6802200" y="318132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>
                <a:off x="6894360" y="318132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>
                <a:off x="6985080" y="3181320"/>
                <a:ext cx="298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>
                <a:off x="7076880" y="318132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37" name=""/>
              <p:cNvSpPr/>
              <p:nvPr/>
            </p:nvSpPr>
            <p:spPr>
              <a:xfrm>
                <a:off x="7167600" y="3181320"/>
                <a:ext cx="298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>
                <a:off x="7259400" y="318132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>
                <a:off x="7350120" y="318132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40" name=""/>
              <p:cNvSpPr/>
              <p:nvPr/>
            </p:nvSpPr>
            <p:spPr>
              <a:xfrm>
                <a:off x="7442280" y="3181320"/>
                <a:ext cx="298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41" name=""/>
              <p:cNvSpPr/>
              <p:nvPr/>
            </p:nvSpPr>
            <p:spPr>
              <a:xfrm>
                <a:off x="7532640" y="318132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42" name=""/>
              <p:cNvSpPr/>
              <p:nvPr/>
            </p:nvSpPr>
            <p:spPr>
              <a:xfrm>
                <a:off x="7624800" y="3181320"/>
                <a:ext cx="140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43" name=""/>
              <p:cNvSpPr/>
              <p:nvPr/>
            </p:nvSpPr>
            <p:spPr>
              <a:xfrm>
                <a:off x="1415880" y="273996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>
                <a:off x="1506600" y="2739960"/>
                <a:ext cx="298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45" name=""/>
              <p:cNvSpPr/>
              <p:nvPr/>
            </p:nvSpPr>
            <p:spPr>
              <a:xfrm>
                <a:off x="1598400" y="273996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>
                <a:off x="1689120" y="2739960"/>
                <a:ext cx="298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>
                <a:off x="1780920" y="273996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>
                <a:off x="1871640" y="2739960"/>
                <a:ext cx="316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>
                <a:off x="1963800" y="2739960"/>
                <a:ext cx="298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>
                <a:off x="2054160" y="2739960"/>
                <a:ext cx="316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>
                <a:off x="2146320" y="2739960"/>
                <a:ext cx="298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>
                <a:off x="2236680" y="2739960"/>
                <a:ext cx="316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>
                <a:off x="2328840" y="273996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>
                <a:off x="2419200" y="2739960"/>
                <a:ext cx="316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>
                <a:off x="2511360" y="273996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>
                <a:off x="2601720" y="2739960"/>
                <a:ext cx="316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>
                <a:off x="2693880" y="273996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>
                <a:off x="2784240" y="2739960"/>
                <a:ext cx="320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>
                <a:off x="2876400" y="273996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160" name=""/>
            <p:cNvGrpSpPr/>
            <p:nvPr/>
          </p:nvGrpSpPr>
          <p:grpSpPr>
            <a:xfrm>
              <a:off x="1369800" y="1843200"/>
              <a:ext cx="6269040" cy="3559320"/>
              <a:chOff x="1369800" y="1843200"/>
              <a:chExt cx="6269040" cy="3559320"/>
            </a:xfrm>
          </p:grpSpPr>
          <p:sp>
            <p:nvSpPr>
              <p:cNvPr id="1161" name=""/>
              <p:cNvSpPr/>
              <p:nvPr/>
            </p:nvSpPr>
            <p:spPr>
              <a:xfrm>
                <a:off x="2968560" y="273996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>
                <a:off x="3058920" y="273996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>
                <a:off x="3151080" y="273996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>
                <a:off x="3241440" y="273996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>
                <a:off x="3333600" y="273996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>
                <a:off x="3424320" y="2739960"/>
                <a:ext cx="298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>
                <a:off x="3516120" y="273996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>
                <a:off x="3606840" y="2739960"/>
                <a:ext cx="298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>
                <a:off x="3698640" y="273996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>
                <a:off x="3789360" y="273996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>
                <a:off x="3881520" y="2739960"/>
                <a:ext cx="298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>
                <a:off x="3971880" y="273996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>
                <a:off x="4064040" y="2739960"/>
                <a:ext cx="298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>
                <a:off x="4154400" y="273996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>
                <a:off x="4246560" y="273996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>
                <a:off x="4336920" y="273996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>
                <a:off x="4429080" y="273996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>
                <a:off x="4519440" y="273996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>
                <a:off x="4611600" y="273996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>
                <a:off x="4701960" y="273996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>
                <a:off x="4794120" y="273996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>
                <a:off x="4884480" y="273996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4976640" y="273996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>
                <a:off x="5067360" y="2739960"/>
                <a:ext cx="316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5159160" y="273996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5249880" y="2739960"/>
                <a:ext cx="316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>
                <a:off x="5341680" y="273996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>
                <a:off x="5432400" y="2739960"/>
                <a:ext cx="316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5524560" y="2739960"/>
                <a:ext cx="298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5614920" y="2739960"/>
                <a:ext cx="316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5707080" y="2739960"/>
                <a:ext cx="298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5797440" y="2739960"/>
                <a:ext cx="316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93" name=""/>
              <p:cNvSpPr/>
              <p:nvPr/>
            </p:nvSpPr>
            <p:spPr>
              <a:xfrm>
                <a:off x="5889600" y="273996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>
                <a:off x="5979960" y="2739960"/>
                <a:ext cx="316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>
                <a:off x="6072120" y="273996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>
                <a:off x="6164280" y="2739960"/>
                <a:ext cx="298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>
                <a:off x="6254640" y="273996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6346800" y="273996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>
                <a:off x="6437160" y="273996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>
                <a:off x="6529320" y="273996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>
                <a:off x="6619680" y="273996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6711840" y="273996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6802200" y="273996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6894360" y="273996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>
                <a:off x="6985080" y="2739960"/>
                <a:ext cx="298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>
                <a:off x="7076880" y="273996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7167600" y="2739960"/>
                <a:ext cx="298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>
                <a:off x="7259400" y="273996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>
                <a:off x="7350120" y="273996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>
                <a:off x="7442280" y="2739960"/>
                <a:ext cx="298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>
                <a:off x="7532640" y="273996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7624800" y="2739960"/>
                <a:ext cx="140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>
                <a:off x="1415880" y="228456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>
                <a:off x="1506600" y="2284560"/>
                <a:ext cx="298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>
                <a:off x="1598400" y="228456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>
                <a:off x="1689120" y="2284560"/>
                <a:ext cx="298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>
                <a:off x="1780920" y="228456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>
                <a:off x="1871640" y="2284560"/>
                <a:ext cx="316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>
                <a:off x="1963800" y="2284560"/>
                <a:ext cx="298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>
                <a:off x="2054160" y="2284560"/>
                <a:ext cx="316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>
                <a:off x="2146320" y="2284560"/>
                <a:ext cx="298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>
                <a:off x="2236680" y="2284560"/>
                <a:ext cx="316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>
                <a:off x="2328840" y="228456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>
                <a:off x="2419200" y="2284560"/>
                <a:ext cx="316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25" name=""/>
              <p:cNvSpPr/>
              <p:nvPr/>
            </p:nvSpPr>
            <p:spPr>
              <a:xfrm>
                <a:off x="2511360" y="228456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>
                <a:off x="2601720" y="2284560"/>
                <a:ext cx="316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>
                <a:off x="2693880" y="228456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28" name=""/>
              <p:cNvSpPr/>
              <p:nvPr/>
            </p:nvSpPr>
            <p:spPr>
              <a:xfrm>
                <a:off x="2784240" y="2284560"/>
                <a:ext cx="320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>
                <a:off x="2876400" y="228456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>
                <a:off x="2968560" y="228456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>
                <a:off x="3058920" y="228456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>
                <a:off x="3151080" y="228456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>
                <a:off x="3241440" y="228456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34" name=""/>
              <p:cNvSpPr/>
              <p:nvPr/>
            </p:nvSpPr>
            <p:spPr>
              <a:xfrm>
                <a:off x="3333600" y="228456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35" name=""/>
              <p:cNvSpPr/>
              <p:nvPr/>
            </p:nvSpPr>
            <p:spPr>
              <a:xfrm>
                <a:off x="3424320" y="2284560"/>
                <a:ext cx="298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36" name=""/>
              <p:cNvSpPr/>
              <p:nvPr/>
            </p:nvSpPr>
            <p:spPr>
              <a:xfrm>
                <a:off x="3516120" y="228456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37" name=""/>
              <p:cNvSpPr/>
              <p:nvPr/>
            </p:nvSpPr>
            <p:spPr>
              <a:xfrm>
                <a:off x="3606840" y="2284560"/>
                <a:ext cx="298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38" name=""/>
              <p:cNvSpPr/>
              <p:nvPr/>
            </p:nvSpPr>
            <p:spPr>
              <a:xfrm>
                <a:off x="3698640" y="228456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39" name=""/>
              <p:cNvSpPr/>
              <p:nvPr/>
            </p:nvSpPr>
            <p:spPr>
              <a:xfrm>
                <a:off x="3789360" y="228456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40" name=""/>
              <p:cNvSpPr/>
              <p:nvPr/>
            </p:nvSpPr>
            <p:spPr>
              <a:xfrm>
                <a:off x="3881520" y="2284560"/>
                <a:ext cx="298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>
                <a:off x="3971880" y="228456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>
                <a:off x="4064040" y="2284560"/>
                <a:ext cx="298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>
                <a:off x="4154400" y="228456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44" name=""/>
              <p:cNvSpPr/>
              <p:nvPr/>
            </p:nvSpPr>
            <p:spPr>
              <a:xfrm>
                <a:off x="4246560" y="228456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>
                <a:off x="4336920" y="228456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46" name=""/>
              <p:cNvSpPr/>
              <p:nvPr/>
            </p:nvSpPr>
            <p:spPr>
              <a:xfrm>
                <a:off x="4429080" y="228456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47" name=""/>
              <p:cNvSpPr/>
              <p:nvPr/>
            </p:nvSpPr>
            <p:spPr>
              <a:xfrm>
                <a:off x="4519440" y="228456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48" name=""/>
              <p:cNvSpPr/>
              <p:nvPr/>
            </p:nvSpPr>
            <p:spPr>
              <a:xfrm>
                <a:off x="4611600" y="228456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49" name=""/>
              <p:cNvSpPr/>
              <p:nvPr/>
            </p:nvSpPr>
            <p:spPr>
              <a:xfrm>
                <a:off x="4701960" y="228456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50" name=""/>
              <p:cNvSpPr/>
              <p:nvPr/>
            </p:nvSpPr>
            <p:spPr>
              <a:xfrm>
                <a:off x="4794120" y="228456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51" name=""/>
              <p:cNvSpPr/>
              <p:nvPr/>
            </p:nvSpPr>
            <p:spPr>
              <a:xfrm>
                <a:off x="4884480" y="228456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52" name=""/>
              <p:cNvSpPr/>
              <p:nvPr/>
            </p:nvSpPr>
            <p:spPr>
              <a:xfrm>
                <a:off x="4976640" y="228456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>
                <a:off x="5067360" y="2284560"/>
                <a:ext cx="316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>
                <a:off x="5159160" y="228456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>
                <a:off x="5249880" y="2284560"/>
                <a:ext cx="316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>
                <a:off x="5341680" y="228456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57" name=""/>
              <p:cNvSpPr/>
              <p:nvPr/>
            </p:nvSpPr>
            <p:spPr>
              <a:xfrm>
                <a:off x="5432400" y="2284560"/>
                <a:ext cx="316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58" name=""/>
              <p:cNvSpPr/>
              <p:nvPr/>
            </p:nvSpPr>
            <p:spPr>
              <a:xfrm>
                <a:off x="5524560" y="2284560"/>
                <a:ext cx="298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59" name=""/>
              <p:cNvSpPr/>
              <p:nvPr/>
            </p:nvSpPr>
            <p:spPr>
              <a:xfrm>
                <a:off x="5614920" y="2284560"/>
                <a:ext cx="316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60" name=""/>
              <p:cNvSpPr/>
              <p:nvPr/>
            </p:nvSpPr>
            <p:spPr>
              <a:xfrm>
                <a:off x="5707080" y="2284560"/>
                <a:ext cx="298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61" name=""/>
              <p:cNvSpPr/>
              <p:nvPr/>
            </p:nvSpPr>
            <p:spPr>
              <a:xfrm>
                <a:off x="5797440" y="2284560"/>
                <a:ext cx="316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62" name=""/>
              <p:cNvSpPr/>
              <p:nvPr/>
            </p:nvSpPr>
            <p:spPr>
              <a:xfrm>
                <a:off x="5889600" y="228456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63" name=""/>
              <p:cNvSpPr/>
              <p:nvPr/>
            </p:nvSpPr>
            <p:spPr>
              <a:xfrm>
                <a:off x="5979960" y="2284560"/>
                <a:ext cx="316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64" name=""/>
              <p:cNvSpPr/>
              <p:nvPr/>
            </p:nvSpPr>
            <p:spPr>
              <a:xfrm>
                <a:off x="6072120" y="228456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65" name=""/>
              <p:cNvSpPr/>
              <p:nvPr/>
            </p:nvSpPr>
            <p:spPr>
              <a:xfrm>
                <a:off x="6164280" y="2284560"/>
                <a:ext cx="298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66" name=""/>
              <p:cNvSpPr/>
              <p:nvPr/>
            </p:nvSpPr>
            <p:spPr>
              <a:xfrm>
                <a:off x="6254640" y="228456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67" name=""/>
              <p:cNvSpPr/>
              <p:nvPr/>
            </p:nvSpPr>
            <p:spPr>
              <a:xfrm>
                <a:off x="6346800" y="228456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68" name=""/>
              <p:cNvSpPr/>
              <p:nvPr/>
            </p:nvSpPr>
            <p:spPr>
              <a:xfrm>
                <a:off x="6437160" y="228456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69" name=""/>
              <p:cNvSpPr/>
              <p:nvPr/>
            </p:nvSpPr>
            <p:spPr>
              <a:xfrm>
                <a:off x="6529320" y="228456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70" name=""/>
              <p:cNvSpPr/>
              <p:nvPr/>
            </p:nvSpPr>
            <p:spPr>
              <a:xfrm>
                <a:off x="6619680" y="228456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71" name=""/>
              <p:cNvSpPr/>
              <p:nvPr/>
            </p:nvSpPr>
            <p:spPr>
              <a:xfrm>
                <a:off x="6711840" y="228456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72" name=""/>
              <p:cNvSpPr/>
              <p:nvPr/>
            </p:nvSpPr>
            <p:spPr>
              <a:xfrm>
                <a:off x="6802200" y="228456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73" name=""/>
              <p:cNvSpPr/>
              <p:nvPr/>
            </p:nvSpPr>
            <p:spPr>
              <a:xfrm>
                <a:off x="6894360" y="228456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74" name=""/>
              <p:cNvSpPr/>
              <p:nvPr/>
            </p:nvSpPr>
            <p:spPr>
              <a:xfrm>
                <a:off x="6985080" y="2284560"/>
                <a:ext cx="298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75" name=""/>
              <p:cNvSpPr/>
              <p:nvPr/>
            </p:nvSpPr>
            <p:spPr>
              <a:xfrm>
                <a:off x="7076880" y="228456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76" name=""/>
              <p:cNvSpPr/>
              <p:nvPr/>
            </p:nvSpPr>
            <p:spPr>
              <a:xfrm>
                <a:off x="7167600" y="2284560"/>
                <a:ext cx="298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77" name=""/>
              <p:cNvSpPr/>
              <p:nvPr/>
            </p:nvSpPr>
            <p:spPr>
              <a:xfrm>
                <a:off x="7259400" y="228456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78" name=""/>
              <p:cNvSpPr/>
              <p:nvPr/>
            </p:nvSpPr>
            <p:spPr>
              <a:xfrm>
                <a:off x="7350120" y="228456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79" name=""/>
              <p:cNvSpPr/>
              <p:nvPr/>
            </p:nvSpPr>
            <p:spPr>
              <a:xfrm>
                <a:off x="7442280" y="2284560"/>
                <a:ext cx="298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80" name=""/>
              <p:cNvSpPr/>
              <p:nvPr/>
            </p:nvSpPr>
            <p:spPr>
              <a:xfrm>
                <a:off x="7532640" y="228456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81" name=""/>
              <p:cNvSpPr/>
              <p:nvPr/>
            </p:nvSpPr>
            <p:spPr>
              <a:xfrm>
                <a:off x="7624800" y="2284560"/>
                <a:ext cx="140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82" name=""/>
              <p:cNvSpPr/>
              <p:nvPr/>
            </p:nvSpPr>
            <p:spPr>
              <a:xfrm>
                <a:off x="1415880" y="184320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83" name=""/>
              <p:cNvSpPr/>
              <p:nvPr/>
            </p:nvSpPr>
            <p:spPr>
              <a:xfrm>
                <a:off x="1506600" y="1843200"/>
                <a:ext cx="298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84" name=""/>
              <p:cNvSpPr/>
              <p:nvPr/>
            </p:nvSpPr>
            <p:spPr>
              <a:xfrm>
                <a:off x="1598400" y="184320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85" name=""/>
              <p:cNvSpPr/>
              <p:nvPr/>
            </p:nvSpPr>
            <p:spPr>
              <a:xfrm>
                <a:off x="1689120" y="1843200"/>
                <a:ext cx="298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86" name=""/>
              <p:cNvSpPr/>
              <p:nvPr/>
            </p:nvSpPr>
            <p:spPr>
              <a:xfrm>
                <a:off x="1780920" y="184320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87" name=""/>
              <p:cNvSpPr/>
              <p:nvPr/>
            </p:nvSpPr>
            <p:spPr>
              <a:xfrm>
                <a:off x="1871640" y="1843200"/>
                <a:ext cx="316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88" name=""/>
              <p:cNvSpPr/>
              <p:nvPr/>
            </p:nvSpPr>
            <p:spPr>
              <a:xfrm>
                <a:off x="1963800" y="1843200"/>
                <a:ext cx="298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89" name=""/>
              <p:cNvSpPr/>
              <p:nvPr/>
            </p:nvSpPr>
            <p:spPr>
              <a:xfrm>
                <a:off x="2054160" y="1843200"/>
                <a:ext cx="316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90" name=""/>
              <p:cNvSpPr/>
              <p:nvPr/>
            </p:nvSpPr>
            <p:spPr>
              <a:xfrm>
                <a:off x="2146320" y="1843200"/>
                <a:ext cx="298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91" name=""/>
              <p:cNvSpPr/>
              <p:nvPr/>
            </p:nvSpPr>
            <p:spPr>
              <a:xfrm>
                <a:off x="2236680" y="1843200"/>
                <a:ext cx="316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92" name=""/>
              <p:cNvSpPr/>
              <p:nvPr/>
            </p:nvSpPr>
            <p:spPr>
              <a:xfrm>
                <a:off x="2328840" y="184320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93" name=""/>
              <p:cNvSpPr/>
              <p:nvPr/>
            </p:nvSpPr>
            <p:spPr>
              <a:xfrm>
                <a:off x="2419200" y="1843200"/>
                <a:ext cx="316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94" name=""/>
              <p:cNvSpPr/>
              <p:nvPr/>
            </p:nvSpPr>
            <p:spPr>
              <a:xfrm>
                <a:off x="2511360" y="184320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95" name=""/>
              <p:cNvSpPr/>
              <p:nvPr/>
            </p:nvSpPr>
            <p:spPr>
              <a:xfrm>
                <a:off x="2601720" y="1843200"/>
                <a:ext cx="316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96" name=""/>
              <p:cNvSpPr/>
              <p:nvPr/>
            </p:nvSpPr>
            <p:spPr>
              <a:xfrm>
                <a:off x="2693880" y="184320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97" name=""/>
              <p:cNvSpPr/>
              <p:nvPr/>
            </p:nvSpPr>
            <p:spPr>
              <a:xfrm>
                <a:off x="2784240" y="1843200"/>
                <a:ext cx="320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98" name=""/>
              <p:cNvSpPr/>
              <p:nvPr/>
            </p:nvSpPr>
            <p:spPr>
              <a:xfrm>
                <a:off x="2876400" y="184320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99" name=""/>
              <p:cNvSpPr/>
              <p:nvPr/>
            </p:nvSpPr>
            <p:spPr>
              <a:xfrm>
                <a:off x="2968560" y="184320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00" name=""/>
              <p:cNvSpPr/>
              <p:nvPr/>
            </p:nvSpPr>
            <p:spPr>
              <a:xfrm>
                <a:off x="3058920" y="184320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01" name=""/>
              <p:cNvSpPr/>
              <p:nvPr/>
            </p:nvSpPr>
            <p:spPr>
              <a:xfrm>
                <a:off x="3151080" y="184320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02" name=""/>
              <p:cNvSpPr/>
              <p:nvPr/>
            </p:nvSpPr>
            <p:spPr>
              <a:xfrm>
                <a:off x="3241440" y="184320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03" name=""/>
              <p:cNvSpPr/>
              <p:nvPr/>
            </p:nvSpPr>
            <p:spPr>
              <a:xfrm>
                <a:off x="3333600" y="184320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04" name=""/>
              <p:cNvSpPr/>
              <p:nvPr/>
            </p:nvSpPr>
            <p:spPr>
              <a:xfrm>
                <a:off x="3424320" y="1843200"/>
                <a:ext cx="298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05" name=""/>
              <p:cNvSpPr/>
              <p:nvPr/>
            </p:nvSpPr>
            <p:spPr>
              <a:xfrm>
                <a:off x="3516120" y="184320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06" name=""/>
              <p:cNvSpPr/>
              <p:nvPr/>
            </p:nvSpPr>
            <p:spPr>
              <a:xfrm>
                <a:off x="3606840" y="1843200"/>
                <a:ext cx="298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07" name=""/>
              <p:cNvSpPr/>
              <p:nvPr/>
            </p:nvSpPr>
            <p:spPr>
              <a:xfrm>
                <a:off x="3698640" y="184320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08" name=""/>
              <p:cNvSpPr/>
              <p:nvPr/>
            </p:nvSpPr>
            <p:spPr>
              <a:xfrm>
                <a:off x="3789360" y="184320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09" name=""/>
              <p:cNvSpPr/>
              <p:nvPr/>
            </p:nvSpPr>
            <p:spPr>
              <a:xfrm>
                <a:off x="3881520" y="1843200"/>
                <a:ext cx="298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10" name=""/>
              <p:cNvSpPr/>
              <p:nvPr/>
            </p:nvSpPr>
            <p:spPr>
              <a:xfrm>
                <a:off x="3971880" y="184320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11" name=""/>
              <p:cNvSpPr/>
              <p:nvPr/>
            </p:nvSpPr>
            <p:spPr>
              <a:xfrm>
                <a:off x="4064040" y="1843200"/>
                <a:ext cx="298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12" name=""/>
              <p:cNvSpPr/>
              <p:nvPr/>
            </p:nvSpPr>
            <p:spPr>
              <a:xfrm>
                <a:off x="4154400" y="184320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13" name=""/>
              <p:cNvSpPr/>
              <p:nvPr/>
            </p:nvSpPr>
            <p:spPr>
              <a:xfrm>
                <a:off x="4246560" y="184320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14" name=""/>
              <p:cNvSpPr/>
              <p:nvPr/>
            </p:nvSpPr>
            <p:spPr>
              <a:xfrm>
                <a:off x="4336920" y="184320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15" name=""/>
              <p:cNvSpPr/>
              <p:nvPr/>
            </p:nvSpPr>
            <p:spPr>
              <a:xfrm>
                <a:off x="4429080" y="184320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16" name=""/>
              <p:cNvSpPr/>
              <p:nvPr/>
            </p:nvSpPr>
            <p:spPr>
              <a:xfrm>
                <a:off x="4519440" y="184320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17" name=""/>
              <p:cNvSpPr/>
              <p:nvPr/>
            </p:nvSpPr>
            <p:spPr>
              <a:xfrm>
                <a:off x="4611600" y="184320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18" name=""/>
              <p:cNvSpPr/>
              <p:nvPr/>
            </p:nvSpPr>
            <p:spPr>
              <a:xfrm>
                <a:off x="4701960" y="184320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19" name=""/>
              <p:cNvSpPr/>
              <p:nvPr/>
            </p:nvSpPr>
            <p:spPr>
              <a:xfrm>
                <a:off x="4794120" y="184320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20" name=""/>
              <p:cNvSpPr/>
              <p:nvPr/>
            </p:nvSpPr>
            <p:spPr>
              <a:xfrm>
                <a:off x="4884480" y="184320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21" name=""/>
              <p:cNvSpPr/>
              <p:nvPr/>
            </p:nvSpPr>
            <p:spPr>
              <a:xfrm>
                <a:off x="4976640" y="184320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22" name=""/>
              <p:cNvSpPr/>
              <p:nvPr/>
            </p:nvSpPr>
            <p:spPr>
              <a:xfrm>
                <a:off x="5067360" y="1843200"/>
                <a:ext cx="316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23" name=""/>
              <p:cNvSpPr/>
              <p:nvPr/>
            </p:nvSpPr>
            <p:spPr>
              <a:xfrm>
                <a:off x="5159160" y="184320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24" name=""/>
              <p:cNvSpPr/>
              <p:nvPr/>
            </p:nvSpPr>
            <p:spPr>
              <a:xfrm>
                <a:off x="5249880" y="1843200"/>
                <a:ext cx="316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25" name=""/>
              <p:cNvSpPr/>
              <p:nvPr/>
            </p:nvSpPr>
            <p:spPr>
              <a:xfrm>
                <a:off x="5341680" y="184320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26" name=""/>
              <p:cNvSpPr/>
              <p:nvPr/>
            </p:nvSpPr>
            <p:spPr>
              <a:xfrm>
                <a:off x="5432400" y="1843200"/>
                <a:ext cx="316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27" name=""/>
              <p:cNvSpPr/>
              <p:nvPr/>
            </p:nvSpPr>
            <p:spPr>
              <a:xfrm>
                <a:off x="5524560" y="1843200"/>
                <a:ext cx="298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28" name=""/>
              <p:cNvSpPr/>
              <p:nvPr/>
            </p:nvSpPr>
            <p:spPr>
              <a:xfrm>
                <a:off x="5614920" y="1843200"/>
                <a:ext cx="316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29" name=""/>
              <p:cNvSpPr/>
              <p:nvPr/>
            </p:nvSpPr>
            <p:spPr>
              <a:xfrm>
                <a:off x="5707080" y="1843200"/>
                <a:ext cx="298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30" name=""/>
              <p:cNvSpPr/>
              <p:nvPr/>
            </p:nvSpPr>
            <p:spPr>
              <a:xfrm>
                <a:off x="5797440" y="1843200"/>
                <a:ext cx="316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31" name=""/>
              <p:cNvSpPr/>
              <p:nvPr/>
            </p:nvSpPr>
            <p:spPr>
              <a:xfrm>
                <a:off x="5889600" y="184320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32" name=""/>
              <p:cNvSpPr/>
              <p:nvPr/>
            </p:nvSpPr>
            <p:spPr>
              <a:xfrm>
                <a:off x="5979960" y="1843200"/>
                <a:ext cx="316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33" name=""/>
              <p:cNvSpPr/>
              <p:nvPr/>
            </p:nvSpPr>
            <p:spPr>
              <a:xfrm>
                <a:off x="6072120" y="184320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34" name=""/>
              <p:cNvSpPr/>
              <p:nvPr/>
            </p:nvSpPr>
            <p:spPr>
              <a:xfrm>
                <a:off x="6164280" y="1843200"/>
                <a:ext cx="298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35" name=""/>
              <p:cNvSpPr/>
              <p:nvPr/>
            </p:nvSpPr>
            <p:spPr>
              <a:xfrm>
                <a:off x="6254640" y="184320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36" name=""/>
              <p:cNvSpPr/>
              <p:nvPr/>
            </p:nvSpPr>
            <p:spPr>
              <a:xfrm>
                <a:off x="6346800" y="184320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37" name=""/>
              <p:cNvSpPr/>
              <p:nvPr/>
            </p:nvSpPr>
            <p:spPr>
              <a:xfrm>
                <a:off x="6437160" y="184320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38" name=""/>
              <p:cNvSpPr/>
              <p:nvPr/>
            </p:nvSpPr>
            <p:spPr>
              <a:xfrm>
                <a:off x="6529320" y="184320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39" name=""/>
              <p:cNvSpPr/>
              <p:nvPr/>
            </p:nvSpPr>
            <p:spPr>
              <a:xfrm>
                <a:off x="6619680" y="184320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40" name=""/>
              <p:cNvSpPr/>
              <p:nvPr/>
            </p:nvSpPr>
            <p:spPr>
              <a:xfrm>
                <a:off x="6711840" y="184320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41" name=""/>
              <p:cNvSpPr/>
              <p:nvPr/>
            </p:nvSpPr>
            <p:spPr>
              <a:xfrm>
                <a:off x="6802200" y="184320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42" name=""/>
              <p:cNvSpPr/>
              <p:nvPr/>
            </p:nvSpPr>
            <p:spPr>
              <a:xfrm>
                <a:off x="6894360" y="184320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43" name=""/>
              <p:cNvSpPr/>
              <p:nvPr/>
            </p:nvSpPr>
            <p:spPr>
              <a:xfrm>
                <a:off x="6985080" y="1843200"/>
                <a:ext cx="298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44" name=""/>
              <p:cNvSpPr/>
              <p:nvPr/>
            </p:nvSpPr>
            <p:spPr>
              <a:xfrm>
                <a:off x="7076880" y="184320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45" name=""/>
              <p:cNvSpPr/>
              <p:nvPr/>
            </p:nvSpPr>
            <p:spPr>
              <a:xfrm>
                <a:off x="7167600" y="1843200"/>
                <a:ext cx="298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46" name=""/>
              <p:cNvSpPr/>
              <p:nvPr/>
            </p:nvSpPr>
            <p:spPr>
              <a:xfrm>
                <a:off x="7259400" y="184320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47" name=""/>
              <p:cNvSpPr/>
              <p:nvPr/>
            </p:nvSpPr>
            <p:spPr>
              <a:xfrm>
                <a:off x="7350120" y="184320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48" name=""/>
              <p:cNvSpPr/>
              <p:nvPr/>
            </p:nvSpPr>
            <p:spPr>
              <a:xfrm>
                <a:off x="7442280" y="1843200"/>
                <a:ext cx="298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49" name=""/>
              <p:cNvSpPr/>
              <p:nvPr/>
            </p:nvSpPr>
            <p:spPr>
              <a:xfrm>
                <a:off x="7532640" y="184320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50" name=""/>
              <p:cNvSpPr/>
              <p:nvPr/>
            </p:nvSpPr>
            <p:spPr>
              <a:xfrm>
                <a:off x="7624800" y="1843200"/>
                <a:ext cx="140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51" name=""/>
              <p:cNvSpPr/>
              <p:nvPr/>
            </p:nvSpPr>
            <p:spPr>
              <a:xfrm>
                <a:off x="1415880" y="1843200"/>
                <a:ext cx="6222960" cy="3557520"/>
              </a:xfrm>
              <a:prstGeom prst="rect">
                <a:avLst/>
              </a:prstGeom>
              <a:noFill/>
              <a:ln w="158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52" name=""/>
              <p:cNvSpPr/>
              <p:nvPr/>
            </p:nvSpPr>
            <p:spPr>
              <a:xfrm>
                <a:off x="1415880" y="1843200"/>
                <a:ext cx="1800" cy="35575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53" name=""/>
              <p:cNvSpPr/>
              <p:nvPr/>
            </p:nvSpPr>
            <p:spPr>
              <a:xfrm>
                <a:off x="1369800" y="5400720"/>
                <a:ext cx="460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54" name=""/>
              <p:cNvSpPr/>
              <p:nvPr/>
            </p:nvSpPr>
            <p:spPr>
              <a:xfrm>
                <a:off x="1369800" y="4959360"/>
                <a:ext cx="460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55" name=""/>
              <p:cNvSpPr/>
              <p:nvPr/>
            </p:nvSpPr>
            <p:spPr>
              <a:xfrm>
                <a:off x="1369800" y="4519800"/>
                <a:ext cx="46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56" name=""/>
              <p:cNvSpPr/>
              <p:nvPr/>
            </p:nvSpPr>
            <p:spPr>
              <a:xfrm>
                <a:off x="1369800" y="4062600"/>
                <a:ext cx="46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57" name=""/>
              <p:cNvSpPr/>
              <p:nvPr/>
            </p:nvSpPr>
            <p:spPr>
              <a:xfrm>
                <a:off x="1369800" y="3622680"/>
                <a:ext cx="460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58" name=""/>
              <p:cNvSpPr/>
              <p:nvPr/>
            </p:nvSpPr>
            <p:spPr>
              <a:xfrm>
                <a:off x="1369800" y="3181320"/>
                <a:ext cx="460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59" name=""/>
              <p:cNvSpPr/>
              <p:nvPr/>
            </p:nvSpPr>
            <p:spPr>
              <a:xfrm>
                <a:off x="1369800" y="2739960"/>
                <a:ext cx="460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60" name=""/>
              <p:cNvSpPr/>
              <p:nvPr/>
            </p:nvSpPr>
            <p:spPr>
              <a:xfrm>
                <a:off x="1369800" y="2284560"/>
                <a:ext cx="46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361" name=""/>
            <p:cNvGrpSpPr/>
            <p:nvPr/>
          </p:nvGrpSpPr>
          <p:grpSpPr>
            <a:xfrm>
              <a:off x="776160" y="1758960"/>
              <a:ext cx="7897680" cy="4195440"/>
              <a:chOff x="776160" y="1758960"/>
              <a:chExt cx="7897680" cy="4195440"/>
            </a:xfrm>
          </p:grpSpPr>
          <p:sp>
            <p:nvSpPr>
              <p:cNvPr id="1362" name=""/>
              <p:cNvSpPr/>
              <p:nvPr/>
            </p:nvSpPr>
            <p:spPr>
              <a:xfrm>
                <a:off x="1369800" y="1843200"/>
                <a:ext cx="46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63" name=""/>
              <p:cNvSpPr/>
              <p:nvPr/>
            </p:nvSpPr>
            <p:spPr>
              <a:xfrm>
                <a:off x="1415880" y="5400720"/>
                <a:ext cx="622296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64" name=""/>
              <p:cNvSpPr/>
              <p:nvPr/>
            </p:nvSpPr>
            <p:spPr>
              <a:xfrm flipV="1">
                <a:off x="1415880" y="5354640"/>
                <a:ext cx="1800" cy="921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65" name=""/>
              <p:cNvSpPr/>
              <p:nvPr/>
            </p:nvSpPr>
            <p:spPr>
              <a:xfrm flipV="1">
                <a:off x="1765080" y="5354640"/>
                <a:ext cx="1800" cy="921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66" name=""/>
              <p:cNvSpPr/>
              <p:nvPr/>
            </p:nvSpPr>
            <p:spPr>
              <a:xfrm flipV="1">
                <a:off x="2100240" y="5354640"/>
                <a:ext cx="1440" cy="921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67" name=""/>
              <p:cNvSpPr/>
              <p:nvPr/>
            </p:nvSpPr>
            <p:spPr>
              <a:xfrm flipV="1">
                <a:off x="2450880" y="5354640"/>
                <a:ext cx="1800" cy="921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68" name=""/>
              <p:cNvSpPr/>
              <p:nvPr/>
            </p:nvSpPr>
            <p:spPr>
              <a:xfrm flipV="1">
                <a:off x="2800080" y="5354640"/>
                <a:ext cx="1800" cy="921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69" name=""/>
              <p:cNvSpPr/>
              <p:nvPr/>
            </p:nvSpPr>
            <p:spPr>
              <a:xfrm flipV="1">
                <a:off x="3151080" y="5354640"/>
                <a:ext cx="1440" cy="921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70" name=""/>
              <p:cNvSpPr/>
              <p:nvPr/>
            </p:nvSpPr>
            <p:spPr>
              <a:xfrm flipV="1">
                <a:off x="3484440" y="5354640"/>
                <a:ext cx="1440" cy="921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71" name=""/>
              <p:cNvSpPr/>
              <p:nvPr/>
            </p:nvSpPr>
            <p:spPr>
              <a:xfrm flipV="1">
                <a:off x="3835440" y="5354640"/>
                <a:ext cx="1440" cy="921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72" name=""/>
              <p:cNvSpPr/>
              <p:nvPr/>
            </p:nvSpPr>
            <p:spPr>
              <a:xfrm flipV="1">
                <a:off x="4184640" y="5354640"/>
                <a:ext cx="1440" cy="921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73" name=""/>
              <p:cNvSpPr/>
              <p:nvPr/>
            </p:nvSpPr>
            <p:spPr>
              <a:xfrm flipV="1">
                <a:off x="4535280" y="5354640"/>
                <a:ext cx="1800" cy="921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74" name=""/>
              <p:cNvSpPr/>
              <p:nvPr/>
            </p:nvSpPr>
            <p:spPr>
              <a:xfrm flipV="1">
                <a:off x="4870440" y="5354640"/>
                <a:ext cx="1440" cy="921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75" name=""/>
              <p:cNvSpPr/>
              <p:nvPr/>
            </p:nvSpPr>
            <p:spPr>
              <a:xfrm flipV="1">
                <a:off x="5219640" y="5354640"/>
                <a:ext cx="1440" cy="921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76" name=""/>
              <p:cNvSpPr/>
              <p:nvPr/>
            </p:nvSpPr>
            <p:spPr>
              <a:xfrm flipV="1">
                <a:off x="5570280" y="5354640"/>
                <a:ext cx="1800" cy="921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77" name=""/>
              <p:cNvSpPr/>
              <p:nvPr/>
            </p:nvSpPr>
            <p:spPr>
              <a:xfrm flipV="1">
                <a:off x="5905440" y="5354640"/>
                <a:ext cx="1440" cy="921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78" name=""/>
              <p:cNvSpPr/>
              <p:nvPr/>
            </p:nvSpPr>
            <p:spPr>
              <a:xfrm flipV="1">
                <a:off x="6254640" y="5354640"/>
                <a:ext cx="1440" cy="921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79" name=""/>
              <p:cNvSpPr/>
              <p:nvPr/>
            </p:nvSpPr>
            <p:spPr>
              <a:xfrm flipV="1">
                <a:off x="6603840" y="5354640"/>
                <a:ext cx="1800" cy="921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80" name=""/>
              <p:cNvSpPr/>
              <p:nvPr/>
            </p:nvSpPr>
            <p:spPr>
              <a:xfrm flipV="1">
                <a:off x="6954840" y="5354640"/>
                <a:ext cx="1440" cy="921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81" name=""/>
              <p:cNvSpPr/>
              <p:nvPr/>
            </p:nvSpPr>
            <p:spPr>
              <a:xfrm flipV="1">
                <a:off x="7289640" y="5354640"/>
                <a:ext cx="1800" cy="921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82" name=""/>
              <p:cNvSpPr/>
              <p:nvPr/>
            </p:nvSpPr>
            <p:spPr>
              <a:xfrm flipV="1">
                <a:off x="7638840" y="5354640"/>
                <a:ext cx="1800" cy="921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83" name=""/>
              <p:cNvSpPr/>
              <p:nvPr/>
            </p:nvSpPr>
            <p:spPr>
              <a:xfrm>
                <a:off x="1415880" y="2679840"/>
                <a:ext cx="6222960" cy="973080"/>
              </a:xfrm>
              <a:custGeom>
                <a:avLst/>
                <a:gdLst/>
                <a:ahLst/>
                <a:rect l="l" t="t" r="r" b="b"/>
                <a:pathLst>
                  <a:path w="3920" h="613">
                    <a:moveTo>
                      <a:pt x="0" y="517"/>
                    </a:moveTo>
                    <a:lnTo>
                      <a:pt x="220" y="613"/>
                    </a:lnTo>
                    <a:lnTo>
                      <a:pt x="431" y="565"/>
                    </a:lnTo>
                    <a:lnTo>
                      <a:pt x="652" y="153"/>
                    </a:lnTo>
                    <a:lnTo>
                      <a:pt x="872" y="287"/>
                    </a:lnTo>
                    <a:lnTo>
                      <a:pt x="1093" y="96"/>
                    </a:lnTo>
                    <a:lnTo>
                      <a:pt x="1303" y="0"/>
                    </a:lnTo>
                    <a:lnTo>
                      <a:pt x="1524" y="163"/>
                    </a:lnTo>
                    <a:lnTo>
                      <a:pt x="1744" y="38"/>
                    </a:lnTo>
                    <a:lnTo>
                      <a:pt x="1965" y="153"/>
                    </a:lnTo>
                    <a:lnTo>
                      <a:pt x="2176" y="144"/>
                    </a:lnTo>
                    <a:lnTo>
                      <a:pt x="2396" y="57"/>
                    </a:lnTo>
                    <a:lnTo>
                      <a:pt x="2617" y="163"/>
                    </a:lnTo>
                    <a:lnTo>
                      <a:pt x="2828" y="86"/>
                    </a:lnTo>
                    <a:lnTo>
                      <a:pt x="3048" y="86"/>
                    </a:lnTo>
                    <a:lnTo>
                      <a:pt x="3268" y="153"/>
                    </a:lnTo>
                    <a:lnTo>
                      <a:pt x="3489" y="124"/>
                    </a:lnTo>
                    <a:lnTo>
                      <a:pt x="3700" y="182"/>
                    </a:lnTo>
                    <a:lnTo>
                      <a:pt x="3920" y="163"/>
                    </a:lnTo>
                  </a:path>
                </a:pathLst>
              </a:custGeom>
              <a:noFill/>
              <a:ln w="158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84" name=""/>
              <p:cNvSpPr/>
              <p:nvPr/>
            </p:nvSpPr>
            <p:spPr>
              <a:xfrm>
                <a:off x="1415880" y="2254320"/>
                <a:ext cx="6222960" cy="1778040"/>
              </a:xfrm>
              <a:custGeom>
                <a:avLst/>
                <a:gdLst/>
                <a:ahLst/>
                <a:rect l="l" t="t" r="r" b="b"/>
                <a:pathLst>
                  <a:path w="3920" h="1120">
                    <a:moveTo>
                      <a:pt x="0" y="785"/>
                    </a:moveTo>
                    <a:lnTo>
                      <a:pt x="220" y="1120"/>
                    </a:lnTo>
                    <a:lnTo>
                      <a:pt x="431" y="919"/>
                    </a:lnTo>
                    <a:lnTo>
                      <a:pt x="652" y="287"/>
                    </a:lnTo>
                    <a:lnTo>
                      <a:pt x="872" y="737"/>
                    </a:lnTo>
                    <a:lnTo>
                      <a:pt x="1093" y="287"/>
                    </a:lnTo>
                    <a:lnTo>
                      <a:pt x="1303" y="0"/>
                    </a:lnTo>
                    <a:lnTo>
                      <a:pt x="1524" y="373"/>
                    </a:lnTo>
                    <a:lnTo>
                      <a:pt x="1744" y="172"/>
                    </a:lnTo>
                    <a:lnTo>
                      <a:pt x="1965" y="479"/>
                    </a:lnTo>
                    <a:lnTo>
                      <a:pt x="2176" y="345"/>
                    </a:lnTo>
                    <a:lnTo>
                      <a:pt x="2396" y="134"/>
                    </a:lnTo>
                    <a:lnTo>
                      <a:pt x="2617" y="431"/>
                    </a:lnTo>
                    <a:lnTo>
                      <a:pt x="2828" y="239"/>
                    </a:lnTo>
                    <a:lnTo>
                      <a:pt x="3048" y="153"/>
                    </a:lnTo>
                    <a:lnTo>
                      <a:pt x="3268" y="325"/>
                    </a:lnTo>
                    <a:lnTo>
                      <a:pt x="3489" y="230"/>
                    </a:lnTo>
                    <a:lnTo>
                      <a:pt x="3700" y="412"/>
                    </a:lnTo>
                    <a:lnTo>
                      <a:pt x="3920" y="287"/>
                    </a:lnTo>
                  </a:path>
                </a:pathLst>
              </a:custGeom>
              <a:noFill/>
              <a:ln w="1584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85" name=""/>
              <p:cNvSpPr/>
              <p:nvPr/>
            </p:nvSpPr>
            <p:spPr>
              <a:xfrm>
                <a:off x="1415880" y="2481480"/>
                <a:ext cx="6222960" cy="2174760"/>
              </a:xfrm>
              <a:custGeom>
                <a:avLst/>
                <a:gdLst/>
                <a:ahLst/>
                <a:rect l="l" t="t" r="r" b="b"/>
                <a:pathLst>
                  <a:path w="3920" h="1370">
                    <a:moveTo>
                      <a:pt x="0" y="0"/>
                    </a:moveTo>
                    <a:lnTo>
                      <a:pt x="220" y="106"/>
                    </a:lnTo>
                    <a:lnTo>
                      <a:pt x="431" y="154"/>
                    </a:lnTo>
                    <a:lnTo>
                      <a:pt x="652" y="508"/>
                    </a:lnTo>
                    <a:lnTo>
                      <a:pt x="872" y="1130"/>
                    </a:lnTo>
                    <a:lnTo>
                      <a:pt x="1093" y="1150"/>
                    </a:lnTo>
                    <a:lnTo>
                      <a:pt x="1303" y="1178"/>
                    </a:lnTo>
                    <a:lnTo>
                      <a:pt x="1524" y="1188"/>
                    </a:lnTo>
                    <a:lnTo>
                      <a:pt x="1744" y="1226"/>
                    </a:lnTo>
                    <a:lnTo>
                      <a:pt x="1965" y="1245"/>
                    </a:lnTo>
                    <a:lnTo>
                      <a:pt x="2176" y="1264"/>
                    </a:lnTo>
                    <a:lnTo>
                      <a:pt x="2396" y="1284"/>
                    </a:lnTo>
                    <a:lnTo>
                      <a:pt x="2617" y="1303"/>
                    </a:lnTo>
                    <a:lnTo>
                      <a:pt x="2828" y="1331"/>
                    </a:lnTo>
                    <a:lnTo>
                      <a:pt x="3048" y="1341"/>
                    </a:lnTo>
                    <a:lnTo>
                      <a:pt x="3268" y="1351"/>
                    </a:lnTo>
                    <a:lnTo>
                      <a:pt x="3489" y="1351"/>
                    </a:lnTo>
                    <a:lnTo>
                      <a:pt x="3700" y="1370"/>
                    </a:lnTo>
                    <a:lnTo>
                      <a:pt x="3920" y="136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86" name=""/>
              <p:cNvSpPr/>
              <p:nvPr/>
            </p:nvSpPr>
            <p:spPr>
              <a:xfrm>
                <a:off x="1415880" y="2557440"/>
                <a:ext cx="6222960" cy="1474920"/>
              </a:xfrm>
              <a:custGeom>
                <a:avLst/>
                <a:gdLst/>
                <a:ahLst/>
                <a:rect l="l" t="t" r="r" b="b"/>
                <a:pathLst>
                  <a:path w="3920" h="929">
                    <a:moveTo>
                      <a:pt x="0" y="39"/>
                    </a:moveTo>
                    <a:lnTo>
                      <a:pt x="220" y="58"/>
                    </a:lnTo>
                    <a:lnTo>
                      <a:pt x="431" y="0"/>
                    </a:lnTo>
                    <a:lnTo>
                      <a:pt x="652" y="192"/>
                    </a:lnTo>
                    <a:lnTo>
                      <a:pt x="872" y="297"/>
                    </a:lnTo>
                    <a:lnTo>
                      <a:pt x="1093" y="383"/>
                    </a:lnTo>
                    <a:lnTo>
                      <a:pt x="1303" y="431"/>
                    </a:lnTo>
                    <a:lnTo>
                      <a:pt x="1524" y="441"/>
                    </a:lnTo>
                    <a:lnTo>
                      <a:pt x="1744" y="575"/>
                    </a:lnTo>
                    <a:lnTo>
                      <a:pt x="1965" y="642"/>
                    </a:lnTo>
                    <a:lnTo>
                      <a:pt x="2176" y="690"/>
                    </a:lnTo>
                    <a:lnTo>
                      <a:pt x="2396" y="709"/>
                    </a:lnTo>
                    <a:lnTo>
                      <a:pt x="2617" y="757"/>
                    </a:lnTo>
                    <a:lnTo>
                      <a:pt x="2828" y="824"/>
                    </a:lnTo>
                    <a:lnTo>
                      <a:pt x="3048" y="862"/>
                    </a:lnTo>
                    <a:lnTo>
                      <a:pt x="3268" y="862"/>
                    </a:lnTo>
                    <a:lnTo>
                      <a:pt x="3489" y="891"/>
                    </a:lnTo>
                    <a:lnTo>
                      <a:pt x="3700" y="929"/>
                    </a:lnTo>
                    <a:lnTo>
                      <a:pt x="3920" y="920"/>
                    </a:lnTo>
                  </a:path>
                </a:pathLst>
              </a:custGeom>
              <a:noFill/>
              <a:ln w="158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87" name=""/>
              <p:cNvSpPr/>
              <p:nvPr/>
            </p:nvSpPr>
            <p:spPr>
              <a:xfrm>
                <a:off x="1369800" y="3454560"/>
                <a:ext cx="92160" cy="92160"/>
              </a:xfrm>
              <a:custGeom>
                <a:avLst/>
                <a:gdLst/>
                <a:ahLst/>
                <a:rect l="l" t="t" r="r" b="b"/>
                <a:pathLst>
                  <a:path w="58" h="58">
                    <a:moveTo>
                      <a:pt x="29" y="0"/>
                    </a:moveTo>
                    <a:lnTo>
                      <a:pt x="58" y="29"/>
                    </a:lnTo>
                    <a:lnTo>
                      <a:pt x="29" y="58"/>
                    </a:lnTo>
                    <a:lnTo>
                      <a:pt x="0" y="29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ff0000"/>
              </a:solidFill>
              <a:ln w="158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88" name=""/>
              <p:cNvSpPr/>
              <p:nvPr/>
            </p:nvSpPr>
            <p:spPr>
              <a:xfrm>
                <a:off x="1719000" y="3606840"/>
                <a:ext cx="92160" cy="92160"/>
              </a:xfrm>
              <a:custGeom>
                <a:avLst/>
                <a:gdLst/>
                <a:ahLst/>
                <a:rect l="l" t="t" r="r" b="b"/>
                <a:pathLst>
                  <a:path w="58" h="58">
                    <a:moveTo>
                      <a:pt x="29" y="0"/>
                    </a:moveTo>
                    <a:lnTo>
                      <a:pt x="58" y="29"/>
                    </a:lnTo>
                    <a:lnTo>
                      <a:pt x="29" y="58"/>
                    </a:lnTo>
                    <a:lnTo>
                      <a:pt x="0" y="29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ff0000"/>
              </a:solidFill>
              <a:ln w="158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89" name=""/>
              <p:cNvSpPr/>
              <p:nvPr/>
            </p:nvSpPr>
            <p:spPr>
              <a:xfrm>
                <a:off x="2054160" y="3530520"/>
                <a:ext cx="92160" cy="92160"/>
              </a:xfrm>
              <a:custGeom>
                <a:avLst/>
                <a:gdLst/>
                <a:ahLst/>
                <a:rect l="l" t="t" r="r" b="b"/>
                <a:pathLst>
                  <a:path w="58" h="58">
                    <a:moveTo>
                      <a:pt x="29" y="0"/>
                    </a:moveTo>
                    <a:lnTo>
                      <a:pt x="58" y="29"/>
                    </a:lnTo>
                    <a:lnTo>
                      <a:pt x="29" y="58"/>
                    </a:lnTo>
                    <a:lnTo>
                      <a:pt x="0" y="29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ff0000"/>
              </a:solidFill>
              <a:ln w="158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90" name=""/>
              <p:cNvSpPr/>
              <p:nvPr/>
            </p:nvSpPr>
            <p:spPr>
              <a:xfrm>
                <a:off x="2404800" y="2876760"/>
                <a:ext cx="90720" cy="91800"/>
              </a:xfrm>
              <a:custGeom>
                <a:avLst/>
                <a:gdLst/>
                <a:ahLst/>
                <a:rect l="l" t="t" r="r" b="b"/>
                <a:pathLst>
                  <a:path w="57" h="58">
                    <a:moveTo>
                      <a:pt x="29" y="0"/>
                    </a:moveTo>
                    <a:lnTo>
                      <a:pt x="57" y="29"/>
                    </a:lnTo>
                    <a:lnTo>
                      <a:pt x="29" y="58"/>
                    </a:lnTo>
                    <a:lnTo>
                      <a:pt x="0" y="29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ff0000"/>
              </a:solidFill>
              <a:ln w="158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91" name=""/>
              <p:cNvSpPr/>
              <p:nvPr/>
            </p:nvSpPr>
            <p:spPr>
              <a:xfrm>
                <a:off x="2754360" y="3089520"/>
                <a:ext cx="91800" cy="91800"/>
              </a:xfrm>
              <a:custGeom>
                <a:avLst/>
                <a:gdLst/>
                <a:ahLst/>
                <a:rect l="l" t="t" r="r" b="b"/>
                <a:pathLst>
                  <a:path w="58" h="58">
                    <a:moveTo>
                      <a:pt x="29" y="0"/>
                    </a:moveTo>
                    <a:lnTo>
                      <a:pt x="58" y="29"/>
                    </a:lnTo>
                    <a:lnTo>
                      <a:pt x="29" y="58"/>
                    </a:lnTo>
                    <a:lnTo>
                      <a:pt x="0" y="29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ff0000"/>
              </a:solidFill>
              <a:ln w="158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92" name=""/>
              <p:cNvSpPr/>
              <p:nvPr/>
            </p:nvSpPr>
            <p:spPr>
              <a:xfrm>
                <a:off x="3105000" y="2786040"/>
                <a:ext cx="90720" cy="90720"/>
              </a:xfrm>
              <a:custGeom>
                <a:avLst/>
                <a:gdLst/>
                <a:ahLst/>
                <a:rect l="l" t="t" r="r" b="b"/>
                <a:pathLst>
                  <a:path w="57" h="57">
                    <a:moveTo>
                      <a:pt x="29" y="0"/>
                    </a:moveTo>
                    <a:lnTo>
                      <a:pt x="57" y="29"/>
                    </a:lnTo>
                    <a:lnTo>
                      <a:pt x="29" y="57"/>
                    </a:lnTo>
                    <a:lnTo>
                      <a:pt x="0" y="29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ff0000"/>
              </a:solidFill>
              <a:ln w="158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93" name=""/>
              <p:cNvSpPr/>
              <p:nvPr/>
            </p:nvSpPr>
            <p:spPr>
              <a:xfrm>
                <a:off x="3440160" y="2633760"/>
                <a:ext cx="90360" cy="92160"/>
              </a:xfrm>
              <a:custGeom>
                <a:avLst/>
                <a:gdLst/>
                <a:ahLst/>
                <a:rect l="l" t="t" r="r" b="b"/>
                <a:pathLst>
                  <a:path w="57" h="58">
                    <a:moveTo>
                      <a:pt x="28" y="0"/>
                    </a:moveTo>
                    <a:lnTo>
                      <a:pt x="57" y="29"/>
                    </a:lnTo>
                    <a:lnTo>
                      <a:pt x="28" y="58"/>
                    </a:lnTo>
                    <a:lnTo>
                      <a:pt x="0" y="29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ff0000"/>
              </a:solidFill>
              <a:ln w="158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94" name=""/>
              <p:cNvSpPr/>
              <p:nvPr/>
            </p:nvSpPr>
            <p:spPr>
              <a:xfrm>
                <a:off x="3789360" y="2892600"/>
                <a:ext cx="92160" cy="90360"/>
              </a:xfrm>
              <a:custGeom>
                <a:avLst/>
                <a:gdLst/>
                <a:ahLst/>
                <a:rect l="l" t="t" r="r" b="b"/>
                <a:pathLst>
                  <a:path w="58" h="57">
                    <a:moveTo>
                      <a:pt x="29" y="0"/>
                    </a:moveTo>
                    <a:lnTo>
                      <a:pt x="58" y="29"/>
                    </a:lnTo>
                    <a:lnTo>
                      <a:pt x="29" y="57"/>
                    </a:lnTo>
                    <a:lnTo>
                      <a:pt x="0" y="29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ff0000"/>
              </a:solidFill>
              <a:ln w="158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95" name=""/>
              <p:cNvSpPr/>
              <p:nvPr/>
            </p:nvSpPr>
            <p:spPr>
              <a:xfrm>
                <a:off x="4140000" y="2695680"/>
                <a:ext cx="90720" cy="90360"/>
              </a:xfrm>
              <a:custGeom>
                <a:avLst/>
                <a:gdLst/>
                <a:ahLst/>
                <a:rect l="l" t="t" r="r" b="b"/>
                <a:pathLst>
                  <a:path w="57" h="57">
                    <a:moveTo>
                      <a:pt x="28" y="0"/>
                    </a:moveTo>
                    <a:lnTo>
                      <a:pt x="57" y="28"/>
                    </a:lnTo>
                    <a:lnTo>
                      <a:pt x="28" y="57"/>
                    </a:lnTo>
                    <a:lnTo>
                      <a:pt x="0" y="28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ff0000"/>
              </a:solidFill>
              <a:ln w="158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96" name=""/>
              <p:cNvSpPr/>
              <p:nvPr/>
            </p:nvSpPr>
            <p:spPr>
              <a:xfrm>
                <a:off x="4489200" y="2876760"/>
                <a:ext cx="92160" cy="91800"/>
              </a:xfrm>
              <a:custGeom>
                <a:avLst/>
                <a:gdLst/>
                <a:ahLst/>
                <a:rect l="l" t="t" r="r" b="b"/>
                <a:pathLst>
                  <a:path w="58" h="58">
                    <a:moveTo>
                      <a:pt x="29" y="0"/>
                    </a:moveTo>
                    <a:lnTo>
                      <a:pt x="58" y="29"/>
                    </a:lnTo>
                    <a:lnTo>
                      <a:pt x="29" y="58"/>
                    </a:lnTo>
                    <a:lnTo>
                      <a:pt x="0" y="29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ff0000"/>
              </a:solidFill>
              <a:ln w="158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97" name=""/>
              <p:cNvSpPr/>
              <p:nvPr/>
            </p:nvSpPr>
            <p:spPr>
              <a:xfrm>
                <a:off x="4824360" y="2862360"/>
                <a:ext cx="90360" cy="90360"/>
              </a:xfrm>
              <a:custGeom>
                <a:avLst/>
                <a:gdLst/>
                <a:ahLst/>
                <a:rect l="l" t="t" r="r" b="b"/>
                <a:pathLst>
                  <a:path w="57" h="57">
                    <a:moveTo>
                      <a:pt x="29" y="0"/>
                    </a:moveTo>
                    <a:lnTo>
                      <a:pt x="57" y="29"/>
                    </a:lnTo>
                    <a:lnTo>
                      <a:pt x="29" y="57"/>
                    </a:lnTo>
                    <a:lnTo>
                      <a:pt x="0" y="29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ff0000"/>
              </a:solidFill>
              <a:ln w="158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98" name=""/>
              <p:cNvSpPr/>
              <p:nvPr/>
            </p:nvSpPr>
            <p:spPr>
              <a:xfrm>
                <a:off x="5173560" y="2725920"/>
                <a:ext cx="92160" cy="90360"/>
              </a:xfrm>
              <a:custGeom>
                <a:avLst/>
                <a:gdLst/>
                <a:ahLst/>
                <a:rect l="l" t="t" r="r" b="b"/>
                <a:pathLst>
                  <a:path w="58" h="57">
                    <a:moveTo>
                      <a:pt x="29" y="0"/>
                    </a:moveTo>
                    <a:lnTo>
                      <a:pt x="58" y="28"/>
                    </a:lnTo>
                    <a:lnTo>
                      <a:pt x="29" y="57"/>
                    </a:lnTo>
                    <a:lnTo>
                      <a:pt x="0" y="28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ff0000"/>
              </a:solidFill>
              <a:ln w="158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99" name=""/>
              <p:cNvSpPr/>
              <p:nvPr/>
            </p:nvSpPr>
            <p:spPr>
              <a:xfrm>
                <a:off x="5524560" y="2892600"/>
                <a:ext cx="90360" cy="90360"/>
              </a:xfrm>
              <a:custGeom>
                <a:avLst/>
                <a:gdLst/>
                <a:ahLst/>
                <a:rect l="l" t="t" r="r" b="b"/>
                <a:pathLst>
                  <a:path w="57" h="57">
                    <a:moveTo>
                      <a:pt x="29" y="0"/>
                    </a:moveTo>
                    <a:lnTo>
                      <a:pt x="57" y="29"/>
                    </a:lnTo>
                    <a:lnTo>
                      <a:pt x="29" y="57"/>
                    </a:lnTo>
                    <a:lnTo>
                      <a:pt x="0" y="29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ff0000"/>
              </a:solidFill>
              <a:ln w="158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00" name=""/>
              <p:cNvSpPr/>
              <p:nvPr/>
            </p:nvSpPr>
            <p:spPr>
              <a:xfrm>
                <a:off x="5859360" y="2770200"/>
                <a:ext cx="90360" cy="92160"/>
              </a:xfrm>
              <a:custGeom>
                <a:avLst/>
                <a:gdLst/>
                <a:ahLst/>
                <a:rect l="l" t="t" r="r" b="b"/>
                <a:pathLst>
                  <a:path w="57" h="58">
                    <a:moveTo>
                      <a:pt x="29" y="0"/>
                    </a:moveTo>
                    <a:lnTo>
                      <a:pt x="57" y="29"/>
                    </a:lnTo>
                    <a:lnTo>
                      <a:pt x="29" y="58"/>
                    </a:lnTo>
                    <a:lnTo>
                      <a:pt x="0" y="29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ff0000"/>
              </a:solidFill>
              <a:ln w="158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01" name=""/>
              <p:cNvSpPr/>
              <p:nvPr/>
            </p:nvSpPr>
            <p:spPr>
              <a:xfrm>
                <a:off x="6208560" y="2770200"/>
                <a:ext cx="92160" cy="92160"/>
              </a:xfrm>
              <a:custGeom>
                <a:avLst/>
                <a:gdLst/>
                <a:ahLst/>
                <a:rect l="l" t="t" r="r" b="b"/>
                <a:pathLst>
                  <a:path w="58" h="58">
                    <a:moveTo>
                      <a:pt x="29" y="0"/>
                    </a:moveTo>
                    <a:lnTo>
                      <a:pt x="58" y="29"/>
                    </a:lnTo>
                    <a:lnTo>
                      <a:pt x="29" y="58"/>
                    </a:lnTo>
                    <a:lnTo>
                      <a:pt x="0" y="29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ff0000"/>
              </a:solidFill>
              <a:ln w="158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02" name=""/>
              <p:cNvSpPr/>
              <p:nvPr/>
            </p:nvSpPr>
            <p:spPr>
              <a:xfrm>
                <a:off x="6559560" y="2876760"/>
                <a:ext cx="90360" cy="91800"/>
              </a:xfrm>
              <a:custGeom>
                <a:avLst/>
                <a:gdLst/>
                <a:ahLst/>
                <a:rect l="l" t="t" r="r" b="b"/>
                <a:pathLst>
                  <a:path w="57" h="58">
                    <a:moveTo>
                      <a:pt x="28" y="0"/>
                    </a:moveTo>
                    <a:lnTo>
                      <a:pt x="57" y="29"/>
                    </a:lnTo>
                    <a:lnTo>
                      <a:pt x="28" y="58"/>
                    </a:lnTo>
                    <a:lnTo>
                      <a:pt x="0" y="29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ff0000"/>
              </a:solidFill>
              <a:ln w="158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03" name=""/>
              <p:cNvSpPr/>
              <p:nvPr/>
            </p:nvSpPr>
            <p:spPr>
              <a:xfrm>
                <a:off x="6908760" y="2832120"/>
                <a:ext cx="92160" cy="90720"/>
              </a:xfrm>
              <a:custGeom>
                <a:avLst/>
                <a:gdLst/>
                <a:ahLst/>
                <a:rect l="l" t="t" r="r" b="b"/>
                <a:pathLst>
                  <a:path w="58" h="57">
                    <a:moveTo>
                      <a:pt x="29" y="0"/>
                    </a:moveTo>
                    <a:lnTo>
                      <a:pt x="58" y="28"/>
                    </a:lnTo>
                    <a:lnTo>
                      <a:pt x="29" y="57"/>
                    </a:lnTo>
                    <a:lnTo>
                      <a:pt x="0" y="28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ff0000"/>
              </a:solidFill>
              <a:ln w="158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04" name=""/>
              <p:cNvSpPr/>
              <p:nvPr/>
            </p:nvSpPr>
            <p:spPr>
              <a:xfrm>
                <a:off x="7243560" y="2922840"/>
                <a:ext cx="92160" cy="91800"/>
              </a:xfrm>
              <a:custGeom>
                <a:avLst/>
                <a:gdLst/>
                <a:ahLst/>
                <a:rect l="l" t="t" r="r" b="b"/>
                <a:pathLst>
                  <a:path w="58" h="58">
                    <a:moveTo>
                      <a:pt x="29" y="0"/>
                    </a:moveTo>
                    <a:lnTo>
                      <a:pt x="58" y="29"/>
                    </a:lnTo>
                    <a:lnTo>
                      <a:pt x="29" y="58"/>
                    </a:lnTo>
                    <a:lnTo>
                      <a:pt x="0" y="29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ff0000"/>
              </a:solidFill>
              <a:ln w="158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05" name=""/>
              <p:cNvSpPr/>
              <p:nvPr/>
            </p:nvSpPr>
            <p:spPr>
              <a:xfrm>
                <a:off x="7594560" y="2892600"/>
                <a:ext cx="90360" cy="90360"/>
              </a:xfrm>
              <a:custGeom>
                <a:avLst/>
                <a:gdLst/>
                <a:ahLst/>
                <a:rect l="l" t="t" r="r" b="b"/>
                <a:pathLst>
                  <a:path w="57" h="57">
                    <a:moveTo>
                      <a:pt x="28" y="0"/>
                    </a:moveTo>
                    <a:lnTo>
                      <a:pt x="57" y="29"/>
                    </a:lnTo>
                    <a:lnTo>
                      <a:pt x="28" y="57"/>
                    </a:lnTo>
                    <a:lnTo>
                      <a:pt x="0" y="29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ff0000"/>
              </a:solidFill>
              <a:ln w="158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06" name=""/>
              <p:cNvSpPr/>
              <p:nvPr/>
            </p:nvSpPr>
            <p:spPr>
              <a:xfrm>
                <a:off x="1369800" y="3454560"/>
                <a:ext cx="92160" cy="92160"/>
              </a:xfrm>
              <a:prstGeom prst="rect">
                <a:avLst/>
              </a:prstGeom>
              <a:solidFill>
                <a:srgbClr val="ffff00"/>
              </a:solidFill>
              <a:ln w="158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07" name=""/>
              <p:cNvSpPr/>
              <p:nvPr/>
            </p:nvSpPr>
            <p:spPr>
              <a:xfrm>
                <a:off x="1719000" y="3986280"/>
                <a:ext cx="92160" cy="92160"/>
              </a:xfrm>
              <a:prstGeom prst="rect">
                <a:avLst/>
              </a:prstGeom>
              <a:solidFill>
                <a:srgbClr val="ffff00"/>
              </a:solidFill>
              <a:ln w="158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08" name=""/>
              <p:cNvSpPr/>
              <p:nvPr/>
            </p:nvSpPr>
            <p:spPr>
              <a:xfrm>
                <a:off x="2054160" y="3667320"/>
                <a:ext cx="92160" cy="91800"/>
              </a:xfrm>
              <a:prstGeom prst="rect">
                <a:avLst/>
              </a:prstGeom>
              <a:solidFill>
                <a:srgbClr val="ffff00"/>
              </a:solidFill>
              <a:ln w="158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09" name=""/>
              <p:cNvSpPr/>
              <p:nvPr/>
            </p:nvSpPr>
            <p:spPr>
              <a:xfrm>
                <a:off x="2404800" y="2664000"/>
                <a:ext cx="90720" cy="92160"/>
              </a:xfrm>
              <a:prstGeom prst="rect">
                <a:avLst/>
              </a:prstGeom>
              <a:solidFill>
                <a:srgbClr val="ffff00"/>
              </a:solidFill>
              <a:ln w="158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10" name=""/>
              <p:cNvSpPr/>
              <p:nvPr/>
            </p:nvSpPr>
            <p:spPr>
              <a:xfrm>
                <a:off x="2754360" y="3378240"/>
                <a:ext cx="91800" cy="92160"/>
              </a:xfrm>
              <a:prstGeom prst="rect">
                <a:avLst/>
              </a:prstGeom>
              <a:solidFill>
                <a:srgbClr val="ffff00"/>
              </a:solidFill>
              <a:ln w="158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11" name=""/>
              <p:cNvSpPr/>
              <p:nvPr/>
            </p:nvSpPr>
            <p:spPr>
              <a:xfrm>
                <a:off x="3105000" y="2664000"/>
                <a:ext cx="90720" cy="92160"/>
              </a:xfrm>
              <a:prstGeom prst="rect">
                <a:avLst/>
              </a:prstGeom>
              <a:solidFill>
                <a:srgbClr val="ffff00"/>
              </a:solidFill>
              <a:ln w="158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12" name=""/>
              <p:cNvSpPr/>
              <p:nvPr/>
            </p:nvSpPr>
            <p:spPr>
              <a:xfrm>
                <a:off x="3440160" y="2208240"/>
                <a:ext cx="90360" cy="92160"/>
              </a:xfrm>
              <a:prstGeom prst="rect">
                <a:avLst/>
              </a:prstGeom>
              <a:solidFill>
                <a:srgbClr val="ffff00"/>
              </a:solidFill>
              <a:ln w="158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13" name=""/>
              <p:cNvSpPr/>
              <p:nvPr/>
            </p:nvSpPr>
            <p:spPr>
              <a:xfrm>
                <a:off x="3789360" y="2801880"/>
                <a:ext cx="92160" cy="90720"/>
              </a:xfrm>
              <a:prstGeom prst="rect">
                <a:avLst/>
              </a:prstGeom>
              <a:solidFill>
                <a:srgbClr val="ffff00"/>
              </a:solidFill>
              <a:ln w="158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14" name=""/>
              <p:cNvSpPr/>
              <p:nvPr/>
            </p:nvSpPr>
            <p:spPr>
              <a:xfrm>
                <a:off x="4140000" y="2481480"/>
                <a:ext cx="90720" cy="91800"/>
              </a:xfrm>
              <a:prstGeom prst="rect">
                <a:avLst/>
              </a:prstGeom>
              <a:solidFill>
                <a:srgbClr val="ffff00"/>
              </a:solidFill>
              <a:ln w="158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15" name=""/>
              <p:cNvSpPr/>
              <p:nvPr/>
            </p:nvSpPr>
            <p:spPr>
              <a:xfrm>
                <a:off x="4489200" y="2968560"/>
                <a:ext cx="92160" cy="90720"/>
              </a:xfrm>
              <a:prstGeom prst="rect">
                <a:avLst/>
              </a:prstGeom>
              <a:solidFill>
                <a:srgbClr val="ffff00"/>
              </a:solidFill>
              <a:ln w="158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16" name=""/>
              <p:cNvSpPr/>
              <p:nvPr/>
            </p:nvSpPr>
            <p:spPr>
              <a:xfrm>
                <a:off x="4824360" y="2756160"/>
                <a:ext cx="90360" cy="90360"/>
              </a:xfrm>
              <a:prstGeom prst="rect">
                <a:avLst/>
              </a:prstGeom>
              <a:solidFill>
                <a:srgbClr val="ffff00"/>
              </a:solidFill>
              <a:ln w="158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17" name=""/>
              <p:cNvSpPr/>
              <p:nvPr/>
            </p:nvSpPr>
            <p:spPr>
              <a:xfrm>
                <a:off x="5173560" y="2421000"/>
                <a:ext cx="92160" cy="92160"/>
              </a:xfrm>
              <a:prstGeom prst="rect">
                <a:avLst/>
              </a:prstGeom>
              <a:solidFill>
                <a:srgbClr val="ffff00"/>
              </a:solidFill>
              <a:ln w="158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18" name=""/>
              <p:cNvSpPr/>
              <p:nvPr/>
            </p:nvSpPr>
            <p:spPr>
              <a:xfrm>
                <a:off x="5524560" y="2892600"/>
                <a:ext cx="90360" cy="90360"/>
              </a:xfrm>
              <a:prstGeom prst="rect">
                <a:avLst/>
              </a:prstGeom>
              <a:solidFill>
                <a:srgbClr val="ffff00"/>
              </a:solidFill>
              <a:ln w="158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19" name=""/>
              <p:cNvSpPr/>
              <p:nvPr/>
            </p:nvSpPr>
            <p:spPr>
              <a:xfrm>
                <a:off x="5859360" y="2587680"/>
                <a:ext cx="90360" cy="92160"/>
              </a:xfrm>
              <a:prstGeom prst="rect">
                <a:avLst/>
              </a:prstGeom>
              <a:solidFill>
                <a:srgbClr val="ffff00"/>
              </a:solidFill>
              <a:ln w="158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20" name=""/>
              <p:cNvSpPr/>
              <p:nvPr/>
            </p:nvSpPr>
            <p:spPr>
              <a:xfrm>
                <a:off x="6208560" y="2451240"/>
                <a:ext cx="92160" cy="92160"/>
              </a:xfrm>
              <a:prstGeom prst="rect">
                <a:avLst/>
              </a:prstGeom>
              <a:solidFill>
                <a:srgbClr val="ffff00"/>
              </a:solidFill>
              <a:ln w="158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21" name=""/>
              <p:cNvSpPr/>
              <p:nvPr/>
            </p:nvSpPr>
            <p:spPr>
              <a:xfrm>
                <a:off x="6559560" y="2725920"/>
                <a:ext cx="90360" cy="90360"/>
              </a:xfrm>
              <a:prstGeom prst="rect">
                <a:avLst/>
              </a:prstGeom>
              <a:solidFill>
                <a:srgbClr val="ffff00"/>
              </a:solidFill>
              <a:ln w="158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22" name=""/>
              <p:cNvSpPr/>
              <p:nvPr/>
            </p:nvSpPr>
            <p:spPr>
              <a:xfrm>
                <a:off x="6908760" y="2573280"/>
                <a:ext cx="92160" cy="90720"/>
              </a:xfrm>
              <a:prstGeom prst="rect">
                <a:avLst/>
              </a:prstGeom>
              <a:solidFill>
                <a:srgbClr val="ffff00"/>
              </a:solidFill>
              <a:ln w="158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23" name=""/>
              <p:cNvSpPr/>
              <p:nvPr/>
            </p:nvSpPr>
            <p:spPr>
              <a:xfrm>
                <a:off x="7243560" y="2862360"/>
                <a:ext cx="92160" cy="90360"/>
              </a:xfrm>
              <a:prstGeom prst="rect">
                <a:avLst/>
              </a:prstGeom>
              <a:solidFill>
                <a:srgbClr val="ffff00"/>
              </a:solidFill>
              <a:ln w="158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24" name=""/>
              <p:cNvSpPr/>
              <p:nvPr/>
            </p:nvSpPr>
            <p:spPr>
              <a:xfrm>
                <a:off x="7594560" y="2664000"/>
                <a:ext cx="90360" cy="92160"/>
              </a:xfrm>
              <a:prstGeom prst="rect">
                <a:avLst/>
              </a:prstGeom>
              <a:solidFill>
                <a:srgbClr val="ffff00"/>
              </a:solidFill>
              <a:ln w="158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25" name=""/>
              <p:cNvSpPr/>
              <p:nvPr/>
            </p:nvSpPr>
            <p:spPr>
              <a:xfrm>
                <a:off x="1369800" y="2436840"/>
                <a:ext cx="92160" cy="90720"/>
              </a:xfrm>
              <a:custGeom>
                <a:avLst/>
                <a:gdLst/>
                <a:ahLst/>
                <a:rect l="l" t="t" r="r" b="b"/>
                <a:pathLst>
                  <a:path w="58" h="57">
                    <a:moveTo>
                      <a:pt x="29" y="0"/>
                    </a:moveTo>
                    <a:lnTo>
                      <a:pt x="58" y="57"/>
                    </a:lnTo>
                    <a:lnTo>
                      <a:pt x="0" y="57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ff00"/>
              </a:solidFill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26" name=""/>
              <p:cNvSpPr/>
              <p:nvPr/>
            </p:nvSpPr>
            <p:spPr>
              <a:xfrm>
                <a:off x="1719000" y="2603520"/>
                <a:ext cx="92160" cy="92160"/>
              </a:xfrm>
              <a:custGeom>
                <a:avLst/>
                <a:gdLst/>
                <a:ahLst/>
                <a:rect l="l" t="t" r="r" b="b"/>
                <a:pathLst>
                  <a:path w="58" h="58">
                    <a:moveTo>
                      <a:pt x="29" y="0"/>
                    </a:moveTo>
                    <a:lnTo>
                      <a:pt x="58" y="58"/>
                    </a:lnTo>
                    <a:lnTo>
                      <a:pt x="0" y="58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ff00"/>
              </a:solidFill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27" name=""/>
              <p:cNvSpPr/>
              <p:nvPr/>
            </p:nvSpPr>
            <p:spPr>
              <a:xfrm>
                <a:off x="2054160" y="2679840"/>
                <a:ext cx="92160" cy="90360"/>
              </a:xfrm>
              <a:custGeom>
                <a:avLst/>
                <a:gdLst/>
                <a:ahLst/>
                <a:rect l="l" t="t" r="r" b="b"/>
                <a:pathLst>
                  <a:path w="58" h="57">
                    <a:moveTo>
                      <a:pt x="29" y="0"/>
                    </a:moveTo>
                    <a:lnTo>
                      <a:pt x="58" y="57"/>
                    </a:lnTo>
                    <a:lnTo>
                      <a:pt x="0" y="57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ff00"/>
              </a:solidFill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28" name=""/>
              <p:cNvSpPr/>
              <p:nvPr/>
            </p:nvSpPr>
            <p:spPr>
              <a:xfrm>
                <a:off x="2404800" y="3241800"/>
                <a:ext cx="90720" cy="92160"/>
              </a:xfrm>
              <a:custGeom>
                <a:avLst/>
                <a:gdLst/>
                <a:ahLst/>
                <a:rect l="l" t="t" r="r" b="b"/>
                <a:pathLst>
                  <a:path w="57" h="58">
                    <a:moveTo>
                      <a:pt x="29" y="0"/>
                    </a:moveTo>
                    <a:lnTo>
                      <a:pt x="57" y="58"/>
                    </a:lnTo>
                    <a:lnTo>
                      <a:pt x="0" y="58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ff00"/>
              </a:solidFill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29" name=""/>
              <p:cNvSpPr/>
              <p:nvPr/>
            </p:nvSpPr>
            <p:spPr>
              <a:xfrm>
                <a:off x="2754360" y="4230720"/>
                <a:ext cx="91800" cy="90720"/>
              </a:xfrm>
              <a:custGeom>
                <a:avLst/>
                <a:gdLst/>
                <a:ahLst/>
                <a:rect l="l" t="t" r="r" b="b"/>
                <a:pathLst>
                  <a:path w="58" h="57">
                    <a:moveTo>
                      <a:pt x="29" y="0"/>
                    </a:moveTo>
                    <a:lnTo>
                      <a:pt x="58" y="57"/>
                    </a:lnTo>
                    <a:lnTo>
                      <a:pt x="0" y="57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ff00"/>
              </a:solidFill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30" name=""/>
              <p:cNvSpPr/>
              <p:nvPr/>
            </p:nvSpPr>
            <p:spPr>
              <a:xfrm>
                <a:off x="3105000" y="4260960"/>
                <a:ext cx="90720" cy="90360"/>
              </a:xfrm>
              <a:custGeom>
                <a:avLst/>
                <a:gdLst/>
                <a:ahLst/>
                <a:rect l="l" t="t" r="r" b="b"/>
                <a:pathLst>
                  <a:path w="57" h="57">
                    <a:moveTo>
                      <a:pt x="29" y="0"/>
                    </a:moveTo>
                    <a:lnTo>
                      <a:pt x="57" y="57"/>
                    </a:lnTo>
                    <a:lnTo>
                      <a:pt x="0" y="57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ff00"/>
              </a:solidFill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31" name=""/>
              <p:cNvSpPr/>
              <p:nvPr/>
            </p:nvSpPr>
            <p:spPr>
              <a:xfrm>
                <a:off x="3440160" y="4307040"/>
                <a:ext cx="90360" cy="90360"/>
              </a:xfrm>
              <a:custGeom>
                <a:avLst/>
                <a:gdLst/>
                <a:ahLst/>
                <a:rect l="l" t="t" r="r" b="b"/>
                <a:pathLst>
                  <a:path w="57" h="57">
                    <a:moveTo>
                      <a:pt x="28" y="0"/>
                    </a:moveTo>
                    <a:lnTo>
                      <a:pt x="57" y="57"/>
                    </a:lnTo>
                    <a:lnTo>
                      <a:pt x="0" y="57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ff00"/>
              </a:solidFill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32" name=""/>
              <p:cNvSpPr/>
              <p:nvPr/>
            </p:nvSpPr>
            <p:spPr>
              <a:xfrm>
                <a:off x="3789360" y="4321440"/>
                <a:ext cx="92160" cy="91800"/>
              </a:xfrm>
              <a:custGeom>
                <a:avLst/>
                <a:gdLst/>
                <a:ahLst/>
                <a:rect l="l" t="t" r="r" b="b"/>
                <a:pathLst>
                  <a:path w="58" h="58">
                    <a:moveTo>
                      <a:pt x="29" y="0"/>
                    </a:moveTo>
                    <a:lnTo>
                      <a:pt x="58" y="58"/>
                    </a:lnTo>
                    <a:lnTo>
                      <a:pt x="0" y="58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ff00"/>
              </a:solidFill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33" name=""/>
              <p:cNvSpPr/>
              <p:nvPr/>
            </p:nvSpPr>
            <p:spPr>
              <a:xfrm>
                <a:off x="4140000" y="4381560"/>
                <a:ext cx="90720" cy="92160"/>
              </a:xfrm>
              <a:custGeom>
                <a:avLst/>
                <a:gdLst/>
                <a:ahLst/>
                <a:rect l="l" t="t" r="r" b="b"/>
                <a:pathLst>
                  <a:path w="57" h="58">
                    <a:moveTo>
                      <a:pt x="28" y="0"/>
                    </a:moveTo>
                    <a:lnTo>
                      <a:pt x="57" y="58"/>
                    </a:lnTo>
                    <a:lnTo>
                      <a:pt x="0" y="58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ff00"/>
              </a:solidFill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34" name=""/>
              <p:cNvSpPr/>
              <p:nvPr/>
            </p:nvSpPr>
            <p:spPr>
              <a:xfrm>
                <a:off x="4489200" y="4413240"/>
                <a:ext cx="92160" cy="90720"/>
              </a:xfrm>
              <a:custGeom>
                <a:avLst/>
                <a:gdLst/>
                <a:ahLst/>
                <a:rect l="l" t="t" r="r" b="b"/>
                <a:pathLst>
                  <a:path w="58" h="57">
                    <a:moveTo>
                      <a:pt x="29" y="0"/>
                    </a:moveTo>
                    <a:lnTo>
                      <a:pt x="58" y="57"/>
                    </a:lnTo>
                    <a:lnTo>
                      <a:pt x="0" y="57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ff00"/>
              </a:solidFill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35" name=""/>
              <p:cNvSpPr/>
              <p:nvPr/>
            </p:nvSpPr>
            <p:spPr>
              <a:xfrm>
                <a:off x="4824360" y="4443480"/>
                <a:ext cx="90360" cy="90360"/>
              </a:xfrm>
              <a:custGeom>
                <a:avLst/>
                <a:gdLst/>
                <a:ahLst/>
                <a:rect l="l" t="t" r="r" b="b"/>
                <a:pathLst>
                  <a:path w="57" h="57">
                    <a:moveTo>
                      <a:pt x="29" y="0"/>
                    </a:moveTo>
                    <a:lnTo>
                      <a:pt x="57" y="57"/>
                    </a:lnTo>
                    <a:lnTo>
                      <a:pt x="0" y="57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ff00"/>
              </a:solidFill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36" name=""/>
              <p:cNvSpPr/>
              <p:nvPr/>
            </p:nvSpPr>
            <p:spPr>
              <a:xfrm>
                <a:off x="5173560" y="4473720"/>
                <a:ext cx="92160" cy="90360"/>
              </a:xfrm>
              <a:custGeom>
                <a:avLst/>
                <a:gdLst/>
                <a:ahLst/>
                <a:rect l="l" t="t" r="r" b="b"/>
                <a:pathLst>
                  <a:path w="58" h="57">
                    <a:moveTo>
                      <a:pt x="29" y="0"/>
                    </a:moveTo>
                    <a:lnTo>
                      <a:pt x="58" y="57"/>
                    </a:lnTo>
                    <a:lnTo>
                      <a:pt x="0" y="57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ff00"/>
              </a:solidFill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37" name=""/>
              <p:cNvSpPr/>
              <p:nvPr/>
            </p:nvSpPr>
            <p:spPr>
              <a:xfrm>
                <a:off x="5524560" y="4503960"/>
                <a:ext cx="90360" cy="90360"/>
              </a:xfrm>
              <a:custGeom>
                <a:avLst/>
                <a:gdLst/>
                <a:ahLst/>
                <a:rect l="l" t="t" r="r" b="b"/>
                <a:pathLst>
                  <a:path w="57" h="57">
                    <a:moveTo>
                      <a:pt x="29" y="0"/>
                    </a:moveTo>
                    <a:lnTo>
                      <a:pt x="57" y="57"/>
                    </a:lnTo>
                    <a:lnTo>
                      <a:pt x="0" y="57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ff00"/>
              </a:solidFill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38" name=""/>
              <p:cNvSpPr/>
              <p:nvPr/>
            </p:nvSpPr>
            <p:spPr>
              <a:xfrm>
                <a:off x="5859360" y="4550040"/>
                <a:ext cx="90360" cy="90360"/>
              </a:xfrm>
              <a:custGeom>
                <a:avLst/>
                <a:gdLst/>
                <a:ahLst/>
                <a:rect l="l" t="t" r="r" b="b"/>
                <a:pathLst>
                  <a:path w="57" h="57">
                    <a:moveTo>
                      <a:pt x="29" y="0"/>
                    </a:moveTo>
                    <a:lnTo>
                      <a:pt x="57" y="57"/>
                    </a:lnTo>
                    <a:lnTo>
                      <a:pt x="0" y="57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ff00"/>
              </a:solidFill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39" name=""/>
              <p:cNvSpPr/>
              <p:nvPr/>
            </p:nvSpPr>
            <p:spPr>
              <a:xfrm>
                <a:off x="6208560" y="4564080"/>
                <a:ext cx="92160" cy="92160"/>
              </a:xfrm>
              <a:custGeom>
                <a:avLst/>
                <a:gdLst/>
                <a:ahLst/>
                <a:rect l="l" t="t" r="r" b="b"/>
                <a:pathLst>
                  <a:path w="58" h="58">
                    <a:moveTo>
                      <a:pt x="29" y="0"/>
                    </a:moveTo>
                    <a:lnTo>
                      <a:pt x="58" y="58"/>
                    </a:lnTo>
                    <a:lnTo>
                      <a:pt x="0" y="58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ff00"/>
              </a:solidFill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40" name=""/>
              <p:cNvSpPr/>
              <p:nvPr/>
            </p:nvSpPr>
            <p:spPr>
              <a:xfrm>
                <a:off x="6559560" y="4579920"/>
                <a:ext cx="90360" cy="90720"/>
              </a:xfrm>
              <a:custGeom>
                <a:avLst/>
                <a:gdLst/>
                <a:ahLst/>
                <a:rect l="l" t="t" r="r" b="b"/>
                <a:pathLst>
                  <a:path w="57" h="57">
                    <a:moveTo>
                      <a:pt x="28" y="0"/>
                    </a:moveTo>
                    <a:lnTo>
                      <a:pt x="57" y="57"/>
                    </a:lnTo>
                    <a:lnTo>
                      <a:pt x="0" y="57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ff00"/>
              </a:solidFill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41" name=""/>
              <p:cNvSpPr/>
              <p:nvPr/>
            </p:nvSpPr>
            <p:spPr>
              <a:xfrm>
                <a:off x="6908760" y="4579920"/>
                <a:ext cx="92160" cy="90720"/>
              </a:xfrm>
              <a:custGeom>
                <a:avLst/>
                <a:gdLst/>
                <a:ahLst/>
                <a:rect l="l" t="t" r="r" b="b"/>
                <a:pathLst>
                  <a:path w="58" h="57">
                    <a:moveTo>
                      <a:pt x="29" y="0"/>
                    </a:moveTo>
                    <a:lnTo>
                      <a:pt x="58" y="57"/>
                    </a:lnTo>
                    <a:lnTo>
                      <a:pt x="0" y="57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ff00"/>
              </a:solidFill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42" name=""/>
              <p:cNvSpPr/>
              <p:nvPr/>
            </p:nvSpPr>
            <p:spPr>
              <a:xfrm>
                <a:off x="7243560" y="4610160"/>
                <a:ext cx="92160" cy="92160"/>
              </a:xfrm>
              <a:custGeom>
                <a:avLst/>
                <a:gdLst/>
                <a:ahLst/>
                <a:rect l="l" t="t" r="r" b="b"/>
                <a:pathLst>
                  <a:path w="58" h="58">
                    <a:moveTo>
                      <a:pt x="29" y="0"/>
                    </a:moveTo>
                    <a:lnTo>
                      <a:pt x="58" y="58"/>
                    </a:lnTo>
                    <a:lnTo>
                      <a:pt x="0" y="58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ff00"/>
              </a:solidFill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43" name=""/>
              <p:cNvSpPr/>
              <p:nvPr/>
            </p:nvSpPr>
            <p:spPr>
              <a:xfrm>
                <a:off x="7594560" y="4594320"/>
                <a:ext cx="90360" cy="92160"/>
              </a:xfrm>
              <a:custGeom>
                <a:avLst/>
                <a:gdLst/>
                <a:ahLst/>
                <a:rect l="l" t="t" r="r" b="b"/>
                <a:pathLst>
                  <a:path w="57" h="58">
                    <a:moveTo>
                      <a:pt x="28" y="0"/>
                    </a:moveTo>
                    <a:lnTo>
                      <a:pt x="57" y="58"/>
                    </a:lnTo>
                    <a:lnTo>
                      <a:pt x="0" y="58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ff00"/>
              </a:solidFill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44" name=""/>
              <p:cNvSpPr/>
              <p:nvPr/>
            </p:nvSpPr>
            <p:spPr>
              <a:xfrm flipH="1" flipV="1">
                <a:off x="1369800" y="2573280"/>
                <a:ext cx="46080" cy="46080"/>
              </a:xfrm>
              <a:prstGeom prst="line">
                <a:avLst/>
              </a:prstGeom>
              <a:ln w="158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45" name=""/>
              <p:cNvSpPr/>
              <p:nvPr/>
            </p:nvSpPr>
            <p:spPr>
              <a:xfrm>
                <a:off x="1415880" y="2619360"/>
                <a:ext cx="46080" cy="44640"/>
              </a:xfrm>
              <a:prstGeom prst="line">
                <a:avLst/>
              </a:prstGeom>
              <a:ln w="158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46" name=""/>
              <p:cNvSpPr/>
              <p:nvPr/>
            </p:nvSpPr>
            <p:spPr>
              <a:xfrm flipH="1">
                <a:off x="1369800" y="2619360"/>
                <a:ext cx="46080" cy="44640"/>
              </a:xfrm>
              <a:prstGeom prst="line">
                <a:avLst/>
              </a:prstGeom>
              <a:ln w="158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47" name=""/>
              <p:cNvSpPr/>
              <p:nvPr/>
            </p:nvSpPr>
            <p:spPr>
              <a:xfrm flipV="1">
                <a:off x="1415880" y="2573280"/>
                <a:ext cx="46080" cy="46080"/>
              </a:xfrm>
              <a:prstGeom prst="line">
                <a:avLst/>
              </a:prstGeom>
              <a:ln w="158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48" name=""/>
              <p:cNvSpPr/>
              <p:nvPr/>
            </p:nvSpPr>
            <p:spPr>
              <a:xfrm flipH="1" flipV="1">
                <a:off x="1719000" y="2603520"/>
                <a:ext cx="46080" cy="46080"/>
              </a:xfrm>
              <a:prstGeom prst="line">
                <a:avLst/>
              </a:prstGeom>
              <a:ln w="158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49" name=""/>
              <p:cNvSpPr/>
              <p:nvPr/>
            </p:nvSpPr>
            <p:spPr>
              <a:xfrm>
                <a:off x="1765080" y="2649600"/>
                <a:ext cx="46080" cy="46080"/>
              </a:xfrm>
              <a:prstGeom prst="line">
                <a:avLst/>
              </a:prstGeom>
              <a:ln w="158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50" name=""/>
              <p:cNvSpPr/>
              <p:nvPr/>
            </p:nvSpPr>
            <p:spPr>
              <a:xfrm flipH="1">
                <a:off x="1719000" y="2649600"/>
                <a:ext cx="46080" cy="46080"/>
              </a:xfrm>
              <a:prstGeom prst="line">
                <a:avLst/>
              </a:prstGeom>
              <a:ln w="158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51" name=""/>
              <p:cNvSpPr/>
              <p:nvPr/>
            </p:nvSpPr>
            <p:spPr>
              <a:xfrm flipV="1">
                <a:off x="1765080" y="2603520"/>
                <a:ext cx="46080" cy="46080"/>
              </a:xfrm>
              <a:prstGeom prst="line">
                <a:avLst/>
              </a:prstGeom>
              <a:ln w="158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52" name=""/>
              <p:cNvSpPr/>
              <p:nvPr/>
            </p:nvSpPr>
            <p:spPr>
              <a:xfrm flipH="1" flipV="1">
                <a:off x="2054160" y="2512800"/>
                <a:ext cx="46080" cy="44280"/>
              </a:xfrm>
              <a:prstGeom prst="line">
                <a:avLst/>
              </a:prstGeom>
              <a:ln w="158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53" name=""/>
              <p:cNvSpPr/>
              <p:nvPr/>
            </p:nvSpPr>
            <p:spPr>
              <a:xfrm>
                <a:off x="2100240" y="2557440"/>
                <a:ext cx="46080" cy="46080"/>
              </a:xfrm>
              <a:prstGeom prst="line">
                <a:avLst/>
              </a:prstGeom>
              <a:ln w="158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54" name=""/>
              <p:cNvSpPr/>
              <p:nvPr/>
            </p:nvSpPr>
            <p:spPr>
              <a:xfrm flipH="1">
                <a:off x="2054160" y="2557440"/>
                <a:ext cx="46080" cy="46080"/>
              </a:xfrm>
              <a:prstGeom prst="line">
                <a:avLst/>
              </a:prstGeom>
              <a:ln w="158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55" name=""/>
              <p:cNvSpPr/>
              <p:nvPr/>
            </p:nvSpPr>
            <p:spPr>
              <a:xfrm flipV="1">
                <a:off x="2100240" y="2512800"/>
                <a:ext cx="46080" cy="44280"/>
              </a:xfrm>
              <a:prstGeom prst="line">
                <a:avLst/>
              </a:prstGeom>
              <a:ln w="158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56" name=""/>
              <p:cNvSpPr/>
              <p:nvPr/>
            </p:nvSpPr>
            <p:spPr>
              <a:xfrm flipH="1" flipV="1">
                <a:off x="2404800" y="2816280"/>
                <a:ext cx="46080" cy="46080"/>
              </a:xfrm>
              <a:prstGeom prst="line">
                <a:avLst/>
              </a:prstGeom>
              <a:ln w="158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57" name=""/>
              <p:cNvSpPr/>
              <p:nvPr/>
            </p:nvSpPr>
            <p:spPr>
              <a:xfrm>
                <a:off x="2450880" y="2862360"/>
                <a:ext cx="44640" cy="46080"/>
              </a:xfrm>
              <a:prstGeom prst="line">
                <a:avLst/>
              </a:prstGeom>
              <a:ln w="158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58" name=""/>
              <p:cNvSpPr/>
              <p:nvPr/>
            </p:nvSpPr>
            <p:spPr>
              <a:xfrm flipH="1">
                <a:off x="2404800" y="2862360"/>
                <a:ext cx="46080" cy="46080"/>
              </a:xfrm>
              <a:prstGeom prst="line">
                <a:avLst/>
              </a:prstGeom>
              <a:ln w="158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59" name=""/>
              <p:cNvSpPr/>
              <p:nvPr/>
            </p:nvSpPr>
            <p:spPr>
              <a:xfrm flipV="1">
                <a:off x="2450880" y="2816280"/>
                <a:ext cx="44640" cy="46080"/>
              </a:xfrm>
              <a:prstGeom prst="line">
                <a:avLst/>
              </a:prstGeom>
              <a:ln w="158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60" name=""/>
              <p:cNvSpPr/>
              <p:nvPr/>
            </p:nvSpPr>
            <p:spPr>
              <a:xfrm flipH="1" flipV="1">
                <a:off x="2754000" y="2982960"/>
                <a:ext cx="45720" cy="46080"/>
              </a:xfrm>
              <a:prstGeom prst="line">
                <a:avLst/>
              </a:prstGeom>
              <a:ln w="158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61" name=""/>
              <p:cNvSpPr/>
              <p:nvPr/>
            </p:nvSpPr>
            <p:spPr>
              <a:xfrm>
                <a:off x="2800080" y="3029040"/>
                <a:ext cx="46080" cy="46080"/>
              </a:xfrm>
              <a:prstGeom prst="line">
                <a:avLst/>
              </a:prstGeom>
              <a:ln w="158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62" name=""/>
              <p:cNvSpPr/>
              <p:nvPr/>
            </p:nvSpPr>
            <p:spPr>
              <a:xfrm flipH="1">
                <a:off x="2754000" y="3029040"/>
                <a:ext cx="45720" cy="46080"/>
              </a:xfrm>
              <a:prstGeom prst="line">
                <a:avLst/>
              </a:prstGeom>
              <a:ln w="158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63" name=""/>
              <p:cNvSpPr/>
              <p:nvPr/>
            </p:nvSpPr>
            <p:spPr>
              <a:xfrm flipV="1">
                <a:off x="2800080" y="2982960"/>
                <a:ext cx="46080" cy="46080"/>
              </a:xfrm>
              <a:prstGeom prst="line">
                <a:avLst/>
              </a:prstGeom>
              <a:ln w="158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64" name=""/>
              <p:cNvSpPr/>
              <p:nvPr/>
            </p:nvSpPr>
            <p:spPr>
              <a:xfrm flipH="1" flipV="1">
                <a:off x="3105000" y="3120840"/>
                <a:ext cx="46080" cy="44280"/>
              </a:xfrm>
              <a:prstGeom prst="line">
                <a:avLst/>
              </a:prstGeom>
              <a:ln w="158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65" name=""/>
              <p:cNvSpPr/>
              <p:nvPr/>
            </p:nvSpPr>
            <p:spPr>
              <a:xfrm>
                <a:off x="3151080" y="3165480"/>
                <a:ext cx="44640" cy="46080"/>
              </a:xfrm>
              <a:prstGeom prst="line">
                <a:avLst/>
              </a:prstGeom>
              <a:ln w="158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66" name=""/>
              <p:cNvSpPr/>
              <p:nvPr/>
            </p:nvSpPr>
            <p:spPr>
              <a:xfrm flipH="1">
                <a:off x="3105000" y="3165480"/>
                <a:ext cx="46080" cy="46080"/>
              </a:xfrm>
              <a:prstGeom prst="line">
                <a:avLst/>
              </a:prstGeom>
              <a:ln w="158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67" name=""/>
              <p:cNvSpPr/>
              <p:nvPr/>
            </p:nvSpPr>
            <p:spPr>
              <a:xfrm flipV="1">
                <a:off x="3151080" y="3120840"/>
                <a:ext cx="44640" cy="44280"/>
              </a:xfrm>
              <a:prstGeom prst="line">
                <a:avLst/>
              </a:prstGeom>
              <a:ln w="158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68" name=""/>
              <p:cNvSpPr/>
              <p:nvPr/>
            </p:nvSpPr>
            <p:spPr>
              <a:xfrm flipH="1" flipV="1">
                <a:off x="3439800" y="3197160"/>
                <a:ext cx="44280" cy="44640"/>
              </a:xfrm>
              <a:prstGeom prst="line">
                <a:avLst/>
              </a:prstGeom>
              <a:ln w="158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69" name=""/>
              <p:cNvSpPr/>
              <p:nvPr/>
            </p:nvSpPr>
            <p:spPr>
              <a:xfrm>
                <a:off x="3484440" y="3241800"/>
                <a:ext cx="46080" cy="46080"/>
              </a:xfrm>
              <a:prstGeom prst="line">
                <a:avLst/>
              </a:prstGeom>
              <a:ln w="158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70" name=""/>
              <p:cNvSpPr/>
              <p:nvPr/>
            </p:nvSpPr>
            <p:spPr>
              <a:xfrm flipH="1">
                <a:off x="3439800" y="3241800"/>
                <a:ext cx="44280" cy="46080"/>
              </a:xfrm>
              <a:prstGeom prst="line">
                <a:avLst/>
              </a:prstGeom>
              <a:ln w="158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71" name=""/>
              <p:cNvSpPr/>
              <p:nvPr/>
            </p:nvSpPr>
            <p:spPr>
              <a:xfrm flipV="1">
                <a:off x="3484440" y="3197160"/>
                <a:ext cx="46080" cy="44640"/>
              </a:xfrm>
              <a:prstGeom prst="line">
                <a:avLst/>
              </a:prstGeom>
              <a:ln w="158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72" name=""/>
              <p:cNvSpPr/>
              <p:nvPr/>
            </p:nvSpPr>
            <p:spPr>
              <a:xfrm flipH="1" flipV="1">
                <a:off x="3789360" y="3211560"/>
                <a:ext cx="46080" cy="46080"/>
              </a:xfrm>
              <a:prstGeom prst="line">
                <a:avLst/>
              </a:prstGeom>
              <a:ln w="158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73" name=""/>
              <p:cNvSpPr/>
              <p:nvPr/>
            </p:nvSpPr>
            <p:spPr>
              <a:xfrm>
                <a:off x="3835440" y="3257640"/>
                <a:ext cx="46080" cy="46080"/>
              </a:xfrm>
              <a:prstGeom prst="line">
                <a:avLst/>
              </a:prstGeom>
              <a:ln w="158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74" name=""/>
              <p:cNvSpPr/>
              <p:nvPr/>
            </p:nvSpPr>
            <p:spPr>
              <a:xfrm flipH="1">
                <a:off x="3789360" y="3257640"/>
                <a:ext cx="46080" cy="46080"/>
              </a:xfrm>
              <a:prstGeom prst="line">
                <a:avLst/>
              </a:prstGeom>
              <a:ln w="158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75" name=""/>
              <p:cNvSpPr/>
              <p:nvPr/>
            </p:nvSpPr>
            <p:spPr>
              <a:xfrm flipV="1">
                <a:off x="3835440" y="3211560"/>
                <a:ext cx="46080" cy="46080"/>
              </a:xfrm>
              <a:prstGeom prst="line">
                <a:avLst/>
              </a:prstGeom>
              <a:ln w="158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76" name=""/>
              <p:cNvSpPr/>
              <p:nvPr/>
            </p:nvSpPr>
            <p:spPr>
              <a:xfrm flipH="1" flipV="1">
                <a:off x="4140000" y="3424320"/>
                <a:ext cx="44640" cy="46080"/>
              </a:xfrm>
              <a:prstGeom prst="line">
                <a:avLst/>
              </a:prstGeom>
              <a:ln w="158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77" name=""/>
              <p:cNvSpPr/>
              <p:nvPr/>
            </p:nvSpPr>
            <p:spPr>
              <a:xfrm>
                <a:off x="4184640" y="3470400"/>
                <a:ext cx="46080" cy="46080"/>
              </a:xfrm>
              <a:prstGeom prst="line">
                <a:avLst/>
              </a:prstGeom>
              <a:ln w="158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78" name=""/>
              <p:cNvSpPr/>
              <p:nvPr/>
            </p:nvSpPr>
            <p:spPr>
              <a:xfrm flipH="1">
                <a:off x="4140000" y="3470400"/>
                <a:ext cx="44640" cy="46080"/>
              </a:xfrm>
              <a:prstGeom prst="line">
                <a:avLst/>
              </a:prstGeom>
              <a:ln w="158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79" name=""/>
              <p:cNvSpPr/>
              <p:nvPr/>
            </p:nvSpPr>
            <p:spPr>
              <a:xfrm flipV="1">
                <a:off x="4184640" y="3424320"/>
                <a:ext cx="46080" cy="46080"/>
              </a:xfrm>
              <a:prstGeom prst="line">
                <a:avLst/>
              </a:prstGeom>
              <a:ln w="158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80" name=""/>
              <p:cNvSpPr/>
              <p:nvPr/>
            </p:nvSpPr>
            <p:spPr>
              <a:xfrm flipH="1" flipV="1">
                <a:off x="4489200" y="3530520"/>
                <a:ext cx="46080" cy="46080"/>
              </a:xfrm>
              <a:prstGeom prst="line">
                <a:avLst/>
              </a:prstGeom>
              <a:ln w="158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81" name=""/>
              <p:cNvSpPr/>
              <p:nvPr/>
            </p:nvSpPr>
            <p:spPr>
              <a:xfrm>
                <a:off x="4535280" y="3576600"/>
                <a:ext cx="46080" cy="46080"/>
              </a:xfrm>
              <a:prstGeom prst="line">
                <a:avLst/>
              </a:prstGeom>
              <a:ln w="158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82" name=""/>
              <p:cNvSpPr/>
              <p:nvPr/>
            </p:nvSpPr>
            <p:spPr>
              <a:xfrm flipH="1">
                <a:off x="4489200" y="3576600"/>
                <a:ext cx="46080" cy="46080"/>
              </a:xfrm>
              <a:prstGeom prst="line">
                <a:avLst/>
              </a:prstGeom>
              <a:ln w="158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83" name=""/>
              <p:cNvSpPr/>
              <p:nvPr/>
            </p:nvSpPr>
            <p:spPr>
              <a:xfrm flipV="1">
                <a:off x="4535280" y="3530520"/>
                <a:ext cx="46080" cy="46080"/>
              </a:xfrm>
              <a:prstGeom prst="line">
                <a:avLst/>
              </a:prstGeom>
              <a:ln w="158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84" name=""/>
              <p:cNvSpPr/>
              <p:nvPr/>
            </p:nvSpPr>
            <p:spPr>
              <a:xfrm flipH="1" flipV="1">
                <a:off x="4824360" y="3606840"/>
                <a:ext cx="46080" cy="46080"/>
              </a:xfrm>
              <a:prstGeom prst="line">
                <a:avLst/>
              </a:prstGeom>
              <a:ln w="158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85" name=""/>
              <p:cNvSpPr/>
              <p:nvPr/>
            </p:nvSpPr>
            <p:spPr>
              <a:xfrm>
                <a:off x="4870440" y="3652920"/>
                <a:ext cx="44280" cy="46080"/>
              </a:xfrm>
              <a:prstGeom prst="line">
                <a:avLst/>
              </a:prstGeom>
              <a:ln w="158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86" name=""/>
              <p:cNvSpPr/>
              <p:nvPr/>
            </p:nvSpPr>
            <p:spPr>
              <a:xfrm flipH="1">
                <a:off x="4824360" y="3652920"/>
                <a:ext cx="46080" cy="46080"/>
              </a:xfrm>
              <a:prstGeom prst="line">
                <a:avLst/>
              </a:prstGeom>
              <a:ln w="158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87" name=""/>
              <p:cNvSpPr/>
              <p:nvPr/>
            </p:nvSpPr>
            <p:spPr>
              <a:xfrm flipV="1">
                <a:off x="4870440" y="3606840"/>
                <a:ext cx="44280" cy="46080"/>
              </a:xfrm>
              <a:prstGeom prst="line">
                <a:avLst/>
              </a:prstGeom>
              <a:ln w="158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88" name=""/>
              <p:cNvSpPr/>
              <p:nvPr/>
            </p:nvSpPr>
            <p:spPr>
              <a:xfrm flipH="1" flipV="1">
                <a:off x="5173560" y="3637080"/>
                <a:ext cx="46080" cy="46080"/>
              </a:xfrm>
              <a:prstGeom prst="line">
                <a:avLst/>
              </a:prstGeom>
              <a:ln w="158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89" name=""/>
              <p:cNvSpPr/>
              <p:nvPr/>
            </p:nvSpPr>
            <p:spPr>
              <a:xfrm>
                <a:off x="5219640" y="3683160"/>
                <a:ext cx="46080" cy="46080"/>
              </a:xfrm>
              <a:prstGeom prst="line">
                <a:avLst/>
              </a:prstGeom>
              <a:ln w="158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90" name=""/>
              <p:cNvSpPr/>
              <p:nvPr/>
            </p:nvSpPr>
            <p:spPr>
              <a:xfrm flipH="1">
                <a:off x="5173560" y="3683160"/>
                <a:ext cx="46080" cy="46080"/>
              </a:xfrm>
              <a:prstGeom prst="line">
                <a:avLst/>
              </a:prstGeom>
              <a:ln w="158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91" name=""/>
              <p:cNvSpPr/>
              <p:nvPr/>
            </p:nvSpPr>
            <p:spPr>
              <a:xfrm flipV="1">
                <a:off x="5219640" y="3637080"/>
                <a:ext cx="46080" cy="46080"/>
              </a:xfrm>
              <a:prstGeom prst="line">
                <a:avLst/>
              </a:prstGeom>
              <a:ln w="158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92" name=""/>
              <p:cNvSpPr/>
              <p:nvPr/>
            </p:nvSpPr>
            <p:spPr>
              <a:xfrm flipH="1" flipV="1">
                <a:off x="5524200" y="3713040"/>
                <a:ext cx="45720" cy="45720"/>
              </a:xfrm>
              <a:prstGeom prst="line">
                <a:avLst/>
              </a:prstGeom>
              <a:ln w="158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93" name=""/>
              <p:cNvSpPr/>
              <p:nvPr/>
            </p:nvSpPr>
            <p:spPr>
              <a:xfrm>
                <a:off x="5570280" y="3759120"/>
                <a:ext cx="44640" cy="46080"/>
              </a:xfrm>
              <a:prstGeom prst="line">
                <a:avLst/>
              </a:prstGeom>
              <a:ln w="158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94" name=""/>
              <p:cNvSpPr/>
              <p:nvPr/>
            </p:nvSpPr>
            <p:spPr>
              <a:xfrm flipH="1">
                <a:off x="5524200" y="3759120"/>
                <a:ext cx="45720" cy="46080"/>
              </a:xfrm>
              <a:prstGeom prst="line">
                <a:avLst/>
              </a:prstGeom>
              <a:ln w="158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95" name=""/>
              <p:cNvSpPr/>
              <p:nvPr/>
            </p:nvSpPr>
            <p:spPr>
              <a:xfrm flipV="1">
                <a:off x="5570280" y="3713040"/>
                <a:ext cx="44640" cy="45720"/>
              </a:xfrm>
              <a:prstGeom prst="line">
                <a:avLst/>
              </a:prstGeom>
              <a:ln w="158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96" name=""/>
              <p:cNvSpPr/>
              <p:nvPr/>
            </p:nvSpPr>
            <p:spPr>
              <a:xfrm flipH="1" flipV="1">
                <a:off x="5859360" y="3819600"/>
                <a:ext cx="46080" cy="46080"/>
              </a:xfrm>
              <a:prstGeom prst="line">
                <a:avLst/>
              </a:prstGeom>
              <a:ln w="158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97" name=""/>
              <p:cNvSpPr/>
              <p:nvPr/>
            </p:nvSpPr>
            <p:spPr>
              <a:xfrm>
                <a:off x="5905440" y="3865680"/>
                <a:ext cx="44280" cy="46080"/>
              </a:xfrm>
              <a:prstGeom prst="line">
                <a:avLst/>
              </a:prstGeom>
              <a:ln w="158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98" name=""/>
              <p:cNvSpPr/>
              <p:nvPr/>
            </p:nvSpPr>
            <p:spPr>
              <a:xfrm flipH="1">
                <a:off x="5859360" y="3865680"/>
                <a:ext cx="46080" cy="46080"/>
              </a:xfrm>
              <a:prstGeom prst="line">
                <a:avLst/>
              </a:prstGeom>
              <a:ln w="158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99" name=""/>
              <p:cNvSpPr/>
              <p:nvPr/>
            </p:nvSpPr>
            <p:spPr>
              <a:xfrm flipV="1">
                <a:off x="5905440" y="3819600"/>
                <a:ext cx="44280" cy="46080"/>
              </a:xfrm>
              <a:prstGeom prst="line">
                <a:avLst/>
              </a:prstGeom>
              <a:ln w="158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00" name=""/>
              <p:cNvSpPr/>
              <p:nvPr/>
            </p:nvSpPr>
            <p:spPr>
              <a:xfrm flipH="1" flipV="1">
                <a:off x="6208560" y="3880080"/>
                <a:ext cx="46080" cy="46080"/>
              </a:xfrm>
              <a:prstGeom prst="line">
                <a:avLst/>
              </a:prstGeom>
              <a:ln w="158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01" name=""/>
              <p:cNvSpPr/>
              <p:nvPr/>
            </p:nvSpPr>
            <p:spPr>
              <a:xfrm>
                <a:off x="6254640" y="3926160"/>
                <a:ext cx="46080" cy="45720"/>
              </a:xfrm>
              <a:prstGeom prst="line">
                <a:avLst/>
              </a:prstGeom>
              <a:ln w="158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02" name=""/>
              <p:cNvSpPr/>
              <p:nvPr/>
            </p:nvSpPr>
            <p:spPr>
              <a:xfrm flipH="1">
                <a:off x="6208560" y="3926160"/>
                <a:ext cx="46080" cy="45720"/>
              </a:xfrm>
              <a:prstGeom prst="line">
                <a:avLst/>
              </a:prstGeom>
              <a:ln w="158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03" name=""/>
              <p:cNvSpPr/>
              <p:nvPr/>
            </p:nvSpPr>
            <p:spPr>
              <a:xfrm flipV="1">
                <a:off x="6254640" y="3880080"/>
                <a:ext cx="46080" cy="46080"/>
              </a:xfrm>
              <a:prstGeom prst="line">
                <a:avLst/>
              </a:prstGeom>
              <a:ln w="158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04" name=""/>
              <p:cNvSpPr/>
              <p:nvPr/>
            </p:nvSpPr>
            <p:spPr>
              <a:xfrm flipH="1" flipV="1">
                <a:off x="6559200" y="3880080"/>
                <a:ext cx="44280" cy="46080"/>
              </a:xfrm>
              <a:prstGeom prst="line">
                <a:avLst/>
              </a:prstGeom>
              <a:ln w="158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05" name=""/>
              <p:cNvSpPr/>
              <p:nvPr/>
            </p:nvSpPr>
            <p:spPr>
              <a:xfrm>
                <a:off x="6603840" y="3926160"/>
                <a:ext cx="46080" cy="45720"/>
              </a:xfrm>
              <a:prstGeom prst="line">
                <a:avLst/>
              </a:prstGeom>
              <a:ln w="158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06" name=""/>
              <p:cNvSpPr/>
              <p:nvPr/>
            </p:nvSpPr>
            <p:spPr>
              <a:xfrm flipH="1">
                <a:off x="6559200" y="3926160"/>
                <a:ext cx="44280" cy="45720"/>
              </a:xfrm>
              <a:prstGeom prst="line">
                <a:avLst/>
              </a:prstGeom>
              <a:ln w="158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07" name=""/>
              <p:cNvSpPr/>
              <p:nvPr/>
            </p:nvSpPr>
            <p:spPr>
              <a:xfrm flipV="1">
                <a:off x="6603840" y="3880080"/>
                <a:ext cx="46080" cy="46080"/>
              </a:xfrm>
              <a:prstGeom prst="line">
                <a:avLst/>
              </a:prstGeom>
              <a:ln w="158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08" name=""/>
              <p:cNvSpPr/>
              <p:nvPr/>
            </p:nvSpPr>
            <p:spPr>
              <a:xfrm flipH="1" flipV="1">
                <a:off x="6908760" y="3925800"/>
                <a:ext cx="46080" cy="45720"/>
              </a:xfrm>
              <a:prstGeom prst="line">
                <a:avLst/>
              </a:prstGeom>
              <a:ln w="158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09" name=""/>
              <p:cNvSpPr/>
              <p:nvPr/>
            </p:nvSpPr>
            <p:spPr>
              <a:xfrm>
                <a:off x="6954840" y="3971880"/>
                <a:ext cx="46080" cy="46080"/>
              </a:xfrm>
              <a:prstGeom prst="line">
                <a:avLst/>
              </a:prstGeom>
              <a:ln w="158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10" name=""/>
              <p:cNvSpPr/>
              <p:nvPr/>
            </p:nvSpPr>
            <p:spPr>
              <a:xfrm flipH="1">
                <a:off x="6908760" y="3971880"/>
                <a:ext cx="46080" cy="46080"/>
              </a:xfrm>
              <a:prstGeom prst="line">
                <a:avLst/>
              </a:prstGeom>
              <a:ln w="158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11" name=""/>
              <p:cNvSpPr/>
              <p:nvPr/>
            </p:nvSpPr>
            <p:spPr>
              <a:xfrm flipV="1">
                <a:off x="6954840" y="3925800"/>
                <a:ext cx="46080" cy="45720"/>
              </a:xfrm>
              <a:prstGeom prst="line">
                <a:avLst/>
              </a:prstGeom>
              <a:ln w="158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12" name=""/>
              <p:cNvSpPr/>
              <p:nvPr/>
            </p:nvSpPr>
            <p:spPr>
              <a:xfrm flipH="1" flipV="1">
                <a:off x="7243560" y="3986280"/>
                <a:ext cx="46080" cy="46080"/>
              </a:xfrm>
              <a:prstGeom prst="line">
                <a:avLst/>
              </a:prstGeom>
              <a:ln w="158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13" name=""/>
              <p:cNvSpPr/>
              <p:nvPr/>
            </p:nvSpPr>
            <p:spPr>
              <a:xfrm>
                <a:off x="7289640" y="4032360"/>
                <a:ext cx="46080" cy="46080"/>
              </a:xfrm>
              <a:prstGeom prst="line">
                <a:avLst/>
              </a:prstGeom>
              <a:ln w="158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14" name=""/>
              <p:cNvSpPr/>
              <p:nvPr/>
            </p:nvSpPr>
            <p:spPr>
              <a:xfrm flipH="1">
                <a:off x="7243560" y="4032360"/>
                <a:ext cx="46080" cy="46080"/>
              </a:xfrm>
              <a:prstGeom prst="line">
                <a:avLst/>
              </a:prstGeom>
              <a:ln w="158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15" name=""/>
              <p:cNvSpPr/>
              <p:nvPr/>
            </p:nvSpPr>
            <p:spPr>
              <a:xfrm flipV="1">
                <a:off x="7289640" y="3986280"/>
                <a:ext cx="46080" cy="46080"/>
              </a:xfrm>
              <a:prstGeom prst="line">
                <a:avLst/>
              </a:prstGeom>
              <a:ln w="158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16" name=""/>
              <p:cNvSpPr/>
              <p:nvPr/>
            </p:nvSpPr>
            <p:spPr>
              <a:xfrm flipH="1" flipV="1">
                <a:off x="7594200" y="3971880"/>
                <a:ext cx="44280" cy="46080"/>
              </a:xfrm>
              <a:prstGeom prst="line">
                <a:avLst/>
              </a:prstGeom>
              <a:ln w="158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17" name=""/>
              <p:cNvSpPr/>
              <p:nvPr/>
            </p:nvSpPr>
            <p:spPr>
              <a:xfrm>
                <a:off x="7638840" y="4017960"/>
                <a:ext cx="46080" cy="44640"/>
              </a:xfrm>
              <a:prstGeom prst="line">
                <a:avLst/>
              </a:prstGeom>
              <a:ln w="158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18" name=""/>
              <p:cNvSpPr/>
              <p:nvPr/>
            </p:nvSpPr>
            <p:spPr>
              <a:xfrm flipH="1">
                <a:off x="7594200" y="4017960"/>
                <a:ext cx="44280" cy="44640"/>
              </a:xfrm>
              <a:prstGeom prst="line">
                <a:avLst/>
              </a:prstGeom>
              <a:ln w="158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19" name=""/>
              <p:cNvSpPr/>
              <p:nvPr/>
            </p:nvSpPr>
            <p:spPr>
              <a:xfrm flipV="1">
                <a:off x="7638840" y="3971880"/>
                <a:ext cx="46080" cy="46080"/>
              </a:xfrm>
              <a:prstGeom prst="line">
                <a:avLst/>
              </a:prstGeom>
              <a:ln w="158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20" name=""/>
              <p:cNvSpPr/>
              <p:nvPr/>
            </p:nvSpPr>
            <p:spPr>
              <a:xfrm>
                <a:off x="1260000" y="5316480"/>
                <a:ext cx="81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Geneva"/>
                  </a:rPr>
                  <a:t>0</a:t>
                </a:r>
                <a:endParaRPr b="0" lang="en-US" sz="11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21" name=""/>
              <p:cNvSpPr/>
              <p:nvPr/>
            </p:nvSpPr>
            <p:spPr>
              <a:xfrm>
                <a:off x="1172880" y="4875480"/>
                <a:ext cx="162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Geneva"/>
                  </a:rPr>
                  <a:t>20</a:t>
                </a:r>
                <a:endParaRPr b="0" lang="en-US" sz="11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22" name=""/>
              <p:cNvSpPr/>
              <p:nvPr/>
            </p:nvSpPr>
            <p:spPr>
              <a:xfrm>
                <a:off x="1172880" y="4434120"/>
                <a:ext cx="162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Geneva"/>
                  </a:rPr>
                  <a:t>40</a:t>
                </a:r>
                <a:endParaRPr b="0" lang="en-US" sz="11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23" name=""/>
              <p:cNvSpPr/>
              <p:nvPr/>
            </p:nvSpPr>
            <p:spPr>
              <a:xfrm>
                <a:off x="1172880" y="3978360"/>
                <a:ext cx="162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Geneva"/>
                  </a:rPr>
                  <a:t>60</a:t>
                </a:r>
                <a:endParaRPr b="0" lang="en-US" sz="11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24" name=""/>
              <p:cNvSpPr/>
              <p:nvPr/>
            </p:nvSpPr>
            <p:spPr>
              <a:xfrm>
                <a:off x="1172880" y="3537000"/>
                <a:ext cx="162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Geneva"/>
                  </a:rPr>
                  <a:t>80</a:t>
                </a:r>
                <a:endParaRPr b="0" lang="en-US" sz="11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25" name=""/>
              <p:cNvSpPr/>
              <p:nvPr/>
            </p:nvSpPr>
            <p:spPr>
              <a:xfrm>
                <a:off x="1088640" y="3097440"/>
                <a:ext cx="2430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Geneva"/>
                  </a:rPr>
                  <a:t>100</a:t>
                </a:r>
                <a:endParaRPr b="0" lang="en-US" sz="11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26" name=""/>
              <p:cNvSpPr/>
              <p:nvPr/>
            </p:nvSpPr>
            <p:spPr>
              <a:xfrm>
                <a:off x="1088640" y="2656080"/>
                <a:ext cx="2430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Geneva"/>
                  </a:rPr>
                  <a:t>120</a:t>
                </a:r>
                <a:endParaRPr b="0" lang="en-US" sz="11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27" name=""/>
              <p:cNvSpPr/>
              <p:nvPr/>
            </p:nvSpPr>
            <p:spPr>
              <a:xfrm>
                <a:off x="1088640" y="2200320"/>
                <a:ext cx="2430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Geneva"/>
                  </a:rPr>
                  <a:t>140</a:t>
                </a:r>
                <a:endParaRPr b="0" lang="en-US" sz="11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28" name=""/>
              <p:cNvSpPr/>
              <p:nvPr/>
            </p:nvSpPr>
            <p:spPr>
              <a:xfrm>
                <a:off x="1088640" y="1758960"/>
                <a:ext cx="2430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Geneva"/>
                  </a:rPr>
                  <a:t>160</a:t>
                </a:r>
                <a:endParaRPr b="0" lang="en-US" sz="11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29" name=""/>
              <p:cNvSpPr/>
              <p:nvPr/>
            </p:nvSpPr>
            <p:spPr>
              <a:xfrm>
                <a:off x="1387080" y="5529240"/>
                <a:ext cx="162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Geneva"/>
                  </a:rPr>
                  <a:t>50</a:t>
                </a:r>
                <a:endParaRPr b="0" lang="en-US" sz="11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30" name=""/>
              <p:cNvSpPr/>
              <p:nvPr/>
            </p:nvSpPr>
            <p:spPr>
              <a:xfrm>
                <a:off x="1736280" y="5529240"/>
                <a:ext cx="162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Geneva"/>
                  </a:rPr>
                  <a:t>75</a:t>
                </a:r>
                <a:endParaRPr b="0" lang="en-US" sz="11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31" name=""/>
              <p:cNvSpPr/>
              <p:nvPr/>
            </p:nvSpPr>
            <p:spPr>
              <a:xfrm>
                <a:off x="2031840" y="5529240"/>
                <a:ext cx="2430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Geneva"/>
                  </a:rPr>
                  <a:t>100</a:t>
                </a:r>
                <a:endParaRPr b="0" lang="en-US" sz="11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32" name=""/>
              <p:cNvSpPr/>
              <p:nvPr/>
            </p:nvSpPr>
            <p:spPr>
              <a:xfrm>
                <a:off x="2382480" y="5529240"/>
                <a:ext cx="2430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Geneva"/>
                  </a:rPr>
                  <a:t>125</a:t>
                </a:r>
                <a:endParaRPr b="0" lang="en-US" sz="11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33" name=""/>
              <p:cNvSpPr/>
              <p:nvPr/>
            </p:nvSpPr>
            <p:spPr>
              <a:xfrm>
                <a:off x="2731680" y="5529240"/>
                <a:ext cx="2430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Geneva"/>
                  </a:rPr>
                  <a:t>150</a:t>
                </a:r>
                <a:endParaRPr b="0" lang="en-US" sz="11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34" name=""/>
              <p:cNvSpPr/>
              <p:nvPr/>
            </p:nvSpPr>
            <p:spPr>
              <a:xfrm>
                <a:off x="3082680" y="5529240"/>
                <a:ext cx="2430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Geneva"/>
                  </a:rPr>
                  <a:t>175</a:t>
                </a:r>
                <a:endParaRPr b="0" lang="en-US" sz="11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35" name=""/>
              <p:cNvSpPr/>
              <p:nvPr/>
            </p:nvSpPr>
            <p:spPr>
              <a:xfrm>
                <a:off x="3416040" y="5529240"/>
                <a:ext cx="2430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Geneva"/>
                  </a:rPr>
                  <a:t>200</a:t>
                </a:r>
                <a:endParaRPr b="0" lang="en-US" sz="11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36" name=""/>
              <p:cNvSpPr/>
              <p:nvPr/>
            </p:nvSpPr>
            <p:spPr>
              <a:xfrm>
                <a:off x="3767040" y="5529240"/>
                <a:ext cx="2430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Geneva"/>
                  </a:rPr>
                  <a:t>225</a:t>
                </a:r>
                <a:endParaRPr b="0" lang="en-US" sz="11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37" name=""/>
              <p:cNvSpPr/>
              <p:nvPr/>
            </p:nvSpPr>
            <p:spPr>
              <a:xfrm>
                <a:off x="4116240" y="5529240"/>
                <a:ext cx="2430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Geneva"/>
                  </a:rPr>
                  <a:t>250</a:t>
                </a:r>
                <a:endParaRPr b="0" lang="en-US" sz="11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38" name=""/>
              <p:cNvSpPr/>
              <p:nvPr/>
            </p:nvSpPr>
            <p:spPr>
              <a:xfrm>
                <a:off x="4466880" y="5529240"/>
                <a:ext cx="2430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Geneva"/>
                  </a:rPr>
                  <a:t>275</a:t>
                </a:r>
                <a:endParaRPr b="0" lang="en-US" sz="11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39" name=""/>
              <p:cNvSpPr/>
              <p:nvPr/>
            </p:nvSpPr>
            <p:spPr>
              <a:xfrm>
                <a:off x="4802040" y="5529240"/>
                <a:ext cx="2430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Geneva"/>
                  </a:rPr>
                  <a:t>300</a:t>
                </a:r>
                <a:endParaRPr b="0" lang="en-US" sz="11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40" name=""/>
              <p:cNvSpPr/>
              <p:nvPr/>
            </p:nvSpPr>
            <p:spPr>
              <a:xfrm>
                <a:off x="5151240" y="5529240"/>
                <a:ext cx="2430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Geneva"/>
                  </a:rPr>
                  <a:t>325</a:t>
                </a:r>
                <a:endParaRPr b="0" lang="en-US" sz="11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41" name=""/>
              <p:cNvSpPr/>
              <p:nvPr/>
            </p:nvSpPr>
            <p:spPr>
              <a:xfrm>
                <a:off x="5501880" y="5529240"/>
                <a:ext cx="2430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Geneva"/>
                  </a:rPr>
                  <a:t>350</a:t>
                </a:r>
                <a:endParaRPr b="0" lang="en-US" sz="11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42" name=""/>
              <p:cNvSpPr/>
              <p:nvPr/>
            </p:nvSpPr>
            <p:spPr>
              <a:xfrm>
                <a:off x="5837040" y="5529240"/>
                <a:ext cx="2430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Geneva"/>
                  </a:rPr>
                  <a:t>375</a:t>
                </a:r>
                <a:endParaRPr b="0" lang="en-US" sz="11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43" name=""/>
              <p:cNvSpPr/>
              <p:nvPr/>
            </p:nvSpPr>
            <p:spPr>
              <a:xfrm>
                <a:off x="6186240" y="5529240"/>
                <a:ext cx="2430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Geneva"/>
                  </a:rPr>
                  <a:t>400</a:t>
                </a:r>
                <a:endParaRPr b="0" lang="en-US" sz="11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44" name=""/>
              <p:cNvSpPr/>
              <p:nvPr/>
            </p:nvSpPr>
            <p:spPr>
              <a:xfrm>
                <a:off x="6537240" y="5529240"/>
                <a:ext cx="2430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Geneva"/>
                  </a:rPr>
                  <a:t>425</a:t>
                </a:r>
                <a:endParaRPr b="0" lang="en-US" sz="11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45" name=""/>
              <p:cNvSpPr/>
              <p:nvPr/>
            </p:nvSpPr>
            <p:spPr>
              <a:xfrm>
                <a:off x="6886440" y="5529240"/>
                <a:ext cx="2430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Geneva"/>
                  </a:rPr>
                  <a:t>450</a:t>
                </a:r>
                <a:endParaRPr b="0" lang="en-US" sz="11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46" name=""/>
              <p:cNvSpPr/>
              <p:nvPr/>
            </p:nvSpPr>
            <p:spPr>
              <a:xfrm>
                <a:off x="7221240" y="5529240"/>
                <a:ext cx="2430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Geneva"/>
                  </a:rPr>
                  <a:t>475</a:t>
                </a:r>
                <a:endParaRPr b="0" lang="en-US" sz="11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47" name=""/>
              <p:cNvSpPr/>
              <p:nvPr/>
            </p:nvSpPr>
            <p:spPr>
              <a:xfrm>
                <a:off x="7570440" y="5529240"/>
                <a:ext cx="2430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Geneva"/>
                  </a:rPr>
                  <a:t>500</a:t>
                </a:r>
                <a:endParaRPr b="0" lang="en-US" sz="11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48" name=""/>
              <p:cNvSpPr/>
              <p:nvPr/>
            </p:nvSpPr>
            <p:spPr>
              <a:xfrm>
                <a:off x="4091400" y="5786640"/>
                <a:ext cx="994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Geneva"/>
                  </a:rPr>
                  <a:t>matrix size (n)</a:t>
                </a:r>
                <a:endParaRPr b="0" lang="en-US" sz="11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pic>
            <p:nvPicPr>
              <p:cNvPr id="1549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776160" y="3089520"/>
                <a:ext cx="182520" cy="106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50" name=""/>
              <p:cNvSpPr/>
              <p:nvPr/>
            </p:nvSpPr>
            <p:spPr>
              <a:xfrm>
                <a:off x="7927920" y="3197160"/>
                <a:ext cx="745920" cy="865440"/>
              </a:xfrm>
              <a:prstGeom prst="rect">
                <a:avLst/>
              </a:prstGeom>
              <a:solidFill>
                <a:srgbClr val="ffff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51" name=""/>
              <p:cNvSpPr/>
              <p:nvPr/>
            </p:nvSpPr>
            <p:spPr>
              <a:xfrm>
                <a:off x="7974000" y="3318120"/>
                <a:ext cx="350640" cy="144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52" name=""/>
              <p:cNvSpPr/>
              <p:nvPr/>
            </p:nvSpPr>
            <p:spPr>
              <a:xfrm>
                <a:off x="8096040" y="3272040"/>
                <a:ext cx="90720" cy="91800"/>
              </a:xfrm>
              <a:custGeom>
                <a:avLst/>
                <a:gdLst/>
                <a:ahLst/>
                <a:rect l="l" t="t" r="r" b="b"/>
                <a:pathLst>
                  <a:path w="57" h="58">
                    <a:moveTo>
                      <a:pt x="29" y="0"/>
                    </a:moveTo>
                    <a:lnTo>
                      <a:pt x="57" y="29"/>
                    </a:lnTo>
                    <a:lnTo>
                      <a:pt x="29" y="58"/>
                    </a:lnTo>
                    <a:lnTo>
                      <a:pt x="0" y="29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ff0000"/>
              </a:solidFill>
              <a:ln w="158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53" name=""/>
              <p:cNvSpPr/>
              <p:nvPr/>
            </p:nvSpPr>
            <p:spPr>
              <a:xfrm>
                <a:off x="8434080" y="3218040"/>
                <a:ext cx="2354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Geneva"/>
                  </a:rPr>
                  <a:t>bijk</a:t>
                </a:r>
                <a:endParaRPr b="0" lang="en-US" sz="11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54" name=""/>
              <p:cNvSpPr/>
              <p:nvPr/>
            </p:nvSpPr>
            <p:spPr>
              <a:xfrm>
                <a:off x="7974000" y="3530520"/>
                <a:ext cx="350640" cy="1800"/>
              </a:xfrm>
              <a:prstGeom prst="line">
                <a:avLst/>
              </a:prstGeom>
              <a:ln w="158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55" name=""/>
              <p:cNvSpPr/>
              <p:nvPr/>
            </p:nvSpPr>
            <p:spPr>
              <a:xfrm>
                <a:off x="8096040" y="3484800"/>
                <a:ext cx="90720" cy="91800"/>
              </a:xfrm>
              <a:prstGeom prst="rect">
                <a:avLst/>
              </a:prstGeom>
              <a:solidFill>
                <a:srgbClr val="ffff00"/>
              </a:solidFill>
              <a:ln w="158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56" name=""/>
              <p:cNvSpPr/>
              <p:nvPr/>
            </p:nvSpPr>
            <p:spPr>
              <a:xfrm>
                <a:off x="8434080" y="3430800"/>
                <a:ext cx="2354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Geneva"/>
                  </a:rPr>
                  <a:t>bikj</a:t>
                </a:r>
                <a:endParaRPr b="0" lang="en-US" sz="11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57" name=""/>
              <p:cNvSpPr/>
              <p:nvPr/>
            </p:nvSpPr>
            <p:spPr>
              <a:xfrm>
                <a:off x="7974000" y="3743280"/>
                <a:ext cx="350640" cy="180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58" name=""/>
              <p:cNvSpPr/>
              <p:nvPr/>
            </p:nvSpPr>
            <p:spPr>
              <a:xfrm>
                <a:off x="8096040" y="3699000"/>
                <a:ext cx="90720" cy="90360"/>
              </a:xfrm>
              <a:custGeom>
                <a:avLst/>
                <a:gdLst/>
                <a:ahLst/>
                <a:rect l="l" t="t" r="r" b="b"/>
                <a:pathLst>
                  <a:path w="57" h="57">
                    <a:moveTo>
                      <a:pt x="29" y="0"/>
                    </a:moveTo>
                    <a:lnTo>
                      <a:pt x="57" y="57"/>
                    </a:lnTo>
                    <a:lnTo>
                      <a:pt x="0" y="57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ff00"/>
              </a:solidFill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59" name=""/>
              <p:cNvSpPr/>
              <p:nvPr/>
            </p:nvSpPr>
            <p:spPr>
              <a:xfrm>
                <a:off x="8439480" y="3643560"/>
                <a:ext cx="1486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Geneva"/>
                  </a:rPr>
                  <a:t>ijk</a:t>
                </a:r>
                <a:endParaRPr b="0" lang="en-US" sz="11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60" name=""/>
              <p:cNvSpPr/>
              <p:nvPr/>
            </p:nvSpPr>
            <p:spPr>
              <a:xfrm>
                <a:off x="7974000" y="3956040"/>
                <a:ext cx="350640" cy="1800"/>
              </a:xfrm>
              <a:prstGeom prst="line">
                <a:avLst/>
              </a:prstGeom>
              <a:ln w="158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61" name=""/>
              <p:cNvSpPr/>
              <p:nvPr/>
            </p:nvSpPr>
            <p:spPr>
              <a:xfrm flipH="1" flipV="1">
                <a:off x="8096040" y="3911400"/>
                <a:ext cx="46080" cy="44280"/>
              </a:xfrm>
              <a:prstGeom prst="line">
                <a:avLst/>
              </a:prstGeom>
              <a:ln w="158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1562" name=""/>
            <p:cNvSpPr/>
            <p:nvPr/>
          </p:nvSpPr>
          <p:spPr>
            <a:xfrm>
              <a:off x="8142120" y="3956040"/>
              <a:ext cx="44640" cy="46080"/>
            </a:xfrm>
            <a:prstGeom prst="line">
              <a:avLst/>
            </a:prstGeom>
            <a:ln w="1584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63" name=""/>
            <p:cNvSpPr/>
            <p:nvPr/>
          </p:nvSpPr>
          <p:spPr>
            <a:xfrm flipH="1">
              <a:off x="8096040" y="3956040"/>
              <a:ext cx="46080" cy="46080"/>
            </a:xfrm>
            <a:prstGeom prst="line">
              <a:avLst/>
            </a:prstGeom>
            <a:ln w="1584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64" name=""/>
            <p:cNvSpPr/>
            <p:nvPr/>
          </p:nvSpPr>
          <p:spPr>
            <a:xfrm flipV="1">
              <a:off x="8142120" y="3911400"/>
              <a:ext cx="44640" cy="44280"/>
            </a:xfrm>
            <a:prstGeom prst="line">
              <a:avLst/>
            </a:prstGeom>
            <a:ln w="1584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8439480" y="3855960"/>
              <a:ext cx="1486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Geneva"/>
                </a:rPr>
                <a:t>ikj</a:t>
              </a:r>
              <a:endParaRPr b="0" lang="en-US" sz="11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609480" y="1600200"/>
              <a:ext cx="8124840" cy="454500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7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Great Reality #4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568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00"/>
                </a:solidFill>
                <a:latin typeface="Arial"/>
              </a:rPr>
              <a:t>There’s more to performance than asymptotic complexity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onstant factors matter too!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asily see 10:1 performance range depending on how code writte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ust optimize at multiple levels: algorithm, data representations, procedures, and loop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Must understand system to optimize performanc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How programs compiled and executed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How to measure program performance and identify bottleneck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How to improve performance without destroying code modularity and generalit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Great Reality #5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570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00"/>
                </a:solidFill>
                <a:latin typeface="Arial"/>
              </a:rPr>
              <a:t>Computers do more than execute program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hey need to get data in and out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/O system critical to program reliability and performanc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hey communicate with each other over network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any system-level issues arise in presence of network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oncurrent operations by autonomous processe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oping with unreliable media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ross platform compatibility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omplex performance issue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Role within Curriculum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572" name="PlaceHolder 2"/>
          <p:cNvSpPr>
            <a:spLocks noGrp="1"/>
          </p:cNvSpPr>
          <p:nvPr>
            <p:ph/>
          </p:nvPr>
        </p:nvSpPr>
        <p:spPr>
          <a:xfrm>
            <a:off x="4571640" y="4343400"/>
            <a:ext cx="4483080" cy="210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7404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ransition from Abstract to Concrete!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21800" indent="-2383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From: high-level language model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21800" indent="-2383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o: underlying implementa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73" name=""/>
          <p:cNvSpPr/>
          <p:nvPr/>
        </p:nvSpPr>
        <p:spPr>
          <a:xfrm>
            <a:off x="1600200" y="5562720"/>
            <a:ext cx="1434960" cy="672840"/>
          </a:xfrm>
          <a:prstGeom prst="rect">
            <a:avLst/>
          </a:prstGeom>
          <a:solidFill>
            <a:srgbClr val="cc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CS 21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Fundamental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Structures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74" name=""/>
          <p:cNvSpPr/>
          <p:nvPr/>
        </p:nvSpPr>
        <p:spPr>
          <a:xfrm>
            <a:off x="2063880" y="3664080"/>
            <a:ext cx="1434960" cy="67284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CS 213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75" name=""/>
          <p:cNvSpPr/>
          <p:nvPr/>
        </p:nvSpPr>
        <p:spPr>
          <a:xfrm>
            <a:off x="2063880" y="1828800"/>
            <a:ext cx="1434960" cy="6793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CS 41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Operating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76" name=""/>
          <p:cNvSpPr/>
          <p:nvPr/>
        </p:nvSpPr>
        <p:spPr>
          <a:xfrm>
            <a:off x="3505320" y="1828800"/>
            <a:ext cx="1434960" cy="67320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CS 41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Compilers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77" name=""/>
          <p:cNvSpPr/>
          <p:nvPr/>
        </p:nvSpPr>
        <p:spPr>
          <a:xfrm>
            <a:off x="1308240" y="2527200"/>
            <a:ext cx="965160" cy="1117800"/>
          </a:xfrm>
          <a:prstGeom prst="line">
            <a:avLst/>
          </a:prstGeom>
          <a:ln w="2556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78" name=""/>
          <p:cNvSpPr/>
          <p:nvPr/>
        </p:nvSpPr>
        <p:spPr>
          <a:xfrm>
            <a:off x="2819520" y="2514600"/>
            <a:ext cx="0" cy="1117440"/>
          </a:xfrm>
          <a:prstGeom prst="line">
            <a:avLst/>
          </a:prstGeom>
          <a:ln w="2556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79" name=""/>
          <p:cNvSpPr/>
          <p:nvPr/>
        </p:nvSpPr>
        <p:spPr>
          <a:xfrm>
            <a:off x="2207880" y="2666880"/>
            <a:ext cx="1161360" cy="51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Processes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Mem. Mgmt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80" name=""/>
          <p:cNvSpPr/>
          <p:nvPr/>
        </p:nvSpPr>
        <p:spPr>
          <a:xfrm flipH="1">
            <a:off x="3276720" y="2527200"/>
            <a:ext cx="914400" cy="1117800"/>
          </a:xfrm>
          <a:prstGeom prst="line">
            <a:avLst/>
          </a:prstGeom>
          <a:ln w="2556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81" name=""/>
          <p:cNvSpPr/>
          <p:nvPr/>
        </p:nvSpPr>
        <p:spPr>
          <a:xfrm>
            <a:off x="3565800" y="2690640"/>
            <a:ext cx="1387080" cy="51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Machine Code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Optimization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82" name=""/>
          <p:cNvSpPr/>
          <p:nvPr/>
        </p:nvSpPr>
        <p:spPr>
          <a:xfrm flipV="1">
            <a:off x="2743200" y="4343040"/>
            <a:ext cx="0" cy="121932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83" name=""/>
          <p:cNvSpPr/>
          <p:nvPr/>
        </p:nvSpPr>
        <p:spPr>
          <a:xfrm>
            <a:off x="1984680" y="4572000"/>
            <a:ext cx="1508760" cy="72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Data Structures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Applications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Programming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84" name=""/>
          <p:cNvSpPr/>
          <p:nvPr/>
        </p:nvSpPr>
        <p:spPr>
          <a:xfrm>
            <a:off x="304920" y="3657600"/>
            <a:ext cx="1434960" cy="673200"/>
          </a:xfrm>
          <a:prstGeom prst="rect">
            <a:avLst/>
          </a:prstGeom>
          <a:solidFill>
            <a:srgbClr val="ff99cc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CS 21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Execution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Models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1585" name=""/>
          <p:cNvCxnSpPr>
            <a:stCxn id="1573" idx="0"/>
            <a:endCxn id="1584" idx="2"/>
          </p:cNvCxnSpPr>
          <p:nvPr/>
        </p:nvCxnSpPr>
        <p:spPr>
          <a:xfrm flipH="1" flipV="1">
            <a:off x="1022040" y="4330800"/>
            <a:ext cx="1296000" cy="1232280"/>
          </a:xfrm>
          <a:prstGeom prst="straightConnector1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</p:cxnSp>
      <p:sp>
        <p:nvSpPr>
          <p:cNvPr id="1586" name=""/>
          <p:cNvSpPr/>
          <p:nvPr/>
        </p:nvSpPr>
        <p:spPr>
          <a:xfrm>
            <a:off x="609480" y="1828800"/>
            <a:ext cx="1435320" cy="67320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CS 44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Networks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87" name=""/>
          <p:cNvSpPr/>
          <p:nvPr/>
        </p:nvSpPr>
        <p:spPr>
          <a:xfrm>
            <a:off x="988560" y="2666880"/>
            <a:ext cx="1002960" cy="51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Network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Protocols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88" name=""/>
          <p:cNvSpPr/>
          <p:nvPr/>
        </p:nvSpPr>
        <p:spPr>
          <a:xfrm>
            <a:off x="5029200" y="2514600"/>
            <a:ext cx="1434960" cy="67320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ECE 347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Architecture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1589" name=""/>
          <p:cNvCxnSpPr>
            <a:stCxn id="1574" idx="3"/>
            <a:endCxn id="1588" idx="2"/>
          </p:cNvCxnSpPr>
          <p:nvPr/>
        </p:nvCxnSpPr>
        <p:spPr>
          <a:xfrm flipV="1">
            <a:off x="3498840" y="3187440"/>
            <a:ext cx="2248560" cy="813600"/>
          </a:xfrm>
          <a:prstGeom prst="straightConnector1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</p:cxnSp>
      <p:sp>
        <p:nvSpPr>
          <p:cNvPr id="1590" name=""/>
          <p:cNvSpPr/>
          <p:nvPr/>
        </p:nvSpPr>
        <p:spPr>
          <a:xfrm>
            <a:off x="6553080" y="2514600"/>
            <a:ext cx="1435320" cy="67320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ECE 349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Embedded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1591" name=""/>
          <p:cNvCxnSpPr>
            <a:stCxn id="1574" idx="3"/>
            <a:endCxn id="1590" idx="2"/>
          </p:cNvCxnSpPr>
          <p:nvPr/>
        </p:nvCxnSpPr>
        <p:spPr>
          <a:xfrm flipV="1">
            <a:off x="3498840" y="3187440"/>
            <a:ext cx="3772800" cy="813600"/>
          </a:xfrm>
          <a:prstGeom prst="straightConnector1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</p:cxnSp>
      <p:sp>
        <p:nvSpPr>
          <p:cNvPr id="1592" name=""/>
          <p:cNvSpPr/>
          <p:nvPr/>
        </p:nvSpPr>
        <p:spPr>
          <a:xfrm>
            <a:off x="3798360" y="3429000"/>
            <a:ext cx="1548360" cy="51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Exec. Model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Memory System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93" name=""/>
          <p:cNvSpPr/>
          <p:nvPr/>
        </p:nvSpPr>
        <p:spPr>
          <a:xfrm>
            <a:off x="3137040" y="5562720"/>
            <a:ext cx="1434960" cy="672840"/>
          </a:xfrm>
          <a:prstGeom prst="rect">
            <a:avLst/>
          </a:prstGeom>
          <a:solidFill>
            <a:srgbClr val="cc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CS 113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C Programming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94" name=""/>
          <p:cNvSpPr/>
          <p:nvPr/>
        </p:nvSpPr>
        <p:spPr>
          <a:xfrm flipH="1" flipV="1">
            <a:off x="3352680" y="4343040"/>
            <a:ext cx="609840" cy="121932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ourse Perspectiv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59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Most Systems Courses are Builder-Centric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mputer Architectur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Design pipelined processor in Verilog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perating System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Implement large portions of operating system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mpiler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Write compiler for simple languag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Networking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Implement and simulate network protocol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ourse Them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lvl="1" marL="692280" indent="-2286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bstraction is good, but don’t forget reality!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585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ourses to date emphasize abstract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692280" indent="-2286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bstract data typ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92280" indent="-2286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symptotic analysi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585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hese abstractions have limit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692280" indent="-2286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specially in the presence of bug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92280" indent="-2286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Need to understand underlying implementation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585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Useful outcome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692280" indent="-2286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Become more effective programmer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065960" indent="-2214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ble to find and eliminate bugs efficiently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065960" indent="-2214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ble to tune program performanc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286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repare for later “systems” classes in CS &amp; EC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065960" indent="-2214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ompilers, Operating Systems, Networks, Computer Architecture, Embedded System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ourse Perspective (Cont.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598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Our Course is Programmer-Centric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urpose is to show how by knowing more about the underlying system, one can be more effective as a programmer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nable you to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Write programs that are more reliable and efficient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Incorporate features that require hooks into O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66"/>
              </a:buClr>
              <a:buFont typeface="Helvetic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E.g., concurrency, signal handler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Not just a course for dedicated hacker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We bring out the hidden hacker in everyon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ver material in this course that you won’t see elsewher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Great Reality #1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00"/>
                </a:solidFill>
                <a:latin typeface="Arial"/>
              </a:rPr>
              <a:t>Int’s are not Integers, Float’s are not Real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Example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s x</a:t>
            </a:r>
            <a:r>
              <a:rPr b="1" lang="en-US" sz="2000" spc="-1" strike="noStrike" baseline="30000">
                <a:solidFill>
                  <a:srgbClr val="000066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≥ 0?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Float’s: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Yes!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Int’s: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66"/>
              </a:buClr>
              <a:buFont typeface="Helvetic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40000 * 40000  --&gt; 1600000000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66"/>
              </a:buClr>
              <a:buFont typeface="Helvetic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50000 * 50000  --&gt; ??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s (x + y) + z  =  x + (y + z)?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Unsigned &amp; Signed Int’s: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Yes!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Float’s: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66"/>
              </a:buClr>
              <a:buFont typeface="Helvetic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(1e20 + -1e20) + 3.14 --&gt; 3.14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66"/>
              </a:buClr>
              <a:buFont typeface="Helvetic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1e20 + (-1e20 + 3.14) --&gt; ??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omputer Arithmetic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7800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Does not generate random value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29360" indent="-2408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rithmetic operations have important mathematical properti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7800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annot assume “usual” propertie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29360" indent="-2408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ue to finiteness of representation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29360" indent="-2408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nteger operations satisfy “ring” properti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23200" indent="-23328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ommutativity, associativity, distributivity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29360" indent="-2408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Floating point operations satisfy “ordering” properti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23200" indent="-23328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Monotonicity, values of sign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7800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Observat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29360" indent="-2408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Need to understand which abstractions apply in which context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29360" indent="-2408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mportant issues for compiler writers and serious application programmer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Great Reality #2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00"/>
                </a:solidFill>
                <a:latin typeface="Arial"/>
              </a:rPr>
              <a:t>You’ve got to know assembly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114624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hances are, you’ll never write program in assembly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mpilers are much better &amp; more patient than you ar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Understanding assembly key to machine-level execution mod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Behavior of programs in presence of bug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High-level language model breaks down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uning program performanc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Understanding sources of program inefficiency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mplementing system softwar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ompiler has machine code as target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Operating systems must manage process stat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Assembly Code Exampl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ime Stamp Counter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pecial 64-bit register in Intel-compatible machin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ncremented every clock cycl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ad with rdtsc instruc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Applicat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easure time required by procedur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In units of clock cycle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2680" y="4343400"/>
            <a:ext cx="6398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double t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tart_counter(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(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t = get_counter(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rintf(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"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 required %f clock cycles\n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"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, t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ode to Read Counter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Write small amount of assembly code using GCC’s asm facilit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nserts assembly code into machine code generated by compiler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143000" y="2666880"/>
            <a:ext cx="7658280" cy="366012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tatic unsigned cyc_hi = 0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tatic unsigned cyc_lo = 0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/* Set *hi and *lo to the high and low order bit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of the cycle counter. 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*/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void access_counter(unsigned *hi, unsigned *lo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sm(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"rdtsc; movl %%edx,%0; movl %%eax,%1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"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  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: "=r" (*hi), "=r" (*lo)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: "%edx", "%eax"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ode to Read Counter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0440" y="990720"/>
            <a:ext cx="8763120" cy="530604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/* Record the current value of the cycle counter. */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void start_counter(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ccess_counter(&amp;cyc_hi, &amp;cyc_lo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/* Number of cycles since the last call to start_counter. */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double get_counter(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unsigned ncyc_hi, ncyc_lo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unsigned hi, lo, borrow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/* Get cycle counter */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ccess_counter(&amp;ncyc_hi, &amp;ncyc_lo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/* Do double precision subtraction */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o = ncyc_lo - cyc_lo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borrow = lo &gt; ncyc_lo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hi = ncyc_hi - cyc_hi - borrow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urn (double) hi * (1 &lt;&lt; 30) * 4 + lo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Measuring Tim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r" pos="3086280"/>
                <a:tab algn="r" pos="5143680"/>
                <a:tab algn="r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rickier than it Might Look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r" pos="3086280"/>
                <a:tab algn="r" pos="5143680"/>
                <a:tab algn="r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any sources of varia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r" pos="3086280"/>
                <a:tab algn="r" pos="5143680"/>
                <a:tab algn="r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Exampl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r" pos="3086280"/>
                <a:tab algn="r" pos="5143680"/>
                <a:tab algn="r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um integers from 1 to 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0"/>
                <a:tab algn="r" pos="3086280"/>
                <a:tab algn="r" pos="5143680"/>
                <a:tab algn="r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n</a:t>
            </a: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Cycles</a:t>
            </a: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Cycles/n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0"/>
                <a:tab algn="r" pos="3086280"/>
                <a:tab algn="r" pos="5143680"/>
                <a:tab algn="r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100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961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9.61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0"/>
                <a:tab algn="r" pos="3086280"/>
                <a:tab algn="r" pos="5143680"/>
                <a:tab algn="r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1,000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8,407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8.41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0"/>
                <a:tab algn="r" pos="3086280"/>
                <a:tab algn="r" pos="5143680"/>
                <a:tab algn="r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1,000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8,426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8.43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0"/>
                <a:tab algn="r" pos="3086280"/>
                <a:tab algn="r" pos="5143680"/>
                <a:tab algn="r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10,000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82,861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8.29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0"/>
                <a:tab algn="r" pos="3086280"/>
                <a:tab algn="r" pos="5143680"/>
                <a:tab algn="r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10,000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82,876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8.29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0"/>
                <a:tab algn="r" pos="3086280"/>
                <a:tab algn="r" pos="5143680"/>
                <a:tab algn="r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1,000,000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8,419,907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8.42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0"/>
                <a:tab algn="r" pos="3086280"/>
                <a:tab algn="r" pos="5143680"/>
                <a:tab algn="r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1,000,000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8,425,181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8.43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0"/>
                <a:tab algn="r" pos="3086280"/>
                <a:tab algn="r" pos="5143680"/>
                <a:tab algn="r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1,000,000,000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8,371,2305,591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8.37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11T09:18:18Z</dcterms:created>
  <dc:creator>Randal E. Bryant and David R. O'Hallaron</dc:creator>
  <dc:description/>
  <dc:language>en-US</dc:language>
  <cp:lastModifiedBy>droh</cp:lastModifiedBy>
  <cp:lastPrinted>1999-01-11T23:34:46Z</cp:lastPrinted>
  <dcterms:modified xsi:type="dcterms:W3CDTF">2002-10-28T20:23:50Z</dcterms:modified>
  <cp:revision>42</cp:revision>
  <dc:subject/>
  <dc:title>Course Overview</dc:title>
</cp:coreProperties>
</file>