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37BBB714-8D4B-4DC3-A527-B26E35DF2AD4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twork Programming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21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mer’s view of the Internet (review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ckets interf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ing clients and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6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er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b server (port 8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files/compute cycles (CGI program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retrieves files and runs CGI programs on behalf of the cli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TP server (20, 21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stores and retrieve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elnet server (23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termi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proxies a terminal on the server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l server (25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email “spool”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stores mail messages in spool fil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2911320"/>
            <a:ext cx="3124080" cy="11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etc/service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or a comprehensive list of the services available on a Linux machin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ckets Interf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reated in the early 80’s as part of the original Berkeley distribution of Unix that contained an early version of the Internet protocol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ides a user-level interface to the network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derlying basis for all Internet applica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d on client/server programming model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 of the Sockets Interf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41520" y="11426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9240" y="11584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1981080"/>
            <a:ext cx="0" cy="1676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39783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46641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53499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19209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26067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32925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39783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46641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53499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60357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809880"/>
            <a:ext cx="182880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5867280"/>
            <a:ext cx="182880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495680"/>
            <a:ext cx="12956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580920" y="5181480"/>
            <a:ext cx="12956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1582560"/>
            <a:ext cx="152388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1582560"/>
            <a:ext cx="144756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225756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bin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293220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ist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3639960"/>
            <a:ext cx="144756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cce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566424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431496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98960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76920" y="6340320"/>
            <a:ext cx="144756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989600"/>
            <a:ext cx="152388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3639960"/>
            <a:ext cx="152388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nne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4314960"/>
            <a:ext cx="152388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5665680"/>
            <a:ext cx="152388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18280" y="3292560"/>
            <a:ext cx="129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3600" y="55933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OF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6553080"/>
            <a:ext cx="4572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781680" y="3809880"/>
            <a:ext cx="0" cy="2743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324480" y="3809880"/>
            <a:ext cx="4572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23800" y="4585320"/>
            <a:ext cx="185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wait 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quest fro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xt 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1600200"/>
            <a:ext cx="152280" cy="1752480"/>
          </a:xfrm>
          <a:custGeom>
            <a:avLst/>
            <a:gdLst>
              <a:gd name="textAreaLeft" fmla="*/ 0 w 152280"/>
              <a:gd name="textAreaRight" fmla="*/ 5508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33000" y="228564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pen_listen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1600200"/>
            <a:ext cx="152640" cy="2438280"/>
          </a:xfrm>
          <a:custGeom>
            <a:avLst/>
            <a:gdLst>
              <a:gd name="textAreaLeft" fmla="*/ 97560 w 152640"/>
              <a:gd name="textAreaRight" fmla="*/ 153000 w 1526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00" y="263484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pen_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ck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s a socket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the kernel, a socket is an endpoint of communica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an application, a socket is a file descriptor that lets the application read/write from/to the networ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member: All Unix I/O devices, including networks, are modeled as fil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ents and servers communicate with each by reading from and writing to socket descrip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main distinction between regular file I/O and socket I/O is how the application “opens” the socket descrip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4640" y="13320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cket Address 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ic socket addres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address arguments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ne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ccep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cessary only because C did not have generic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oid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pointers when the sockets interface was design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rnet-specific socket addres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cast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addr_in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to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addr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ne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ccep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600" y="2496960"/>
            <a:ext cx="67644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short  sa_family;    /* protocol family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         sa_data[14];  /* address data. 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827600"/>
            <a:ext cx="8534520" cy="1554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short  sin_family;  /* address family (always AF_INET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short  sin_port;    /* port num in network byte ord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in_addr  sin_addr;    /* IP addr in network byte ord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char   sin_zero[8]; /* pad to sizeof(struct sockaddr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 Main Rout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0760" y="990720"/>
            <a:ext cx="615492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usage: ./echoclient host por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, por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host, buf[MAXLINE]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 = argv[1]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 = atoi(argv[2]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 = Open_clientfd(host, por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rio, client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Fgets(buf, MAXLINE, stdin) != NULL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clientfd, buf, strlen(buf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lineb(&amp;rio, buf, MAXLINE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uts(buf, stdou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lient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9760" y="990720"/>
            <a:ext cx="859320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open_clientfd(char *hostname, int port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onnect(clientfd, (SA *) 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client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5000" y="1295280"/>
            <a:ext cx="3276720" cy="824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is function opens a connection from the client to the server a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hostname: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5208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socke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7440" y="3809880"/>
            <a:ext cx="6764400" cy="1554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 /*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 (mor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820880"/>
            <a:ext cx="876312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ocke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reates a socket descriptor on the clien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F_IN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indicates that the socket is associated with Internet protocol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_STREA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selects a reliable byte stream connectio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81536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gethostbyname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4600" y="159984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lient then builds the server’s Internet addres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8160" y="2247840"/>
            <a:ext cx="725220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                 /*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            /* DNS host entry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/* server’s IP addr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fill in the server's IP address and por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77598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connec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nally the client creates a connection with the ser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ent process suspends (blocks) until the connection is creat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ter resuming, the client is ready to begin exchanging messages with the server via Unix I/O calls on descript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f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4480" y="3429000"/>
            <a:ext cx="8471160" cy="2284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                   /*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  /* server addr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def struct sockaddr SA;      /* generic sockadd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onnect(clientfd, (SA *)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clientf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158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Client-Server Transa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3840120"/>
            <a:ext cx="1203480" cy="7970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696760" y="4025880"/>
            <a:ext cx="25606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3840120"/>
            <a:ext cx="1203480" cy="7970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74440" y="3671640"/>
            <a:ext cx="23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1. Client sends 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30160" y="4433040"/>
            <a:ext cx="109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2. Serve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709360" y="4470480"/>
            <a:ext cx="25606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5800" y="448272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3. Server sends respon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2200" y="4423320"/>
            <a:ext cx="10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4. Clien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88200" y="4245120"/>
            <a:ext cx="8366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24840" y="3941640"/>
            <a:ext cx="1089000" cy="569880"/>
          </a:xfrm>
          <a:prstGeom prst="flowChartMagneticDisk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20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ery network application is based on the client-server model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ocess and one or mo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lient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er manages som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sour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er provides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rvi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manipulating resource for client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80880" y="556272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ote: clients and servers are processes running on host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(can be the same or different hosts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Main Rout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3640" y="990720"/>
            <a:ext cx="859320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connfd, port, clientle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haddr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 = atoi(argv[1]); /* the server listens on a port passe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the command l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por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7480" y="123192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open_listenfd(int port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optval=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liminates "Address already in use" error from bind.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 (more)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960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600" y="1523880"/>
            <a:ext cx="834948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bind(listenfd, (SA *)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ake it a listening socket ready to accep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request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80880" y="1668240"/>
            <a:ext cx="876312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ocke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reates a socket descriptor on the ser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F_IN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indicates that the socket is associated with Internet protocol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_STREA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selects a reliable byte stream connec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80880" y="334440"/>
            <a:ext cx="778536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socke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8920" y="3263760"/>
            <a:ext cx="6764400" cy="131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/* listening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78487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setsockop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736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ocket can be given some attribut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ndy trick that allows us to rerun the server immediately after we kill i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wise we would have to wait about 15 sec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es “Address already in use” error fro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nd(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ongly suggest you do this for all your servers to simplify debugg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4840" y="2254320"/>
            <a:ext cx="7617960" cy="131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liminates "Address already in use" error from bind().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8472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initialize socket addres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4240" y="1592280"/>
            <a:ext cx="8699400" cy="503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xt, we initialize the socket with the server’s Internet address (IP address and port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P addr and port stored in network (big-endian) byte ord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onl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verts longs from host byte order to network byte ord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ons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vers shorts from host byte order to network byte order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7240" y="2511360"/>
            <a:ext cx="737388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/* server's socket add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istenfd will be an endpoint for all requests to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any IP address for this ho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addr.s_addr = htonl(INADDR_AN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(unsigned short)por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78487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bind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90520" y="1817640"/>
            <a:ext cx="830736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ind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ociates the socket with the socket address we just create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759040"/>
            <a:ext cx="830592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                 /*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/* server’s socket add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istenfd will be an endpoint for all requests to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any IP address for this ho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bind(listenfd, (SA *)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75726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listen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4600" y="167616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iste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dicates that this socket will accept connection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onnec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requests from client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’re finally ready to enter the main server loop that accepts and processes client connection request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7680" y="2855880"/>
            <a:ext cx="871524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/*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ake it a listening socket ready to accept connection request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80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Main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loops endlessly, waiting for connection requests, then reading input from the client, and echoing the input back to the client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5560" y="2666880"/>
            <a:ext cx="8105400" cy="252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and configure the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Accept(): wait for a connection reque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cho(): read and echo input lines from client til EO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lose(): close the connection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44600" y="990720"/>
            <a:ext cx="8254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(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blocks waiting for a connection reque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return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nected descriptor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onnf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with the same properties as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istening descripto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istenf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when the connection between client and server is created and ready for I/O transfer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I/O with the client will be done via the connected socke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so fills in client’s IP addres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821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ccep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600200"/>
            <a:ext cx="8245440" cy="1797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/* listening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onnfd;   /* connected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len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Programmer’s View of the Intern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 Hosts are mapped to a set of 32-bit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P addresse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8.2.203.179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. The set of IP addresses is mapped to a set of identifiers called Internet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main name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8.2.203.179 is mapped to  www.cs.cmu.edu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. A process on one Internet host can communicate with a process on another Internet host over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nectio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ccep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Illustra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00480" y="1635120"/>
            <a:ext cx="128520" cy="128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0360" y="12394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1952640"/>
            <a:ext cx="12888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9800" y="15764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11560" y="1218960"/>
            <a:ext cx="32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1. Server blocks in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accept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, waiting for connection request on listening descriptor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isten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06200" y="2106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49520" y="15638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00480" y="3503520"/>
            <a:ext cx="128520" cy="128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0360" y="3107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3821040"/>
            <a:ext cx="12888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9800" y="34448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6200" y="39747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9520" y="34322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36840" y="3575160"/>
            <a:ext cx="1752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48280" y="3308040"/>
            <a:ext cx="38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. Client makes connection request by calling and blocking in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ec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08240" y="2990880"/>
            <a:ext cx="129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87880" y="5334120"/>
            <a:ext cx="128520" cy="128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7760" y="49384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11280" y="5651640"/>
            <a:ext cx="12852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5275440"/>
            <a:ext cx="105876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3600" y="5805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36920" y="5262480"/>
            <a:ext cx="105876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57640" y="4859280"/>
            <a:ext cx="40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3. Server returns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from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accept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 Client returns from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ect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 Connection is now established between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lient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14880" y="5664240"/>
            <a:ext cx="12852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70080" y="581796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(4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50960" y="572292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nected vs. Listening Descrip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stening descrip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d point for client connection request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d once and exists for lifetime of the server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nected descrip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d point of the connection between client and serv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new descriptor is created each time the server accepts a connection request from a cli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ists only as long as it takes to service cli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y the distinction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for concurrent servers that can communicate over many client connections simultaneous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Each time we receive a new request, we fork a child to handle the request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Identifying the Cli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can determine the domain name and IP address of the cli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3640" y="2193840"/>
            <a:ext cx="859320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  /* pointer to DNS host entry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haddrp;        /* pointer to dotted decimal string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46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ch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4480" y="3305160"/>
            <a:ext cx="7252200" cy="301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echo(int connfd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_t n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MAXLINE]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rio, conn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(n = Rio_readlineb(&amp;rio, buf, MAXLINE)) != 0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 received %d bytes\n", 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connfd, buf, 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441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uses RIO to read and echo text lines until EOF (end-of-file) is encountere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OF notification caused by client calling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lose(clientfd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: EOF is a condition, not a particular data by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524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sting Servers Us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eln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telne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 is invaluable for testing servers that transmit ASCII strings over Internet conne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r simple echo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b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il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age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ix&gt;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telnet &lt;host&gt; &lt;portnumber&gt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connection with a server running on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&lt;host&gt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 listening on port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&lt;portnumber&gt;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2840" y="304920"/>
            <a:ext cx="858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sting the Echo Server With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eln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9240" y="990720"/>
            <a:ext cx="8105400" cy="520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server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5 bytes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8 bytes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telne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rying 128.2.222.85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ed to BASS.CMCL.CS.CMU.EDU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closed by foreign hos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telne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rying 128.2.222.85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ed to BASS.CMCL.CS.CMU.EDU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closed by foreign hos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unning the Echo Client and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0080" y="1371600"/>
            <a:ext cx="8105400" cy="4231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server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4 bytes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7 bytes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clien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lease enter msg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 from server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clien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lease enter msg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 from server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05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More Inform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. Richard Stevens, “Unix Network Programming: Networking APIs: Sockets and XTI”, Volume 1, Second Edition, Prentice Hall, 1998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etwork programming bi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lete versions of the echo client and server are developed in the tex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ailable fro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sapp.cs.cmu.ed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ou should compile and run them for yourselves to see how they work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el free to borrow any of this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5977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1. IP Addr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3120" y="1219320"/>
            <a:ext cx="828216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2-bit IP addresses are stored in 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P address struc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P addresses are always stored in memory in network byte order (big-endian byte ord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ue in general for any integer transferred in a packet header from one machine to anoth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the port number used to identify an Internet connec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600" y="3541680"/>
            <a:ext cx="77400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ternet address structur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in_addr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int s_addr; /* network byte order (big-endian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85928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y network byte-order conversion function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onl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host to network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ons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host to network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tohl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network to host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tohs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network to host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7589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2. Domain Naming System (DN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6994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Internet maintains a mapping between IP addresses and domain names in a huge worldwide distributed database called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N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eptually, programmers can view the DNS database as a collection of millions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host entry structur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s for retrieving host entries from D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hostbynam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query key is a DNS domain nam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hostbyaddr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query key is an IP addr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121200"/>
            <a:ext cx="891540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DNS host entry structure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*h_name;       /* official domain name of hos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**h_aliases;   /* null-terminated array of domain name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   h_addrtype;    /* host address type (AF_INET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   h_length;      /* length of an address, in byte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**h_addr_list; /* null-terminated array of in_addr struct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740640" y="3990960"/>
            <a:ext cx="1465200" cy="103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7040" y="3990960"/>
            <a:ext cx="1465200" cy="103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3. Internet Conne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1360" y="4470480"/>
            <a:ext cx="405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nection socket pa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8.2.194.24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51213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9966ff"/>
                </a:solidFill>
                <a:latin typeface="Arial"/>
              </a:rPr>
              <a:t>208.216.181.1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80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8160" y="4098960"/>
            <a:ext cx="1287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33480" y="4098960"/>
            <a:ext cx="1287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78080" y="4502160"/>
            <a:ext cx="44514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49560" y="4437000"/>
            <a:ext cx="128520" cy="1285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29480" y="4437000"/>
            <a:ext cx="128520" cy="1285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77800" y="322884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 socke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8.2.194.24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5121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57720" y="3228840"/>
            <a:ext cx="258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 socke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ff"/>
                </a:solidFill>
                <a:latin typeface="Arial"/>
              </a:rPr>
              <a:t>208.216.181.1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278080" y="3809880"/>
            <a:ext cx="303120" cy="6271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45080" y="3809880"/>
            <a:ext cx="303480" cy="6271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8680" y="5133960"/>
            <a:ext cx="205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 hos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8.2.194.24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55160" y="5133960"/>
            <a:ext cx="212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 hos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ff"/>
                </a:solidFill>
                <a:latin typeface="Arial"/>
              </a:rPr>
              <a:t>208.216.181.1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7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ents and servers communicate by sending streams of bytes ov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nection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nections are point-to-point, full-duplex (2-way communication), and reliab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760" y="5951520"/>
            <a:ext cx="25779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Note: </a:t>
            </a: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51213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is a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phemeral port 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y the kernel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440" y="5943600"/>
            <a:ext cx="2970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Note: </a:t>
            </a:r>
            <a:r>
              <a:rPr b="1" i="1" lang="en-US" sz="1600" spc="-1" strike="noStrike">
                <a:solidFill>
                  <a:srgbClr val="00ffff"/>
                </a:solidFill>
                <a:latin typeface="Arial"/>
              </a:rPr>
              <a:t>80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is a well-known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associated with Web serv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of client progr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b browsers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t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ln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s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a client find the server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IP address in the server socket address identifies the host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 (more precisely, an adapter on the hos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(well-known) port in the server socket address identifies the service, and thus implicitly identifies the server process that performs that servi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 of well know po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7: Echo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23: Telnet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25: Mail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80: Web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1968480"/>
            <a:ext cx="129564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1492200"/>
            <a:ext cx="350532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4896000"/>
            <a:ext cx="129564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419720"/>
            <a:ext cx="350532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Ports to Identify Servi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10440" y="1611360"/>
            <a:ext cx="174600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9360" y="160020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 ho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1360" y="114300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 host 128.2.194.24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2482920"/>
            <a:ext cx="34290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255888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7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657440"/>
            <a:ext cx="265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ice request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.2.194.242:8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i.e., the Web serve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943600" y="2177640"/>
            <a:ext cx="45720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10440" y="4538520"/>
            <a:ext cx="174600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5410080"/>
            <a:ext cx="34290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548640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7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62520" y="4603680"/>
            <a:ext cx="220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ice request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.2.194.242:7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i.e., the echo serve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5486400"/>
            <a:ext cx="45720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31240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225432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518148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2282760"/>
            <a:ext cx="105408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7040" y="5210280"/>
            <a:ext cx="105408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624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s are long-running processes (daemons)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d at boot-time (typically) by the init process (process 1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un continuously until the machine is turned off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server waits for requests to arrive on a well-known port associated with a particular servi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7: echo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23: telnet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25: mail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80: HTTP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machine that runs a server process is also often  referred to as a “server.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1-13T18:37:01Z</dcterms:modified>
  <cp:revision>456</cp:revision>
  <dc:subject/>
  <dc:title>Network Programming</dc:title>
</cp:coreProperties>
</file>