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1B5BB5F-C6C3-4532-BCB5-A530FC29D4A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22200" y="1904760"/>
            <a:ext cx="3343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3833640"/>
            <a:ext cx="522756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EEE Floating Point Stand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 Enco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15213.0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-910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5213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1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.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0110110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00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11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47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normaliz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–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have distinct values +0 and –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s very close to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e precision as get smal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dual underflow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5842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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infin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on that overf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h positive and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3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1.0/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+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-a-Number (Na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case when no numeric value can be determ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qrt(–1),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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976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Floating Point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 Number Encod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ny Floating Poi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ign bit is in the most significant bi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xt four bits are the exponent, with a bias of 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last three bits are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ized,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 of 0, NaN, infin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Related to the Expon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574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Ra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97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09564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15312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403848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1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lose-up 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0520" y="172872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esting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4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4.9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1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.2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st larger than largest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3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375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e that it is true for all argument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ain why not tr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88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Properties of En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bits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first compare sig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nsider -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s probl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be greater than any other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should comparison yiel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 vs. normaliz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ized vs. infin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compute exact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fit into desired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overflow if exponent too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down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up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est Even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default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1720" y="556272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8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Round-To-Ev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get any other kind without dropping into 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others are statistically bi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m of set of positive numbers will consistently be over- or under- estim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ying to Other Decimal Places / Bit Posi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actly halfway between two possibl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 so that least significant digit is e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round to nearest hundred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4999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Less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reater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up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dow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unding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” when least significant bit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f way when bits to right of rounding position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to nearest 1/4 (2 bits right of binary poi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lt;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gt;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5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70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660033"/>
                </a:solidFill>
                <a:latin typeface="Courier New"/>
              </a:rPr>
              <a:t>*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^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, overflow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chore is multiplying signific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511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of signed align &amp; ad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&lt; 1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, de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232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FP 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flow and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. Properties of FP M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&amp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7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betwe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numeric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es fractional pa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ounding toward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defined when 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lly saturates to TMin or TM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ct conversion, as long as int h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53 bit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round according to rounding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swers to 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09680"/>
            <a:ext cx="79246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EEE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ablished in 1985 as uniform standard for floating point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fore that, many idiosyncratic forma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ed by all major CP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ce standards for rounding, overflow, und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ke go f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erical analysts predominated over hardware types in defining stand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ane 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2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ded 37 seconds after lifto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go worth $500 mill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d horizontal velocity as floating point numb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ed to 16-bit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ed OK for Ariane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ed for Ariane 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same softwa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ariane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60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21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numbers of form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reason about operations independent of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if computed with perfect precision and then roun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real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olates associativity/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s life difficult for compilers &amp; serious numerical applications programm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tional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4703400"/>
            <a:ext cx="84726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o right of “binary point” represent fractional powers of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rational numb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39720" y="2565360"/>
            <a:ext cx="5029200" cy="533520"/>
            <a:chOff x="1539720" y="2565360"/>
            <a:chExt cx="5029200" cy="533520"/>
          </a:xfrm>
        </p:grpSpPr>
        <p:sp>
          <p:nvSpPr>
            <p:cNvPr id="91" name=""/>
            <p:cNvSpPr/>
            <p:nvPr/>
          </p:nvSpPr>
          <p:spPr>
            <a:xfrm>
              <a:off x="1539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0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3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25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29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41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5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592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184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6960" y="2565360"/>
              <a:ext cx="759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25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4800" y="1092240"/>
            <a:ext cx="4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76212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48904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930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2514600" cy="16761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1840" y="182880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188960" y="304632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205160" y="304632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221000" y="3046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4204800" y="304632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331960" y="335124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980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3352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3672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960" y="4267080"/>
            <a:ext cx="3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63960" y="5651640"/>
                <a:ext cx="92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. Binary Numb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3/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.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-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0.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3/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0.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by 2 by shifting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by 2 by shifting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 of for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111111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st below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/2 + 1/4 + 1/8 + … + 1/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…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notation 1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ble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actly represent numbers of the form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numbers have repeating bit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101010101[0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 bi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termines whether number is negative or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ly a fractional value in range [1.0,2.0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eights value by power of tw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378240"/>
            <a:ext cx="355680" cy="3556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378240"/>
            <a:ext cx="2108160" cy="355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78240"/>
            <a:ext cx="4470480" cy="355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: 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2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: 1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5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: 1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6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found in Intel-compatibl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d in 80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bit was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reci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676520"/>
            <a:ext cx="6985080" cy="355320"/>
            <a:chOff x="1295280" y="1676520"/>
            <a:chExt cx="6985080" cy="355320"/>
          </a:xfrm>
        </p:grpSpPr>
        <p:sp>
          <p:nvSpPr>
            <p:cNvPr id="136" name=""/>
            <p:cNvSpPr/>
            <p:nvPr/>
          </p:nvSpPr>
          <p:spPr>
            <a:xfrm>
              <a:off x="1295280" y="1676520"/>
              <a:ext cx="355680" cy="3553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676520"/>
              <a:ext cx="2108160" cy="355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676520"/>
              <a:ext cx="4470480" cy="355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”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Exp – Bi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i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as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gle precision: 127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54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26…127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 precision: 1023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046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022…1023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general: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e-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- 1, where e is number of exponent b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.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x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1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2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extra leading bit for “fre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3-01-17T22:40:49Z</dcterms:modified>
  <cp:revision>62</cp:revision>
  <dc:subject/>
  <dc:title>Floating Point</dc:title>
</cp:coreProperties>
</file>