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62E6FD9-ADD7-4AAA-BE8D-02A3ACB0D7AC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05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Logic Desig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Word-Level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10080" y="1447920"/>
            <a:ext cx="38736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minimum of three input wor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case express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al case guarantees mat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81960" y="1828800"/>
            <a:ext cx="2297880" cy="914400"/>
            <a:chOff x="381960" y="1828800"/>
            <a:chExt cx="2297880" cy="914400"/>
          </a:xfrm>
        </p:grpSpPr>
        <p:sp>
          <p:nvSpPr>
            <p:cNvPr id="415" name=""/>
            <p:cNvSpPr/>
            <p:nvPr/>
          </p:nvSpPr>
          <p:spPr>
            <a:xfrm>
              <a:off x="685800" y="25146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1960" y="23623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6160" y="22860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58840" y="211788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in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6680" y="1828800"/>
              <a:ext cx="671400" cy="91440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914400"/>
                <a:gd name="textAreaBottom" fmla="*/ 881640 h 914400"/>
              </a:gdLst>
              <a:ahLst/>
              <a:rect l="textAreaLeft" t="textAreaTop" r="textAreaRight" b="textAreaBottom"/>
              <a:pathLst>
                <a:path w="21600" h="29414">
                  <a:moveTo>
                    <a:pt x="3600" y="0"/>
                  </a:moveTo>
                  <a:arcTo wR="3600" hR="3600" stAng="16200000" swAng="-5400000"/>
                  <a:lnTo>
                    <a:pt x="0" y="25814"/>
                  </a:lnTo>
                  <a:arcTo wR="3600" hR="3600" stAng="10800000" swAng="-5400000"/>
                  <a:lnTo>
                    <a:pt x="18000" y="294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IN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" y="2286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1960" y="2133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5800" y="2057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2320" y="190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738160" y="1600200"/>
            <a:ext cx="30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in3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&lt; B &amp;&amp; A &lt; C : 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&lt; A &amp;&amp; B &lt; C : B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             :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06360" y="3809880"/>
            <a:ext cx="2373480" cy="1860840"/>
            <a:chOff x="306360" y="3809880"/>
            <a:chExt cx="2373480" cy="1860840"/>
          </a:xfrm>
        </p:grpSpPr>
        <p:sp>
          <p:nvSpPr>
            <p:cNvPr id="426" name=""/>
            <p:cNvSpPr/>
            <p:nvPr/>
          </p:nvSpPr>
          <p:spPr>
            <a:xfrm>
              <a:off x="685800" y="4756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" y="5442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6360" y="45720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6360" y="52894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76520" y="50608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60280" y="48927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6360" y="407052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42991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6360" y="380988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" y="3994200"/>
              <a:ext cx="838080" cy="53352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66680" y="4489560"/>
              <a:ext cx="671760" cy="1181160"/>
            </a:xfrm>
            <a:custGeom>
              <a:avLst/>
              <a:gdLst>
                <a:gd name="textAreaLeft" fmla="*/ 32760 w 671760"/>
                <a:gd name="textAreaRight" fmla="*/ 639000 w 671760"/>
                <a:gd name="textAreaTop" fmla="*/ 32760 h 1181160"/>
                <a:gd name="textAreaBottom" fmla="*/ 1148400 h 1181160"/>
              </a:gdLst>
              <a:ahLst/>
              <a:rect l="textAreaLeft" t="textAreaTop" r="textAreaRight" b="textAreaBottom"/>
              <a:pathLst>
                <a:path w="21600" h="37971">
                  <a:moveTo>
                    <a:pt x="3600" y="0"/>
                  </a:moveTo>
                  <a:arcTo wR="3600" hR="3600" stAng="16200000" swAng="-5400000"/>
                  <a:lnTo>
                    <a:pt x="0" y="34371"/>
                  </a:lnTo>
                  <a:arcTo wR="3600" hR="3600" stAng="10800000" swAng="-5400000"/>
                  <a:lnTo>
                    <a:pt x="18000" y="379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" y="5213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6360" y="50608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800" y="4984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6360" y="48322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410080" y="426708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ect one of 4 inputs based on two control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case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plify tests by assuming sequential match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40320" y="4419720"/>
            <a:ext cx="223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ut4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1&amp;&amp;!s0: D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1     : D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0     : D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      : D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9680" y="1049400"/>
            <a:ext cx="2343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imum of 3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2840" y="3394080"/>
            <a:ext cx="2049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Way Multiplex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3319560" y="2895480"/>
            <a:ext cx="719640" cy="636480"/>
            <a:chOff x="3319560" y="2895480"/>
            <a:chExt cx="719640" cy="636480"/>
          </a:xfrm>
        </p:grpSpPr>
        <p:sp>
          <p:nvSpPr>
            <p:cNvPr id="446" name=""/>
            <p:cNvSpPr/>
            <p:nvPr/>
          </p:nvSpPr>
          <p:spPr>
            <a:xfrm>
              <a:off x="347184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552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956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008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0008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0044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419800" y="2895480"/>
            <a:ext cx="719640" cy="636480"/>
            <a:chOff x="5419800" y="2895480"/>
            <a:chExt cx="719640" cy="636480"/>
          </a:xfrm>
        </p:grpSpPr>
        <p:sp>
          <p:nvSpPr>
            <p:cNvPr id="453" name=""/>
            <p:cNvSpPr/>
            <p:nvPr/>
          </p:nvSpPr>
          <p:spPr>
            <a:xfrm>
              <a:off x="557208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9576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1980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0032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032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0068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520040" y="2895480"/>
            <a:ext cx="719640" cy="636480"/>
            <a:chOff x="7520040" y="2895480"/>
            <a:chExt cx="719640" cy="636480"/>
          </a:xfrm>
        </p:grpSpPr>
        <p:sp>
          <p:nvSpPr>
            <p:cNvPr id="460" name=""/>
            <p:cNvSpPr/>
            <p:nvPr/>
          </p:nvSpPr>
          <p:spPr>
            <a:xfrm>
              <a:off x="767232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9600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2004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0056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056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0092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219320" y="2895480"/>
            <a:ext cx="719640" cy="636480"/>
            <a:chOff x="1219320" y="2895480"/>
            <a:chExt cx="719640" cy="636480"/>
          </a:xfrm>
        </p:grpSpPr>
        <p:sp>
          <p:nvSpPr>
            <p:cNvPr id="467" name=""/>
            <p:cNvSpPr/>
            <p:nvPr/>
          </p:nvSpPr>
          <p:spPr>
            <a:xfrm>
              <a:off x="137160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528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932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9984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9984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thmetic Logic Un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ously responding to inpu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signal selects function comp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esponding to 4 arithmetic/logical operations in Y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omputes values for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81960" y="1447920"/>
            <a:ext cx="2058120" cy="1752120"/>
            <a:chOff x="381960" y="1447920"/>
            <a:chExt cx="2058120" cy="1752120"/>
          </a:xfrm>
        </p:grpSpPr>
        <p:grpSp>
          <p:nvGrpSpPr>
            <p:cNvPr id="476" name=""/>
            <p:cNvGrpSpPr/>
            <p:nvPr/>
          </p:nvGrpSpPr>
          <p:grpSpPr>
            <a:xfrm>
              <a:off x="685440" y="1752840"/>
              <a:ext cx="1066680" cy="1447200"/>
              <a:chOff x="685440" y="1752840"/>
              <a:chExt cx="1066680" cy="144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68544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1860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990000" y="1904760"/>
                <a:ext cx="457200" cy="1295280"/>
                <a:chOff x="990000" y="1904760"/>
                <a:chExt cx="457200" cy="12952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9000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06632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68544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44720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8196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96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5356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812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512440" y="1447920"/>
            <a:ext cx="2058120" cy="1752120"/>
            <a:chOff x="2512440" y="1447920"/>
            <a:chExt cx="2058120" cy="1752120"/>
          </a:xfrm>
        </p:grpSpPr>
        <p:grpSp>
          <p:nvGrpSpPr>
            <p:cNvPr id="489" name=""/>
            <p:cNvGrpSpPr/>
            <p:nvPr/>
          </p:nvGrpSpPr>
          <p:grpSpPr>
            <a:xfrm>
              <a:off x="2815920" y="1752840"/>
              <a:ext cx="1066680" cy="1447200"/>
              <a:chOff x="2815920" y="1752840"/>
              <a:chExt cx="1066680" cy="1447200"/>
            </a:xfrm>
          </p:grpSpPr>
          <p:sp>
            <p:nvSpPr>
              <p:cNvPr id="490" name=""/>
              <p:cNvSpPr/>
              <p:nvPr/>
            </p:nvSpPr>
            <p:spPr>
              <a:xfrm>
                <a:off x="281592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34908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3120480" y="1904760"/>
                <a:ext cx="457200" cy="1295280"/>
                <a:chOff x="3120480" y="1904760"/>
                <a:chExt cx="457200" cy="1295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048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9680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281592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7768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51244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244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8404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9860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42920" y="1447920"/>
            <a:ext cx="2058120" cy="1752120"/>
            <a:chOff x="4642920" y="1447920"/>
            <a:chExt cx="2058120" cy="1752120"/>
          </a:xfrm>
        </p:grpSpPr>
        <p:grpSp>
          <p:nvGrpSpPr>
            <p:cNvPr id="502" name=""/>
            <p:cNvGrpSpPr/>
            <p:nvPr/>
          </p:nvGrpSpPr>
          <p:grpSpPr>
            <a:xfrm>
              <a:off x="4946400" y="1752840"/>
              <a:ext cx="1066680" cy="1447200"/>
              <a:chOff x="4946400" y="1752840"/>
              <a:chExt cx="1066680" cy="1447200"/>
            </a:xfrm>
          </p:grpSpPr>
          <p:sp>
            <p:nvSpPr>
              <p:cNvPr id="503" name=""/>
              <p:cNvSpPr/>
              <p:nvPr/>
            </p:nvSpPr>
            <p:spPr>
              <a:xfrm>
                <a:off x="494640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7956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5250960" y="1904760"/>
                <a:ext cx="457200" cy="1295280"/>
                <a:chOff x="5250960" y="1904760"/>
                <a:chExt cx="457200" cy="12952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25096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32728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494640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0816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464292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4292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452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2908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773400" y="1447920"/>
            <a:ext cx="2058120" cy="1752120"/>
            <a:chOff x="6773400" y="1447920"/>
            <a:chExt cx="2058120" cy="1752120"/>
          </a:xfrm>
        </p:grpSpPr>
        <p:grpSp>
          <p:nvGrpSpPr>
            <p:cNvPr id="515" name=""/>
            <p:cNvGrpSpPr/>
            <p:nvPr/>
          </p:nvGrpSpPr>
          <p:grpSpPr>
            <a:xfrm>
              <a:off x="7076880" y="1752840"/>
              <a:ext cx="1066680" cy="1447200"/>
              <a:chOff x="7076880" y="1752840"/>
              <a:chExt cx="1066680" cy="1447200"/>
            </a:xfrm>
          </p:grpSpPr>
          <p:sp>
            <p:nvSpPr>
              <p:cNvPr id="516" name=""/>
              <p:cNvSpPr/>
              <p:nvPr/>
            </p:nvSpPr>
            <p:spPr>
              <a:xfrm>
                <a:off x="707688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1004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7381440" y="1904760"/>
                <a:ext cx="457200" cy="1295280"/>
                <a:chOff x="7381440" y="1904760"/>
                <a:chExt cx="457200" cy="12952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738144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45776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707688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3864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677340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7340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4500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^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5956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953280" y="2057400"/>
            <a:ext cx="264600" cy="1068480"/>
            <a:chOff x="953280" y="2057400"/>
            <a:chExt cx="264600" cy="1068480"/>
          </a:xfrm>
        </p:grpSpPr>
        <p:sp>
          <p:nvSpPr>
            <p:cNvPr id="528" name=""/>
            <p:cNvSpPr/>
            <p:nvPr/>
          </p:nvSpPr>
          <p:spPr>
            <a:xfrm>
              <a:off x="95328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5328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087000" y="2057400"/>
            <a:ext cx="264600" cy="1068480"/>
            <a:chOff x="3087000" y="2057400"/>
            <a:chExt cx="264600" cy="1068480"/>
          </a:xfrm>
        </p:grpSpPr>
        <p:sp>
          <p:nvSpPr>
            <p:cNvPr id="531" name=""/>
            <p:cNvSpPr/>
            <p:nvPr/>
          </p:nvSpPr>
          <p:spPr>
            <a:xfrm>
              <a:off x="308700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8700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220360" y="2057400"/>
            <a:ext cx="264600" cy="1068480"/>
            <a:chOff x="5220360" y="2057400"/>
            <a:chExt cx="264600" cy="1068480"/>
          </a:xfrm>
        </p:grpSpPr>
        <p:sp>
          <p:nvSpPr>
            <p:cNvPr id="534" name=""/>
            <p:cNvSpPr/>
            <p:nvPr/>
          </p:nvSpPr>
          <p:spPr>
            <a:xfrm>
              <a:off x="522036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2036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354080" y="2057400"/>
            <a:ext cx="264600" cy="1068480"/>
            <a:chOff x="7354080" y="2057400"/>
            <a:chExt cx="264600" cy="1068480"/>
          </a:xfrm>
        </p:grpSpPr>
        <p:sp>
          <p:nvSpPr>
            <p:cNvPr id="537" name=""/>
            <p:cNvSpPr/>
            <p:nvPr/>
          </p:nvSpPr>
          <p:spPr>
            <a:xfrm>
              <a:off x="735408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5408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3505320" y="3218040"/>
          <a:ext cx="397332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218040"/>
                    <a:ext cx="397332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1 B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1066680"/>
            <a:ext cx="19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stable El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733920" y="1447920"/>
            <a:ext cx="1752480" cy="1760400"/>
            <a:chOff x="3733920" y="1447920"/>
            <a:chExt cx="1752480" cy="1760400"/>
          </a:xfrm>
        </p:grpSpPr>
        <p:sp>
          <p:nvSpPr>
            <p:cNvPr id="544" name=""/>
            <p:cNvSpPr/>
            <p:nvPr/>
          </p:nvSpPr>
          <p:spPr>
            <a:xfrm>
              <a:off x="4262400" y="174636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3961080" y="1600200"/>
              <a:ext cx="385560" cy="291960"/>
              <a:chOff x="3961080" y="1600200"/>
              <a:chExt cx="385560" cy="291960"/>
            </a:xfrm>
          </p:grpSpPr>
          <p:sp>
            <p:nvSpPr>
              <p:cNvPr id="546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3733920" y="175248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262400" y="266688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3961080" y="2527560"/>
              <a:ext cx="385560" cy="291960"/>
              <a:chOff x="3961080" y="2527560"/>
              <a:chExt cx="385560" cy="29196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V="1">
              <a:off x="3733920" y="2665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29200" y="1600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29200" y="2438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0" y="14479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72000" y="23623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0080" y="2895480"/>
              <a:ext cx="160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0 or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076400" y="4267080"/>
            <a:ext cx="1673280" cy="1669680"/>
            <a:chOff x="1076400" y="4267080"/>
            <a:chExt cx="1673280" cy="1669680"/>
          </a:xfrm>
        </p:grpSpPr>
        <p:sp>
          <p:nvSpPr>
            <p:cNvPr id="566" name=""/>
            <p:cNvSpPr/>
            <p:nvPr/>
          </p:nvSpPr>
          <p:spPr>
            <a:xfrm>
              <a:off x="2058840" y="464184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757520" y="4495680"/>
              <a:ext cx="385560" cy="291960"/>
              <a:chOff x="1757520" y="4495680"/>
              <a:chExt cx="385560" cy="291960"/>
            </a:xfrm>
          </p:grpSpPr>
          <p:sp>
            <p:nvSpPr>
              <p:cNvPr id="568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1530360" y="464796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058840" y="556236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1757520" y="5423040"/>
              <a:ext cx="385560" cy="291960"/>
              <a:chOff x="1757520" y="5423040"/>
              <a:chExt cx="385560" cy="29196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 flipV="1">
              <a:off x="1530360" y="556092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30360" y="464796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4" name=""/>
          <p:cNvGraphicFramePr/>
          <p:nvPr/>
        </p:nvGraphicFramePr>
        <p:xfrm>
          <a:off x="3505320" y="3505320"/>
          <a:ext cx="3973320" cy="318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505320"/>
                    <a:ext cx="3973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3505320" y="3505320"/>
          <a:ext cx="3973320" cy="318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505320"/>
                    <a:ext cx="3973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3494160" y="3416400"/>
          <a:ext cx="4201920" cy="3365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4160" y="3416400"/>
                    <a:ext cx="42019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1 Bit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33920" y="1066680"/>
            <a:ext cx="19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stable El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733920" y="1447920"/>
            <a:ext cx="1752480" cy="1760400"/>
            <a:chOff x="3733920" y="1447920"/>
            <a:chExt cx="1752480" cy="1760400"/>
          </a:xfrm>
        </p:grpSpPr>
        <p:sp>
          <p:nvSpPr>
            <p:cNvPr id="593" name=""/>
            <p:cNvSpPr/>
            <p:nvPr/>
          </p:nvSpPr>
          <p:spPr>
            <a:xfrm>
              <a:off x="4262400" y="174636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961080" y="1600200"/>
              <a:ext cx="385560" cy="291960"/>
              <a:chOff x="3961080" y="1600200"/>
              <a:chExt cx="385560" cy="291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3733920" y="175248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262400" y="266688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3961080" y="2527560"/>
              <a:ext cx="385560" cy="291960"/>
              <a:chOff x="3961080" y="2527560"/>
              <a:chExt cx="385560" cy="2919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 flipV="1">
              <a:off x="3733920" y="2665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29200" y="1600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29200" y="2438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14479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23623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80080" y="2895480"/>
              <a:ext cx="160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0 or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076400" y="4267080"/>
            <a:ext cx="1673280" cy="1669680"/>
            <a:chOff x="1076400" y="4267080"/>
            <a:chExt cx="1673280" cy="1669680"/>
          </a:xfrm>
        </p:grpSpPr>
        <p:sp>
          <p:nvSpPr>
            <p:cNvPr id="615" name=""/>
            <p:cNvSpPr/>
            <p:nvPr/>
          </p:nvSpPr>
          <p:spPr>
            <a:xfrm>
              <a:off x="2058840" y="464184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1757520" y="4495680"/>
              <a:ext cx="385560" cy="291960"/>
              <a:chOff x="1757520" y="4495680"/>
              <a:chExt cx="385560" cy="291960"/>
            </a:xfrm>
          </p:grpSpPr>
          <p:sp>
            <p:nvSpPr>
              <p:cNvPr id="617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530360" y="464796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058840" y="556236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757520" y="5423040"/>
              <a:ext cx="385560" cy="291960"/>
              <a:chOff x="1757520" y="5423040"/>
              <a:chExt cx="385560" cy="291960"/>
            </a:xfrm>
          </p:grpSpPr>
          <p:sp>
            <p:nvSpPr>
              <p:cNvPr id="624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V="1">
              <a:off x="1530360" y="556092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30360" y="464796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076400" y="3962520"/>
            <a:ext cx="1668240" cy="1974240"/>
            <a:chOff x="1076400" y="3962520"/>
            <a:chExt cx="1668240" cy="1974240"/>
          </a:xfrm>
        </p:grpSpPr>
        <p:sp>
          <p:nvSpPr>
            <p:cNvPr id="634" name=""/>
            <p:cNvSpPr/>
            <p:nvPr/>
          </p:nvSpPr>
          <p:spPr>
            <a:xfrm>
              <a:off x="2054160" y="4641840"/>
              <a:ext cx="690480" cy="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1752480" y="4495680"/>
              <a:ext cx="385560" cy="291600"/>
              <a:chOff x="1752480" y="4495680"/>
              <a:chExt cx="385560" cy="291600"/>
            </a:xfrm>
          </p:grpSpPr>
          <p:sp>
            <p:nvSpPr>
              <p:cNvPr id="636" name=""/>
              <p:cNvSpPr/>
              <p:nvPr/>
            </p:nvSpPr>
            <p:spPr>
              <a:xfrm>
                <a:off x="1752480" y="4495680"/>
                <a:ext cx="30132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752480" y="4495680"/>
                <a:ext cx="30132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060280" y="460008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60280" y="460008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1525680" y="4647960"/>
              <a:ext cx="226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054160" y="5562000"/>
              <a:ext cx="6904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752480" y="5422320"/>
              <a:ext cx="385560" cy="291960"/>
              <a:chOff x="1752480" y="5422320"/>
              <a:chExt cx="385560" cy="29196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1752480" y="54219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1752480" y="54219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2060280" y="5533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2060280" y="5533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 flipV="1">
              <a:off x="1525680" y="5560560"/>
              <a:ext cx="226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25680" y="4647960"/>
              <a:ext cx="838080" cy="91404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525680" y="4647240"/>
              <a:ext cx="838080" cy="91404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47920" y="3962520"/>
              <a:ext cx="126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= 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209680" y="6019920"/>
            <a:ext cx="1447920" cy="340560"/>
            <a:chOff x="2209680" y="6019920"/>
            <a:chExt cx="1447920" cy="340560"/>
          </a:xfrm>
        </p:grpSpPr>
        <p:sp>
          <p:nvSpPr>
            <p:cNvPr id="655" name=""/>
            <p:cNvSpPr/>
            <p:nvPr/>
          </p:nvSpPr>
          <p:spPr>
            <a:xfrm>
              <a:off x="3200400" y="6172200"/>
              <a:ext cx="457200" cy="763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09680" y="601992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934320" y="3048120"/>
            <a:ext cx="1272960" cy="457200"/>
            <a:chOff x="6934320" y="3048120"/>
            <a:chExt cx="1272960" cy="457200"/>
          </a:xfrm>
        </p:grpSpPr>
        <p:sp>
          <p:nvSpPr>
            <p:cNvPr id="658" name=""/>
            <p:cNvSpPr/>
            <p:nvPr/>
          </p:nvSpPr>
          <p:spPr>
            <a:xfrm flipH="1">
              <a:off x="6934320" y="3276720"/>
              <a:ext cx="30456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8880" y="304812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333760" y="5028840"/>
            <a:ext cx="1272600" cy="493200"/>
            <a:chOff x="5333760" y="5028840"/>
            <a:chExt cx="1272600" cy="493200"/>
          </a:xfrm>
        </p:grpSpPr>
        <p:sp>
          <p:nvSpPr>
            <p:cNvPr id="661" name=""/>
            <p:cNvSpPr/>
            <p:nvPr/>
          </p:nvSpPr>
          <p:spPr>
            <a:xfrm flipH="1" flipV="1">
              <a:off x="5333760" y="5028840"/>
              <a:ext cx="22860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4480" y="5181480"/>
              <a:ext cx="1271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hysical Analog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982960" y="1066680"/>
          <a:ext cx="3973320" cy="31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2960" y="1066680"/>
                    <a:ext cx="39733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2971800" y="977760"/>
          <a:ext cx="4202280" cy="336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977760"/>
                    <a:ext cx="420228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8" name=""/>
          <p:cNvGrpSpPr/>
          <p:nvPr/>
        </p:nvGrpSpPr>
        <p:grpSpPr>
          <a:xfrm>
            <a:off x="1687680" y="3581280"/>
            <a:ext cx="1447200" cy="340560"/>
            <a:chOff x="1687680" y="3581280"/>
            <a:chExt cx="1447200" cy="340560"/>
          </a:xfrm>
        </p:grpSpPr>
        <p:sp>
          <p:nvSpPr>
            <p:cNvPr id="669" name=""/>
            <p:cNvSpPr/>
            <p:nvPr/>
          </p:nvSpPr>
          <p:spPr>
            <a:xfrm>
              <a:off x="2678040" y="3733560"/>
              <a:ext cx="456840" cy="763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87680" y="358128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411960" y="609480"/>
            <a:ext cx="1272960" cy="457200"/>
            <a:chOff x="6411960" y="609480"/>
            <a:chExt cx="1272960" cy="457200"/>
          </a:xfrm>
        </p:grpSpPr>
        <p:sp>
          <p:nvSpPr>
            <p:cNvPr id="672" name=""/>
            <p:cNvSpPr/>
            <p:nvPr/>
          </p:nvSpPr>
          <p:spPr>
            <a:xfrm flipH="1">
              <a:off x="6411960" y="838080"/>
              <a:ext cx="30456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16520" y="60948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811400" y="2590560"/>
            <a:ext cx="1272600" cy="493200"/>
            <a:chOff x="4811400" y="2590560"/>
            <a:chExt cx="1272600" cy="493200"/>
          </a:xfrm>
        </p:grpSpPr>
        <p:sp>
          <p:nvSpPr>
            <p:cNvPr id="675" name=""/>
            <p:cNvSpPr/>
            <p:nvPr/>
          </p:nvSpPr>
          <p:spPr>
            <a:xfrm flipH="1" flipV="1">
              <a:off x="4811400" y="2590560"/>
              <a:ext cx="22860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12120" y="2743200"/>
              <a:ext cx="1271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066680" y="5532120"/>
            <a:ext cx="2210040" cy="1216080"/>
            <a:chOff x="1066680" y="5532120"/>
            <a:chExt cx="2210040" cy="1216080"/>
          </a:xfrm>
        </p:grpSpPr>
        <p:grpSp>
          <p:nvGrpSpPr>
            <p:cNvPr id="678" name=""/>
            <p:cNvGrpSpPr/>
            <p:nvPr/>
          </p:nvGrpSpPr>
          <p:grpSpPr>
            <a:xfrm>
              <a:off x="1066680" y="5573160"/>
              <a:ext cx="2210040" cy="1175040"/>
              <a:chOff x="1066680" y="5573160"/>
              <a:chExt cx="2210040" cy="1175040"/>
            </a:xfrm>
          </p:grpSpPr>
          <p:sp>
            <p:nvSpPr>
              <p:cNvPr id="679" name=""/>
              <p:cNvSpPr/>
              <p:nvPr/>
            </p:nvSpPr>
            <p:spPr>
              <a:xfrm>
                <a:off x="2209680" y="5869080"/>
                <a:ext cx="106704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1141200" y="5573160"/>
                <a:ext cx="1781280" cy="1175040"/>
                <a:chOff x="1141200" y="5573160"/>
                <a:chExt cx="1781280" cy="117504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141200" y="5875200"/>
                  <a:ext cx="1709280" cy="873000"/>
                  <a:chOff x="1141200" y="5875200"/>
                  <a:chExt cx="1709280" cy="87300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rot="20269800">
                    <a:off x="1134000" y="6199920"/>
                    <a:ext cx="1752480" cy="15264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20269800">
                    <a:off x="1187280" y="6397560"/>
                    <a:ext cx="304560" cy="3045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 rot="20269800">
                  <a:off x="2554920" y="56062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1066680" y="6707160"/>
                <a:ext cx="6098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1303200" y="553212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ble lef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337080" y="5535360"/>
            <a:ext cx="2209680" cy="1213200"/>
            <a:chOff x="6337080" y="5535360"/>
            <a:chExt cx="2209680" cy="1213200"/>
          </a:xfrm>
        </p:grpSpPr>
        <p:grpSp>
          <p:nvGrpSpPr>
            <p:cNvPr id="688" name=""/>
            <p:cNvGrpSpPr/>
            <p:nvPr/>
          </p:nvGrpSpPr>
          <p:grpSpPr>
            <a:xfrm>
              <a:off x="6337080" y="5572800"/>
              <a:ext cx="2209680" cy="1175760"/>
              <a:chOff x="6337080" y="5572800"/>
              <a:chExt cx="2209680" cy="1175760"/>
            </a:xfrm>
          </p:grpSpPr>
          <p:sp>
            <p:nvSpPr>
              <p:cNvPr id="689" name=""/>
              <p:cNvSpPr/>
              <p:nvPr/>
            </p:nvSpPr>
            <p:spPr>
              <a:xfrm flipH="1">
                <a:off x="6336720" y="5869080"/>
                <a:ext cx="10666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6690600" y="5572800"/>
                <a:ext cx="1782000" cy="1175760"/>
                <a:chOff x="6690600" y="5572800"/>
                <a:chExt cx="1782000" cy="11757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6762960" y="5875200"/>
                  <a:ext cx="1709640" cy="873360"/>
                  <a:chOff x="6762960" y="5875200"/>
                  <a:chExt cx="1709640" cy="8733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rot="1330200">
                    <a:off x="6726240" y="6199920"/>
                    <a:ext cx="1752840" cy="15228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rot="1330200">
                    <a:off x="8121240" y="639720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4" name=""/>
                <p:cNvSpPr/>
                <p:nvPr/>
              </p:nvSpPr>
              <p:spPr>
                <a:xfrm flipH="1" rot="1330200">
                  <a:off x="6777720" y="56062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 flipH="1">
                <a:off x="7937280" y="6707160"/>
                <a:ext cx="6094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7148520" y="553536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ble righ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273560" y="4305240"/>
            <a:ext cx="1855440" cy="2401920"/>
            <a:chOff x="4273560" y="4305240"/>
            <a:chExt cx="1855440" cy="2401920"/>
          </a:xfrm>
        </p:grpSpPr>
        <p:grpSp>
          <p:nvGrpSpPr>
            <p:cNvPr id="698" name=""/>
            <p:cNvGrpSpPr/>
            <p:nvPr/>
          </p:nvGrpSpPr>
          <p:grpSpPr>
            <a:xfrm>
              <a:off x="4273560" y="4305240"/>
              <a:ext cx="1066680" cy="2401920"/>
              <a:chOff x="4273560" y="4305240"/>
              <a:chExt cx="1066680" cy="2401920"/>
            </a:xfrm>
          </p:grpSpPr>
          <p:sp>
            <p:nvSpPr>
              <p:cNvPr id="699" name=""/>
              <p:cNvSpPr/>
              <p:nvPr/>
            </p:nvSpPr>
            <p:spPr>
              <a:xfrm>
                <a:off x="4273560" y="5869080"/>
                <a:ext cx="10666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4659840" y="4305240"/>
                <a:ext cx="540000" cy="1805760"/>
                <a:chOff x="4659840" y="4305240"/>
                <a:chExt cx="540000" cy="180576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4659840" y="4305240"/>
                  <a:ext cx="305640" cy="1752840"/>
                  <a:chOff x="4659840" y="4305240"/>
                  <a:chExt cx="305640" cy="175284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5388600">
                    <a:off x="3938760" y="5105160"/>
                    <a:ext cx="1752480" cy="15264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5388600">
                    <a:off x="4660200" y="4305600"/>
                    <a:ext cx="304560" cy="3045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4" name=""/>
                <p:cNvSpPr/>
                <p:nvPr/>
              </p:nvSpPr>
              <p:spPr>
                <a:xfrm rot="5388600">
                  <a:off x="4798800" y="570960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5" name=""/>
            <p:cNvSpPr/>
            <p:nvPr/>
          </p:nvSpPr>
          <p:spPr>
            <a:xfrm>
              <a:off x="4954680" y="472392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and Accessing 1 B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876920" y="1295280"/>
            <a:ext cx="3809880" cy="1864440"/>
            <a:chOff x="4876920" y="1295280"/>
            <a:chExt cx="3809880" cy="1864440"/>
          </a:xfrm>
        </p:grpSpPr>
        <p:grpSp>
          <p:nvGrpSpPr>
            <p:cNvPr id="708" name=""/>
            <p:cNvGrpSpPr/>
            <p:nvPr/>
          </p:nvGrpSpPr>
          <p:grpSpPr>
            <a:xfrm>
              <a:off x="4876920" y="1676160"/>
              <a:ext cx="3809880" cy="1483560"/>
              <a:chOff x="4876920" y="1676160"/>
              <a:chExt cx="3809880" cy="148356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5334120" y="1787040"/>
                <a:ext cx="2819520" cy="457200"/>
                <a:chOff x="5334120" y="1787040"/>
                <a:chExt cx="2819520" cy="4572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943600" y="2168280"/>
                  <a:ext cx="45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334120" y="1863360"/>
                  <a:ext cx="106524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321600" y="1787040"/>
                  <a:ext cx="650880" cy="43992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462800" y="2009520"/>
                  <a:ext cx="69084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7161480" y="1863360"/>
                  <a:ext cx="385560" cy="291960"/>
                  <a:chOff x="7161480" y="1863360"/>
                  <a:chExt cx="385560" cy="2919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7161480" y="186336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7161480" y="186336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469280" y="196812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469280" y="196812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9" name=""/>
                <p:cNvSpPr/>
                <p:nvPr/>
              </p:nvSpPr>
              <p:spPr>
                <a:xfrm>
                  <a:off x="6934320" y="2015640"/>
                  <a:ext cx="227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321600" y="1804680"/>
                  <a:ext cx="650880" cy="43956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334120" y="2625480"/>
                <a:ext cx="2819520" cy="457200"/>
                <a:chOff x="5334120" y="2625480"/>
                <a:chExt cx="2819520" cy="45720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5943600" y="2701440"/>
                  <a:ext cx="45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5334120" y="2993760"/>
                  <a:ext cx="106524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6321600" y="2642760"/>
                  <a:ext cx="650880" cy="43992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7462800" y="2854080"/>
                  <a:ext cx="69084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7161480" y="2714400"/>
                  <a:ext cx="385560" cy="291960"/>
                  <a:chOff x="7161480" y="2714400"/>
                  <a:chExt cx="385560" cy="29196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 flipV="1">
                    <a:off x="7161480" y="271404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V="1">
                    <a:off x="7161480" y="271404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V="1">
                    <a:off x="7469280" y="282528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V="1">
                    <a:off x="7469280" y="282528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1" name=""/>
                <p:cNvSpPr/>
                <p:nvPr/>
              </p:nvSpPr>
              <p:spPr>
                <a:xfrm flipV="1">
                  <a:off x="6934320" y="2852280"/>
                  <a:ext cx="227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6321600" y="2625120"/>
                  <a:ext cx="650880" cy="43956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5943600" y="216828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43600" y="201492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229600" y="182844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29600" y="266652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–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876920" y="167616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876920" y="281916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6019560" y="1295280"/>
              <a:ext cx="1158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S Latc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04920" y="4114800"/>
            <a:ext cx="2590560" cy="1546200"/>
            <a:chOff x="304920" y="4114800"/>
            <a:chExt cx="2590560" cy="1546200"/>
          </a:xfrm>
        </p:grpSpPr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304920" y="4648320"/>
              <a:ext cx="25905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381240" y="4114800"/>
              <a:ext cx="113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sett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480" y="44607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52228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00200" y="4495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86000" y="45720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00200" y="51814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86000" y="51465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3352680" y="4114800"/>
            <a:ext cx="2590920" cy="1546200"/>
            <a:chOff x="3352680" y="4114800"/>
            <a:chExt cx="2590920" cy="1546200"/>
          </a:xfrm>
        </p:grpSpPr>
        <p:pic>
          <p:nvPicPr>
            <p:cNvPr id="750" name="" descr=""/>
            <p:cNvPicPr/>
            <p:nvPr/>
          </p:nvPicPr>
          <p:blipFill>
            <a:blip r:embed="rId2"/>
            <a:stretch/>
          </p:blipFill>
          <p:spPr>
            <a:xfrm>
              <a:off x="3352680" y="4648320"/>
              <a:ext cx="25909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3438000" y="4114800"/>
              <a:ext cx="867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ett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57600" y="44607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57600" y="52228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48320" y="4495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34120" y="45720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8320" y="51814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34120" y="51465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400800" y="4114800"/>
            <a:ext cx="2590920" cy="1546200"/>
            <a:chOff x="6400800" y="4114800"/>
            <a:chExt cx="2590920" cy="1546200"/>
          </a:xfrm>
        </p:grpSpPr>
        <p:pic>
          <p:nvPicPr>
            <p:cNvPr id="7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648320"/>
              <a:ext cx="25909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6495480" y="4114800"/>
              <a:ext cx="89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or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05720" y="44607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05720" y="52228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96080" y="44956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81880" y="45720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51814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381880" y="51465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981080" y="1066680"/>
            <a:ext cx="1939680" cy="2370240"/>
            <a:chOff x="1981080" y="1066680"/>
            <a:chExt cx="1939680" cy="2370240"/>
          </a:xfrm>
        </p:grpSpPr>
        <p:sp>
          <p:nvSpPr>
            <p:cNvPr id="768" name=""/>
            <p:cNvSpPr/>
            <p:nvPr/>
          </p:nvSpPr>
          <p:spPr>
            <a:xfrm>
              <a:off x="1981080" y="1066680"/>
              <a:ext cx="1933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stable Eleme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68280" y="1676520"/>
              <a:ext cx="1752480" cy="1760400"/>
              <a:chOff x="2168280" y="1676520"/>
              <a:chExt cx="1752480" cy="1760400"/>
            </a:xfrm>
          </p:grpSpPr>
          <p:sp>
            <p:nvSpPr>
              <p:cNvPr id="770" name=""/>
              <p:cNvSpPr/>
              <p:nvPr/>
            </p:nvSpPr>
            <p:spPr>
              <a:xfrm>
                <a:off x="2696760" y="1974960"/>
                <a:ext cx="6908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2395440" y="1828800"/>
                <a:ext cx="385560" cy="291960"/>
                <a:chOff x="2395440" y="1828800"/>
                <a:chExt cx="385560" cy="2919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395440" y="1828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395440" y="1828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703240" y="193356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703240" y="193356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2168280" y="1981080"/>
                <a:ext cx="227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2696760" y="2895480"/>
                <a:ext cx="69084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2395440" y="2756160"/>
                <a:ext cx="385560" cy="291960"/>
                <a:chOff x="2395440" y="2756160"/>
                <a:chExt cx="385560" cy="291960"/>
              </a:xfrm>
            </p:grpSpPr>
            <p:sp>
              <p:nvSpPr>
                <p:cNvPr id="779" name=""/>
                <p:cNvSpPr/>
                <p:nvPr/>
              </p:nvSpPr>
              <p:spPr>
                <a:xfrm flipV="1">
                  <a:off x="2395440" y="2755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2395440" y="2755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2703240" y="286704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2703240" y="286704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" name=""/>
              <p:cNvSpPr/>
              <p:nvPr/>
            </p:nvSpPr>
            <p:spPr>
              <a:xfrm flipV="1">
                <a:off x="2168280" y="2894040"/>
                <a:ext cx="227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168280" y="1981080"/>
                <a:ext cx="838080" cy="9144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2168280" y="1981080"/>
                <a:ext cx="838080" cy="9144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463560" y="182880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463560" y="266688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–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6360" y="1676520"/>
                <a:ext cx="381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q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06360" y="2590920"/>
                <a:ext cx="381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!q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314440" y="3124080"/>
                <a:ext cx="1600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q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= 0 or 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3124080" y="1295280"/>
            <a:ext cx="2971800" cy="2210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-Bit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24160" y="990720"/>
            <a:ext cx="93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 La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838080" y="1295280"/>
            <a:ext cx="5184720" cy="1964520"/>
            <a:chOff x="838080" y="1295280"/>
            <a:chExt cx="5184720" cy="1964520"/>
          </a:xfrm>
        </p:grpSpPr>
        <p:sp>
          <p:nvSpPr>
            <p:cNvPr id="795" name=""/>
            <p:cNvSpPr/>
            <p:nvPr/>
          </p:nvSpPr>
          <p:spPr>
            <a:xfrm>
              <a:off x="1676520" y="27432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79600" y="2116080"/>
              <a:ext cx="45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203640" y="18525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57600" y="173520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99160" y="1957320"/>
              <a:ext cx="6904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4497480" y="1811160"/>
              <a:ext cx="385560" cy="291960"/>
              <a:chOff x="4497480" y="1811160"/>
              <a:chExt cx="385560" cy="291960"/>
            </a:xfrm>
          </p:grpSpPr>
          <p:sp>
            <p:nvSpPr>
              <p:cNvPr id="801" name=""/>
              <p:cNvSpPr/>
              <p:nvPr/>
            </p:nvSpPr>
            <p:spPr>
              <a:xfrm>
                <a:off x="4497480" y="18111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497480" y="18111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805280" y="1915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805280" y="1915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270320" y="196380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57600" y="17524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79600" y="2649600"/>
              <a:ext cx="45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03640" y="29192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657600" y="259020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799160" y="2801880"/>
              <a:ext cx="6904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4497480" y="2661840"/>
              <a:ext cx="385560" cy="291960"/>
              <a:chOff x="4497480" y="2661840"/>
              <a:chExt cx="385560" cy="291960"/>
            </a:xfrm>
          </p:grpSpPr>
          <p:sp>
            <p:nvSpPr>
              <p:cNvPr id="812" name=""/>
              <p:cNvSpPr/>
              <p:nvPr/>
            </p:nvSpPr>
            <p:spPr>
              <a:xfrm flipV="1">
                <a:off x="4497480" y="26614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497480" y="26614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4805280" y="2772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4805280" y="2772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 flipV="1">
              <a:off x="4270320" y="2800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657600" y="25732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79600" y="211608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279600" y="196308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65600" y="177624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65600" y="2614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3640" y="1471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3640" y="291924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6680" y="167652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38280" y="19810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92360" y="162396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2360" y="162396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66680" y="304812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592360" y="2708280"/>
              <a:ext cx="60660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93800" y="269064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438280" y="1981080"/>
              <a:ext cx="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1676520" y="167616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30240" y="1523880"/>
              <a:ext cx="30168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30240" y="1523880"/>
              <a:ext cx="30168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8400" y="1628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8400" y="1628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2320" y="2971800"/>
              <a:ext cx="152280" cy="152280"/>
              <a:chOff x="2362320" y="2971800"/>
              <a:chExt cx="152280" cy="15228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2320" y="29718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400120" y="30099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600200" y="1600200"/>
              <a:ext cx="152280" cy="152280"/>
              <a:chOff x="1600200" y="1600200"/>
              <a:chExt cx="152280" cy="152280"/>
            </a:xfrm>
          </p:grpSpPr>
          <p:sp>
            <p:nvSpPr>
              <p:cNvPr id="841" name=""/>
              <p:cNvSpPr/>
              <p:nvPr/>
            </p:nvSpPr>
            <p:spPr>
              <a:xfrm>
                <a:off x="1600200" y="1600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638000" y="16383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5029200" y="1905120"/>
              <a:ext cx="152280" cy="152280"/>
              <a:chOff x="5029200" y="1905120"/>
              <a:chExt cx="152280" cy="152280"/>
            </a:xfrm>
          </p:grpSpPr>
          <p:sp>
            <p:nvSpPr>
              <p:cNvPr id="844" name=""/>
              <p:cNvSpPr/>
              <p:nvPr/>
            </p:nvSpPr>
            <p:spPr>
              <a:xfrm>
                <a:off x="5029200" y="19051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67000" y="194328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5029200" y="2743200"/>
              <a:ext cx="152280" cy="152280"/>
              <a:chOff x="5029200" y="2743200"/>
              <a:chExt cx="152280" cy="152280"/>
            </a:xfrm>
          </p:grpSpPr>
          <p:sp>
            <p:nvSpPr>
              <p:cNvPr id="847" name=""/>
              <p:cNvSpPr/>
              <p:nvPr/>
            </p:nvSpPr>
            <p:spPr>
              <a:xfrm>
                <a:off x="5029200" y="2743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067000" y="27813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838080" y="1295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080" y="2743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838080" y="16765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38080" y="30481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80160" y="4114800"/>
            <a:ext cx="3902760" cy="2065320"/>
            <a:chOff x="380160" y="4114800"/>
            <a:chExt cx="3902760" cy="2065320"/>
          </a:xfrm>
        </p:grpSpPr>
        <p:sp>
          <p:nvSpPr>
            <p:cNvPr id="854" name=""/>
            <p:cNvSpPr/>
            <p:nvPr/>
          </p:nvSpPr>
          <p:spPr>
            <a:xfrm>
              <a:off x="380160" y="4114800"/>
              <a:ext cx="1046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tch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3520" y="5638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1"/>
            <a:stretch/>
          </p:blipFill>
          <p:spPr>
            <a:xfrm>
              <a:off x="762120" y="4724280"/>
              <a:ext cx="352080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53352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02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860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18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0532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8600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0532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800600" y="4114800"/>
            <a:ext cx="3733920" cy="2065320"/>
            <a:chOff x="4800600" y="4114800"/>
            <a:chExt cx="3733920" cy="2065320"/>
          </a:xfrm>
        </p:grpSpPr>
        <p:sp>
          <p:nvSpPr>
            <p:cNvPr id="866" name=""/>
            <p:cNvSpPr/>
            <p:nvPr/>
          </p:nvSpPr>
          <p:spPr>
            <a:xfrm>
              <a:off x="4800600" y="5638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52160" y="4114800"/>
              <a:ext cx="89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or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2"/>
            <a:stretch/>
          </p:blipFill>
          <p:spPr>
            <a:xfrm>
              <a:off x="5013360" y="4724280"/>
              <a:ext cx="352116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800600" y="47163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7280" y="47163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96080" y="48006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96080" y="57150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2920" y="48006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2920" y="57834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7712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77120" y="4724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parent 1-Bit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90160" y="4038480"/>
            <a:ext cx="829476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in latching mode, combinational propogation from D to Q+ and Q–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latched depends on value of D as C f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08760" y="1219320"/>
            <a:ext cx="3902760" cy="2065320"/>
            <a:chOff x="608760" y="1219320"/>
            <a:chExt cx="3902760" cy="2065320"/>
          </a:xfrm>
        </p:grpSpPr>
        <p:sp>
          <p:nvSpPr>
            <p:cNvPr id="880" name=""/>
            <p:cNvSpPr/>
            <p:nvPr/>
          </p:nvSpPr>
          <p:spPr>
            <a:xfrm>
              <a:off x="608760" y="1219320"/>
              <a:ext cx="1046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tch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2120" y="27432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1"/>
            <a:stretch/>
          </p:blipFill>
          <p:spPr>
            <a:xfrm>
              <a:off x="990720" y="1828800"/>
              <a:ext cx="352080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76212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288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146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004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3392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460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0040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3392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724280" y="1201680"/>
            <a:ext cx="3962520" cy="2316240"/>
            <a:chOff x="4724280" y="1201680"/>
            <a:chExt cx="3962520" cy="2316240"/>
          </a:xfrm>
        </p:grpSpPr>
        <p:grpSp>
          <p:nvGrpSpPr>
            <p:cNvPr id="892" name=""/>
            <p:cNvGrpSpPr/>
            <p:nvPr/>
          </p:nvGrpSpPr>
          <p:grpSpPr>
            <a:xfrm>
              <a:off x="4724280" y="1905120"/>
              <a:ext cx="3962520" cy="1280880"/>
              <a:chOff x="4724280" y="1905120"/>
              <a:chExt cx="3962520" cy="1280880"/>
            </a:xfrm>
          </p:grpSpPr>
          <p:sp>
            <p:nvSpPr>
              <p:cNvPr id="893" name=""/>
              <p:cNvSpPr/>
              <p:nvPr/>
            </p:nvSpPr>
            <p:spPr>
              <a:xfrm>
                <a:off x="5257800" y="195876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336" y="144"/>
                    </a:lnTo>
                    <a:lnTo>
                      <a:pt x="336" y="0"/>
                    </a:lnTo>
                    <a:lnTo>
                      <a:pt x="1392" y="0"/>
                    </a:lnTo>
                    <a:lnTo>
                      <a:pt x="1392" y="144"/>
                    </a:lnTo>
                    <a:lnTo>
                      <a:pt x="2160" y="144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724280" y="190512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57800" y="241596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144" y="144"/>
                    </a:lnTo>
                    <a:lnTo>
                      <a:pt x="144" y="0"/>
                    </a:lnTo>
                    <a:lnTo>
                      <a:pt x="480" y="0"/>
                    </a:lnTo>
                    <a:lnTo>
                      <a:pt x="480" y="144"/>
                    </a:lnTo>
                    <a:lnTo>
                      <a:pt x="912" y="144"/>
                    </a:lnTo>
                    <a:lnTo>
                      <a:pt x="912" y="0"/>
                    </a:lnTo>
                    <a:lnTo>
                      <a:pt x="1248" y="0"/>
                    </a:lnTo>
                    <a:lnTo>
                      <a:pt x="1248" y="144"/>
                    </a:lnTo>
                    <a:lnTo>
                      <a:pt x="1584" y="144"/>
                    </a:lnTo>
                    <a:lnTo>
                      <a:pt x="1584" y="0"/>
                    </a:lnTo>
                    <a:lnTo>
                      <a:pt x="2160" y="0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724280" y="234000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257800" y="294948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432" y="144"/>
                    </a:lnTo>
                    <a:lnTo>
                      <a:pt x="432" y="0"/>
                    </a:lnTo>
                    <a:lnTo>
                      <a:pt x="576" y="0"/>
                    </a:lnTo>
                    <a:lnTo>
                      <a:pt x="576" y="144"/>
                    </a:lnTo>
                    <a:lnTo>
                      <a:pt x="960" y="144"/>
                    </a:lnTo>
                    <a:lnTo>
                      <a:pt x="960" y="0"/>
                    </a:lnTo>
                    <a:lnTo>
                      <a:pt x="1296" y="0"/>
                    </a:lnTo>
                    <a:lnTo>
                      <a:pt x="1296" y="144"/>
                    </a:lnTo>
                    <a:lnTo>
                      <a:pt x="2160" y="144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743440" y="2073240"/>
                <a:ext cx="181080" cy="1009080"/>
              </a:xfrm>
              <a:custGeom>
                <a:avLst/>
                <a:gdLst/>
                <a:ahLst/>
                <a:rect l="l" t="t" r="r" b="b"/>
                <a:pathLst>
                  <a:path w="114" h="636">
                    <a:moveTo>
                      <a:pt x="36" y="0"/>
                    </a:moveTo>
                    <a:cubicBezTo>
                      <a:pt x="60" y="8"/>
                      <a:pt x="66" y="24"/>
                      <a:pt x="84" y="42"/>
                    </a:cubicBezTo>
                    <a:cubicBezTo>
                      <a:pt x="88" y="54"/>
                      <a:pt x="92" y="66"/>
                      <a:pt x="96" y="78"/>
                    </a:cubicBezTo>
                    <a:cubicBezTo>
                      <a:pt x="98" y="84"/>
                      <a:pt x="102" y="96"/>
                      <a:pt x="102" y="96"/>
                    </a:cubicBezTo>
                    <a:cubicBezTo>
                      <a:pt x="100" y="140"/>
                      <a:pt x="101" y="184"/>
                      <a:pt x="96" y="228"/>
                    </a:cubicBezTo>
                    <a:cubicBezTo>
                      <a:pt x="91" y="273"/>
                      <a:pt x="49" y="297"/>
                      <a:pt x="36" y="336"/>
                    </a:cubicBezTo>
                    <a:cubicBezTo>
                      <a:pt x="28" y="360"/>
                      <a:pt x="20" y="384"/>
                      <a:pt x="12" y="408"/>
                    </a:cubicBezTo>
                    <a:cubicBezTo>
                      <a:pt x="8" y="420"/>
                      <a:pt x="0" y="444"/>
                      <a:pt x="0" y="444"/>
                    </a:cubicBezTo>
                    <a:cubicBezTo>
                      <a:pt x="4" y="520"/>
                      <a:pt x="6" y="636"/>
                      <a:pt x="114" y="636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019560" y="2511360"/>
                <a:ext cx="133560" cy="609120"/>
              </a:xfrm>
              <a:custGeom>
                <a:avLst/>
                <a:gdLst/>
                <a:ahLst/>
                <a:rect l="l" t="t" r="r" b="b"/>
                <a:pathLst>
                  <a:path w="84" h="384">
                    <a:moveTo>
                      <a:pt x="0" y="0"/>
                    </a:moveTo>
                    <a:cubicBezTo>
                      <a:pt x="21" y="7"/>
                      <a:pt x="38" y="14"/>
                      <a:pt x="48" y="36"/>
                    </a:cubicBezTo>
                    <a:cubicBezTo>
                      <a:pt x="53" y="48"/>
                      <a:pt x="60" y="72"/>
                      <a:pt x="60" y="72"/>
                    </a:cubicBezTo>
                    <a:cubicBezTo>
                      <a:pt x="50" y="143"/>
                      <a:pt x="20" y="211"/>
                      <a:pt x="6" y="282"/>
                    </a:cubicBezTo>
                    <a:cubicBezTo>
                      <a:pt x="12" y="334"/>
                      <a:pt x="22" y="384"/>
                      <a:pt x="84" y="384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83400" y="2492280"/>
                <a:ext cx="117360" cy="590040"/>
              </a:xfrm>
              <a:custGeom>
                <a:avLst/>
                <a:gdLst/>
                <a:ahLst/>
                <a:rect l="l" t="t" r="r" b="b"/>
                <a:pathLst>
                  <a:path w="74" h="372">
                    <a:moveTo>
                      <a:pt x="14" y="0"/>
                    </a:moveTo>
                    <a:cubicBezTo>
                      <a:pt x="35" y="7"/>
                      <a:pt x="52" y="14"/>
                      <a:pt x="62" y="36"/>
                    </a:cubicBezTo>
                    <a:cubicBezTo>
                      <a:pt x="67" y="48"/>
                      <a:pt x="74" y="72"/>
                      <a:pt x="74" y="72"/>
                    </a:cubicBezTo>
                    <a:cubicBezTo>
                      <a:pt x="64" y="143"/>
                      <a:pt x="34" y="211"/>
                      <a:pt x="20" y="282"/>
                    </a:cubicBezTo>
                    <a:cubicBezTo>
                      <a:pt x="26" y="334"/>
                      <a:pt x="0" y="372"/>
                      <a:pt x="62" y="372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16560" y="2492280"/>
                <a:ext cx="117720" cy="590040"/>
              </a:xfrm>
              <a:custGeom>
                <a:avLst/>
                <a:gdLst/>
                <a:ahLst/>
                <a:rect l="l" t="t" r="r" b="b"/>
                <a:pathLst>
                  <a:path w="74" h="372">
                    <a:moveTo>
                      <a:pt x="14" y="0"/>
                    </a:moveTo>
                    <a:cubicBezTo>
                      <a:pt x="35" y="7"/>
                      <a:pt x="52" y="14"/>
                      <a:pt x="62" y="36"/>
                    </a:cubicBezTo>
                    <a:cubicBezTo>
                      <a:pt x="67" y="48"/>
                      <a:pt x="74" y="72"/>
                      <a:pt x="74" y="72"/>
                    </a:cubicBezTo>
                    <a:cubicBezTo>
                      <a:pt x="64" y="143"/>
                      <a:pt x="34" y="211"/>
                      <a:pt x="20" y="282"/>
                    </a:cubicBezTo>
                    <a:cubicBezTo>
                      <a:pt x="26" y="334"/>
                      <a:pt x="0" y="372"/>
                      <a:pt x="62" y="372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724280" y="287316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5822280" y="3205080"/>
              <a:ext cx="564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00800" y="335268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10640" y="1201680"/>
              <a:ext cx="1377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hanging 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33920" y="1447920"/>
            <a:ext cx="472428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34120" y="1600200"/>
            <a:ext cx="2971800" cy="2209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dge-Triggered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648320" y="4038480"/>
            <a:ext cx="393696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in latching mode for brief peri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sing clock ed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latched depends on data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remains stable at all other ti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86200" y="3048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9640" y="2421000"/>
            <a:ext cx="45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413320" y="21574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203976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08840" y="2262240"/>
            <a:ext cx="6904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6707160" y="2116080"/>
            <a:ext cx="385560" cy="291960"/>
            <a:chOff x="6707160" y="2116080"/>
            <a:chExt cx="385560" cy="291960"/>
          </a:xfrm>
        </p:grpSpPr>
        <p:sp>
          <p:nvSpPr>
            <p:cNvPr id="916" name=""/>
            <p:cNvSpPr/>
            <p:nvPr/>
          </p:nvSpPr>
          <p:spPr>
            <a:xfrm>
              <a:off x="6707160" y="211608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07160" y="211608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014960" y="2220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14960" y="2220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480000" y="2268360"/>
            <a:ext cx="22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67280" y="20574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9640" y="2954160"/>
            <a:ext cx="45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13320" y="32241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5867280" y="289548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7008840" y="3106440"/>
            <a:ext cx="6904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6707160" y="2966760"/>
            <a:ext cx="385560" cy="291960"/>
            <a:chOff x="6707160" y="2966760"/>
            <a:chExt cx="385560" cy="291960"/>
          </a:xfrm>
        </p:grpSpPr>
        <p:sp>
          <p:nvSpPr>
            <p:cNvPr id="927" name=""/>
            <p:cNvSpPr/>
            <p:nvPr/>
          </p:nvSpPr>
          <p:spPr>
            <a:xfrm flipV="1">
              <a:off x="6707160" y="29664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6707160" y="29664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014960" y="3077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7014960" y="3077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 flipV="1">
            <a:off x="6480000" y="3104640"/>
            <a:ext cx="22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867280" y="287748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89640" y="242100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0" y="96"/>
                </a:lnTo>
                <a:lnTo>
                  <a:pt x="1152" y="336"/>
                </a:lnTo>
                <a:lnTo>
                  <a:pt x="1152" y="432"/>
                </a:lnTo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89640" y="226764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0" y="96"/>
                </a:lnTo>
                <a:lnTo>
                  <a:pt x="1152" y="336"/>
                </a:lnTo>
                <a:lnTo>
                  <a:pt x="1152" y="432"/>
                </a:lnTo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775640" y="208116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775640" y="291924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–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13320" y="177624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13320" y="322416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066680" y="198108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48320" y="22860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02040" y="192888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802040" y="192888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733920" y="33526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802040" y="301320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03840" y="299556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648320" y="22856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3886200" y="19810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040280" y="182880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0280" y="182880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348080" y="19335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348080" y="19335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4572000" y="3276720"/>
            <a:ext cx="152280" cy="152280"/>
            <a:chOff x="4572000" y="3276720"/>
            <a:chExt cx="152280" cy="152280"/>
          </a:xfrm>
        </p:grpSpPr>
        <p:sp>
          <p:nvSpPr>
            <p:cNvPr id="953" name=""/>
            <p:cNvSpPr/>
            <p:nvPr/>
          </p:nvSpPr>
          <p:spPr>
            <a:xfrm>
              <a:off x="4572000" y="32767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09800" y="33148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3809880" y="1905120"/>
            <a:ext cx="152640" cy="152280"/>
            <a:chOff x="3809880" y="1905120"/>
            <a:chExt cx="152640" cy="152280"/>
          </a:xfrm>
        </p:grpSpPr>
        <p:sp>
          <p:nvSpPr>
            <p:cNvPr id="956" name=""/>
            <p:cNvSpPr/>
            <p:nvPr/>
          </p:nvSpPr>
          <p:spPr>
            <a:xfrm>
              <a:off x="3809880" y="19051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47680" y="19432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7238880" y="2209680"/>
            <a:ext cx="152640" cy="152640"/>
            <a:chOff x="7238880" y="2209680"/>
            <a:chExt cx="152640" cy="152640"/>
          </a:xfrm>
        </p:grpSpPr>
        <p:sp>
          <p:nvSpPr>
            <p:cNvPr id="959" name=""/>
            <p:cNvSpPr/>
            <p:nvPr/>
          </p:nvSpPr>
          <p:spPr>
            <a:xfrm>
              <a:off x="7238880" y="22096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6680" y="224784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7238880" y="3048120"/>
            <a:ext cx="152640" cy="152280"/>
            <a:chOff x="7238880" y="3048120"/>
            <a:chExt cx="152640" cy="152280"/>
          </a:xfrm>
        </p:grpSpPr>
        <p:sp>
          <p:nvSpPr>
            <p:cNvPr id="962" name=""/>
            <p:cNvSpPr/>
            <p:nvPr/>
          </p:nvSpPr>
          <p:spPr>
            <a:xfrm>
              <a:off x="7238880" y="30481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6680" y="30862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838080" y="160020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8080" y="320040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38080" y="198108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8080" y="35053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24120" y="3205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22440" y="305928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22440" y="305928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830240" y="31640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30240" y="31640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371600" y="320364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48120" y="321804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66680" y="3522600"/>
            <a:ext cx="213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98960" y="3141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98960" y="3141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2080" y="30654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62080" y="30654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70240" y="31701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70240" y="31701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11240" y="320976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903400" y="321624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602080" y="3071880"/>
            <a:ext cx="30132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602080" y="3071880"/>
            <a:ext cx="30132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909880" y="317664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909880" y="317664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51240" y="321624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 flipV="1">
            <a:off x="1365120" y="3200040"/>
            <a:ext cx="6480" cy="3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335268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038480" y="365760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914400" y="4191120"/>
            <a:ext cx="3962520" cy="2133720"/>
            <a:chOff x="914400" y="4191120"/>
            <a:chExt cx="3962520" cy="2133720"/>
          </a:xfrm>
        </p:grpSpPr>
        <p:sp>
          <p:nvSpPr>
            <p:cNvPr id="993" name=""/>
            <p:cNvSpPr/>
            <p:nvPr/>
          </p:nvSpPr>
          <p:spPr>
            <a:xfrm>
              <a:off x="914400" y="426708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47920" y="517356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480" y="0"/>
                  </a:lnTo>
                  <a:lnTo>
                    <a:pt x="480" y="144"/>
                  </a:lnTo>
                  <a:lnTo>
                    <a:pt x="912" y="144"/>
                  </a:lnTo>
                  <a:lnTo>
                    <a:pt x="912" y="0"/>
                  </a:lnTo>
                  <a:lnTo>
                    <a:pt x="1248" y="0"/>
                  </a:lnTo>
                  <a:lnTo>
                    <a:pt x="1248" y="144"/>
                  </a:lnTo>
                  <a:lnTo>
                    <a:pt x="1584" y="144"/>
                  </a:lnTo>
                  <a:lnTo>
                    <a:pt x="1584" y="0"/>
                  </a:lnTo>
                  <a:lnTo>
                    <a:pt x="2160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14400" y="509760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33560" y="4830840"/>
              <a:ext cx="181080" cy="1009440"/>
            </a:xfrm>
            <a:custGeom>
              <a:avLst/>
              <a:gdLst/>
              <a:ahLst/>
              <a:rect l="l" t="t" r="r" b="b"/>
              <a:pathLst>
                <a:path w="114" h="636">
                  <a:moveTo>
                    <a:pt x="36" y="0"/>
                  </a:moveTo>
                  <a:cubicBezTo>
                    <a:pt x="60" y="8"/>
                    <a:pt x="66" y="24"/>
                    <a:pt x="84" y="42"/>
                  </a:cubicBezTo>
                  <a:cubicBezTo>
                    <a:pt x="88" y="54"/>
                    <a:pt x="92" y="66"/>
                    <a:pt x="96" y="78"/>
                  </a:cubicBezTo>
                  <a:cubicBezTo>
                    <a:pt x="98" y="84"/>
                    <a:pt x="102" y="96"/>
                    <a:pt x="102" y="96"/>
                  </a:cubicBezTo>
                  <a:cubicBezTo>
                    <a:pt x="100" y="140"/>
                    <a:pt x="101" y="184"/>
                    <a:pt x="96" y="228"/>
                  </a:cubicBezTo>
                  <a:cubicBezTo>
                    <a:pt x="91" y="273"/>
                    <a:pt x="49" y="297"/>
                    <a:pt x="36" y="336"/>
                  </a:cubicBezTo>
                  <a:cubicBezTo>
                    <a:pt x="28" y="360"/>
                    <a:pt x="20" y="384"/>
                    <a:pt x="12" y="408"/>
                  </a:cubicBezTo>
                  <a:cubicBezTo>
                    <a:pt x="8" y="420"/>
                    <a:pt x="0" y="444"/>
                    <a:pt x="0" y="444"/>
                  </a:cubicBezTo>
                  <a:cubicBezTo>
                    <a:pt x="4" y="520"/>
                    <a:pt x="6" y="636"/>
                    <a:pt x="114" y="636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14400" y="563076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012400" y="6012000"/>
              <a:ext cx="564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90920" y="615960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47920" y="419112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288" y="144"/>
                  </a:lnTo>
                  <a:lnTo>
                    <a:pt x="288" y="0"/>
                  </a:lnTo>
                  <a:lnTo>
                    <a:pt x="1392" y="0"/>
                  </a:lnTo>
                  <a:lnTo>
                    <a:pt x="1392" y="144"/>
                  </a:lnTo>
                  <a:lnTo>
                    <a:pt x="2112" y="144"/>
                  </a:lnTo>
                  <a:lnTo>
                    <a:pt x="2160" y="144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47920" y="464832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  <a:lnTo>
                    <a:pt x="432" y="0"/>
                  </a:lnTo>
                  <a:lnTo>
                    <a:pt x="432" y="144"/>
                  </a:lnTo>
                  <a:lnTo>
                    <a:pt x="2160" y="144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14400" y="464040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7920" y="571500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432" y="144"/>
                  </a:lnTo>
                  <a:lnTo>
                    <a:pt x="432" y="0"/>
                  </a:lnTo>
                  <a:lnTo>
                    <a:pt x="2160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09120" y="4952880"/>
            <a:ext cx="8294760" cy="10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word of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3680" indent="-171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from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ogram register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en in assembly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ion of edge-triggered la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input on rising edge of c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562720" y="2057400"/>
            <a:ext cx="2057400" cy="1847160"/>
            <a:chOff x="5562720" y="2057400"/>
            <a:chExt cx="2057400" cy="1847160"/>
          </a:xfrm>
        </p:grpSpPr>
        <p:sp>
          <p:nvSpPr>
            <p:cNvPr id="1007" name=""/>
            <p:cNvSpPr/>
            <p:nvPr/>
          </p:nvSpPr>
          <p:spPr>
            <a:xfrm>
              <a:off x="6477120" y="2057400"/>
              <a:ext cx="228600" cy="1295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19920" y="2590920"/>
              <a:ext cx="457200" cy="228600"/>
            </a:xfrm>
            <a:prstGeom prst="rightArrow">
              <a:avLst>
                <a:gd name="adj1" fmla="val 16667"/>
                <a:gd name="adj2" fmla="val 66667"/>
              </a:avLst>
            </a:prstGeom>
            <a:solidFill>
              <a:srgbClr val="0000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05720" y="2590920"/>
              <a:ext cx="457200" cy="228600"/>
            </a:xfrm>
            <a:prstGeom prst="rightArrow">
              <a:avLst>
                <a:gd name="adj1" fmla="val 16667"/>
                <a:gd name="adj2" fmla="val 66667"/>
              </a:avLst>
            </a:prstGeom>
            <a:solidFill>
              <a:srgbClr val="0000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62720" y="25146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62920" y="25146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6320" y="356400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2133720" y="1219320"/>
            <a:ext cx="3047400" cy="3693240"/>
            <a:chOff x="2133720" y="1219320"/>
            <a:chExt cx="3047400" cy="3693240"/>
          </a:xfrm>
        </p:grpSpPr>
        <p:sp>
          <p:nvSpPr>
            <p:cNvPr id="1015" name=""/>
            <p:cNvSpPr/>
            <p:nvPr/>
          </p:nvSpPr>
          <p:spPr>
            <a:xfrm>
              <a:off x="3200040" y="1306440"/>
              <a:ext cx="914040" cy="3589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00040" y="1676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200040" y="205740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200040" y="2438280"/>
              <a:ext cx="914040" cy="38124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200040" y="2819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00040" y="320040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00040" y="3581280"/>
              <a:ext cx="914040" cy="38124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00040" y="3962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590560" y="1371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90560" y="1752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590560" y="213372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590560" y="2514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2590560" y="2895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590560" y="327672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590560" y="3657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590560" y="4038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114080" y="1447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4114080" y="1828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4114080" y="220968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4114080" y="2590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4114080" y="2971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114080" y="335268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114080" y="3733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114080" y="4114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895120" y="1600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2895120" y="1981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2895120" y="236232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2895120" y="2743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2895120" y="3124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2895120" y="350532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2895120" y="3886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2895120" y="4267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95480" y="1600200"/>
              <a:ext cx="0" cy="29718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819160" y="1905120"/>
              <a:ext cx="151920" cy="152280"/>
              <a:chOff x="2819160" y="1905120"/>
              <a:chExt cx="151920" cy="152280"/>
            </a:xfrm>
          </p:grpSpPr>
          <p:sp>
            <p:nvSpPr>
              <p:cNvPr id="1049" name=""/>
              <p:cNvSpPr/>
              <p:nvPr/>
            </p:nvSpPr>
            <p:spPr>
              <a:xfrm>
                <a:off x="2819160" y="1905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856960" y="1943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2819160" y="2286000"/>
              <a:ext cx="151920" cy="152280"/>
              <a:chOff x="2819160" y="2286000"/>
              <a:chExt cx="151920" cy="152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2819160" y="228600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856960" y="232416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2819160" y="2666880"/>
              <a:ext cx="151920" cy="152280"/>
              <a:chOff x="2819160" y="2666880"/>
              <a:chExt cx="151920" cy="152280"/>
            </a:xfrm>
          </p:grpSpPr>
          <p:sp>
            <p:nvSpPr>
              <p:cNvPr id="1055" name=""/>
              <p:cNvSpPr/>
              <p:nvPr/>
            </p:nvSpPr>
            <p:spPr>
              <a:xfrm>
                <a:off x="2819160" y="266688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856960" y="270504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2819160" y="3048120"/>
              <a:ext cx="151920" cy="152280"/>
              <a:chOff x="2819160" y="3048120"/>
              <a:chExt cx="151920" cy="152280"/>
            </a:xfrm>
          </p:grpSpPr>
          <p:sp>
            <p:nvSpPr>
              <p:cNvPr id="1058" name=""/>
              <p:cNvSpPr/>
              <p:nvPr/>
            </p:nvSpPr>
            <p:spPr>
              <a:xfrm>
                <a:off x="2819160" y="3048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856960" y="3086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819160" y="3429000"/>
              <a:ext cx="151920" cy="152280"/>
              <a:chOff x="2819160" y="3429000"/>
              <a:chExt cx="151920" cy="152280"/>
            </a:xfrm>
          </p:grpSpPr>
          <p:sp>
            <p:nvSpPr>
              <p:cNvPr id="1061" name=""/>
              <p:cNvSpPr/>
              <p:nvPr/>
            </p:nvSpPr>
            <p:spPr>
              <a:xfrm>
                <a:off x="2819160" y="342900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56960" y="346716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2819160" y="3809880"/>
              <a:ext cx="151920" cy="152280"/>
              <a:chOff x="2819160" y="3809880"/>
              <a:chExt cx="151920" cy="152280"/>
            </a:xfrm>
          </p:grpSpPr>
          <p:sp>
            <p:nvSpPr>
              <p:cNvPr id="1064" name=""/>
              <p:cNvSpPr/>
              <p:nvPr/>
            </p:nvSpPr>
            <p:spPr>
              <a:xfrm>
                <a:off x="2819160" y="380988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56960" y="384804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2819160" y="4191120"/>
              <a:ext cx="151920" cy="152280"/>
              <a:chOff x="2819160" y="4191120"/>
              <a:chExt cx="151920" cy="152280"/>
            </a:xfrm>
          </p:grpSpPr>
          <p:sp>
            <p:nvSpPr>
              <p:cNvPr id="1067" name=""/>
              <p:cNvSpPr/>
              <p:nvPr/>
            </p:nvSpPr>
            <p:spPr>
              <a:xfrm>
                <a:off x="2819160" y="4191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56960" y="4229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3200040" y="1295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00040" y="1447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733560" y="1371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00040" y="1676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00040" y="1828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33560" y="1752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00040" y="20574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00040" y="22096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33560" y="213372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00040" y="2438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00040" y="2590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33560" y="2514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00040" y="2819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00040" y="2971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733560" y="2895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00040" y="32004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00040" y="33526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33560" y="327672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00040" y="3581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0040" y="3733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733560" y="3657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00040" y="3962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00040" y="4114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33560" y="4038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133720" y="1219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3720" y="1600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33720" y="19810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33720" y="2362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33720" y="2743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33720" y="31240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33720" y="3505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133720" y="3886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24280" y="1295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24280" y="1676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24280" y="20574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24280" y="2438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4280" y="2819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24280" y="32004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24280" y="3581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724280" y="3962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14240" y="457200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3124440" y="914400"/>
            <a:ext cx="110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Logic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 Hardware Requir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values from one place to an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ts are Our Frie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thing expressed in terms of values 0 and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 or high voltage on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Boolean fun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bits of inform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90160" y="3885840"/>
            <a:ext cx="8294760" cy="25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data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most of time acts as barrier between input an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clock rises, loads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367640" y="152388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te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3628440" y="1905120"/>
            <a:ext cx="1776960" cy="1143000"/>
            <a:chOff x="3628440" y="1905120"/>
            <a:chExt cx="1776960" cy="1143000"/>
          </a:xfrm>
        </p:grpSpPr>
        <p:grpSp>
          <p:nvGrpSpPr>
            <p:cNvPr id="1115" name=""/>
            <p:cNvGrpSpPr/>
            <p:nvPr/>
          </p:nvGrpSpPr>
          <p:grpSpPr>
            <a:xfrm>
              <a:off x="4033800" y="1905120"/>
              <a:ext cx="1371600" cy="1143000"/>
              <a:chOff x="4033800" y="1905120"/>
              <a:chExt cx="1371600" cy="1143000"/>
            </a:xfrm>
          </p:grpSpPr>
          <p:sp>
            <p:nvSpPr>
              <p:cNvPr id="1116" name=""/>
              <p:cNvSpPr/>
              <p:nvPr/>
            </p:nvSpPr>
            <p:spPr>
              <a:xfrm>
                <a:off x="4338720" y="2590920"/>
                <a:ext cx="685800" cy="457200"/>
              </a:xfrm>
              <a:custGeom>
                <a:avLst/>
                <a:gdLst/>
                <a:ahLst/>
                <a:rect l="l" t="t" r="r" b="b"/>
                <a:pathLst>
                  <a:path w="432" h="288">
                    <a:moveTo>
                      <a:pt x="0" y="288"/>
                    </a:moveTo>
                    <a:lnTo>
                      <a:pt x="240" y="288"/>
                    </a:lnTo>
                    <a:lnTo>
                      <a:pt x="240" y="0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33800" y="19051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Rising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3628440" y="210168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2104200" y="2057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put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1040" y="20574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put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66920" y="25146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052720" y="25146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824120" y="1981080"/>
            <a:ext cx="22860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533560" y="1523880"/>
            <a:ext cx="2612160" cy="1752840"/>
            <a:chOff x="5533560" y="1523880"/>
            <a:chExt cx="2612160" cy="1752840"/>
          </a:xfrm>
        </p:grpSpPr>
        <p:sp>
          <p:nvSpPr>
            <p:cNvPr id="1125" name=""/>
            <p:cNvSpPr/>
            <p:nvPr/>
          </p:nvSpPr>
          <p:spPr>
            <a:xfrm>
              <a:off x="5533560" y="210168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6166080" y="1523880"/>
              <a:ext cx="1979640" cy="1752840"/>
              <a:chOff x="6166080" y="1523880"/>
              <a:chExt cx="1979640" cy="1752840"/>
            </a:xfrm>
          </p:grpSpPr>
          <p:sp>
            <p:nvSpPr>
              <p:cNvPr id="1127" name=""/>
              <p:cNvSpPr/>
              <p:nvPr/>
            </p:nvSpPr>
            <p:spPr>
              <a:xfrm>
                <a:off x="6166080" y="1523880"/>
                <a:ext cx="109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State = y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02640" y="205740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Output = y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167520" y="2514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53320" y="2514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24720" y="1981080"/>
                <a:ext cx="228600" cy="12956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e Machin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562720" y="1599840"/>
            <a:ext cx="302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or circu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or accumulate on each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219320" y="1066680"/>
            <a:ext cx="4538520" cy="2913840"/>
            <a:chOff x="1219320" y="1066680"/>
            <a:chExt cx="4538520" cy="2913840"/>
          </a:xfrm>
        </p:grpSpPr>
        <p:sp>
          <p:nvSpPr>
            <p:cNvPr id="1135" name=""/>
            <p:cNvSpPr/>
            <p:nvPr/>
          </p:nvSpPr>
          <p:spPr>
            <a:xfrm>
              <a:off x="2209680" y="1218960"/>
              <a:ext cx="2133720" cy="228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mb. Logi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00600" y="2819160"/>
              <a:ext cx="762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71800" y="1752480"/>
              <a:ext cx="0" cy="304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2743200" y="1904760"/>
              <a:ext cx="457200" cy="1295640"/>
              <a:chOff x="2743200" y="1904760"/>
              <a:chExt cx="457200" cy="1295640"/>
            </a:xfrm>
          </p:grpSpPr>
          <p:sp>
            <p:nvSpPr>
              <p:cNvPr id="1139" name=""/>
              <p:cNvSpPr/>
              <p:nvPr/>
            </p:nvSpPr>
            <p:spPr>
              <a:xfrm>
                <a:off x="2743200" y="1904760"/>
                <a:ext cx="457200" cy="1295640"/>
              </a:xfrm>
              <a:custGeom>
                <a:avLst/>
                <a:gdLst/>
                <a:ahLst/>
                <a:rect l="l" t="t" r="r" b="b"/>
                <a:pathLst>
                  <a:path w="288" h="816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624"/>
                    </a:lnTo>
                    <a:lnTo>
                      <a:pt x="0" y="8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819520" y="2133360"/>
                <a:ext cx="380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1981080" y="3276360"/>
              <a:ext cx="1524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00400" y="2514600"/>
              <a:ext cx="304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820960" y="144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14800" y="2819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82560" y="24127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981080" y="3428280"/>
              <a:ext cx="1828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05320" y="2361960"/>
              <a:ext cx="671400" cy="106704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1067040"/>
                <a:gd name="textAreaBottom" fmla="*/ 1034280 h 1067040"/>
              </a:gdLst>
              <a:ahLst/>
              <a:rect l="textAreaLeft" t="textAreaTop" r="textAreaRight" b="textAreaBottom"/>
              <a:pathLst>
                <a:path w="21600" h="34322">
                  <a:moveTo>
                    <a:pt x="3600" y="0"/>
                  </a:moveTo>
                  <a:arcTo wR="3600" hR="3600" stAng="16200000" swAng="-5400000"/>
                  <a:lnTo>
                    <a:pt x="0" y="30722"/>
                  </a:lnTo>
                  <a:arcTo wR="3600" hR="3600" stAng="10800000" swAng="-5400000"/>
                  <a:lnTo>
                    <a:pt x="18000" y="34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38280" y="297180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505320" y="2361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053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72000" y="2133360"/>
              <a:ext cx="228600" cy="1295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342900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67440" y="363996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38280" y="1066680"/>
              <a:ext cx="2667240" cy="1752480"/>
            </a:xfrm>
            <a:custGeom>
              <a:avLst/>
              <a:gdLst/>
              <a:ahLst/>
              <a:rect l="l" t="t" r="r" b="b"/>
              <a:pathLst>
                <a:path w="1680" h="1104">
                  <a:moveTo>
                    <a:pt x="1488" y="1104"/>
                  </a:moveTo>
                  <a:lnTo>
                    <a:pt x="1680" y="1104"/>
                  </a:lnTo>
                  <a:lnTo>
                    <a:pt x="1680" y="0"/>
                  </a:lnTo>
                  <a:lnTo>
                    <a:pt x="0" y="0"/>
                  </a:lnTo>
                  <a:lnTo>
                    <a:pt x="0" y="672"/>
                  </a:lnTo>
                  <a:lnTo>
                    <a:pt x="192" y="672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219320" y="30477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219320" y="3443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371600" y="4419720"/>
            <a:ext cx="5638680" cy="1981080"/>
            <a:chOff x="1371600" y="4419720"/>
            <a:chExt cx="5638680" cy="1981080"/>
          </a:xfrm>
        </p:grpSpPr>
        <p:sp>
          <p:nvSpPr>
            <p:cNvPr id="1158" name=""/>
            <p:cNvSpPr/>
            <p:nvPr/>
          </p:nvSpPr>
          <p:spPr>
            <a:xfrm>
              <a:off x="220968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97180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3392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9568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5780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09680" y="4953240"/>
              <a:ext cx="4200480" cy="228600"/>
            </a:xfrm>
            <a:custGeom>
              <a:avLst/>
              <a:gdLst/>
              <a:ahLst/>
              <a:rect l="l" t="t" r="r" b="b"/>
              <a:pathLst>
                <a:path w="2646" h="144">
                  <a:moveTo>
                    <a:pt x="0" y="0"/>
                  </a:moveTo>
                  <a:lnTo>
                    <a:pt x="288" y="0"/>
                  </a:lnTo>
                  <a:lnTo>
                    <a:pt x="288" y="144"/>
                  </a:lnTo>
                  <a:lnTo>
                    <a:pt x="1488" y="144"/>
                  </a:lnTo>
                  <a:lnTo>
                    <a:pt x="1488" y="0"/>
                  </a:lnTo>
                  <a:lnTo>
                    <a:pt x="1680" y="0"/>
                  </a:lnTo>
                  <a:lnTo>
                    <a:pt x="1680" y="144"/>
                  </a:lnTo>
                  <a:lnTo>
                    <a:pt x="2646" y="14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20968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97180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33920" y="5410440"/>
              <a:ext cx="76176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9568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5780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19920" y="5410440"/>
              <a:ext cx="76176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3828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0040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62520" y="5943600"/>
              <a:ext cx="7617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2428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8640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248520" y="5943600"/>
              <a:ext cx="7617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371600" y="444204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71600" y="494532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71600" y="544860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71600" y="595152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3828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0040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96252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72428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48640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4852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ndom-Access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90160" y="3124080"/>
            <a:ext cx="829476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multiple word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input specifies which word to read or 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s values of program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identifier serves as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2880" indent="-2174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D 8 implies no read or write perform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read and/or write multiple words in one cyc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2880" indent="-2174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ach has separate address and data input/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2209680" y="990720"/>
            <a:ext cx="4617720" cy="2190600"/>
            <a:chOff x="2209680" y="990720"/>
            <a:chExt cx="4617720" cy="2190600"/>
          </a:xfrm>
        </p:grpSpPr>
        <p:sp>
          <p:nvSpPr>
            <p:cNvPr id="1189" name=""/>
            <p:cNvSpPr/>
            <p:nvPr/>
          </p:nvSpPr>
          <p:spPr>
            <a:xfrm>
              <a:off x="3890880" y="1067040"/>
              <a:ext cx="1523880" cy="1523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90880" y="12956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90880" y="21337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110200" y="1676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414760" y="16765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dst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433680" y="129564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3433680" y="1295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432960" y="16005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433680" y="21337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32960" y="243864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5414760" y="16765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5414760" y="1981440"/>
              <a:ext cx="454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433680" y="9907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433680" y="21337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33680" y="182916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14760" y="137196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09680" y="167652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ad port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72320" y="167652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rite por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5110200" y="2590560"/>
              <a:ext cx="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04200" y="2895840"/>
              <a:ext cx="538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File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733920" y="1218960"/>
            <a:ext cx="485136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ad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ke combinational logi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utput data generated based on inpu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61200" indent="-1998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fter some del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ke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only as clock ri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990000" y="1371600"/>
            <a:ext cx="1981800" cy="1600200"/>
            <a:chOff x="990000" y="1371600"/>
            <a:chExt cx="1981800" cy="1600200"/>
          </a:xfrm>
        </p:grpSpPr>
        <p:sp>
          <p:nvSpPr>
            <p:cNvPr id="1212" name=""/>
            <p:cNvSpPr/>
            <p:nvPr/>
          </p:nvSpPr>
          <p:spPr>
            <a:xfrm>
              <a:off x="1447920" y="1447560"/>
              <a:ext cx="1523880" cy="1524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47920" y="16761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447920" y="2514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90720" y="167616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99072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990000" y="198108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990720" y="2514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90000" y="28191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90720" y="13716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0720" y="25146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90720" y="22096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1066680" y="4191120"/>
            <a:ext cx="2433600" cy="2114280"/>
            <a:chOff x="1066680" y="4191120"/>
            <a:chExt cx="2433600" cy="2114280"/>
          </a:xfrm>
        </p:grpSpPr>
        <p:sp>
          <p:nvSpPr>
            <p:cNvPr id="1224" name=""/>
            <p:cNvSpPr/>
            <p:nvPr/>
          </p:nvSpPr>
          <p:spPr>
            <a:xfrm>
              <a:off x="3086280" y="461340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086280" y="49179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1066680" y="4191120"/>
              <a:ext cx="1981080" cy="2114280"/>
              <a:chOff x="1066680" y="4191120"/>
              <a:chExt cx="1981080" cy="211428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1066680" y="4191120"/>
                <a:ext cx="1981080" cy="2114280"/>
                <a:chOff x="1066680" y="4191120"/>
                <a:chExt cx="1981080" cy="21142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1066680" y="4191120"/>
                  <a:ext cx="1523880" cy="1523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Regist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ile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286000" y="4800600"/>
                  <a:ext cx="304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66"/>
                      </a:solidFill>
                      <a:latin typeface="Arial"/>
                    </a:rPr>
                    <a:t>W</a:t>
                  </a:r>
                  <a:endParaRPr b="0" lang="en-US" sz="1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590560" y="4800600"/>
                  <a:ext cx="45720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dst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2590560" y="48006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>
                  <a:off x="2590200" y="5105520"/>
                  <a:ext cx="453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590560" y="4495680"/>
                  <a:ext cx="457200" cy="381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val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2286000" y="571464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980000" y="6019920"/>
                  <a:ext cx="53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Clock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6" name=""/>
              <p:cNvSpPr/>
              <p:nvPr/>
            </p:nvSpPr>
            <p:spPr>
              <a:xfrm>
                <a:off x="1674720" y="4253040"/>
                <a:ext cx="530280" cy="33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443240" y="4267080"/>
                <a:ext cx="21852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3485520" y="4572000"/>
            <a:ext cx="1776960" cy="1143000"/>
            <a:chOff x="3485520" y="4572000"/>
            <a:chExt cx="1776960" cy="1143000"/>
          </a:xfrm>
        </p:grpSpPr>
        <p:sp>
          <p:nvSpPr>
            <p:cNvPr id="1239" name=""/>
            <p:cNvSpPr/>
            <p:nvPr/>
          </p:nvSpPr>
          <p:spPr>
            <a:xfrm>
              <a:off x="4195800" y="5257800"/>
              <a:ext cx="68580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890880" y="4572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i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85520" y="476892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390640" y="4343400"/>
            <a:ext cx="3291480" cy="2114280"/>
            <a:chOff x="5390640" y="4343400"/>
            <a:chExt cx="3291480" cy="2114280"/>
          </a:xfrm>
        </p:grpSpPr>
        <p:sp>
          <p:nvSpPr>
            <p:cNvPr id="1243" name=""/>
            <p:cNvSpPr/>
            <p:nvPr/>
          </p:nvSpPr>
          <p:spPr>
            <a:xfrm>
              <a:off x="5390640" y="476892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6248520" y="4343400"/>
              <a:ext cx="2433600" cy="2114280"/>
              <a:chOff x="6248520" y="4343400"/>
              <a:chExt cx="2433600" cy="211428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6248520" y="4343400"/>
                <a:ext cx="1981080" cy="2114280"/>
                <a:chOff x="6248520" y="4343400"/>
                <a:chExt cx="1981080" cy="211428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6248520" y="4343400"/>
                  <a:ext cx="1523880" cy="1523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Regist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ile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7467840" y="4952880"/>
                  <a:ext cx="304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66"/>
                      </a:solidFill>
                      <a:latin typeface="Arial"/>
                    </a:rPr>
                    <a:t>W</a:t>
                  </a:r>
                  <a:endParaRPr b="0" lang="en-US" sz="1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772400" y="4952880"/>
                  <a:ext cx="45720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dst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7772400" y="49528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7772040" y="5257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7772400" y="4647960"/>
                  <a:ext cx="457200" cy="381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val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7467840" y="586692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161840" y="6172200"/>
                  <a:ext cx="53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Clock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6856560" y="4405320"/>
                <a:ext cx="530280" cy="33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267760" y="4765680"/>
                <a:ext cx="4143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267760" y="5070240"/>
                <a:ext cx="41436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625080" y="4419360"/>
                <a:ext cx="21852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8" name=""/>
          <p:cNvSpPr/>
          <p:nvPr/>
        </p:nvSpPr>
        <p:spPr>
          <a:xfrm>
            <a:off x="1981080" y="1523880"/>
            <a:ext cx="530280" cy="33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749600" y="1538280"/>
            <a:ext cx="21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609480" y="2209680"/>
            <a:ext cx="1117800" cy="828720"/>
            <a:chOff x="609480" y="2209680"/>
            <a:chExt cx="1117800" cy="828720"/>
          </a:xfrm>
        </p:grpSpPr>
        <p:sp>
          <p:nvSpPr>
            <p:cNvPr id="1261" name=""/>
            <p:cNvSpPr/>
            <p:nvPr/>
          </p:nvSpPr>
          <p:spPr>
            <a:xfrm>
              <a:off x="838080" y="2362320"/>
              <a:ext cx="889200" cy="676080"/>
            </a:xfrm>
            <a:custGeom>
              <a:avLst/>
              <a:gdLst/>
              <a:ahLst/>
              <a:rect l="l" t="t" r="r" b="b"/>
              <a:pathLst>
                <a:path w="560" h="426">
                  <a:moveTo>
                    <a:pt x="120" y="426"/>
                  </a:moveTo>
                  <a:cubicBezTo>
                    <a:pt x="208" y="416"/>
                    <a:pt x="299" y="383"/>
                    <a:pt x="384" y="360"/>
                  </a:cubicBezTo>
                  <a:cubicBezTo>
                    <a:pt x="408" y="353"/>
                    <a:pt x="432" y="344"/>
                    <a:pt x="456" y="336"/>
                  </a:cubicBezTo>
                  <a:cubicBezTo>
                    <a:pt x="468" y="332"/>
                    <a:pt x="492" y="324"/>
                    <a:pt x="492" y="324"/>
                  </a:cubicBezTo>
                  <a:cubicBezTo>
                    <a:pt x="510" y="306"/>
                    <a:pt x="525" y="302"/>
                    <a:pt x="546" y="288"/>
                  </a:cubicBezTo>
                  <a:cubicBezTo>
                    <a:pt x="550" y="276"/>
                    <a:pt x="560" y="264"/>
                    <a:pt x="558" y="252"/>
                  </a:cubicBezTo>
                  <a:cubicBezTo>
                    <a:pt x="543" y="177"/>
                    <a:pt x="514" y="179"/>
                    <a:pt x="456" y="150"/>
                  </a:cubicBezTo>
                  <a:cubicBezTo>
                    <a:pt x="432" y="138"/>
                    <a:pt x="408" y="125"/>
                    <a:pt x="384" y="114"/>
                  </a:cubicBezTo>
                  <a:cubicBezTo>
                    <a:pt x="351" y="99"/>
                    <a:pt x="350" y="104"/>
                    <a:pt x="318" y="96"/>
                  </a:cubicBezTo>
                  <a:cubicBezTo>
                    <a:pt x="264" y="82"/>
                    <a:pt x="209" y="66"/>
                    <a:pt x="156" y="48"/>
                  </a:cubicBezTo>
                  <a:cubicBezTo>
                    <a:pt x="115" y="34"/>
                    <a:pt x="28" y="2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9480" y="220968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686160" y="2362320"/>
            <a:ext cx="1041120" cy="873720"/>
            <a:chOff x="686160" y="2362320"/>
            <a:chExt cx="1041120" cy="873720"/>
          </a:xfrm>
        </p:grpSpPr>
        <p:sp>
          <p:nvSpPr>
            <p:cNvPr id="1264" name=""/>
            <p:cNvSpPr/>
            <p:nvPr/>
          </p:nvSpPr>
          <p:spPr>
            <a:xfrm>
              <a:off x="686160" y="2895480"/>
              <a:ext cx="218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8080" y="2362320"/>
              <a:ext cx="889200" cy="676080"/>
            </a:xfrm>
            <a:custGeom>
              <a:avLst/>
              <a:gdLst/>
              <a:ahLst/>
              <a:rect l="l" t="t" r="r" b="b"/>
              <a:pathLst>
                <a:path w="560" h="426">
                  <a:moveTo>
                    <a:pt x="120" y="426"/>
                  </a:moveTo>
                  <a:cubicBezTo>
                    <a:pt x="208" y="416"/>
                    <a:pt x="299" y="383"/>
                    <a:pt x="384" y="360"/>
                  </a:cubicBezTo>
                  <a:cubicBezTo>
                    <a:pt x="408" y="353"/>
                    <a:pt x="432" y="344"/>
                    <a:pt x="456" y="336"/>
                  </a:cubicBezTo>
                  <a:cubicBezTo>
                    <a:pt x="468" y="332"/>
                    <a:pt x="492" y="324"/>
                    <a:pt x="492" y="324"/>
                  </a:cubicBezTo>
                  <a:cubicBezTo>
                    <a:pt x="510" y="306"/>
                    <a:pt x="525" y="302"/>
                    <a:pt x="546" y="288"/>
                  </a:cubicBezTo>
                  <a:cubicBezTo>
                    <a:pt x="550" y="276"/>
                    <a:pt x="560" y="264"/>
                    <a:pt x="558" y="252"/>
                  </a:cubicBezTo>
                  <a:cubicBezTo>
                    <a:pt x="543" y="177"/>
                    <a:pt x="514" y="179"/>
                    <a:pt x="456" y="150"/>
                  </a:cubicBezTo>
                  <a:cubicBezTo>
                    <a:pt x="432" y="138"/>
                    <a:pt x="408" y="125"/>
                    <a:pt x="384" y="114"/>
                  </a:cubicBezTo>
                  <a:cubicBezTo>
                    <a:pt x="351" y="99"/>
                    <a:pt x="350" y="104"/>
                    <a:pt x="318" y="96"/>
                  </a:cubicBezTo>
                  <a:cubicBezTo>
                    <a:pt x="264" y="82"/>
                    <a:pt x="209" y="66"/>
                    <a:pt x="156" y="48"/>
                  </a:cubicBezTo>
                  <a:cubicBezTo>
                    <a:pt x="115" y="34"/>
                    <a:pt x="28" y="2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dware Control Langu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press limited aspects of hardwar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s we want to explore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o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Boole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specify word size---bytes, 32-bit words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ool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bool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int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ify by type of value retur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amp;&amp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||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!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Comparis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=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!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Members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in { B, C, D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0760" indent="-2242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 == B || A == C || A == 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d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e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 a : A; b : B; c : C 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te test expression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word express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Boolean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ously reacts to input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 single wor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ed as clock ri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-access memo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 multiple wor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e multiple read or write por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word when address input chan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word as clock ri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gital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160" y="3733920"/>
            <a:ext cx="8294760" cy="26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voltage thresholds to extract discrete values from continuous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st version: 1-bit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high range (1) or low range (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guard range between th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strongly affected by noise or low quality circui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make circuits simple, small, and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0360" y="1371600"/>
            <a:ext cx="6019920" cy="2251800"/>
            <a:chOff x="990360" y="1371600"/>
            <a:chExt cx="6019920" cy="2251800"/>
          </a:xfrm>
        </p:grpSpPr>
        <p:sp>
          <p:nvSpPr>
            <p:cNvPr id="88" name=""/>
            <p:cNvSpPr/>
            <p:nvPr/>
          </p:nvSpPr>
          <p:spPr>
            <a:xfrm>
              <a:off x="1904760" y="1922400"/>
              <a:ext cx="5105160" cy="33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4760" y="2846520"/>
              <a:ext cx="5105160" cy="33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904760" y="1910880"/>
              <a:ext cx="0" cy="12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4760" y="3206880"/>
              <a:ext cx="51051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90360" y="2368440"/>
              <a:ext cx="918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79360" y="3282840"/>
              <a:ext cx="625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14120" y="2063880"/>
              <a:ext cx="5095800" cy="1008000"/>
            </a:xfrm>
            <a:custGeom>
              <a:avLst/>
              <a:gdLst/>
              <a:ahLst/>
              <a:rect l="l" t="t" r="r" b="b"/>
              <a:pathLst>
                <a:path w="3210" h="635">
                  <a:moveTo>
                    <a:pt x="0" y="606"/>
                  </a:moveTo>
                  <a:cubicBezTo>
                    <a:pt x="34" y="601"/>
                    <a:pt x="68" y="596"/>
                    <a:pt x="102" y="588"/>
                  </a:cubicBezTo>
                  <a:cubicBezTo>
                    <a:pt x="159" y="595"/>
                    <a:pt x="204" y="619"/>
                    <a:pt x="258" y="630"/>
                  </a:cubicBezTo>
                  <a:cubicBezTo>
                    <a:pt x="296" y="628"/>
                    <a:pt x="350" y="635"/>
                    <a:pt x="390" y="618"/>
                  </a:cubicBezTo>
                  <a:cubicBezTo>
                    <a:pt x="410" y="610"/>
                    <a:pt x="450" y="594"/>
                    <a:pt x="450" y="594"/>
                  </a:cubicBezTo>
                  <a:cubicBezTo>
                    <a:pt x="495" y="598"/>
                    <a:pt x="528" y="600"/>
                    <a:pt x="564" y="624"/>
                  </a:cubicBezTo>
                  <a:cubicBezTo>
                    <a:pt x="707" y="618"/>
                    <a:pt x="670" y="627"/>
                    <a:pt x="750" y="600"/>
                  </a:cubicBezTo>
                  <a:cubicBezTo>
                    <a:pt x="756" y="594"/>
                    <a:pt x="761" y="587"/>
                    <a:pt x="768" y="582"/>
                  </a:cubicBezTo>
                  <a:cubicBezTo>
                    <a:pt x="775" y="577"/>
                    <a:pt x="785" y="576"/>
                    <a:pt x="792" y="570"/>
                  </a:cubicBezTo>
                  <a:cubicBezTo>
                    <a:pt x="818" y="548"/>
                    <a:pt x="837" y="509"/>
                    <a:pt x="870" y="498"/>
                  </a:cubicBezTo>
                  <a:cubicBezTo>
                    <a:pt x="894" y="474"/>
                    <a:pt x="920" y="445"/>
                    <a:pt x="948" y="426"/>
                  </a:cubicBezTo>
                  <a:cubicBezTo>
                    <a:pt x="982" y="375"/>
                    <a:pt x="1029" y="328"/>
                    <a:pt x="1080" y="294"/>
                  </a:cubicBezTo>
                  <a:cubicBezTo>
                    <a:pt x="1126" y="217"/>
                    <a:pt x="1203" y="184"/>
                    <a:pt x="1272" y="132"/>
                  </a:cubicBezTo>
                  <a:cubicBezTo>
                    <a:pt x="1297" y="113"/>
                    <a:pt x="1308" y="79"/>
                    <a:pt x="1332" y="60"/>
                  </a:cubicBezTo>
                  <a:cubicBezTo>
                    <a:pt x="1342" y="52"/>
                    <a:pt x="1357" y="49"/>
                    <a:pt x="1368" y="42"/>
                  </a:cubicBezTo>
                  <a:cubicBezTo>
                    <a:pt x="1490" y="50"/>
                    <a:pt x="1538" y="59"/>
                    <a:pt x="1674" y="54"/>
                  </a:cubicBezTo>
                  <a:cubicBezTo>
                    <a:pt x="1746" y="40"/>
                    <a:pt x="1820" y="23"/>
                    <a:pt x="1890" y="0"/>
                  </a:cubicBezTo>
                  <a:cubicBezTo>
                    <a:pt x="2003" y="6"/>
                    <a:pt x="2022" y="4"/>
                    <a:pt x="2106" y="60"/>
                  </a:cubicBezTo>
                  <a:cubicBezTo>
                    <a:pt x="2138" y="108"/>
                    <a:pt x="2168" y="164"/>
                    <a:pt x="2208" y="204"/>
                  </a:cubicBezTo>
                  <a:cubicBezTo>
                    <a:pt x="2233" y="278"/>
                    <a:pt x="2315" y="374"/>
                    <a:pt x="2376" y="420"/>
                  </a:cubicBezTo>
                  <a:cubicBezTo>
                    <a:pt x="2405" y="478"/>
                    <a:pt x="2462" y="495"/>
                    <a:pt x="2508" y="534"/>
                  </a:cubicBezTo>
                  <a:cubicBezTo>
                    <a:pt x="2515" y="539"/>
                    <a:pt x="2519" y="548"/>
                    <a:pt x="2526" y="552"/>
                  </a:cubicBezTo>
                  <a:cubicBezTo>
                    <a:pt x="2547" y="564"/>
                    <a:pt x="2595" y="567"/>
                    <a:pt x="2616" y="570"/>
                  </a:cubicBezTo>
                  <a:cubicBezTo>
                    <a:pt x="2688" y="564"/>
                    <a:pt x="2743" y="568"/>
                    <a:pt x="2814" y="582"/>
                  </a:cubicBezTo>
                  <a:cubicBezTo>
                    <a:pt x="2820" y="588"/>
                    <a:pt x="2824" y="596"/>
                    <a:pt x="2832" y="600"/>
                  </a:cubicBezTo>
                  <a:cubicBezTo>
                    <a:pt x="2849" y="608"/>
                    <a:pt x="2886" y="618"/>
                    <a:pt x="2886" y="618"/>
                  </a:cubicBezTo>
                  <a:cubicBezTo>
                    <a:pt x="2997" y="613"/>
                    <a:pt x="3100" y="594"/>
                    <a:pt x="3210" y="594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47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004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584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37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09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1028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4760" y="1541520"/>
              <a:ext cx="12949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1541520"/>
              <a:ext cx="14475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1541520"/>
              <a:ext cx="12189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5120" y="1371600"/>
              <a:ext cx="40140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360" y="1389240"/>
              <a:ext cx="40140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406520"/>
              <a:ext cx="40104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ing with Logic Gat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0160" y="3200040"/>
            <a:ext cx="8294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s are Boolean functions of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pond continuously to changes in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some, small del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283520" cy="179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4970520"/>
            <a:ext cx="5105520" cy="33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5894280"/>
            <a:ext cx="5105520" cy="33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752480" y="4959360"/>
            <a:ext cx="0" cy="12952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6254640"/>
            <a:ext cx="5105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416560"/>
            <a:ext cx="918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27440" y="6330960"/>
            <a:ext cx="625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105520"/>
            <a:ext cx="5105520" cy="990360"/>
          </a:xfrm>
          <a:custGeom>
            <a:avLst/>
            <a:gdLst/>
            <a:ahLst/>
            <a:rect l="l" t="t" r="r" b="b"/>
            <a:pathLst>
              <a:path w="3216" h="624">
                <a:moveTo>
                  <a:pt x="0" y="624"/>
                </a:moveTo>
                <a:lnTo>
                  <a:pt x="912" y="624"/>
                </a:lnTo>
                <a:lnTo>
                  <a:pt x="1008" y="0"/>
                </a:lnTo>
                <a:lnTo>
                  <a:pt x="2448" y="0"/>
                </a:lnTo>
                <a:lnTo>
                  <a:pt x="2592" y="624"/>
                </a:lnTo>
                <a:lnTo>
                  <a:pt x="3216" y="624"/>
                </a:lnTo>
              </a:path>
            </a:pathLst>
          </a:custGeom>
          <a:noFill/>
          <a:ln cap="rnd" w="28440">
            <a:solidFill>
              <a:srgbClr val="ff000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5638680"/>
            <a:ext cx="401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029200"/>
            <a:ext cx="5105520" cy="990720"/>
          </a:xfrm>
          <a:custGeom>
            <a:avLst/>
            <a:gdLst/>
            <a:ahLst/>
            <a:rect l="l" t="t" r="r" b="b"/>
            <a:pathLst>
              <a:path w="3216" h="624">
                <a:moveTo>
                  <a:pt x="0" y="0"/>
                </a:moveTo>
                <a:lnTo>
                  <a:pt x="480" y="0"/>
                </a:lnTo>
                <a:lnTo>
                  <a:pt x="624" y="624"/>
                </a:lnTo>
                <a:lnTo>
                  <a:pt x="1440" y="624"/>
                </a:lnTo>
                <a:lnTo>
                  <a:pt x="1488" y="96"/>
                </a:lnTo>
                <a:lnTo>
                  <a:pt x="2160" y="96"/>
                </a:lnTo>
                <a:lnTo>
                  <a:pt x="3216" y="96"/>
                </a:lnTo>
              </a:path>
            </a:pathLst>
          </a:custGeom>
          <a:noFill/>
          <a:ln w="28440">
            <a:solidFill>
              <a:srgbClr val="00cc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724280"/>
            <a:ext cx="401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629400" y="4952880"/>
            <a:ext cx="533520" cy="228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705360" y="5867280"/>
            <a:ext cx="533160" cy="228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52480" y="4495680"/>
            <a:ext cx="6172200" cy="1676520"/>
            <a:chOff x="1752480" y="4495680"/>
            <a:chExt cx="6172200" cy="1676520"/>
          </a:xfrm>
        </p:grpSpPr>
        <p:sp>
          <p:nvSpPr>
            <p:cNvPr id="123" name=""/>
            <p:cNvSpPr/>
            <p:nvPr/>
          </p:nvSpPr>
          <p:spPr>
            <a:xfrm>
              <a:off x="1752480" y="5029200"/>
              <a:ext cx="5105520" cy="1143000"/>
            </a:xfrm>
            <a:custGeom>
              <a:avLst/>
              <a:gdLst/>
              <a:ahLst/>
              <a:rect l="l" t="t" r="r" b="b"/>
              <a:pathLst>
                <a:path w="3216" h="720">
                  <a:moveTo>
                    <a:pt x="0" y="720"/>
                  </a:moveTo>
                  <a:lnTo>
                    <a:pt x="1584" y="720"/>
                  </a:lnTo>
                  <a:lnTo>
                    <a:pt x="1680" y="0"/>
                  </a:lnTo>
                  <a:lnTo>
                    <a:pt x="2688" y="0"/>
                  </a:lnTo>
                  <a:lnTo>
                    <a:pt x="2784" y="720"/>
                  </a:lnTo>
                  <a:lnTo>
                    <a:pt x="3216" y="72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866920" y="4724280"/>
              <a:ext cx="76212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4495680"/>
              <a:ext cx="12952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&amp;&amp;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038480" y="4648320"/>
            <a:ext cx="304920" cy="0"/>
          </a:xfrm>
          <a:prstGeom prst="line">
            <a:avLst/>
          </a:prstGeom>
          <a:ln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4648320"/>
            <a:ext cx="304560" cy="0"/>
          </a:xfrm>
          <a:prstGeom prst="line">
            <a:avLst/>
          </a:prstGeom>
          <a:ln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7240" y="4267080"/>
            <a:ext cx="1308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sing D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8280" y="4259160"/>
            <a:ext cx="134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alling D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ational Circui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0160" y="4495680"/>
            <a:ext cx="801540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yclic Network of Logic Ga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ously responds to changes on primary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ary outputs become (after some delay) Boolean functions of primary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96360" y="1143000"/>
            <a:ext cx="6476760" cy="3048120"/>
            <a:chOff x="1296360" y="1143000"/>
            <a:chExt cx="6476760" cy="3048120"/>
          </a:xfrm>
        </p:grpSpPr>
        <p:sp>
          <p:nvSpPr>
            <p:cNvPr id="133" name=""/>
            <p:cNvSpPr/>
            <p:nvPr/>
          </p:nvSpPr>
          <p:spPr>
            <a:xfrm>
              <a:off x="3276720" y="1523880"/>
              <a:ext cx="2514600" cy="2667240"/>
            </a:xfrm>
            <a:prstGeom prst="rect">
              <a:avLst/>
            </a:prstGeom>
            <a:solidFill>
              <a:srgbClr val="fcfeb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3733920" y="1752480"/>
              <a:ext cx="61884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581280" y="3657600"/>
              <a:ext cx="48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4343400" y="3352680"/>
              <a:ext cx="61920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952880" y="2362320"/>
              <a:ext cx="61920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3581280" y="2438280"/>
              <a:ext cx="55728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4114800" y="2895480"/>
              <a:ext cx="55728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7"/>
            <a:stretch/>
          </p:blipFill>
          <p:spPr>
            <a:xfrm>
              <a:off x="5029200" y="3124080"/>
              <a:ext cx="48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8"/>
            <a:stretch/>
          </p:blipFill>
          <p:spPr>
            <a:xfrm>
              <a:off x="4876920" y="1828800"/>
              <a:ext cx="487080" cy="2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438280" y="17524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20574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236232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38280" y="26668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8280" y="29718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27672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35812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38862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17524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20574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236232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1320" y="26668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29718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1320" y="327672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35812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38862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1143000"/>
              <a:ext cx="1855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yclic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6360" y="2438280"/>
              <a:ext cx="9410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put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3280" y="2438280"/>
              <a:ext cx="9698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utput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 Equ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 1 if a and b are equ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 Control Language (HCL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operations have syntax similar to C logical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use it to describe control logic for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3920" y="1219320"/>
            <a:ext cx="4252680" cy="1981080"/>
            <a:chOff x="763920" y="1219320"/>
            <a:chExt cx="4252680" cy="1981080"/>
          </a:xfrm>
        </p:grpSpPr>
        <p:sp>
          <p:nvSpPr>
            <p:cNvPr id="164" name=""/>
            <p:cNvSpPr/>
            <p:nvPr/>
          </p:nvSpPr>
          <p:spPr>
            <a:xfrm>
              <a:off x="1368720" y="1219320"/>
              <a:ext cx="2819160" cy="1981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70360" y="1828080"/>
              <a:ext cx="533520" cy="30420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0360" y="243828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26240" y="2279520"/>
              <a:ext cx="392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7560" y="2057400"/>
              <a:ext cx="650880" cy="43920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7560" y="2057400"/>
              <a:ext cx="650880" cy="43920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132280" y="2439720"/>
              <a:ext cx="144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1974960" y="214092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1974960" y="213768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088360" y="244044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2088360" y="244044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132280" y="1981080"/>
              <a:ext cx="144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8240" y="1676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5240" y="1676160"/>
              <a:ext cx="1293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9080" y="1600200"/>
              <a:ext cx="60660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9080" y="1600200"/>
              <a:ext cx="60660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920" y="144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1040" y="1981080"/>
              <a:ext cx="6080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067040" y="2884320"/>
              <a:ext cx="129384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0880" y="2514600"/>
              <a:ext cx="60624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0880" y="2514600"/>
              <a:ext cx="60624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360" y="2711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751040" y="1980720"/>
              <a:ext cx="0" cy="914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16480" y="213336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751040" y="2743200"/>
              <a:ext cx="608040" cy="291600"/>
              <a:chOff x="1751040" y="2743200"/>
              <a:chExt cx="608040" cy="29160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2208240" y="2894760"/>
                <a:ext cx="15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901520" y="2743200"/>
                <a:ext cx="30168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901520" y="2743200"/>
                <a:ext cx="30168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207880" y="2851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207880" y="2851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751040" y="2894760"/>
                <a:ext cx="15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132280" y="2590560"/>
              <a:ext cx="226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2280" y="1676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055960" y="1600200"/>
              <a:ext cx="152280" cy="151920"/>
              <a:chOff x="2055960" y="1600200"/>
              <a:chExt cx="152280" cy="151920"/>
            </a:xfrm>
          </p:grpSpPr>
          <p:sp>
            <p:nvSpPr>
              <p:cNvPr id="198" name=""/>
              <p:cNvSpPr/>
              <p:nvPr/>
            </p:nvSpPr>
            <p:spPr>
              <a:xfrm>
                <a:off x="2094120" y="163800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55960" y="1600200"/>
                <a:ext cx="15228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675080" y="2819160"/>
              <a:ext cx="152280" cy="152280"/>
              <a:chOff x="1675080" y="2819160"/>
              <a:chExt cx="15228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1713240" y="285732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5080" y="281916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4831920" y="2362320"/>
            <a:ext cx="3658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eq = (a&amp;&amp;b)||(!a&amp;&amp;!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48320" y="1811160"/>
            <a:ext cx="185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 Equ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9520" y="4495680"/>
            <a:ext cx="477540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quality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Boolean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3520" y="1523880"/>
            <a:ext cx="4551480" cy="4181040"/>
            <a:chOff x="623520" y="1523880"/>
            <a:chExt cx="4551480" cy="4181040"/>
          </a:xfrm>
        </p:grpSpPr>
        <p:sp>
          <p:nvSpPr>
            <p:cNvPr id="208" name=""/>
            <p:cNvSpPr/>
            <p:nvPr/>
          </p:nvSpPr>
          <p:spPr>
            <a:xfrm>
              <a:off x="2365200" y="3733920"/>
              <a:ext cx="1371600" cy="152388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3520" y="15238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4480" y="152388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9920" y="167652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9920" y="213372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3520" y="19810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41520" y="152388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400" y="22860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4480" y="228600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9920" y="2438280"/>
              <a:ext cx="303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9920" y="289548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6400" y="27432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44400" y="22860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8040" y="41148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4480" y="411480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9920" y="4267080"/>
              <a:ext cx="303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69920" y="4724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8040" y="45720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44400" y="41148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8040" y="487692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4480" y="487692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9920" y="502920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9920" y="548640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8040" y="533412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44400" y="487692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755720" y="3276720"/>
              <a:ext cx="152280" cy="609480"/>
              <a:chOff x="1755720" y="3276720"/>
              <a:chExt cx="152280" cy="6094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755720" y="3276720"/>
                <a:ext cx="152280" cy="152280"/>
                <a:chOff x="1755720" y="3276720"/>
                <a:chExt cx="152280" cy="152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793880" y="33148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755720" y="32767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755720" y="3505320"/>
                <a:ext cx="152280" cy="152280"/>
                <a:chOff x="1755720" y="3505320"/>
                <a:chExt cx="152280" cy="1522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793880" y="35434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755720" y="35053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755720" y="3733920"/>
                <a:ext cx="152280" cy="152280"/>
                <a:chOff x="1755720" y="3733920"/>
                <a:chExt cx="152280" cy="1522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793880" y="37720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755720" y="37339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4348080" y="3575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41480" y="335268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1480" y="335268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6080" y="1905120"/>
              <a:ext cx="838440" cy="1523880"/>
            </a:xfrm>
            <a:custGeom>
              <a:avLst/>
              <a:gdLst/>
              <a:ahLst/>
              <a:rect l="l" t="t" r="r" b="b"/>
              <a:pathLst>
                <a:path w="528" h="960">
                  <a:moveTo>
                    <a:pt x="0" y="0"/>
                  </a:moveTo>
                  <a:lnTo>
                    <a:pt x="432" y="0"/>
                  </a:lnTo>
                  <a:lnTo>
                    <a:pt x="432" y="960"/>
                  </a:lnTo>
                  <a:lnTo>
                    <a:pt x="528" y="96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365200" y="1904400"/>
              <a:ext cx="1371600" cy="152388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5200" y="2666880"/>
              <a:ext cx="1371600" cy="83844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365200" y="3657600"/>
              <a:ext cx="1371600" cy="83808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974680" y="3276720"/>
              <a:ext cx="152280" cy="609480"/>
              <a:chOff x="2974680" y="3276720"/>
              <a:chExt cx="152280" cy="6094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2974680" y="3276720"/>
                <a:ext cx="152280" cy="152280"/>
                <a:chOff x="2974680" y="3276720"/>
                <a:chExt cx="152280" cy="152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12840" y="33148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74680" y="32767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974680" y="3505320"/>
                <a:ext cx="152280" cy="152280"/>
                <a:chOff x="2974680" y="3505320"/>
                <a:chExt cx="152280" cy="1522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012840" y="35434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974680" y="35053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974680" y="3733920"/>
                <a:ext cx="152280" cy="152280"/>
                <a:chOff x="2974680" y="3733920"/>
                <a:chExt cx="152280" cy="1522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012840" y="37720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974680" y="37339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4574880" y="34290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335560" y="1523880"/>
            <a:ext cx="2609280" cy="1029960"/>
            <a:chOff x="5335560" y="1523880"/>
            <a:chExt cx="2609280" cy="1029960"/>
          </a:xfrm>
        </p:grpSpPr>
        <p:sp>
          <p:nvSpPr>
            <p:cNvPr id="262" name=""/>
            <p:cNvSpPr/>
            <p:nvPr/>
          </p:nvSpPr>
          <p:spPr>
            <a:xfrm>
              <a:off x="6111720" y="1561680"/>
              <a:ext cx="11430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4520" y="17143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54520" y="23238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4720" y="20188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560" y="1523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51760" y="2185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85120" y="1638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097600" y="1049400"/>
            <a:ext cx="30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-Leve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67960" y="3429000"/>
            <a:ext cx="2561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Eq = (A == 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7760" y="2971800"/>
            <a:ext cx="228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Multiple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160" y="4343040"/>
            <a:ext cx="8294760" cy="20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signal 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signals a and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a when s=1, b when s=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600200"/>
            <a:ext cx="2819160" cy="2133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t M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819520" y="26668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1240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75040" y="296532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52480" y="1752480"/>
            <a:ext cx="292320" cy="609840"/>
            <a:chOff x="1752480" y="1752480"/>
            <a:chExt cx="292320" cy="609840"/>
          </a:xfrm>
        </p:grpSpPr>
        <p:sp>
          <p:nvSpPr>
            <p:cNvPr id="281" name=""/>
            <p:cNvSpPr/>
            <p:nvPr/>
          </p:nvSpPr>
          <p:spPr>
            <a:xfrm flipH="1">
              <a:off x="1905120" y="2211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893960" y="1752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057400" y="25146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2819520"/>
            <a:ext cx="1293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2720" y="2590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0920" y="1600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7400" y="3124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914400" y="3417480"/>
            <a:ext cx="12938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2720" y="324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752480"/>
            <a:ext cx="533520" cy="13716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752480"/>
            <a:ext cx="9907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2362320"/>
            <a:ext cx="152280" cy="15228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281952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47920" y="1676520"/>
            <a:ext cx="152280" cy="152280"/>
            <a:chOff x="1447920" y="1676520"/>
            <a:chExt cx="152280" cy="152280"/>
          </a:xfrm>
        </p:grpSpPr>
        <p:sp>
          <p:nvSpPr>
            <p:cNvPr id="303" name=""/>
            <p:cNvSpPr/>
            <p:nvPr/>
          </p:nvSpPr>
          <p:spPr>
            <a:xfrm>
              <a:off x="1486080" y="1714680"/>
              <a:ext cx="75960" cy="75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47920" y="1676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831920" y="2362320"/>
            <a:ext cx="3658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out = (s&amp;&amp;a)||(!s&amp;&amp;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48320" y="1811160"/>
            <a:ext cx="185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 Multiple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1120" y="4191120"/>
            <a:ext cx="477504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660960" indent="-217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input word A or B depending on control signal 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17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e express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es of test : value pai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put value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97600" y="609480"/>
            <a:ext cx="30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-Leve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67760" y="2532240"/>
            <a:ext cx="228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3760" y="685800"/>
            <a:ext cx="4570920" cy="5749200"/>
            <a:chOff x="383760" y="685800"/>
            <a:chExt cx="4570920" cy="5749200"/>
          </a:xfrm>
        </p:grpSpPr>
        <p:sp>
          <p:nvSpPr>
            <p:cNvPr id="312" name=""/>
            <p:cNvSpPr/>
            <p:nvPr/>
          </p:nvSpPr>
          <p:spPr>
            <a:xfrm>
              <a:off x="1144440" y="152388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744640" y="182808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4640" y="22860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00520" y="2127240"/>
              <a:ext cx="392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8960" y="19051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98960" y="19051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7600" y="914400"/>
              <a:ext cx="291960" cy="609120"/>
              <a:chOff x="1677600" y="914400"/>
              <a:chExt cx="291960" cy="609120"/>
            </a:xfrm>
          </p:grpSpPr>
          <p:sp>
            <p:nvSpPr>
              <p:cNvPr id="319" name=""/>
              <p:cNvSpPr/>
              <p:nvPr/>
            </p:nvSpPr>
            <p:spPr>
              <a:xfrm flipH="1">
                <a:off x="1829880" y="1373040"/>
                <a:ext cx="108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400000">
                <a:off x="1672920" y="1071000"/>
                <a:ext cx="30096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1672920" y="1071000"/>
                <a:ext cx="30096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1786320" y="137376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400000">
                <a:off x="1786320" y="137376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818720" y="914400"/>
                <a:ext cx="108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982880" y="167652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9880" y="1981080"/>
              <a:ext cx="1293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3720" y="16002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3720" y="16002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4920" y="17524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3760" y="685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9360" y="2286000"/>
              <a:ext cx="68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880" y="25909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33720" y="22096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3720" y="22096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4920" y="24066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9880" y="914400"/>
              <a:ext cx="9903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30240" y="1523880"/>
              <a:ext cx="152640" cy="15264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68880" y="19810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4440" y="274320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744640" y="30474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4640" y="350532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00520" y="3346560"/>
              <a:ext cx="392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98960" y="31240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98960" y="31240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82880" y="28954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880" y="3200400"/>
              <a:ext cx="1293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281952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33720" y="281952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4920" y="29718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49360" y="3505320"/>
              <a:ext cx="68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9880" y="38098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33720" y="34290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33720" y="34290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4920" y="362592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30240" y="2743200"/>
              <a:ext cx="152640" cy="15228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68880" y="32004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4440" y="518148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744640" y="548568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44640" y="59436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0520" y="5784840"/>
              <a:ext cx="392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98960" y="55627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98960" y="55627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2880" y="533412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9880" y="5638680"/>
              <a:ext cx="1293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52578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52578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6560" y="54100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82880" y="594360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9880" y="62485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8672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3720" y="58672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6560" y="60642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0240" y="1676520"/>
              <a:ext cx="228600" cy="365760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8880" y="56386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9360" y="914400"/>
              <a:ext cx="533520" cy="502920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754280" y="1600200"/>
              <a:ext cx="152280" cy="152280"/>
              <a:chOff x="1754280" y="1600200"/>
              <a:chExt cx="152280" cy="152280"/>
            </a:xfrm>
          </p:grpSpPr>
          <p:sp>
            <p:nvSpPr>
              <p:cNvPr id="377" name=""/>
              <p:cNvSpPr/>
              <p:nvPr/>
            </p:nvSpPr>
            <p:spPr>
              <a:xfrm>
                <a:off x="1792440" y="163836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54280" y="1600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754280" y="2819520"/>
              <a:ext cx="152280" cy="152280"/>
              <a:chOff x="1754280" y="2819520"/>
              <a:chExt cx="152280" cy="152280"/>
            </a:xfrm>
          </p:grpSpPr>
          <p:sp>
            <p:nvSpPr>
              <p:cNvPr id="380" name=""/>
              <p:cNvSpPr/>
              <p:nvPr/>
            </p:nvSpPr>
            <p:spPr>
              <a:xfrm>
                <a:off x="1792440" y="285768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754280" y="28195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373040" y="2209680"/>
              <a:ext cx="152640" cy="152640"/>
              <a:chOff x="1373040" y="2209680"/>
              <a:chExt cx="152640" cy="152640"/>
            </a:xfrm>
          </p:grpSpPr>
          <p:sp>
            <p:nvSpPr>
              <p:cNvPr id="383" name=""/>
              <p:cNvSpPr/>
              <p:nvPr/>
            </p:nvSpPr>
            <p:spPr>
              <a:xfrm>
                <a:off x="1411200" y="224784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373040" y="22096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373040" y="3429000"/>
              <a:ext cx="152640" cy="152280"/>
              <a:chOff x="1373040" y="3429000"/>
              <a:chExt cx="152640" cy="152280"/>
            </a:xfrm>
          </p:grpSpPr>
          <p:sp>
            <p:nvSpPr>
              <p:cNvPr id="386" name=""/>
              <p:cNvSpPr/>
              <p:nvPr/>
            </p:nvSpPr>
            <p:spPr>
              <a:xfrm>
                <a:off x="1411200" y="346716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73040" y="3429000"/>
                <a:ext cx="15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363760" y="4267080"/>
              <a:ext cx="152280" cy="609840"/>
              <a:chOff x="2363760" y="4267080"/>
              <a:chExt cx="152280" cy="6098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2363760" y="4267080"/>
                <a:ext cx="152280" cy="152640"/>
                <a:chOff x="2363760" y="4267080"/>
                <a:chExt cx="152280" cy="1526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401920" y="43052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363760" y="42670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2363760" y="4495680"/>
                <a:ext cx="152280" cy="152640"/>
                <a:chOff x="2363760" y="4495680"/>
                <a:chExt cx="152280" cy="1526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401920" y="45338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63760" y="44956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363760" y="4724280"/>
                <a:ext cx="152280" cy="152640"/>
                <a:chOff x="2363760" y="4724280"/>
                <a:chExt cx="152280" cy="152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401920" y="47624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363760" y="47242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1373040" y="838080"/>
              <a:ext cx="152640" cy="152640"/>
              <a:chOff x="1373040" y="838080"/>
              <a:chExt cx="152640" cy="152640"/>
            </a:xfrm>
          </p:grpSpPr>
          <p:sp>
            <p:nvSpPr>
              <p:cNvPr id="399" name=""/>
              <p:cNvSpPr/>
              <p:nvPr/>
            </p:nvSpPr>
            <p:spPr>
              <a:xfrm>
                <a:off x="1411200" y="87624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373040" y="8380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>
            <a:off x="5713200" y="28926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ut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: 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: B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487480" y="1084320"/>
            <a:ext cx="2184840" cy="1257120"/>
            <a:chOff x="5487480" y="1084320"/>
            <a:chExt cx="2184840" cy="1257120"/>
          </a:xfrm>
        </p:grpSpPr>
        <p:sp>
          <p:nvSpPr>
            <p:cNvPr id="403" name=""/>
            <p:cNvSpPr/>
            <p:nvPr/>
          </p:nvSpPr>
          <p:spPr>
            <a:xfrm>
              <a:off x="5487480" y="1084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90960" y="1770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0960" y="21510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7480" y="15858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7480" y="1998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81680" y="1922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5440" y="175428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0960" y="1312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72200" y="1503360"/>
              <a:ext cx="671400" cy="83808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838080"/>
                <a:gd name="textAreaBottom" fmla="*/ 805320 h 838080"/>
              </a:gdLst>
              <a:ahLst/>
              <a:rect l="textAreaLeft" t="textAreaTop" r="textAreaRight" b="textAreaBottom"/>
              <a:pathLst>
                <a:path w="21600" h="26959">
                  <a:moveTo>
                    <a:pt x="3600" y="0"/>
                  </a:moveTo>
                  <a:arcTo wR="3600" hR="3600" stAng="16200000" swAng="-5400000"/>
                  <a:lnTo>
                    <a:pt x="0" y="23359"/>
                  </a:lnTo>
                  <a:arcTo wR="3600" hR="3600" stAng="10800000" swAng="-5400000"/>
                  <a:lnTo>
                    <a:pt x="18000" y="269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32Z</dcterms:modified>
  <cp:revision>64</cp:revision>
  <dc:subject>SRC Review Slides</dc:subject>
  <dc:title>Formal Processor Verification</dc:title>
</cp:coreProperties>
</file>