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12B-B7DD-4CCD-9033-4C85C841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 ad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310-C1D5-46BE-90A4-94C246F2134D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83B-31CA-49D8-922B-02928B368E0E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idterm Issu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ocial Contex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cial context is a specific role that a person has in societ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Doctor, lawyer, patient, voter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t an issue of social interactions between peopl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ncompasses demographic information, et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Us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n social context - how do people in a particular role use inform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at types of information are needed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ow do users access inform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ere is information lack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Is information biased? Difficult to understand?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at information systems are available to support these need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atient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o is a good doctor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as this doctor had malpractice suit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as the doctor made serious mistak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are potential problems with review sit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am having some symptoms. Do I need to do see a doctor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been diagnosed with a condition. What can I expect? If something changes in my status, should I be alarmed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rug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been prescribed a drug.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are the side effects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are the interactions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en should I take it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s there a cheaper, similar drug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a condition (or am caring for someone with one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re my reactions normal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are other options for treatment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ow will a treatment I’m going to undergo work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ake me feel better.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2:17:27Z</dcterms:created>
  <dc:creator>Jennifer Golbeck</dc:creator>
  <dc:description/>
  <dc:language>en-US</dc:language>
  <cp:lastModifiedBy>Jennifer Golbeck</cp:lastModifiedBy>
  <dcterms:modified xsi:type="dcterms:W3CDTF">2008-04-01T16:53:42Z</dcterms:modified>
  <cp:revision>3</cp:revision>
  <dc:subject/>
  <dc:title>Patients</dc:title>
</cp:coreProperties>
</file>