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032800"/>
            <a:ext cx="1143000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137124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032800"/>
            <a:ext cx="55774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137124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032800"/>
            <a:ext cx="3680280" cy="33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ublic Safety Communication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Dan Norton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NREMT/Firefighter/Rescue Specialis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deas for improvemen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oper funding for radio technology implementation and equip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pectrum alloc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n-Scene monitor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LA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dherence to NIC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1" name="comm.ppt_media/Family Guy - Petarded-1.mov" descr=""/>
          <p:cNvPicPr/>
          <p:nvPr/>
        </p:nvPicPr>
        <p:blipFill>
          <a:blip r:embed="rId2"/>
          <a:stretch/>
        </p:blipFill>
        <p:spPr>
          <a:xfrm>
            <a:off x="782640" y="585720"/>
            <a:ext cx="11430000" cy="857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GFD Box 1027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itial Dispatch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sponding unit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er-unit communic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mand-Dispatch-Working unit com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6" name="comm.ppt_media/Station 10 box 1902.mov" descr=""/>
          <p:cNvPicPr/>
          <p:nvPr/>
        </p:nvPicPr>
        <p:blipFill>
          <a:blip r:embed="rId2"/>
          <a:stretch/>
        </p:blipFill>
        <p:spPr>
          <a:xfrm>
            <a:off x="7340760" y="4533840"/>
            <a:ext cx="67284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Initial emergency contact made with 911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medical/fire/rescue/alarms/lock outs/citizen assists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Pre-planned medical/supression packages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Cardiac/Respiratory/Trauma/Mass Casualty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amb/engine/truck/2nd amb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1st alarm/2nd alarm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engine(s)/truck(s)/rescue(s)/tanker(s)/amb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0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MABAS/Multi-jurisdictional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natomy of 911 comm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tions toned out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Responding units report to dispatch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Unit type/designation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Company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Co.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ruck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Co.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Rescue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Medic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anker/Water Supply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Batt. Chief/Commant SUV/Chase Vehicle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No. of personn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quest numerics to be repeat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rriving units report what they se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200x400 Brick and mortar with heavy smok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VC, Pick-em-up truck v. Volvo c pass intrusion in truck. 3 pt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fter evaluation, priority assignment/additional/resources/flight ou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Units report to dispatch next ste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n-route to medical facility with no. of pts and their priority level 1/2/3/4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municate to dispatch arrival @ destin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municate clearance from medical facility and availability for service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ispatched to another call or report to dispatch when arriving @ home location. (sector/firehouse/hosp.) “backing it in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mmunication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o/from/on scen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ith assigned original crews to scene (intra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ith other jurisdiction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chnology question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n code v plain english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ssues with response comm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nteragency 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re to police to EMS to Comman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Gary Fire with private EMS provid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arvey Fire with private with MABAS 2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verarching technology/radio issu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compatibilit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capabilit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hannels availabl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ac channel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rehensive issues in MCI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adio Equip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Location of Central Comman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9/11 - CentCom was in WTC 7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hicago - 35th &amp; Sta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4 miles away from city center and densest population are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asy access to major throughway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9/11 - ICS breakdown on massive scale (EMS in particular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buClr>
                <a:srgbClr val="ffffff"/>
              </a:buClr>
              <a:buSzPct val="125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orough commands undermined by citywide command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