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31A2-B8BD-40AC-8193-D340859B3219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1BBF-0709-4315-ABA5-E54F72BFD0CC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9880" y="884160"/>
            <a:ext cx="1752840" cy="140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Politician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Who are Politicians as Information Users?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wo role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ampaign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Decision Making (after elected)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What are The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Needs?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Learning about what voters wan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Learning about issues to make policy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in Campaigns: Polling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y is polling important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at do campaigns achieve from polling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What issues are important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What groups are for/against the politicia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What issues matter to which group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Who should their campaign target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How Polls are Conducted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ampling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Question Phrasing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in Decision Making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Politicians, once in office, must make decisions on many issue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Need detailed information on all those issue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Time consuming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Difficult when outside the politician’s area of expertise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Lobbying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Lobbyists represent special interest groups and try to influence policy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Provide information to politicians in office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an present experts, evidence, facts to support their side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Politicians rely on this information 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Lobbying Issu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airnes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an you pay a politician to vote your way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an you give him or her a gift to vote your way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an you take them on a trip to a meeting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an you buy them lunch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22:11:49Z</dcterms:created>
  <dc:creator>Jennifer Golbeck</dc:creator>
  <dc:description/>
  <dc:language>en-US</dc:language>
  <cp:lastModifiedBy>Jennifer Golbeck</cp:lastModifiedBy>
  <dcterms:modified xsi:type="dcterms:W3CDTF">2008-02-12T20:02:55Z</dcterms:modified>
  <cp:revision>3</cp:revision>
  <dc:subject/>
  <dc:title>Politicians</dc:title>
</cp:coreProperties>
</file>