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70BD-4028-4508-A124-3BCD30E179B4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963D-6992-4958-B68F-B7AB32BA6303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884160"/>
            <a:ext cx="175284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iteseer.ist.psu.edu/cachedpage/368196/6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mazon.com/MP3-Music-Download/b?ie=UTF8&amp;node=163856011" TargetMode="External"/><Relationship Id="rId2" Type="http://schemas.openxmlformats.org/officeDocument/2006/relationships/hyperlink" Target="http://www.billboard.com/bbcom/charts/yearend_chart_index.jsp" TargetMode="External"/><Relationship Id="rId3" Type="http://schemas.openxmlformats.org/officeDocument/2006/relationships/hyperlink" Target="http://www.geekspeakweekly.com/cowbell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Need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ynthesis, summarization, and simplification of complex idea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Aggregation of distributed data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Effective communication of information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Access to information sourc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sight into what information is authoritative, correct, trustworth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an lead to a need for personalization 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ocial Context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ntelligence Community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olitician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Vot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First Respond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ivilians in Disast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octo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Lawy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Teach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tudents/Familie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ommunication Need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telligence Community, First Responders, Civilians in Disaster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Many major challenges center around effective sharing and communication of information between users and from officials to citizens.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ommunicating information in a way children can understand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Influence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Doctor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rug Representative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Politician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Lobbyist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Voter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529s / Special Interest Group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rug Reps / Lobbyists / 529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at do these groups provide? 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y do they do it? 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y don’t we see similar groups influencing first responders, lawyers, teachers, or student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Provide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y to the users accept information from biased providers (like 529s, lobbyists, drug reps)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at is the parallel for other contexts, like patients, teachers, students/familie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How would you answer this question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1"/>
              </a:rPr>
              <a:t>How does google work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Challeng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Much information is too complex for non-experts to understand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E.g. a congressional representative who has a background in law trying to understand the need to fund a supercollider in a physics lab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ven for experts, there is too much information to keep up on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E.g. Doctors learning about new drugs and treatment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More Information Challenges 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ome information is hard to find because of lack of expertise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Users don’t even know what to look for because they don’t know it exist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.g. Put together an NSF grant applic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Other information is hard to handle because there is so much and it can conflic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.g. medical advice online from well intentioned but ignorant us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And More Information Challeng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Answers to some questions are not contained in one place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.g. Find an </a:t>
            </a: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1"/>
              </a:rPr>
              <a:t>MP3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of a song that was on the </a:t>
            </a: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2"/>
              </a:rPr>
              <a:t>Billboard top 10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that features a </a:t>
            </a: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3"/>
              </a:rPr>
              <a:t>cowbell.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Other questions have no direct answer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.g. For lawyers looking for legal precedents, there may be no case with exactly the same circumstances as the one they are working on 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3:53:22Z</dcterms:created>
  <dc:creator>Jennifer Golbeck</dc:creator>
  <dc:description/>
  <dc:language>en-US</dc:language>
  <cp:lastModifiedBy>Jennifer Golbeck</cp:lastModifiedBy>
  <dcterms:modified xsi:type="dcterms:W3CDTF">2008-04-29T15:34:21Z</dcterms:modified>
  <cp:revision>4</cp:revision>
  <dc:subject/>
  <dc:title>Synthesis</dc:title>
</cp:coreProperties>
</file>