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9536-83D8-4351-BF64-21A72A2BE740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C653-E035-44CA-867D-592D2D902F34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kFbYxrxbA8&amp;feature=related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.archive.org/collections/e2k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outube.com/watch?v=6bS627KVMCU&amp;feature=related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Vot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MoveOn.or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8240" y="1859040"/>
            <a:ext cx="418752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Voting Proces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Major attention to voting after all the problems of the 2000 elec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creased focus on accuracy, auditability, and recount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Electronic Vot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ewer voting error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aster coun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oftware erro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ardware erro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Voter confidence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amper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Vote By Mail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regon runs all elections by mai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Voter turnout is higher (87% in Oregon vs. 64% overall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ost is lower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Benefits and drawback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formation about candidat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formation about voting proces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(Information about policy making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About Candidat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Media (TV and radio, newspapers, internet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andidate sources (websites, campaign events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ther Organizations (PACs, 527s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ternet Coverage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tarting with 2000 Presidential election, and especially in 2004, the internet was a major focus of information presenta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e Internet Archive of 2000 candidate’s media websites and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http://web.archive.org/collections/e2k.htm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Organization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al Action Committees (PACs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527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PAC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ontributions from individuals is limited to $5,000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Cs are limited in the amount of money they can contribute to other organizations: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t most $5,000 per candidate per election.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t most $15,000 per political party per yea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t most $5,000 per PAC per yea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 spending limit outside candidate campaigns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ample PAC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ierra Club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emocracy for America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ove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Association of Trial Lawyers of America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ational Beer Wholesalers Associ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Godless Americans PAC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ational Organization for Wome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RPAC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527 Organization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527 refers to a section of the US tax code for tax exempt organizations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Cs and 527s actually both fall under Section 527, but 527s are not regulated by the Federal Election Commission and do not have the same contribution limits.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ay not make expenditures to directly advocate the election or defeat of any candidate for federal elective offic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wift Boat Veterans for Truth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8240" y="2214720"/>
            <a:ext cx="4187520" cy="31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0:27:09Z</dcterms:created>
  <dc:creator>Jennifer Golbeck</dc:creator>
  <dc:description/>
  <dc:language>en-US</dc:language>
  <cp:lastModifiedBy>Jennifer Golbeck</cp:lastModifiedBy>
  <dcterms:modified xsi:type="dcterms:W3CDTF">2008-02-19T18:00:17Z</dcterms:modified>
  <cp:revision>7</cp:revision>
  <dc:subject/>
  <dc:title>Voters</dc:title>
</cp:coreProperties>
</file>