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10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142B-2939-4800-802A-930F17221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/ path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st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cl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cl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 - connects many people (like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 - connects many nodes, like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 - if you delete  a bridge, the endpoints will lie in different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centric network for D, diame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centric network for D diameter 1.5 (All of D’s friends and the connections between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 Edges, 48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/(48*47) = 0.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i Mo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ed or Undirec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84C-8360-4D6F-91CE-292BA47C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EB5-14CA-4AC3-A607-BC108270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D91-3C30-4660-B47B-82DAC0C9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18B-A62D-4431-AF5E-E7E4BC2D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A08-CD6A-4C28-B4A1-EAA8F2EA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E66-2C8E-485E-9A29-3B5BA052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094-A07A-4D78-BAB9-85F20F41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BCF-F039-420C-A8CD-0D98C081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083-5A58-4409-8CEB-A9F3652A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A3A-1A09-41C4-94B5-4EB375AF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41E-93CE-48AB-B545-209A8AC2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1E1-4674-4305-9DFA-572B38DD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BCF6-773C-4C8E-9912-038C8B284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graphics8.nytimes.com/images/2007/02/26/movies/0227-cul-webTHANK.jpg" TargetMode="External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" y="-185760"/>
            <a:ext cx="9140760" cy="73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57600" y="106668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34290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57150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62160" y="2362320"/>
            <a:ext cx="1371600" cy="76176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x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54864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/>
          <p:nvPr/>
        </p:nvCxnSpPr>
        <p:spPr>
          <a:xfrm flipH="1">
            <a:off x="2647440" y="1856880"/>
            <a:ext cx="1696320" cy="90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1" name=""/>
          <p:cNvCxnSpPr/>
          <p:nvPr/>
        </p:nvCxnSpPr>
        <p:spPr>
          <a:xfrm>
            <a:off x="1961640" y="3138480"/>
            <a:ext cx="567720" cy="2334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79" idx="0"/>
            <a:endCxn id="175" idx="2"/>
          </p:cNvCxnSpPr>
          <p:nvPr/>
        </p:nvCxnSpPr>
        <p:spPr>
          <a:xfrm flipV="1">
            <a:off x="2514600" y="1842840"/>
            <a:ext cx="1829520" cy="3629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3" name=""/>
          <p:cNvCxnSpPr>
            <a:stCxn id="179" idx="0"/>
            <a:endCxn id="176" idx="1"/>
          </p:cNvCxnSpPr>
          <p:nvPr/>
        </p:nvCxnSpPr>
        <p:spPr>
          <a:xfrm flipV="1">
            <a:off x="2514240" y="3809160"/>
            <a:ext cx="3948840" cy="166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4" name=""/>
          <p:cNvCxnSpPr>
            <a:stCxn id="179" idx="3"/>
            <a:endCxn id="177" idx="1"/>
          </p:cNvCxnSpPr>
          <p:nvPr/>
        </p:nvCxnSpPr>
        <p:spPr>
          <a:xfrm>
            <a:off x="3214800" y="5866920"/>
            <a:ext cx="19530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5565240" y="38088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ollo 13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79" idx="0"/>
            <a:endCxn id="175" idx="2"/>
          </p:cNvCxnSpPr>
          <p:nvPr/>
        </p:nvCxnSpPr>
        <p:spPr>
          <a:xfrm flipV="1">
            <a:off x="2514600" y="1842840"/>
            <a:ext cx="1829520" cy="36295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29200" y="1052640"/>
            <a:ext cx="1511280" cy="13460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840800" y="3419640"/>
            <a:ext cx="1193760" cy="1574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541920" y="5029200"/>
            <a:ext cx="1257480" cy="1600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58880" y="5087880"/>
            <a:ext cx="1079280" cy="1612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42920" y="2359080"/>
            <a:ext cx="1117440" cy="1485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73520" y="1062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947240" y="1842840"/>
            <a:ext cx="4515840" cy="3857760"/>
            <a:chOff x="1947240" y="1842840"/>
            <a:chExt cx="4515840" cy="3857760"/>
          </a:xfrm>
        </p:grpSpPr>
        <p:cxnSp>
          <p:nvCxnSpPr>
            <p:cNvPr id="194" name=""/>
            <p:cNvCxnSpPr/>
            <p:nvPr/>
          </p:nvCxnSpPr>
          <p:spPr>
            <a:xfrm>
              <a:off x="4343040" y="1842840"/>
              <a:ext cx="1524600" cy="38581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95" name=""/>
            <p:cNvCxnSpPr/>
            <p:nvPr/>
          </p:nvCxnSpPr>
          <p:spPr>
            <a:xfrm>
              <a:off x="4343040" y="1842840"/>
              <a:ext cx="2120040" cy="19674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96" name=""/>
            <p:cNvCxnSpPr/>
            <p:nvPr/>
          </p:nvCxnSpPr>
          <p:spPr>
            <a:xfrm flipV="1">
              <a:off x="5867280" y="3809520"/>
              <a:ext cx="596160" cy="1891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97" name=""/>
            <p:cNvCxnSpPr/>
            <p:nvPr/>
          </p:nvCxnSpPr>
          <p:spPr>
            <a:xfrm flipH="1" flipV="1">
              <a:off x="1947240" y="3137760"/>
              <a:ext cx="3920040" cy="25628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98" name=""/>
            <p:cNvCxnSpPr/>
            <p:nvPr/>
          </p:nvCxnSpPr>
          <p:spPr>
            <a:xfrm>
              <a:off x="1947600" y="3138120"/>
              <a:ext cx="4515480" cy="6721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199" name=""/>
          <p:cNvSpPr/>
          <p:nvPr/>
        </p:nvSpPr>
        <p:spPr>
          <a:xfrm>
            <a:off x="174960" y="46656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Possible Edge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: 5/10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600280" y="6732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9240" y="22590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0760" y="182736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45320" y="37530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29160" y="52452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37200" y="5229360"/>
            <a:ext cx="49248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81720" y="382896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08640" y="152892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1" idx="0"/>
            <a:endCxn id="200" idx="4"/>
          </p:cNvCxnSpPr>
          <p:nvPr/>
        </p:nvCxnSpPr>
        <p:spPr>
          <a:xfrm flipV="1">
            <a:off x="2534760" y="1164960"/>
            <a:ext cx="31176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200" idx="4"/>
            <a:endCxn id="202" idx="0"/>
          </p:cNvCxnSpPr>
          <p:nvPr/>
        </p:nvCxnSpPr>
        <p:spPr>
          <a:xfrm>
            <a:off x="2846520" y="1164960"/>
            <a:ext cx="9612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202" idx="3"/>
            <a:endCxn id="201" idx="6"/>
          </p:cNvCxnSpPr>
          <p:nvPr/>
        </p:nvCxnSpPr>
        <p:spPr>
          <a:xfrm flipH="1">
            <a:off x="2780640" y="2247480"/>
            <a:ext cx="85140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202" idx="4"/>
            <a:endCxn id="203" idx="1"/>
          </p:cNvCxnSpPr>
          <p:nvPr/>
        </p:nvCxnSpPr>
        <p:spPr>
          <a:xfrm>
            <a:off x="3807000" y="2319480"/>
            <a:ext cx="2110320" cy="150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" name=""/>
          <p:cNvCxnSpPr>
            <a:stCxn id="203" idx="4"/>
            <a:endCxn id="204" idx="0"/>
          </p:cNvCxnSpPr>
          <p:nvPr/>
        </p:nvCxnSpPr>
        <p:spPr>
          <a:xfrm flipH="1">
            <a:off x="5674680" y="4245120"/>
            <a:ext cx="41652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4" idx="6"/>
            <a:endCxn id="205" idx="2"/>
          </p:cNvCxnSpPr>
          <p:nvPr/>
        </p:nvCxnSpPr>
        <p:spPr>
          <a:xfrm flipV="1">
            <a:off x="5921280" y="5474880"/>
            <a:ext cx="101664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" name=""/>
          <p:cNvCxnSpPr>
            <a:stCxn id="205" idx="0"/>
            <a:endCxn id="206" idx="4"/>
          </p:cNvCxnSpPr>
          <p:nvPr/>
        </p:nvCxnSpPr>
        <p:spPr>
          <a:xfrm flipV="1">
            <a:off x="7183080" y="4320360"/>
            <a:ext cx="345240" cy="90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06" idx="2"/>
            <a:endCxn id="203" idx="6"/>
          </p:cNvCxnSpPr>
          <p:nvPr/>
        </p:nvCxnSpPr>
        <p:spPr>
          <a:xfrm flipH="1" flipV="1">
            <a:off x="6336720" y="3998880"/>
            <a:ext cx="945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203" idx="5"/>
            <a:endCxn id="205" idx="1"/>
          </p:cNvCxnSpPr>
          <p:nvPr/>
        </p:nvCxnSpPr>
        <p:spPr>
          <a:xfrm>
            <a:off x="6265800" y="4173120"/>
            <a:ext cx="743760" cy="112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04" idx="7"/>
            <a:endCxn id="206" idx="3"/>
          </p:cNvCxnSpPr>
          <p:nvPr/>
        </p:nvCxnSpPr>
        <p:spPr>
          <a:xfrm flipV="1">
            <a:off x="5850000" y="4249080"/>
            <a:ext cx="15040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06" idx="0"/>
            <a:endCxn id="207" idx="5"/>
          </p:cNvCxnSpPr>
          <p:nvPr/>
        </p:nvCxnSpPr>
        <p:spPr>
          <a:xfrm flipH="1" flipV="1">
            <a:off x="6729120" y="1948680"/>
            <a:ext cx="799200" cy="1880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07" idx="1"/>
            <a:endCxn id="200" idx="6"/>
          </p:cNvCxnSpPr>
          <p:nvPr/>
        </p:nvCxnSpPr>
        <p:spPr>
          <a:xfrm flipH="1" flipV="1">
            <a:off x="3091680" y="918720"/>
            <a:ext cx="3288600" cy="681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0" name=""/>
          <p:cNvSpPr/>
          <p:nvPr/>
        </p:nvSpPr>
        <p:spPr>
          <a:xfrm>
            <a:off x="347760" y="3151080"/>
            <a:ext cx="3754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: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: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Possible Edges: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2440" y="4721400"/>
            <a:ext cx="329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Nodes * (# Nodes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1000" y="563256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*7)/2 = 56/2 =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2440" y="6145200"/>
            <a:ext cx="30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: 12/28 = 0.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587920" y="3975120"/>
            <a:ext cx="1866960" cy="1447920"/>
          </a:xfrm>
          <a:custGeom>
            <a:avLst/>
            <a:gdLst/>
            <a:ahLst/>
            <a:rect l="l" t="t" r="r" b="b"/>
            <a:pathLst>
              <a:path w="1176" h="912">
                <a:moveTo>
                  <a:pt x="104" y="894"/>
                </a:moveTo>
                <a:lnTo>
                  <a:pt x="1176" y="94"/>
                </a:lnTo>
                <a:lnTo>
                  <a:pt x="1167" y="37"/>
                </a:lnTo>
                <a:lnTo>
                  <a:pt x="1082" y="65"/>
                </a:lnTo>
                <a:lnTo>
                  <a:pt x="414" y="0"/>
                </a:lnTo>
                <a:lnTo>
                  <a:pt x="329" y="131"/>
                </a:lnTo>
                <a:lnTo>
                  <a:pt x="0" y="912"/>
                </a:lnTo>
                <a:lnTo>
                  <a:pt x="104" y="8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86600" y="4003560"/>
            <a:ext cx="1374840" cy="1479600"/>
          </a:xfrm>
          <a:custGeom>
            <a:avLst/>
            <a:gdLst/>
            <a:ahLst/>
            <a:rect l="l" t="t" r="r" b="b"/>
            <a:pathLst>
              <a:path w="866" h="932">
                <a:moveTo>
                  <a:pt x="0" y="0"/>
                </a:moveTo>
                <a:lnTo>
                  <a:pt x="612" y="932"/>
                </a:lnTo>
                <a:lnTo>
                  <a:pt x="866" y="85"/>
                </a:lnTo>
                <a:lnTo>
                  <a:pt x="819" y="19"/>
                </a:lnTo>
                <a:lnTo>
                  <a:pt x="706" y="47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4640" y="4084560"/>
            <a:ext cx="1971720" cy="1405080"/>
          </a:xfrm>
          <a:custGeom>
            <a:avLst/>
            <a:gdLst/>
            <a:ahLst/>
            <a:rect l="l" t="t" r="r" b="b"/>
            <a:pathLst>
              <a:path w="1242" h="885">
                <a:moveTo>
                  <a:pt x="1242" y="0"/>
                </a:moveTo>
                <a:lnTo>
                  <a:pt x="0" y="885"/>
                </a:lnTo>
                <a:lnTo>
                  <a:pt x="960" y="866"/>
                </a:lnTo>
                <a:lnTo>
                  <a:pt x="1242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29320" y="4114800"/>
            <a:ext cx="1493640" cy="1389240"/>
          </a:xfrm>
          <a:custGeom>
            <a:avLst/>
            <a:gdLst/>
            <a:ahLst/>
            <a:rect l="l" t="t" r="r" b="b"/>
            <a:pathLst>
              <a:path w="941" h="875">
                <a:moveTo>
                  <a:pt x="0" y="856"/>
                </a:moveTo>
                <a:lnTo>
                  <a:pt x="348" y="0"/>
                </a:lnTo>
                <a:lnTo>
                  <a:pt x="941" y="875"/>
                </a:lnTo>
                <a:lnTo>
                  <a:pt x="0" y="85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00280" y="6732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9240" y="22590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60760" y="182736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45320" y="37530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15120" y="526104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7200" y="5229360"/>
            <a:ext cx="49248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281720" y="382896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08640" y="152892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29" idx="0"/>
            <a:endCxn id="228" idx="4"/>
          </p:cNvCxnSpPr>
          <p:nvPr/>
        </p:nvCxnSpPr>
        <p:spPr>
          <a:xfrm flipV="1">
            <a:off x="2534760" y="1164960"/>
            <a:ext cx="31176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8" idx="4"/>
            <a:endCxn id="230" idx="0"/>
          </p:cNvCxnSpPr>
          <p:nvPr/>
        </p:nvCxnSpPr>
        <p:spPr>
          <a:xfrm>
            <a:off x="2846520" y="1164960"/>
            <a:ext cx="9612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30" idx="3"/>
            <a:endCxn id="229" idx="6"/>
          </p:cNvCxnSpPr>
          <p:nvPr/>
        </p:nvCxnSpPr>
        <p:spPr>
          <a:xfrm flipH="1">
            <a:off x="2780640" y="2247480"/>
            <a:ext cx="85140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30" idx="4"/>
            <a:endCxn id="231" idx="1"/>
          </p:cNvCxnSpPr>
          <p:nvPr/>
        </p:nvCxnSpPr>
        <p:spPr>
          <a:xfrm>
            <a:off x="3807000" y="2319480"/>
            <a:ext cx="2110320" cy="150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31" idx="4"/>
            <a:endCxn id="232" idx="0"/>
          </p:cNvCxnSpPr>
          <p:nvPr/>
        </p:nvCxnSpPr>
        <p:spPr>
          <a:xfrm flipH="1">
            <a:off x="5660280" y="4245120"/>
            <a:ext cx="430920" cy="101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" name=""/>
          <p:cNvCxnSpPr>
            <a:stCxn id="232" idx="6"/>
            <a:endCxn id="233" idx="2"/>
          </p:cNvCxnSpPr>
          <p:nvPr/>
        </p:nvCxnSpPr>
        <p:spPr>
          <a:xfrm flipV="1">
            <a:off x="5906880" y="5474880"/>
            <a:ext cx="1030680" cy="3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" name=""/>
          <p:cNvCxnSpPr>
            <a:stCxn id="233" idx="0"/>
            <a:endCxn id="234" idx="4"/>
          </p:cNvCxnSpPr>
          <p:nvPr/>
        </p:nvCxnSpPr>
        <p:spPr>
          <a:xfrm flipV="1">
            <a:off x="7183080" y="4320360"/>
            <a:ext cx="345240" cy="90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34" idx="2"/>
            <a:endCxn id="231" idx="6"/>
          </p:cNvCxnSpPr>
          <p:nvPr/>
        </p:nvCxnSpPr>
        <p:spPr>
          <a:xfrm flipH="1" flipV="1">
            <a:off x="6336720" y="3998880"/>
            <a:ext cx="945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1" idx="5"/>
            <a:endCxn id="233" idx="1"/>
          </p:cNvCxnSpPr>
          <p:nvPr/>
        </p:nvCxnSpPr>
        <p:spPr>
          <a:xfrm>
            <a:off x="6265800" y="4173120"/>
            <a:ext cx="743760" cy="112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stCxn id="232" idx="7"/>
            <a:endCxn id="234" idx="3"/>
          </p:cNvCxnSpPr>
          <p:nvPr/>
        </p:nvCxnSpPr>
        <p:spPr>
          <a:xfrm flipV="1">
            <a:off x="5835600" y="4249080"/>
            <a:ext cx="1518480" cy="108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34" idx="0"/>
            <a:endCxn id="235" idx="5"/>
          </p:cNvCxnSpPr>
          <p:nvPr/>
        </p:nvCxnSpPr>
        <p:spPr>
          <a:xfrm flipH="1" flipV="1">
            <a:off x="6729120" y="1948680"/>
            <a:ext cx="799200" cy="1880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35" idx="1"/>
            <a:endCxn id="228" idx="6"/>
          </p:cNvCxnSpPr>
          <p:nvPr/>
        </p:nvCxnSpPr>
        <p:spPr>
          <a:xfrm flipH="1" flipV="1">
            <a:off x="3091680" y="918720"/>
            <a:ext cx="3288600" cy="681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48" name=""/>
          <p:cNvGrpSpPr/>
          <p:nvPr/>
        </p:nvGrpSpPr>
        <p:grpSpPr>
          <a:xfrm>
            <a:off x="2534760" y="1164960"/>
            <a:ext cx="4993200" cy="4341960"/>
            <a:chOff x="2534760" y="1164960"/>
            <a:chExt cx="4993200" cy="4341960"/>
          </a:xfrm>
        </p:grpSpPr>
        <p:cxnSp>
          <p:nvCxnSpPr>
            <p:cNvPr id="249" name=""/>
            <p:cNvCxnSpPr>
              <a:stCxn id="229" idx="0"/>
              <a:endCxn id="228" idx="4"/>
            </p:cNvCxnSpPr>
            <p:nvPr/>
          </p:nvCxnSpPr>
          <p:spPr>
            <a:xfrm flipV="1">
              <a:off x="2534760" y="1164960"/>
              <a:ext cx="311760" cy="109440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  <p:cxnSp>
          <p:nvCxnSpPr>
            <p:cNvPr id="250" name=""/>
            <p:cNvCxnSpPr>
              <a:stCxn id="228" idx="4"/>
              <a:endCxn id="230" idx="0"/>
            </p:cNvCxnSpPr>
            <p:nvPr/>
          </p:nvCxnSpPr>
          <p:spPr>
            <a:xfrm>
              <a:off x="2846520" y="1164960"/>
              <a:ext cx="961200" cy="66276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  <p:cxnSp>
          <p:nvCxnSpPr>
            <p:cNvPr id="251" name=""/>
            <p:cNvCxnSpPr>
              <a:stCxn id="230" idx="3"/>
              <a:endCxn id="229" idx="6"/>
            </p:cNvCxnSpPr>
            <p:nvPr/>
          </p:nvCxnSpPr>
          <p:spPr>
            <a:xfrm flipH="1">
              <a:off x="2780640" y="2247480"/>
              <a:ext cx="851400" cy="25812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  <p:cxnSp>
          <p:nvCxnSpPr>
            <p:cNvPr id="252" name=""/>
            <p:cNvCxnSpPr>
              <a:stCxn id="231" idx="4"/>
              <a:endCxn id="232" idx="0"/>
            </p:cNvCxnSpPr>
            <p:nvPr/>
          </p:nvCxnSpPr>
          <p:spPr>
            <a:xfrm flipH="1">
              <a:off x="5660280" y="4245120"/>
              <a:ext cx="430920" cy="101664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  <p:cxnSp>
          <p:nvCxnSpPr>
            <p:cNvPr id="253" name=""/>
            <p:cNvCxnSpPr>
              <a:stCxn id="232" idx="6"/>
              <a:endCxn id="233" idx="2"/>
            </p:cNvCxnSpPr>
            <p:nvPr/>
          </p:nvCxnSpPr>
          <p:spPr>
            <a:xfrm flipV="1">
              <a:off x="5906880" y="5474880"/>
              <a:ext cx="1030680" cy="3240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  <p:cxnSp>
          <p:nvCxnSpPr>
            <p:cNvPr id="254" name=""/>
            <p:cNvCxnSpPr>
              <a:stCxn id="233" idx="1"/>
              <a:endCxn id="231" idx="5"/>
            </p:cNvCxnSpPr>
            <p:nvPr/>
          </p:nvCxnSpPr>
          <p:spPr>
            <a:xfrm flipH="1" flipV="1">
              <a:off x="6265440" y="4172760"/>
              <a:ext cx="743760" cy="112788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  <p:cxnSp>
          <p:nvCxnSpPr>
            <p:cNvPr id="255" name=""/>
            <p:cNvCxnSpPr>
              <a:stCxn id="232" idx="7"/>
              <a:endCxn id="234" idx="3"/>
            </p:cNvCxnSpPr>
            <p:nvPr/>
          </p:nvCxnSpPr>
          <p:spPr>
            <a:xfrm flipV="1">
              <a:off x="5835600" y="4249080"/>
              <a:ext cx="1518480" cy="108324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  <p:cxnSp>
          <p:nvCxnSpPr>
            <p:cNvPr id="256" name=""/>
            <p:cNvCxnSpPr>
              <a:stCxn id="233" idx="0"/>
              <a:endCxn id="234" idx="4"/>
            </p:cNvCxnSpPr>
            <p:nvPr/>
          </p:nvCxnSpPr>
          <p:spPr>
            <a:xfrm flipV="1">
              <a:off x="7183080" y="4320360"/>
              <a:ext cx="345240" cy="90900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  <p:cxnSp>
          <p:nvCxnSpPr>
            <p:cNvPr id="257" name=""/>
            <p:cNvCxnSpPr>
              <a:stCxn id="234" idx="2"/>
              <a:endCxn id="231" idx="6"/>
            </p:cNvCxnSpPr>
            <p:nvPr/>
          </p:nvCxnSpPr>
          <p:spPr>
            <a:xfrm flipH="1" flipV="1">
              <a:off x="6336720" y="3998880"/>
              <a:ext cx="945000" cy="7668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</p:grpSp>
      <p:cxnSp>
        <p:nvCxnSpPr>
          <p:cNvPr id="258" name=""/>
          <p:cNvCxnSpPr>
            <a:stCxn id="228" idx="6"/>
            <a:endCxn id="235" idx="1"/>
          </p:cNvCxnSpPr>
          <p:nvPr/>
        </p:nvCxnSpPr>
        <p:spPr>
          <a:xfrm>
            <a:off x="3092040" y="919080"/>
            <a:ext cx="3288600" cy="681840"/>
          </a:xfrm>
          <a:prstGeom prst="straightConnector1">
            <a:avLst/>
          </a:prstGeom>
          <a:ln w="76320">
            <a:solidFill>
              <a:srgbClr val="ef0702"/>
            </a:solidFill>
            <a:miter/>
          </a:ln>
        </p:spPr>
      </p:cxnSp>
      <p:cxnSp>
        <p:nvCxnSpPr>
          <p:cNvPr id="259" name=""/>
          <p:cNvCxnSpPr>
            <a:stCxn id="235" idx="5"/>
            <a:endCxn id="234" idx="0"/>
          </p:cNvCxnSpPr>
          <p:nvPr/>
        </p:nvCxnSpPr>
        <p:spPr>
          <a:xfrm>
            <a:off x="6729480" y="1949040"/>
            <a:ext cx="799200" cy="1880280"/>
          </a:xfrm>
          <a:prstGeom prst="straightConnector1">
            <a:avLst/>
          </a:prstGeom>
          <a:ln w="76320">
            <a:solidFill>
              <a:srgbClr val="ef0702"/>
            </a:solidFill>
            <a:miter/>
          </a:ln>
        </p:spPr>
      </p:cxnSp>
      <p:cxnSp>
        <p:nvCxnSpPr>
          <p:cNvPr id="260" name=""/>
          <p:cNvCxnSpPr>
            <a:stCxn id="234" idx="4"/>
            <a:endCxn id="233" idx="0"/>
          </p:cNvCxnSpPr>
          <p:nvPr/>
        </p:nvCxnSpPr>
        <p:spPr>
          <a:xfrm flipH="1">
            <a:off x="7182720" y="4320720"/>
            <a:ext cx="345240" cy="909000"/>
          </a:xfrm>
          <a:prstGeom prst="straightConnector1">
            <a:avLst/>
          </a:prstGeom>
          <a:ln w="76320">
            <a:solidFill>
              <a:srgbClr val="ef0702"/>
            </a:solidFill>
            <a:miter/>
          </a:ln>
        </p:spPr>
      </p:cxnSp>
      <p:cxnSp>
        <p:nvCxnSpPr>
          <p:cNvPr id="261" name=""/>
          <p:cNvCxnSpPr>
            <a:stCxn id="228" idx="4"/>
            <a:endCxn id="230" idx="0"/>
          </p:cNvCxnSpPr>
          <p:nvPr/>
        </p:nvCxnSpPr>
        <p:spPr>
          <a:xfrm>
            <a:off x="2846520" y="1164960"/>
            <a:ext cx="961200" cy="662760"/>
          </a:xfrm>
          <a:prstGeom prst="straightConnector1">
            <a:avLst/>
          </a:prstGeom>
          <a:ln w="76320">
            <a:solidFill>
              <a:srgbClr val="ef0702"/>
            </a:solidFill>
            <a:miter/>
          </a:ln>
        </p:spPr>
      </p:cxnSp>
      <p:cxnSp>
        <p:nvCxnSpPr>
          <p:cNvPr id="262" name=""/>
          <p:cNvCxnSpPr>
            <a:stCxn id="230" idx="4"/>
            <a:endCxn id="231" idx="1"/>
          </p:cNvCxnSpPr>
          <p:nvPr/>
        </p:nvCxnSpPr>
        <p:spPr>
          <a:xfrm>
            <a:off x="3807000" y="2319480"/>
            <a:ext cx="2110320" cy="1505520"/>
          </a:xfrm>
          <a:prstGeom prst="straightConnector1">
            <a:avLst/>
          </a:prstGeom>
          <a:ln w="76320">
            <a:solidFill>
              <a:srgbClr val="ef0702"/>
            </a:solidFill>
            <a:miter/>
          </a:ln>
        </p:spPr>
      </p:cxnSp>
      <p:cxnSp>
        <p:nvCxnSpPr>
          <p:cNvPr id="263" name=""/>
          <p:cNvCxnSpPr>
            <a:stCxn id="231" idx="5"/>
            <a:endCxn id="233" idx="1"/>
          </p:cNvCxnSpPr>
          <p:nvPr/>
        </p:nvCxnSpPr>
        <p:spPr>
          <a:xfrm>
            <a:off x="6265800" y="4173120"/>
            <a:ext cx="743760" cy="1127880"/>
          </a:xfrm>
          <a:prstGeom prst="straightConnector1">
            <a:avLst/>
          </a:prstGeom>
          <a:ln w="76320">
            <a:solidFill>
              <a:srgbClr val="ef0702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657600" y="106668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34290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57150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62160" y="2362320"/>
            <a:ext cx="1371600" cy="76176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x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54864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/>
          <p:nvPr/>
        </p:nvCxnSpPr>
        <p:spPr>
          <a:xfrm flipH="1">
            <a:off x="2647440" y="1856880"/>
            <a:ext cx="1696320" cy="90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0" name=""/>
          <p:cNvCxnSpPr/>
          <p:nvPr/>
        </p:nvCxnSpPr>
        <p:spPr>
          <a:xfrm>
            <a:off x="1961640" y="3138480"/>
            <a:ext cx="567720" cy="2334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68" idx="0"/>
            <a:endCxn id="264" idx="2"/>
          </p:cNvCxnSpPr>
          <p:nvPr/>
        </p:nvCxnSpPr>
        <p:spPr>
          <a:xfrm flipV="1">
            <a:off x="2514600" y="1842840"/>
            <a:ext cx="1829520" cy="3629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68" idx="0"/>
            <a:endCxn id="265" idx="1"/>
          </p:cNvCxnSpPr>
          <p:nvPr/>
        </p:nvCxnSpPr>
        <p:spPr>
          <a:xfrm flipV="1">
            <a:off x="2514240" y="3809160"/>
            <a:ext cx="3948840" cy="166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68" idx="3"/>
            <a:endCxn id="266" idx="1"/>
          </p:cNvCxnSpPr>
          <p:nvPr/>
        </p:nvCxnSpPr>
        <p:spPr>
          <a:xfrm>
            <a:off x="3214800" y="5866920"/>
            <a:ext cx="19530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65240" y="38088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ollo 13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"/>
          <p:cNvCxnSpPr>
            <a:stCxn id="268" idx="0"/>
            <a:endCxn id="264" idx="2"/>
          </p:cNvCxnSpPr>
          <p:nvPr/>
        </p:nvCxnSpPr>
        <p:spPr>
          <a:xfrm flipV="1">
            <a:off x="2514600" y="1842840"/>
            <a:ext cx="1829520" cy="36295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029200" y="1052640"/>
            <a:ext cx="1511280" cy="13460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840800" y="3419640"/>
            <a:ext cx="1193760" cy="15746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541920" y="5029200"/>
            <a:ext cx="1257480" cy="1600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758880" y="5087880"/>
            <a:ext cx="1079280" cy="1612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142920" y="2359080"/>
            <a:ext cx="11174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08520" y="29480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24080" y="22194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43080" y="127944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51600" y="159228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50040" y="298116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87800" y="4414680"/>
            <a:ext cx="62892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41760" y="483408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32160" y="434016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03480" y="314496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37120" y="12780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"/>
          <p:cNvCxnSpPr>
            <a:stCxn id="281" idx="0"/>
            <a:endCxn id="290" idx="4"/>
          </p:cNvCxnSpPr>
          <p:nvPr/>
        </p:nvCxnSpPr>
        <p:spPr>
          <a:xfrm flipV="1">
            <a:off x="4222440" y="1905840"/>
            <a:ext cx="229320" cy="104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" name=""/>
          <p:cNvCxnSpPr>
            <a:stCxn id="281" idx="0"/>
            <a:endCxn id="283" idx="5"/>
          </p:cNvCxnSpPr>
          <p:nvPr/>
        </p:nvCxnSpPr>
        <p:spPr>
          <a:xfrm flipH="1" flipV="1">
            <a:off x="3579840" y="1815840"/>
            <a:ext cx="6433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281" idx="1"/>
            <a:endCxn id="282" idx="5"/>
          </p:cNvCxnSpPr>
          <p:nvPr/>
        </p:nvCxnSpPr>
        <p:spPr>
          <a:xfrm flipH="1" flipV="1">
            <a:off x="2760480" y="2755440"/>
            <a:ext cx="1240560" cy="28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4" name=""/>
          <p:cNvCxnSpPr>
            <a:stCxn id="281" idx="2"/>
            <a:endCxn id="289" idx="6"/>
          </p:cNvCxnSpPr>
          <p:nvPr/>
        </p:nvCxnSpPr>
        <p:spPr>
          <a:xfrm flipH="1">
            <a:off x="2731680" y="3261960"/>
            <a:ext cx="117720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5" name=""/>
          <p:cNvCxnSpPr>
            <a:stCxn id="281" idx="3"/>
            <a:endCxn id="288" idx="7"/>
          </p:cNvCxnSpPr>
          <p:nvPr/>
        </p:nvCxnSpPr>
        <p:spPr>
          <a:xfrm flipH="1">
            <a:off x="2967840" y="3484080"/>
            <a:ext cx="1032840" cy="948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" name=""/>
          <p:cNvCxnSpPr>
            <a:stCxn id="281" idx="4"/>
            <a:endCxn id="287" idx="0"/>
          </p:cNvCxnSpPr>
          <p:nvPr/>
        </p:nvCxnSpPr>
        <p:spPr>
          <a:xfrm flipH="1">
            <a:off x="3955680" y="3576240"/>
            <a:ext cx="267120" cy="125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" name=""/>
          <p:cNvCxnSpPr>
            <a:stCxn id="281" idx="5"/>
            <a:endCxn id="286" idx="1"/>
          </p:cNvCxnSpPr>
          <p:nvPr/>
        </p:nvCxnSpPr>
        <p:spPr>
          <a:xfrm>
            <a:off x="4444920" y="3484440"/>
            <a:ext cx="635760" cy="10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81" idx="6"/>
            <a:endCxn id="285" idx="2"/>
          </p:cNvCxnSpPr>
          <p:nvPr/>
        </p:nvCxnSpPr>
        <p:spPr>
          <a:xfrm>
            <a:off x="4537080" y="3261960"/>
            <a:ext cx="9136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81" idx="7"/>
            <a:endCxn id="284" idx="3"/>
          </p:cNvCxnSpPr>
          <p:nvPr/>
        </p:nvCxnSpPr>
        <p:spPr>
          <a:xfrm flipV="1">
            <a:off x="4444920" y="2128320"/>
            <a:ext cx="79920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4392720" y="1429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37200" y="7812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37280" y="30225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19120" y="93024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47720" y="3201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81160" y="538308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05280" y="611496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35640" y="59054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282" idx="1"/>
            <a:endCxn id="303" idx="5"/>
          </p:cNvCxnSpPr>
          <p:nvPr/>
        </p:nvCxnSpPr>
        <p:spPr>
          <a:xfrm flipH="1" flipV="1">
            <a:off x="1955160" y="1466640"/>
            <a:ext cx="361080" cy="84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289" idx="2"/>
            <a:endCxn id="304" idx="6"/>
          </p:cNvCxnSpPr>
          <p:nvPr/>
        </p:nvCxnSpPr>
        <p:spPr>
          <a:xfrm flipH="1">
            <a:off x="1376280" y="3458880"/>
            <a:ext cx="72756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88" idx="3"/>
            <a:endCxn id="305" idx="7"/>
          </p:cNvCxnSpPr>
          <p:nvPr/>
        </p:nvCxnSpPr>
        <p:spPr>
          <a:xfrm flipH="1">
            <a:off x="1717200" y="4876920"/>
            <a:ext cx="80712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287" idx="4"/>
            <a:endCxn id="306" idx="7"/>
          </p:cNvCxnSpPr>
          <p:nvPr/>
        </p:nvCxnSpPr>
        <p:spPr>
          <a:xfrm flipH="1">
            <a:off x="3540960" y="5462640"/>
            <a:ext cx="41508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288" idx="3"/>
            <a:endCxn id="306" idx="0"/>
          </p:cNvCxnSpPr>
          <p:nvPr/>
        </p:nvCxnSpPr>
        <p:spPr>
          <a:xfrm>
            <a:off x="2523960" y="4876560"/>
            <a:ext cx="796320" cy="123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286" idx="5"/>
            <a:endCxn id="307" idx="1"/>
          </p:cNvCxnSpPr>
          <p:nvPr/>
        </p:nvCxnSpPr>
        <p:spPr>
          <a:xfrm>
            <a:off x="5524200" y="4951440"/>
            <a:ext cx="903960" cy="104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290" idx="0"/>
            <a:endCxn id="300" idx="4"/>
          </p:cNvCxnSpPr>
          <p:nvPr/>
        </p:nvCxnSpPr>
        <p:spPr>
          <a:xfrm flipV="1">
            <a:off x="4451400" y="771120"/>
            <a:ext cx="25596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284" idx="7"/>
            <a:endCxn id="301" idx="3"/>
          </p:cNvCxnSpPr>
          <p:nvPr/>
        </p:nvCxnSpPr>
        <p:spPr>
          <a:xfrm flipV="1">
            <a:off x="5688000" y="1316880"/>
            <a:ext cx="44208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" name=""/>
          <p:cNvCxnSpPr>
            <a:stCxn id="285" idx="6"/>
            <a:endCxn id="302" idx="2"/>
          </p:cNvCxnSpPr>
          <p:nvPr/>
        </p:nvCxnSpPr>
        <p:spPr>
          <a:xfrm>
            <a:off x="6078240" y="3295800"/>
            <a:ext cx="95940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7" name=""/>
          <p:cNvCxnSpPr>
            <a:stCxn id="285" idx="6"/>
            <a:endCxn id="301" idx="4"/>
          </p:cNvCxnSpPr>
          <p:nvPr/>
        </p:nvCxnSpPr>
        <p:spPr>
          <a:xfrm flipV="1">
            <a:off x="6078600" y="1409040"/>
            <a:ext cx="273240" cy="1886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76320" y="21258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2240" y="139716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11240" y="4572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46200" y="1128600"/>
            <a:ext cx="62892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98640" y="12193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35924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8400" y="271152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0040" y="35179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1280" y="2322360"/>
            <a:ext cx="62892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04920" y="4557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18" idx="0"/>
            <a:endCxn id="327" idx="4"/>
          </p:cNvCxnSpPr>
          <p:nvPr/>
        </p:nvCxnSpPr>
        <p:spPr>
          <a:xfrm flipV="1">
            <a:off x="2190240" y="1083600"/>
            <a:ext cx="229320" cy="104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8" idx="0"/>
            <a:endCxn id="320" idx="5"/>
          </p:cNvCxnSpPr>
          <p:nvPr/>
        </p:nvCxnSpPr>
        <p:spPr>
          <a:xfrm flipH="1" flipV="1">
            <a:off x="1547640" y="992880"/>
            <a:ext cx="643320" cy="113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18" idx="2"/>
            <a:endCxn id="319" idx="5"/>
          </p:cNvCxnSpPr>
          <p:nvPr/>
        </p:nvCxnSpPr>
        <p:spPr>
          <a:xfrm flipH="1" flipV="1">
            <a:off x="728640" y="1933200"/>
            <a:ext cx="114804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8" idx="2"/>
            <a:endCxn id="326" idx="6"/>
          </p:cNvCxnSpPr>
          <p:nvPr/>
        </p:nvCxnSpPr>
        <p:spPr>
          <a:xfrm flipH="1">
            <a:off x="699480" y="2439720"/>
            <a:ext cx="117684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" name=""/>
          <p:cNvCxnSpPr>
            <a:stCxn id="318" idx="2"/>
            <a:endCxn id="325" idx="7"/>
          </p:cNvCxnSpPr>
          <p:nvPr/>
        </p:nvCxnSpPr>
        <p:spPr>
          <a:xfrm flipH="1">
            <a:off x="1036440" y="2440080"/>
            <a:ext cx="840240" cy="117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18" idx="2"/>
            <a:endCxn id="324" idx="7"/>
          </p:cNvCxnSpPr>
          <p:nvPr/>
        </p:nvCxnSpPr>
        <p:spPr>
          <a:xfrm flipH="1">
            <a:off x="1234440" y="2440080"/>
            <a:ext cx="6418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318" idx="5"/>
            <a:endCxn id="323" idx="1"/>
          </p:cNvCxnSpPr>
          <p:nvPr/>
        </p:nvCxnSpPr>
        <p:spPr>
          <a:xfrm>
            <a:off x="2413080" y="2662200"/>
            <a:ext cx="635760" cy="10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318" idx="0"/>
            <a:endCxn id="322" idx="5"/>
          </p:cNvCxnSpPr>
          <p:nvPr/>
        </p:nvCxnSpPr>
        <p:spPr>
          <a:xfrm flipH="1" flipV="1">
            <a:off x="1534320" y="1755360"/>
            <a:ext cx="6562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" name=""/>
          <p:cNvCxnSpPr>
            <a:stCxn id="318" idx="0"/>
            <a:endCxn id="321" idx="3"/>
          </p:cNvCxnSpPr>
          <p:nvPr/>
        </p:nvCxnSpPr>
        <p:spPr>
          <a:xfrm flipV="1">
            <a:off x="2190600" y="1664640"/>
            <a:ext cx="34848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5110200" y="4776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73760" y="3714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99200" y="295416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20120" y="30654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34160" y="580068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7440" y="57564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53240" y="4425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02600" y="424800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"/>
          <p:cNvCxnSpPr>
            <a:stCxn id="342" idx="0"/>
            <a:endCxn id="343" idx="3"/>
          </p:cNvCxnSpPr>
          <p:nvPr/>
        </p:nvCxnSpPr>
        <p:spPr>
          <a:xfrm flipV="1">
            <a:off x="6111720" y="4961880"/>
            <a:ext cx="73440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37" idx="0"/>
            <a:endCxn id="338" idx="4"/>
          </p:cNvCxnSpPr>
          <p:nvPr/>
        </p:nvCxnSpPr>
        <p:spPr>
          <a:xfrm flipH="1" flipV="1">
            <a:off x="5287320" y="4343040"/>
            <a:ext cx="1371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38" idx="6"/>
            <a:endCxn id="340" idx="3"/>
          </p:cNvCxnSpPr>
          <p:nvPr/>
        </p:nvCxnSpPr>
        <p:spPr>
          <a:xfrm flipV="1">
            <a:off x="5602320" y="3601800"/>
            <a:ext cx="211032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39" idx="4"/>
            <a:endCxn id="343" idx="1"/>
          </p:cNvCxnSpPr>
          <p:nvPr/>
        </p:nvCxnSpPr>
        <p:spPr>
          <a:xfrm>
            <a:off x="6513480" y="3582720"/>
            <a:ext cx="33264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" name=""/>
          <p:cNvCxnSpPr>
            <a:stCxn id="339" idx="5"/>
            <a:endCxn id="344" idx="1"/>
          </p:cNvCxnSpPr>
          <p:nvPr/>
        </p:nvCxnSpPr>
        <p:spPr>
          <a:xfrm>
            <a:off x="6735240" y="3490560"/>
            <a:ext cx="1559880" cy="849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0" name=""/>
          <p:cNvCxnSpPr>
            <a:stCxn id="339" idx="3"/>
            <a:endCxn id="337" idx="7"/>
          </p:cNvCxnSpPr>
          <p:nvPr/>
        </p:nvCxnSpPr>
        <p:spPr>
          <a:xfrm flipH="1">
            <a:off x="5645880" y="3490920"/>
            <a:ext cx="64548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1" name=""/>
          <p:cNvCxnSpPr>
            <a:stCxn id="338" idx="6"/>
            <a:endCxn id="341" idx="1"/>
          </p:cNvCxnSpPr>
          <p:nvPr/>
        </p:nvCxnSpPr>
        <p:spPr>
          <a:xfrm>
            <a:off x="5602320" y="4028760"/>
            <a:ext cx="2124720" cy="18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2" name=""/>
          <p:cNvCxnSpPr>
            <a:stCxn id="342" idx="6"/>
            <a:endCxn id="341" idx="2"/>
          </p:cNvCxnSpPr>
          <p:nvPr/>
        </p:nvCxnSpPr>
        <p:spPr>
          <a:xfrm>
            <a:off x="6426000" y="6070320"/>
            <a:ext cx="120852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42" idx="0"/>
            <a:endCxn id="339" idx="4"/>
          </p:cNvCxnSpPr>
          <p:nvPr/>
        </p:nvCxnSpPr>
        <p:spPr>
          <a:xfrm flipV="1">
            <a:off x="6111720" y="3582360"/>
            <a:ext cx="402480" cy="21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"/>
          <p:cNvCxnSpPr>
            <a:stCxn id="340" idx="5"/>
            <a:endCxn id="344" idx="0"/>
          </p:cNvCxnSpPr>
          <p:nvPr/>
        </p:nvCxnSpPr>
        <p:spPr>
          <a:xfrm>
            <a:off x="8156160" y="3602160"/>
            <a:ext cx="361080" cy="64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4" idx="4"/>
            <a:endCxn id="341" idx="7"/>
          </p:cNvCxnSpPr>
          <p:nvPr/>
        </p:nvCxnSpPr>
        <p:spPr>
          <a:xfrm flipH="1">
            <a:off x="8170200" y="4876920"/>
            <a:ext cx="346680" cy="101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6" name=""/>
          <p:cNvCxnSpPr>
            <a:stCxn id="343" idx="6"/>
            <a:endCxn id="344" idx="2"/>
          </p:cNvCxnSpPr>
          <p:nvPr/>
        </p:nvCxnSpPr>
        <p:spPr>
          <a:xfrm flipV="1">
            <a:off x="7381800" y="4561920"/>
            <a:ext cx="82152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7" name=""/>
          <p:cNvCxnSpPr>
            <a:stCxn id="343" idx="5"/>
            <a:endCxn id="341" idx="1"/>
          </p:cNvCxnSpPr>
          <p:nvPr/>
        </p:nvCxnSpPr>
        <p:spPr>
          <a:xfrm>
            <a:off x="7289280" y="4962600"/>
            <a:ext cx="43740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" name=""/>
          <p:cNvCxnSpPr>
            <a:stCxn id="337" idx="5"/>
            <a:endCxn id="342" idx="0"/>
          </p:cNvCxnSpPr>
          <p:nvPr/>
        </p:nvCxnSpPr>
        <p:spPr>
          <a:xfrm>
            <a:off x="5646600" y="5312880"/>
            <a:ext cx="465840" cy="44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>
            <a:stCxn id="338" idx="2"/>
            <a:endCxn id="323" idx="6"/>
          </p:cNvCxnSpPr>
          <p:nvPr/>
        </p:nvCxnSpPr>
        <p:spPr>
          <a:xfrm flipH="1" flipV="1">
            <a:off x="3583800" y="3906360"/>
            <a:ext cx="1389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37" idx="1"/>
            <a:endCxn id="323" idx="6"/>
          </p:cNvCxnSpPr>
          <p:nvPr/>
        </p:nvCxnSpPr>
        <p:spPr>
          <a:xfrm flipH="1" flipV="1">
            <a:off x="3584160" y="3906000"/>
            <a:ext cx="1618560" cy="96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40" idx="4"/>
            <a:endCxn id="343" idx="7"/>
          </p:cNvCxnSpPr>
          <p:nvPr/>
        </p:nvCxnSpPr>
        <p:spPr>
          <a:xfrm flipH="1">
            <a:off x="7288920" y="3693600"/>
            <a:ext cx="645480" cy="824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38" idx="7"/>
            <a:endCxn id="339" idx="3"/>
          </p:cNvCxnSpPr>
          <p:nvPr/>
        </p:nvCxnSpPr>
        <p:spPr>
          <a:xfrm flipV="1">
            <a:off x="5510160" y="3490560"/>
            <a:ext cx="7819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276200" y="21258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1120" y="4572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46440" y="112860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8520" y="12193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55840" y="3592440"/>
            <a:ext cx="628560" cy="628560"/>
          </a:xfrm>
          <a:prstGeom prst="ellipse">
            <a:avLst/>
          </a:prstGeom>
          <a:solidFill>
            <a:srgbClr val="890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04800" y="4557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"/>
          <p:cNvCxnSpPr>
            <a:stCxn id="363" idx="0"/>
            <a:endCxn id="368" idx="4"/>
          </p:cNvCxnSpPr>
          <p:nvPr/>
        </p:nvCxnSpPr>
        <p:spPr>
          <a:xfrm flipV="1">
            <a:off x="1590480" y="1083600"/>
            <a:ext cx="229320" cy="104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63" idx="0"/>
            <a:endCxn id="364" idx="5"/>
          </p:cNvCxnSpPr>
          <p:nvPr/>
        </p:nvCxnSpPr>
        <p:spPr>
          <a:xfrm flipH="1" flipV="1">
            <a:off x="947880" y="992880"/>
            <a:ext cx="643320" cy="113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3" idx="5"/>
            <a:endCxn id="367" idx="1"/>
          </p:cNvCxnSpPr>
          <p:nvPr/>
        </p:nvCxnSpPr>
        <p:spPr>
          <a:xfrm>
            <a:off x="1812960" y="2662200"/>
            <a:ext cx="635760" cy="10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63" idx="0"/>
            <a:endCxn id="366" idx="5"/>
          </p:cNvCxnSpPr>
          <p:nvPr/>
        </p:nvCxnSpPr>
        <p:spPr>
          <a:xfrm flipH="1" flipV="1">
            <a:off x="934560" y="1755360"/>
            <a:ext cx="65664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63" idx="0"/>
            <a:endCxn id="365" idx="3"/>
          </p:cNvCxnSpPr>
          <p:nvPr/>
        </p:nvCxnSpPr>
        <p:spPr>
          <a:xfrm flipV="1">
            <a:off x="1590480" y="1664640"/>
            <a:ext cx="3477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4510080" y="4776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373640" y="3714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99080" y="295416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97320" y="57564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53120" y="4425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"/>
          <p:cNvCxnSpPr>
            <a:stCxn id="377" idx="0"/>
            <a:endCxn id="378" idx="3"/>
          </p:cNvCxnSpPr>
          <p:nvPr/>
        </p:nvCxnSpPr>
        <p:spPr>
          <a:xfrm flipV="1">
            <a:off x="5511600" y="4961880"/>
            <a:ext cx="7340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4" idx="0"/>
            <a:endCxn id="375" idx="4"/>
          </p:cNvCxnSpPr>
          <p:nvPr/>
        </p:nvCxnSpPr>
        <p:spPr>
          <a:xfrm flipH="1" flipV="1">
            <a:off x="4687200" y="4343040"/>
            <a:ext cx="1371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76" idx="4"/>
            <a:endCxn id="378" idx="1"/>
          </p:cNvCxnSpPr>
          <p:nvPr/>
        </p:nvCxnSpPr>
        <p:spPr>
          <a:xfrm>
            <a:off x="5913360" y="3582720"/>
            <a:ext cx="33264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76" idx="3"/>
            <a:endCxn id="374" idx="7"/>
          </p:cNvCxnSpPr>
          <p:nvPr/>
        </p:nvCxnSpPr>
        <p:spPr>
          <a:xfrm flipH="1">
            <a:off x="5046480" y="3490920"/>
            <a:ext cx="64512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7" idx="0"/>
            <a:endCxn id="376" idx="4"/>
          </p:cNvCxnSpPr>
          <p:nvPr/>
        </p:nvCxnSpPr>
        <p:spPr>
          <a:xfrm flipV="1">
            <a:off x="5511600" y="3582360"/>
            <a:ext cx="402120" cy="21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4" idx="5"/>
            <a:endCxn id="377" idx="0"/>
          </p:cNvCxnSpPr>
          <p:nvPr/>
        </p:nvCxnSpPr>
        <p:spPr>
          <a:xfrm>
            <a:off x="5046840" y="5312880"/>
            <a:ext cx="465840" cy="44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75" idx="2"/>
            <a:endCxn id="367" idx="6"/>
          </p:cNvCxnSpPr>
          <p:nvPr/>
        </p:nvCxnSpPr>
        <p:spPr>
          <a:xfrm flipH="1" flipV="1">
            <a:off x="2983680" y="3906360"/>
            <a:ext cx="1389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74" idx="1"/>
            <a:endCxn id="367" idx="6"/>
          </p:cNvCxnSpPr>
          <p:nvPr/>
        </p:nvCxnSpPr>
        <p:spPr>
          <a:xfrm flipH="1" flipV="1">
            <a:off x="2984040" y="3906000"/>
            <a:ext cx="1618560" cy="96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75" idx="7"/>
            <a:endCxn id="376" idx="3"/>
          </p:cNvCxnSpPr>
          <p:nvPr/>
        </p:nvCxnSpPr>
        <p:spPr>
          <a:xfrm flipV="1">
            <a:off x="4910040" y="3490560"/>
            <a:ext cx="7819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7228080" y="3016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28080" y="7970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27360" y="22827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26280" y="1787400"/>
            <a:ext cx="19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28080" y="1292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27360" y="27795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228080" y="32749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28080" y="3770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228080" y="42656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227360" y="47624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84160" y="5335560"/>
            <a:ext cx="11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8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284120" y="2125800"/>
            <a:ext cx="628920" cy="628560"/>
          </a:xfrm>
          <a:prstGeom prst="ellipse">
            <a:avLst/>
          </a:prstGeom>
          <a:solidFill>
            <a:srgbClr val="890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9040" y="4572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854360" y="112860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6440" y="12193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63760" y="35924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12720" y="4557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>
            <a:stCxn id="399" idx="0"/>
            <a:endCxn id="404" idx="4"/>
          </p:cNvCxnSpPr>
          <p:nvPr/>
        </p:nvCxnSpPr>
        <p:spPr>
          <a:xfrm flipV="1">
            <a:off x="1598400" y="1083600"/>
            <a:ext cx="229320" cy="104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6" name=""/>
          <p:cNvCxnSpPr>
            <a:stCxn id="399" idx="0"/>
            <a:endCxn id="400" idx="5"/>
          </p:cNvCxnSpPr>
          <p:nvPr/>
        </p:nvCxnSpPr>
        <p:spPr>
          <a:xfrm flipH="1" flipV="1">
            <a:off x="955800" y="992880"/>
            <a:ext cx="643320" cy="113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7" name=""/>
          <p:cNvCxnSpPr>
            <a:stCxn id="399" idx="5"/>
            <a:endCxn id="403" idx="1"/>
          </p:cNvCxnSpPr>
          <p:nvPr/>
        </p:nvCxnSpPr>
        <p:spPr>
          <a:xfrm>
            <a:off x="1820880" y="2662200"/>
            <a:ext cx="635760" cy="10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8" name=""/>
          <p:cNvCxnSpPr>
            <a:stCxn id="399" idx="0"/>
            <a:endCxn id="402" idx="5"/>
          </p:cNvCxnSpPr>
          <p:nvPr/>
        </p:nvCxnSpPr>
        <p:spPr>
          <a:xfrm flipH="1" flipV="1">
            <a:off x="942480" y="1755360"/>
            <a:ext cx="65664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9" name=""/>
          <p:cNvCxnSpPr>
            <a:stCxn id="399" idx="0"/>
            <a:endCxn id="401" idx="3"/>
          </p:cNvCxnSpPr>
          <p:nvPr/>
        </p:nvCxnSpPr>
        <p:spPr>
          <a:xfrm flipV="1">
            <a:off x="1598400" y="1664640"/>
            <a:ext cx="3477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0" name=""/>
          <p:cNvSpPr/>
          <p:nvPr/>
        </p:nvSpPr>
        <p:spPr>
          <a:xfrm>
            <a:off x="4518000" y="4776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381560" y="3714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07000" y="295416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205240" y="57564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61040" y="4425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"/>
          <p:cNvCxnSpPr>
            <a:stCxn id="413" idx="0"/>
            <a:endCxn id="414" idx="3"/>
          </p:cNvCxnSpPr>
          <p:nvPr/>
        </p:nvCxnSpPr>
        <p:spPr>
          <a:xfrm flipV="1">
            <a:off x="5519520" y="4961880"/>
            <a:ext cx="7340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410" idx="0"/>
            <a:endCxn id="411" idx="4"/>
          </p:cNvCxnSpPr>
          <p:nvPr/>
        </p:nvCxnSpPr>
        <p:spPr>
          <a:xfrm flipH="1" flipV="1">
            <a:off x="4695120" y="4343040"/>
            <a:ext cx="1371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12" idx="4"/>
            <a:endCxn id="414" idx="1"/>
          </p:cNvCxnSpPr>
          <p:nvPr/>
        </p:nvCxnSpPr>
        <p:spPr>
          <a:xfrm>
            <a:off x="5921280" y="3582720"/>
            <a:ext cx="33264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412" idx="3"/>
            <a:endCxn id="410" idx="7"/>
          </p:cNvCxnSpPr>
          <p:nvPr/>
        </p:nvCxnSpPr>
        <p:spPr>
          <a:xfrm flipH="1">
            <a:off x="5054400" y="3490920"/>
            <a:ext cx="64512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413" idx="0"/>
            <a:endCxn id="412" idx="4"/>
          </p:cNvCxnSpPr>
          <p:nvPr/>
        </p:nvCxnSpPr>
        <p:spPr>
          <a:xfrm flipV="1">
            <a:off x="5519520" y="3582360"/>
            <a:ext cx="402120" cy="21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410" idx="5"/>
            <a:endCxn id="413" idx="0"/>
          </p:cNvCxnSpPr>
          <p:nvPr/>
        </p:nvCxnSpPr>
        <p:spPr>
          <a:xfrm>
            <a:off x="5054760" y="5312880"/>
            <a:ext cx="465840" cy="44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411" idx="2"/>
            <a:endCxn id="403" idx="6"/>
          </p:cNvCxnSpPr>
          <p:nvPr/>
        </p:nvCxnSpPr>
        <p:spPr>
          <a:xfrm flipH="1" flipV="1">
            <a:off x="2991600" y="3906360"/>
            <a:ext cx="1389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10" idx="1"/>
            <a:endCxn id="403" idx="6"/>
          </p:cNvCxnSpPr>
          <p:nvPr/>
        </p:nvCxnSpPr>
        <p:spPr>
          <a:xfrm flipH="1" flipV="1">
            <a:off x="2991960" y="3906000"/>
            <a:ext cx="1618560" cy="96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411" idx="7"/>
            <a:endCxn id="412" idx="3"/>
          </p:cNvCxnSpPr>
          <p:nvPr/>
        </p:nvCxnSpPr>
        <p:spPr>
          <a:xfrm flipV="1">
            <a:off x="4917960" y="3490560"/>
            <a:ext cx="7819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7236000" y="3016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236000" y="7970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235280" y="22827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234200" y="1787400"/>
            <a:ext cx="19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36000" y="1292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236000" y="27795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36000" y="32749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236000" y="3770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236000" y="42656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235280" y="47624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92080" y="5335560"/>
            <a:ext cx="11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8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284120" y="21258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9040" y="4572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54360" y="112860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06440" y="12193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363760" y="35924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512720" y="4557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"/>
          <p:cNvCxnSpPr>
            <a:stCxn id="435" idx="0"/>
            <a:endCxn id="440" idx="4"/>
          </p:cNvCxnSpPr>
          <p:nvPr/>
        </p:nvCxnSpPr>
        <p:spPr>
          <a:xfrm flipV="1">
            <a:off x="1598400" y="1083600"/>
            <a:ext cx="229320" cy="104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5" idx="0"/>
            <a:endCxn id="436" idx="5"/>
          </p:cNvCxnSpPr>
          <p:nvPr/>
        </p:nvCxnSpPr>
        <p:spPr>
          <a:xfrm flipH="1" flipV="1">
            <a:off x="955800" y="992880"/>
            <a:ext cx="643320" cy="113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5" idx="5"/>
            <a:endCxn id="439" idx="1"/>
          </p:cNvCxnSpPr>
          <p:nvPr/>
        </p:nvCxnSpPr>
        <p:spPr>
          <a:xfrm>
            <a:off x="1820880" y="2662200"/>
            <a:ext cx="635760" cy="10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stCxn id="435" idx="0"/>
            <a:endCxn id="438" idx="5"/>
          </p:cNvCxnSpPr>
          <p:nvPr/>
        </p:nvCxnSpPr>
        <p:spPr>
          <a:xfrm flipH="1" flipV="1">
            <a:off x="942480" y="1755360"/>
            <a:ext cx="65664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5" name=""/>
          <p:cNvCxnSpPr>
            <a:stCxn id="435" idx="0"/>
            <a:endCxn id="437" idx="3"/>
          </p:cNvCxnSpPr>
          <p:nvPr/>
        </p:nvCxnSpPr>
        <p:spPr>
          <a:xfrm flipV="1">
            <a:off x="1598400" y="1664640"/>
            <a:ext cx="3477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6" name=""/>
          <p:cNvSpPr/>
          <p:nvPr/>
        </p:nvSpPr>
        <p:spPr>
          <a:xfrm>
            <a:off x="4518000" y="4776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81560" y="3714840"/>
            <a:ext cx="628560" cy="628560"/>
          </a:xfrm>
          <a:prstGeom prst="ellipse">
            <a:avLst/>
          </a:prstGeom>
          <a:solidFill>
            <a:srgbClr val="890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607000" y="295416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05240" y="57564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61040" y="4425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49" idx="0"/>
            <a:endCxn id="450" idx="3"/>
          </p:cNvCxnSpPr>
          <p:nvPr/>
        </p:nvCxnSpPr>
        <p:spPr>
          <a:xfrm flipV="1">
            <a:off x="5519520" y="4961880"/>
            <a:ext cx="7340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2" name=""/>
          <p:cNvCxnSpPr>
            <a:stCxn id="446" idx="0"/>
            <a:endCxn id="447" idx="4"/>
          </p:cNvCxnSpPr>
          <p:nvPr/>
        </p:nvCxnSpPr>
        <p:spPr>
          <a:xfrm flipH="1" flipV="1">
            <a:off x="4695120" y="4343040"/>
            <a:ext cx="1371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3" name=""/>
          <p:cNvCxnSpPr>
            <a:stCxn id="448" idx="4"/>
            <a:endCxn id="450" idx="1"/>
          </p:cNvCxnSpPr>
          <p:nvPr/>
        </p:nvCxnSpPr>
        <p:spPr>
          <a:xfrm>
            <a:off x="5921280" y="3582720"/>
            <a:ext cx="33264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48" idx="3"/>
            <a:endCxn id="446" idx="7"/>
          </p:cNvCxnSpPr>
          <p:nvPr/>
        </p:nvCxnSpPr>
        <p:spPr>
          <a:xfrm flipH="1">
            <a:off x="5054400" y="3490920"/>
            <a:ext cx="64512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49" idx="0"/>
            <a:endCxn id="448" idx="4"/>
          </p:cNvCxnSpPr>
          <p:nvPr/>
        </p:nvCxnSpPr>
        <p:spPr>
          <a:xfrm flipV="1">
            <a:off x="5519520" y="3582360"/>
            <a:ext cx="402120" cy="21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6" name=""/>
          <p:cNvCxnSpPr>
            <a:stCxn id="446" idx="5"/>
            <a:endCxn id="449" idx="0"/>
          </p:cNvCxnSpPr>
          <p:nvPr/>
        </p:nvCxnSpPr>
        <p:spPr>
          <a:xfrm>
            <a:off x="5054760" y="5312880"/>
            <a:ext cx="465840" cy="44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7" name=""/>
          <p:cNvCxnSpPr>
            <a:stCxn id="447" idx="2"/>
            <a:endCxn id="439" idx="6"/>
          </p:cNvCxnSpPr>
          <p:nvPr/>
        </p:nvCxnSpPr>
        <p:spPr>
          <a:xfrm flipH="1" flipV="1">
            <a:off x="2991600" y="3906360"/>
            <a:ext cx="1389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1"/>
            <a:endCxn id="439" idx="6"/>
          </p:cNvCxnSpPr>
          <p:nvPr/>
        </p:nvCxnSpPr>
        <p:spPr>
          <a:xfrm flipH="1" flipV="1">
            <a:off x="2991960" y="3906000"/>
            <a:ext cx="1618560" cy="96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47" idx="7"/>
            <a:endCxn id="448" idx="3"/>
          </p:cNvCxnSpPr>
          <p:nvPr/>
        </p:nvCxnSpPr>
        <p:spPr>
          <a:xfrm flipV="1">
            <a:off x="4917960" y="3490560"/>
            <a:ext cx="7819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0" name=""/>
          <p:cNvSpPr/>
          <p:nvPr/>
        </p:nvSpPr>
        <p:spPr>
          <a:xfrm>
            <a:off x="7236000" y="3016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36000" y="7970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235280" y="22827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34200" y="1787400"/>
            <a:ext cx="19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236000" y="1292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235280" y="27795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236000" y="32749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236000" y="3770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36000" y="42656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5280" y="47624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92080" y="5335560"/>
            <a:ext cx="11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21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646280" y="414360"/>
            <a:ext cx="682776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71720" y="1778040"/>
            <a:ext cx="1419120" cy="1419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29120" y="4156200"/>
            <a:ext cx="1419120" cy="1419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59360" y="1601640"/>
            <a:ext cx="1419480" cy="14194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28560" y="27511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09400" y="27511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9" idx="5"/>
            <a:endCxn id="50" idx="1"/>
          </p:cNvCxnSpPr>
          <p:nvPr/>
        </p:nvCxnSpPr>
        <p:spPr>
          <a:xfrm>
            <a:off x="3182400" y="2989440"/>
            <a:ext cx="1055160" cy="137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50" idx="7"/>
            <a:endCxn id="51" idx="3"/>
          </p:cNvCxnSpPr>
          <p:nvPr/>
        </p:nvCxnSpPr>
        <p:spPr>
          <a:xfrm flipV="1">
            <a:off x="5240160" y="2812680"/>
            <a:ext cx="828000" cy="155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" name=""/>
          <p:cNvSpPr/>
          <p:nvPr/>
        </p:nvSpPr>
        <p:spPr>
          <a:xfrm>
            <a:off x="4258080" y="273384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21800" y="27338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3600" y="777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29200" y="795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876320" y="21258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2240" y="139716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011240" y="4572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446200" y="1128600"/>
            <a:ext cx="62892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98640" y="12193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955960" y="35924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98400" y="271152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0040" y="35179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1280" y="2322360"/>
            <a:ext cx="62892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04920" y="4557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"/>
          <p:cNvCxnSpPr>
            <a:stCxn id="472" idx="0"/>
            <a:endCxn id="481" idx="4"/>
          </p:cNvCxnSpPr>
          <p:nvPr/>
        </p:nvCxnSpPr>
        <p:spPr>
          <a:xfrm flipV="1">
            <a:off x="2190240" y="1083600"/>
            <a:ext cx="229320" cy="104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72" idx="0"/>
            <a:endCxn id="474" idx="5"/>
          </p:cNvCxnSpPr>
          <p:nvPr/>
        </p:nvCxnSpPr>
        <p:spPr>
          <a:xfrm flipH="1" flipV="1">
            <a:off x="1547640" y="992880"/>
            <a:ext cx="643320" cy="113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4" name=""/>
          <p:cNvCxnSpPr>
            <a:stCxn id="472" idx="2"/>
            <a:endCxn id="473" idx="5"/>
          </p:cNvCxnSpPr>
          <p:nvPr/>
        </p:nvCxnSpPr>
        <p:spPr>
          <a:xfrm flipH="1" flipV="1">
            <a:off x="728640" y="1933200"/>
            <a:ext cx="114804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5" name=""/>
          <p:cNvCxnSpPr>
            <a:stCxn id="472" idx="2"/>
            <a:endCxn id="480" idx="6"/>
          </p:cNvCxnSpPr>
          <p:nvPr/>
        </p:nvCxnSpPr>
        <p:spPr>
          <a:xfrm flipH="1">
            <a:off x="699480" y="2439720"/>
            <a:ext cx="117684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6" name=""/>
          <p:cNvCxnSpPr>
            <a:stCxn id="472" idx="2"/>
            <a:endCxn id="479" idx="7"/>
          </p:cNvCxnSpPr>
          <p:nvPr/>
        </p:nvCxnSpPr>
        <p:spPr>
          <a:xfrm flipH="1">
            <a:off x="1036440" y="2440080"/>
            <a:ext cx="840240" cy="117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7" name=""/>
          <p:cNvCxnSpPr>
            <a:stCxn id="472" idx="2"/>
            <a:endCxn id="478" idx="7"/>
          </p:cNvCxnSpPr>
          <p:nvPr/>
        </p:nvCxnSpPr>
        <p:spPr>
          <a:xfrm flipH="1">
            <a:off x="1234440" y="2440080"/>
            <a:ext cx="6418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72" idx="5"/>
            <a:endCxn id="477" idx="1"/>
          </p:cNvCxnSpPr>
          <p:nvPr/>
        </p:nvCxnSpPr>
        <p:spPr>
          <a:xfrm>
            <a:off x="2413080" y="2662200"/>
            <a:ext cx="635760" cy="10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9" name=""/>
          <p:cNvCxnSpPr>
            <a:stCxn id="472" idx="0"/>
            <a:endCxn id="476" idx="5"/>
          </p:cNvCxnSpPr>
          <p:nvPr/>
        </p:nvCxnSpPr>
        <p:spPr>
          <a:xfrm flipH="1" flipV="1">
            <a:off x="1534320" y="1755360"/>
            <a:ext cx="6562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0" name=""/>
          <p:cNvCxnSpPr>
            <a:stCxn id="472" idx="0"/>
            <a:endCxn id="475" idx="3"/>
          </p:cNvCxnSpPr>
          <p:nvPr/>
        </p:nvCxnSpPr>
        <p:spPr>
          <a:xfrm flipV="1">
            <a:off x="2190600" y="1664640"/>
            <a:ext cx="34848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5110200" y="4776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73760" y="3714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99200" y="295416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620120" y="30654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34160" y="580068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97440" y="57564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53240" y="4425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202600" y="424800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"/>
          <p:cNvCxnSpPr>
            <a:stCxn id="496" idx="0"/>
            <a:endCxn id="497" idx="3"/>
          </p:cNvCxnSpPr>
          <p:nvPr/>
        </p:nvCxnSpPr>
        <p:spPr>
          <a:xfrm flipV="1">
            <a:off x="6111720" y="4961880"/>
            <a:ext cx="73440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91" idx="0"/>
            <a:endCxn id="492" idx="4"/>
          </p:cNvCxnSpPr>
          <p:nvPr/>
        </p:nvCxnSpPr>
        <p:spPr>
          <a:xfrm flipH="1" flipV="1">
            <a:off x="5287320" y="4343040"/>
            <a:ext cx="1371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2" idx="6"/>
            <a:endCxn id="494" idx="3"/>
          </p:cNvCxnSpPr>
          <p:nvPr/>
        </p:nvCxnSpPr>
        <p:spPr>
          <a:xfrm flipV="1">
            <a:off x="5602320" y="3601800"/>
            <a:ext cx="211032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93" idx="4"/>
            <a:endCxn id="497" idx="1"/>
          </p:cNvCxnSpPr>
          <p:nvPr/>
        </p:nvCxnSpPr>
        <p:spPr>
          <a:xfrm>
            <a:off x="6513480" y="3582720"/>
            <a:ext cx="33264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93" idx="5"/>
            <a:endCxn id="498" idx="1"/>
          </p:cNvCxnSpPr>
          <p:nvPr/>
        </p:nvCxnSpPr>
        <p:spPr>
          <a:xfrm>
            <a:off x="6735240" y="3490560"/>
            <a:ext cx="1559880" cy="849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93" idx="3"/>
            <a:endCxn id="491" idx="7"/>
          </p:cNvCxnSpPr>
          <p:nvPr/>
        </p:nvCxnSpPr>
        <p:spPr>
          <a:xfrm flipH="1">
            <a:off x="5645880" y="3490920"/>
            <a:ext cx="64548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92" idx="6"/>
            <a:endCxn id="495" idx="1"/>
          </p:cNvCxnSpPr>
          <p:nvPr/>
        </p:nvCxnSpPr>
        <p:spPr>
          <a:xfrm>
            <a:off x="5602320" y="4028760"/>
            <a:ext cx="2124720" cy="18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96" idx="6"/>
            <a:endCxn id="495" idx="2"/>
          </p:cNvCxnSpPr>
          <p:nvPr/>
        </p:nvCxnSpPr>
        <p:spPr>
          <a:xfrm>
            <a:off x="6426000" y="6070320"/>
            <a:ext cx="120852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6" idx="0"/>
            <a:endCxn id="493" idx="4"/>
          </p:cNvCxnSpPr>
          <p:nvPr/>
        </p:nvCxnSpPr>
        <p:spPr>
          <a:xfrm flipV="1">
            <a:off x="6111720" y="3582360"/>
            <a:ext cx="402480" cy="21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94" idx="5"/>
            <a:endCxn id="498" idx="0"/>
          </p:cNvCxnSpPr>
          <p:nvPr/>
        </p:nvCxnSpPr>
        <p:spPr>
          <a:xfrm>
            <a:off x="8156160" y="3602160"/>
            <a:ext cx="361080" cy="64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98" idx="4"/>
            <a:endCxn id="495" idx="7"/>
          </p:cNvCxnSpPr>
          <p:nvPr/>
        </p:nvCxnSpPr>
        <p:spPr>
          <a:xfrm flipH="1">
            <a:off x="8170200" y="4876920"/>
            <a:ext cx="346680" cy="101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7" idx="6"/>
            <a:endCxn id="498" idx="2"/>
          </p:cNvCxnSpPr>
          <p:nvPr/>
        </p:nvCxnSpPr>
        <p:spPr>
          <a:xfrm flipV="1">
            <a:off x="7381800" y="4561920"/>
            <a:ext cx="82152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97" idx="5"/>
            <a:endCxn id="495" idx="1"/>
          </p:cNvCxnSpPr>
          <p:nvPr/>
        </p:nvCxnSpPr>
        <p:spPr>
          <a:xfrm>
            <a:off x="7289280" y="4962600"/>
            <a:ext cx="43740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491" idx="5"/>
            <a:endCxn id="496" idx="0"/>
          </p:cNvCxnSpPr>
          <p:nvPr/>
        </p:nvCxnSpPr>
        <p:spPr>
          <a:xfrm>
            <a:off x="5646600" y="5312880"/>
            <a:ext cx="465840" cy="44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stCxn id="492" idx="2"/>
            <a:endCxn id="477" idx="6"/>
          </p:cNvCxnSpPr>
          <p:nvPr/>
        </p:nvCxnSpPr>
        <p:spPr>
          <a:xfrm flipH="1" flipV="1">
            <a:off x="3583800" y="3906360"/>
            <a:ext cx="1389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91" idx="1"/>
            <a:endCxn id="477" idx="6"/>
          </p:cNvCxnSpPr>
          <p:nvPr/>
        </p:nvCxnSpPr>
        <p:spPr>
          <a:xfrm flipH="1" flipV="1">
            <a:off x="3584160" y="3906000"/>
            <a:ext cx="1618560" cy="96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494" idx="4"/>
            <a:endCxn id="497" idx="7"/>
          </p:cNvCxnSpPr>
          <p:nvPr/>
        </p:nvCxnSpPr>
        <p:spPr>
          <a:xfrm flipH="1">
            <a:off x="7288920" y="3693600"/>
            <a:ext cx="645480" cy="824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"/>
          <p:cNvCxnSpPr>
            <a:stCxn id="492" idx="7"/>
            <a:endCxn id="493" idx="3"/>
          </p:cNvCxnSpPr>
          <p:nvPr/>
        </p:nvCxnSpPr>
        <p:spPr>
          <a:xfrm flipV="1">
            <a:off x="5510160" y="3490560"/>
            <a:ext cx="7819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705040" y="3552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568600" y="2490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794040" y="17305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14960" y="184140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229360" y="457668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392640" y="45324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348080" y="3201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797440" y="30243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"/>
          <p:cNvCxnSpPr>
            <a:stCxn id="522" idx="0"/>
            <a:endCxn id="523" idx="3"/>
          </p:cNvCxnSpPr>
          <p:nvPr/>
        </p:nvCxnSpPr>
        <p:spPr>
          <a:xfrm flipV="1">
            <a:off x="3706560" y="3737880"/>
            <a:ext cx="7340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6" name=""/>
          <p:cNvCxnSpPr>
            <a:stCxn id="517" idx="0"/>
            <a:endCxn id="518" idx="4"/>
          </p:cNvCxnSpPr>
          <p:nvPr/>
        </p:nvCxnSpPr>
        <p:spPr>
          <a:xfrm flipH="1" flipV="1">
            <a:off x="2882160" y="3119040"/>
            <a:ext cx="1371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518" idx="6"/>
            <a:endCxn id="520" idx="3"/>
          </p:cNvCxnSpPr>
          <p:nvPr/>
        </p:nvCxnSpPr>
        <p:spPr>
          <a:xfrm flipV="1">
            <a:off x="3196800" y="2377800"/>
            <a:ext cx="211068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19" idx="4"/>
            <a:endCxn id="523" idx="1"/>
          </p:cNvCxnSpPr>
          <p:nvPr/>
        </p:nvCxnSpPr>
        <p:spPr>
          <a:xfrm>
            <a:off x="4108320" y="2358720"/>
            <a:ext cx="33264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9" name=""/>
          <p:cNvCxnSpPr>
            <a:stCxn id="519" idx="5"/>
            <a:endCxn id="524" idx="1"/>
          </p:cNvCxnSpPr>
          <p:nvPr/>
        </p:nvCxnSpPr>
        <p:spPr>
          <a:xfrm>
            <a:off x="4330800" y="2266560"/>
            <a:ext cx="1559520" cy="849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0" name=""/>
          <p:cNvCxnSpPr>
            <a:stCxn id="519" idx="3"/>
            <a:endCxn id="517" idx="7"/>
          </p:cNvCxnSpPr>
          <p:nvPr/>
        </p:nvCxnSpPr>
        <p:spPr>
          <a:xfrm flipH="1">
            <a:off x="3241440" y="2266920"/>
            <a:ext cx="64512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stCxn id="518" idx="6"/>
            <a:endCxn id="521" idx="1"/>
          </p:cNvCxnSpPr>
          <p:nvPr/>
        </p:nvCxnSpPr>
        <p:spPr>
          <a:xfrm>
            <a:off x="3197160" y="2804760"/>
            <a:ext cx="2124720" cy="18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2" idx="6"/>
            <a:endCxn id="521" idx="2"/>
          </p:cNvCxnSpPr>
          <p:nvPr/>
        </p:nvCxnSpPr>
        <p:spPr>
          <a:xfrm>
            <a:off x="4021200" y="4846320"/>
            <a:ext cx="120888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stCxn id="522" idx="0"/>
            <a:endCxn id="519" idx="4"/>
          </p:cNvCxnSpPr>
          <p:nvPr/>
        </p:nvCxnSpPr>
        <p:spPr>
          <a:xfrm flipV="1">
            <a:off x="3706560" y="2358360"/>
            <a:ext cx="402120" cy="21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0" idx="5"/>
            <a:endCxn id="524" idx="0"/>
          </p:cNvCxnSpPr>
          <p:nvPr/>
        </p:nvCxnSpPr>
        <p:spPr>
          <a:xfrm>
            <a:off x="5751000" y="2377800"/>
            <a:ext cx="36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4" idx="4"/>
            <a:endCxn id="521" idx="7"/>
          </p:cNvCxnSpPr>
          <p:nvPr/>
        </p:nvCxnSpPr>
        <p:spPr>
          <a:xfrm flipH="1">
            <a:off x="5765040" y="3652920"/>
            <a:ext cx="346680" cy="101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3" idx="6"/>
            <a:endCxn id="524" idx="2"/>
          </p:cNvCxnSpPr>
          <p:nvPr/>
        </p:nvCxnSpPr>
        <p:spPr>
          <a:xfrm flipV="1">
            <a:off x="4976640" y="3338640"/>
            <a:ext cx="82152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3" idx="5"/>
            <a:endCxn id="521" idx="1"/>
          </p:cNvCxnSpPr>
          <p:nvPr/>
        </p:nvCxnSpPr>
        <p:spPr>
          <a:xfrm>
            <a:off x="4884840" y="3738600"/>
            <a:ext cx="43704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17" idx="5"/>
            <a:endCxn id="522" idx="0"/>
          </p:cNvCxnSpPr>
          <p:nvPr/>
        </p:nvCxnSpPr>
        <p:spPr>
          <a:xfrm>
            <a:off x="3241800" y="4088880"/>
            <a:ext cx="465840" cy="44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0" idx="4"/>
            <a:endCxn id="523" idx="7"/>
          </p:cNvCxnSpPr>
          <p:nvPr/>
        </p:nvCxnSpPr>
        <p:spPr>
          <a:xfrm flipH="1">
            <a:off x="4884480" y="2470320"/>
            <a:ext cx="645120" cy="82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18" idx="7"/>
            <a:endCxn id="519" idx="3"/>
          </p:cNvCxnSpPr>
          <p:nvPr/>
        </p:nvCxnSpPr>
        <p:spPr>
          <a:xfrm flipV="1">
            <a:off x="3105000" y="2266560"/>
            <a:ext cx="7819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794040" y="17305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214960" y="184140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229360" y="457668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392640" y="45324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348080" y="3201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797440" y="30243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"/>
          <p:cNvCxnSpPr>
            <a:stCxn id="544" idx="0"/>
            <a:endCxn id="545" idx="3"/>
          </p:cNvCxnSpPr>
          <p:nvPr/>
        </p:nvCxnSpPr>
        <p:spPr>
          <a:xfrm flipV="1">
            <a:off x="3706560" y="3737880"/>
            <a:ext cx="7340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1" idx="4"/>
            <a:endCxn id="545" idx="1"/>
          </p:cNvCxnSpPr>
          <p:nvPr/>
        </p:nvCxnSpPr>
        <p:spPr>
          <a:xfrm>
            <a:off x="4108320" y="2358720"/>
            <a:ext cx="33264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45" idx="6"/>
            <a:endCxn id="546" idx="2"/>
          </p:cNvCxnSpPr>
          <p:nvPr/>
        </p:nvCxnSpPr>
        <p:spPr>
          <a:xfrm flipV="1">
            <a:off x="4976640" y="3338640"/>
            <a:ext cx="82152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5" idx="5"/>
            <a:endCxn id="543" idx="1"/>
          </p:cNvCxnSpPr>
          <p:nvPr/>
        </p:nvCxnSpPr>
        <p:spPr>
          <a:xfrm>
            <a:off x="4884840" y="3738600"/>
            <a:ext cx="43704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2" idx="4"/>
            <a:endCxn id="545" idx="7"/>
          </p:cNvCxnSpPr>
          <p:nvPr/>
        </p:nvCxnSpPr>
        <p:spPr>
          <a:xfrm flipH="1">
            <a:off x="4884480" y="2470320"/>
            <a:ext cx="645120" cy="82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794040" y="17305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14960" y="184140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229360" y="457668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392640" y="45324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348080" y="3201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797440" y="30243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"/>
          <p:cNvCxnSpPr>
            <a:stCxn id="555" idx="0"/>
            <a:endCxn id="556" idx="3"/>
          </p:cNvCxnSpPr>
          <p:nvPr/>
        </p:nvCxnSpPr>
        <p:spPr>
          <a:xfrm flipV="1">
            <a:off x="3706560" y="3737880"/>
            <a:ext cx="7340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52" idx="4"/>
            <a:endCxn id="556" idx="1"/>
          </p:cNvCxnSpPr>
          <p:nvPr/>
        </p:nvCxnSpPr>
        <p:spPr>
          <a:xfrm>
            <a:off x="4108320" y="2358720"/>
            <a:ext cx="33264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52" idx="5"/>
            <a:endCxn id="557" idx="1"/>
          </p:cNvCxnSpPr>
          <p:nvPr/>
        </p:nvCxnSpPr>
        <p:spPr>
          <a:xfrm>
            <a:off x="4330800" y="2266560"/>
            <a:ext cx="1559520" cy="849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5" idx="6"/>
            <a:endCxn id="554" idx="2"/>
          </p:cNvCxnSpPr>
          <p:nvPr/>
        </p:nvCxnSpPr>
        <p:spPr>
          <a:xfrm>
            <a:off x="4021200" y="4846320"/>
            <a:ext cx="120888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5" idx="0"/>
            <a:endCxn id="552" idx="4"/>
          </p:cNvCxnSpPr>
          <p:nvPr/>
        </p:nvCxnSpPr>
        <p:spPr>
          <a:xfrm flipV="1">
            <a:off x="3706560" y="2358360"/>
            <a:ext cx="402120" cy="21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53" idx="5"/>
            <a:endCxn id="557" idx="0"/>
          </p:cNvCxnSpPr>
          <p:nvPr/>
        </p:nvCxnSpPr>
        <p:spPr>
          <a:xfrm>
            <a:off x="5751000" y="2377800"/>
            <a:ext cx="36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57" idx="4"/>
            <a:endCxn id="554" idx="7"/>
          </p:cNvCxnSpPr>
          <p:nvPr/>
        </p:nvCxnSpPr>
        <p:spPr>
          <a:xfrm flipH="1">
            <a:off x="5765040" y="3652920"/>
            <a:ext cx="346680" cy="101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56" idx="6"/>
            <a:endCxn id="557" idx="2"/>
          </p:cNvCxnSpPr>
          <p:nvPr/>
        </p:nvCxnSpPr>
        <p:spPr>
          <a:xfrm flipV="1">
            <a:off x="4976640" y="3338640"/>
            <a:ext cx="82152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6" idx="5"/>
            <a:endCxn id="554" idx="1"/>
          </p:cNvCxnSpPr>
          <p:nvPr/>
        </p:nvCxnSpPr>
        <p:spPr>
          <a:xfrm>
            <a:off x="4884840" y="3738600"/>
            <a:ext cx="43704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53" idx="4"/>
            <a:endCxn id="556" idx="7"/>
          </p:cNvCxnSpPr>
          <p:nvPr/>
        </p:nvCxnSpPr>
        <p:spPr>
          <a:xfrm flipH="1">
            <a:off x="4884480" y="2470320"/>
            <a:ext cx="645120" cy="82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208160" y="0"/>
            <a:ext cx="684684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47800" y="88920"/>
            <a:ext cx="50738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71720" y="1778040"/>
            <a:ext cx="1419120" cy="1419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29120" y="4156200"/>
            <a:ext cx="1419120" cy="1419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59360" y="1601640"/>
            <a:ext cx="1419480" cy="14194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0" idx="5"/>
            <a:endCxn id="61" idx="1"/>
          </p:cNvCxnSpPr>
          <p:nvPr/>
        </p:nvCxnSpPr>
        <p:spPr>
          <a:xfrm>
            <a:off x="3182400" y="2989440"/>
            <a:ext cx="1055160" cy="137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61" idx="7"/>
            <a:endCxn id="62" idx="3"/>
          </p:cNvCxnSpPr>
          <p:nvPr/>
        </p:nvCxnSpPr>
        <p:spPr>
          <a:xfrm flipV="1">
            <a:off x="5240160" y="2812680"/>
            <a:ext cx="828000" cy="155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0" idx="5"/>
            <a:endCxn id="61" idx="1"/>
          </p:cNvCxnSpPr>
          <p:nvPr/>
        </p:nvCxnSpPr>
        <p:spPr>
          <a:xfrm>
            <a:off x="3182400" y="2989440"/>
            <a:ext cx="1055160" cy="1375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6" name=""/>
          <p:cNvCxnSpPr>
            <a:stCxn id="61" idx="7"/>
            <a:endCxn id="62" idx="3"/>
          </p:cNvCxnSpPr>
          <p:nvPr/>
        </p:nvCxnSpPr>
        <p:spPr>
          <a:xfrm flipV="1">
            <a:off x="5240160" y="2812680"/>
            <a:ext cx="828000" cy="155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60" idx="5"/>
            <a:endCxn id="61" idx="2"/>
          </p:cNvCxnSpPr>
          <p:nvPr/>
        </p:nvCxnSpPr>
        <p:spPr>
          <a:xfrm flipH="1" rot="16200000">
            <a:off x="2666880" y="3504240"/>
            <a:ext cx="1877040" cy="847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1" idx="1"/>
            <a:endCxn id="60" idx="6"/>
          </p:cNvCxnSpPr>
          <p:nvPr/>
        </p:nvCxnSpPr>
        <p:spPr>
          <a:xfrm flipV="1" rot="16200000">
            <a:off x="2875320" y="3002040"/>
            <a:ext cx="1877040" cy="847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0" idx="6"/>
            <a:endCxn id="62" idx="2"/>
          </p:cNvCxnSpPr>
          <p:nvPr/>
        </p:nvCxnSpPr>
        <p:spPr>
          <a:xfrm flipV="1">
            <a:off x="3390480" y="2310840"/>
            <a:ext cx="2469240" cy="17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1" idx="6"/>
            <a:endCxn id="62" idx="3"/>
          </p:cNvCxnSpPr>
          <p:nvPr/>
        </p:nvCxnSpPr>
        <p:spPr>
          <a:xfrm flipV="1">
            <a:off x="5448240" y="2813040"/>
            <a:ext cx="619920" cy="2053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71720" y="1778040"/>
            <a:ext cx="1419120" cy="1419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29120" y="4156200"/>
            <a:ext cx="1419120" cy="1419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59360" y="1601640"/>
            <a:ext cx="1419480" cy="14194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71" idx="5"/>
            <a:endCxn id="72" idx="1"/>
          </p:cNvCxnSpPr>
          <p:nvPr/>
        </p:nvCxnSpPr>
        <p:spPr>
          <a:xfrm>
            <a:off x="3182400" y="2989440"/>
            <a:ext cx="1055160" cy="137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7"/>
            <a:endCxn id="73" idx="3"/>
          </p:cNvCxnSpPr>
          <p:nvPr/>
        </p:nvCxnSpPr>
        <p:spPr>
          <a:xfrm flipV="1">
            <a:off x="5240160" y="2812680"/>
            <a:ext cx="828000" cy="155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71" idx="5"/>
            <a:endCxn id="72" idx="1"/>
          </p:cNvCxnSpPr>
          <p:nvPr/>
        </p:nvCxnSpPr>
        <p:spPr>
          <a:xfrm>
            <a:off x="3182400" y="2989440"/>
            <a:ext cx="1055160" cy="1375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2" idx="7"/>
            <a:endCxn id="73" idx="3"/>
          </p:cNvCxnSpPr>
          <p:nvPr/>
        </p:nvCxnSpPr>
        <p:spPr>
          <a:xfrm flipV="1">
            <a:off x="5240160" y="2812680"/>
            <a:ext cx="828000" cy="155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597960" cy="71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57600" y="106668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34290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57150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62160" y="2362320"/>
            <a:ext cx="1371600" cy="76176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x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54864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4000" y="1600200"/>
            <a:ext cx="4199760" cy="3871800"/>
            <a:chOff x="144000" y="1600200"/>
            <a:chExt cx="4199760" cy="3871800"/>
          </a:xfrm>
        </p:grpSpPr>
        <p:cxnSp>
          <p:nvCxnSpPr>
            <p:cNvPr id="85" name=""/>
            <p:cNvCxnSpPr>
              <a:stCxn id="82" idx="3"/>
            </p:cNvCxnSpPr>
            <p:nvPr/>
          </p:nvCxnSpPr>
          <p:spPr>
            <a:xfrm flipV="1">
              <a:off x="2647800" y="1842840"/>
              <a:ext cx="1696320" cy="90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" name=""/>
            <p:cNvSpPr/>
            <p:nvPr/>
          </p:nvSpPr>
          <p:spPr>
            <a:xfrm>
              <a:off x="144000" y="3906720"/>
              <a:ext cx="2896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gnificent Desolation: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lking on the Mo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endCxn id="82" idx="2"/>
            </p:cNvCxnSpPr>
            <p:nvPr/>
          </p:nvCxnSpPr>
          <p:spPr>
            <a:xfrm flipH="1" flipV="1">
              <a:off x="1947600" y="3138120"/>
              <a:ext cx="567360" cy="23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" name=""/>
            <p:cNvSpPr/>
            <p:nvPr/>
          </p:nvSpPr>
          <p:spPr>
            <a:xfrm>
              <a:off x="914040" y="1600200"/>
              <a:ext cx="2896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gnificent Desolation: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lking on the Mo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514240" y="1843200"/>
            <a:ext cx="3048480" cy="3629160"/>
            <a:chOff x="2514240" y="1843200"/>
            <a:chExt cx="3048480" cy="3629160"/>
          </a:xfrm>
        </p:grpSpPr>
        <p:cxnSp>
          <p:nvCxnSpPr>
            <p:cNvPr id="90" name=""/>
            <p:cNvCxnSpPr>
              <a:stCxn id="79" idx="2"/>
              <a:endCxn id="83" idx="0"/>
            </p:cNvCxnSpPr>
            <p:nvPr/>
          </p:nvCxnSpPr>
          <p:spPr>
            <a:xfrm flipH="1">
              <a:off x="2514240" y="1843200"/>
              <a:ext cx="1829520" cy="36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3429000" y="342900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Green M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514240" y="3809160"/>
            <a:ext cx="4573440" cy="1662480"/>
            <a:chOff x="2514240" y="3809160"/>
            <a:chExt cx="4573440" cy="1662480"/>
          </a:xfrm>
        </p:grpSpPr>
        <p:cxnSp>
          <p:nvCxnSpPr>
            <p:cNvPr id="93" name=""/>
            <p:cNvCxnSpPr>
              <a:stCxn id="83" idx="0"/>
              <a:endCxn id="80" idx="1"/>
            </p:cNvCxnSpPr>
            <p:nvPr/>
          </p:nvCxnSpPr>
          <p:spPr>
            <a:xfrm flipV="1">
              <a:off x="2514240" y="3809160"/>
              <a:ext cx="3948840" cy="16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" name=""/>
            <p:cNvSpPr/>
            <p:nvPr/>
          </p:nvSpPr>
          <p:spPr>
            <a:xfrm>
              <a:off x="4331520" y="4583160"/>
              <a:ext cx="275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yond All Bounda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214800" y="5562720"/>
            <a:ext cx="1952640" cy="703800"/>
            <a:chOff x="3214800" y="5562720"/>
            <a:chExt cx="1952640" cy="703800"/>
          </a:xfrm>
        </p:grpSpPr>
        <p:cxnSp>
          <p:nvCxnSpPr>
            <p:cNvPr id="96" name=""/>
            <p:cNvCxnSpPr>
              <a:stCxn id="83" idx="3"/>
              <a:endCxn id="81" idx="1"/>
            </p:cNvCxnSpPr>
            <p:nvPr/>
          </p:nvCxnSpPr>
          <p:spPr>
            <a:xfrm>
              <a:off x="3214800" y="5866920"/>
              <a:ext cx="195300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7" name=""/>
            <p:cNvSpPr/>
            <p:nvPr/>
          </p:nvSpPr>
          <p:spPr>
            <a:xfrm>
              <a:off x="3505320" y="5562720"/>
              <a:ext cx="1511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Hum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" name=""/>
          <p:cNvCxnSpPr/>
          <p:nvPr/>
        </p:nvCxnSpPr>
        <p:spPr>
          <a:xfrm flipH="1">
            <a:off x="2647440" y="1856880"/>
            <a:ext cx="1696320" cy="90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" name=""/>
          <p:cNvCxnSpPr/>
          <p:nvPr/>
        </p:nvCxnSpPr>
        <p:spPr>
          <a:xfrm>
            <a:off x="1961640" y="3138480"/>
            <a:ext cx="567720" cy="2334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3" idx="0"/>
            <a:endCxn id="79" idx="2"/>
          </p:cNvCxnSpPr>
          <p:nvPr/>
        </p:nvCxnSpPr>
        <p:spPr>
          <a:xfrm flipV="1">
            <a:off x="2514600" y="1842840"/>
            <a:ext cx="1829520" cy="3629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3" idx="0"/>
            <a:endCxn id="80" idx="1"/>
          </p:cNvCxnSpPr>
          <p:nvPr/>
        </p:nvCxnSpPr>
        <p:spPr>
          <a:xfrm flipV="1">
            <a:off x="2514240" y="3809160"/>
            <a:ext cx="3948840" cy="166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83" idx="3"/>
            <a:endCxn id="81" idx="1"/>
          </p:cNvCxnSpPr>
          <p:nvPr/>
        </p:nvCxnSpPr>
        <p:spPr>
          <a:xfrm>
            <a:off x="3214800" y="5866920"/>
            <a:ext cx="19530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5565240" y="38088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ollo 13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83" idx="0"/>
            <a:endCxn id="79" idx="2"/>
          </p:cNvCxnSpPr>
          <p:nvPr/>
        </p:nvCxnSpPr>
        <p:spPr>
          <a:xfrm flipV="1">
            <a:off x="2514600" y="1842840"/>
            <a:ext cx="1829520" cy="36295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29200" y="1052640"/>
            <a:ext cx="1511280" cy="1346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840800" y="3419640"/>
            <a:ext cx="1193760" cy="1574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541920" y="5029200"/>
            <a:ext cx="1257480" cy="1600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58880" y="5087880"/>
            <a:ext cx="1079280" cy="1612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42920" y="2359080"/>
            <a:ext cx="11174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657600" y="106668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34290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57150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62160" y="2362320"/>
            <a:ext cx="1371600" cy="76176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x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54864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/>
          <p:nvPr/>
        </p:nvCxnSpPr>
        <p:spPr>
          <a:xfrm flipH="1">
            <a:off x="2647440" y="1856880"/>
            <a:ext cx="1696320" cy="90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"/>
          <p:cNvCxnSpPr/>
          <p:nvPr/>
        </p:nvCxnSpPr>
        <p:spPr>
          <a:xfrm>
            <a:off x="1961640" y="3138480"/>
            <a:ext cx="567720" cy="2334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14" idx="0"/>
            <a:endCxn id="110" idx="2"/>
          </p:cNvCxnSpPr>
          <p:nvPr/>
        </p:nvCxnSpPr>
        <p:spPr>
          <a:xfrm flipV="1">
            <a:off x="2514600" y="1842840"/>
            <a:ext cx="1829520" cy="3629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4" idx="0"/>
            <a:endCxn id="111" idx="1"/>
          </p:cNvCxnSpPr>
          <p:nvPr/>
        </p:nvCxnSpPr>
        <p:spPr>
          <a:xfrm flipV="1">
            <a:off x="2514240" y="3809160"/>
            <a:ext cx="3948840" cy="166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4" idx="3"/>
            <a:endCxn id="112" idx="1"/>
          </p:cNvCxnSpPr>
          <p:nvPr/>
        </p:nvCxnSpPr>
        <p:spPr>
          <a:xfrm>
            <a:off x="3214800" y="5866920"/>
            <a:ext cx="19530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5565240" y="38088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ollo 13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4" idx="0"/>
            <a:endCxn id="110" idx="2"/>
          </p:cNvCxnSpPr>
          <p:nvPr/>
        </p:nvCxnSpPr>
        <p:spPr>
          <a:xfrm flipV="1">
            <a:off x="2514600" y="1842840"/>
            <a:ext cx="1829520" cy="36295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29200" y="1052640"/>
            <a:ext cx="1511280" cy="1346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840800" y="3419640"/>
            <a:ext cx="1193760" cy="1574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541920" y="5029200"/>
            <a:ext cx="125748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58880" y="5087880"/>
            <a:ext cx="1079280" cy="1612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42920" y="2359080"/>
            <a:ext cx="11174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565240" y="38088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ollo 13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42920" y="1052640"/>
            <a:ext cx="4149360" cy="2635200"/>
            <a:chOff x="142920" y="1052640"/>
            <a:chExt cx="4149360" cy="2635200"/>
          </a:xfrm>
        </p:grpSpPr>
        <p:sp>
          <p:nvSpPr>
            <p:cNvPr id="129" name=""/>
            <p:cNvSpPr/>
            <p:nvPr/>
          </p:nvSpPr>
          <p:spPr>
            <a:xfrm>
              <a:off x="1783080" y="1059120"/>
              <a:ext cx="640080" cy="355320"/>
            </a:xfrm>
            <a:prstGeom prst="rect">
              <a:avLst/>
            </a:prstGeom>
            <a:solidFill>
              <a:srgbClr val="cecec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n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98880" y="2161440"/>
              <a:ext cx="640080" cy="355320"/>
            </a:xfrm>
            <a:prstGeom prst="rect">
              <a:avLst/>
            </a:prstGeom>
            <a:solidFill>
              <a:srgbClr val="cecec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ev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94440" y="3227760"/>
              <a:ext cx="640080" cy="355320"/>
            </a:xfrm>
            <a:prstGeom prst="rect">
              <a:avLst/>
            </a:prstGeom>
            <a:solidFill>
              <a:srgbClr val="cecec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rr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5280" y="1663560"/>
              <a:ext cx="640080" cy="355320"/>
            </a:xfrm>
            <a:prstGeom prst="rect">
              <a:avLst/>
            </a:prstGeom>
            <a:solidFill>
              <a:srgbClr val="cecec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xt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9520" y="3121200"/>
              <a:ext cx="640080" cy="355320"/>
            </a:xfrm>
            <a:prstGeom prst="rect">
              <a:avLst/>
            </a:prstGeom>
            <a:solidFill>
              <a:srgbClr val="cecec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"/>
            <p:cNvCxnSpPr/>
            <p:nvPr/>
          </p:nvCxnSpPr>
          <p:spPr>
            <a:xfrm flipH="1">
              <a:off x="1311480" y="1427760"/>
              <a:ext cx="792000" cy="420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/>
            <p:nvPr/>
          </p:nvCxnSpPr>
          <p:spPr>
            <a:xfrm>
              <a:off x="991440" y="2025720"/>
              <a:ext cx="265320" cy="10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33" idx="0"/>
              <a:endCxn id="129" idx="2"/>
            </p:cNvCxnSpPr>
            <p:nvPr/>
          </p:nvCxnSpPr>
          <p:spPr>
            <a:xfrm flipV="1">
              <a:off x="1249560" y="1420560"/>
              <a:ext cx="853920" cy="1693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>
              <a:stCxn id="133" idx="0"/>
              <a:endCxn id="130" idx="1"/>
            </p:cNvCxnSpPr>
            <p:nvPr/>
          </p:nvCxnSpPr>
          <p:spPr>
            <a:xfrm flipV="1">
              <a:off x="1249560" y="2338560"/>
              <a:ext cx="1843200" cy="776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33" idx="3"/>
              <a:endCxn id="131" idx="1"/>
            </p:cNvCxnSpPr>
            <p:nvPr/>
          </p:nvCxnSpPr>
          <p:spPr>
            <a:xfrm>
              <a:off x="1576080" y="3299040"/>
              <a:ext cx="911880" cy="107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"/>
            <p:cNvCxnSpPr>
              <a:stCxn id="133" idx="0"/>
              <a:endCxn id="129" idx="2"/>
            </p:cNvCxnSpPr>
            <p:nvPr/>
          </p:nvCxnSpPr>
          <p:spPr>
            <a:xfrm flipV="1">
              <a:off x="1249560" y="1420560"/>
              <a:ext cx="853920" cy="16938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2423160" y="1052640"/>
              <a:ext cx="70524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3735360" y="2156760"/>
              <a:ext cx="5569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3129120" y="2908080"/>
              <a:ext cx="586800" cy="7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4"/>
            <a:stretch/>
          </p:blipFill>
          <p:spPr>
            <a:xfrm>
              <a:off x="430200" y="2935440"/>
              <a:ext cx="50364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5"/>
            <a:stretch/>
          </p:blipFill>
          <p:spPr>
            <a:xfrm>
              <a:off x="142920" y="1662120"/>
              <a:ext cx="521280" cy="69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>
            <a:off x="5678280" y="1809720"/>
            <a:ext cx="188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g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 Pax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Sin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vin Ba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80600" y="253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78800" y="29098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80600" y="3271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80600" y="366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80600" y="402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19080" y="3971880"/>
          <a:ext cx="4751640" cy="281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9080" y="3971880"/>
                    <a:ext cx="475164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600280" y="6732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9240" y="22590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0760" y="182736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45320" y="37530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29160" y="52452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7200" y="5229360"/>
            <a:ext cx="49248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81720" y="382896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8640" y="152892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4" idx="0"/>
            <a:endCxn id="153" idx="4"/>
          </p:cNvCxnSpPr>
          <p:nvPr/>
        </p:nvCxnSpPr>
        <p:spPr>
          <a:xfrm flipV="1">
            <a:off x="2534760" y="1164960"/>
            <a:ext cx="31176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3" idx="4"/>
            <a:endCxn id="155" idx="0"/>
          </p:cNvCxnSpPr>
          <p:nvPr/>
        </p:nvCxnSpPr>
        <p:spPr>
          <a:xfrm>
            <a:off x="2846520" y="1164960"/>
            <a:ext cx="9612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155" idx="3"/>
            <a:endCxn id="154" idx="6"/>
          </p:cNvCxnSpPr>
          <p:nvPr/>
        </p:nvCxnSpPr>
        <p:spPr>
          <a:xfrm flipH="1">
            <a:off x="2780640" y="2247480"/>
            <a:ext cx="85140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"/>
          <p:cNvCxnSpPr>
            <a:stCxn id="155" idx="4"/>
            <a:endCxn id="156" idx="1"/>
          </p:cNvCxnSpPr>
          <p:nvPr/>
        </p:nvCxnSpPr>
        <p:spPr>
          <a:xfrm>
            <a:off x="3807000" y="2319480"/>
            <a:ext cx="2110320" cy="150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156" idx="4"/>
            <a:endCxn id="157" idx="0"/>
          </p:cNvCxnSpPr>
          <p:nvPr/>
        </p:nvCxnSpPr>
        <p:spPr>
          <a:xfrm flipH="1">
            <a:off x="5674680" y="4245120"/>
            <a:ext cx="41652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57" idx="6"/>
            <a:endCxn id="158" idx="2"/>
          </p:cNvCxnSpPr>
          <p:nvPr/>
        </p:nvCxnSpPr>
        <p:spPr>
          <a:xfrm flipV="1">
            <a:off x="5921280" y="5474880"/>
            <a:ext cx="101664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8" idx="0"/>
            <a:endCxn id="159" idx="4"/>
          </p:cNvCxnSpPr>
          <p:nvPr/>
        </p:nvCxnSpPr>
        <p:spPr>
          <a:xfrm flipV="1">
            <a:off x="7183080" y="4320360"/>
            <a:ext cx="345240" cy="90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59" idx="2"/>
            <a:endCxn id="156" idx="6"/>
          </p:cNvCxnSpPr>
          <p:nvPr/>
        </p:nvCxnSpPr>
        <p:spPr>
          <a:xfrm flipH="1" flipV="1">
            <a:off x="6336720" y="3998880"/>
            <a:ext cx="945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56" idx="5"/>
            <a:endCxn id="158" idx="1"/>
          </p:cNvCxnSpPr>
          <p:nvPr/>
        </p:nvCxnSpPr>
        <p:spPr>
          <a:xfrm>
            <a:off x="6265800" y="4173120"/>
            <a:ext cx="743760" cy="112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57" idx="7"/>
            <a:endCxn id="159" idx="3"/>
          </p:cNvCxnSpPr>
          <p:nvPr/>
        </p:nvCxnSpPr>
        <p:spPr>
          <a:xfrm flipV="1">
            <a:off x="5850000" y="4249080"/>
            <a:ext cx="15040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9" idx="0"/>
            <a:endCxn id="160" idx="5"/>
          </p:cNvCxnSpPr>
          <p:nvPr/>
        </p:nvCxnSpPr>
        <p:spPr>
          <a:xfrm flipH="1" flipV="1">
            <a:off x="6729120" y="1948680"/>
            <a:ext cx="799200" cy="1880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0" idx="1"/>
            <a:endCxn id="153" idx="6"/>
          </p:cNvCxnSpPr>
          <p:nvPr/>
        </p:nvCxnSpPr>
        <p:spPr>
          <a:xfrm flipH="1" flipV="1">
            <a:off x="3091680" y="918720"/>
            <a:ext cx="3288600" cy="681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73" name=""/>
          <p:cNvGraphicFramePr/>
          <p:nvPr/>
        </p:nvGraphicFramePr>
        <p:xfrm>
          <a:off x="282600" y="3443400"/>
          <a:ext cx="476712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3443400"/>
                    <a:ext cx="476712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5:38:54Z</dcterms:created>
  <dc:creator>Jen Golbeck</dc:creator>
  <dc:description/>
  <dc:language>en-US</dc:language>
  <cp:lastModifiedBy>Jen Golbeck</cp:lastModifiedBy>
  <dcterms:modified xsi:type="dcterms:W3CDTF">2010-01-28T03:35:49Z</dcterms:modified>
  <cp:revision>44</cp:revision>
  <dc:subject/>
  <dc:title>PowerPoint Presentation</dc:title>
</cp:coreProperties>
</file>