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9853-BAEF-44E4-9D93-B22343DAC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AFD0-00F9-4D00-8B28-FF6117CC5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08A9-5C51-4BAD-9364-548FAA32B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AAE3-3B40-4F51-9AF7-8B7D888A1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3A83-6D68-4570-8E4D-FFA683B00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CEF8-23E2-4FFB-9EBB-D8D569E2A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2389-C6AC-4D35-B6A4-B1B38C59E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1B87-C637-4B67-ABF4-C50DE4C12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A1E1-F3B7-4300-8D12-4A9613B6C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D0A3-CE26-4EE5-B848-D22F6D32B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6C99-B8AB-4111-BD96-676B655C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BDBF-D80B-4777-AE0E-EF914897D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3DEB4-FA41-404E-9537-DA86CE2FFC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6846840" cy="54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642080" cy="54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8172720" cy="54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172720" cy="54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7724880" cy="548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7596360" cy="54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7953480" cy="54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7523280" cy="548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8026560" cy="54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39760" y="914400"/>
            <a:ext cx="7394760" cy="54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7979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7194600" cy="54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8062920" cy="54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80629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371600" y="1378080"/>
            <a:ext cx="6754680" cy="54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7029360" cy="54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5T13:35:03Z</dcterms:created>
  <dc:creator>Jen Golbeck</dc:creator>
  <dc:description/>
  <dc:language>en-US</dc:language>
  <cp:lastModifiedBy>Jen Golbeck</cp:lastModifiedBy>
  <dcterms:modified xsi:type="dcterms:W3CDTF">2010-03-25T13:43:41Z</dcterms:modified>
  <cp:revision>3</cp:revision>
  <dc:subject/>
  <dc:title>PowerPoint Presentation</dc:title>
</cp:coreProperties>
</file>